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55.png" ContentType="image/png"/>
  <Override PartName="/ppt/media/image14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15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27.png" ContentType="image/png"/>
  <Override PartName="/ppt/media/image30.wmf" ContentType="image/x-wmf"/>
  <Override PartName="/ppt/media/image35.wmf" ContentType="image/x-wmf"/>
  <Override PartName="/ppt/media/image36.wmf" ContentType="image/x-wmf"/>
  <Override PartName="/ppt/media/image20.png" ContentType="image/png"/>
  <Override PartName="/ppt/media/image38.wmf" ContentType="image/x-wmf"/>
  <Override PartName="/ppt/media/image40.png" ContentType="image/png"/>
  <Override PartName="/ppt/media/image9.jpeg" ContentType="image/jpeg"/>
  <Override PartName="/ppt/media/image43.png" ContentType="image/png"/>
  <Override PartName="/ppt/media/image45.png" ContentType="image/png"/>
  <Override PartName="/ppt/media/image28.wmf" ContentType="image/x-wmf"/>
  <Override PartName="/ppt/media/image46.png" ContentType="image/png"/>
  <Override PartName="/ppt/media/image7.jpeg" ContentType="image/jpeg"/>
  <Override PartName="/ppt/media/image31.wmf" ContentType="image/x-wmf"/>
  <Override PartName="/ppt/media/image37.wmf" ContentType="image/x-wmf"/>
  <Override PartName="/ppt/media/image49.wmf" ContentType="image/x-wmf"/>
  <Override PartName="/ppt/media/image51.png" ContentType="image/png"/>
  <Override PartName="/ppt/media/image34.wmf" ContentType="image/x-wmf"/>
  <Override PartName="/ppt/media/image41.png" ContentType="image/png"/>
  <Override PartName="/ppt/media/image52.wmf" ContentType="image/x-wmf"/>
  <Override PartName="/ppt/media/image53.wmf" ContentType="image/x-wmf"/>
  <Override PartName="/ppt/media/image32.wmf" ContentType="image/x-wmf"/>
  <Override PartName="/ppt/media/image54.wmf" ContentType="image/x-wmf"/>
  <Override PartName="/ppt/media/image10.jpeg" ContentType="image/jpeg"/>
  <Override PartName="/ppt/media/image8.jpeg" ContentType="image/jpeg"/>
  <Override PartName="/ppt/media/image48.wmf" ContentType="image/x-wmf"/>
  <Override PartName="/ppt/media/image5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D07EAB-250C-42F2-8DDC-7D77AD3DE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EFBA70-6C30-49FB-899D-C506D881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366E2F-3F1B-488F-ABE3-859B3BB15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EF66-6475-46B3-841D-2A6AC0C6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2.wmf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2.wmf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ubr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1200" y="1365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72360" y="170028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5488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8992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63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74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0260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99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21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24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27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30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33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36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50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51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62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96400" y="129240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411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99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5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5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9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7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58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59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y cada uno de ellos con al menos 3 integrantes y máxim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tre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9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92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3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:45 – 09:50 Discusión acció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:50 – 10:15 Presentación Equip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15 – 10:30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30 – 10:55 Presentación Equip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55 – 11:20 Presentación Equip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20 – 11:45 Presentación Equi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4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6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14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5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7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6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8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32448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ANALYSE AND IDENTIFY MAR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14920" y="494172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81080" y="1893960"/>
            <a:ext cx="4724280" cy="4257720"/>
            <a:chOff x="1981080" y="1893960"/>
            <a:chExt cx="4724280" cy="4257720"/>
          </a:xfrm>
        </p:grpSpPr>
        <p:sp>
          <p:nvSpPr>
            <p:cNvPr id="638" name=""/>
            <p:cNvSpPr/>
            <p:nvPr/>
          </p:nvSpPr>
          <p:spPr>
            <a:xfrm>
              <a:off x="2317320" y="5971680"/>
              <a:ext cx="4388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240" y="2104200"/>
              <a:ext cx="10533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81080" y="1893960"/>
              <a:ext cx="4395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85480" y="2114280"/>
              <a:ext cx="10382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tate requirements and prefer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5484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1940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9152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17680" y="210420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63560" y="210420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9016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17680" y="572724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5600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54040" y="2114280"/>
              <a:ext cx="96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16160" y="189396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98840" y="2114280"/>
              <a:ext cx="974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40800" y="1893960"/>
              <a:ext cx="4363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32640" y="5785200"/>
              <a:ext cx="9590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alyse total mark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58720" y="5735160"/>
              <a:ext cx="9626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Shell-preferred seg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7360" y="5716440"/>
              <a:ext cx="10605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customer 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82880" y="4344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01320" y="434484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dimens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14640" y="444420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otal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82880" y="457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18600" y="4570920"/>
              <a:ext cx="36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ke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07800" y="46720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12480" y="4773600"/>
              <a:ext cx="315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82880" y="490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11040" y="490032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optimu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07800" y="50014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12480" y="510408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2880" y="5231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08520" y="523116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cur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00960" y="533268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ize of 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15080" y="28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38920" y="28015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40720" y="290268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ix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15080" y="302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9640" y="302940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ompet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36040" y="313056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 share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1800" y="32331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15080" y="3359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46120" y="33598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34960" y="3461400"/>
              <a:ext cx="58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rength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24520" y="356256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weaknesse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41800" y="36637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5080" y="37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38200" y="379044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ecast grow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39640" y="389160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spe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15080" y="4018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39640" y="401832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35680" y="411984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otential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15080" y="424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47920" y="42469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competit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45760" y="4347720"/>
              <a:ext cx="25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en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5080" y="4474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31000" y="4474800"/>
              <a:ext cx="57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threa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45400" y="45774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15080" y="470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38560" y="470268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ynthes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43600" y="480564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posi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42520" y="490680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34600" y="500940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ttractivenes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41800" y="51105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15080" y="5235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38560" y="5235840"/>
              <a:ext cx="46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lect preferr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38920" y="5338800"/>
              <a:ext cx="33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50520" y="459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80120" y="45982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78320" y="4699440"/>
              <a:ext cx="45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61040" y="48024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rease busin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82280" y="4903560"/>
              <a:ext cx="39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om exis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73640" y="500472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50520" y="513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80120" y="513324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75080" y="523260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 g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69320" y="533556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w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752480" y="1836720"/>
            <a:ext cx="5257800" cy="471636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40080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DEVELOP MARKETING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576680" y="211140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1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8680" y="211788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0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514600" y="1914480"/>
            <a:ext cx="4724280" cy="4173840"/>
            <a:chOff x="2514600" y="1914480"/>
            <a:chExt cx="4724280" cy="4173840"/>
          </a:xfrm>
        </p:grpSpPr>
        <p:sp>
          <p:nvSpPr>
            <p:cNvPr id="719" name=""/>
            <p:cNvSpPr/>
            <p:nvPr/>
          </p:nvSpPr>
          <p:spPr>
            <a:xfrm>
              <a:off x="2514600" y="5930280"/>
              <a:ext cx="4724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66840" y="5413680"/>
              <a:ext cx="3621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99240" y="5413680"/>
              <a:ext cx="360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41720" y="56638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4172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87800" y="5663880"/>
              <a:ext cx="86472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9536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22720" y="1920960"/>
              <a:ext cx="8035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act to marketing infra-structure pla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41720" y="1920960"/>
              <a:ext cx="857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proposed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4160" y="5670360"/>
              <a:ext cx="8737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proposi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78080" y="5670360"/>
              <a:ext cx="87480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infrastruc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65760" y="2652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75920" y="2656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08840" y="265608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 cos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76640" y="275976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65760" y="288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62600" y="2887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72680" y="29916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65760" y="3121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70160" y="31215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omo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5760" y="325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66560" y="325296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71960" y="335664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pport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65760" y="348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76640" y="348516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8360" y="358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65760" y="37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62600" y="371844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card strate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73400" y="382212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r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5760" y="3952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60800" y="395388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associa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65840" y="405720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/brand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71240" y="41608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5760" y="4287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69080" y="4287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fine stand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65480" y="439128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78080" y="4497840"/>
              <a:ext cx="283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r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65760" y="4626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64760" y="462636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72320" y="47332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71240" y="483696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84200" y="493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68440" y="4938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65760" y="506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66920" y="5068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sure third par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64400" y="51721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74480" y="527724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pos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01400" y="46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97520" y="460152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sales-for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06880" y="4705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01400" y="483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09040" y="4836960"/>
              <a:ext cx="34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outl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09040" y="493884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99320" y="504396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01400" y="517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07600" y="517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11560" y="52772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2286000" y="1523880"/>
            <a:ext cx="5486400" cy="487692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0920" y="46080"/>
            <a:ext cx="469872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60520" y="357120"/>
            <a:ext cx="50576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463760" y="6738840"/>
            <a:ext cx="50450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472080" y="6738840"/>
            <a:ext cx="125100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564240" y="361800"/>
            <a:ext cx="1150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471680" y="347760"/>
            <a:ext cx="0" cy="637524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488960" y="382680"/>
            <a:ext cx="6225840" cy="6305400"/>
            <a:chOff x="1488960" y="382680"/>
            <a:chExt cx="6225840" cy="6305400"/>
          </a:xfrm>
        </p:grpSpPr>
        <p:sp>
          <p:nvSpPr>
            <p:cNvPr id="784" name=""/>
            <p:cNvSpPr/>
            <p:nvPr/>
          </p:nvSpPr>
          <p:spPr>
            <a:xfrm>
              <a:off x="4870080" y="60310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f87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5" name=""/>
            <p:cNvGraphicFramePr/>
            <p:nvPr/>
          </p:nvGraphicFramePr>
          <p:xfrm>
            <a:off x="4860360" y="6389640"/>
            <a:ext cx="632880" cy="298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0360" y="6389640"/>
                      <a:ext cx="63288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>
              <a:off x="4656960" y="4084560"/>
              <a:ext cx="1090080" cy="1681560"/>
            </a:xfrm>
            <a:custGeom>
              <a:avLst/>
              <a:gdLst/>
              <a:ahLst/>
              <a:rect l="l" t="t" r="r" b="b"/>
              <a:pathLst>
                <a:path w="1116" h="1589">
                  <a:moveTo>
                    <a:pt x="0" y="0"/>
                  </a:moveTo>
                  <a:lnTo>
                    <a:pt x="165" y="0"/>
                  </a:lnTo>
                  <a:lnTo>
                    <a:pt x="165" y="1582"/>
                  </a:lnTo>
                  <a:lnTo>
                    <a:pt x="931" y="1588"/>
                  </a:lnTo>
                  <a:lnTo>
                    <a:pt x="931" y="0"/>
                  </a:lnTo>
                  <a:lnTo>
                    <a:pt x="1115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42000" y="5580000"/>
              <a:ext cx="6984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99680" y="3516120"/>
              <a:ext cx="299880" cy="441360"/>
            </a:xfrm>
            <a:custGeom>
              <a:avLst/>
              <a:gdLst/>
              <a:ahLst/>
              <a:rect l="l" t="t" r="r" b="b"/>
              <a:pathLst>
                <a:path w="307" h="417">
                  <a:moveTo>
                    <a:pt x="0" y="0"/>
                  </a:moveTo>
                  <a:lnTo>
                    <a:pt x="123" y="0"/>
                  </a:lnTo>
                  <a:lnTo>
                    <a:pt x="123" y="416"/>
                  </a:lnTo>
                  <a:lnTo>
                    <a:pt x="306" y="416"/>
                  </a:lnTo>
                  <a:lnTo>
                    <a:pt x="210" y="416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43920" y="3951000"/>
              <a:ext cx="407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8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088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574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87440" y="3342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098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36960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9956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488960" y="3524760"/>
              <a:ext cx="1204560" cy="420120"/>
            </a:xfrm>
            <a:custGeom>
              <a:avLst/>
              <a:gdLst/>
              <a:ahLst/>
              <a:rect l="l" t="t" r="r" b="b"/>
              <a:pathLst>
                <a:path w="1233" h="397">
                  <a:moveTo>
                    <a:pt x="0" y="396"/>
                  </a:moveTo>
                  <a:lnTo>
                    <a:pt x="1087" y="396"/>
                  </a:lnTo>
                  <a:lnTo>
                    <a:pt x="1087" y="0"/>
                  </a:lnTo>
                  <a:lnTo>
                    <a:pt x="1232" y="0"/>
                  </a:lnTo>
                  <a:lnTo>
                    <a:pt x="1224" y="3"/>
                  </a:lnTo>
                  <a:lnTo>
                    <a:pt x="120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3384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6400" y="33332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127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643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845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541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869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90880" y="32115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547960" y="3196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135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8644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183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62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9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9544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4172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51920" y="4161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94480" y="6405480"/>
              <a:ext cx="228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P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00600" y="54529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32840" y="3837960"/>
              <a:ext cx="47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lan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05400" y="3837960"/>
              <a:ext cx="460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26480" y="378396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mp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5520" y="3829320"/>
              <a:ext cx="6202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ake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generat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54640" y="3354120"/>
              <a:ext cx="576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Find potent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s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37280" y="335772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Negoti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87720" y="335772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144320" y="336384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43720" y="334908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26080" y="3875040"/>
              <a:ext cx="6386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27680" y="5646600"/>
              <a:ext cx="51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44920" y="1748880"/>
              <a:ext cx="56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Indic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30440" y="1792440"/>
              <a:ext cx="53352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gree 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09040" y="1748880"/>
              <a:ext cx="64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dvise stoc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nd plac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14360" y="1756440"/>
              <a:ext cx="5716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Take delive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from 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52080" y="1745640"/>
              <a:ext cx="396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77720" y="6051960"/>
              <a:ext cx="457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duct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802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86760" y="4242240"/>
              <a:ext cx="60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ales foreca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88200" y="4308840"/>
              <a:ext cx="594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volume and price)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66960" y="437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51200" y="4375800"/>
              <a:ext cx="49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(group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669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40760" y="444348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866960" y="4510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41120" y="4510080"/>
              <a:ext cx="28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ri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80200" y="459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67680" y="4593600"/>
              <a:ext cx="175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45440" y="4593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imate expec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70920" y="46602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80200" y="47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85680" y="474372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epare opera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75600" y="48106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80200" y="4894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78480" y="48942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78840" y="496080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67680" y="502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36800" y="5028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80200" y="5111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76320" y="511128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77040" y="51789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76320" y="524556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67680" y="53121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37520" y="5312160"/>
              <a:ext cx="22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523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20080" y="424224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19000" y="430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236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16480" y="439236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25480" y="445932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utlet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26560" y="452592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88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4080" y="424224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91560" y="43088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agreement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82200" y="43758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753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55280" y="444348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48080" y="4510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76080" y="45766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48440" y="457668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88600" y="464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90120" y="464436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intain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95160" y="47113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375360" y="477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59600" y="477756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59600" y="484560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ept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360" y="491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56000" y="491220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52400" y="49798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76080" y="5046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48440" y="5046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8600" y="5113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94080" y="511308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87240" y="51811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95160" y="52477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360" y="5314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600" y="531432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49880" y="538200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27720" y="53820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76080" y="544860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48440" y="544860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88600" y="553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90120" y="5532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t up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81840" y="5599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88600" y="568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95880" y="568260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79680" y="5749560"/>
              <a:ext cx="239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5360" y="581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0320" y="581580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ssue card(s)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53480" y="5883840"/>
              <a:ext cx="37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mai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375360" y="595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52760" y="5950440"/>
              <a:ext cx="35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olen/lost/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58160" y="601812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amaged 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75360" y="6084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59960" y="608472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gotton PIN n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88600" y="61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90480" y="616860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88600" y="6251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92280" y="625104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contr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88320" y="631872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isk (hedging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068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09400" y="424224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utomati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09400" y="430884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 gener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068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11920" y="43923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sales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06800" y="447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05080" y="447516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ept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93560" y="4542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77080" y="454284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93560" y="4609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78520" y="46094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credit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68440" y="4677480"/>
              <a:ext cx="32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limi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3560" y="4743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5640" y="47437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93560" y="4810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76720" y="481068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70600" y="4878360"/>
              <a:ext cx="35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93560" y="4944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6720" y="494496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estin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93560" y="5011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77440" y="501156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mit to 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93560" y="5079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75280" y="5079240"/>
              <a:ext cx="44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68080" y="514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93560" y="521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75280" y="5212800"/>
              <a:ext cx="44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uthoris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06800" y="5296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09760" y="52963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00760" y="53629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06800" y="5446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12280" y="544644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97880" y="551340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06800" y="559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11560" y="55969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r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06800" y="568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05440" y="5680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04360" y="574740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mend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06800" y="583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10840" y="583092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ke action to fulf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98240" y="589752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93560" y="5965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965200"/>
              <a:ext cx="248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uy 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93560" y="6031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64840" y="60318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93560" y="6098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68800" y="60987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trib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30440" y="2111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39880" y="211176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rget customer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35920" y="21783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sales inf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0440" y="226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37360" y="226224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contacts &amp;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35920" y="23288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ind customers, in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18280" y="2396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699280" y="2396520"/>
              <a:ext cx="44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18280" y="2471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03600" y="247176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alogu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18280" y="2542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4680" y="254268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ding 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30440" y="261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37000" y="26136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ustomer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25120" y="268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18280" y="2747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03960" y="2747880"/>
              <a:ext cx="53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ing thei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04680" y="281448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/profi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0440" y="2898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33760" y="289836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26200" y="29649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30440" y="3048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36280" y="304848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ontacts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26200" y="3115080"/>
              <a:ext cx="32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94360" y="2280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00920" y="22802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01280" y="23479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 and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94440" y="24145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4360" y="2498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97320" y="249804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gotiate term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95160" y="256500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94080" y="263160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294360" y="2715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95880" y="271512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xplore fur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4440" y="278172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89400" y="28494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82200" y="2916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65720" y="291636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7080" y="298296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82200" y="3049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65360" y="304956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vise on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64640" y="3117240"/>
              <a:ext cx="32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1256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15160" y="24325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ek new ord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14440" y="2500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ro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99320" y="256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73840" y="2567160"/>
              <a:ext cx="31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le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12560" y="265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120200" y="26506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courage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20200" y="27172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o consider expan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20560" y="278388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s (re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99320" y="2850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82480" y="2850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re or diffe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3120" y="291852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99320" y="2984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82840" y="298476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promo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99320" y="3051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77080" y="3051720"/>
              <a:ext cx="506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er special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79240" y="311940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322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5512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938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26480" y="87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33040" y="8744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est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26200" y="9414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rom 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26480" y="102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32680" y="102492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nd ass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29440" y="1091520"/>
              <a:ext cx="47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nform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20800" y="115956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26480" y="12420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31960" y="124200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andle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20800" y="130968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2648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33400" y="139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engage or agre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26560" y="145980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urther ac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69880" y="52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71040" y="522360"/>
              <a:ext cx="45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69600" y="58896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269880" y="67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84360" y="668520"/>
              <a:ext cx="59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termin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2040" y="739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9880" y="82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74640" y="822600"/>
              <a:ext cx="51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contra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62040" y="88956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57720" y="956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34400" y="956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ndard 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70560" y="956160"/>
              <a:ext cx="22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38000" y="102384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57720" y="109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428640" y="10904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57720" y="11574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31520" y="11574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57720" y="1225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32240" y="1225080"/>
              <a:ext cx="30636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69880" y="1307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75360" y="13899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63840" y="145764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08600" y="1004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11200" y="100476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dvise supplier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04000" y="1072440"/>
              <a:ext cx="35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ock leve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08600" y="115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09040" y="115524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ace order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09400" y="122292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/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08600" y="1305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13360" y="130536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s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08600" y="138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05800" y="138924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08600" y="1472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08320" y="1472760"/>
              <a:ext cx="41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ng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794120" y="38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98520" y="382680"/>
              <a:ext cx="52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87720" y="449280"/>
              <a:ext cx="28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794120" y="52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894920" y="52524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889520" y="59220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794120" y="675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92040" y="6757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98080" y="75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99600" y="75924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to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98080" y="84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88440" y="84204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01920" y="84204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in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890600" y="90972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94120" y="99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896360" y="99324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subsidia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890960" y="105984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 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94120" y="11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88080" y="1143720"/>
              <a:ext cx="39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se facil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94120" y="1225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93480" y="122580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fo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98080" y="1309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94200" y="130968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543280" y="1015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647320" y="101556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epare to rece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35800" y="10821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43280" y="1165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44440" y="116568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43280" y="1248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648760" y="124812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nfirm that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639400" y="1315800"/>
              <a:ext cx="367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s comple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43280" y="139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48760" y="139860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plain or reject i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640480" y="146628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ot satisfi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00960" y="2753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07520" y="275328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00680" y="281988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888800" y="288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963680" y="288756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88800" y="2954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963320" y="29545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888800" y="302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967640" y="30222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00960" y="3104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06440" y="3104640"/>
              <a:ext cx="542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55120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70360" y="242532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3520" y="249156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51640" y="2559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27960" y="255960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651640" y="2626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27240" y="262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51640" y="269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31560" y="26928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51640" y="2760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20760" y="2760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79800" y="27608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mote value-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34440" y="282708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ed 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651640" y="2894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33720" y="2894040"/>
              <a:ext cx="42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mote o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726880" y="296172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51200" y="3051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68200" y="304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62440" y="311220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806720" y="4245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14000" y="424548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nd author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12920" y="431316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6720" y="4395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911840" y="439596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pture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98880" y="4463640"/>
              <a:ext cx="25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ai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6720" y="4546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12560" y="454608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ny retur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06720" y="4629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13280" y="4629600"/>
              <a:ext cx="548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ayment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11120" y="46962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/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06720" y="477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09680" y="477972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06720" y="486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12200" y="4862520"/>
              <a:ext cx="53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erate outlet site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01400" y="493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94560" y="4996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76640" y="499680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plenish non-o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69440" y="506340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94560" y="5131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80240" y="513108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summary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78080" y="51980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795920" y="5270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904280" y="5270760"/>
              <a:ext cx="62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888800" y="53463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50120" y="4240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80800" y="424008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679720" y="430668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664600" y="4373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48840" y="437364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ical 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50120" y="4457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682600" y="445716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ommerc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85120" y="452376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oad transport (CRT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674680" y="45903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550120" y="4673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75040" y="4673880"/>
              <a:ext cx="39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fle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674680" y="474084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50120" y="482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682960" y="48243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oint of sa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82960" y="48909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OS) services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64600" y="4959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7760" y="495900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messag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64600" y="5025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48840" y="502524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change fac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79772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3428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73200" y="1306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mit to contract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63040" y="1391040"/>
              <a:ext cx="224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9412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07160" y="1389240"/>
              <a:ext cx="6372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promotional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SE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 flipH="1">
            <a:off x="2459160" y="436680"/>
            <a:ext cx="50529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2468160" y="6735600"/>
            <a:ext cx="5038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02400" y="439560"/>
            <a:ext cx="0" cy="629928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1484280" y="6735600"/>
            <a:ext cx="9381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517400" y="439560"/>
            <a:ext cx="87948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44320" y="119160"/>
            <a:ext cx="469908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 (cont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494000" y="639720"/>
            <a:ext cx="5725440" cy="5770800"/>
            <a:chOff x="1494000" y="639720"/>
            <a:chExt cx="5725440" cy="5770800"/>
          </a:xfrm>
        </p:grpSpPr>
        <p:sp>
          <p:nvSpPr>
            <p:cNvPr id="1195" name=""/>
            <p:cNvSpPr/>
            <p:nvPr/>
          </p:nvSpPr>
          <p:spPr>
            <a:xfrm>
              <a:off x="1494000" y="3931560"/>
              <a:ext cx="5529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00320" y="3729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39760" y="3726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00320" y="325872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19280" y="325656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0108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2612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8140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86056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81184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073480" y="1617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32900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57720" y="31327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27960" y="313380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97040" y="3277800"/>
              <a:ext cx="5166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ion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921280" y="3279960"/>
              <a:ext cx="431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l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57000" y="1729440"/>
              <a:ext cx="5061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848560" y="1729440"/>
              <a:ext cx="6004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Verify 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40160" y="1729440"/>
              <a:ext cx="6508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61720" y="3794040"/>
              <a:ext cx="46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02600" y="3748320"/>
              <a:ext cx="469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352760" y="3794040"/>
              <a:ext cx="618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quest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ke 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12440" y="3794040"/>
              <a:ext cx="4100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33880" y="3796200"/>
              <a:ext cx="405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00796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596640" y="374760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3480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6744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05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34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6636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08680" y="4089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3552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6668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07960" y="1233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105160" y="123336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07960" y="1316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109480" y="131688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07960" y="1400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08400" y="140040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37680" y="877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39920" y="87768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33440" y="94536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37680" y="1028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35240" y="102816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ac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3520" y="102816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33440" y="109584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37680" y="117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35240" y="117828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pute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5600" y="12459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37680" y="1328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43880" y="1328400"/>
              <a:ext cx="57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21920" y="1396080"/>
              <a:ext cx="42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f any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108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16680" y="41994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payment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97960" y="4266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68520" y="4266000"/>
              <a:ext cx="22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97960" y="4332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71040" y="433260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97960" y="4400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74280" y="440028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it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97960" y="4466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66360" y="4466880"/>
              <a:ext cx="16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228280" y="44668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c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97960" y="453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77520" y="453348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097960" y="4601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74280" y="4601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draf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097960" y="46681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0320" y="4668120"/>
              <a:ext cx="263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se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10840" y="4751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11640" y="475164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0840" y="483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12360" y="483444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gister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10840" y="4917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112000" y="491796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vert foreig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05520" y="498456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rre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010840" y="5068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115600" y="506808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ch and alloc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13080" y="513576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 again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04440" y="52023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98680" y="5268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69240" y="5268960"/>
              <a:ext cx="244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F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4056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43160" y="41994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32360" y="4266000"/>
              <a:ext cx="25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4056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42080" y="434952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nsfer inter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45680" y="44161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any ac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40560" y="4499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3520" y="449964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status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831640" y="45666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40560" y="4650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848200" y="465012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paymen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39560" y="47167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n-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40560" y="4800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41360" y="48006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deb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39560" y="486684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40560" y="4950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44240" y="495072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42080" y="5016960"/>
              <a:ext cx="46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within th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37400" y="508500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40560" y="5167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46760" y="516744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agre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38840" y="52351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with resel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40560" y="531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43160" y="53179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ccount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845320" y="538560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lated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41000" y="5452200"/>
              <a:ext cx="43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27680" y="5518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909760" y="551880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27680" y="5586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05800" y="5586480"/>
              <a:ext cx="38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724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75040" y="419940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gregate 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563160" y="42660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7244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571800" y="434952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actua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576120" y="441612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ainst target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80800" y="448308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, customer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65680" y="45507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59200" y="4617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32280" y="46173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559200" y="4683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37680" y="4683960"/>
              <a:ext cx="37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/reb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59200" y="4751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32280" y="4751640"/>
              <a:ext cx="26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59200" y="4818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8400" y="481824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72440" y="490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4680" y="490212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71080" y="496872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59920" y="5034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30120" y="503496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72440" y="5118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572160" y="511884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569280" y="518652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68560" y="525312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59920" y="53200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30840" y="5320080"/>
              <a:ext cx="22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72440" y="540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79720" y="540360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devi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62080" y="5470200"/>
              <a:ext cx="20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72440" y="555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63160" y="555372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579720" y="5620320"/>
              <a:ext cx="582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ommendation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571080" y="56880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mprov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63840" y="63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63920" y="63972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63840" y="722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365000" y="722160"/>
              <a:ext cx="47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356720" y="78984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363920" y="856440"/>
              <a:ext cx="44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63840" y="94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52040" y="94032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37000" y="9403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62480" y="100692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iginal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63840" y="10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66440" y="109044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57440" y="11570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63840" y="1240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59600" y="124056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61400" y="130752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63840" y="139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67880" y="139068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32120" y="4202640"/>
              <a:ext cx="653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product and service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0908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14920" y="428508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delivery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02680" y="43527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09080" y="443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17080" y="443520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te amendment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03040" y="450288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09080" y="458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16360" y="458532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returns m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809080" y="4669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912040" y="4669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914920" y="473580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iner inven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809080" y="4819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07360" y="48193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14560" y="488628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16360" y="495396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ed produc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902680" y="50205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89692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69280" y="5087160"/>
              <a:ext cx="26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96920" y="5154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0800" y="515484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71440" y="52214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96920" y="5288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81880" y="528804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53560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24920" y="543960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count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09080" y="552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907360" y="552204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14560" y="558972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10240" y="565632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96920" y="57229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80800" y="572292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96920" y="5790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80800" y="57906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71440" y="585756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896920" y="5924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81880" y="592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080" y="599184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5640" y="607428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quirer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09080" y="6157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000" y="6157800"/>
              <a:ext cx="57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value to b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13840" y="622476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laimed from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04120" y="6292440"/>
              <a:ext cx="295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3880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45000" y="420264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633120" y="426924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26640" y="4335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697560" y="4335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626640" y="4403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09440" y="44035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01160" y="447012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626640" y="4536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700800" y="453672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705120" y="46047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7032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68600" y="420264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ustomer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27032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1480" y="4285080"/>
              <a:ext cx="48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270320" y="43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72200" y="436860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57800" y="445212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70320" y="453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69320" y="4534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redi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76520" y="460260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ocument (self-bill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63560" y="46692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70320" y="4752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73280" y="475272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 payment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7240" y="4819320"/>
              <a:ext cx="588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/distributor vi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7080" y="4886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34840" y="488628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ban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31240" y="495396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357080" y="5020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0520" y="50205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5708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35560" y="5087160"/>
              <a:ext cx="38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goo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31240" y="51548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59960" y="5237280"/>
              <a:ext cx="20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70320" y="5320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374360" y="5320800"/>
              <a:ext cx="52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query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57080" y="5388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436280" y="53884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57080" y="5455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36640" y="5455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29080" y="552204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7080" y="5589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42760" y="5589720"/>
              <a:ext cx="52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 back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57080" y="5656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435200" y="565632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30520" y="572292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69600" y="28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75440" y="281844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other 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64640" y="2885040"/>
              <a:ext cx="33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financial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69600" y="2968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76160" y="2968560"/>
              <a:ext cx="58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74360" y="3035160"/>
              <a:ext cx="562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 with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47760" y="264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51800" y="264924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47760" y="2731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7480" y="273168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47760" y="281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47120" y="2815200"/>
              <a:ext cx="41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ter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42440" y="2881800"/>
              <a:ext cx="30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n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47760" y="296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50720" y="296532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843160" y="303228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30280" y="18223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628640"/>
            <a:ext cx="1228680" cy="38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43200" y="1593720"/>
            <a:ext cx="1181160" cy="45720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593720"/>
            <a:ext cx="1171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Futur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Visió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1628640"/>
            <a:ext cx="1171440" cy="4572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9440" y="1593720"/>
            <a:ext cx="1171440" cy="4572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 de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89960" y="1593720"/>
            <a:ext cx="11714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nitor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80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de un Plan d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25760" y="2206800"/>
            <a:ext cx="13716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tuación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F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8720" y="2206800"/>
            <a:ext cx="1371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ecimiento de los 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ción de las 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7520" y="2206800"/>
            <a:ext cx="13716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o/benef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nog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 humanos neces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2206800"/>
            <a:ext cx="137160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ción de 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ización de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85200" y="2206800"/>
            <a:ext cx="13716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36920" y="99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0001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205000"/>
            <a:ext cx="108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: RRHH, información, TI, fuentes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z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4267080" cy="295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6-09-29T11:04:07Z</dcterms:modified>
  <cp:revision>453</cp:revision>
  <dc:subject/>
  <dc:title>UCAD Call Centre Transition Plan</dc:title>
</cp:coreProperties>
</file>