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55.png" ContentType="image/png"/>
  <Override PartName="/ppt/media/image14.wmf" ContentType="image/x-wmf"/>
  <Override PartName="/ppt/media/image22.jpeg" ContentType="image/jpeg"/>
  <Override PartName="/ppt/media/image39.png" ContentType="image/png"/>
  <Override PartName="/ppt/media/image42.wmf" ContentType="image/x-wmf"/>
  <Override PartName="/ppt/media/image15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5.png" ContentType="image/png"/>
  <Override PartName="/ppt/media/image2.png" ContentType="image/png"/>
  <Override PartName="/ppt/media/image3.wmf" ContentType="image/x-wmf"/>
  <Override PartName="/ppt/media/image33.wmf" ContentType="image/x-wmf"/>
  <Override PartName="/ppt/media/image27.png" ContentType="image/png"/>
  <Override PartName="/ppt/media/image30.wmf" ContentType="image/x-wmf"/>
  <Override PartName="/ppt/media/image35.wmf" ContentType="image/x-wmf"/>
  <Override PartName="/ppt/media/image36.wmf" ContentType="image/x-wmf"/>
  <Override PartName="/ppt/media/image20.png" ContentType="image/png"/>
  <Override PartName="/ppt/media/image38.wmf" ContentType="image/x-wmf"/>
  <Override PartName="/ppt/media/image40.png" ContentType="image/png"/>
  <Override PartName="/ppt/media/image9.jpeg" ContentType="image/jpeg"/>
  <Override PartName="/ppt/media/image43.png" ContentType="image/png"/>
  <Override PartName="/ppt/media/image45.png" ContentType="image/png"/>
  <Override PartName="/ppt/media/image28.wmf" ContentType="image/x-wmf"/>
  <Override PartName="/ppt/media/image46.png" ContentType="image/png"/>
  <Override PartName="/ppt/media/image7.jpeg" ContentType="image/jpeg"/>
  <Override PartName="/ppt/media/image31.wmf" ContentType="image/x-wmf"/>
  <Override PartName="/ppt/media/image37.wmf" ContentType="image/x-wmf"/>
  <Override PartName="/ppt/media/image49.wmf" ContentType="image/x-wmf"/>
  <Override PartName="/ppt/media/image51.png" ContentType="image/png"/>
  <Override PartName="/ppt/media/image34.wmf" ContentType="image/x-wmf"/>
  <Override PartName="/ppt/media/image41.png" ContentType="image/png"/>
  <Override PartName="/ppt/media/image52.wmf" ContentType="image/x-wmf"/>
  <Override PartName="/ppt/media/image53.wmf" ContentType="image/x-wmf"/>
  <Override PartName="/ppt/media/image32.wmf" ContentType="image/x-wmf"/>
  <Override PartName="/ppt/media/image54.wmf" ContentType="image/x-wmf"/>
  <Override PartName="/ppt/media/image10.jpeg" ContentType="image/jpeg"/>
  <Override PartName="/ppt/media/image8.jpeg" ContentType="image/jpeg"/>
  <Override PartName="/ppt/media/image48.wmf" ContentType="image/x-wmf"/>
  <Override PartName="/ppt/media/image5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976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976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62888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880" y="4403880"/>
            <a:ext cx="505440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843FFC-7A2C-440D-ACCE-7B8517630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E8D53F-46B1-4C15-9A86-B6494FA41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27160" y="70488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9080" y="4427280"/>
            <a:ext cx="5058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A72CD4-6DB0-40FC-9629-39F89F5FD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19240" y="700200"/>
            <a:ext cx="4659120" cy="34938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9080" y="4427640"/>
            <a:ext cx="5058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43080"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spcBef>
                <a:spcPts val="675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9440" indent="-219240">
              <a:spcBef>
                <a:spcPts val="675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94560" y="656424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E3A5-35A3-4ED2-8F0C-9BAC66B54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02480" y="658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524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8600" algn="ctr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4760" algn="ctr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2.wmf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2.wmf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image" Target="../media/image45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image" Target="../media/image47.png"/><Relationship Id="rId1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819520" y="3048120"/>
            <a:ext cx="5734080" cy="2712960"/>
            <a:chOff x="2819520" y="3048120"/>
            <a:chExt cx="5734080" cy="271296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5608080" y="3392640"/>
              <a:ext cx="223956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3" name=""/>
            <p:cNvGraphicFramePr/>
            <p:nvPr/>
          </p:nvGraphicFramePr>
          <p:xfrm>
            <a:off x="2819520" y="3048120"/>
            <a:ext cx="573408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048120"/>
                      <a:ext cx="573408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ubr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480" y="1295280"/>
            <a:ext cx="8209080" cy="55627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8688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de mercad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udio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afectan el análisis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segment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es competidores y su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mercialización de compet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ncias del mercado en la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975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420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33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278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240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136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31200" y="13651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151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interno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óstico del punto inicial para las acciones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ía ut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292720" y="4437000"/>
          <a:ext cx="2612880" cy="18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4437000"/>
                    <a:ext cx="261288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6920" y="14367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rcRect l="0" t="0" r="0" b="27303"/>
          <a:stretch/>
        </p:blipFill>
        <p:spPr>
          <a:xfrm>
            <a:off x="5651640" y="2205000"/>
            <a:ext cx="16477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61680"/>
            <a:ext cx="52578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r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buil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bilidad por producto, cliente,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084720" y="4869000"/>
            <a:ext cx="2303640" cy="1439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6920" y="14367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3384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26740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OD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igido principalmente a las áreas de marketing, comercial, producción e investigación y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72360" y="170028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419640" y="2629080"/>
            <a:ext cx="494172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Y ahora tenemos que definir nuestros objetivos de marke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11280" y="1487520"/>
            <a:ext cx="81374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267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5410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 objetiv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bles, ambiciosos, realistas, y subordinados a la estrategia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ventas, en ingresos y 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ición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, por producto o línea de productos, por cliente o seg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I’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21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65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07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515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373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54880" y="165276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364000" y="2997360"/>
            <a:ext cx="3335400" cy="2447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00400" y="378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5400" y="1600200"/>
            <a:ext cx="830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clientes hoy en día exigen s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ados, y no tratados como m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27280" y="3213000"/>
            <a:ext cx="3745080" cy="3384720"/>
            <a:chOff x="2627280" y="3213000"/>
            <a:chExt cx="3745080" cy="3384720"/>
          </a:xfrm>
        </p:grpSpPr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2627280" y="3213000"/>
              <a:ext cx="37450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30520" y="4539960"/>
              <a:ext cx="1789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ustomer Relationsh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52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ción de estrategi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 de las acciones para la consecución de los objetiv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lí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segu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56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00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42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866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31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724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89920" y="165276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374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095880" y="2514600"/>
            <a:ext cx="103212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324480" y="2819520"/>
            <a:ext cx="949320" cy="4744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553080" y="3200400"/>
            <a:ext cx="1033560" cy="83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760400" y="3700440"/>
            <a:ext cx="779760" cy="110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133720" y="4614840"/>
            <a:ext cx="795240" cy="4399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235240" y="5275440"/>
            <a:ext cx="879480" cy="13464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terios de evaluación de la estrate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133720" y="1724040"/>
            <a:ext cx="4876560" cy="4219560"/>
          </a:xfrm>
          <a:prstGeom prst="parallelogram">
            <a:avLst>
              <a:gd name="adj" fmla="val 28887"/>
            </a:avLst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38880" y="205740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84080" y="468792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84360" y="1806480"/>
            <a:ext cx="36180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.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1082520"/>
            <a:ext cx="449892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canales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a nivel de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733920" y="1433520"/>
            <a:ext cx="5333760" cy="5002200"/>
            <a:chOff x="3733920" y="1433520"/>
            <a:chExt cx="5333760" cy="5002200"/>
          </a:xfrm>
        </p:grpSpPr>
        <p:sp>
          <p:nvSpPr>
            <p:cNvPr id="263" name=""/>
            <p:cNvSpPr/>
            <p:nvPr/>
          </p:nvSpPr>
          <p:spPr>
            <a:xfrm>
              <a:off x="3733920" y="1701720"/>
              <a:ext cx="5333760" cy="473400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83280" y="2290680"/>
              <a:ext cx="546120" cy="297828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900019"/>
              </a:solidFill>
              <a:round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38600" y="4444920"/>
              <a:ext cx="555840" cy="8384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68880" y="4367160"/>
              <a:ext cx="496800" cy="76536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08400" y="5097600"/>
              <a:ext cx="425520" cy="84924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21680" y="4637160"/>
              <a:ext cx="401400" cy="80784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369200" y="2890440"/>
              <a:ext cx="939600" cy="2678040"/>
            </a:xfrm>
            <a:prstGeom prst="line">
              <a:avLst/>
            </a:prstGeom>
            <a:ln w="25560">
              <a:solidFill>
                <a:srgbClr val="9000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70960" y="4759200"/>
              <a:ext cx="333360" cy="77148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32680" y="4640400"/>
              <a:ext cx="339840" cy="90324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32920" y="4808520"/>
              <a:ext cx="301320" cy="75420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907240" y="1433520"/>
              <a:ext cx="1642680" cy="4755960"/>
              <a:chOff x="5907240" y="1433520"/>
              <a:chExt cx="1642680" cy="4755960"/>
            </a:xfrm>
          </p:grpSpPr>
          <p:sp>
            <p:nvSpPr>
              <p:cNvPr id="274" name=""/>
              <p:cNvSpPr/>
              <p:nvPr/>
            </p:nvSpPr>
            <p:spPr>
              <a:xfrm>
                <a:off x="6170040" y="1819080"/>
                <a:ext cx="813960" cy="813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921640" y="1604880"/>
                <a:ext cx="1535400" cy="152784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413800">
                <a:off x="6192720" y="1919160"/>
                <a:ext cx="430200" cy="792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450200" y="1611720"/>
                <a:ext cx="92880" cy="15012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907240" y="1762200"/>
                <a:ext cx="1642680" cy="13705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919920" y="1433520"/>
                <a:ext cx="363960" cy="47559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955120" y="2761560"/>
                <a:ext cx="107280" cy="278496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4651200" y="5103720"/>
              <a:ext cx="2314800" cy="82080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59200" y="5143680"/>
              <a:ext cx="2038320" cy="44892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08800" y="5197320"/>
              <a:ext cx="414360" cy="79236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67280" y="5230800"/>
              <a:ext cx="489240" cy="80172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67160" y="5248440"/>
              <a:ext cx="509760" cy="80460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19520" y="5419800"/>
              <a:ext cx="474840" cy="76176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295280" y="22860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La competencia es cosa ser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83664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ramientas básic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1566720"/>
            <a:ext cx="820728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planes, actividades y/o proyectos para consegui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ión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ación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02600" y="165276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057400" y="3505320"/>
            <a:ext cx="4508640" cy="3049560"/>
          </a:xfrm>
          <a:prstGeom prst="rect">
            <a:avLst/>
          </a:prstGeom>
          <a:ln w="0">
            <a:noFill/>
          </a:ln>
        </p:spPr>
      </p:pic>
      <p:grpSp>
        <p:nvGrpSpPr>
          <p:cNvPr id="298" name=""/>
          <p:cNvGrpSpPr/>
          <p:nvPr/>
        </p:nvGrpSpPr>
        <p:grpSpPr>
          <a:xfrm>
            <a:off x="6553080" y="2971800"/>
            <a:ext cx="2057400" cy="1584360"/>
            <a:chOff x="6553080" y="2971800"/>
            <a:chExt cx="2057400" cy="1584360"/>
          </a:xfrm>
        </p:grpSpPr>
        <p:graphicFrame>
          <p:nvGraphicFramePr>
            <p:cNvPr id="299" name=""/>
            <p:cNvGraphicFramePr/>
            <p:nvPr/>
          </p:nvGraphicFramePr>
          <p:xfrm>
            <a:off x="6553080" y="2971800"/>
            <a:ext cx="2049480" cy="158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971800"/>
                      <a:ext cx="2049480" cy="15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7007400" y="3597120"/>
              <a:ext cx="11041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728840" y="3038040"/>
              <a:ext cx="8816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69640" y="4121280"/>
              <a:ext cx="14320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11400" y="4064040"/>
              <a:ext cx="10328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2960" y="3019680"/>
              <a:ext cx="11599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4240" y="19476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00019"/>
                </a:solidFill>
                <a:latin typeface="Arial"/>
              </a:rPr>
              <a:t>Estrategia de Implementació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1640" y="3141720"/>
            <a:ext cx="2733840" cy="2200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38520" y="1141560"/>
            <a:ext cx="2735280" cy="20350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35640" y="1131840"/>
            <a:ext cx="2865240" cy="2081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35640" y="3138480"/>
            <a:ext cx="2881440" cy="218772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7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30480" y="1566720"/>
            <a:ext cx="26640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557680" y="1195560"/>
            <a:ext cx="26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noAutofit/>
          </a:bodyPr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2924280"/>
            <a:ext cx="169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119240"/>
            <a:ext cx="1457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66840" y="4853160"/>
            <a:ext cx="9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81360" y="5877000"/>
            <a:ext cx="884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92000" y="5877000"/>
            <a:ext cx="699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29000" y="6019920"/>
            <a:ext cx="4097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icultad de 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grama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843280" y="1341360"/>
            <a:ext cx="2273400" cy="307080"/>
            <a:chOff x="2843280" y="1341360"/>
            <a:chExt cx="2273400" cy="307080"/>
          </a:xfrm>
        </p:grpSpPr>
        <p:sp>
          <p:nvSpPr>
            <p:cNvPr id="321" name=""/>
            <p:cNvSpPr/>
            <p:nvPr/>
          </p:nvSpPr>
          <p:spPr>
            <a:xfrm>
              <a:off x="3059280" y="13413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/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43280" y="134136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132000" y="1700280"/>
            <a:ext cx="1679400" cy="459720"/>
            <a:chOff x="3132000" y="1700280"/>
            <a:chExt cx="1679400" cy="459720"/>
          </a:xfrm>
        </p:grpSpPr>
        <p:sp>
          <p:nvSpPr>
            <p:cNvPr id="324" name=""/>
            <p:cNvSpPr/>
            <p:nvPr/>
          </p:nvSpPr>
          <p:spPr>
            <a:xfrm>
              <a:off x="3287520" y="170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2000" y="181620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492360" y="2133720"/>
            <a:ext cx="1944360" cy="459720"/>
            <a:chOff x="3492360" y="2133720"/>
            <a:chExt cx="1944360" cy="459720"/>
          </a:xfrm>
        </p:grpSpPr>
        <p:sp>
          <p:nvSpPr>
            <p:cNvPr id="327" name=""/>
            <p:cNvSpPr/>
            <p:nvPr/>
          </p:nvSpPr>
          <p:spPr>
            <a:xfrm>
              <a:off x="3672360" y="2133720"/>
              <a:ext cx="17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92360" y="2249640"/>
              <a:ext cx="33264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796000" y="1341360"/>
            <a:ext cx="2231640" cy="459720"/>
            <a:chOff x="5796000" y="1341360"/>
            <a:chExt cx="2231640" cy="459720"/>
          </a:xfrm>
        </p:grpSpPr>
        <p:sp>
          <p:nvSpPr>
            <p:cNvPr id="330" name=""/>
            <p:cNvSpPr/>
            <p:nvPr/>
          </p:nvSpPr>
          <p:spPr>
            <a:xfrm>
              <a:off x="6002640" y="1341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6000" y="1457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300720" y="1773360"/>
            <a:ext cx="2231640" cy="459720"/>
            <a:chOff x="6300720" y="1773360"/>
            <a:chExt cx="2231640" cy="459720"/>
          </a:xfrm>
        </p:grpSpPr>
        <p:sp>
          <p:nvSpPr>
            <p:cNvPr id="333" name=""/>
            <p:cNvSpPr/>
            <p:nvPr/>
          </p:nvSpPr>
          <p:spPr>
            <a:xfrm>
              <a:off x="6507360" y="1773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00720" y="1889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651640" y="3500280"/>
            <a:ext cx="2231640" cy="459720"/>
            <a:chOff x="5651640" y="3500280"/>
            <a:chExt cx="2231640" cy="459720"/>
          </a:xfrm>
        </p:grpSpPr>
        <p:sp>
          <p:nvSpPr>
            <p:cNvPr id="336" name=""/>
            <p:cNvSpPr/>
            <p:nvPr/>
          </p:nvSpPr>
          <p:spPr>
            <a:xfrm>
              <a:off x="5858280" y="350028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51640" y="361620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124000" y="1125360"/>
            <a:ext cx="287280" cy="4175280"/>
          </a:xfrm>
          <a:prstGeom prst="upArrow">
            <a:avLst>
              <a:gd name="adj1" fmla="val 50000"/>
              <a:gd name="adj2" fmla="val 363346"/>
            </a:avLst>
          </a:prstGeom>
          <a:gradFill rotWithShape="0">
            <a:gsLst>
              <a:gs pos="0">
                <a:srgbClr val="ff3300"/>
              </a:gs>
              <a:gs pos="100000">
                <a:srgbClr val="f9f2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71640" y="5589720"/>
            <a:ext cx="5400720" cy="215640"/>
          </a:xfrm>
          <a:prstGeom prst="rightArrow">
            <a:avLst>
              <a:gd name="adj1" fmla="val 50000"/>
              <a:gd name="adj2" fmla="val 626127"/>
            </a:avLst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o del plan para verificar su cumplimiento y la introducción de cambios cuando sea requer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formacione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452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898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310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75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0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61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156360" y="4800600"/>
            <a:ext cx="260028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4159080" y="1549800"/>
            <a:ext cx="4984920" cy="3061440"/>
            <a:chOff x="4159080" y="1549800"/>
            <a:chExt cx="4984920" cy="3061440"/>
          </a:xfrm>
        </p:grpSpPr>
        <p:grpSp>
          <p:nvGrpSpPr>
            <p:cNvPr id="350" name=""/>
            <p:cNvGrpSpPr/>
            <p:nvPr/>
          </p:nvGrpSpPr>
          <p:grpSpPr>
            <a:xfrm>
              <a:off x="4159080" y="2628720"/>
              <a:ext cx="1506600" cy="941400"/>
              <a:chOff x="4159080" y="2628720"/>
              <a:chExt cx="1506600" cy="941400"/>
            </a:xfrm>
          </p:grpSpPr>
          <p:sp>
            <p:nvSpPr>
              <p:cNvPr id="351" name=""/>
              <p:cNvSpPr/>
              <p:nvPr/>
            </p:nvSpPr>
            <p:spPr>
              <a:xfrm>
                <a:off x="4349520" y="2628720"/>
                <a:ext cx="863640" cy="641520"/>
              </a:xfrm>
              <a:prstGeom prst="rect">
                <a:avLst/>
              </a:prstGeom>
              <a:solidFill>
                <a:srgbClr val="fcce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159080" y="265320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Realiz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162320" y="294372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Planific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406760" y="3105000"/>
                <a:ext cx="10332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029200" y="3105000"/>
                <a:ext cx="10296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02080" y="2840040"/>
                <a:ext cx="11088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24160" y="2840040"/>
                <a:ext cx="11124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511520" y="2895480"/>
                <a:ext cx="512640" cy="0"/>
              </a:xfrm>
              <a:prstGeom prst="line">
                <a:avLst/>
              </a:prstGeom>
              <a:ln w="2844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525920" y="3157560"/>
                <a:ext cx="51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268520" y="3355920"/>
                <a:ext cx="1397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5857920" y="4309920"/>
              <a:ext cx="1395360" cy="147600"/>
              <a:chOff x="5857920" y="4309920"/>
              <a:chExt cx="1395360" cy="147600"/>
            </a:xfrm>
          </p:grpSpPr>
          <p:sp>
            <p:nvSpPr>
              <p:cNvPr id="362" name=""/>
              <p:cNvSpPr/>
              <p:nvPr/>
            </p:nvSpPr>
            <p:spPr>
              <a:xfrm>
                <a:off x="725328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51492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57920" y="4319640"/>
                <a:ext cx="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5662440" y="4410720"/>
              <a:ext cx="348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2004                        2005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                 20060                          2007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20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44960" y="1974960"/>
              <a:ext cx="2909880" cy="2333520"/>
            </a:xfrm>
            <a:prstGeom prst="rect">
              <a:avLst/>
            </a:prstGeom>
            <a:solidFill>
              <a:srgbClr val="fcce8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44960" y="22780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57920" y="25606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59360" y="286380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67280" y="314784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67280" y="34336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57920" y="373536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57920" y="40114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22840" y="1549800"/>
              <a:ext cx="187200" cy="28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45480" y="430848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958160" y="431316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938560" y="3573360"/>
              <a:ext cx="53820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578640" y="3049560"/>
              <a:ext cx="67464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7253280" y="2774520"/>
              <a:ext cx="75888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047080" y="2168640"/>
              <a:ext cx="614160" cy="56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46760" y="383076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73880" y="3486240"/>
              <a:ext cx="10296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219800" y="296388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966080" y="2701800"/>
              <a:ext cx="10296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640720" y="2076480"/>
              <a:ext cx="10152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5938560" y="3905280"/>
              <a:ext cx="571680" cy="257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545160" y="3665520"/>
              <a:ext cx="708120" cy="203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253280" y="3419640"/>
              <a:ext cx="691920" cy="2649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7970760" y="3030120"/>
              <a:ext cx="723960" cy="3891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54680" y="4097160"/>
              <a:ext cx="11088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68840" y="3822840"/>
              <a:ext cx="11124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02520" y="362124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94440" y="3325680"/>
              <a:ext cx="10944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636040" y="298620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4956840" y="2873880"/>
              <a:ext cx="116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$ Bill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78320" y="1704960"/>
              <a:ext cx="234324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Realizado  vs Planific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0627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072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485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930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51640" y="12682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7788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096400" y="129240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6362640" y="251460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4076640" y="406404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1866960" y="2438280"/>
            <a:ext cx="2031840" cy="14479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5"/>
          <a:stretch/>
        </p:blipFill>
        <p:spPr>
          <a:xfrm>
            <a:off x="4000680" y="1219320"/>
            <a:ext cx="2031840" cy="14475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6016680" y="1263600"/>
            <a:ext cx="2558880" cy="12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ich Customers? How do you rate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icing sensi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Service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usage and behavi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fitability &amp; Lifetime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31120" y="3930480"/>
            <a:ext cx="20793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ere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pene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size/grow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Growth of targeted segments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multi-market player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ompetitive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6848640" y="2971800"/>
            <a:ext cx="1198440" cy="630360"/>
            <a:chOff x="6848640" y="2971800"/>
            <a:chExt cx="1198440" cy="630360"/>
          </a:xfrm>
        </p:grpSpPr>
        <p:sp>
          <p:nvSpPr>
            <p:cNvPr id="411" name=""/>
            <p:cNvSpPr/>
            <p:nvPr/>
          </p:nvSpPr>
          <p:spPr>
            <a:xfrm>
              <a:off x="7989840" y="3063960"/>
              <a:ext cx="55440" cy="85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4" y="0"/>
                  </a:moveTo>
                  <a:lnTo>
                    <a:pt x="0" y="25"/>
                  </a:lnTo>
                  <a:lnTo>
                    <a:pt x="0" y="53"/>
                  </a:lnTo>
                  <a:lnTo>
                    <a:pt x="34" y="28"/>
                  </a:lnTo>
                  <a:lnTo>
                    <a:pt x="34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967520" y="3108240"/>
              <a:ext cx="2556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9"/>
                  </a:moveTo>
                  <a:lnTo>
                    <a:pt x="13" y="4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13" y="31"/>
                  </a:lnTo>
                  <a:lnTo>
                    <a:pt x="0" y="37"/>
                  </a:lnTo>
                  <a:lnTo>
                    <a:pt x="0" y="9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64640" y="3133800"/>
              <a:ext cx="2520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9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85160" y="310824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6"/>
                  </a:lnTo>
                  <a:lnTo>
                    <a:pt x="0" y="31"/>
                  </a:lnTo>
                  <a:lnTo>
                    <a:pt x="15" y="25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575480" y="3438360"/>
              <a:ext cx="25560" cy="4788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0" y="6"/>
                  </a:moveTo>
                  <a:lnTo>
                    <a:pt x="8" y="16"/>
                  </a:lnTo>
                  <a:lnTo>
                    <a:pt x="8" y="29"/>
                  </a:lnTo>
                  <a:lnTo>
                    <a:pt x="15" y="26"/>
                  </a:lnTo>
                  <a:lnTo>
                    <a:pt x="15" y="0"/>
                  </a:lnTo>
                  <a:lnTo>
                    <a:pt x="0" y="6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585200" y="3438360"/>
              <a:ext cx="50760" cy="460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0" y="1"/>
                  </a:moveTo>
                  <a:lnTo>
                    <a:pt x="13" y="0"/>
                  </a:lnTo>
                  <a:lnTo>
                    <a:pt x="31" y="0"/>
                  </a:lnTo>
                  <a:lnTo>
                    <a:pt x="31" y="28"/>
                  </a:lnTo>
                  <a:lnTo>
                    <a:pt x="13" y="28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35960" y="3438360"/>
              <a:ext cx="2520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0" y="26"/>
                  </a:lnTo>
                  <a:lnTo>
                    <a:pt x="15" y="37"/>
                  </a:lnTo>
                  <a:lnTo>
                    <a:pt x="15" y="10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58280" y="345132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3"/>
                  </a:moveTo>
                  <a:lnTo>
                    <a:pt x="17" y="0"/>
                  </a:lnTo>
                  <a:lnTo>
                    <a:pt x="17" y="25"/>
                  </a:lnTo>
                  <a:lnTo>
                    <a:pt x="0" y="28"/>
                  </a:lnTo>
                  <a:lnTo>
                    <a:pt x="0" y="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02560" y="3494160"/>
              <a:ext cx="25560" cy="6804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0" y="0"/>
                  </a:moveTo>
                  <a:lnTo>
                    <a:pt x="15" y="16"/>
                  </a:lnTo>
                  <a:lnTo>
                    <a:pt x="15" y="42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84920" y="345132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1" y="26"/>
                  </a:lnTo>
                  <a:lnTo>
                    <a:pt x="11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407360" y="3456000"/>
              <a:ext cx="4896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" y="49"/>
                  </a:moveTo>
                  <a:lnTo>
                    <a:pt x="0" y="34"/>
                  </a:lnTo>
                  <a:lnTo>
                    <a:pt x="7" y="18"/>
                  </a:lnTo>
                  <a:lnTo>
                    <a:pt x="30" y="0"/>
                  </a:lnTo>
                  <a:lnTo>
                    <a:pt x="30" y="28"/>
                  </a:lnTo>
                  <a:lnTo>
                    <a:pt x="7" y="44"/>
                  </a:lnTo>
                  <a:lnTo>
                    <a:pt x="3" y="4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56320" y="3448080"/>
              <a:ext cx="30240" cy="5076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0" y="4"/>
                  </a:moveTo>
                  <a:lnTo>
                    <a:pt x="0" y="31"/>
                  </a:lnTo>
                  <a:lnTo>
                    <a:pt x="18" y="26"/>
                  </a:lnTo>
                  <a:lnTo>
                    <a:pt x="18" y="0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485120" y="344808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0"/>
                  </a:moveTo>
                  <a:lnTo>
                    <a:pt x="33" y="11"/>
                  </a:lnTo>
                  <a:lnTo>
                    <a:pt x="33" y="39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39120" y="3468600"/>
              <a:ext cx="39600" cy="47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0"/>
                  </a:moveTo>
                  <a:lnTo>
                    <a:pt x="0" y="27"/>
                  </a:lnTo>
                  <a:lnTo>
                    <a:pt x="24" y="29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54760" y="353232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15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43"/>
                  </a:lnTo>
                  <a:lnTo>
                    <a:pt x="0" y="1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21640" y="35193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lnTo>
                    <a:pt x="0" y="26"/>
                  </a:lnTo>
                  <a:lnTo>
                    <a:pt x="16" y="2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34240" y="3556080"/>
              <a:ext cx="2556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"/>
                  </a:moveTo>
                  <a:lnTo>
                    <a:pt x="15" y="0"/>
                  </a:lnTo>
                  <a:lnTo>
                    <a:pt x="15" y="26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28120" y="3519360"/>
              <a:ext cx="25200" cy="82800"/>
            </a:xfrm>
            <a:custGeom>
              <a:avLst/>
              <a:gdLst/>
              <a:ahLst/>
              <a:rect l="l" t="t" r="r" b="b"/>
              <a:pathLst>
                <a:path w="16" h="52">
                  <a:moveTo>
                    <a:pt x="0" y="0"/>
                  </a:moveTo>
                  <a:lnTo>
                    <a:pt x="15" y="25"/>
                  </a:lnTo>
                  <a:lnTo>
                    <a:pt x="15" y="5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56560" y="338292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4"/>
                  </a:moveTo>
                  <a:lnTo>
                    <a:pt x="16" y="0"/>
                  </a:lnTo>
                  <a:lnTo>
                    <a:pt x="16" y="26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777080" y="3354480"/>
              <a:ext cx="2556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16"/>
                  </a:moveTo>
                  <a:lnTo>
                    <a:pt x="15" y="0"/>
                  </a:lnTo>
                  <a:lnTo>
                    <a:pt x="15" y="28"/>
                  </a:lnTo>
                  <a:lnTo>
                    <a:pt x="0" y="46"/>
                  </a:lnTo>
                  <a:lnTo>
                    <a:pt x="0" y="1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99400" y="334332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9"/>
                  </a:moveTo>
                  <a:lnTo>
                    <a:pt x="0" y="34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0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43960" y="3389400"/>
              <a:ext cx="25200" cy="6660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15" y="0"/>
                  </a:moveTo>
                  <a:lnTo>
                    <a:pt x="15" y="29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3" y="36"/>
                  </a:lnTo>
                  <a:lnTo>
                    <a:pt x="0" y="28"/>
                  </a:lnTo>
                  <a:lnTo>
                    <a:pt x="11" y="1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15240" y="3328920"/>
              <a:ext cx="33480" cy="558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20" y="0"/>
                  </a:lnTo>
                  <a:lnTo>
                    <a:pt x="20" y="28"/>
                  </a:lnTo>
                  <a:lnTo>
                    <a:pt x="0" y="34"/>
                  </a:lnTo>
                  <a:lnTo>
                    <a:pt x="0" y="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3311640"/>
              <a:ext cx="27000" cy="68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0" y="13"/>
                  </a:moveTo>
                  <a:lnTo>
                    <a:pt x="0" y="42"/>
                  </a:lnTo>
                  <a:lnTo>
                    <a:pt x="16" y="29"/>
                  </a:lnTo>
                  <a:lnTo>
                    <a:pt x="16" y="0"/>
                  </a:lnTo>
                  <a:lnTo>
                    <a:pt x="0" y="1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78600" y="3209760"/>
              <a:ext cx="25560" cy="6192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0" y="10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8"/>
                  </a:lnTo>
                  <a:lnTo>
                    <a:pt x="0" y="1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67800" y="321156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15" y="10"/>
                  </a:lnTo>
                  <a:lnTo>
                    <a:pt x="15" y="37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858080" y="3230640"/>
              <a:ext cx="25560" cy="7128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5" y="0"/>
                  </a:moveTo>
                  <a:lnTo>
                    <a:pt x="0" y="16"/>
                  </a:lnTo>
                  <a:lnTo>
                    <a:pt x="0" y="44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48720" y="32576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0" y="6"/>
                  </a:lnTo>
                  <a:lnTo>
                    <a:pt x="16" y="24"/>
                  </a:lnTo>
                  <a:lnTo>
                    <a:pt x="1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966080" y="3159000"/>
              <a:ext cx="2556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4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2"/>
                  </a:lnTo>
                  <a:lnTo>
                    <a:pt x="0" y="4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58160" y="3159000"/>
              <a:ext cx="2520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0"/>
                  </a:moveTo>
                  <a:lnTo>
                    <a:pt x="15" y="4"/>
                  </a:lnTo>
                  <a:lnTo>
                    <a:pt x="15" y="32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51680" y="3159000"/>
              <a:ext cx="25560" cy="55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5" y="0"/>
                  </a:moveTo>
                  <a:lnTo>
                    <a:pt x="15" y="26"/>
                  </a:lnTo>
                  <a:lnTo>
                    <a:pt x="0" y="34"/>
                  </a:lnTo>
                  <a:lnTo>
                    <a:pt x="0" y="6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910640" y="316872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19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19" y="26"/>
                  </a:lnTo>
                  <a:lnTo>
                    <a:pt x="25" y="26"/>
                  </a:lnTo>
                  <a:lnTo>
                    <a:pt x="25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91560" y="3174840"/>
              <a:ext cx="25200" cy="572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5" y="0"/>
                  </a:moveTo>
                  <a:lnTo>
                    <a:pt x="15" y="26"/>
                  </a:lnTo>
                  <a:lnTo>
                    <a:pt x="5" y="29"/>
                  </a:lnTo>
                  <a:lnTo>
                    <a:pt x="1" y="35"/>
                  </a:lnTo>
                  <a:lnTo>
                    <a:pt x="1" y="2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61240" y="3225960"/>
              <a:ext cx="73080" cy="156960"/>
            </a:xfrm>
            <a:custGeom>
              <a:avLst/>
              <a:gdLst/>
              <a:ahLst/>
              <a:rect l="l" t="t" r="r" b="b"/>
              <a:pathLst>
                <a:path w="46" h="99">
                  <a:moveTo>
                    <a:pt x="0" y="0"/>
                  </a:moveTo>
                  <a:lnTo>
                    <a:pt x="0" y="28"/>
                  </a:lnTo>
                  <a:lnTo>
                    <a:pt x="15" y="49"/>
                  </a:lnTo>
                  <a:lnTo>
                    <a:pt x="45" y="98"/>
                  </a:lnTo>
                  <a:lnTo>
                    <a:pt x="45" y="71"/>
                  </a:lnTo>
                  <a:lnTo>
                    <a:pt x="17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934320" y="3343320"/>
              <a:ext cx="2520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0"/>
                  </a:moveTo>
                  <a:lnTo>
                    <a:pt x="15" y="0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51600" y="3343320"/>
              <a:ext cx="4932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0" y="0"/>
                  </a:moveTo>
                  <a:lnTo>
                    <a:pt x="0" y="25"/>
                  </a:lnTo>
                  <a:lnTo>
                    <a:pt x="30" y="49"/>
                  </a:lnTo>
                  <a:lnTo>
                    <a:pt x="30" y="22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00920" y="337824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0"/>
                  </a:moveTo>
                  <a:lnTo>
                    <a:pt x="0" y="27"/>
                  </a:lnTo>
                  <a:lnTo>
                    <a:pt x="37" y="27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61040" y="3387600"/>
              <a:ext cx="6696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0"/>
                  </a:moveTo>
                  <a:lnTo>
                    <a:pt x="41" y="19"/>
                  </a:lnTo>
                  <a:lnTo>
                    <a:pt x="41" y="44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28000" y="3417840"/>
              <a:ext cx="55440" cy="414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0"/>
                  </a:moveTo>
                  <a:lnTo>
                    <a:pt x="34" y="0"/>
                  </a:lnTo>
                  <a:lnTo>
                    <a:pt x="34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84880" y="3398760"/>
              <a:ext cx="2556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1"/>
                  </a:moveTo>
                  <a:lnTo>
                    <a:pt x="0" y="25"/>
                  </a:lnTo>
                  <a:lnTo>
                    <a:pt x="15" y="25"/>
                  </a:lnTo>
                  <a:lnTo>
                    <a:pt x="15" y="0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07200" y="339876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0" y="0"/>
                  </a:moveTo>
                  <a:lnTo>
                    <a:pt x="26" y="20"/>
                  </a:lnTo>
                  <a:lnTo>
                    <a:pt x="26" y="47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50040" y="342900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0" y="0"/>
                  </a:moveTo>
                  <a:lnTo>
                    <a:pt x="16" y="19"/>
                  </a:lnTo>
                  <a:lnTo>
                    <a:pt x="16" y="47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67680" y="3456000"/>
              <a:ext cx="2520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0" y="0"/>
                  </a:moveTo>
                  <a:lnTo>
                    <a:pt x="15" y="7"/>
                  </a:ln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89640" y="3456000"/>
              <a:ext cx="2556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5" y="0"/>
                  </a:moveTo>
                  <a:lnTo>
                    <a:pt x="0" y="9"/>
                  </a:lnTo>
                  <a:lnTo>
                    <a:pt x="0" y="36"/>
                  </a:lnTo>
                  <a:lnTo>
                    <a:pt x="15" y="27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04040" y="3456000"/>
              <a:ext cx="25560" cy="540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0"/>
                  </a:moveTo>
                  <a:lnTo>
                    <a:pt x="15" y="6"/>
                  </a:lnTo>
                  <a:lnTo>
                    <a:pt x="15" y="33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59480" y="3514680"/>
              <a:ext cx="49320" cy="619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0"/>
                  </a:moveTo>
                  <a:lnTo>
                    <a:pt x="30" y="10"/>
                  </a:lnTo>
                  <a:lnTo>
                    <a:pt x="30" y="38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27800" y="3460680"/>
              <a:ext cx="33480" cy="10008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0" y="0"/>
                  </a:moveTo>
                  <a:lnTo>
                    <a:pt x="20" y="34"/>
                  </a:lnTo>
                  <a:lnTo>
                    <a:pt x="20" y="62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48640" y="2998800"/>
              <a:ext cx="2520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0"/>
                  </a:moveTo>
                  <a:lnTo>
                    <a:pt x="15" y="26"/>
                  </a:lnTo>
                  <a:lnTo>
                    <a:pt x="9" y="4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48640" y="318600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2" y="23"/>
                  </a:lnTo>
                  <a:lnTo>
                    <a:pt x="12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626240" y="304812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4"/>
                  </a:moveTo>
                  <a:lnTo>
                    <a:pt x="38" y="0"/>
                  </a:lnTo>
                  <a:lnTo>
                    <a:pt x="38" y="25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01040" y="305748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15" y="26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2120" y="299556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0"/>
                  </a:moveTo>
                  <a:lnTo>
                    <a:pt x="3" y="14"/>
                  </a:lnTo>
                  <a:lnTo>
                    <a:pt x="0" y="23"/>
                  </a:lnTo>
                  <a:lnTo>
                    <a:pt x="18" y="19"/>
                  </a:lnTo>
                  <a:lnTo>
                    <a:pt x="23" y="25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94560" y="3016080"/>
              <a:ext cx="2556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4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10400" y="307800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0" y="12"/>
                  </a:lnTo>
                  <a:lnTo>
                    <a:pt x="0" y="40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04280" y="3098880"/>
              <a:ext cx="2520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0"/>
                  </a:moveTo>
                  <a:lnTo>
                    <a:pt x="15" y="26"/>
                  </a:lnTo>
                  <a:lnTo>
                    <a:pt x="11" y="32"/>
                  </a:lnTo>
                  <a:lnTo>
                    <a:pt x="0" y="24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1400" y="309240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0" y="14"/>
                  </a:lnTo>
                  <a:lnTo>
                    <a:pt x="4" y="22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01120" y="3135240"/>
              <a:ext cx="2520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48640" y="2971800"/>
              <a:ext cx="1198440" cy="593640"/>
            </a:xfrm>
            <a:custGeom>
              <a:avLst/>
              <a:gdLst/>
              <a:ahLst/>
              <a:rect l="l" t="t" r="r" b="b"/>
              <a:pathLst>
                <a:path w="755" h="374">
                  <a:moveTo>
                    <a:pt x="384" y="0"/>
                  </a:moveTo>
                  <a:lnTo>
                    <a:pt x="21" y="0"/>
                  </a:lnTo>
                  <a:lnTo>
                    <a:pt x="25" y="15"/>
                  </a:lnTo>
                  <a:lnTo>
                    <a:pt x="23" y="19"/>
                  </a:lnTo>
                  <a:lnTo>
                    <a:pt x="1" y="16"/>
                  </a:lnTo>
                  <a:lnTo>
                    <a:pt x="8" y="44"/>
                  </a:lnTo>
                  <a:lnTo>
                    <a:pt x="1" y="99"/>
                  </a:lnTo>
                  <a:lnTo>
                    <a:pt x="4" y="115"/>
                  </a:lnTo>
                  <a:lnTo>
                    <a:pt x="0" y="137"/>
                  </a:lnTo>
                  <a:lnTo>
                    <a:pt x="11" y="150"/>
                  </a:lnTo>
                  <a:lnTo>
                    <a:pt x="9" y="159"/>
                  </a:lnTo>
                  <a:lnTo>
                    <a:pt x="26" y="186"/>
                  </a:lnTo>
                  <a:lnTo>
                    <a:pt x="54" y="234"/>
                  </a:lnTo>
                  <a:lnTo>
                    <a:pt x="66" y="234"/>
                  </a:lnTo>
                  <a:lnTo>
                    <a:pt x="97" y="256"/>
                  </a:lnTo>
                  <a:lnTo>
                    <a:pt x="134" y="256"/>
                  </a:lnTo>
                  <a:lnTo>
                    <a:pt x="134" y="262"/>
                  </a:lnTo>
                  <a:lnTo>
                    <a:pt x="178" y="282"/>
                  </a:lnTo>
                  <a:lnTo>
                    <a:pt x="214" y="282"/>
                  </a:lnTo>
                  <a:lnTo>
                    <a:pt x="214" y="271"/>
                  </a:lnTo>
                  <a:lnTo>
                    <a:pt x="228" y="271"/>
                  </a:lnTo>
                  <a:lnTo>
                    <a:pt x="255" y="291"/>
                  </a:lnTo>
                  <a:lnTo>
                    <a:pt x="267" y="310"/>
                  </a:lnTo>
                  <a:lnTo>
                    <a:pt x="280" y="316"/>
                  </a:lnTo>
                  <a:lnTo>
                    <a:pt x="288" y="307"/>
                  </a:lnTo>
                  <a:lnTo>
                    <a:pt x="305" y="313"/>
                  </a:lnTo>
                  <a:lnTo>
                    <a:pt x="326" y="346"/>
                  </a:lnTo>
                  <a:lnTo>
                    <a:pt x="357" y="357"/>
                  </a:lnTo>
                  <a:lnTo>
                    <a:pt x="354" y="339"/>
                  </a:lnTo>
                  <a:lnTo>
                    <a:pt x="360" y="326"/>
                  </a:lnTo>
                  <a:lnTo>
                    <a:pt x="385" y="306"/>
                  </a:lnTo>
                  <a:lnTo>
                    <a:pt x="403" y="301"/>
                  </a:lnTo>
                  <a:lnTo>
                    <a:pt x="436" y="313"/>
                  </a:lnTo>
                  <a:lnTo>
                    <a:pt x="464" y="314"/>
                  </a:lnTo>
                  <a:lnTo>
                    <a:pt x="459" y="301"/>
                  </a:lnTo>
                  <a:lnTo>
                    <a:pt x="468" y="295"/>
                  </a:lnTo>
                  <a:lnTo>
                    <a:pt x="481" y="295"/>
                  </a:lnTo>
                  <a:lnTo>
                    <a:pt x="497" y="295"/>
                  </a:lnTo>
                  <a:lnTo>
                    <a:pt x="512" y="306"/>
                  </a:lnTo>
                  <a:lnTo>
                    <a:pt x="529" y="303"/>
                  </a:lnTo>
                  <a:lnTo>
                    <a:pt x="544" y="316"/>
                  </a:lnTo>
                  <a:lnTo>
                    <a:pt x="541" y="330"/>
                  </a:lnTo>
                  <a:lnTo>
                    <a:pt x="552" y="346"/>
                  </a:lnTo>
                  <a:lnTo>
                    <a:pt x="557" y="346"/>
                  </a:lnTo>
                  <a:lnTo>
                    <a:pt x="561" y="373"/>
                  </a:lnTo>
                  <a:lnTo>
                    <a:pt x="573" y="371"/>
                  </a:lnTo>
                  <a:lnTo>
                    <a:pt x="588" y="358"/>
                  </a:lnTo>
                  <a:lnTo>
                    <a:pt x="585" y="346"/>
                  </a:lnTo>
                  <a:lnTo>
                    <a:pt x="580" y="329"/>
                  </a:lnTo>
                  <a:lnTo>
                    <a:pt x="566" y="303"/>
                  </a:lnTo>
                  <a:lnTo>
                    <a:pt x="564" y="294"/>
                  </a:lnTo>
                  <a:lnTo>
                    <a:pt x="571" y="274"/>
                  </a:lnTo>
                  <a:lnTo>
                    <a:pt x="573" y="265"/>
                  </a:lnTo>
                  <a:lnTo>
                    <a:pt x="585" y="259"/>
                  </a:lnTo>
                  <a:lnTo>
                    <a:pt x="602" y="243"/>
                  </a:lnTo>
                  <a:lnTo>
                    <a:pt x="609" y="234"/>
                  </a:lnTo>
                  <a:lnTo>
                    <a:pt x="628" y="228"/>
                  </a:lnTo>
                  <a:lnTo>
                    <a:pt x="642" y="215"/>
                  </a:lnTo>
                  <a:lnTo>
                    <a:pt x="632" y="191"/>
                  </a:lnTo>
                  <a:lnTo>
                    <a:pt x="639" y="185"/>
                  </a:lnTo>
                  <a:lnTo>
                    <a:pt x="647" y="170"/>
                  </a:lnTo>
                  <a:lnTo>
                    <a:pt x="649" y="166"/>
                  </a:lnTo>
                  <a:lnTo>
                    <a:pt x="642" y="157"/>
                  </a:lnTo>
                  <a:lnTo>
                    <a:pt x="643" y="153"/>
                  </a:lnTo>
                  <a:lnTo>
                    <a:pt x="651" y="163"/>
                  </a:lnTo>
                  <a:lnTo>
                    <a:pt x="660" y="151"/>
                  </a:lnTo>
                  <a:lnTo>
                    <a:pt x="662" y="140"/>
                  </a:lnTo>
                  <a:lnTo>
                    <a:pt x="658" y="137"/>
                  </a:lnTo>
                  <a:lnTo>
                    <a:pt x="659" y="137"/>
                  </a:lnTo>
                  <a:lnTo>
                    <a:pt x="662" y="132"/>
                  </a:lnTo>
                  <a:lnTo>
                    <a:pt x="666" y="128"/>
                  </a:lnTo>
                  <a:lnTo>
                    <a:pt x="691" y="125"/>
                  </a:lnTo>
                  <a:lnTo>
                    <a:pt x="697" y="124"/>
                  </a:lnTo>
                  <a:lnTo>
                    <a:pt x="701" y="116"/>
                  </a:lnTo>
                  <a:lnTo>
                    <a:pt x="707" y="122"/>
                  </a:lnTo>
                  <a:lnTo>
                    <a:pt x="718" y="119"/>
                  </a:lnTo>
                  <a:lnTo>
                    <a:pt x="709" y="116"/>
                  </a:lnTo>
                  <a:lnTo>
                    <a:pt x="704" y="105"/>
                  </a:lnTo>
                  <a:lnTo>
                    <a:pt x="708" y="102"/>
                  </a:lnTo>
                  <a:lnTo>
                    <a:pt x="705" y="98"/>
                  </a:lnTo>
                  <a:lnTo>
                    <a:pt x="706" y="95"/>
                  </a:lnTo>
                  <a:lnTo>
                    <a:pt x="718" y="89"/>
                  </a:lnTo>
                  <a:lnTo>
                    <a:pt x="720" y="83"/>
                  </a:lnTo>
                  <a:lnTo>
                    <a:pt x="754" y="60"/>
                  </a:lnTo>
                  <a:lnTo>
                    <a:pt x="752" y="49"/>
                  </a:lnTo>
                  <a:lnTo>
                    <a:pt x="747" y="47"/>
                  </a:lnTo>
                  <a:lnTo>
                    <a:pt x="743" y="26"/>
                  </a:lnTo>
                  <a:lnTo>
                    <a:pt x="733" y="31"/>
                  </a:lnTo>
                  <a:lnTo>
                    <a:pt x="727" y="26"/>
                  </a:lnTo>
                  <a:lnTo>
                    <a:pt x="718" y="35"/>
                  </a:lnTo>
                  <a:lnTo>
                    <a:pt x="707" y="54"/>
                  </a:lnTo>
                  <a:lnTo>
                    <a:pt x="698" y="65"/>
                  </a:lnTo>
                  <a:lnTo>
                    <a:pt x="669" y="65"/>
                  </a:lnTo>
                  <a:lnTo>
                    <a:pt x="652" y="67"/>
                  </a:lnTo>
                  <a:lnTo>
                    <a:pt x="633" y="81"/>
                  </a:lnTo>
                  <a:lnTo>
                    <a:pt x="636" y="87"/>
                  </a:lnTo>
                  <a:lnTo>
                    <a:pt x="625" y="96"/>
                  </a:lnTo>
                  <a:lnTo>
                    <a:pt x="610" y="95"/>
                  </a:lnTo>
                  <a:lnTo>
                    <a:pt x="597" y="93"/>
                  </a:lnTo>
                  <a:lnTo>
                    <a:pt x="594" y="102"/>
                  </a:lnTo>
                  <a:lnTo>
                    <a:pt x="586" y="108"/>
                  </a:lnTo>
                  <a:lnTo>
                    <a:pt x="578" y="116"/>
                  </a:lnTo>
                  <a:lnTo>
                    <a:pt x="561" y="124"/>
                  </a:lnTo>
                  <a:lnTo>
                    <a:pt x="547" y="124"/>
                  </a:lnTo>
                  <a:lnTo>
                    <a:pt x="540" y="119"/>
                  </a:lnTo>
                  <a:lnTo>
                    <a:pt x="540" y="115"/>
                  </a:lnTo>
                  <a:lnTo>
                    <a:pt x="551" y="99"/>
                  </a:lnTo>
                  <a:lnTo>
                    <a:pt x="549" y="84"/>
                  </a:lnTo>
                  <a:lnTo>
                    <a:pt x="546" y="83"/>
                  </a:lnTo>
                  <a:lnTo>
                    <a:pt x="536" y="89"/>
                  </a:lnTo>
                  <a:lnTo>
                    <a:pt x="533" y="84"/>
                  </a:lnTo>
                  <a:lnTo>
                    <a:pt x="544" y="73"/>
                  </a:lnTo>
                  <a:lnTo>
                    <a:pt x="540" y="61"/>
                  </a:lnTo>
                  <a:lnTo>
                    <a:pt x="521" y="57"/>
                  </a:lnTo>
                  <a:lnTo>
                    <a:pt x="502" y="73"/>
                  </a:lnTo>
                  <a:lnTo>
                    <a:pt x="496" y="87"/>
                  </a:lnTo>
                  <a:lnTo>
                    <a:pt x="500" y="99"/>
                  </a:lnTo>
                  <a:lnTo>
                    <a:pt x="493" y="119"/>
                  </a:lnTo>
                  <a:lnTo>
                    <a:pt x="487" y="122"/>
                  </a:lnTo>
                  <a:lnTo>
                    <a:pt x="484" y="119"/>
                  </a:lnTo>
                  <a:lnTo>
                    <a:pt x="480" y="105"/>
                  </a:lnTo>
                  <a:lnTo>
                    <a:pt x="483" y="80"/>
                  </a:lnTo>
                  <a:lnTo>
                    <a:pt x="492" y="68"/>
                  </a:lnTo>
                  <a:lnTo>
                    <a:pt x="488" y="65"/>
                  </a:lnTo>
                  <a:lnTo>
                    <a:pt x="478" y="67"/>
                  </a:lnTo>
                  <a:lnTo>
                    <a:pt x="492" y="51"/>
                  </a:lnTo>
                  <a:lnTo>
                    <a:pt x="532" y="45"/>
                  </a:lnTo>
                  <a:lnTo>
                    <a:pt x="515" y="36"/>
                  </a:lnTo>
                  <a:lnTo>
                    <a:pt x="491" y="44"/>
                  </a:lnTo>
                  <a:lnTo>
                    <a:pt x="470" y="38"/>
                  </a:lnTo>
                  <a:lnTo>
                    <a:pt x="483" y="26"/>
                  </a:lnTo>
                  <a:lnTo>
                    <a:pt x="471" y="25"/>
                  </a:lnTo>
                  <a:lnTo>
                    <a:pt x="443" y="41"/>
                  </a:lnTo>
                  <a:lnTo>
                    <a:pt x="438" y="32"/>
                  </a:lnTo>
                  <a:lnTo>
                    <a:pt x="421" y="38"/>
                  </a:lnTo>
                  <a:lnTo>
                    <a:pt x="424" y="28"/>
                  </a:lnTo>
                  <a:lnTo>
                    <a:pt x="444" y="12"/>
                  </a:lnTo>
                  <a:lnTo>
                    <a:pt x="384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3765600" y="6031080"/>
            <a:ext cx="2852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710160" y="2932200"/>
            <a:ext cx="520560" cy="6271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5979240" y="2930400"/>
            <a:ext cx="520920" cy="628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6200000">
            <a:off x="4944960" y="3508200"/>
            <a:ext cx="317520" cy="9968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757920" y="270036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903840" y="4317840"/>
            <a:ext cx="2118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ing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27400" y="266688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rot="16200000">
            <a:off x="4943160" y="2082600"/>
            <a:ext cx="320760" cy="10000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60760" y="1406520"/>
            <a:ext cx="1101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6"/>
          <a:stretch/>
        </p:blipFill>
        <p:spPr>
          <a:xfrm>
            <a:off x="4559400" y="1612800"/>
            <a:ext cx="990360" cy="6224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7"/>
          <a:stretch/>
        </p:blipFill>
        <p:spPr>
          <a:xfrm>
            <a:off x="4648320" y="4584600"/>
            <a:ext cx="901440" cy="5461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4054320" y="5470560"/>
            <a:ext cx="296568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How Will You Reac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rofiling (web, email, properties, direct mail, etc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segment tre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bandwidth &amp; accessi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78200" y="3914640"/>
            <a:ext cx="2016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at Will They Bu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pricing and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Targeted segment n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eatures and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316400" y="350676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16400" y="2954160"/>
            <a:ext cx="1569960" cy="682920"/>
          </a:xfrm>
          <a:prstGeom prst="rect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16400" y="279252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30380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8816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14800" y="3121200"/>
            <a:ext cx="198108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Custom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Knowledge B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8"/>
          <a:stretch/>
        </p:blipFill>
        <p:spPr>
          <a:xfrm>
            <a:off x="2413080" y="2895480"/>
            <a:ext cx="965160" cy="62244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231920" y="380880"/>
            <a:ext cx="7238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572680" cy="52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keting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4800600" y="139716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5391000" y="1695600"/>
            <a:ext cx="1524240" cy="10191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5315040" y="2838240"/>
            <a:ext cx="16002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aprovech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219800" y="2319120"/>
            <a:ext cx="1600200" cy="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miti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004160" y="1447560"/>
            <a:ext cx="2019240" cy="35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10705800">
            <a:off x="6202080" y="3351960"/>
            <a:ext cx="960480" cy="669960"/>
          </a:xfrm>
          <a:custGeom>
            <a:avLst/>
            <a:gdLst>
              <a:gd name="textAreaLeft" fmla="*/ 360 w 960480"/>
              <a:gd name="textAreaRight" fmla="*/ 961200 w 9604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a8b9e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rot="10800000">
            <a:no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1722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 plan de marketing es un esfuerzo integra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80880" y="4202280"/>
            <a:ext cx="4330800" cy="2656080"/>
            <a:chOff x="380880" y="4202280"/>
            <a:chExt cx="4330800" cy="2656080"/>
          </a:xfrm>
        </p:grpSpPr>
        <p:sp>
          <p:nvSpPr>
            <p:cNvPr id="499" name=""/>
            <p:cNvSpPr/>
            <p:nvPr/>
          </p:nvSpPr>
          <p:spPr>
            <a:xfrm>
              <a:off x="380880" y="4202280"/>
              <a:ext cx="4248360" cy="2641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3"/>
            <a:stretch/>
          </p:blipFill>
          <p:spPr>
            <a:xfrm>
              <a:off x="1663560" y="4316400"/>
              <a:ext cx="1676520" cy="106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1" name=""/>
            <p:cNvGrpSpPr/>
            <p:nvPr/>
          </p:nvGrpSpPr>
          <p:grpSpPr>
            <a:xfrm>
              <a:off x="3625920" y="4735440"/>
              <a:ext cx="914040" cy="1049040"/>
              <a:chOff x="3625920" y="4735440"/>
              <a:chExt cx="914040" cy="1049040"/>
            </a:xfrm>
          </p:grpSpPr>
          <p:pic>
            <p:nvPicPr>
              <p:cNvPr id="5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25920" y="473544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55160" y="485352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885120" y="4986360"/>
                <a:ext cx="654840" cy="79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5" name=""/>
            <p:cNvSpPr/>
            <p:nvPr/>
          </p:nvSpPr>
          <p:spPr>
            <a:xfrm>
              <a:off x="1663560" y="5643360"/>
              <a:ext cx="1600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¡Cliente satisfech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4600" y="6030720"/>
              <a:ext cx="12189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IM on-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492360" y="5930640"/>
              <a:ext cx="1219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Resultad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30400" y="6507000"/>
              <a:ext cx="2971800" cy="35136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2500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onitor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9" name="" descr=""/>
            <p:cNvPicPr/>
            <p:nvPr/>
          </p:nvPicPr>
          <p:blipFill>
            <a:blip r:embed="rId7"/>
            <a:stretch/>
          </p:blipFill>
          <p:spPr>
            <a:xfrm>
              <a:off x="609480" y="5208480"/>
              <a:ext cx="73836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 rot="10461600">
              <a:off x="990720" y="5040360"/>
              <a:ext cx="1371600" cy="419040"/>
            </a:xfrm>
            <a:custGeom>
              <a:avLst/>
              <a:gdLst/>
              <a:ahLst/>
              <a:rect l="l" t="t" r="r" b="b"/>
              <a:pathLst>
                <a:path w="864" h="384">
                  <a:moveTo>
                    <a:pt x="0" y="288"/>
                  </a:moveTo>
                  <a:lnTo>
                    <a:pt x="432" y="96"/>
                  </a:lnTo>
                  <a:lnTo>
                    <a:pt x="384" y="240"/>
                  </a:lnTo>
                  <a:lnTo>
                    <a:pt x="864" y="0"/>
                  </a:lnTo>
                  <a:lnTo>
                    <a:pt x="336" y="384"/>
                  </a:lnTo>
                  <a:lnTo>
                    <a:pt x="384" y="144"/>
                  </a:lnTo>
                  <a:lnTo>
                    <a:pt x="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4800600" y="412128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8"/>
          <a:stretch/>
        </p:blipFill>
        <p:spPr>
          <a:xfrm>
            <a:off x="8128080" y="4781520"/>
            <a:ext cx="453960" cy="7621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5702400" y="5632560"/>
            <a:ext cx="493560" cy="53964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0"/>
          <a:stretch/>
        </p:blipFill>
        <p:spPr>
          <a:xfrm>
            <a:off x="7137360" y="5391000"/>
            <a:ext cx="738360" cy="7462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5003640" y="5151240"/>
            <a:ext cx="144792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Acciones/Planes/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56280" y="6229080"/>
            <a:ext cx="144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257800" y="5645160"/>
            <a:ext cx="330120" cy="609480"/>
          </a:xfrm>
          <a:prstGeom prst="upDownArrow">
            <a:avLst>
              <a:gd name="adj1" fmla="val 44231"/>
              <a:gd name="adj2" fmla="val 5192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35400">
            <a:off x="7289280" y="478116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18240" y="578628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Selección de la 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94560" y="446220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Obj Volumen y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908760" y="6386400"/>
            <a:ext cx="1911240" cy="351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7360" y="1409760"/>
            <a:ext cx="4254480" cy="2641680"/>
          </a:xfrm>
          <a:prstGeom prst="rect">
            <a:avLst/>
          </a:prstGeom>
          <a:solidFill>
            <a:srgbClr val="ffffff"/>
          </a:solidFill>
          <a:ln w="5724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79640" y="3687480"/>
            <a:ext cx="2662200" cy="351360"/>
          </a:xfrm>
          <a:prstGeom prst="rect">
            <a:avLst/>
          </a:prstGeom>
          <a:solidFill>
            <a:srgbClr val="b23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sit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1"/>
          <a:stretch/>
        </p:blipFill>
        <p:spPr>
          <a:xfrm>
            <a:off x="3790800" y="1600200"/>
            <a:ext cx="338400" cy="4428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 rot="2386800">
            <a:off x="3193560" y="1828800"/>
            <a:ext cx="381240" cy="838080"/>
          </a:xfrm>
          <a:prstGeom prst="upDownArrow">
            <a:avLst>
              <a:gd name="adj1" fmla="val 50000"/>
              <a:gd name="adj2" fmla="val 43762"/>
            </a:avLst>
          </a:prstGeom>
          <a:gradFill rotWithShape="0">
            <a:gsLst>
              <a:gs pos="0">
                <a:srgbClr val="b23008"/>
              </a:gs>
              <a:gs pos="100000">
                <a:srgbClr val="f9f1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81320" y="1873080"/>
            <a:ext cx="1600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De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2"/>
          <a:stretch/>
        </p:blipFill>
        <p:spPr>
          <a:xfrm>
            <a:off x="928800" y="1523880"/>
            <a:ext cx="338040" cy="44316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298440" y="190512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in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3"/>
          <a:stretch/>
        </p:blipFill>
        <p:spPr>
          <a:xfrm>
            <a:off x="928800" y="2286000"/>
            <a:ext cx="338040" cy="44280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14"/>
          <a:stretch/>
        </p:blipFill>
        <p:spPr>
          <a:xfrm>
            <a:off x="928800" y="3048120"/>
            <a:ext cx="338040" cy="4428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98440" y="265284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98440" y="3300480"/>
            <a:ext cx="16002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o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50920" y="2923920"/>
            <a:ext cx="2629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746360" y="1447920"/>
            <a:ext cx="228600" cy="2514600"/>
          </a:xfrm>
          <a:custGeom>
            <a:avLst/>
            <a:gdLst>
              <a:gd name="textAreaLeft" fmla="*/ 0 w 228600"/>
              <a:gd name="textAreaRight" fmla="*/ 8244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rot="16279800">
            <a:off x="412560" y="377136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10723800">
            <a:off x="4183920" y="5905080"/>
            <a:ext cx="1066680" cy="8384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3115200">
            <a:off x="4140000" y="125712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2300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716256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5"/>
          <a:stretch/>
        </p:blipFill>
        <p:spPr>
          <a:xfrm>
            <a:off x="4956120" y="4191120"/>
            <a:ext cx="1444680" cy="10969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 rot="3145200">
            <a:off x="6127200" y="5181120"/>
            <a:ext cx="1371600" cy="41940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288"/>
                </a:moveTo>
                <a:lnTo>
                  <a:pt x="432" y="96"/>
                </a:lnTo>
                <a:lnTo>
                  <a:pt x="384" y="240"/>
                </a:lnTo>
                <a:lnTo>
                  <a:pt x="864" y="0"/>
                </a:lnTo>
                <a:lnTo>
                  <a:pt x="336" y="384"/>
                </a:lnTo>
                <a:lnTo>
                  <a:pt x="384" y="144"/>
                </a:lnTo>
                <a:lnTo>
                  <a:pt x="0" y="288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75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6"/>
          <a:stretch/>
        </p:blipFill>
        <p:spPr>
          <a:xfrm>
            <a:off x="7238880" y="2743200"/>
            <a:ext cx="16002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"/>
          <p:cNvGrpSpPr/>
          <p:nvPr/>
        </p:nvGrpSpPr>
        <p:grpSpPr>
          <a:xfrm>
            <a:off x="3124080" y="3505320"/>
            <a:ext cx="5754600" cy="2712960"/>
            <a:chOff x="3124080" y="3505320"/>
            <a:chExt cx="5754600" cy="2712960"/>
          </a:xfrm>
        </p:grpSpPr>
        <p:pic>
          <p:nvPicPr>
            <p:cNvPr id="546" name="" descr=""/>
            <p:cNvPicPr/>
            <p:nvPr/>
          </p:nvPicPr>
          <p:blipFill>
            <a:blip r:embed="rId2"/>
            <a:stretch/>
          </p:blipFill>
          <p:spPr>
            <a:xfrm>
              <a:off x="592272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47" name=""/>
            <p:cNvGraphicFramePr/>
            <p:nvPr/>
          </p:nvGraphicFramePr>
          <p:xfrm>
            <a:off x="312408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9" name=""/>
          <p:cNvSpPr/>
          <p:nvPr/>
        </p:nvSpPr>
        <p:spPr>
          <a:xfrm>
            <a:off x="1752480" y="22860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228600" y="1562040"/>
          <a:ext cx="8591400" cy="502776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447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/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ción, revisión de conceptos, reglas del juego y conformación de equi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plan estratégico de mark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Engel, D. Kollat, R. Blackwell, Consumer Behavior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análisis de las necesidades a través de la seg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análisis del atractivo del mercado de referenc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DA y establecimiento de obje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McEwen, Construyendo diferenciación de marcas en una época de paridad de 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desarrollo para el lanzamiento de nuevos product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304920" y="1600200"/>
          <a:ext cx="8381880" cy="4533840"/>
        </p:xfrm>
        <a:graphic>
          <a:graphicData uri="http://schemas.openxmlformats.org/drawingml/2006/table">
            <a:tbl>
              <a:tblPr/>
              <a:tblGrid>
                <a:gridCol w="1371600"/>
                <a:gridCol w="1904760"/>
                <a:gridCol w="51055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ón de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R. Jack Trout, Posi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La elección de una estrategia de market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 Nunes, B. Johnson, Are some customers more equal than other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Aaker, What is a strong brand?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 Dolan, H. Simon, Price, costs and pro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Las decisiones estratégicas de comunic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6294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Plan de Marketing requiere de herramient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486080"/>
            <a:ext cx="16383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63868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5778360"/>
            <a:ext cx="2133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29680" y="4863960"/>
            <a:ext cx="124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4960" y="3835440"/>
            <a:ext cx="2209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74000" y="2548080"/>
            <a:ext cx="1638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65880" y="1646280"/>
            <a:ext cx="1384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59000" y="323856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9" idx="1"/>
          </p:cNvCxnSpPr>
          <p:nvPr/>
        </p:nvCxnSpPr>
        <p:spPr>
          <a:xfrm flipV="1" rot="10800000">
            <a:off x="5562000" y="2103840"/>
            <a:ext cx="1702440" cy="103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11" idx="1"/>
          </p:cNvCxnSpPr>
          <p:nvPr/>
        </p:nvCxnSpPr>
        <p:spPr>
          <a:xfrm flipV="1" rot="10800000">
            <a:off x="5495040" y="3539160"/>
            <a:ext cx="1617120" cy="146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13" idx="1"/>
          </p:cNvCxnSpPr>
          <p:nvPr/>
        </p:nvCxnSpPr>
        <p:spPr>
          <a:xfrm rot="10800000">
            <a:off x="5639760" y="4473000"/>
            <a:ext cx="1853280" cy="62928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 flipV="1" rot="5400000">
            <a:off x="4187520" y="4830120"/>
            <a:ext cx="453240" cy="199080"/>
          </a:xfrm>
          <a:prstGeom prst="bentConnector3">
            <a:avLst>
              <a:gd name="adj1" fmla="val 4976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"/>
          <p:cNvCxnSpPr/>
          <p:nvPr/>
        </p:nvCxnSpPr>
        <p:spPr>
          <a:xfrm rot="5400000">
            <a:off x="3821040" y="2291400"/>
            <a:ext cx="667440" cy="6310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" name=""/>
          <p:cNvCxnSpPr/>
          <p:nvPr/>
        </p:nvCxnSpPr>
        <p:spPr>
          <a:xfrm>
            <a:off x="1525320" y="2312640"/>
            <a:ext cx="1740600" cy="740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8" idx="3"/>
          </p:cNvCxnSpPr>
          <p:nvPr/>
        </p:nvCxnSpPr>
        <p:spPr>
          <a:xfrm>
            <a:off x="1574640" y="4020840"/>
            <a:ext cx="1728000" cy="32436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 flipV="1">
            <a:off x="1642680" y="4568040"/>
            <a:ext cx="166140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5720" y="1765440"/>
            <a:ext cx="92556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301920" y="5181480"/>
            <a:ext cx="1676520" cy="7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493040" y="4648320"/>
            <a:ext cx="114948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264440" y="1676520"/>
            <a:ext cx="1066680" cy="8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112160" y="3117960"/>
            <a:ext cx="1238040" cy="84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35040" y="4952880"/>
            <a:ext cx="1003320" cy="8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911760" y="1447920"/>
            <a:ext cx="1143000" cy="81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558720" y="3657600"/>
            <a:ext cx="1015920" cy="72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854680" y="5524560"/>
            <a:ext cx="844560" cy="8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978440" y="46483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66040" y="6045120"/>
            <a:ext cx="19047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73520" y="2870280"/>
            <a:ext cx="2594520" cy="1914120"/>
            <a:chOff x="2873520" y="2870280"/>
            <a:chExt cx="2594520" cy="1914120"/>
          </a:xfrm>
        </p:grpSpPr>
        <p:graphicFrame>
          <p:nvGraphicFramePr>
            <p:cNvPr id="132" name=""/>
            <p:cNvGraphicFramePr/>
            <p:nvPr/>
          </p:nvGraphicFramePr>
          <p:xfrm>
            <a:off x="3277440" y="2870280"/>
            <a:ext cx="2190600" cy="1628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7440" y="2870280"/>
                      <a:ext cx="2190600" cy="162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2873520" y="4503240"/>
              <a:ext cx="921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60"/>
                  <a:tab algn="l" pos="291960"/>
                  <a:tab algn="l" pos="438120"/>
                  <a:tab algn="l" pos="584280"/>
                  <a:tab algn="l" pos="730080"/>
                  <a:tab algn="l" pos="876240"/>
                  <a:tab algn="l" pos="1022400"/>
                  <a:tab algn="l" pos="1168560"/>
                  <a:tab algn="l" pos="1314360"/>
                  <a:tab algn="l" pos="1460520"/>
                  <a:tab algn="l" pos="1606680"/>
                  <a:tab algn="l" pos="1752480"/>
                  <a:tab algn="l" pos="1898640"/>
                  <a:tab algn="l" pos="2044800"/>
                  <a:tab algn="l" pos="2190600"/>
                  <a:tab algn="l" pos="2336760"/>
                  <a:tab algn="l" pos="2482920"/>
                  <a:tab algn="l" pos="2629080"/>
                  <a:tab algn="l" pos="2774880"/>
                  <a:tab algn="l" pos="2921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3048120" y="3505320"/>
            <a:ext cx="5754600" cy="2712960"/>
            <a:chOff x="3048120" y="3505320"/>
            <a:chExt cx="5754600" cy="2712960"/>
          </a:xfrm>
        </p:grpSpPr>
        <p:pic>
          <p:nvPicPr>
            <p:cNvPr id="558" name="" descr=""/>
            <p:cNvPicPr/>
            <p:nvPr/>
          </p:nvPicPr>
          <p:blipFill>
            <a:blip r:embed="rId2"/>
            <a:stretch/>
          </p:blipFill>
          <p:spPr>
            <a:xfrm>
              <a:off x="584676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59" name=""/>
            <p:cNvGraphicFramePr/>
            <p:nvPr/>
          </p:nvGraphicFramePr>
          <p:xfrm>
            <a:off x="304812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1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s: asistencia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rán en equipos desarrollando un plan de marketing para una empres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integrante del equipo con acceso a información de la empres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xim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y cada uno de ellos con al menos 3 integrantes y máximo 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735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mat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do clase a clase será el informe final (impreso y anil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onsideraciones realizadas durante su presentación deberán ser incorporadas al informe parcial que se entregará la semana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algún equipo quiere presentar un informe escrito diferente del exhibido clase a clase, podrá hacerlo, pero no recibirá crédito extra por 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879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xpositores se posicionarán como consultores de la empresa que les solicitó el plan de marketing. El resto de la clase, como su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ibertad para elegir una estructura para el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un equipo de aprox. tres personas expondrá un caso relevante de marketing, de la actualidad nacional o internacional para discusión en clases. A más tardar el día lunes de esa semana, el enunciado del caso deberá ser expuesto en el foro de U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cero al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2971800" y="3505320"/>
            <a:ext cx="5754600" cy="2712960"/>
            <a:chOff x="2971800" y="3505320"/>
            <a:chExt cx="5754600" cy="271296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577044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9" name=""/>
            <p:cNvGraphicFramePr/>
            <p:nvPr/>
          </p:nvGraphicFramePr>
          <p:xfrm>
            <a:off x="297180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180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81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346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ota final será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álculo ponderado entre: Nota de concepto (20%), CTP’s (15%), Acción de Marketing (15%) y Examen (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ta de examen contempla el trabajo final entregado y su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probar es requisito tener nota superior a 4.0 en todos los item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artir de la segunda clase se realizarán controles de lectura. La nota final se calculará en base a las 5 mejores 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6797520" y="3933720"/>
            <a:ext cx="18957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evaluación nota de concep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ción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e un caso de la realidad nacional 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llegar a alguna concl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mplimiento de reg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escuchar y a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nalizar la crítica (constructiva) de manera pos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unicar las ideas relevantes de manera clara y directa, en el tiempo definido (capacidad de sínt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derazgo (dentro de su equipo y frente a sus compañ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buscar y aplicar ayuda (externa e inte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ortamiento adecuado a un clima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s exposiciones, no aburrir a la asamb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idáctica en 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7308720" y="4292640"/>
            <a:ext cx="213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0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3048120" y="3429000"/>
            <a:ext cx="5754600" cy="2712960"/>
            <a:chOff x="3048120" y="3429000"/>
            <a:chExt cx="5754600" cy="2712960"/>
          </a:xfrm>
        </p:grpSpPr>
        <p:pic>
          <p:nvPicPr>
            <p:cNvPr id="592" name="" descr=""/>
            <p:cNvPicPr/>
            <p:nvPr/>
          </p:nvPicPr>
          <p:blipFill>
            <a:blip r:embed="rId2"/>
            <a:stretch/>
          </p:blipFill>
          <p:spPr>
            <a:xfrm>
              <a:off x="5846760" y="37735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93" name=""/>
            <p:cNvGraphicFramePr/>
            <p:nvPr/>
          </p:nvGraphicFramePr>
          <p:xfrm>
            <a:off x="3048120" y="34290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4290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095640" cy="357336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ción de las clases de cáted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8:30 – 08:45 Control de le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:45 – 09:50 Discusión acció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:50 – 10:15 Presentación Equip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15 – 10:30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30 – 10:55 Presentación Equip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55 – 11:20 Presentación Equip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20 – 11:45 Presentación Equip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3048120" y="3657600"/>
            <a:ext cx="5754600" cy="2712960"/>
            <a:chOff x="3048120" y="3657600"/>
            <a:chExt cx="5754600" cy="2712960"/>
          </a:xfrm>
        </p:grpSpPr>
        <p:pic>
          <p:nvPicPr>
            <p:cNvPr id="603" name="" descr=""/>
            <p:cNvPicPr/>
            <p:nvPr/>
          </p:nvPicPr>
          <p:blipFill>
            <a:blip r:embed="rId2"/>
            <a:stretch/>
          </p:blipFill>
          <p:spPr>
            <a:xfrm>
              <a:off x="58467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04" name=""/>
            <p:cNvGraphicFramePr/>
            <p:nvPr/>
          </p:nvGraphicFramePr>
          <p:xfrm>
            <a:off x="30481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6" name=""/>
          <p:cNvSpPr/>
          <p:nvPr/>
        </p:nvSpPr>
        <p:spPr>
          <a:xfrm>
            <a:off x="1752480" y="2209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859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yan adecuadamente el tiempo de pres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lidad 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fica: contenido, forma, y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fíen en la intuición sol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produzcan debe ser v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en desde el prin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carta Gantt hagan previsiones de preparación del material para la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imagen vale por mil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6732720" y="4797360"/>
            <a:ext cx="21319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614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15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7" name=""/>
          <p:cNvSpPr/>
          <p:nvPr/>
        </p:nvSpPr>
        <p:spPr>
          <a:xfrm>
            <a:off x="14479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al de este curso habrán sido capaces d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arrollar un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render a analizar accion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5778360" y="4076640"/>
            <a:ext cx="3365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625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26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8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124080" y="3276720"/>
            <a:ext cx="5754600" cy="2712960"/>
            <a:chOff x="3124080" y="3276720"/>
            <a:chExt cx="5754600" cy="271296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922720" y="36212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0" name=""/>
            <p:cNvGraphicFramePr/>
            <p:nvPr/>
          </p:nvGraphicFramePr>
          <p:xfrm>
            <a:off x="3124080" y="32767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2767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"/>
          <p:cNvSpPr/>
          <p:nvPr/>
        </p:nvSpPr>
        <p:spPr>
          <a:xfrm>
            <a:off x="1676520" y="21337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2666880" y="2057400"/>
          <a:ext cx="3984840" cy="454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057400"/>
                    <a:ext cx="398484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"/>
          <p:cNvSpPr/>
          <p:nvPr/>
        </p:nvSpPr>
        <p:spPr>
          <a:xfrm>
            <a:off x="2415960" y="175248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844960" y="182880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16160" y="121932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324480" cy="10321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440" bIns="28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–10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6b61"/>
                </a:solidFill>
                <a:latin typeface="Arial"/>
              </a:rPr>
              <a:t>ANALYSE AND IDENTIFY MARK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14920" y="4941720"/>
            <a:ext cx="35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981080" y="1893960"/>
            <a:ext cx="4724280" cy="4257720"/>
            <a:chOff x="1981080" y="1893960"/>
            <a:chExt cx="4724280" cy="4257720"/>
          </a:xfrm>
        </p:grpSpPr>
        <p:sp>
          <p:nvSpPr>
            <p:cNvPr id="638" name=""/>
            <p:cNvSpPr/>
            <p:nvPr/>
          </p:nvSpPr>
          <p:spPr>
            <a:xfrm>
              <a:off x="2317320" y="5971680"/>
              <a:ext cx="4388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82240" y="2104200"/>
              <a:ext cx="105336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81080" y="1893960"/>
              <a:ext cx="4395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0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85480" y="2114280"/>
              <a:ext cx="10382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State requirements and preferen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254840" y="5494680"/>
              <a:ext cx="4377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119400" y="5494680"/>
              <a:ext cx="4377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91520" y="5494680"/>
              <a:ext cx="4377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0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17680" y="2104200"/>
              <a:ext cx="105516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363560" y="2104200"/>
              <a:ext cx="105480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90160" y="5708160"/>
              <a:ext cx="105480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17680" y="5727240"/>
              <a:ext cx="105516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56000" y="5708160"/>
              <a:ext cx="105480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54040" y="2114280"/>
              <a:ext cx="9698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spond to current marketing m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16160" y="1893960"/>
              <a:ext cx="4377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98840" y="2114280"/>
              <a:ext cx="9741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spond to current marketing m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40800" y="1893960"/>
              <a:ext cx="4363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132640" y="5785200"/>
              <a:ext cx="95904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Analyse total mark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258720" y="5735160"/>
              <a:ext cx="9626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termine Shell-preferred segment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7360" y="5716440"/>
              <a:ext cx="10605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termine customer opportuniti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82880" y="43448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01320" y="4344840"/>
              <a:ext cx="58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stablish dimens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14640" y="4444200"/>
              <a:ext cx="42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f total mark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82880" y="4570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18600" y="4570920"/>
              <a:ext cx="36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dentify ke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07800" y="4672080"/>
              <a:ext cx="41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12480" y="4773600"/>
              <a:ext cx="315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982880" y="4900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11040" y="4900320"/>
              <a:ext cx="547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 optimu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107800" y="5001480"/>
              <a:ext cx="41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112480" y="510408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82880" y="5231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08520" y="5231160"/>
              <a:ext cx="51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 curr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00960" y="5332680"/>
              <a:ext cx="490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ize of seg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15080" y="2801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38920" y="2801520"/>
              <a:ext cx="541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valuate market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240720" y="2902680"/>
              <a:ext cx="46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ix by 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115080" y="3029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9640" y="3029400"/>
              <a:ext cx="55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valuate competi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236040" y="3130560"/>
              <a:ext cx="47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rket share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41800" y="323316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115080" y="33598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246120" y="3359880"/>
              <a:ext cx="34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234960" y="3461400"/>
              <a:ext cx="586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petitive strength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24520" y="356256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weaknesses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241800" y="366372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15080" y="3790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238200" y="3790440"/>
              <a:ext cx="47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recast grow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39640" y="389160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spec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15080" y="4018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39640" y="4018320"/>
              <a:ext cx="510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 mark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235680" y="4119840"/>
              <a:ext cx="573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otential by 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115080" y="4246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47920" y="4246920"/>
              <a:ext cx="541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dentify competitiv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45760" y="4347720"/>
              <a:ext cx="25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end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15080" y="44748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31000" y="4474800"/>
              <a:ext cx="57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valuate threat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45400" y="4577400"/>
              <a:ext cx="39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portunit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115080" y="4702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38560" y="4702680"/>
              <a:ext cx="361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ynthesi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43600" y="480564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petitive posi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42520" y="4906800"/>
              <a:ext cx="36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mark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34600" y="5009400"/>
              <a:ext cx="49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ttractiveness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41800" y="511056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115080" y="52358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38560" y="5235840"/>
              <a:ext cx="46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lect preferr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38920" y="5338800"/>
              <a:ext cx="33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50520" y="45982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380120" y="4598280"/>
              <a:ext cx="34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378320" y="4699440"/>
              <a:ext cx="45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portunities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361040" y="4802400"/>
              <a:ext cx="516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rease busines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382280" y="4903560"/>
              <a:ext cx="397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rom exist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73640" y="5004720"/>
              <a:ext cx="347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250520" y="5133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380120" y="5133240"/>
              <a:ext cx="34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375080" y="5232600"/>
              <a:ext cx="56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portunities to g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69320" y="5335560"/>
              <a:ext cx="452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ew custom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1752480" y="1836720"/>
            <a:ext cx="5257800" cy="4716360"/>
          </a:xfrm>
          <a:prstGeom prst="rect">
            <a:avLst/>
          </a:prstGeom>
          <a:noFill/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400800" cy="10321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440" bIns="28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–12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6b61"/>
                </a:solidFill>
                <a:latin typeface="Arial"/>
              </a:rPr>
              <a:t>DEVELOP MARKETING APPRO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576680" y="2111400"/>
            <a:ext cx="28260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r>
              <a:rPr b="0" i="1" lang="es-ES" sz="500" spc="-1" strike="noStrike">
                <a:solidFill>
                  <a:srgbClr val="000000"/>
                </a:solidFill>
                <a:latin typeface="Arial"/>
              </a:rPr>
              <a:t>C1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38680" y="2117880"/>
            <a:ext cx="28260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r>
              <a:rPr b="0" i="1" lang="es-ES" sz="500" spc="-1" strike="noStrike">
                <a:solidFill>
                  <a:srgbClr val="000000"/>
                </a:solidFill>
                <a:latin typeface="Arial"/>
              </a:rPr>
              <a:t>C05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514600" y="1914480"/>
            <a:ext cx="4724280" cy="4173840"/>
            <a:chOff x="2514600" y="1914480"/>
            <a:chExt cx="4724280" cy="4173840"/>
          </a:xfrm>
        </p:grpSpPr>
        <p:sp>
          <p:nvSpPr>
            <p:cNvPr id="719" name=""/>
            <p:cNvSpPr/>
            <p:nvPr/>
          </p:nvSpPr>
          <p:spPr>
            <a:xfrm>
              <a:off x="2514600" y="5930280"/>
              <a:ext cx="4724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66840" y="5413680"/>
              <a:ext cx="3621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0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99240" y="5413680"/>
              <a:ext cx="3607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41720" y="5663880"/>
              <a:ext cx="86580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041720" y="1914480"/>
              <a:ext cx="86580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987800" y="5663880"/>
              <a:ext cx="86472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995360" y="1914480"/>
              <a:ext cx="86580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22720" y="1920960"/>
              <a:ext cx="8035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act to marketing infra-structure plan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41720" y="1920960"/>
              <a:ext cx="8571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spond to proposed marketing m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34160" y="5670360"/>
              <a:ext cx="8737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velop marketing proposi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978080" y="5670360"/>
              <a:ext cx="87480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velop marketing infrastructu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965760" y="26528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075920" y="265608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stabli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08840" y="2656080"/>
              <a:ext cx="37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 cost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076640" y="2759760"/>
              <a:ext cx="292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rgi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65760" y="2887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062600" y="2887920"/>
              <a:ext cx="42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ssess br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072680" y="2991600"/>
              <a:ext cx="39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965760" y="31215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070160" y="3121560"/>
              <a:ext cx="55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promo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965760" y="3251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066560" y="3252960"/>
              <a:ext cx="42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71960" y="3356640"/>
              <a:ext cx="47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upport materi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65760" y="3485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76640" y="3485160"/>
              <a:ext cx="45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pric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068360" y="3588840"/>
              <a:ext cx="341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chedu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965760" y="3718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062600" y="3718440"/>
              <a:ext cx="601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card strateg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073400" y="3822120"/>
              <a:ext cx="32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ru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65760" y="3952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60800" y="395388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associat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065840" y="4057200"/>
              <a:ext cx="601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/brand suppor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71240" y="4160880"/>
              <a:ext cx="30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965760" y="4287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069080" y="4287600"/>
              <a:ext cx="46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fine standar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065480" y="4391280"/>
              <a:ext cx="574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rms and condi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078080" y="4497840"/>
              <a:ext cx="283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f trad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65760" y="4626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64760" y="4626360"/>
              <a:ext cx="56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ate and maint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072320" y="4733280"/>
              <a:ext cx="41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-acquir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71240" y="4836960"/>
              <a:ext cx="35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84200" y="493884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168440" y="4938840"/>
              <a:ext cx="25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ON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965760" y="5068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066920" y="5068440"/>
              <a:ext cx="547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nsure third part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64400" y="517212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understand br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074480" y="5277240"/>
              <a:ext cx="38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posi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01400" y="4601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97520" y="4601520"/>
              <a:ext cx="47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 sales-for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06880" y="47052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901400" y="4835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09040" y="4836960"/>
              <a:ext cx="349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 outl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09040" y="4938840"/>
              <a:ext cx="522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etwork/distribu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999320" y="5043960"/>
              <a:ext cx="42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rrange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901400" y="5172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007600" y="517212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distribu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011560" y="527724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2286000" y="1523880"/>
            <a:ext cx="5486400" cy="4876920"/>
          </a:xfrm>
          <a:prstGeom prst="rect">
            <a:avLst/>
          </a:prstGeom>
          <a:noFill/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20920" y="46080"/>
            <a:ext cx="4698720" cy="209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440" bIns="28440" anchor="t">
            <a:noAutofit/>
          </a:bodyPr>
          <a:p>
            <a:pPr marL="857160" indent="0">
              <a:lnSpc>
                <a:spcPct val="10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–35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6b61"/>
                </a:solidFill>
                <a:latin typeface="Arial"/>
              </a:rPr>
              <a:t>SELL TO CUSTOM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460520" y="357120"/>
            <a:ext cx="505764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463760" y="6738840"/>
            <a:ext cx="504504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472080" y="6738840"/>
            <a:ext cx="125100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564240" y="361800"/>
            <a:ext cx="115092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471680" y="347760"/>
            <a:ext cx="0" cy="637524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1488960" y="382680"/>
            <a:ext cx="6225840" cy="6305400"/>
            <a:chOff x="1488960" y="382680"/>
            <a:chExt cx="6225840" cy="6305400"/>
          </a:xfrm>
        </p:grpSpPr>
        <p:sp>
          <p:nvSpPr>
            <p:cNvPr id="784" name=""/>
            <p:cNvSpPr/>
            <p:nvPr/>
          </p:nvSpPr>
          <p:spPr>
            <a:xfrm>
              <a:off x="4870080" y="6031080"/>
              <a:ext cx="680040" cy="424440"/>
            </a:xfrm>
            <a:prstGeom prst="roundRect">
              <a:avLst>
                <a:gd name="adj" fmla="val 49995"/>
              </a:avLst>
            </a:prstGeom>
            <a:solidFill>
              <a:srgbClr val="ff87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5" name=""/>
            <p:cNvGraphicFramePr/>
            <p:nvPr/>
          </p:nvGraphicFramePr>
          <p:xfrm>
            <a:off x="4860360" y="6389640"/>
            <a:ext cx="632880" cy="298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60360" y="6389640"/>
                      <a:ext cx="63288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7" name=""/>
            <p:cNvSpPr/>
            <p:nvPr/>
          </p:nvSpPr>
          <p:spPr>
            <a:xfrm>
              <a:off x="4656960" y="4084560"/>
              <a:ext cx="1090080" cy="1681560"/>
            </a:xfrm>
            <a:custGeom>
              <a:avLst/>
              <a:gdLst/>
              <a:ahLst/>
              <a:rect l="l" t="t" r="r" b="b"/>
              <a:pathLst>
                <a:path w="1116" h="1589">
                  <a:moveTo>
                    <a:pt x="0" y="0"/>
                  </a:moveTo>
                  <a:lnTo>
                    <a:pt x="165" y="0"/>
                  </a:lnTo>
                  <a:lnTo>
                    <a:pt x="165" y="1582"/>
                  </a:lnTo>
                  <a:lnTo>
                    <a:pt x="931" y="1588"/>
                  </a:lnTo>
                  <a:lnTo>
                    <a:pt x="931" y="0"/>
                  </a:lnTo>
                  <a:lnTo>
                    <a:pt x="1115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842000" y="5580000"/>
              <a:ext cx="69840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99680" y="3516120"/>
              <a:ext cx="299880" cy="441360"/>
            </a:xfrm>
            <a:custGeom>
              <a:avLst/>
              <a:gdLst/>
              <a:ahLst/>
              <a:rect l="l" t="t" r="r" b="b"/>
              <a:pathLst>
                <a:path w="307" h="417">
                  <a:moveTo>
                    <a:pt x="0" y="0"/>
                  </a:moveTo>
                  <a:lnTo>
                    <a:pt x="123" y="0"/>
                  </a:lnTo>
                  <a:lnTo>
                    <a:pt x="123" y="416"/>
                  </a:lnTo>
                  <a:lnTo>
                    <a:pt x="306" y="416"/>
                  </a:lnTo>
                  <a:lnTo>
                    <a:pt x="210" y="416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43920" y="3951000"/>
              <a:ext cx="4070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369600" y="37630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89600" y="37630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608800" y="37630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857480" y="33278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087440" y="334260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609880" y="33278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369600" y="33278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99560" y="377136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488960" y="3524760"/>
              <a:ext cx="1204560" cy="420120"/>
            </a:xfrm>
            <a:custGeom>
              <a:avLst/>
              <a:gdLst/>
              <a:ahLst/>
              <a:rect l="l" t="t" r="r" b="b"/>
              <a:pathLst>
                <a:path w="1233" h="397">
                  <a:moveTo>
                    <a:pt x="0" y="396"/>
                  </a:moveTo>
                  <a:lnTo>
                    <a:pt x="1087" y="396"/>
                  </a:lnTo>
                  <a:lnTo>
                    <a:pt x="1087" y="0"/>
                  </a:lnTo>
                  <a:lnTo>
                    <a:pt x="1232" y="0"/>
                  </a:lnTo>
                  <a:lnTo>
                    <a:pt x="1224" y="3"/>
                  </a:lnTo>
                  <a:lnTo>
                    <a:pt x="1204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833840" y="377136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06400" y="33332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61276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86432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08456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5412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58696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790880" y="321156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547960" y="3196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513520" y="32072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286440" y="32072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018320" y="32072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762560" y="4150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0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509560" y="4150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295440" y="4150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041720" y="4150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551920" y="416196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94480" y="6405480"/>
              <a:ext cx="2286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P2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00600" y="545292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32840" y="3837960"/>
              <a:ext cx="4741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lan s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05400" y="3837960"/>
              <a:ext cx="4604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chedu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426480" y="3783960"/>
              <a:ext cx="55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Imple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/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115520" y="3829320"/>
              <a:ext cx="62028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ake 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generate ord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654640" y="3354120"/>
              <a:ext cx="576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Find potenti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customers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437280" y="3357720"/>
              <a:ext cx="55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Negoti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/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887720" y="3357720"/>
              <a:ext cx="6051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mote s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and 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ffering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144320" y="3363840"/>
              <a:ext cx="55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Identif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/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pportuniti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43720" y="3349080"/>
              <a:ext cx="6051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mote s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and 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ffering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626080" y="3875040"/>
              <a:ext cx="63864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vide 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27680" y="5646600"/>
              <a:ext cx="5198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ispense a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utl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644920" y="1748880"/>
              <a:ext cx="5641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Indic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30440" y="1792440"/>
              <a:ext cx="53352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Agree term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109040" y="1748880"/>
              <a:ext cx="6494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Advise stoc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and place ord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914360" y="1756440"/>
              <a:ext cx="57168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Take deliver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from outl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52080" y="1745640"/>
              <a:ext cx="3963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77720" y="6051960"/>
              <a:ext cx="4572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ispen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duct a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utl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780200" y="424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886760" y="4242240"/>
              <a:ext cx="60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view sales forecas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888200" y="4308840"/>
              <a:ext cx="594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(volume and price)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866960" y="4375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51200" y="4375800"/>
              <a:ext cx="49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 (group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866960" y="4443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940760" y="4443480"/>
              <a:ext cx="28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866960" y="45100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941120" y="4510080"/>
              <a:ext cx="285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rrito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80200" y="4593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67680" y="4593600"/>
              <a:ext cx="175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945440" y="4593600"/>
              <a:ext cx="46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imate expect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870920" y="4660200"/>
              <a:ext cx="23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780200" y="4743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885680" y="4743720"/>
              <a:ext cx="55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epare opera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875600" y="4810680"/>
              <a:ext cx="33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ales pla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80200" y="48942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878480" y="4894200"/>
              <a:ext cx="43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 individ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878840" y="4960800"/>
              <a:ext cx="394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867680" y="502884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936800" y="5028840"/>
              <a:ext cx="224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PIP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780200" y="51112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876320" y="5111280"/>
              <a:ext cx="36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 use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877040" y="517896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876320" y="5245560"/>
              <a:ext cx="356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867680" y="531216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937520" y="5312160"/>
              <a:ext cx="22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PIT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523600" y="424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620080" y="4242240"/>
              <a:ext cx="37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just 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619000" y="4308840"/>
              <a:ext cx="341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chedu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523600" y="4392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616480" y="4392360"/>
              <a:ext cx="28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625480" y="4459320"/>
              <a:ext cx="46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utlet/distribu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626560" y="4525920"/>
              <a:ext cx="515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petitive 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288600" y="424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94080" y="4242240"/>
              <a:ext cx="56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ate and maint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391560" y="4308840"/>
              <a:ext cx="496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ales agreement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382200" y="43758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375360" y="4443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55280" y="4443480"/>
              <a:ext cx="41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fic 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48080" y="451008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376080" y="457668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48440" y="4576680"/>
              <a:ext cx="25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ON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288600" y="4644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390120" y="464436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intain resell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95160" y="4711320"/>
              <a:ext cx="574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ment, 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375360" y="4777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59600" y="4777560"/>
              <a:ext cx="49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fic terms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59600" y="4845600"/>
              <a:ext cx="483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accept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75360" y="49122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56000" y="4912200"/>
              <a:ext cx="40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e suppor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52400" y="4979880"/>
              <a:ext cx="33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376080" y="504684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48440" y="5046840"/>
              <a:ext cx="25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ON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88600" y="5113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394080" y="5113080"/>
              <a:ext cx="56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ate and maint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387240" y="518112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-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395160" y="5247720"/>
              <a:ext cx="574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ment, 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75360" y="53143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59600" y="5314320"/>
              <a:ext cx="49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fic terms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49880" y="5382000"/>
              <a:ext cx="28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ac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627720" y="5382000"/>
              <a:ext cx="237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376080" y="544860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48440" y="5448600"/>
              <a:ext cx="25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ON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288600" y="55324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390120" y="553248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t up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81840" y="559908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288600" y="5682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395880" y="5682600"/>
              <a:ext cx="59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e and maint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379680" y="5749560"/>
              <a:ext cx="239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375360" y="5815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60320" y="5815800"/>
              <a:ext cx="50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ssue card(s)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53480" y="5883840"/>
              <a:ext cx="373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IN mail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375360" y="59504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52760" y="5950440"/>
              <a:ext cx="35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tolen/lost/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58160" y="6018120"/>
              <a:ext cx="45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amaged card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375360" y="6084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59960" y="6084720"/>
              <a:ext cx="502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rgotton PIN no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288600" y="6168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390480" y="6168600"/>
              <a:ext cx="51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HSE dat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288600" y="62510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92280" y="6251040"/>
              <a:ext cx="538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ssess contract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388320" y="6318720"/>
              <a:ext cx="41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isk (hedging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006800" y="424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109400" y="4242240"/>
              <a:ext cx="501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automatic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109400" y="430884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rder gener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06800" y="4392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111920" y="4392360"/>
              <a:ext cx="55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eive sales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006800" y="4475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105080" y="4475160"/>
              <a:ext cx="39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ept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093560" y="45428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177080" y="4542840"/>
              <a:ext cx="498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agre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093560" y="46094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178520" y="4609440"/>
              <a:ext cx="53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credit 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68440" y="4677480"/>
              <a:ext cx="32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limi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093560" y="4743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75640" y="4743720"/>
              <a:ext cx="490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availabilit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093560" y="48106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176720" y="4810680"/>
              <a:ext cx="501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distribu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170600" y="4878360"/>
              <a:ext cx="358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strai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093560" y="49449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176720" y="4944960"/>
              <a:ext cx="501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destin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93560" y="5011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177440" y="5011560"/>
              <a:ext cx="516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mit to deliv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93560" y="50792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175280" y="5079240"/>
              <a:ext cx="444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 adv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168080" y="514620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93560" y="5212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175280" y="5212800"/>
              <a:ext cx="44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uthorise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06800" y="5296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109760" y="529632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quest adv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100760" y="536292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06800" y="5446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112280" y="5446440"/>
              <a:ext cx="55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order 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97880" y="551340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06800" y="5596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111560" y="5596920"/>
              <a:ext cx="53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price 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06800" y="5680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105440" y="568044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104360" y="5747400"/>
              <a:ext cx="37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mend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06800" y="5830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110840" y="5830920"/>
              <a:ext cx="52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ake action to fulfi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98240" y="5897520"/>
              <a:ext cx="231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93560" y="59652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165560" y="5965200"/>
              <a:ext cx="248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uy 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93560" y="6031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164840" y="6031800"/>
              <a:ext cx="237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k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93560" y="60987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168800" y="6098760"/>
              <a:ext cx="31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stribu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30440" y="21117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639880" y="2111760"/>
              <a:ext cx="600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arget customer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635920" y="2178360"/>
              <a:ext cx="530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nd out sales inf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30440" y="226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637360" y="2262240"/>
              <a:ext cx="576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llow up contacts &amp;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635920" y="2328840"/>
              <a:ext cx="53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ind customers, inc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618280" y="23965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699280" y="2396520"/>
              <a:ext cx="448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isit custom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18280" y="24717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703600" y="2471760"/>
              <a:ext cx="53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alogue market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618280" y="25426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04680" y="2542680"/>
              <a:ext cx="56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ading opportunit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30440" y="2613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37000" y="2613600"/>
              <a:ext cx="568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valuate customers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625120" y="26802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618280" y="27478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703960" y="2747880"/>
              <a:ext cx="53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understanding thei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704680" y="2814480"/>
              <a:ext cx="553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quirements/profi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0440" y="2898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633760" y="2898360"/>
              <a:ext cx="49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626200" y="2964960"/>
              <a:ext cx="31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nquir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30440" y="30484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636280" y="3048480"/>
              <a:ext cx="545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ack contacts wi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26200" y="3115080"/>
              <a:ext cx="321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294360" y="2280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400920" y="2280240"/>
              <a:ext cx="55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Understand detail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401280" y="234792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 and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394440" y="241452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94360" y="24980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397320" y="2498040"/>
              <a:ext cx="480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egotiate terms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395160" y="2565000"/>
              <a:ext cx="43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dition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94080" y="2631600"/>
              <a:ext cx="41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 level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294360" y="2715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395880" y="2715120"/>
              <a:ext cx="44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xplore furth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394440" y="2781720"/>
              <a:ext cx="41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portunities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389400" y="28494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382200" y="29163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65720" y="2916360"/>
              <a:ext cx="515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uggest addi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57080" y="2982960"/>
              <a:ext cx="307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82200" y="3049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65360" y="3049560"/>
              <a:ext cx="502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vise on volum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464640" y="3117240"/>
              <a:ext cx="32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scou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12560" y="2432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115160" y="2432520"/>
              <a:ext cx="490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ek new ord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114440" y="2500200"/>
              <a:ext cx="46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(proactive)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99320" y="2567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173840" y="2567160"/>
              <a:ext cx="31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le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12560" y="2650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120200" y="2650680"/>
              <a:ext cx="601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ncourage custom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20200" y="2717280"/>
              <a:ext cx="601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o consider expan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120560" y="2783880"/>
              <a:ext cx="59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rders (reactive)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99320" y="2850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182480" y="285048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re or differ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173120" y="2918520"/>
              <a:ext cx="28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99320" y="29847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182840" y="298476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al promo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99320" y="3051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177080" y="3051720"/>
              <a:ext cx="506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ffer special 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179240" y="3119400"/>
              <a:ext cx="347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r volum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532240" y="157104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55120" y="157104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993840" y="157104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2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26480" y="874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633040" y="874440"/>
              <a:ext cx="55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quest 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626200" y="94140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rom suppli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526480" y="1024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632680" y="1024920"/>
              <a:ext cx="56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ceive and asses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629440" y="1091520"/>
              <a:ext cx="472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information fro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620800" y="1159560"/>
              <a:ext cx="289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26480" y="12420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31960" y="1242000"/>
              <a:ext cx="55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Handle contact wi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620800" y="1309680"/>
              <a:ext cx="289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526480" y="1392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33400" y="139212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isengage or agre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626560" y="145980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urther ac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69880" y="522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371040" y="522360"/>
              <a:ext cx="457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cide detail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369600" y="58896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269880" y="6724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84360" y="668520"/>
              <a:ext cx="59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termine acceptab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62040" y="73908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9880" y="822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374640" y="822600"/>
              <a:ext cx="51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Negotiate contra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62040" y="88956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357720" y="956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434400" y="956160"/>
              <a:ext cx="336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tandard 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670560" y="956160"/>
              <a:ext cx="22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438000" y="1023840"/>
              <a:ext cx="43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nd condi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357720" y="10904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428640" y="1090440"/>
              <a:ext cx="224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357720" y="11574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431520" y="1157400"/>
              <a:ext cx="28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357720" y="12250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432240" y="1225080"/>
              <a:ext cx="30636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69880" y="1307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75360" y="1389960"/>
              <a:ext cx="530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uthorise 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63840" y="1457640"/>
              <a:ext cx="28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metho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008600" y="10047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111200" y="1004760"/>
              <a:ext cx="50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dvise supplier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104000" y="1072440"/>
              <a:ext cx="35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tock leve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008600" y="1155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109040" y="1155240"/>
              <a:ext cx="44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lace order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109400" y="1222920"/>
              <a:ext cx="455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roduct/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08600" y="1305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113360" y="1305360"/>
              <a:ext cx="538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ase order 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008600" y="1389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105800" y="1389240"/>
              <a:ext cx="375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Query 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008600" y="14727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108320" y="1472760"/>
              <a:ext cx="41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ange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794120" y="382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898520" y="382680"/>
              <a:ext cx="52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cide acceptab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887720" y="449280"/>
              <a:ext cx="28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794120" y="525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894920" y="525240"/>
              <a:ext cx="43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889520" y="592200"/>
              <a:ext cx="34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vailabilit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794120" y="675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892040" y="675720"/>
              <a:ext cx="38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798080" y="759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899600" y="759240"/>
              <a:ext cx="545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cide to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798080" y="8420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888440" y="842040"/>
              <a:ext cx="309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elect 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101920" y="842040"/>
              <a:ext cx="361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in 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890600" y="90972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or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794120" y="993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896360" y="993240"/>
              <a:ext cx="49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elect subsidia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890960" y="1059840"/>
              <a:ext cx="51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roduct or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794120" y="1143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888080" y="1143720"/>
              <a:ext cx="39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Use facilit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794120" y="12258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893480" y="1225800"/>
              <a:ext cx="49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ay for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798080" y="1309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894200" y="1309680"/>
              <a:ext cx="433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ccept receip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543280" y="10155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647320" y="1015560"/>
              <a:ext cx="522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repare to receiv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635800" y="1082160"/>
              <a:ext cx="276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543280" y="1165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644440" y="1165680"/>
              <a:ext cx="47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ceive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543280" y="1248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648760" y="1248120"/>
              <a:ext cx="55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onfirm that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639400" y="1315800"/>
              <a:ext cx="367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is comple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543280" y="1398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648760" y="139860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omplain or reject i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640480" y="1466280"/>
              <a:ext cx="38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not satisfi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800960" y="27532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907520" y="275328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promo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900680" y="2819880"/>
              <a:ext cx="40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terial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888800" y="2887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963680" y="2887560"/>
              <a:ext cx="32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ouch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888800" y="29545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963320" y="295452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ree gif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888800" y="30222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967640" y="3022200"/>
              <a:ext cx="41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al off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800960" y="3104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906440" y="3104640"/>
              <a:ext cx="542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551200" y="2432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70360" y="242532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promo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663520" y="2491560"/>
              <a:ext cx="40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terial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651640" y="25596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727960" y="2559600"/>
              <a:ext cx="32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ouch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651640" y="26262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727240" y="262620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ree gif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651640" y="2692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31560" y="2692800"/>
              <a:ext cx="41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al off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651640" y="27608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20760" y="276084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779800" y="276084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mote value-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734440" y="2827080"/>
              <a:ext cx="45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ded produc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651640" y="28940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33720" y="2894040"/>
              <a:ext cx="42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mote oth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726880" y="2961720"/>
              <a:ext cx="30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551200" y="3051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68200" y="3044160"/>
              <a:ext cx="52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complai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662440" y="3112200"/>
              <a:ext cx="375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quer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806720" y="42454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914000" y="4245480"/>
              <a:ext cx="573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and authori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912920" y="4313160"/>
              <a:ext cx="541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806720" y="43959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911840" y="4395960"/>
              <a:ext cx="51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pture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898880" y="4463640"/>
              <a:ext cx="259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ail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806720" y="4546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912560" y="4546080"/>
              <a:ext cx="536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any retur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806720" y="4629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913280" y="4629600"/>
              <a:ext cx="548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payment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911120" y="4696200"/>
              <a:ext cx="50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s/servi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806720" y="4779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09680" y="4779720"/>
              <a:ext cx="51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HSE dat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806720" y="4862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12200" y="4862520"/>
              <a:ext cx="534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erate outlet site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01400" y="49302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894560" y="4996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976640" y="499680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plenish non-oi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69440" y="5063400"/>
              <a:ext cx="307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94560" y="51310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80240" y="5131080"/>
              <a:ext cx="52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ate summary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78080" y="5198040"/>
              <a:ext cx="496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transac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795920" y="52707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904280" y="5270760"/>
              <a:ext cx="620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complaint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888800" y="5346360"/>
              <a:ext cx="27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quer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550120" y="4240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680800" y="424008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679720" y="4306680"/>
              <a:ext cx="498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, 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664600" y="43736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748840" y="4373640"/>
              <a:ext cx="51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chnical servi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550120" y="4457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682600" y="4457160"/>
              <a:ext cx="553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commerci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685120" y="4523760"/>
              <a:ext cx="576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oad transport (CRT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674680" y="459036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550120" y="46738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675040" y="4673880"/>
              <a:ext cx="39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fle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674680" y="474084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550120" y="4824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682960" y="4824360"/>
              <a:ext cx="56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point of sa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682960" y="4890960"/>
              <a:ext cx="56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(POS) services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664600" y="49590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47760" y="4959000"/>
              <a:ext cx="46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messag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664600" y="50252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48840" y="5025240"/>
              <a:ext cx="52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IN change facilit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797720" y="1564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2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534280" y="1564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2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373200" y="1306440"/>
              <a:ext cx="547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ommit to contract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263040" y="1391040"/>
              <a:ext cx="224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94120" y="1392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907160" y="1389240"/>
              <a:ext cx="6372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ccept promotional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HSE materi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 flipH="1">
            <a:off x="2459160" y="436680"/>
            <a:ext cx="505296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2468160" y="6735600"/>
            <a:ext cx="503892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502400" y="439560"/>
            <a:ext cx="0" cy="629928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1484280" y="6735600"/>
            <a:ext cx="93816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1517400" y="439560"/>
            <a:ext cx="87948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444320" y="119160"/>
            <a:ext cx="4699080" cy="209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440" bIns="28440" anchor="t">
            <a:noAutofit/>
          </a:bodyPr>
          <a:p>
            <a:pPr marL="857160" indent="0">
              <a:lnSpc>
                <a:spcPct val="10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–35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6b61"/>
                </a:solidFill>
                <a:latin typeface="Arial"/>
              </a:rPr>
              <a:t>SELL TO CUSTOMER (cont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494000" y="639720"/>
            <a:ext cx="5725440" cy="5770800"/>
            <a:chOff x="1494000" y="639720"/>
            <a:chExt cx="5725440" cy="5770800"/>
          </a:xfrm>
        </p:grpSpPr>
        <p:sp>
          <p:nvSpPr>
            <p:cNvPr id="1195" name=""/>
            <p:cNvSpPr/>
            <p:nvPr/>
          </p:nvSpPr>
          <p:spPr>
            <a:xfrm>
              <a:off x="1494000" y="3931560"/>
              <a:ext cx="5529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800320" y="372960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539760" y="372636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800320" y="325872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319280" y="3256560"/>
              <a:ext cx="68004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601080" y="37274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326120" y="37274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081400" y="37274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860560" y="37274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811840" y="1617480"/>
              <a:ext cx="68004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073480" y="1617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329000" y="1617480"/>
              <a:ext cx="68004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57720" y="313272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3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727960" y="313380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4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397040" y="3277800"/>
              <a:ext cx="5166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vi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motion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921280" y="3279960"/>
              <a:ext cx="4312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relation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157000" y="1729440"/>
              <a:ext cx="50616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Pay invo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848560" y="1729440"/>
              <a:ext cx="60048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Verify accou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340160" y="1729440"/>
              <a:ext cx="65088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ceive invo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961720" y="3794040"/>
              <a:ext cx="4694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02600" y="3748320"/>
              <a:ext cx="4694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resell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ettle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352760" y="3794040"/>
              <a:ext cx="6188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Request 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ke pay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12440" y="3794040"/>
              <a:ext cx="4100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933880" y="3796200"/>
              <a:ext cx="4053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007960" y="1501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4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596640" y="3747600"/>
              <a:ext cx="55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/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734800" y="1501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67440" y="1501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3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05840" y="408708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3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534840" y="408708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3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266360" y="408708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3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008680" y="40892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4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735520" y="408096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466680" y="408096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5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007960" y="1233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105160" y="1233360"/>
              <a:ext cx="37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ay invo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007960" y="13168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109480" y="1316880"/>
              <a:ext cx="44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transf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07960" y="1400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08400" y="1400400"/>
              <a:ext cx="42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receip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37680" y="877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39920" y="877680"/>
              <a:ext cx="48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ceive 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833440" y="94536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37680" y="1028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835240" y="1028160"/>
              <a:ext cx="37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ac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13520" y="1028160"/>
              <a:ext cx="184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833440" y="109584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37680" y="11782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835240" y="1178280"/>
              <a:ext cx="37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ispute an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835600" y="1245960"/>
              <a:ext cx="38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iscrepanc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37680" y="1328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843880" y="1328400"/>
              <a:ext cx="570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Negotiate settl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821920" y="1396080"/>
              <a:ext cx="425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of any dispu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010840" y="4199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116680" y="4199400"/>
              <a:ext cx="568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eive payment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97960" y="42660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168520" y="4266000"/>
              <a:ext cx="22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97960" y="43326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171040" y="4332600"/>
              <a:ext cx="27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qu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097960" y="44002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174280" y="440028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bit car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97960" y="44668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166360" y="4466880"/>
              <a:ext cx="169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228280" y="446688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uch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097960" y="4533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77520" y="4533480"/>
              <a:ext cx="40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ank transf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097960" y="4601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74280" y="4601160"/>
              <a:ext cx="336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ank draf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097960" y="46681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170320" y="4668120"/>
              <a:ext cx="263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ffse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010840" y="4751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11640" y="4751640"/>
              <a:ext cx="452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firm receip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0840" y="4834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112360" y="4834440"/>
              <a:ext cx="46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gister receip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010840" y="49179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112000" y="4917960"/>
              <a:ext cx="455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vert foreig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105520" y="4984560"/>
              <a:ext cx="309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rrenc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010840" y="5068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115600" y="5068080"/>
              <a:ext cx="53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tch and alloca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113080" y="5135760"/>
              <a:ext cx="480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ayment agains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104440" y="5202360"/>
              <a:ext cx="28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098680" y="526896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169240" y="5268960"/>
              <a:ext cx="244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FP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40560" y="4199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843160" y="4199400"/>
              <a:ext cx="50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stablish 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832360" y="4266000"/>
              <a:ext cx="25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40560" y="4349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842080" y="4349520"/>
              <a:ext cx="43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ansfer inter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845680" y="4416120"/>
              <a:ext cx="53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pany accou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40560" y="4499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843520" y="4499640"/>
              <a:ext cx="483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status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831640" y="4566600"/>
              <a:ext cx="237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b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40560" y="4650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848200" y="4650120"/>
              <a:ext cx="59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llow up payment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839560" y="471672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on-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40560" y="4800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841360" y="4800600"/>
              <a:ext cx="43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deb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839560" y="4866840"/>
              <a:ext cx="394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40560" y="4950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844240" y="4950720"/>
              <a:ext cx="522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view settl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842080" y="5016960"/>
              <a:ext cx="463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rms within th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837400" y="5085000"/>
              <a:ext cx="35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40560" y="5167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846760" y="516744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agree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838840" y="5235120"/>
              <a:ext cx="40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with resell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40560" y="5317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843160" y="5317920"/>
              <a:ext cx="48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account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845320" y="5385600"/>
              <a:ext cx="54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lated contact wi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841000" y="5452200"/>
              <a:ext cx="431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827680" y="5518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909760" y="5518800"/>
              <a:ext cx="46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ount dispu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27680" y="5586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905800" y="5586480"/>
              <a:ext cx="38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bt dispu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472440" y="4199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575040" y="4199400"/>
              <a:ext cx="490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gregate act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563160" y="4266000"/>
              <a:ext cx="23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472440" y="4349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571800" y="4349520"/>
              <a:ext cx="452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view actual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576120" y="4416120"/>
              <a:ext cx="50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ainst targets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580800" y="4483080"/>
              <a:ext cx="59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rket, customer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65680" y="4550760"/>
              <a:ext cx="28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559200" y="46173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32280" y="4617360"/>
              <a:ext cx="276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559200" y="46839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637680" y="4683960"/>
              <a:ext cx="37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e/reba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559200" y="47516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32280" y="4751640"/>
              <a:ext cx="266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rg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559200" y="48182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638400" y="4818240"/>
              <a:ext cx="41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 level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472440" y="4902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74680" y="4902120"/>
              <a:ext cx="50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individ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71080" y="4968720"/>
              <a:ext cx="394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559920" y="503496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30120" y="5034960"/>
              <a:ext cx="231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MIP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472440" y="51188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572160" y="5118840"/>
              <a:ext cx="42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use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569280" y="518652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568560" y="5253120"/>
              <a:ext cx="356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559920" y="532008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630840" y="5320080"/>
              <a:ext cx="228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MIT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472440" y="5403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79720" y="5403600"/>
              <a:ext cx="600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dentify deviation fro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62080" y="5470200"/>
              <a:ext cx="20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472440" y="5553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563160" y="5553720"/>
              <a:ext cx="237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k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579720" y="5620320"/>
              <a:ext cx="582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ommendations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571080" y="568800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mprov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263840" y="639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363920" y="639720"/>
              <a:ext cx="46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ceive invo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263840" y="722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365000" y="722160"/>
              <a:ext cx="47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Match invoice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356720" y="789840"/>
              <a:ext cx="28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363920" y="856440"/>
              <a:ext cx="44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ocument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263840" y="940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352040" y="940320"/>
              <a:ext cx="184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437000" y="940320"/>
              <a:ext cx="40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tch invoice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362480" y="1006920"/>
              <a:ext cx="40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original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263840" y="1090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366440" y="1090440"/>
              <a:ext cx="502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price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357440" y="1157040"/>
              <a:ext cx="29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263840" y="12405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59600" y="1240560"/>
              <a:ext cx="347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Query an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361400" y="1307520"/>
              <a:ext cx="38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iscrepanc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263840" y="1390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367880" y="1390680"/>
              <a:ext cx="530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uthorise 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832120" y="4202640"/>
              <a:ext cx="653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or product and service: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809080" y="4285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914920" y="4285080"/>
              <a:ext cx="53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firm delivery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902680" y="4352760"/>
              <a:ext cx="276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809080" y="44352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917080" y="4435200"/>
              <a:ext cx="576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ote amendments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03040" y="4502880"/>
              <a:ext cx="28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809080" y="4585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916360" y="4585320"/>
              <a:ext cx="55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 returns mad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809080" y="46692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912040" y="4669200"/>
              <a:ext cx="46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ack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914920" y="4735800"/>
              <a:ext cx="536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tainer invento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809080" y="4819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907360" y="4819320"/>
              <a:ext cx="38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914560" y="4886280"/>
              <a:ext cx="54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alculate value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916360" y="4953960"/>
              <a:ext cx="55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livered product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902680" y="5020560"/>
              <a:ext cx="276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896920" y="5087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969280" y="5087160"/>
              <a:ext cx="26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896920" y="51548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80800" y="5154840"/>
              <a:ext cx="516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d any addi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971440" y="5221440"/>
              <a:ext cx="29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96920" y="52880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81880" y="5288040"/>
              <a:ext cx="52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rebate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971080" y="5356080"/>
              <a:ext cx="30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s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824920" y="543960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or card account: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09080" y="55220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907360" y="5522040"/>
              <a:ext cx="38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14560" y="5589720"/>
              <a:ext cx="54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alculate value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910240" y="5656320"/>
              <a:ext cx="433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896920" y="57229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980800" y="5722920"/>
              <a:ext cx="50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e transac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96920" y="57906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980800" y="5790600"/>
              <a:ext cx="516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d any addi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971440" y="5857560"/>
              <a:ext cx="29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896920" y="5924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81880" y="5924160"/>
              <a:ext cx="52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rebate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080" y="5991840"/>
              <a:ext cx="30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s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825640" y="6074280"/>
              <a:ext cx="50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or card acquirer: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809080" y="61578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916000" y="6157800"/>
              <a:ext cx="57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value to b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913840" y="6224760"/>
              <a:ext cx="510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laimed from car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904120" y="6292440"/>
              <a:ext cx="295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quir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38800" y="4202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645000" y="4202640"/>
              <a:ext cx="56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settl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633120" y="4269240"/>
              <a:ext cx="289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626640" y="43358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697560" y="4335840"/>
              <a:ext cx="224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626640" y="44035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709440" y="4403520"/>
              <a:ext cx="48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resell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701160" y="4470120"/>
              <a:ext cx="29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626640" y="4536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700800" y="4536720"/>
              <a:ext cx="292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d an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705120" y="4604760"/>
              <a:ext cx="38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just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270320" y="4202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68600" y="4202640"/>
              <a:ext cx="41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ill customer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270320" y="4285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371480" y="4285080"/>
              <a:ext cx="48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ill card 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270320" y="4368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372200" y="4368600"/>
              <a:ext cx="48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ill card acquir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357800" y="445212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270320" y="4534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369320" y="4534920"/>
              <a:ext cx="42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credi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376520" y="4602600"/>
              <a:ext cx="58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ocument (self-bill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363560" y="4669200"/>
              <a:ext cx="28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voice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270320" y="4752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373280" y="4752720"/>
              <a:ext cx="496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ke payment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377240" y="4819320"/>
              <a:ext cx="588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seller/distributor vi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57080" y="48862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34840" y="488628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dit bank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31240" y="495396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357080" y="5020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430520" y="5020560"/>
              <a:ext cx="27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qu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357080" y="5087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435560" y="5087160"/>
              <a:ext cx="387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dit good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431240" y="515484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359960" y="5237280"/>
              <a:ext cx="207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l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270320" y="53208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374360" y="5320800"/>
              <a:ext cx="521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query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357080" y="5388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436280" y="5388480"/>
              <a:ext cx="41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voice 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357080" y="54554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436640" y="545544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429080" y="552204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57080" y="5589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442760" y="5589720"/>
              <a:ext cx="527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rge back 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357080" y="56563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435200" y="5656320"/>
              <a:ext cx="37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tact wi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30520" y="5722920"/>
              <a:ext cx="27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sell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269600" y="2818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375440" y="2818440"/>
              <a:ext cx="56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uggest other t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364640" y="2885040"/>
              <a:ext cx="33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(financial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269600" y="29685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376160" y="2968560"/>
              <a:ext cx="58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nd out promo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374360" y="3035160"/>
              <a:ext cx="562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terial with invo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747760" y="2649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851800" y="2649240"/>
              <a:ext cx="50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tact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747760" y="2731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847480" y="2731680"/>
              <a:ext cx="42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isit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747760" y="28152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847120" y="2815200"/>
              <a:ext cx="411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uggest ter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842440" y="2881800"/>
              <a:ext cx="304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n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747760" y="2965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850720" y="2965320"/>
              <a:ext cx="49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843160" y="3032280"/>
              <a:ext cx="31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nquir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486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421000"/>
            <a:ext cx="7321320" cy="17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5360" indent="-22536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ive me six hours to chop down a tree and I will spend the first four sharpening the axe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5734080"/>
            <a:ext cx="510840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marL="290520" indent="-290520" algn="ctr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30280" y="18223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628640"/>
            <a:ext cx="1228680" cy="384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43200" y="1593720"/>
            <a:ext cx="1181160" cy="45720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tuación Act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11640" y="1593720"/>
            <a:ext cx="1171440" cy="4572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tuación Futur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Visió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1628640"/>
            <a:ext cx="1171440" cy="4572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bi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29440" y="1593720"/>
            <a:ext cx="1171440" cy="45720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lan de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89960" y="1593720"/>
            <a:ext cx="11714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nitor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80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arrollo de un Plan de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25760" y="2206800"/>
            <a:ext cx="13716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Times New Roman"/>
              </a:rPr>
              <a:t>Situación de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Times New Roman"/>
              </a:rPr>
              <a:t>Análisis in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Times New Roman"/>
              </a:rPr>
              <a:t>Análisis F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68720" y="2206800"/>
            <a:ext cx="1371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ecimiento de los obje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ción de las estrateg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7520" y="2206800"/>
            <a:ext cx="137160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o/benefi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nogr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ados espe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ursos humanos neces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56360" y="2206800"/>
            <a:ext cx="1371600" cy="19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ción de ac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ización de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85200" y="2206800"/>
            <a:ext cx="13716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Times New Roman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36920" y="998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00019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2205000"/>
            <a:ext cx="108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ruc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ursos: RRHH, información, TI, fuentes,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z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286000" y="3581280"/>
            <a:ext cx="4267080" cy="295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, estrategias y planes de acción que permiten la consecución de los objetivos dictados a nivel corporativo, año a año,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-308520">
              <a:lnSpc>
                <a:spcPct val="11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árquicamente el desarrollo de un plan de marketing se puede realizar en las siguientes 7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Interno (incl. cos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ción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394920" y="-36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 - F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3657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4038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44956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8769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53341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57150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61722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3920" y="652320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Cutropía Fernández: El 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4771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de Marketing: Construcción en espir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403280" y="1844640"/>
          <a:ext cx="6553440" cy="367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844640"/>
                    <a:ext cx="655344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7:27:29Z</dcterms:created>
  <dc:creator>KPMG</dc:creator>
  <dc:description/>
  <dc:language>en-US</dc:language>
  <cp:lastModifiedBy>Jorge</cp:lastModifiedBy>
  <cp:lastPrinted>2000-05-08T17:12:16Z</cp:lastPrinted>
  <dcterms:modified xsi:type="dcterms:W3CDTF">2006-09-29T11:04:07Z</dcterms:modified>
  <cp:revision>453</cp:revision>
  <dc:subject/>
  <dc:title>UCAD Call Centre Transition Plan</dc:title>
</cp:coreProperties>
</file>