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4B1DF-CAA7-451B-A4D5-303CC58E1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ACFD9-8D75-4C0B-BB82-21D5E19BE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324C2-D4CA-4BD5-8E60-A05FDE8E6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3EBF2-06C5-4F43-A156-C71D68D37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0B21F-0042-435C-8510-E996FE141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B1623-1D25-45BD-86A9-4CAC81F4A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93C1E-F64D-4802-9413-35FFE52F7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C252F-4791-4E55-8959-E91E66901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DF5EC-8A83-40D1-8026-C154ED32D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EA39A-E8EA-460D-83E4-B2BC4E5AC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33D8D-5B37-4358-BE7D-EA10564A2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4326-4B68-4B73-9D79-7F2AE6490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9D528-274A-47C5-9672-6EFC39CA9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1BD12-5706-4DC8-9F7B-8C0DE7870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B84D3-4FD3-40D8-8DF4-64400C54B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594BF7-ED24-441E-A0DF-FA226BC8C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DBA76-2345-4D4A-9DA5-DC91EB046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33FE8-4FF1-4CC1-9A48-17D8A39D8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3A201-080B-4E7B-A0A8-CADE0951F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59B1A-CD4E-47AA-8935-26B29F656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290C4-81F8-45FE-8231-299E6FCD9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D1E60-E562-4F9F-8A02-789DA7A93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6EE31-9213-4662-9AC9-6ABA0863B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FD2A-6726-4B7C-8ADC-0F523E097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D120-950F-4F54-9A67-E7D852A1EC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1D20-0122-442A-A408-3CCA2679E2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060280"/>
            <a:ext cx="91375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ÍTICA A LA ORIENTACIÓN A OBJET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MITO: OOP ELIMINA LA COMPLEJIDAD DE LOS ESTAMENTOS “CASE” O “SWITCH</a:t>
            </a: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5374080" y="4365360"/>
            <a:ext cx="27471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77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um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ciano Villarroel P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aniel Vásquez Barrí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BC609D22-4BC7-457E-9B88-6DE0FC8D1D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pic>
        <p:nvPicPr>
          <p:cNvPr id="124" name="" descr=""/>
          <p:cNvPicPr/>
          <p:nvPr/>
        </p:nvPicPr>
        <p:blipFill>
          <a:blip r:embed="rId1"/>
          <a:stretch/>
        </p:blipFill>
        <p:spPr>
          <a:xfrm>
            <a:off x="468360" y="1916280"/>
            <a:ext cx="8229600" cy="3639960"/>
          </a:xfrm>
          <a:prstGeom prst="rect">
            <a:avLst/>
          </a:prstGeom>
          <a:ln w="0">
            <a:noFill/>
          </a:ln>
        </p:spPr>
      </p:pic>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546510F9-CEC9-4F0D-BEF3-6D833CEFF9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68360" y="1197000"/>
            <a:ext cx="806436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dependencia al uso de Stategy ayuda a eliminar todos los IF o CASE y agrega una lógica adicional, lo que significa agregar una clase y un tipo en la base de dato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lógica del sistema concentra la mayoría de las decisiones y/o estrategias del negocio.</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raduce finalmente en un gran listado casos que deben resolverse según sean condicione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atrón de diseño Strategy aplicado en clases “Controler” mejora la flexibilidad sistema ante cambios de lógic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19C0BD52-0670-4D49-BC39-8DC1420D9D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420000"/>
                </a:solidFill>
                <a:latin typeface="Times New Roman"/>
              </a:rPr>
              <a:t>FIN</a:t>
            </a:r>
            <a:endParaRPr b="0" lang="en-US" sz="6000" spc="-1" strike="noStrike">
              <a:solidFill>
                <a:srgbClr val="420000"/>
              </a:solidFill>
              <a:latin typeface="Times New Roman"/>
            </a:endParaRPr>
          </a:p>
        </p:txBody>
      </p:sp>
      <p:sp>
        <p:nvSpPr>
          <p:cNvPr id="3" name="PlaceHolder 2"/>
          <p:cNvSpPr>
            <a:spLocks noGrp="1"/>
          </p:cNvSpPr>
          <p:nvPr>
            <p:ph type="ftr" idx="2"/>
          </p:nvPr>
        </p:nvSpPr>
        <p:spPr/>
        <p:txBody>
          <a:bodyPr/>
          <a:p>
            <a:r>
              <a:t>in77j-Orientacion Objeto para E-bussiness</a:t>
            </a:r>
          </a:p>
        </p:txBody>
      </p:sp>
      <p:sp>
        <p:nvSpPr>
          <p:cNvPr id="4" name="PlaceHolder 3"/>
          <p:cNvSpPr>
            <a:spLocks noGrp="1"/>
          </p:cNvSpPr>
          <p:nvPr>
            <p:ph type="sldNum" idx="3"/>
          </p:nvPr>
        </p:nvSpPr>
        <p:spPr/>
        <p:txBody>
          <a:bodyPr/>
          <a:p>
            <a:fld id="{E21FA98B-0500-41D9-ABA5-89A61F7293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4360" y="1161000"/>
            <a:ext cx="7956360" cy="395712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gend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ticas del autor y Argumentos a favor.</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pinión de los Defensores de la OO.</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uso de “Switch” y “Cas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ientación objeto y aspectos         Patrón Strateg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00" name=""/>
          <p:cNvSpPr/>
          <p:nvPr/>
        </p:nvSpPr>
        <p:spPr>
          <a:xfrm>
            <a:off x="5219640" y="364500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9F68AE37-6DC3-4A2C-8226-56A3FCDBEE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11280" y="1337400"/>
            <a:ext cx="7956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riticas del Aut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ediciones denominan ciertas sintaxis de ciertos lenguajes, tales como C, como utilizadores de  arcaicos estamentos “BREAK”.</a:t>
            </a: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fav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Break” propone un quiebre de un resultado si este cumple o no con una condición en particular, pero se registre a condiciones. </a:t>
            </a:r>
            <a:endParaRPr b="0" lang="en-US" sz="2400" spc="-1" strike="noStrike">
              <a:solidFill>
                <a:srgbClr val="000000"/>
              </a:solidFill>
              <a:latin typeface="Arial"/>
            </a:endParaRPr>
          </a:p>
        </p:txBody>
      </p:sp>
      <p:sp>
        <p:nvSpPr>
          <p:cNvPr id="102"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6F4179A2-DA06-4F2D-9847-EE10C84E15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11280" y="1044360"/>
            <a:ext cx="795636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riticas del Aut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a de la especificidad en la sintaxis del lenguaje usado, aparece principalmente estar motivado por la “agrupación de aspecto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favor:</a:t>
            </a: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cosas van a tener que ser sacrificadas. Mas lejos aún, los estamentos IF o CASE “degeneran” mejor cuando todas las típicas cosas que van mal con polimorfismos en el mundo real pasan. Así IF/CASE son generalmente mejores  orientado al futur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04"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D9920435-510A-4F22-89A0-21893E995F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9640" y="1449720"/>
            <a:ext cx="795672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06"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07" name=""/>
          <p:cNvSpPr/>
          <p:nvPr/>
        </p:nvSpPr>
        <p:spPr>
          <a:xfrm>
            <a:off x="539640" y="4149720"/>
            <a:ext cx="5112000" cy="1922760"/>
          </a:xfrm>
          <a:prstGeom prst="rect">
            <a:avLst/>
          </a:prstGeom>
          <a:solidFill>
            <a:srgbClr val="9966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han quejado de los programas que usan el sistema procedural / relacional, a menudo degeneran el largo y la profundidad de las afirmaciones IF</a:t>
            </a:r>
            <a:endParaRPr b="0" lang="en-US" sz="2400" spc="-1" strike="noStrike">
              <a:solidFill>
                <a:srgbClr val="000000"/>
              </a:solidFill>
              <a:latin typeface="Arial"/>
            </a:endParaRPr>
          </a:p>
        </p:txBody>
      </p:sp>
      <p:pic>
        <p:nvPicPr>
          <p:cNvPr id="108" name="" descr=""/>
          <p:cNvPicPr/>
          <p:nvPr/>
        </p:nvPicPr>
        <p:blipFill>
          <a:blip r:embed="rId1"/>
          <a:stretch/>
        </p:blipFill>
        <p:spPr>
          <a:xfrm>
            <a:off x="684360" y="1773360"/>
            <a:ext cx="4601880" cy="2334960"/>
          </a:xfrm>
          <a:prstGeom prst="rect">
            <a:avLst/>
          </a:prstGeom>
          <a:ln w="0">
            <a:noFill/>
          </a:ln>
        </p:spPr>
      </p:pic>
      <p:sp>
        <p:nvSpPr>
          <p:cNvPr id="109" name=""/>
          <p:cNvSpPr/>
          <p:nvPr/>
        </p:nvSpPr>
        <p:spPr>
          <a:xfrm>
            <a:off x="1116000" y="1197000"/>
            <a:ext cx="446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nsores de la OO opinan que:</a:t>
            </a:r>
            <a:endParaRPr b="0" lang="en-US" sz="2400" spc="-1" strike="noStrike">
              <a:solidFill>
                <a:srgbClr val="000000"/>
              </a:solidFill>
              <a:latin typeface="Arial"/>
            </a:endParaRPr>
          </a:p>
        </p:txBody>
      </p:sp>
      <p:sp>
        <p:nvSpPr>
          <p:cNvPr id="110" name=""/>
          <p:cNvSpPr/>
          <p:nvPr/>
        </p:nvSpPr>
        <p:spPr>
          <a:xfrm>
            <a:off x="5435640" y="2276640"/>
            <a:ext cx="3708360" cy="2288520"/>
          </a:xfrm>
          <a:prstGeom prst="rect">
            <a:avLst/>
          </a:prstGeom>
          <a:solidFill>
            <a:srgbClr val="9999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han quejado falta de producción de repeticiones básicas o el rompimiento de una gran rutina dentro de las mas pequeñ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6ECCA221-6FB2-4B3B-A014-7DC6676A8E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77000"/>
            <a:ext cx="795672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ondicionales a menudo faltan de uniformidad, que no puede ser aplicada para limpiar significativamente el código para su mejor entendimiento en los futuros cambios, como por ejemplo, en los “árboles de condiciones” tienden a la inconsistencia en el diseño.</a:t>
            </a:r>
            <a:endParaRPr b="0" lang="en-US" sz="2400" spc="-1" strike="noStrike">
              <a:solidFill>
                <a:srgbClr val="000000"/>
              </a:solidFill>
              <a:latin typeface="Arial"/>
            </a:endParaRPr>
          </a:p>
        </p:txBody>
      </p:sp>
      <p:sp>
        <p:nvSpPr>
          <p:cNvPr id="112"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13" name=""/>
          <p:cNvSpPr/>
          <p:nvPr/>
        </p:nvSpPr>
        <p:spPr>
          <a:xfrm>
            <a:off x="1258920" y="3933720"/>
            <a:ext cx="6264360" cy="228852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 imposible modelar completamente un problema en el mundo real, dado que éste posee demasiadas condiciones  o restricciones que al hacerlo por “IF/ CASE” generarían una estructura o un árbol profundo.</a:t>
            </a:r>
            <a:r>
              <a:rPr b="0" lang="es-ES" sz="1800" spc="-1" strike="noStrike">
                <a:solidFill>
                  <a:srgbClr val="ffffff"/>
                </a:solidFill>
                <a:latin typeface="Times New Roman"/>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806409F9-FAAC-47E4-BF25-B48A754FCA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47640" y="766440"/>
            <a:ext cx="7956720" cy="4208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ss SwitchDe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ublic static void main(String[] ar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week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witch (wee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1: System.out.println(“Lun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2: System.out.println(“Mart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3: System.out.println("Miercol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4: System.out.println(“Juev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5: System.out.println(“Viern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6: System.out.println(“Sabado");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7: System.out.println(“Domingo");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efault: System.out.println("Invalid month.");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5" name=""/>
          <p:cNvSpPr/>
          <p:nvPr/>
        </p:nvSpPr>
        <p:spPr>
          <a:xfrm>
            <a:off x="2195640" y="4843440"/>
            <a:ext cx="4681440" cy="201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week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f (week ==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ystem.out.println(“Lu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else if (week ==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ystem.out.println(“mar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asi………</a:t>
            </a:r>
            <a:endParaRPr b="0" lang="en-US" sz="1800" spc="-1" strike="noStrike">
              <a:solidFill>
                <a:srgbClr val="000000"/>
              </a:solidFill>
              <a:latin typeface="Arial"/>
            </a:endParaRPr>
          </a:p>
        </p:txBody>
      </p:sp>
      <p:sp>
        <p:nvSpPr>
          <p:cNvPr id="116" name=""/>
          <p:cNvSpPr/>
          <p:nvPr/>
        </p:nvSpPr>
        <p:spPr>
          <a:xfrm>
            <a:off x="1476360" y="260280"/>
            <a:ext cx="619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jemplo uso de “Switch” y “Case”</a:t>
            </a:r>
            <a:endParaRPr b="0" lang="en-US" sz="2800" spc="-1" strike="noStrike">
              <a:solidFill>
                <a:srgbClr val="000000"/>
              </a:solidFill>
              <a:latin typeface="Arial"/>
            </a:endParaRPr>
          </a:p>
        </p:txBody>
      </p:sp>
      <p:sp>
        <p:nvSpPr>
          <p:cNvPr id="117" name=""/>
          <p:cNvSpPr/>
          <p:nvPr/>
        </p:nvSpPr>
        <p:spPr>
          <a:xfrm>
            <a:off x="898560" y="4869000"/>
            <a:ext cx="748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FB9C2DBC-8C68-4A8F-B144-B12BFE1302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4360" y="943200"/>
            <a:ext cx="7991280" cy="4757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WITCH</a:t>
            </a:r>
            <a:r>
              <a:rPr b="0" lang="es-CL" sz="2400" spc="-1" strike="noStrike">
                <a:solidFill>
                  <a:srgbClr val="000000"/>
                </a:solidFill>
                <a:latin typeface="Arial"/>
              </a:rPr>
              <a:t> es una función que por lo general esta asociada a </a:t>
            </a:r>
            <a:r>
              <a:rPr b="1" lang="es-CL" sz="2400" spc="-1" strike="noStrike">
                <a:solidFill>
                  <a:srgbClr val="000000"/>
                </a:solidFill>
                <a:latin typeface="Arial"/>
              </a:rPr>
              <a:t>CASE</a:t>
            </a:r>
            <a:r>
              <a:rPr b="0" lang="es-CL" sz="2400" spc="-1" strike="noStrike">
                <a:solidFill>
                  <a:srgbClr val="000000"/>
                </a:solidFill>
                <a:latin typeface="Arial"/>
              </a:rPr>
              <a:t>, que es una función condicional multisalida que ejecutara una función si el valor coincide con ella, en ese caso el programa ejecutara la función asociada a CAS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BREAK</a:t>
            </a:r>
            <a:r>
              <a:rPr b="0" lang="es-CL" sz="2400" spc="-1" strike="noStrike">
                <a:solidFill>
                  <a:srgbClr val="000000"/>
                </a:solidFill>
                <a:latin typeface="Arial"/>
              </a:rPr>
              <a:t> es la encargada de romper un bucle en un ciclo de programación, pasando a la siguiente instancia del código procedur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F</a:t>
            </a:r>
            <a:r>
              <a:rPr b="0" lang="es-CL" sz="2400" spc="-1" strike="noStrike">
                <a:solidFill>
                  <a:srgbClr val="000000"/>
                </a:solidFill>
                <a:latin typeface="Arial"/>
              </a:rPr>
              <a:t> es una función condicional que permite decidir entre distintos valores numéricos para una sentencia, tomando un curso de acción de acuerdo al valor numérico.(uso de </a:t>
            </a:r>
            <a:r>
              <a:rPr b="1" lang="es-CL" sz="2400" spc="-1" strike="noStrike">
                <a:solidFill>
                  <a:srgbClr val="000000"/>
                </a:solidFill>
                <a:latin typeface="Arial"/>
              </a:rPr>
              <a:t>ELSE</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9"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982D6A8D-0A11-4242-AB84-AF35BEB9FB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55640" y="3933720"/>
            <a:ext cx="75614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la OO se puede usar el Patrón Strategy para heredar los días de la semana del ejemplo anterior sin usar </a:t>
            </a:r>
            <a:r>
              <a:rPr b="1" lang="es-CL" sz="2400" spc="-1" strike="noStrike">
                <a:solidFill>
                  <a:srgbClr val="000000"/>
                </a:solidFill>
                <a:latin typeface="Arial"/>
              </a:rPr>
              <a:t>“Switch”</a:t>
            </a:r>
            <a:r>
              <a:rPr b="0" lang="es-CL" sz="2400" spc="-1" strike="noStrike">
                <a:solidFill>
                  <a:srgbClr val="000000"/>
                </a:solidFill>
                <a:latin typeface="Arial"/>
              </a:rPr>
              <a:t> y</a:t>
            </a:r>
            <a:r>
              <a:rPr b="1" lang="es-CL" sz="2400" spc="-1" strike="noStrike">
                <a:solidFill>
                  <a:srgbClr val="000000"/>
                </a:solidFill>
                <a:latin typeface="Arial"/>
              </a:rPr>
              <a:t> “Case”</a:t>
            </a:r>
            <a:r>
              <a:rPr b="0" lang="es-CL" sz="2400" spc="-1" strike="noStrike">
                <a:solidFill>
                  <a:srgbClr val="000000"/>
                </a:solidFill>
                <a:latin typeface="Arial"/>
              </a:rPr>
              <a:t>, podemos apreciar la simplicidad de modificaciones que nos ofrece el patrón y la sencilles de uso.</a:t>
            </a:r>
            <a:endParaRPr b="0" lang="en-US" sz="2400" spc="-1" strike="noStrike">
              <a:solidFill>
                <a:srgbClr val="000000"/>
              </a:solidFill>
              <a:latin typeface="Arial"/>
            </a:endParaRPr>
          </a:p>
        </p:txBody>
      </p:sp>
      <p:sp>
        <p:nvSpPr>
          <p:cNvPr id="121"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sp>
        <p:nvSpPr>
          <p:cNvPr id="122" name=""/>
          <p:cNvSpPr/>
          <p:nvPr/>
        </p:nvSpPr>
        <p:spPr>
          <a:xfrm>
            <a:off x="2340000" y="1844640"/>
            <a:ext cx="56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rientación objeto y aspectos</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1CC98175-004B-4A28-A133-5FEBB9D3BC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01:54:19Z</dcterms:created>
  <dc:creator>Daniel Vásquez</dc:creator>
  <dc:description/>
  <dc:language>en-US</dc:language>
  <cp:lastModifiedBy>alumnodii</cp:lastModifiedBy>
  <dcterms:modified xsi:type="dcterms:W3CDTF">2006-11-25T14:16:45Z</dcterms:modified>
  <cp:revision>19</cp:revision>
  <dc:subject/>
  <dc:title>Diapositiva 1</dc:title>
</cp:coreProperties>
</file>