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5.wmf" ContentType="image/x-wmf"/>
  <Override PartName="/ppt/media/image10.png" ContentType="image/png"/>
  <Override PartName="/ppt/media/image28.gif" ContentType="image/gif"/>
  <Override PartName="/ppt/media/image8.png" ContentType="image/png"/>
  <Override PartName="/ppt/media/image30.gif" ContentType="image/gif"/>
  <Override PartName="/ppt/media/image12.wmf" ContentType="image/x-wmf"/>
  <Override PartName="/ppt/media/image3.png" ContentType="image/png"/>
  <Override PartName="/ppt/media/image11.wmf" ContentType="image/x-wmf"/>
  <Override PartName="/ppt/media/image7.png" ContentType="image/png"/>
  <Override PartName="/ppt/media/image17.wmf" ContentType="image/x-wmf"/>
  <Override PartName="/ppt/media/image9.png" ContentType="image/png"/>
  <Override PartName="/ppt/media/image25.wmf" ContentType="image/x-wmf"/>
  <Override PartName="/ppt/media/image29.gif" ContentType="image/gif"/>
  <Override PartName="/ppt/media/image13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ABB7-905B-4AD3-A6F8-DE6E85C7A22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upply-Chain Council was organized in 1996 by Pittiglio Rabin Todd &amp; McGrath (PRTM) and AMR Research, and initially included 69 voluntary member compan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ply-Chain Council now has closer to 1,000 corporate members world-wide and has established international chapters in North America, Europe, Greater China, Japan, Australia/New Zealand, South East Asia, Brazil and Southern Africa.  Development of additional chapters in India and South America are underway.   The Supply-Chain Council's membership consists primarily practitioners representing a broad cross section of industries, including manufacturers, services, distributors, and retailer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en es Supply Chain Counc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independent, not-for-profit, global corporation with membership open to all companies and organizations interested in applying and advancing the state-of-the-art in supply-chain management systems and practices, the Council is interested in providing the widest possible dissemination of the SCOR Mo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scomposicion de actividades alto valor añadido en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896760" y="4354560"/>
            <a:ext cx="508176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nque el ERP es necesario no esta diseñado para poder cubrir los nuevos retos y necesidades de las cadenas de sumini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ptimización del 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nificación a capacidad fin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acticas avanzadas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tornos colaborativos multi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seño de redes logi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D1A-2006-4B8E-8DF8-95373D12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C46-B2F2-4942-A181-46973154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88C-6074-4D1E-B535-8FC4BB46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F9E-F20C-4196-B418-6C71244C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7ED6-F6D6-45A6-8EE3-45B74CA9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4E54-A8CC-4799-B363-2951F4DB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96F7-CC7F-49B6-ADF7-AB97AC04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33FD-B150-4570-A97F-912F4112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0391-2C0D-406D-9B11-89C2FE5E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14BF-F812-4963-A354-BF282861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CCBF-4030-49E7-B084-9917A87B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585-F2FE-4E19-9562-810EDA6B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4EDC-E60A-4D78-8295-F20A27EC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6285-D3FB-4F19-84D9-BC4152D7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BB76-9E4F-4886-8BBF-C9835D81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9281-A6FB-4DAD-B183-F041939B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6786-5009-43AD-BEF5-95AE582B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DEB-DD97-4F19-BD62-1E40E39C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A8F-5A16-4527-97B2-EB89D4A1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9EA4-EE63-4F05-9685-9B91F5F7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748800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3E0F-F7D7-4774-A3F1-BA271C47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745B-7C8E-4A9C-A671-F6668460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70C-3B8D-4F49-93F9-16B45BC4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855-E371-4331-B321-C2F9E127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0FB3-F101-4AB2-81CD-081E52A83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1037520"/>
            <a:chOff x="262080" y="87480"/>
            <a:chExt cx="8488080" cy="103752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84320"/>
              <a:ext cx="7696080" cy="855360"/>
              <a:chOff x="1054080" y="184320"/>
              <a:chExt cx="7696080" cy="85536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84320"/>
                <a:ext cx="7696080" cy="85536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84320"/>
                <a:ext cx="6075360" cy="848520"/>
                <a:chOff x="1897200" y="184320"/>
                <a:chExt cx="6075360" cy="84852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86480"/>
                  <a:ext cx="3505320" cy="844560"/>
                  <a:chOff x="1897200" y="186480"/>
                  <a:chExt cx="3505320" cy="8445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961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1014840"/>
                    <a:ext cx="14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954000"/>
                    <a:ext cx="172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963720"/>
                    <a:ext cx="460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896400"/>
                    <a:ext cx="31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866880"/>
                    <a:ext cx="410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86472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631440"/>
                    <a:ext cx="63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72252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676800"/>
                    <a:ext cx="47484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87920"/>
                    <a:ext cx="66672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589680"/>
                    <a:ext cx="24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57816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512640"/>
                    <a:ext cx="11592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565920"/>
                    <a:ext cx="936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582120"/>
                    <a:ext cx="3816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96800"/>
                    <a:ext cx="255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520" bIns="-11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603720"/>
                    <a:ext cx="298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98000"/>
                    <a:ext cx="3254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96200"/>
                    <a:ext cx="3016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5344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96200"/>
                    <a:ext cx="692280" cy="30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86480"/>
                    <a:ext cx="3168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77200"/>
                    <a:ext cx="936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340560"/>
                    <a:ext cx="12708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78800"/>
                    <a:ext cx="55116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73620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542160"/>
                    <a:ext cx="288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518760"/>
                    <a:ext cx="144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330840"/>
                    <a:ext cx="68760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593640"/>
                    <a:ext cx="258840" cy="43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41544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94840"/>
                    <a:ext cx="29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93040"/>
                    <a:ext cx="22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84320"/>
                  <a:ext cx="1807920" cy="848520"/>
                  <a:chOff x="6164640" y="184320"/>
                  <a:chExt cx="1807920" cy="84852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928080"/>
                    <a:ext cx="20520" cy="2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95400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965520"/>
                    <a:ext cx="44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963720"/>
                    <a:ext cx="45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791640"/>
                    <a:ext cx="23976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779760"/>
                    <a:ext cx="10620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840960"/>
                    <a:ext cx="74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872640"/>
                    <a:ext cx="507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835200"/>
                    <a:ext cx="252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896400"/>
                    <a:ext cx="32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866880"/>
                    <a:ext cx="414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882720"/>
                    <a:ext cx="1936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894240"/>
                    <a:ext cx="525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78588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6865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77004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744120"/>
                    <a:ext cx="54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631440"/>
                    <a:ext cx="6372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714240"/>
                    <a:ext cx="223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722520"/>
                    <a:ext cx="302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53800"/>
                    <a:ext cx="28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96200"/>
                    <a:ext cx="69516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84320"/>
                    <a:ext cx="320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77560"/>
                    <a:ext cx="93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340560"/>
                    <a:ext cx="12672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8196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78800"/>
                    <a:ext cx="550800" cy="37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736560"/>
                    <a:ext cx="302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542160"/>
                    <a:ext cx="28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518760"/>
                    <a:ext cx="14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332640"/>
                    <a:ext cx="68724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595800"/>
                    <a:ext cx="258840" cy="43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918000"/>
                    <a:ext cx="1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693000"/>
                    <a:ext cx="144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415800"/>
                    <a:ext cx="396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34000"/>
                    <a:ext cx="468360" cy="46044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98000"/>
                    <a:ext cx="9381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67480"/>
                    <a:ext cx="20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94840"/>
                    <a:ext cx="30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76200"/>
                    <a:ext cx="50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74400"/>
                    <a:ext cx="284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93040"/>
                    <a:ext cx="219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97640"/>
                <a:ext cx="7464240" cy="827640"/>
                <a:chOff x="1266840" y="197640"/>
                <a:chExt cx="7464240" cy="8276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635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97640"/>
                  <a:ext cx="0" cy="8276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94040"/>
                <a:ext cx="5864040" cy="837000"/>
                <a:chOff x="1917720" y="194040"/>
                <a:chExt cx="5864040" cy="8370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96200"/>
                  <a:ext cx="0" cy="28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63540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670680"/>
                  <a:ext cx="0" cy="554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868680"/>
                  <a:ext cx="0" cy="155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417600"/>
                  <a:ext cx="0" cy="355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63540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444960"/>
                  <a:ext cx="0" cy="581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200160"/>
                  <a:ext cx="0" cy="98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95840"/>
                  <a:ext cx="0" cy="359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63540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63540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95840"/>
                  <a:ext cx="0" cy="533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908280"/>
                  <a:ext cx="0" cy="66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203760"/>
                  <a:ext cx="0" cy="1227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98000"/>
                  <a:ext cx="0" cy="666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63540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63540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63540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63540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441720"/>
                  <a:ext cx="0" cy="589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477000"/>
                  <a:ext cx="0" cy="3085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94040"/>
                  <a:ext cx="0" cy="53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334440"/>
                  <a:ext cx="0" cy="190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98000"/>
                  <a:ext cx="0" cy="4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633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103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PlaceHolder 5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B48D-EFA6-4160-AF3D-E35E80D0B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539640" y="3860280"/>
            <a:ext cx="8305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irección  de Operaciones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ódulo 3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47640" y="5300640"/>
            <a:ext cx="64008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rofesor: Iván B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Octubre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rategia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osi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tido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o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ción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Facilitadores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ministración del Flu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ndar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ejo Electrónico de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por Categoría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o diseñado por proveedores y detallistas, para administrar como UN una agrupación de productos percibidos como interrelacionados por los consumi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rige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lud y bell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dministración del Fluj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ción general de la cadena de abastecimiento (flujos de información y producto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Información: Desde los consumidores a los provee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ujo de Productos: Hacia los consumidores en la forma más armónica po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standariz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y uniformar los elementos y convenciones utilizados por los diferentes componen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ne fuerte impacto en la eficiencia de administración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ificación de Produ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dades de distribu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s de da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ulari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Reaprovisionamiento Continu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os para coordinar el manejo de inventarios, reposiciones y mer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 aspectos clav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nóstico de ventas: realimentado y comunicado a toda la cad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nistración de Inventarios: vincula administración de inventarios con procesamiento de ord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Manejo Electrónico de Dat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macenamiento, procesamiento, transacciones y transmisión de la in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ere de Tecnologías de Informació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o también de estandarización de forma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rediseño de proces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150560" y="1989000"/>
            <a:ext cx="799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arrollo de un pronóstico de venta para la cadena de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conom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33520" y="2895480"/>
            <a:ext cx="8400960" cy="3603600"/>
            <a:chOff x="533520" y="2895480"/>
            <a:chExt cx="8400960" cy="3603600"/>
          </a:xfrm>
        </p:grpSpPr>
        <p:pic>
          <p:nvPicPr>
            <p:cNvPr id="431" name="" descr=""/>
            <p:cNvPicPr/>
            <p:nvPr/>
          </p:nvPicPr>
          <p:blipFill>
            <a:blip r:embed="rId1"/>
            <a:stretch/>
          </p:blipFill>
          <p:spPr>
            <a:xfrm>
              <a:off x="533520" y="2895480"/>
              <a:ext cx="8400960" cy="36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2895480" y="3124080"/>
              <a:ext cx="3521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nformation F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24080" y="6019920"/>
              <a:ext cx="3521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oduct F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9480" y="4038480"/>
              <a:ext cx="1616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ovi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62320" y="4038480"/>
              <a:ext cx="1616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rodu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38480" y="4038480"/>
              <a:ext cx="161604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Distribution C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15000" y="4038480"/>
              <a:ext cx="1752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uper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43800" y="4038480"/>
              <a:ext cx="13716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onsum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Ejemplo: </a:t>
            </a:r>
            <a:br>
              <a:rPr sz="2400"/>
            </a:b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El valor de la información en la cadena logística del retail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998720" y="1938240"/>
            <a:ext cx="5697360" cy="45388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66"/>
                </a:solidFill>
                <a:latin typeface="Times New Roman"/>
              </a:rPr>
              <a:t>Análisis para el Café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809880" y="3733920"/>
            <a:ext cx="2691000" cy="1828800"/>
            <a:chOff x="3809880" y="3733920"/>
            <a:chExt cx="2691000" cy="1828800"/>
          </a:xfrm>
        </p:grpSpPr>
        <p:sp>
          <p:nvSpPr>
            <p:cNvPr id="443" name=""/>
            <p:cNvSpPr/>
            <p:nvPr/>
          </p:nvSpPr>
          <p:spPr>
            <a:xfrm>
              <a:off x="3809880" y="4648320"/>
              <a:ext cx="213372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5486400" y="4114440"/>
              <a:ext cx="533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15000" y="37339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m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93240" y="2674800"/>
            <a:ext cx="26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6600"/>
                </a:solidFill>
                <a:latin typeface="Tahoma"/>
                <a:ea typeface="Arial"/>
              </a:rPr>
              <a:t>Café 170 g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44400" y="523440"/>
            <a:ext cx="629604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Análisis para la Cerveza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981080" y="1874880"/>
          <a:ext cx="571500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74880"/>
                    <a:ext cx="571500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0" name=""/>
          <p:cNvGrpSpPr/>
          <p:nvPr/>
        </p:nvGrpSpPr>
        <p:grpSpPr>
          <a:xfrm>
            <a:off x="2895120" y="2209680"/>
            <a:ext cx="3649680" cy="3353040"/>
            <a:chOff x="2895120" y="2209680"/>
            <a:chExt cx="3649680" cy="3353040"/>
          </a:xfrm>
        </p:grpSpPr>
        <p:grpSp>
          <p:nvGrpSpPr>
            <p:cNvPr id="451" name=""/>
            <p:cNvGrpSpPr/>
            <p:nvPr/>
          </p:nvGrpSpPr>
          <p:grpSpPr>
            <a:xfrm>
              <a:off x="2895120" y="3200400"/>
              <a:ext cx="914760" cy="762120"/>
              <a:chOff x="2895120" y="3200400"/>
              <a:chExt cx="914760" cy="762120"/>
            </a:xfrm>
          </p:grpSpPr>
          <p:sp>
            <p:nvSpPr>
              <p:cNvPr id="452" name=""/>
              <p:cNvSpPr/>
              <p:nvPr/>
            </p:nvSpPr>
            <p:spPr>
              <a:xfrm>
                <a:off x="3352680" y="3505320"/>
                <a:ext cx="457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895120" y="3200400"/>
                <a:ext cx="72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8 S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876560" y="2209680"/>
              <a:ext cx="953280" cy="307080"/>
              <a:chOff x="4876560" y="2209680"/>
              <a:chExt cx="953280" cy="307080"/>
            </a:xfrm>
          </p:grpSpPr>
          <p:sp>
            <p:nvSpPr>
              <p:cNvPr id="455" name=""/>
              <p:cNvSpPr/>
              <p:nvPr/>
            </p:nvSpPr>
            <p:spPr>
              <a:xfrm>
                <a:off x="4879440" y="2209680"/>
                <a:ext cx="95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w Yea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4876560" y="25146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3352320" y="2362320"/>
              <a:ext cx="1371960" cy="609480"/>
              <a:chOff x="3352320" y="2362320"/>
              <a:chExt cx="1371960" cy="609480"/>
            </a:xfrm>
          </p:grpSpPr>
          <p:sp>
            <p:nvSpPr>
              <p:cNvPr id="458" name=""/>
              <p:cNvSpPr/>
              <p:nvPr/>
            </p:nvSpPr>
            <p:spPr>
              <a:xfrm>
                <a:off x="3352320" y="2362320"/>
                <a:ext cx="907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hristm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114800" y="2590920"/>
                <a:ext cx="6094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809880" y="3733920"/>
              <a:ext cx="2734920" cy="1828800"/>
              <a:chOff x="3809880" y="3733920"/>
              <a:chExt cx="2734920" cy="1828800"/>
            </a:xfrm>
          </p:grpSpPr>
          <p:sp>
            <p:nvSpPr>
              <p:cNvPr id="461" name=""/>
              <p:cNvSpPr/>
              <p:nvPr/>
            </p:nvSpPr>
            <p:spPr>
              <a:xfrm>
                <a:off x="3809880" y="4648320"/>
                <a:ext cx="2133720" cy="914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5486400" y="4114440"/>
                <a:ext cx="533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715000" y="3733920"/>
                <a:ext cx="82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Summe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331560" y="2370240"/>
            <a:ext cx="26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6600"/>
                </a:solidFill>
                <a:latin typeface="Tahoma"/>
                <a:ea typeface="Arial"/>
              </a:rPr>
              <a:t>Cerveza 1 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Temari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23640" y="27432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ación del cur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Calendario y reglas del jue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Introducción a la Estrategia de Oper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2160" y="6289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ff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1376280"/>
            <a:ext cx="9144000" cy="51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Arial"/>
              </a:rPr>
              <a:t>Tem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inuación clas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icaciones Análisis de cas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sentación Gerente para LA Honeywell Min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ando y reconfigurando la red de Va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Gestión de inventario optimizada</a:t>
            </a:r>
            <a:r>
              <a:rPr b="1" i="1" lang="es-ES_tradnl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48520" cy="47926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407320" y="5805360"/>
            <a:ext cx="4515120" cy="862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Lost sa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: 1% of all days; before: 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ock lev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: 5 days; before: 3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vance de ECR (Europa)*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adurez global de EC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6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dministración por Categorí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4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aprovisionamiento Contin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1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49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cnologías habilit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nufactura (38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SzPct val="10785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ailers (3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5410080" y="3581280"/>
            <a:ext cx="312444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l orden de 6% de reducción de cos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0" y="2003400"/>
            <a:ext cx="6659640" cy="48546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5003640" y="0"/>
            <a:ext cx="414036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Working together - building up ECR capabilities - in a more professional way, will take out our inefficiencies ( 3 - 9%) and allow business grow between trading partners of more than 10%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Enrico To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P Johson &amp; Johnson Internati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6386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333440" y="3762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47280" y="404640"/>
            <a:ext cx="8447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66"/>
                </a:solidFill>
                <a:latin typeface="Times New Roman"/>
              </a:rPr>
              <a:t>Definición de SCM     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es la interrelación de los procesos comerciales, logísticos y financieros desde el cliente final hasta los primeros proveedores relev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996600"/>
                </a:solidFill>
                <a:latin typeface="Tahoma"/>
              </a:rPr>
              <a:t>Supply Chain Management es la gestión del Supply Chain para proveer en forma óptima bienes y servicios al cliente y otras partes interes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5510880" y="5229360"/>
            <a:ext cx="209916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Fu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Chavez - Torre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Ideas centrales en torno a SCM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de esfuerzo comparti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estratég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de gest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 de red, integrada y optimiz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saremos como sinónimos “red de valor” y “cadena de valo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Modelos: Ejemplo SC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42920" y="2205000"/>
            <a:ext cx="7129440" cy="1943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01960" y="2997360"/>
            <a:ext cx="1904760" cy="8380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678120" y="2997360"/>
            <a:ext cx="1905120" cy="8380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54640" y="2997360"/>
            <a:ext cx="1905120" cy="8380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916360" y="2492280"/>
            <a:ext cx="3352680" cy="685800"/>
          </a:xfrm>
          <a:prstGeom prst="ellipse">
            <a:avLst/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63800" y="172080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elo base para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839240" y="544500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extiende a la cad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8447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66"/>
                </a:solidFill>
                <a:latin typeface="Times New Roman"/>
              </a:rPr>
              <a:t>Cadena de Suministros = Sincronización y Colaboración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6720" y="5486400"/>
            <a:ext cx="2940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Supply Chain Council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264960" y="1600200"/>
            <a:ext cx="8726760" cy="37908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228600" y="1905120"/>
            <a:ext cx="7848720" cy="4190760"/>
          </a:xfrm>
          <a:custGeom>
            <a:avLst/>
            <a:gdLst>
              <a:gd name="textAreaLeft" fmla="*/ 1051200 w 7848720"/>
              <a:gd name="textAreaRight" fmla="*/ 6797520 w 7848720"/>
              <a:gd name="textAreaTop" fmla="*/ 733320 h 4190760"/>
              <a:gd name="textAreaBottom" fmla="*/ 303840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21205800">
            <a:off x="3073320" y="2287080"/>
            <a:ext cx="23734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Flujo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407400">
            <a:off x="2140560" y="4700520"/>
            <a:ext cx="19893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Flujo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920" y="2997360"/>
            <a:ext cx="830556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Análisis y re-diseño de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Implantación de metodologías de mejoras de procesos Six Sigma y Total Quality Management (TQ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Definición de KPIs de Supply Chain orientados a cli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reación de Direcciones de Supply Chain Mgt reportando a 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Evolución de MRP II hacia modelos avanzados de planificación integrada y optimización a capacidad fi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Consolidación de almacenes de fábrica en centros avanzados de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52520" y="477720"/>
            <a:ext cx="7469280" cy="2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Iniciativas de Optimización de la Cadena de Sumistro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920" y="2997360"/>
            <a:ext cx="830556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sicionamiento de inventario en centros de consolidación “supplier pools” y servicio a fábrica Just-in-Time (el proveedor es propietario del stock hasta recibir la orden J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de transporte Outbound e Inbound (factory gate pri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Gestión proactiva de eventos en la cadena de sumin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Portales de compras y ventas (modelos colaborativ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Sincronización de ficheros mae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73b"/>
                </a:solidFill>
                <a:latin typeface="Arial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" y="925560"/>
            <a:ext cx="1481040" cy="2173320"/>
          </a:xfrm>
          <a:prstGeom prst="rect">
            <a:avLst/>
          </a:prstGeom>
          <a:solidFill>
            <a:srgbClr val="b5e0e3"/>
          </a:solidFill>
          <a:ln w="0">
            <a:noFill/>
          </a:ln>
          <a:effectLst>
            <a:outerShdw dist="17819" dir="2700000" blurRad="0" rotWithShape="0">
              <a:srgbClr val="6c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73920" y="920880"/>
            <a:ext cx="2092320" cy="2192040"/>
          </a:xfrm>
          <a:prstGeom prst="rect">
            <a:avLst/>
          </a:prstGeom>
          <a:solidFill>
            <a:srgbClr val="ccb374"/>
          </a:solidFill>
          <a:ln w="0">
            <a:noFill/>
          </a:ln>
          <a:effectLst>
            <a:outerShdw dist="17819" dir="2700000" blurRad="0" rotWithShape="0">
              <a:srgbClr val="796a4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17800" y="914400"/>
            <a:ext cx="3992400" cy="2187720"/>
          </a:xfrm>
          <a:prstGeom prst="rect">
            <a:avLst/>
          </a:prstGeom>
          <a:solidFill>
            <a:srgbClr val="478ca8"/>
          </a:solidFill>
          <a:ln w="0">
            <a:noFill/>
          </a:ln>
          <a:effectLst>
            <a:outerShdw dist="17819" dir="2700000" blurRad="0" rotWithShape="0">
              <a:srgbClr val="2a53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241280" y="1725480"/>
            <a:ext cx="682920" cy="6480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577800" y="1895400"/>
            <a:ext cx="682560" cy="6476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2489040" y="1630440"/>
            <a:ext cx="567000" cy="7747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3587760" y="1857240"/>
            <a:ext cx="820800" cy="5400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 flipH="1">
            <a:off x="4922640" y="1838160"/>
            <a:ext cx="677880" cy="5223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6"/>
          <a:stretch/>
        </p:blipFill>
        <p:spPr>
          <a:xfrm>
            <a:off x="7286760" y="1295280"/>
            <a:ext cx="866520" cy="6256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7"/>
          <a:stretch/>
        </p:blipFill>
        <p:spPr>
          <a:xfrm flipH="1">
            <a:off x="6225840" y="1371600"/>
            <a:ext cx="677880" cy="5223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2126520" y="94608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du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65640" y="946080"/>
            <a:ext cx="183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ional Sales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27240" y="958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88880" y="946080"/>
            <a:ext cx="149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eedor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50440" y="2463840"/>
            <a:ext cx="94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329480" y="2357280"/>
            <a:ext cx="811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010600" y="162252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349800" y="1440000"/>
            <a:ext cx="1150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lmacen de Fab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090960" y="207324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5264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5788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686560" y="206856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010280" y="2057400"/>
            <a:ext cx="47016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0" y="2330280"/>
            <a:ext cx="1160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051600" y="1905120"/>
            <a:ext cx="1111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ntro de Distribución Ret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461360" y="1905120"/>
            <a:ext cx="7682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8"/>
          <a:stretch/>
        </p:blipFill>
        <p:spPr>
          <a:xfrm>
            <a:off x="8542440" y="1835280"/>
            <a:ext cx="525240" cy="4078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8077320" y="2063880"/>
            <a:ext cx="469800" cy="74520"/>
          </a:xfrm>
          <a:custGeom>
            <a:avLst/>
            <a:gdLst/>
            <a:ahLst/>
            <a:rect l="l" t="t" r="r" b="b"/>
            <a:pathLst>
              <a:path w="736" h="1">
                <a:moveTo>
                  <a:pt x="0" y="0"/>
                </a:moveTo>
                <a:lnTo>
                  <a:pt x="735" y="0"/>
                </a:lnTo>
              </a:path>
            </a:pathLst>
          </a:custGeom>
          <a:noFill/>
          <a:ln cap="rnd" w="50760">
            <a:solidFill>
              <a:srgbClr val="b2b2b2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077320" y="2182680"/>
            <a:ext cx="115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ente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77120" y="2701800"/>
            <a:ext cx="1225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Venta Directa/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546960" y="2438280"/>
            <a:ext cx="12254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istribui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03400" y="6149880"/>
            <a:ext cx="111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720" rIns="54720" tIns="27360" bIns="27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332000" y="2708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I. Gestión Integral de la Cadena de Valor (continuación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92360" y="3789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reación de valor en r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estionando la complej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77080" y="4724280"/>
            <a:ext cx="2089080" cy="195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Supply Chain Managemen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24000" y="981000"/>
            <a:ext cx="8604000" cy="3313080"/>
            <a:chOff x="324000" y="981000"/>
            <a:chExt cx="8604000" cy="3313080"/>
          </a:xfrm>
        </p:grpSpPr>
        <p:sp>
          <p:nvSpPr>
            <p:cNvPr id="565" name=""/>
            <p:cNvSpPr/>
            <p:nvPr/>
          </p:nvSpPr>
          <p:spPr>
            <a:xfrm>
              <a:off x="324000" y="1844640"/>
              <a:ext cx="1079280" cy="504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403280" y="1197000"/>
              <a:ext cx="432000" cy="431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203640" y="1844640"/>
              <a:ext cx="1728720" cy="64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40360" y="1341360"/>
              <a:ext cx="360360" cy="289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89080"/>
                <a:gd name="textAreaBottom" fmla="*/ 2890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940360" y="2133720"/>
              <a:ext cx="1008000" cy="57456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40360" y="3068640"/>
              <a:ext cx="649440" cy="43164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908000" y="2565360"/>
              <a:ext cx="792360" cy="36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42920" y="2205000"/>
              <a:ext cx="9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2627280" y="220500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08000" y="1484280"/>
              <a:ext cx="1295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87640" y="1125360"/>
              <a:ext cx="7164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48000" y="1125360"/>
              <a:ext cx="142920" cy="142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59280" y="1268280"/>
              <a:ext cx="21744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19640" y="1268280"/>
              <a:ext cx="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859280" y="1483920"/>
              <a:ext cx="10080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59280" y="2205000"/>
              <a:ext cx="1152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59280" y="2349360"/>
              <a:ext cx="108108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16720" y="148428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93080" y="2421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877080" y="321300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96360" y="981000"/>
              <a:ext cx="1331640" cy="3313080"/>
            </a:xfrm>
            <a:prstGeom prst="ellipse">
              <a:avLst/>
            </a:prstGeom>
            <a:solidFill>
              <a:srgbClr val="99cc00">
                <a:alpha val="1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 baseline="-2000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1907640" y="1197000"/>
              <a:ext cx="10083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0" y="692280"/>
            <a:ext cx="7667640" cy="33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0" y="2565360"/>
            <a:ext cx="9144000" cy="2592360"/>
            <a:chOff x="0" y="2565360"/>
            <a:chExt cx="9144000" cy="2592360"/>
          </a:xfrm>
        </p:grpSpPr>
        <p:grpSp>
          <p:nvGrpSpPr>
            <p:cNvPr id="589" name=""/>
            <p:cNvGrpSpPr/>
            <p:nvPr/>
          </p:nvGrpSpPr>
          <p:grpSpPr>
            <a:xfrm>
              <a:off x="1042920" y="2565360"/>
              <a:ext cx="7201080" cy="2303640"/>
              <a:chOff x="1042920" y="2565360"/>
              <a:chExt cx="7201080" cy="2303640"/>
            </a:xfrm>
          </p:grpSpPr>
          <p:sp>
            <p:nvSpPr>
              <p:cNvPr id="590" name=""/>
              <p:cNvSpPr/>
              <p:nvPr/>
            </p:nvSpPr>
            <p:spPr>
              <a:xfrm>
                <a:off x="3276720" y="4365720"/>
                <a:ext cx="1871640" cy="503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5219640" y="3357720"/>
                <a:ext cx="720720" cy="136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411280" y="2924280"/>
                <a:ext cx="108108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67280" y="2565360"/>
                <a:ext cx="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084720" y="4365720"/>
                <a:ext cx="576360" cy="431640"/>
              </a:xfrm>
              <a:custGeom>
                <a:avLst/>
                <a:gdLst>
                  <a:gd name="textAreaLeft" fmla="*/ 0 w 576360"/>
                  <a:gd name="textAreaRight" fmla="*/ 576720 w 57636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219640" y="4581000"/>
                <a:ext cx="936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6659640" y="4076640"/>
                <a:ext cx="158436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042920" y="4005360"/>
                <a:ext cx="863640" cy="4316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908000" y="4221000"/>
                <a:ext cx="136872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0" y="2924280"/>
              <a:ext cx="9144000" cy="223344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303120" y="5465880"/>
            <a:ext cx="83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Gestión de cadenas de valor, se da en un contexto de complejas y múltiples relaciones entre empresas, que requiere de una gestión sisté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¿Por qué el cambio?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modifica el balance de poder entre productores y comercializa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ercanía al cliente es la principal fortalez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requieren menores tiempos de ciclo para competi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 Tecnologías de Información generan nuevas realidades y oportun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ización de las empres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Supply Chain Management:</a:t>
            </a:r>
            <a:br>
              <a:rPr sz="2800"/>
            </a:b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Los principales benefic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ción de costos a través de la cadena y más eficiencia en capital de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te gestión de inventarios, de todo ti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eficiencia en las transacciones entre las partes de la cad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ás valor al cliente…generalmente en la forma de menores prec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Análisis estratégico para el diseño de las operacion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4720" y="162864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dentificar la cadena de valor y su configu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nálisis de la estrategia de nego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blecer las opciones de diseño/rediseño de la cadena d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decisiones estratégica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visar las tendencias de mercado y el estado del 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arle un sentido de competitividad a la generación de op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valuar el impacto potenci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cadores de opera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alidad del nego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mpacto de los cambios en las operaciones sobre 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ndicadores /GICAV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ómo influye el diseño de la cadena de valor y su integración en las variables claves para evaluar las operacion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lidad (incluyendo servic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332000" y="2708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I. Ejercicio: Análisis de cas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4140000" cy="295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32000" y="360360"/>
            <a:ext cx="7488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_tradnl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ideremos el servicio de recaudación y pago de cuen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os modelos de negocio distint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rvip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ncilli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rvipa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ilial de Ban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poyo al giro bancario, eliminando trxs de las oficinas bancar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stándares de nivel ban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cursales y cajas auxiliares prop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bertura: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uevos servicios: Depósitos, giro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cnología propietaria, usando red prop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cilli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 vinculada a Ban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sa puntos de atención en lugares que tienen otro propós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Operación basada en red de negocios asoci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bertura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cnología escalable y de bajo cos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e ambos modelos en términos d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ersión requerida para lograr cobertur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ndarización de proces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ursos humanos requerid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ructura de costos de opera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r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ernalización de activida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e esperan los clientes de estas empresa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e actividades manejan cada empresa centralizadamente y cuales n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o se comparan e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st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empo de entreg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alice las estrategias de ambas empresas y como el modelo responde a ell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¿Qué amenazas se ciernen sobre este negoci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Gestión Integral de la cadena del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roducción al concep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¿Qué es Gestión Integral de la cadena del valor (GICAV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racterísticas de la GICA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Aplicaciones en industrias: El caso EC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92360" indent="-426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ahom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Supply Chain Managemen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87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286200" y="419040"/>
            <a:ext cx="469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gister en Gestión y Dirección de Empre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332000" y="2492280"/>
            <a:ext cx="78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III. Presentación Gerente para Latinoamérica Honeywell Min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4140000" cy="295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92000" y="1828800"/>
            <a:ext cx="745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IV. Armando y reconfigurando la red de valor 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n desafío de los negocios de ho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Armado de la cadena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Reconfigurando la cadena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Cas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1. Armando la cadena de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eñar y reconfigurar permanentemente la cadena de valor, son las claves de asegurar el alineamiento competitivo con mi estrategia de negoc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lementos que intervienen en el diseño de la cadena de val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rategia de Nego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ructura del proceso productivo de la indus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dena de valor existente en su estado act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nologías dispon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gencias y expectativas de mis clie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ciones de proveedores, aliados, distribuidor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748800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Aspectos centrales en la configuración de la cadena</a:t>
            </a:r>
            <a:br>
              <a:rPr sz="1600"/>
            </a:b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(para el caso de bienes físicos)</a:t>
            </a:r>
            <a:endParaRPr b="1" i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2535840" y="2245680"/>
            <a:ext cx="4073400" cy="3921120"/>
            <a:chOff x="2535840" y="2245680"/>
            <a:chExt cx="4073400" cy="3921120"/>
          </a:xfrm>
        </p:grpSpPr>
        <p:sp>
          <p:nvSpPr>
            <p:cNvPr id="633" name="_s113669"/>
            <p:cNvSpPr/>
            <p:nvPr/>
          </p:nvSpPr>
          <p:spPr>
            <a:xfrm flipH="1">
              <a:off x="3552120" y="4205880"/>
              <a:ext cx="51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_s113670"/>
            <p:cNvSpPr/>
            <p:nvPr/>
          </p:nvSpPr>
          <p:spPr>
            <a:xfrm>
              <a:off x="2535840" y="3716640"/>
              <a:ext cx="1017720" cy="9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enta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_s113671"/>
            <p:cNvSpPr/>
            <p:nvPr/>
          </p:nvSpPr>
          <p:spPr>
            <a:xfrm>
              <a:off x="4572000" y="4695120"/>
              <a:ext cx="0" cy="49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113672"/>
            <p:cNvSpPr/>
            <p:nvPr/>
          </p:nvSpPr>
          <p:spPr>
            <a:xfrm>
              <a:off x="4063680" y="5186880"/>
              <a:ext cx="1017720" cy="979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113673"/>
            <p:cNvSpPr/>
            <p:nvPr/>
          </p:nvSpPr>
          <p:spPr>
            <a:xfrm>
              <a:off x="5079960" y="4205880"/>
              <a:ext cx="51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113674"/>
            <p:cNvSpPr/>
            <p:nvPr/>
          </p:nvSpPr>
          <p:spPr>
            <a:xfrm>
              <a:off x="5591520" y="3716640"/>
              <a:ext cx="1017720" cy="9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caliz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113675"/>
            <p:cNvSpPr/>
            <p:nvPr/>
          </p:nvSpPr>
          <p:spPr>
            <a:xfrm flipV="1">
              <a:off x="4572000" y="3223800"/>
              <a:ext cx="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113676"/>
            <p:cNvSpPr/>
            <p:nvPr/>
          </p:nvSpPr>
          <p:spPr>
            <a:xfrm>
              <a:off x="4063680" y="2245680"/>
              <a:ext cx="1017720" cy="979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113677"/>
            <p:cNvSpPr/>
            <p:nvPr/>
          </p:nvSpPr>
          <p:spPr>
            <a:xfrm>
              <a:off x="4063680" y="3716640"/>
              <a:ext cx="1017720" cy="9795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2" name=""/>
            <p:cNvCxnSpPr>
              <a:stCxn id="640" idx="6"/>
              <a:endCxn id="638" idx="0"/>
            </p:cNvCxnSpPr>
            <p:nvPr/>
          </p:nvCxnSpPr>
          <p:spPr>
            <a:xfrm>
              <a:off x="5081400" y="2736360"/>
              <a:ext cx="1020240" cy="9802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643" name=""/>
            <p:cNvCxnSpPr>
              <a:stCxn id="638" idx="4"/>
              <a:endCxn id="636" idx="6"/>
            </p:cNvCxnSpPr>
            <p:nvPr/>
          </p:nvCxnSpPr>
          <p:spPr>
            <a:xfrm flipH="1">
              <a:off x="5081040" y="4696560"/>
              <a:ext cx="1020240" cy="982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644" name=""/>
            <p:cNvCxnSpPr>
              <a:stCxn id="636" idx="2"/>
              <a:endCxn id="634" idx="4"/>
            </p:cNvCxnSpPr>
            <p:nvPr/>
          </p:nvCxnSpPr>
          <p:spPr>
            <a:xfrm flipH="1" flipV="1">
              <a:off x="3044880" y="4696200"/>
              <a:ext cx="1018440" cy="982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645" name=""/>
            <p:cNvCxnSpPr>
              <a:stCxn id="634" idx="0"/>
              <a:endCxn id="640" idx="2"/>
            </p:cNvCxnSpPr>
            <p:nvPr/>
          </p:nvCxnSpPr>
          <p:spPr>
            <a:xfrm flipV="1">
              <a:off x="3045240" y="2736000"/>
              <a:ext cx="1018440" cy="9802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646" name=""/>
          <p:cNvSpPr/>
          <p:nvPr/>
        </p:nvSpPr>
        <p:spPr>
          <a:xfrm>
            <a:off x="4573440" y="227664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Produc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pacidad de producir y almacenar bi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rade off entre respuesta y efici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abr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oco en el produ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oco en la fun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odeg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macenamiento por SK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lmacenamiento por lotes de acuerdo a necesidades del cl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rossd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nventari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odo el inventario del proceso, desde la materia prima hasta el producto termin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rade off entre respuesta y efici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cisiones 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de cic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de segur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ventario est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Localiz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 todos los elementos y procesos que conforman la red de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cisiones de centralización versus distribu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uevamente el trade off entre respuesta y efic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actores: Ambientales, de costo, recursos humanos calificados, impuestos, transporte y sobre todo cercanía a clientes y proveedores cla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s decisio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n relevantes en la performance de la cade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terminan fuertemente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fectan por un periodo importante de tiem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fluencian decisiones de transpor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on decisiones que dicen mucho de la estrategia de una empresa para abordar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Transport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o tipo de desplazamiento de bienes finales a materias primas, pasando por los subproductos intermed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ásicamente se analiz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os (típicos + transporte electrónic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s contractu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 de oper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66"/>
                </a:solidFill>
                <a:latin typeface="Times New Roman"/>
              </a:rPr>
              <a:t>Integración de la cadena de valor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" y="2060640"/>
            <a:ext cx="180000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59280" y="2060640"/>
            <a:ext cx="22334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96000" y="2060640"/>
            <a:ext cx="1871640" cy="345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35280" y="2708280"/>
            <a:ext cx="72072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51280" y="3213000"/>
            <a:ext cx="647640" cy="64764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48000" y="3213000"/>
            <a:ext cx="792360" cy="720720"/>
          </a:xfrm>
          <a:prstGeom prst="ellipse">
            <a:avLst/>
          </a:prstGeom>
          <a:solidFill>
            <a:srgbClr val="ffffcc">
              <a:alpha val="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08360" y="3645000"/>
            <a:ext cx="647640" cy="647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87840" y="2441520"/>
            <a:ext cx="97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88920" y="4098960"/>
            <a:ext cx="147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88360" y="3357720"/>
            <a:ext cx="108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327480" y="2009880"/>
            <a:ext cx="131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2060640"/>
            <a:ext cx="194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16000" y="314172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285264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835280" y="3429000"/>
            <a:ext cx="360360" cy="287280"/>
          </a:xfrm>
          <a:prstGeom prst="hexagon">
            <a:avLst>
              <a:gd name="adj" fmla="val 31360"/>
              <a:gd name="vf" fmla="val 1154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63640" y="2997360"/>
            <a:ext cx="144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58920" y="3357720"/>
            <a:ext cx="433440" cy="14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68360" y="357336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268360" y="2997000"/>
            <a:ext cx="100836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050920" y="2707920"/>
            <a:ext cx="122580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050560" y="3933720"/>
            <a:ext cx="129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547640" y="3860640"/>
            <a:ext cx="360360" cy="287640"/>
          </a:xfrm>
          <a:prstGeom prst="hexagon">
            <a:avLst>
              <a:gd name="adj" fmla="val 31320"/>
              <a:gd name="vf" fmla="val 11547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71640" y="4508640"/>
            <a:ext cx="144360" cy="215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19280" y="4653000"/>
            <a:ext cx="144360" cy="288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16000" y="4653000"/>
            <a:ext cx="50328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692360" y="4149720"/>
            <a:ext cx="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835280" y="4220640"/>
            <a:ext cx="187308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71640" y="5084640"/>
            <a:ext cx="144360" cy="14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0920" y="5300640"/>
            <a:ext cx="21744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7920" bIns="7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87280" y="5300640"/>
            <a:ext cx="144720" cy="14436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187280" y="4941720"/>
            <a:ext cx="43200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403280" y="5013000"/>
            <a:ext cx="28908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268360" y="4436640"/>
            <a:ext cx="136692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40360" y="3068640"/>
            <a:ext cx="57636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12000" y="4149720"/>
            <a:ext cx="576000" cy="504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64360" y="249228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164360" y="3573360"/>
            <a:ext cx="360360" cy="28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093080" y="4941720"/>
            <a:ext cx="360360" cy="287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101080" y="1628640"/>
            <a:ext cx="863640" cy="49690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3933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500720" y="414972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372360" y="2781000"/>
            <a:ext cx="79200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43640" y="3357720"/>
            <a:ext cx="865080" cy="35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6443640" y="3789000"/>
            <a:ext cx="1008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16720" y="4437000"/>
            <a:ext cx="1727280" cy="7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360" bIns="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80360" y="5084640"/>
            <a:ext cx="107928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4508640"/>
            <a:ext cx="93636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164360" y="3141720"/>
            <a:ext cx="216000" cy="2160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08720" y="3284640"/>
            <a:ext cx="93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08720" y="27082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451640" y="2637000"/>
            <a:ext cx="86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451280" y="2781360"/>
            <a:ext cx="792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7380360" y="371628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7380360" y="335772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380360" y="522936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524720" y="393372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796000" y="2060640"/>
            <a:ext cx="1835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RE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DISTRIBU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1341360"/>
            <a:ext cx="8172360" cy="4680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917440" y="105264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ón sistémica 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nform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s la piedra angular de las cadenas de valor modern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 allí la reiterada y creciente referencia a las TIC en los temas de gestión de operacion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ecta y le da al sistema la posibilidad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ordin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artir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rade off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Beneficios versus costos de las 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artir versus riesgos de compartir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Ejemplo: Wall Mart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Estrategia: Crecimiento agresivo orientado a mercados masivos, sobre la base de precios competitivo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Estructura de su cadena de valor: Orientada a bajar sus costos, incrementar productividad y traspasar a precio las eficiencia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Las técnicas que implementaron son hoy modelos en diseño estratégico de operaciones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Por ejemplo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xpansión alrededor de centros de distribu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Uso de medios electrónicos para intercambio de información con proveedo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Formato ‘big box’ para sus tienda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combina tienda y bodeg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ecios bajos todos los días’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mejora pronósticos de ven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La complejidad en el diseño de cadenas de valo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618920" y="5300280"/>
            <a:ext cx="6264360" cy="1181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¡¡¡Tanta complejidad como el tipo de negocio y la estrategia requieran … ni más ni menos!!!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700360" y="220356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edor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08000" y="3932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ís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90920" y="3932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280" y="2924280"/>
            <a:ext cx="107928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ee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908000" y="2924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bric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74920" y="2924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ribu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08720" y="2924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or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148360" y="2924280"/>
            <a:ext cx="107928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932360" y="1700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ig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258920" y="1700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eñ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516720" y="3932280"/>
            <a:ext cx="107964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2" name=""/>
          <p:cNvCxnSpPr>
            <a:stCxn id="668" idx="3"/>
            <a:endCxn id="667" idx="1"/>
          </p:cNvCxnSpPr>
          <p:nvPr/>
        </p:nvCxnSpPr>
        <p:spPr>
          <a:xfrm>
            <a:off x="6227280" y="3176280"/>
            <a:ext cx="10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3" name=""/>
          <p:cNvCxnSpPr>
            <a:stCxn id="669" idx="3"/>
            <a:endCxn id="667" idx="0"/>
          </p:cNvCxnSpPr>
          <p:nvPr/>
        </p:nvCxnSpPr>
        <p:spPr>
          <a:xfrm>
            <a:off x="6012000" y="1952280"/>
            <a:ext cx="183744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4" name=""/>
          <p:cNvCxnSpPr>
            <a:stCxn id="669" idx="2"/>
            <a:endCxn id="668" idx="0"/>
          </p:cNvCxnSpPr>
          <p:nvPr/>
        </p:nvCxnSpPr>
        <p:spPr>
          <a:xfrm>
            <a:off x="5472000" y="2205000"/>
            <a:ext cx="21672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5" name=""/>
          <p:cNvCxnSpPr>
            <a:stCxn id="666" idx="3"/>
            <a:endCxn id="668" idx="1"/>
          </p:cNvCxnSpPr>
          <p:nvPr/>
        </p:nvCxnSpPr>
        <p:spPr>
          <a:xfrm>
            <a:off x="4354200" y="3176280"/>
            <a:ext cx="794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6" name=""/>
          <p:cNvCxnSpPr>
            <a:stCxn id="666" idx="0"/>
            <a:endCxn id="669" idx="1"/>
          </p:cNvCxnSpPr>
          <p:nvPr/>
        </p:nvCxnSpPr>
        <p:spPr>
          <a:xfrm flipV="1">
            <a:off x="3814920" y="1951920"/>
            <a:ext cx="111780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7" name=""/>
          <p:cNvCxnSpPr>
            <a:stCxn id="670" idx="3"/>
            <a:endCxn id="669" idx="1"/>
          </p:cNvCxnSpPr>
          <p:nvPr/>
        </p:nvCxnSpPr>
        <p:spPr>
          <a:xfrm>
            <a:off x="2338200" y="1952280"/>
            <a:ext cx="2594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8" name=""/>
          <p:cNvCxnSpPr>
            <a:stCxn id="662" idx="1"/>
            <a:endCxn id="664" idx="2"/>
          </p:cNvCxnSpPr>
          <p:nvPr/>
        </p:nvCxnSpPr>
        <p:spPr>
          <a:xfrm flipH="1" flipV="1">
            <a:off x="1150200" y="3428280"/>
            <a:ext cx="757800" cy="75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9" name=""/>
          <p:cNvCxnSpPr>
            <a:stCxn id="662" idx="0"/>
            <a:endCxn id="665" idx="2"/>
          </p:cNvCxnSpPr>
          <p:nvPr/>
        </p:nvCxnSpPr>
        <p:spPr>
          <a:xfrm flipV="1">
            <a:off x="2447640" y="3428640"/>
            <a:ext cx="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0" name=""/>
          <p:cNvCxnSpPr>
            <a:stCxn id="662" idx="3"/>
            <a:endCxn id="666" idx="2"/>
          </p:cNvCxnSpPr>
          <p:nvPr/>
        </p:nvCxnSpPr>
        <p:spPr>
          <a:xfrm flipV="1">
            <a:off x="2987640" y="3428280"/>
            <a:ext cx="828000" cy="75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1" name=""/>
          <p:cNvCxnSpPr>
            <a:stCxn id="664" idx="3"/>
            <a:endCxn id="665" idx="1"/>
          </p:cNvCxnSpPr>
          <p:nvPr/>
        </p:nvCxnSpPr>
        <p:spPr>
          <a:xfrm>
            <a:off x="1690560" y="3176280"/>
            <a:ext cx="21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2" name=""/>
          <p:cNvCxnSpPr>
            <a:stCxn id="665" idx="3"/>
            <a:endCxn id="666" idx="1"/>
          </p:cNvCxnSpPr>
          <p:nvPr/>
        </p:nvCxnSpPr>
        <p:spPr>
          <a:xfrm>
            <a:off x="2987640" y="317628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3" name=""/>
          <p:cNvCxnSpPr>
            <a:stCxn id="663" idx="0"/>
            <a:endCxn id="665" idx="2"/>
          </p:cNvCxnSpPr>
          <p:nvPr/>
        </p:nvCxnSpPr>
        <p:spPr>
          <a:xfrm flipH="1" flipV="1">
            <a:off x="2447640" y="3428640"/>
            <a:ext cx="15832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4" name=""/>
          <p:cNvCxnSpPr>
            <a:stCxn id="663" idx="0"/>
            <a:endCxn id="666" idx="2"/>
          </p:cNvCxnSpPr>
          <p:nvPr/>
        </p:nvCxnSpPr>
        <p:spPr>
          <a:xfrm flipH="1" flipV="1">
            <a:off x="3814200" y="3428640"/>
            <a:ext cx="21636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5" name=""/>
          <p:cNvCxnSpPr>
            <a:stCxn id="663" idx="3"/>
            <a:endCxn id="671" idx="1"/>
          </p:cNvCxnSpPr>
          <p:nvPr/>
        </p:nvCxnSpPr>
        <p:spPr>
          <a:xfrm>
            <a:off x="4570560" y="4184280"/>
            <a:ext cx="194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6" name=""/>
          <p:cNvCxnSpPr>
            <a:stCxn id="661" idx="2"/>
            <a:endCxn id="665" idx="0"/>
          </p:cNvCxnSpPr>
          <p:nvPr/>
        </p:nvCxnSpPr>
        <p:spPr>
          <a:xfrm flipH="1">
            <a:off x="2447640" y="2708280"/>
            <a:ext cx="7927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7" name=""/>
          <p:cNvCxnSpPr>
            <a:stCxn id="661" idx="2"/>
            <a:endCxn id="666" idx="0"/>
          </p:cNvCxnSpPr>
          <p:nvPr/>
        </p:nvCxnSpPr>
        <p:spPr>
          <a:xfrm>
            <a:off x="3239640" y="2708280"/>
            <a:ext cx="5756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8" name=""/>
          <p:cNvCxnSpPr>
            <a:stCxn id="661" idx="3"/>
            <a:endCxn id="668" idx="0"/>
          </p:cNvCxnSpPr>
          <p:nvPr/>
        </p:nvCxnSpPr>
        <p:spPr>
          <a:xfrm>
            <a:off x="3780000" y="2455560"/>
            <a:ext cx="190872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89" name=""/>
          <p:cNvCxnSpPr>
            <a:stCxn id="666" idx="3"/>
            <a:endCxn id="671" idx="1"/>
          </p:cNvCxnSpPr>
          <p:nvPr/>
        </p:nvCxnSpPr>
        <p:spPr>
          <a:xfrm>
            <a:off x="4354560" y="3176640"/>
            <a:ext cx="21628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0" name=""/>
          <p:cNvCxnSpPr>
            <a:stCxn id="670" idx="2"/>
            <a:endCxn id="665" idx="0"/>
          </p:cNvCxnSpPr>
          <p:nvPr/>
        </p:nvCxnSpPr>
        <p:spPr>
          <a:xfrm>
            <a:off x="1798560" y="2205000"/>
            <a:ext cx="6501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1" name=""/>
          <p:cNvCxnSpPr>
            <a:stCxn id="670" idx="2"/>
            <a:endCxn id="664" idx="0"/>
          </p:cNvCxnSpPr>
          <p:nvPr/>
        </p:nvCxnSpPr>
        <p:spPr>
          <a:xfrm flipH="1">
            <a:off x="1150200" y="2205000"/>
            <a:ext cx="6483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laves de diseño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tender los merc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fectividad versus respuesta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maños de lo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lera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edad de produc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vel de servic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ivel de innov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ir las competencias centrales de la empres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é tipo de jugador somos en la GICAV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e aporte clave hacemo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uantos mercados y cadenas servimo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arrollar las capacidades de nuestra GICA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stión de la cade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iz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80000"/>
              </a:lnSpc>
              <a:spcBef>
                <a:spcPts val="400"/>
              </a:spcBef>
              <a:buSzPct val="13500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484360" y="692280"/>
            <a:ext cx="4535640" cy="151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Entender l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finir las competencias centrales de l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Desarrollar capacidades de GIC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1403280" y="4149720"/>
            <a:ext cx="6193080" cy="230508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4067280" y="2492280"/>
            <a:ext cx="129528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329840" y="260280"/>
            <a:ext cx="67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ineando estrategia de negocio y diseño de la supply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143240" y="34290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4788360" y="1484640"/>
            <a:ext cx="71640" cy="4968720"/>
          </a:xfrm>
          <a:custGeom>
            <a:avLst/>
            <a:gdLst>
              <a:gd name="textAreaLeft" fmla="*/ 0 w 71640"/>
              <a:gd name="textAreaRight" fmla="*/ 25920 w 71640"/>
              <a:gd name="textAreaTop" fmla="*/ 129240 h 4968720"/>
              <a:gd name="textAreaBottom" fmla="*/ 4839480 h 49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aso de las Cadenas de Farmacia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Fuerte cambio en los últimos 10 añ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 comienzos de los 90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tomización1100 farmacias independiente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70% del merc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o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580 farmacias independientes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8% del merc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300 prácticamente en quieb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3 grandes cadenas: Salco, Fasa y Cruz Verde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88% del merc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Farmalíder 4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¿Dónde están las claves de esta transformació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50920" y="3645000"/>
            <a:ext cx="194472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95280" y="2349360"/>
            <a:ext cx="1728720" cy="792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208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Estructura de operación de las grandes cadena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863640" cy="7160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595440" y="24400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95440" y="36655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nj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492360" y="3573360"/>
            <a:ext cx="13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653800" y="37162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2"/>
          <a:stretch/>
        </p:blipFill>
        <p:spPr>
          <a:xfrm>
            <a:off x="6877080" y="5229360"/>
            <a:ext cx="880920" cy="900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6446160" y="50846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72000" y="0"/>
            <a:ext cx="4321080" cy="2527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8.000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 líneas: Separar medicamentos de los productos de conveni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bertura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nejo de venc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denas de frí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cales pequeños </a:t>
            </a:r>
            <a:r>
              <a:rPr b="0" lang="es-C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Manejo de bajas cant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ta reposi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raz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635280" y="6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08000" y="285264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24000" y="3357360"/>
            <a:ext cx="1295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80320" y="5300640"/>
            <a:ext cx="23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ci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ción electr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rot="5400000">
            <a:off x="2048760" y="3503520"/>
            <a:ext cx="648000" cy="2803320"/>
          </a:xfrm>
          <a:custGeom>
            <a:avLst/>
            <a:gdLst>
              <a:gd name="textAreaLeft" fmla="*/ 86760 w 648000"/>
              <a:gd name="textAreaRight" fmla="*/ 561240 w 648000"/>
              <a:gd name="textAreaTop" fmla="*/ 490320 h 2803320"/>
              <a:gd name="textAreaBottom" fmla="*/ 2032560 h 28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184160" y="25653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lota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18850800">
            <a:off x="6816600" y="2968560"/>
            <a:ext cx="828720" cy="720720"/>
          </a:xfrm>
          <a:prstGeom prst="leftArrow">
            <a:avLst>
              <a:gd name="adj1" fmla="val 50000"/>
              <a:gd name="adj2" fmla="val 2874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3"/>
          <a:stretch/>
        </p:blipFill>
        <p:spPr>
          <a:xfrm>
            <a:off x="5940360" y="3141720"/>
            <a:ext cx="649440" cy="64296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4"/>
          <a:stretch/>
        </p:blipFill>
        <p:spPr>
          <a:xfrm>
            <a:off x="4211640" y="3213000"/>
            <a:ext cx="504720" cy="4446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5"/>
          <a:stretch/>
        </p:blipFill>
        <p:spPr>
          <a:xfrm>
            <a:off x="2195640" y="4724280"/>
            <a:ext cx="617400" cy="51444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643280" y="342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516720" y="4005360"/>
            <a:ext cx="1079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7745400" y="3689280"/>
          <a:ext cx="1398600" cy="316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45400" y="3689280"/>
                    <a:ext cx="13986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"/>
          <p:cNvSpPr/>
          <p:nvPr/>
        </p:nvSpPr>
        <p:spPr>
          <a:xfrm>
            <a:off x="4500720" y="5734080"/>
            <a:ext cx="863280" cy="71928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5076720" y="5734080"/>
            <a:ext cx="1727280" cy="43164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716360" y="3716280"/>
            <a:ext cx="287280" cy="172872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5148360" y="4076640"/>
            <a:ext cx="792000" cy="158436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0066"/>
                </a:solidFill>
                <a:latin typeface="Times New Roman"/>
              </a:rPr>
              <a:t>2. Rediseñando la cadena de valo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s empresas de hoy tiene que analizar constantemente que partes de su cadenas de valor son vulnerables, cuales son defendibles, que alianzas tienen sentido estratégico y cuales son peligros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Importante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diseño de la cadena de valor es un proceso permanen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tener ventajas competitivas requiere un constante proceso de revisión y ajuste a la estructura de procesos, proveedores y distribuidor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cadenas de valor no solo son complejas, también son cambiantes. Esta es la esencia de la mirada estratégica de la GICA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¿Cómo analizar y rediseñar la cadena de valor?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pa de MIT/SLOAN (Charles Fin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900000" y="3860640"/>
            <a:ext cx="3816360" cy="151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mportancia para e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loj 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sición Compet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apacidad de los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rquite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43280" y="2924280"/>
            <a:ext cx="73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criterios clave de evaluació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3 áreas de d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340000" y="335772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435640" y="3500280"/>
            <a:ext cx="3457080" cy="2100240"/>
            <a:chOff x="5435640" y="3500280"/>
            <a:chExt cx="3457080" cy="2100240"/>
          </a:xfrm>
        </p:grpSpPr>
        <p:sp>
          <p:nvSpPr>
            <p:cNvPr id="741" name=""/>
            <p:cNvSpPr/>
            <p:nvPr/>
          </p:nvSpPr>
          <p:spPr>
            <a:xfrm>
              <a:off x="6267960" y="3929040"/>
              <a:ext cx="1781640" cy="128736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35640" y="5171760"/>
              <a:ext cx="1023840" cy="42876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652080" y="3500280"/>
              <a:ext cx="1024200" cy="42876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868880" y="5171760"/>
              <a:ext cx="1023840" cy="42876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659640" y="3500280"/>
            <a:ext cx="10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435640" y="5157720"/>
            <a:ext cx="10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84720" y="515772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an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66"/>
                </a:solidFill>
                <a:latin typeface="Times New Roman"/>
              </a:rPr>
              <a:t>5. Antecedentes en la Industria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iciativas de integración en industr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tail – EC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tomotriz – Lean Enterp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xtil – Quick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 driven Supply Ch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riterios de evaluación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85760" y="1700280"/>
            <a:ext cx="6580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ortancia para 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loj tecn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sición 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pacidad de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rquit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975840" y="1482840"/>
            <a:ext cx="66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255760"/>
            <a:ext cx="94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áp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1484280"/>
            <a:ext cx="215640" cy="1368360"/>
          </a:xfrm>
          <a:custGeom>
            <a:avLst/>
            <a:gdLst>
              <a:gd name="textAreaLeft" fmla="*/ 0 w 215640"/>
              <a:gd name="textAreaRight" fmla="*/ 77760 w 215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343480" y="1843200"/>
            <a:ext cx="354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Alta importancia para el cliente y rápida evolución tecnológica </a:t>
            </a:r>
            <a:r>
              <a:rPr b="1" lang="es-CL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 Alto valor estratégico </a:t>
            </a:r>
            <a:r>
              <a:rPr b="1" lang="es-CL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 Candidato a insour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983480" y="3162240"/>
            <a:ext cx="945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vent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940360" y="3429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659640" y="3232080"/>
            <a:ext cx="230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3300"/>
                </a:solidFill>
                <a:latin typeface="Arial"/>
              </a:rPr>
              <a:t>Insourcing es indicado en áreas de ventaja só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978200" y="3933720"/>
            <a:ext cx="75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gu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1403280" y="4365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414972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3300"/>
                </a:solidFill>
                <a:latin typeface="Arial"/>
              </a:rPr>
              <a:t>Tiene que haber oferta disponible y capaz para outsoru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796000" y="4581360"/>
            <a:ext cx="73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784920" y="4529160"/>
            <a:ext cx="203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Arial"/>
              </a:rPr>
              <a:t>Alta modularidad facilita extern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443640" y="47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Tipos de decisione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755640" y="1904760"/>
            <a:ext cx="5184720" cy="2531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Importancia para el cli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Reloj tecnológ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Posición Competiti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apacidad de proveed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rquitectu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"/>
          <p:cNvSpPr/>
          <p:nvPr/>
        </p:nvSpPr>
        <p:spPr>
          <a:xfrm>
            <a:off x="6129000" y="3789360"/>
            <a:ext cx="301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utsourcing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ianza/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source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pin o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sarrollo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buClr>
                <a:srgbClr val="000000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ut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rot="5400000">
            <a:off x="4320000" y="4545720"/>
            <a:ext cx="792360" cy="863640"/>
          </a:xfrm>
          <a:custGeom>
            <a:avLst/>
            <a:gdLst>
              <a:gd name="textAreaLeft" fmla="*/ 264240 w 792360"/>
              <a:gd name="textAreaRight" fmla="*/ 678600 w 792360"/>
              <a:gd name="textAreaTop" fmla="*/ 497520 h 863640"/>
              <a:gd name="textAreaBottom" fmla="*/ 7398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580000" y="3933720"/>
            <a:ext cx="360360" cy="2159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56160 h 2159280"/>
              <a:gd name="textAreaBottom" fmla="*/ 2103120 h 21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Revisando la cadena de valor con dos criteri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03280" y="1557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álisis del valor estratégico (SV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álisis de valor económico agregado (EV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2627280" y="314136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627280" y="5950080"/>
            <a:ext cx="46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168560" y="4384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481640" y="6113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16360" y="314172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365720"/>
            <a:ext cx="446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969280" y="35924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palan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967840" y="496080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Out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056920" y="359244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Arial"/>
              </a:rPr>
              <a:t>In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079600" y="49417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se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íntesi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692360" y="2133720"/>
            <a:ext cx="1511280" cy="10080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it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692360" y="4653000"/>
            <a:ext cx="1511280" cy="10080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tit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265640" y="2440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194360" y="4960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148360" y="2349360"/>
            <a:ext cx="431640" cy="2808360"/>
          </a:xfrm>
          <a:custGeom>
            <a:avLst/>
            <a:gdLst>
              <a:gd name="textAreaLeft" fmla="*/ 0 w 431640"/>
              <a:gd name="textAreaRight" fmla="*/ 155880 w 4316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850360" y="359244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554240" y="314172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i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948360" y="3789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mpl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e modelo fue desarrollado para la General Mot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loj Tecnológ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ilindr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ntrolado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petitiv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mponentes maduras en las que GM no era líder en costo total, se externalizar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ase de provee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Oferta amplia y capaz de mercado es clave para externalizar. Cuando no la hay la GM la desarrol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quitec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iseño altamente integr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anufactura modul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stema de evacuación incluyendo el convertidor catálitico, sensores de oxigeno, sistema de inyección de air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formance afecta emisiones y aceleración, por lo que afecta a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emento clave es el sensor, que evoluciona rápido bajo fuerte regulación gubernamen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osición competitiva de GM es fue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ingún proveedor con capacidad integral en e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ubsistema mod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ndidato natural al insourcing, con cuidado especial de conservar y desarrollar los activos asoc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Casos famos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IBM decide a comienzos de los 80 externalizar la manufactura de microprocesadores para su primer P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Eran los mayores fabricantes, aunque no tenían el requerido para este tipo de computad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Importancia para el cliente se consideró baja, lo que aconsejo el outsourc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Sin embarg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volución tecnológica baj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ase restringida de proveedores (Intel, AM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alla en detectar la potencia modular de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greguemos el desarrollo de Windo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Reultado: La combinación WINTEL destruyó completamente las ventajas de IBM y generó un mercado de clones varias veces may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UNILEVE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ción de shampoo de mar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y importante el manejo de marca, sin embargo los clientes no perciben quien ensamb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o de mezcla no es tecnológicamente de evolución rápi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erencias de competitividad pequeñ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a base de proveedores habilit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ción modu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ización de la producción del shampo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l desconocido valor de NAPSTER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lataforma de compartición de música con modelo P2P, usada por decenas de millones de personas en el mun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IAA: Asociación de Casas Discografica demandó y cerró Naps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esde la perspectiva del análisis de la cadena de valor, la decisión no parece ser tan adecu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 masividad de Napster era un conducto ideal para mantener algún nivel de control de la distribución de música en líne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u identidad como el centro natural de compartición de música era validado por los consumido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n vez de destruirla algún tipo de alianza habría sido más efec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esultado: Miles de sitios similares distribuidos y que surgen diariamente mantienen y ha aumentado la amenaza sobre la industria, sin que sea posible controlar y con poca eficacia en el canal leg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00000" y="1628280"/>
            <a:ext cx="701064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En el caso de la industria de los salmones: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- Jaulas para peces</a:t>
            </a:r>
            <a:br>
              <a:rPr sz="2800"/>
            </a:b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4000" y="3428640"/>
            <a:ext cx="701028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mportancia para e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loj tecnológ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petitiv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apacidad de provee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dular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488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Ejemplo ECR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ermercados y sus proveedores, desarrollan una cadena integrada, que funciona en base a una coordinación y una visión como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66"/>
                </a:solidFill>
                <a:latin typeface="Times New Roman"/>
              </a:rPr>
              <a:t>ECR: Efficient Consumer Response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evo enfoque de la distribució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r los procesos logísticos de distribución y comercia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ado en la misma filosofía del cambio en los esquemas de producción (WC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bio de un enfoque ‘push’ movido por los proveedores hacia un enfoque ‘pull’activado por el merc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servar la analogía filosófica con el enfoque JIT en produc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32000" y="330120"/>
            <a:ext cx="7488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79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6:20:04Z</dcterms:created>
  <dc:creator>.</dc:creator>
  <dc:description/>
  <dc:language>en-US</dc:language>
  <cp:lastModifiedBy>.</cp:lastModifiedBy>
  <dcterms:modified xsi:type="dcterms:W3CDTF">2006-10-12T13:48:29Z</dcterms:modified>
  <cp:revision>62</cp:revision>
  <dc:subject/>
  <dc:title>Diapositiva 1</dc:title>
</cp:coreProperties>
</file>