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099-BC37-47F8-AD84-ACBD0C24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ED19-D9CE-47FF-80E5-9641B3C3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0B4-C43D-433A-9090-FA2C6C09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7361-21DA-463F-A178-996174CB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F39-12E1-4211-89CD-0F18BAE4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9320-6DB9-4694-AFD0-AD13AD00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9DAD-2736-4DDC-B80C-D50CDE12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549F-A236-421D-8E52-376D7AD5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BA1-0167-4E83-BAE6-CC59288A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1D0-332D-4CE8-92B1-01AE8739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9391-DAB3-4944-BB7A-A75272F6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7F04-0956-444B-8BC4-EC8A2D0D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CB1E-AE29-410D-9532-CF39CE865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álisis de Cas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75T Dirección de Ope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empresa planea la introducción de una nueva tecnología para el uso de energía solar a nivel domicilia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 tecnología tiene beneficios económicos de largo plazo para los clientes, aunque implica inversiones a los clientes en el corto plaz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dicionalmente requiere de capacidades técnicas para instalar y mantener el equipamiento, que no están disponibles en Chile en el volumen suficiente para soportar un uso masi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les pide hacer un análisis cualitativo estratégico de este posible proyecto desde la perspectiva del diseño de su modelo operacional (El análisis cuantitativo lo dejaremos pendiente a pedido de uste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é elementos debería considerar en el diseño de su cadena de valor para asegurar una introducción exito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áles son las claves para el negocio resul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omo estructuraría el modelo de oper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Qué barreras pueden existir al desarrollo de la estrateg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Debe orientarse la cadena a la eficiencia o a la respues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9:30:30Z</dcterms:created>
  <dc:creator>.</dc:creator>
  <dc:description/>
  <dc:language>en-US</dc:language>
  <cp:lastModifiedBy>.</cp:lastModifiedBy>
  <dcterms:modified xsi:type="dcterms:W3CDTF">2006-11-14T19:38:25Z</dcterms:modified>
  <cp:revision>3</cp:revision>
  <dc:subject/>
  <dc:title>Análisis de Caso 2</dc:title>
</cp:coreProperties>
</file>