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0E5-4DE0-4AD3-9047-BBFF7173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FA0-B1F8-45C6-BB5A-E79DC7EC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B01-65CC-43D0-9082-D5C23A87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DB6-BCF6-4EBF-B2A8-951DBB5B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86D-7A04-41AE-A6BD-5BCC7007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088-B2A5-47A6-BA4F-7A4502F5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6C0-B98B-49B8-93FC-EEFCBDF7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883-D537-45EA-BDD0-EF6D4C99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459-47A2-4010-80F4-012C9844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F38-3CFA-48AC-974F-900405C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045-374F-4DEC-98B1-430DE863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CA7-6081-4111-AA78-DDB2D78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55FC-91CA-4168-9DBA-78A287E07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 de Cas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75T Dirección de Op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empresa planea la introducción de una nueva tecnología para el uso de energía solar a nivel domicili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 tecnología tiene beneficios económicos de largo plazo para los clientes, aunque implica inversiones a los clientes en el corto plaz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icionalmente requiere de capacidades técnicas para instalar y mantener el equipamiento, que no están disponibles en Chile en el volumen suficiente para soportar un uso mas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les pide hacer un análisis cualitativo estratégico de este posible proyecto desde la perspectiva del diseño de su modelo operacional (El análisis cuantitativo lo dejaremos pendiente a pedido de uste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é elementos debería considerar en el diseño de su cadena de valor para asegurar una introducción exit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es son las claves para el negocio resul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omo estructuraría el modelo de oper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barreras pueden existir al desarrollo de la estrateg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Debe orientarse la cadena a la eficiencia o a la respues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30:30Z</dcterms:created>
  <dc:creator>.</dc:creator>
  <dc:description/>
  <dc:language>en-US</dc:language>
  <cp:lastModifiedBy>.</cp:lastModifiedBy>
  <dcterms:modified xsi:type="dcterms:W3CDTF">2006-11-14T19:38:25Z</dcterms:modified>
  <cp:revision>3</cp:revision>
  <dc:subject/>
  <dc:title>Análisis de Caso 2</dc:title>
</cp:coreProperties>
</file>