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0A9-B4CB-4948-9164-844FDF6E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1F5-5AB7-4864-ADF4-BB705A9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2C7-A64F-4256-9B38-D56044A3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D02-7530-4FFB-842D-DDA0E79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294-4549-4321-BF29-A76044A6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9FB-C837-4051-A4DA-E228554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70C-C41D-45A8-A0A7-5039840D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DCD-9D6B-40E7-996B-1860E192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571-032A-454A-BAD0-25317B8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2FC-9E14-4B77-8CD9-EDBF86D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F73-62BE-4DF7-A551-5EB8978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53A-E8F7-4B8E-BD7D-678B6A2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8703-8290-43E1-8A5A-619CFEB2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de Ca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 Dirección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empresa planea la introducción de una nueva tecnología para el uso de energía solar a nivel domicili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tecnología tiene beneficios económicos de largo plazo para los clientes, aunque implica inversiones a los clientes en el corto plaz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icionalmente requiere de capacidades técnicas para instalar y mantener el equipamiento, que no están disponibles en Chile en el volumen suficiente para soportar un uso mas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les pide hacer un análisis cualitativo estratégico de este posible proyecto desde la perspectiva del diseño de su modelo operacional (El análisis cuantitativo lo dejaremos pendiente a pedido de uste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é elementos debería considerar en el diseño de su cadena de valor para asegurar una introducción exit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es son las claves para el negocio resul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omo estructuraría el modelo de oper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barreras pueden existir al desarrollo de la estrateg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Debe orientarse la cadena a la eficiencia o a la resp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30:30Z</dcterms:created>
  <dc:creator>.</dc:creator>
  <dc:description/>
  <dc:language>en-US</dc:language>
  <cp:lastModifiedBy>.</cp:lastModifiedBy>
  <dcterms:modified xsi:type="dcterms:W3CDTF">2006-11-14T19:38:25Z</dcterms:modified>
  <cp:revision>3</cp:revision>
  <dc:subject/>
  <dc:title>Análisis de Caso 2</dc:title>
</cp:coreProperties>
</file>