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C2F5213-DA5F-49FF-9729-91FAE0D2DC33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14280"/>
            <a:ext cx="8586720" cy="5353560"/>
            <a:chOff x="874800" y="1214280"/>
            <a:chExt cx="8586720" cy="535356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2800" y="1214280"/>
              <a:ext cx="3503160" cy="738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9306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65636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6-10-25T02:43:41Z</dcterms:modified>
  <cp:revision>36</cp:revision>
  <dc:subject/>
  <dc:title>New PowerPoint Template</dc:title>
</cp:coreProperties>
</file>