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15.png" ContentType="image/png"/>
  <Override PartName="/ppt/media/image5.jpeg" ContentType="image/jpeg"/>
  <Override PartName="/ppt/media/image4.wmf" ContentType="image/x-wmf"/>
  <Override PartName="/ppt/media/image9.wmf" ContentType="image/x-wmf"/>
  <Override PartName="/ppt/media/image14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18600" y="9145440"/>
            <a:ext cx="1282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34B317-FFB6-4369-A3F7-D94E4E333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2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owser  is Portal compat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improvements -&gt;  30 sec down to 5 sec in some cas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D alignment -&gt; select and launch Excel companion from Work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Explorer Control (analog of Tag Explor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ick View Control (read-only analog of ModTa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Trend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unch Excel Companion or PHD Tr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lational Database Acces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 SQL queries for 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time-serie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Oracle or SQL 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mple queries for connection to Business.FLEX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PI Manag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MI Web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bedded trend ob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lighting for bad data values and/or ‘old’ data val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ol tips for tag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ll shape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owser  is Portal compat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improvements -&gt;  30 sec down to 5 sec in some cas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D alignment -&gt; select and launch Excel companion from Work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Explorer Control (analog of Tag Explor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ick View Control (read-only analog of ModTa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center Trend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unch Excel Companion or PHD Tr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lational Database Acces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d SQL queries for 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time-serie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Oracle or SQL Serv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mple queries for connection to Business.FLEX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03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PI Manag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MI Web Enhanc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bedded trend ob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lighting for bad data values and/or ‘old’ data val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ol tips for tag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ll shape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736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132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304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736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132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63040" y="105840"/>
            <a:ext cx="79981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736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1320" y="99180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304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736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1320" y="3620160"/>
            <a:ext cx="257508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63040" y="105840"/>
            <a:ext cx="799812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1280" y="362016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304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1280" y="991800"/>
            <a:ext cx="390276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3040" y="3620160"/>
            <a:ext cx="7998120" cy="240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3040" y="991800"/>
            <a:ext cx="799812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90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9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73080" indent="-1206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30280" indent="-27144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78560" y="6585120"/>
            <a:ext cx="792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1D8A-E5FC-446B-87F7-7D6AF10DC688}" type="slidenum">
              <a:rPr b="1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55000" y="6585120"/>
            <a:ext cx="2014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NEYWELL -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640" y="6585120"/>
            <a:ext cx="9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llars of Su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404640"/>
            <a:ext cx="8574120" cy="204840"/>
            <a:chOff x="304920" y="404640"/>
            <a:chExt cx="8574120" cy="20484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7936200" y="404640"/>
              <a:ext cx="942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04920" y="609480"/>
              <a:ext cx="8574120" cy="0"/>
            </a:xfrm>
            <a:prstGeom prst="line">
              <a:avLst/>
            </a:prstGeom>
            <a:ln w="12600">
              <a:solidFill>
                <a:srgbClr val="dc24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8720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40" y="4803840"/>
            <a:ext cx="9141120" cy="2054160"/>
            <a:chOff x="1440" y="4803840"/>
            <a:chExt cx="9141120" cy="2054160"/>
          </a:xfrm>
        </p:grpSpPr>
        <p:sp>
          <p:nvSpPr>
            <p:cNvPr id="46" name=""/>
            <p:cNvSpPr/>
            <p:nvPr/>
          </p:nvSpPr>
          <p:spPr>
            <a:xfrm>
              <a:off x="1440" y="4803840"/>
              <a:ext cx="9141120" cy="457200"/>
            </a:xfrm>
            <a:custGeom>
              <a:avLst/>
              <a:gdLst/>
              <a:ahLst/>
              <a:rect l="l" t="t" r="r" b="b"/>
              <a:pathLst>
                <a:path w="5758" h="314">
                  <a:moveTo>
                    <a:pt x="0" y="314"/>
                  </a:moveTo>
                  <a:cubicBezTo>
                    <a:pt x="959" y="157"/>
                    <a:pt x="1919" y="0"/>
                    <a:pt x="2879" y="0"/>
                  </a:cubicBezTo>
                  <a:cubicBezTo>
                    <a:pt x="3839" y="0"/>
                    <a:pt x="4798" y="157"/>
                    <a:pt x="5758" y="3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0" y="5261040"/>
              <a:ext cx="9141120" cy="159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94320" y="5867280"/>
            <a:ext cx="1987560" cy="37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a5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53a5"/>
              </a:solidFill>
              <a:latin typeface="Arial"/>
            </a:endParaRPr>
          </a:p>
          <a:p>
            <a:pPr lvl="1" marL="28908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ctr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524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3004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230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23004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condida.cl/Escondida/proc_productivo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8720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241f"/>
                </a:solidFill>
                <a:latin typeface="Arial"/>
              </a:rPr>
              <a:t>Integración de la Cadena de Valor en Minería del Cobr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a Aproximación desde los Sistemas Colaborativos de Producción (MES)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5562720"/>
            <a:ext cx="22096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148360"/>
            <a:ext cx="4724280" cy="4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2 de Octubre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68280" y="1606680"/>
            <a:ext cx="1218960" cy="609480"/>
            <a:chOff x="368280" y="1606680"/>
            <a:chExt cx="1218960" cy="609480"/>
          </a:xfrm>
        </p:grpSpPr>
        <p:sp>
          <p:nvSpPr>
            <p:cNvPr id="173" name=""/>
            <p:cNvSpPr/>
            <p:nvPr/>
          </p:nvSpPr>
          <p:spPr>
            <a:xfrm>
              <a:off x="368280" y="1606680"/>
              <a:ext cx="121896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0600" y="175896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77960" y="1606680"/>
            <a:ext cx="1219320" cy="611280"/>
            <a:chOff x="2577960" y="1606680"/>
            <a:chExt cx="1219320" cy="611280"/>
          </a:xfrm>
        </p:grpSpPr>
        <p:sp>
          <p:nvSpPr>
            <p:cNvPr id="176" name=""/>
            <p:cNvSpPr/>
            <p:nvPr/>
          </p:nvSpPr>
          <p:spPr>
            <a:xfrm>
              <a:off x="2577960" y="16066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06400" y="1758960"/>
              <a:ext cx="111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Program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054080" y="2948040"/>
            <a:ext cx="1240920" cy="641520"/>
            <a:chOff x="1054080" y="2948040"/>
            <a:chExt cx="1240920" cy="641520"/>
          </a:xfrm>
        </p:grpSpPr>
        <p:sp>
          <p:nvSpPr>
            <p:cNvPr id="179" name=""/>
            <p:cNvSpPr/>
            <p:nvPr/>
          </p:nvSpPr>
          <p:spPr>
            <a:xfrm>
              <a:off x="1054080" y="2977920"/>
              <a:ext cx="1219320" cy="60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59840" y="2948040"/>
              <a:ext cx="1235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Tiempos pa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Operac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577960" y="2978280"/>
            <a:ext cx="1219320" cy="609480"/>
            <a:chOff x="2577960" y="2978280"/>
            <a:chExt cx="1219320" cy="609480"/>
          </a:xfrm>
        </p:grpSpPr>
        <p:sp>
          <p:nvSpPr>
            <p:cNvPr id="182" name=""/>
            <p:cNvSpPr/>
            <p:nvPr/>
          </p:nvSpPr>
          <p:spPr>
            <a:xfrm>
              <a:off x="2577960" y="2978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49680" y="313056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102200" y="2978280"/>
            <a:ext cx="1218960" cy="609480"/>
            <a:chOff x="4102200" y="2978280"/>
            <a:chExt cx="1218960" cy="609480"/>
          </a:xfrm>
        </p:grpSpPr>
        <p:sp>
          <p:nvSpPr>
            <p:cNvPr id="185" name=""/>
            <p:cNvSpPr/>
            <p:nvPr/>
          </p:nvSpPr>
          <p:spPr>
            <a:xfrm>
              <a:off x="4102200" y="2978280"/>
              <a:ext cx="121896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47000" y="313056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Objeti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692760" y="2978280"/>
            <a:ext cx="1232280" cy="609480"/>
            <a:chOff x="6692760" y="2978280"/>
            <a:chExt cx="1232280" cy="609480"/>
          </a:xfrm>
        </p:grpSpPr>
        <p:sp>
          <p:nvSpPr>
            <p:cNvPr id="188" name=""/>
            <p:cNvSpPr/>
            <p:nvPr/>
          </p:nvSpPr>
          <p:spPr>
            <a:xfrm>
              <a:off x="6692760" y="2978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65840" y="3054240"/>
              <a:ext cx="1159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Monitore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Desvi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702400" y="4121280"/>
            <a:ext cx="1218960" cy="641520"/>
            <a:chOff x="5702400" y="4121280"/>
            <a:chExt cx="1218960" cy="641520"/>
          </a:xfrm>
        </p:grpSpPr>
        <p:sp>
          <p:nvSpPr>
            <p:cNvPr id="191" name=""/>
            <p:cNvSpPr/>
            <p:nvPr/>
          </p:nvSpPr>
          <p:spPr>
            <a:xfrm>
              <a:off x="5702400" y="4121280"/>
              <a:ext cx="1218960" cy="609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01840" y="4303800"/>
              <a:ext cx="81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607160" y="4121280"/>
            <a:ext cx="1225080" cy="609480"/>
            <a:chOff x="7607160" y="4121280"/>
            <a:chExt cx="1225080" cy="609480"/>
          </a:xfrm>
        </p:grpSpPr>
        <p:sp>
          <p:nvSpPr>
            <p:cNvPr id="194" name=""/>
            <p:cNvSpPr/>
            <p:nvPr/>
          </p:nvSpPr>
          <p:spPr>
            <a:xfrm>
              <a:off x="7607160" y="4121280"/>
              <a:ext cx="121896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657920" y="4197240"/>
              <a:ext cx="117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na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De Ope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692760" y="5264280"/>
            <a:ext cx="1219320" cy="609480"/>
            <a:chOff x="6692760" y="5264280"/>
            <a:chExt cx="1219320" cy="609480"/>
          </a:xfrm>
        </p:grpSpPr>
        <p:sp>
          <p:nvSpPr>
            <p:cNvPr id="197" name=""/>
            <p:cNvSpPr/>
            <p:nvPr/>
          </p:nvSpPr>
          <p:spPr>
            <a:xfrm>
              <a:off x="6692760" y="5264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88160" y="5340600"/>
              <a:ext cx="102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Correcti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892160" y="4121280"/>
            <a:ext cx="1219320" cy="609480"/>
            <a:chOff x="1892160" y="4121280"/>
            <a:chExt cx="1219320" cy="609480"/>
          </a:xfrm>
        </p:grpSpPr>
        <p:sp>
          <p:nvSpPr>
            <p:cNvPr id="200" name=""/>
            <p:cNvSpPr/>
            <p:nvPr/>
          </p:nvSpPr>
          <p:spPr>
            <a:xfrm>
              <a:off x="1892160" y="4121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70800" y="43038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T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263760" y="4121280"/>
            <a:ext cx="1219320" cy="609480"/>
            <a:chOff x="3263760" y="4121280"/>
            <a:chExt cx="1219320" cy="609480"/>
          </a:xfrm>
        </p:grpSpPr>
        <p:sp>
          <p:nvSpPr>
            <p:cNvPr id="203" name=""/>
            <p:cNvSpPr/>
            <p:nvPr/>
          </p:nvSpPr>
          <p:spPr>
            <a:xfrm>
              <a:off x="3263760" y="4121280"/>
              <a:ext cx="1219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84640" y="4303800"/>
              <a:ext cx="117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Instru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6311880" y="358776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2080" y="358776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911720" y="4730760"/>
            <a:ext cx="3049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11880" y="4730760"/>
            <a:ext cx="38088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21360" y="442584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21160" y="328284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82720" y="44258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873600" y="3816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187800" y="3587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25680" y="556884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73600" y="473076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25680" y="473076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25680" y="3816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25680" y="381636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11680" y="358776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711680" y="2749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87800" y="2215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63560" y="274968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587240" y="19112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63560" y="27493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826120" y="44258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055080" y="107316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77760" y="1073160"/>
            <a:ext cx="8077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187800" y="107316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977760" y="107316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31480" y="1149480"/>
            <a:ext cx="49464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9776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Procesos de Planificación y Ejecución de la Producción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blemas típicos encontr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099320" y="1066680"/>
            <a:ext cx="4876920" cy="4648320"/>
            <a:chOff x="4099320" y="1066680"/>
            <a:chExt cx="4876920" cy="4648320"/>
          </a:xfrm>
        </p:grpSpPr>
        <p:sp>
          <p:nvSpPr>
            <p:cNvPr id="234" name=""/>
            <p:cNvSpPr/>
            <p:nvPr/>
          </p:nvSpPr>
          <p:spPr>
            <a:xfrm>
              <a:off x="5342040" y="1690560"/>
              <a:ext cx="690480" cy="4860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hift No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03800" y="2662200"/>
              <a:ext cx="690480" cy="48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Operation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11640" y="4397400"/>
              <a:ext cx="690840" cy="48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otline Met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Allo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16480" y="3979800"/>
              <a:ext cx="689040" cy="4860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50280" y="4049640"/>
              <a:ext cx="690480" cy="4860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48600" y="1414440"/>
              <a:ext cx="690480" cy="484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hanca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29400" y="2246400"/>
              <a:ext cx="690480" cy="485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Inventory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37200" y="1344600"/>
              <a:ext cx="736560" cy="554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Molie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56440" y="4813200"/>
              <a:ext cx="736560" cy="5540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AP R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0360" y="5159520"/>
              <a:ext cx="735120" cy="555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R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02520" y="2801880"/>
              <a:ext cx="736560" cy="554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lant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Chanc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29400" y="1066680"/>
              <a:ext cx="736560" cy="5558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SAP R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1" idx="3"/>
              <a:endCxn id="234" idx="1"/>
            </p:cNvCxnSpPr>
            <p:nvPr/>
          </p:nvCxnSpPr>
          <p:spPr>
            <a:xfrm>
              <a:off x="4973400" y="1622520"/>
              <a:ext cx="369000" cy="311760"/>
            </a:xfrm>
            <a:prstGeom prst="curvedConnector5">
              <a:avLst>
                <a:gd name="adj1" fmla="val 50000"/>
                <a:gd name="adj2" fmla="val 49942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7" name=""/>
            <p:cNvCxnSpPr>
              <a:stCxn id="241" idx="2"/>
              <a:endCxn id="235" idx="0"/>
            </p:cNvCxnSpPr>
            <p:nvPr/>
          </p:nvCxnSpPr>
          <p:spPr>
            <a:xfrm flipH="1" rot="16200000">
              <a:off x="4694040" y="1808640"/>
              <a:ext cx="764280" cy="9435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48" name=""/>
            <p:cNvSpPr/>
            <p:nvPr/>
          </p:nvSpPr>
          <p:spPr>
            <a:xfrm>
              <a:off x="4191120" y="5159520"/>
              <a:ext cx="736560" cy="555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Flotac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9" name=""/>
            <p:cNvCxnSpPr>
              <a:stCxn id="236" idx="1"/>
              <a:endCxn id="248" idx="0"/>
            </p:cNvCxnSpPr>
            <p:nvPr/>
          </p:nvCxnSpPr>
          <p:spPr>
            <a:xfrm flipV="1" rot="10800000">
              <a:off x="4558680" y="4640040"/>
              <a:ext cx="552960" cy="519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0" name=""/>
            <p:cNvCxnSpPr>
              <a:stCxn id="241" idx="1"/>
              <a:endCxn id="236" idx="0"/>
            </p:cNvCxnSpPr>
            <p:nvPr/>
          </p:nvCxnSpPr>
          <p:spPr>
            <a:xfrm flipH="1" flipV="1" rot="10800000">
              <a:off x="4236840" y="1622160"/>
              <a:ext cx="1219680" cy="2775600"/>
            </a:xfrm>
            <a:prstGeom prst="curvedConnector5">
              <a:avLst>
                <a:gd name="adj1" fmla="val -11307"/>
                <a:gd name="adj2" fmla="val 27487"/>
                <a:gd name="adj3" fmla="val -1130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1" name=""/>
            <p:cNvCxnSpPr>
              <a:stCxn id="237" idx="2"/>
              <a:endCxn id="243" idx="0"/>
            </p:cNvCxnSpPr>
            <p:nvPr/>
          </p:nvCxnSpPr>
          <p:spPr>
            <a:xfrm rot="5400000">
              <a:off x="6087240" y="4686120"/>
              <a:ext cx="694440" cy="253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2" name=""/>
            <p:cNvCxnSpPr>
              <a:stCxn id="237" idx="3"/>
              <a:endCxn id="242" idx="1"/>
            </p:cNvCxnSpPr>
            <p:nvPr/>
          </p:nvCxnSpPr>
          <p:spPr>
            <a:xfrm>
              <a:off x="6905160" y="4222800"/>
              <a:ext cx="1151640" cy="869040"/>
            </a:xfrm>
            <a:prstGeom prst="curvedConnector5">
              <a:avLst>
                <a:gd name="adj1" fmla="val 50000"/>
                <a:gd name="adj2" fmla="val 49979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3" name=""/>
            <p:cNvCxnSpPr>
              <a:stCxn id="244" idx="2"/>
              <a:endCxn id="237" idx="0"/>
            </p:cNvCxnSpPr>
            <p:nvPr/>
          </p:nvCxnSpPr>
          <p:spPr>
            <a:xfrm rot="5400000">
              <a:off x="7203240" y="2712600"/>
              <a:ext cx="624600" cy="1910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4" name=""/>
            <p:cNvCxnSpPr>
              <a:stCxn id="244" idx="0"/>
              <a:endCxn id="240" idx="3"/>
            </p:cNvCxnSpPr>
            <p:nvPr/>
          </p:nvCxnSpPr>
          <p:spPr>
            <a:xfrm flipV="1" rot="16200000">
              <a:off x="7738200" y="2069280"/>
              <a:ext cx="313560" cy="1151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5" name=""/>
            <p:cNvCxnSpPr>
              <a:stCxn id="239" idx="2"/>
              <a:endCxn id="244" idx="3"/>
            </p:cNvCxnSpPr>
            <p:nvPr/>
          </p:nvCxnSpPr>
          <p:spPr>
            <a:xfrm flipH="1" rot="16200000">
              <a:off x="8076240" y="2315880"/>
              <a:ext cx="1180080" cy="345240"/>
            </a:xfrm>
            <a:prstGeom prst="curvedConnector5">
              <a:avLst>
                <a:gd name="adj1" fmla="val 38205"/>
                <a:gd name="adj2" fmla="val 69937"/>
                <a:gd name="adj3" fmla="val 3820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6" name=""/>
            <p:cNvCxnSpPr>
              <a:stCxn id="240" idx="0"/>
              <a:endCxn id="245" idx="2"/>
            </p:cNvCxnSpPr>
            <p:nvPr/>
          </p:nvCxnSpPr>
          <p:spPr>
            <a:xfrm flipH="1" flipV="1" rot="5400000">
              <a:off x="6674400" y="1922760"/>
              <a:ext cx="624600" cy="23040"/>
            </a:xfrm>
            <a:prstGeom prst="curvedConnector5">
              <a:avLst>
                <a:gd name="adj1" fmla="val 50000"/>
                <a:gd name="adj2" fmla="val 49206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36" idx="2"/>
              <a:endCxn id="243" idx="1"/>
            </p:cNvCxnSpPr>
            <p:nvPr/>
          </p:nvCxnSpPr>
          <p:spPr>
            <a:xfrm flipH="1" rot="16200000">
              <a:off x="5420160" y="4917600"/>
              <a:ext cx="554760" cy="484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0" idx="2"/>
              <a:endCxn id="237" idx="1"/>
            </p:cNvCxnSpPr>
            <p:nvPr/>
          </p:nvCxnSpPr>
          <p:spPr>
            <a:xfrm rot="5400000">
              <a:off x="5850000" y="3097800"/>
              <a:ext cx="1491480" cy="759600"/>
            </a:xfrm>
            <a:prstGeom prst="curvedConnector5">
              <a:avLst>
                <a:gd name="adj1" fmla="val 41839"/>
                <a:gd name="adj2" fmla="val 59080"/>
                <a:gd name="adj3" fmla="val 4183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59" name=""/>
            <p:cNvCxnSpPr>
              <a:stCxn id="237" idx="3"/>
              <a:endCxn id="238" idx="1"/>
            </p:cNvCxnSpPr>
            <p:nvPr/>
          </p:nvCxnSpPr>
          <p:spPr>
            <a:xfrm>
              <a:off x="6905160" y="4222800"/>
              <a:ext cx="645480" cy="7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38" idx="3"/>
              <a:endCxn id="244" idx="2"/>
            </p:cNvCxnSpPr>
            <p:nvPr/>
          </p:nvCxnSpPr>
          <p:spPr>
            <a:xfrm flipV="1">
              <a:off x="8240400" y="3355560"/>
              <a:ext cx="230760" cy="937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35" idx="3"/>
              <a:endCxn id="245" idx="1"/>
            </p:cNvCxnSpPr>
            <p:nvPr/>
          </p:nvCxnSpPr>
          <p:spPr>
            <a:xfrm flipV="1">
              <a:off x="5894280" y="1343880"/>
              <a:ext cx="735840" cy="1561320"/>
            </a:xfrm>
            <a:prstGeom prst="curvedConnector5">
              <a:avLst>
                <a:gd name="adj1" fmla="val 49975"/>
                <a:gd name="adj2" fmla="val 50000"/>
                <a:gd name="adj3" fmla="val 4997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2" name=""/>
            <p:cNvCxnSpPr>
              <a:stCxn id="236" idx="3"/>
              <a:endCxn id="237" idx="1"/>
            </p:cNvCxnSpPr>
            <p:nvPr/>
          </p:nvCxnSpPr>
          <p:spPr>
            <a:xfrm flipV="1">
              <a:off x="5802480" y="4222440"/>
              <a:ext cx="414720" cy="418320"/>
            </a:xfrm>
            <a:prstGeom prst="curvedConnector5">
              <a:avLst>
                <a:gd name="adj1" fmla="val 49956"/>
                <a:gd name="adj2" fmla="val 49956"/>
                <a:gd name="adj3" fmla="val 499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4237200" y="3564000"/>
              <a:ext cx="736560" cy="555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LI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"/>
            <p:cNvCxnSpPr>
              <a:stCxn id="263" idx="2"/>
              <a:endCxn id="236" idx="1"/>
            </p:cNvCxnSpPr>
            <p:nvPr/>
          </p:nvCxnSpPr>
          <p:spPr>
            <a:xfrm flipH="1" rot="16200000">
              <a:off x="4597920" y="4126320"/>
              <a:ext cx="521640" cy="5068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27160"/>
            <a:ext cx="3581280" cy="4664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istemas y procesos crecieron informalmente a lo largo del tiem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licaciones individuales y diversas bases de datos para cada sector de pla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fragmentados e inflexibles - Numerosas aplicaciones informales: hojas de datos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 no siempre accesibles y muchas veces replic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orte y mantenimiento muy intensiv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cion dificil de manten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s programables en lugar de configur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5000"/>
              </a:lnSpc>
              <a:spcBef>
                <a:spcPts val="675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lto costo de owner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7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080" y="5589720"/>
            <a:ext cx="878292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istemas no integrados y no estandar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03280" y="6211800"/>
            <a:ext cx="51343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 todos los procesos y tareas agregan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05080" y="995400"/>
            <a:ext cx="30276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6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79680" y="692280"/>
            <a:ext cx="1947960" cy="43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74600" indent="-17460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jemplo de Arquitectura Integra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086600" y="1522440"/>
            <a:ext cx="1828800" cy="4116240"/>
            <a:chOff x="7086600" y="1522440"/>
            <a:chExt cx="1828800" cy="4116240"/>
          </a:xfrm>
        </p:grpSpPr>
        <p:sp>
          <p:nvSpPr>
            <p:cNvPr id="279" name=""/>
            <p:cNvSpPr/>
            <p:nvPr/>
          </p:nvSpPr>
          <p:spPr>
            <a:xfrm>
              <a:off x="7361280" y="3719520"/>
              <a:ext cx="547560" cy="272880"/>
            </a:xfrm>
            <a:prstGeom prst="leftRightArrow">
              <a:avLst>
                <a:gd name="adj1" fmla="val 50000"/>
                <a:gd name="adj2" fmla="val 399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08840" y="1979640"/>
              <a:ext cx="930240" cy="2743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</a:rPr>
                <a:t>Workce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por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61280" y="2073240"/>
              <a:ext cx="547560" cy="274680"/>
            </a:xfrm>
            <a:prstGeom prst="leftRightArrow">
              <a:avLst>
                <a:gd name="adj1" fmla="val 50000"/>
                <a:gd name="adj2" fmla="val 396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51640" y="1706400"/>
              <a:ext cx="1463760" cy="38419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86600" y="1522440"/>
              <a:ext cx="274680" cy="1373040"/>
            </a:xfrm>
            <a:custGeom>
              <a:avLst/>
              <a:gdLst>
                <a:gd name="textAreaLeft" fmla="*/ 0 w 274680"/>
                <a:gd name="textAreaRight" fmla="*/ 99000 w 274680"/>
                <a:gd name="textAreaTop" fmla="*/ 35640 h 1373040"/>
                <a:gd name="textAreaBottom" fmla="*/ 1337400 h 137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86600" y="2895480"/>
              <a:ext cx="274680" cy="1920960"/>
            </a:xfrm>
            <a:custGeom>
              <a:avLst/>
              <a:gdLst>
                <a:gd name="textAreaLeft" fmla="*/ 0 w 274680"/>
                <a:gd name="textAreaRight" fmla="*/ 99000 w 274680"/>
                <a:gd name="textAreaTop" fmla="*/ 50040 h 1920960"/>
                <a:gd name="textAreaBottom" fmla="*/ 1870920 h 192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43800" y="5364000"/>
              <a:ext cx="1189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ion Repor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0" y="2833560"/>
            <a:ext cx="6948360" cy="9144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320" y="2925720"/>
            <a:ext cx="7162560" cy="731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e de Datos Histó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3475080"/>
            <a:ext cx="6781680" cy="234612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200" y="30020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58212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5211720"/>
            <a:ext cx="129528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3565440"/>
            <a:ext cx="89856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4022640"/>
            <a:ext cx="182520" cy="1189080"/>
          </a:xfrm>
          <a:prstGeom prst="upDownArrow">
            <a:avLst>
              <a:gd name="adj1" fmla="val 50000"/>
              <a:gd name="adj2" fmla="val 1296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9880" y="498312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3565440"/>
            <a:ext cx="90036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5211720"/>
            <a:ext cx="91440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ar M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890720" y="4008600"/>
            <a:ext cx="166680" cy="1203120"/>
          </a:xfrm>
          <a:prstGeom prst="downArrow">
            <a:avLst>
              <a:gd name="adj1" fmla="val 50000"/>
              <a:gd name="adj2" fmla="val 1804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4830840"/>
            <a:ext cx="838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29000" y="3565440"/>
            <a:ext cx="90000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0" y="498312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5211720"/>
            <a:ext cx="91440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Info. Mang. S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41560" y="4022640"/>
            <a:ext cx="182520" cy="1189080"/>
          </a:xfrm>
          <a:prstGeom prst="upDownArrow">
            <a:avLst>
              <a:gd name="adj1" fmla="val 50000"/>
              <a:gd name="adj2" fmla="val 1296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791320" y="3505320"/>
            <a:ext cx="1371600" cy="2103480"/>
            <a:chOff x="5791320" y="3505320"/>
            <a:chExt cx="1371600" cy="2103480"/>
          </a:xfrm>
        </p:grpSpPr>
        <p:sp>
          <p:nvSpPr>
            <p:cNvPr id="304" name=""/>
            <p:cNvSpPr/>
            <p:nvPr/>
          </p:nvSpPr>
          <p:spPr>
            <a:xfrm>
              <a:off x="6110280" y="3505320"/>
              <a:ext cx="900360" cy="468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91320" y="4800960"/>
              <a:ext cx="13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uality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p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37600" y="3962520"/>
              <a:ext cx="182520" cy="1189080"/>
            </a:xfrm>
            <a:prstGeom prst="upDownArrow">
              <a:avLst>
                <a:gd name="adj1" fmla="val 50000"/>
                <a:gd name="adj2" fmla="val 1296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72200" y="5151600"/>
              <a:ext cx="9144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</a:rPr>
                <a:t>Lega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</a:rPr>
                <a:t>Appli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952880" y="3535200"/>
            <a:ext cx="990720" cy="2103480"/>
            <a:chOff x="4952880" y="3535200"/>
            <a:chExt cx="990720" cy="2103480"/>
          </a:xfrm>
        </p:grpSpPr>
        <p:sp>
          <p:nvSpPr>
            <p:cNvPr id="309" name=""/>
            <p:cNvSpPr/>
            <p:nvPr/>
          </p:nvSpPr>
          <p:spPr>
            <a:xfrm>
              <a:off x="5029200" y="3535200"/>
              <a:ext cx="898560" cy="468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94240" y="3992400"/>
              <a:ext cx="182520" cy="1189080"/>
            </a:xfrm>
            <a:prstGeom prst="upDownArrow">
              <a:avLst>
                <a:gd name="adj1" fmla="val 50000"/>
                <a:gd name="adj2" fmla="val 1296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29200" y="5181480"/>
              <a:ext cx="9144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hi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52880" y="495288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172200" y="914400"/>
            <a:ext cx="1130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AP / Ora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37320" y="1371600"/>
            <a:ext cx="179280" cy="884160"/>
          </a:xfrm>
          <a:prstGeom prst="upDownArrow">
            <a:avLst>
              <a:gd name="adj1" fmla="val 50000"/>
              <a:gd name="adj2" fmla="val 981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2276640"/>
            <a:ext cx="990720" cy="466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Hi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320" y="1523880"/>
            <a:ext cx="3047760" cy="146232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2300400"/>
            <a:ext cx="900360" cy="468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 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2300400"/>
            <a:ext cx="900000" cy="466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vent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73240" y="191916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ul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39920" y="207180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2286000"/>
            <a:ext cx="914400" cy="482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58128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30640" y="191916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v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66688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60020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280" y="1538280"/>
            <a:ext cx="221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2300400"/>
            <a:ext cx="900360" cy="466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z C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2520" y="1919160"/>
            <a:ext cx="73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For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09480" y="27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91120" y="2271600"/>
            <a:ext cx="914400" cy="482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etall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57200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1828800"/>
            <a:ext cx="9604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tatistical Data Reconcil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2271600"/>
            <a:ext cx="914400" cy="482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56272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05520" y="1676520"/>
            <a:ext cx="960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alculation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29400" y="2742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3581280"/>
            <a:ext cx="900360" cy="4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5257800"/>
            <a:ext cx="914400" cy="4572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Vul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62120" y="4037760"/>
            <a:ext cx="152280" cy="1219320"/>
          </a:xfrm>
          <a:prstGeom prst="downArrow">
            <a:avLst>
              <a:gd name="adj1" fmla="val 50000"/>
              <a:gd name="adj2" fmla="val 200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48006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4120920" cy="2627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niformance / Business FL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2720" y="1333080"/>
            <a:ext cx="838188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gración de datos a lo largo de la cadena de valor: VULCAN, Modular Mining, basculas, PLC, DCS, Laboratorios, otro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ase de datos históricos unificad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portes con versión ún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 la “verdad”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onitoreo de Desviacio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alance Metalúrgico y Cont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conciliado estadísticamen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IMS (Laboratory Managment Syste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gración con SA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6367320"/>
            <a:ext cx="3809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e Business FLEX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859200" y="1727280"/>
            <a:ext cx="5084640" cy="35686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35080" y="173160"/>
            <a:ext cx="7414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eo de la Operación: Operation Monitor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00280"/>
            <a:ext cx="5499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14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14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ión y Seguimiento de Variables C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ción de Desvi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ímites altos y baj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larma y regi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xplicaciones estructu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álculo Impacto Econó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Medición tiempos de de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equipos y raz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e Análisis de Cau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217440"/>
            <a:ext cx="8275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ance de Produc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1920" y="533520"/>
            <a:ext cx="54104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lvl="2" marL="5536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0680" indent="-130680">
              <a:lnSpc>
                <a:spcPct val="75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-124920">
              <a:lnSpc>
                <a:spcPct val="75000"/>
              </a:lnSpc>
              <a:spcBef>
                <a:spcPts val="6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ción específica para miner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2720" indent="-126000">
              <a:lnSpc>
                <a:spcPct val="75000"/>
              </a:lnSpc>
              <a:spcBef>
                <a:spcPts val="675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 especi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-124920">
              <a:lnSpc>
                <a:spcPct val="75000"/>
              </a:lnSpc>
              <a:spcBef>
                <a:spcPts val="6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alances simultáne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-124920">
              <a:lnSpc>
                <a:spcPct val="75000"/>
              </a:lnSpc>
              <a:spcBef>
                <a:spcPts val="601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tiempo y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536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306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s típic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80880" y="1141560"/>
            <a:ext cx="8726760" cy="2896920"/>
            <a:chOff x="380880" y="1141560"/>
            <a:chExt cx="8726760" cy="2896920"/>
          </a:xfrm>
        </p:grpSpPr>
        <p:grpSp>
          <p:nvGrpSpPr>
            <p:cNvPr id="351" name=""/>
            <p:cNvGrpSpPr/>
            <p:nvPr/>
          </p:nvGrpSpPr>
          <p:grpSpPr>
            <a:xfrm>
              <a:off x="6172200" y="1670040"/>
              <a:ext cx="2935440" cy="2198880"/>
              <a:chOff x="6172200" y="1670040"/>
              <a:chExt cx="2935440" cy="2198880"/>
            </a:xfrm>
          </p:grpSpPr>
          <p:sp>
            <p:nvSpPr>
              <p:cNvPr id="352" name=""/>
              <p:cNvSpPr/>
              <p:nvPr/>
            </p:nvSpPr>
            <p:spPr>
              <a:xfrm>
                <a:off x="6172200" y="3860640"/>
                <a:ext cx="22492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172200" y="3860640"/>
                <a:ext cx="224928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421480" y="1670040"/>
                <a:ext cx="720" cy="2190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421480" y="1670040"/>
                <a:ext cx="3240" cy="2190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425080" y="3860640"/>
                <a:ext cx="4532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425080" y="3860640"/>
                <a:ext cx="453240" cy="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874720" y="1670040"/>
                <a:ext cx="1080" cy="2190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874720" y="1670040"/>
                <a:ext cx="3600" cy="2190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7220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7220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9756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9756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2220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220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4720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4720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7184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7184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29756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29756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52148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2148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747200" y="1670040"/>
                <a:ext cx="72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74720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7148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97148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19684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196840" y="1670040"/>
                <a:ext cx="360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421480" y="3860640"/>
                <a:ext cx="720" cy="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421480" y="3860640"/>
                <a:ext cx="324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646840" y="1670040"/>
                <a:ext cx="720" cy="21906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646840" y="1670040"/>
                <a:ext cx="3240" cy="2190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74720" y="38646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874720" y="3864600"/>
                <a:ext cx="3600" cy="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100440" y="1670040"/>
                <a:ext cx="1080" cy="21945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100440" y="1670040"/>
                <a:ext cx="3240" cy="2198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72200" y="167004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72200" y="16700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172200" y="173988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72200" y="173988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72200" y="18115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72200" y="18115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72200" y="188172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72200" y="188172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172200" y="19519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72200" y="19519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72200" y="20235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72200" y="202356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72200" y="209376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72200" y="209376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72200" y="21654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72200" y="2165400"/>
                <a:ext cx="293544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72200" y="223524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72200" y="22352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72200" y="23058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72200" y="23058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72200" y="237744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172200" y="23774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72200" y="244728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172200" y="244728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172200" y="25171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72200" y="25171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72200" y="25887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72200" y="25887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172200" y="265932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72200" y="265932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72200" y="27291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72200" y="27291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72200" y="280080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72200" y="28008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72200" y="28710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72200" y="28710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172200" y="294120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72200" y="29412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72200" y="301284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172200" y="30128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172200" y="308304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72200" y="30830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172200" y="31543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172200" y="3154320"/>
                <a:ext cx="2935440" cy="2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72200" y="322452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72200" y="322452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72200" y="329472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72200" y="329472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72200" y="33663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172200" y="33663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72200" y="343656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172200" y="343656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172200" y="350676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72200" y="3506760"/>
                <a:ext cx="293544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72200" y="357840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172200" y="35784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72200" y="3648600"/>
                <a:ext cx="2931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172200" y="364860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172200" y="371844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72200" y="371844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72200" y="3790080"/>
                <a:ext cx="2931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72200" y="3790080"/>
                <a:ext cx="29354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878320" y="3860640"/>
                <a:ext cx="22500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878320" y="3860640"/>
                <a:ext cx="2289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318000" y="2545560"/>
                <a:ext cx="772200" cy="464040"/>
                <a:chOff x="6318000" y="2545560"/>
                <a:chExt cx="772200" cy="4640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318000" y="2545560"/>
                  <a:ext cx="772200" cy="464040"/>
                </a:xfrm>
                <a:custGeom>
                  <a:avLst/>
                  <a:gdLst/>
                  <a:ahLst/>
                  <a:rect l="l" t="t" r="r" b="b"/>
                  <a:pathLst>
                    <a:path w="651" h="331">
                      <a:moveTo>
                        <a:pt x="651" y="331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1"/>
                      </a:lnTo>
                      <a:lnTo>
                        <a:pt x="651" y="3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318000" y="2545560"/>
                  <a:ext cx="772200" cy="464040"/>
                </a:xfrm>
                <a:custGeom>
                  <a:avLst/>
                  <a:gdLst/>
                  <a:ahLst/>
                  <a:rect l="l" t="t" r="r" b="b"/>
                  <a:pathLst>
                    <a:path w="651" h="331">
                      <a:moveTo>
                        <a:pt x="651" y="331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1"/>
                      </a:lnTo>
                      <a:lnTo>
                        <a:pt x="651" y="33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6585480" y="2650680"/>
                <a:ext cx="3160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ilha de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36520" y="2742120"/>
                <a:ext cx="42732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ellet Feed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42000" y="2833200"/>
                <a:ext cx="1666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? P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693120" y="2271960"/>
                <a:ext cx="28440" cy="243720"/>
              </a:xfrm>
              <a:custGeom>
                <a:avLst/>
                <a:gdLst/>
                <a:ahLst/>
                <a:rect l="l" t="t" r="r" b="b"/>
                <a:pathLst>
                  <a:path w="128" h="938">
                    <a:moveTo>
                      <a:pt x="61" y="10"/>
                    </a:moveTo>
                    <a:lnTo>
                      <a:pt x="76" y="867"/>
                    </a:lnTo>
                    <a:cubicBezTo>
                      <a:pt x="76" y="873"/>
                      <a:pt x="71" y="878"/>
                      <a:pt x="65" y="878"/>
                    </a:cubicBezTo>
                    <a:cubicBezTo>
                      <a:pt x="60" y="878"/>
                      <a:pt x="55" y="873"/>
                      <a:pt x="55" y="868"/>
                    </a:cubicBezTo>
                    <a:lnTo>
                      <a:pt x="40" y="11"/>
                    </a:lnTo>
                    <a:cubicBezTo>
                      <a:pt x="40" y="5"/>
                      <a:pt x="44" y="0"/>
                      <a:pt x="50" y="0"/>
                    </a:cubicBezTo>
                    <a:cubicBezTo>
                      <a:pt x="56" y="0"/>
                      <a:pt x="61" y="4"/>
                      <a:pt x="61" y="10"/>
                    </a:cubicBezTo>
                    <a:close/>
                    <a:moveTo>
                      <a:pt x="128" y="809"/>
                    </a:moveTo>
                    <a:lnTo>
                      <a:pt x="66" y="938"/>
                    </a:lnTo>
                    <a:lnTo>
                      <a:pt x="0" y="812"/>
                    </a:lnTo>
                    <a:lnTo>
                      <a:pt x="128" y="80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7284240" y="2541240"/>
                <a:ext cx="773640" cy="473040"/>
                <a:chOff x="7284240" y="2541240"/>
                <a:chExt cx="773640" cy="4730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284240" y="2541240"/>
                  <a:ext cx="773640" cy="473040"/>
                </a:xfrm>
                <a:custGeom>
                  <a:avLst/>
                  <a:gdLst/>
                  <a:ahLst/>
                  <a:rect l="l" t="t" r="r" b="b"/>
                  <a:pathLst>
                    <a:path w="652" h="337">
                      <a:moveTo>
                        <a:pt x="652" y="337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7"/>
                      </a:lnTo>
                      <a:lnTo>
                        <a:pt x="652" y="3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284240" y="2541240"/>
                  <a:ext cx="773640" cy="473040"/>
                </a:xfrm>
                <a:custGeom>
                  <a:avLst/>
                  <a:gdLst/>
                  <a:ahLst/>
                  <a:rect l="l" t="t" r="r" b="b"/>
                  <a:pathLst>
                    <a:path w="652" h="337">
                      <a:moveTo>
                        <a:pt x="652" y="337"/>
                      </a:moveTo>
                      <a:lnTo>
                        <a:pt x="489" y="0"/>
                      </a:lnTo>
                      <a:lnTo>
                        <a:pt x="163" y="0"/>
                      </a:lnTo>
                      <a:lnTo>
                        <a:pt x="0" y="337"/>
                      </a:lnTo>
                      <a:lnTo>
                        <a:pt x="652" y="33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7553520" y="2646360"/>
                <a:ext cx="3160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ilha de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493760" y="2737800"/>
                <a:ext cx="43956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inter Feed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606800" y="2828880"/>
                <a:ext cx="1666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? SF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660440" y="2275920"/>
                <a:ext cx="28440" cy="243720"/>
              </a:xfrm>
              <a:custGeom>
                <a:avLst/>
                <a:gdLst/>
                <a:ahLst/>
                <a:rect l="l" t="t" r="r" b="b"/>
                <a:pathLst>
                  <a:path w="128" h="938">
                    <a:moveTo>
                      <a:pt x="61" y="10"/>
                    </a:moveTo>
                    <a:lnTo>
                      <a:pt x="76" y="867"/>
                    </a:lnTo>
                    <a:cubicBezTo>
                      <a:pt x="76" y="873"/>
                      <a:pt x="71" y="878"/>
                      <a:pt x="65" y="878"/>
                    </a:cubicBezTo>
                    <a:cubicBezTo>
                      <a:pt x="60" y="878"/>
                      <a:pt x="55" y="873"/>
                      <a:pt x="55" y="868"/>
                    </a:cubicBezTo>
                    <a:lnTo>
                      <a:pt x="40" y="11"/>
                    </a:lnTo>
                    <a:cubicBezTo>
                      <a:pt x="40" y="5"/>
                      <a:pt x="44" y="0"/>
                      <a:pt x="50" y="0"/>
                    </a:cubicBezTo>
                    <a:cubicBezTo>
                      <a:pt x="56" y="0"/>
                      <a:pt x="61" y="4"/>
                      <a:pt x="61" y="10"/>
                    </a:cubicBezTo>
                    <a:close/>
                    <a:moveTo>
                      <a:pt x="128" y="809"/>
                    </a:moveTo>
                    <a:lnTo>
                      <a:pt x="66" y="938"/>
                    </a:lnTo>
                    <a:lnTo>
                      <a:pt x="0" y="812"/>
                    </a:lnTo>
                    <a:lnTo>
                      <a:pt x="128" y="80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8240760" y="2536920"/>
                <a:ext cx="776160" cy="472680"/>
                <a:chOff x="8240760" y="2536920"/>
                <a:chExt cx="776160" cy="4726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8240760" y="2536920"/>
                  <a:ext cx="776160" cy="472680"/>
                </a:xfrm>
                <a:custGeom>
                  <a:avLst/>
                  <a:gdLst/>
                  <a:ahLst/>
                  <a:rect l="l" t="t" r="r" b="b"/>
                  <a:pathLst>
                    <a:path w="654" h="337">
                      <a:moveTo>
                        <a:pt x="654" y="337"/>
                      </a:moveTo>
                      <a:lnTo>
                        <a:pt x="491" y="0"/>
                      </a:lnTo>
                      <a:lnTo>
                        <a:pt x="164" y="0"/>
                      </a:lnTo>
                      <a:lnTo>
                        <a:pt x="0" y="337"/>
                      </a:lnTo>
                      <a:lnTo>
                        <a:pt x="654" y="3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240760" y="2536920"/>
                  <a:ext cx="776160" cy="472680"/>
                </a:xfrm>
                <a:custGeom>
                  <a:avLst/>
                  <a:gdLst/>
                  <a:ahLst/>
                  <a:rect l="l" t="t" r="r" b="b"/>
                  <a:pathLst>
                    <a:path w="654" h="337">
                      <a:moveTo>
                        <a:pt x="654" y="337"/>
                      </a:moveTo>
                      <a:lnTo>
                        <a:pt x="491" y="0"/>
                      </a:lnTo>
                      <a:lnTo>
                        <a:pt x="164" y="0"/>
                      </a:lnTo>
                      <a:lnTo>
                        <a:pt x="0" y="337"/>
                      </a:lnTo>
                      <a:lnTo>
                        <a:pt x="654" y="33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>
                <a:off x="8520840" y="2638080"/>
                <a:ext cx="31608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Pilha de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558280" y="2729160"/>
                <a:ext cx="20664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SC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525880" y="2821680"/>
                <a:ext cx="275040" cy="10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? SSC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619480" y="2271960"/>
                <a:ext cx="28440" cy="243720"/>
              </a:xfrm>
              <a:custGeom>
                <a:avLst/>
                <a:gdLst/>
                <a:ahLst/>
                <a:rect l="l" t="t" r="r" b="b"/>
                <a:pathLst>
                  <a:path w="128" h="938">
                    <a:moveTo>
                      <a:pt x="61" y="10"/>
                    </a:moveTo>
                    <a:lnTo>
                      <a:pt x="76" y="867"/>
                    </a:lnTo>
                    <a:cubicBezTo>
                      <a:pt x="76" y="873"/>
                      <a:pt x="71" y="878"/>
                      <a:pt x="65" y="878"/>
                    </a:cubicBezTo>
                    <a:cubicBezTo>
                      <a:pt x="60" y="878"/>
                      <a:pt x="55" y="873"/>
                      <a:pt x="55" y="868"/>
                    </a:cubicBezTo>
                    <a:lnTo>
                      <a:pt x="40" y="11"/>
                    </a:lnTo>
                    <a:cubicBezTo>
                      <a:pt x="40" y="5"/>
                      <a:pt x="44" y="0"/>
                      <a:pt x="50" y="0"/>
                    </a:cubicBezTo>
                    <a:cubicBezTo>
                      <a:pt x="56" y="0"/>
                      <a:pt x="61" y="4"/>
                      <a:pt x="61" y="10"/>
                    </a:cubicBezTo>
                    <a:close/>
                    <a:moveTo>
                      <a:pt x="128" y="809"/>
                    </a:moveTo>
                    <a:lnTo>
                      <a:pt x="66" y="938"/>
                    </a:lnTo>
                    <a:lnTo>
                      <a:pt x="0" y="812"/>
                    </a:lnTo>
                    <a:lnTo>
                      <a:pt x="128" y="80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6472440" y="3625920"/>
                <a:ext cx="354960" cy="12600"/>
                <a:chOff x="6472440" y="3625920"/>
                <a:chExt cx="354960" cy="126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472440" y="3625920"/>
                  <a:ext cx="354960" cy="12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472440" y="3625920"/>
                  <a:ext cx="354960" cy="126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472440" y="3562920"/>
                <a:ext cx="46080" cy="12240"/>
                <a:chOff x="6472440" y="3562920"/>
                <a:chExt cx="46080" cy="1224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472440" y="3562920"/>
                  <a:ext cx="4608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472440" y="3562920"/>
                  <a:ext cx="4608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6468840" y="3413880"/>
                <a:ext cx="76680" cy="104040"/>
                <a:chOff x="6468840" y="3413880"/>
                <a:chExt cx="76680" cy="1040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46884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46884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6599520" y="3413880"/>
                <a:ext cx="80640" cy="161280"/>
                <a:chOff x="6599520" y="3413880"/>
                <a:chExt cx="80640" cy="1612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659952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4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4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59952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4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4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6676560" y="3562920"/>
                <a:ext cx="52200" cy="12240"/>
                <a:chOff x="6676560" y="3562920"/>
                <a:chExt cx="52200" cy="122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676560" y="3562920"/>
                  <a:ext cx="5220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676560" y="3562920"/>
                  <a:ext cx="5220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69360" y="3505320"/>
                <a:ext cx="10440" cy="36360"/>
                <a:chOff x="6669360" y="3505320"/>
                <a:chExt cx="10440" cy="363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69360" y="3505320"/>
                  <a:ext cx="10440" cy="36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69360" y="3505320"/>
                  <a:ext cx="10440" cy="363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6606360" y="3534840"/>
                <a:ext cx="69840" cy="10800"/>
                <a:chOff x="6606360" y="3534840"/>
                <a:chExt cx="69840" cy="1080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6606360" y="3534840"/>
                <a:ext cx="69840" cy="10800"/>
                <a:chOff x="6606360" y="3534840"/>
                <a:chExt cx="69840" cy="108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60636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603120" y="3501360"/>
                <a:ext cx="73440" cy="44640"/>
                <a:chOff x="6603120" y="3501360"/>
                <a:chExt cx="73440" cy="446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660312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60312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6540120" y="3405600"/>
                <a:ext cx="66240" cy="12600"/>
                <a:chOff x="6540120" y="3405600"/>
                <a:chExt cx="66240" cy="126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54012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4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54012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4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6640920" y="3397320"/>
                <a:ext cx="200520" cy="116280"/>
                <a:chOff x="6640920" y="3397320"/>
                <a:chExt cx="200520" cy="11628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664092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64092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536520" y="3380400"/>
                <a:ext cx="129240" cy="128880"/>
                <a:chOff x="6536520" y="3380400"/>
                <a:chExt cx="129240" cy="1288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53652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2" y="19"/>
                      </a:lnTo>
                      <a:lnTo>
                        <a:pt x="62" y="15"/>
                      </a:lnTo>
                      <a:lnTo>
                        <a:pt x="60" y="16"/>
                      </a:lnTo>
                      <a:lnTo>
                        <a:pt x="61" y="18"/>
                      </a:lnTo>
                      <a:lnTo>
                        <a:pt x="62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5" y="13"/>
                      </a:lnTo>
                      <a:lnTo>
                        <a:pt x="64" y="12"/>
                      </a:lnTo>
                      <a:lnTo>
                        <a:pt x="62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0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3652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2" y="19"/>
                      </a:lnTo>
                      <a:lnTo>
                        <a:pt x="62" y="15"/>
                      </a:lnTo>
                      <a:lnTo>
                        <a:pt x="60" y="16"/>
                      </a:lnTo>
                      <a:lnTo>
                        <a:pt x="61" y="18"/>
                      </a:lnTo>
                      <a:lnTo>
                        <a:pt x="62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5" y="13"/>
                      </a:lnTo>
                      <a:lnTo>
                        <a:pt x="64" y="12"/>
                      </a:lnTo>
                      <a:lnTo>
                        <a:pt x="62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0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6468840" y="3505320"/>
                <a:ext cx="10440" cy="65520"/>
                <a:chOff x="6468840" y="3505320"/>
                <a:chExt cx="10440" cy="655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646884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46884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6545880" y="3550320"/>
                <a:ext cx="50040" cy="58680"/>
                <a:chOff x="6545880" y="3550320"/>
                <a:chExt cx="50040" cy="586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6545880" y="3550320"/>
                  <a:ext cx="5004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545880" y="3550320"/>
                  <a:ext cx="5004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652212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6746760" y="3550320"/>
                <a:ext cx="49680" cy="58680"/>
                <a:chOff x="6746760" y="3550320"/>
                <a:chExt cx="49680" cy="5868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746760" y="3550320"/>
                  <a:ext cx="496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746760" y="3550320"/>
                  <a:ext cx="4968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>
                <a:off x="6722640" y="3526200"/>
                <a:ext cx="9720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6560280" y="3446640"/>
                <a:ext cx="28440" cy="33480"/>
                <a:chOff x="6560280" y="3446640"/>
                <a:chExt cx="28440" cy="334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560280" y="3446640"/>
                  <a:ext cx="28440" cy="33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560280" y="3446640"/>
                  <a:ext cx="28440" cy="3348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6622200" y="3320280"/>
                <a:ext cx="182520" cy="69480"/>
                <a:chOff x="6622200" y="3320280"/>
                <a:chExt cx="182520" cy="69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6622200" y="332028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22200" y="33242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22200" y="3328200"/>
                  <a:ext cx="182520" cy="432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22200" y="3332880"/>
                  <a:ext cx="182520" cy="396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622200" y="333684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622200" y="3341160"/>
                  <a:ext cx="182520" cy="396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2200" y="334512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2200" y="3349440"/>
                  <a:ext cx="182520" cy="432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622200" y="3353760"/>
                  <a:ext cx="182520" cy="3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622200" y="3358080"/>
                  <a:ext cx="182520" cy="396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622200" y="336204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622200" y="3366000"/>
                  <a:ext cx="182520" cy="432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622200" y="337068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22200" y="3374640"/>
                  <a:ext cx="182520" cy="252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622200" y="3377520"/>
                  <a:ext cx="182520" cy="396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22200" y="33818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622200" y="338580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624000" y="3321360"/>
                  <a:ext cx="178920" cy="67320"/>
                </a:xfrm>
                <a:custGeom>
                  <a:avLst/>
                  <a:gdLst/>
                  <a:ahLst/>
                  <a:rect l="l" t="t" r="r" b="b"/>
                  <a:pathLst>
                    <a:path w="151" h="48">
                      <a:moveTo>
                        <a:pt x="0" y="48"/>
                      </a:moveTo>
                      <a:lnTo>
                        <a:pt x="56" y="0"/>
                      </a:lnTo>
                      <a:lnTo>
                        <a:pt x="94" y="0"/>
                      </a:lnTo>
                      <a:lnTo>
                        <a:pt x="151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446960" y="3625920"/>
                <a:ext cx="354960" cy="12600"/>
                <a:chOff x="7446960" y="3625920"/>
                <a:chExt cx="354960" cy="126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446960" y="3625920"/>
                  <a:ext cx="354960" cy="12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446960" y="3625920"/>
                  <a:ext cx="354960" cy="126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46960" y="3562920"/>
                <a:ext cx="45000" cy="12240"/>
                <a:chOff x="7446960" y="3562920"/>
                <a:chExt cx="45000" cy="1224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446960" y="3562920"/>
                  <a:ext cx="4500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46960" y="3562920"/>
                  <a:ext cx="4500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7443360" y="3413880"/>
                <a:ext cx="77040" cy="104040"/>
                <a:chOff x="7443360" y="3413880"/>
                <a:chExt cx="77040" cy="10404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7443360" y="3413880"/>
                  <a:ext cx="7704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6" y="74"/>
                      </a:lnTo>
                      <a:lnTo>
                        <a:pt x="63" y="23"/>
                      </a:lnTo>
                      <a:lnTo>
                        <a:pt x="63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0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443360" y="3413880"/>
                  <a:ext cx="7704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6" y="74"/>
                      </a:lnTo>
                      <a:lnTo>
                        <a:pt x="63" y="23"/>
                      </a:lnTo>
                      <a:lnTo>
                        <a:pt x="63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0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572600" y="3413880"/>
                <a:ext cx="80640" cy="161280"/>
                <a:chOff x="7572600" y="3413880"/>
                <a:chExt cx="80640" cy="16128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57260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5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1" y="92"/>
                      </a:lnTo>
                      <a:lnTo>
                        <a:pt x="63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1" y="112"/>
                      </a:lnTo>
                      <a:lnTo>
                        <a:pt x="63" y="114"/>
                      </a:lnTo>
                      <a:lnTo>
                        <a:pt x="64" y="115"/>
                      </a:lnTo>
                      <a:lnTo>
                        <a:pt x="66" y="115"/>
                      </a:lnTo>
                      <a:lnTo>
                        <a:pt x="66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6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6" y="87"/>
                      </a:lnTo>
                      <a:lnTo>
                        <a:pt x="64" y="86"/>
                      </a:lnTo>
                      <a:lnTo>
                        <a:pt x="5" y="86"/>
                      </a:lnTo>
                      <a:lnTo>
                        <a:pt x="10" y="91"/>
                      </a:lnTo>
                      <a:lnTo>
                        <a:pt x="8" y="89"/>
                      </a:lnTo>
                      <a:lnTo>
                        <a:pt x="7" y="87"/>
                      </a:lnTo>
                      <a:lnTo>
                        <a:pt x="5" y="86"/>
                      </a:lnTo>
                      <a:lnTo>
                        <a:pt x="5" y="91"/>
                      </a:lnTo>
                      <a:lnTo>
                        <a:pt x="10" y="9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57260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5" y="95"/>
                      </a:lnTo>
                      <a:lnTo>
                        <a:pt x="64" y="95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61" y="92"/>
                      </a:lnTo>
                      <a:lnTo>
                        <a:pt x="63" y="93"/>
                      </a:lnTo>
                      <a:lnTo>
                        <a:pt x="64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1" y="112"/>
                      </a:lnTo>
                      <a:lnTo>
                        <a:pt x="63" y="114"/>
                      </a:lnTo>
                      <a:lnTo>
                        <a:pt x="64" y="115"/>
                      </a:lnTo>
                      <a:lnTo>
                        <a:pt x="66" y="115"/>
                      </a:lnTo>
                      <a:lnTo>
                        <a:pt x="66" y="107"/>
                      </a:lnTo>
                      <a:lnTo>
                        <a:pt x="64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6" y="108"/>
                      </a:lnTo>
                      <a:lnTo>
                        <a:pt x="64" y="107"/>
                      </a:lnTo>
                      <a:lnTo>
                        <a:pt x="64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6" y="87"/>
                      </a:lnTo>
                      <a:lnTo>
                        <a:pt x="64" y="86"/>
                      </a:lnTo>
                      <a:lnTo>
                        <a:pt x="5" y="86"/>
                      </a:lnTo>
                      <a:lnTo>
                        <a:pt x="10" y="91"/>
                      </a:lnTo>
                      <a:lnTo>
                        <a:pt x="8" y="89"/>
                      </a:lnTo>
                      <a:lnTo>
                        <a:pt x="7" y="87"/>
                      </a:lnTo>
                      <a:lnTo>
                        <a:pt x="5" y="86"/>
                      </a:lnTo>
                      <a:lnTo>
                        <a:pt x="5" y="91"/>
                      </a:lnTo>
                      <a:lnTo>
                        <a:pt x="10" y="9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7649640" y="3562920"/>
                <a:ext cx="53280" cy="12240"/>
                <a:chOff x="7649640" y="3562920"/>
                <a:chExt cx="53280" cy="1224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7649640" y="3562920"/>
                  <a:ext cx="5328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649640" y="3562920"/>
                  <a:ext cx="5328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7642800" y="3505320"/>
                <a:ext cx="10440" cy="36360"/>
                <a:chOff x="7642800" y="3505320"/>
                <a:chExt cx="10440" cy="363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7642800" y="3505320"/>
                  <a:ext cx="10440" cy="36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642800" y="3505320"/>
                  <a:ext cx="10440" cy="363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579800" y="3534840"/>
                <a:ext cx="69840" cy="10800"/>
                <a:chOff x="7579800" y="3534840"/>
                <a:chExt cx="69840" cy="1080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579800" y="3534840"/>
                <a:ext cx="69840" cy="10800"/>
                <a:chOff x="7579800" y="3534840"/>
                <a:chExt cx="69840" cy="1080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57980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8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7576200" y="3501360"/>
                <a:ext cx="73440" cy="44640"/>
                <a:chOff x="7576200" y="3501360"/>
                <a:chExt cx="73440" cy="4464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757620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1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57620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1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513200" y="3405600"/>
                <a:ext cx="66240" cy="12600"/>
                <a:chOff x="7513200" y="3405600"/>
                <a:chExt cx="66240" cy="1260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51320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13200" y="3405600"/>
                  <a:ext cx="66240" cy="12600"/>
                </a:xfrm>
                <a:custGeom>
                  <a:avLst/>
                  <a:gdLst/>
                  <a:ahLst/>
                  <a:rect l="l" t="t" r="r" b="b"/>
                  <a:pathLst>
                    <a:path w="56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6" y="9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7615440" y="3397320"/>
                <a:ext cx="200520" cy="116280"/>
                <a:chOff x="7615440" y="3397320"/>
                <a:chExt cx="200520" cy="1162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761544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3" y="74"/>
                      </a:moveTo>
                      <a:lnTo>
                        <a:pt x="15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7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49" y="3"/>
                      </a:lnTo>
                      <a:lnTo>
                        <a:pt x="148" y="1"/>
                      </a:lnTo>
                      <a:lnTo>
                        <a:pt x="14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6" y="9"/>
                      </a:lnTo>
                      <a:lnTo>
                        <a:pt x="143" y="6"/>
                      </a:lnTo>
                      <a:lnTo>
                        <a:pt x="145" y="7"/>
                      </a:lnTo>
                      <a:lnTo>
                        <a:pt x="146" y="9"/>
                      </a:lnTo>
                      <a:lnTo>
                        <a:pt x="146" y="4"/>
                      </a:lnTo>
                      <a:lnTo>
                        <a:pt x="143" y="7"/>
                      </a:lnTo>
                      <a:lnTo>
                        <a:pt x="161" y="31"/>
                      </a:lnTo>
                      <a:lnTo>
                        <a:pt x="163" y="25"/>
                      </a:lnTo>
                      <a:lnTo>
                        <a:pt x="161" y="27"/>
                      </a:lnTo>
                      <a:lnTo>
                        <a:pt x="159" y="28"/>
                      </a:lnTo>
                      <a:lnTo>
                        <a:pt x="164" y="28"/>
                      </a:lnTo>
                      <a:lnTo>
                        <a:pt x="164" y="23"/>
                      </a:lnTo>
                      <a:lnTo>
                        <a:pt x="13" y="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61544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3" y="74"/>
                      </a:moveTo>
                      <a:lnTo>
                        <a:pt x="15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7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49" y="3"/>
                      </a:lnTo>
                      <a:lnTo>
                        <a:pt x="148" y="1"/>
                      </a:lnTo>
                      <a:lnTo>
                        <a:pt x="14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6" y="9"/>
                      </a:lnTo>
                      <a:lnTo>
                        <a:pt x="143" y="6"/>
                      </a:lnTo>
                      <a:lnTo>
                        <a:pt x="145" y="7"/>
                      </a:lnTo>
                      <a:lnTo>
                        <a:pt x="146" y="9"/>
                      </a:lnTo>
                      <a:lnTo>
                        <a:pt x="146" y="4"/>
                      </a:lnTo>
                      <a:lnTo>
                        <a:pt x="143" y="7"/>
                      </a:lnTo>
                      <a:lnTo>
                        <a:pt x="161" y="31"/>
                      </a:lnTo>
                      <a:lnTo>
                        <a:pt x="163" y="25"/>
                      </a:lnTo>
                      <a:lnTo>
                        <a:pt x="161" y="27"/>
                      </a:lnTo>
                      <a:lnTo>
                        <a:pt x="159" y="28"/>
                      </a:lnTo>
                      <a:lnTo>
                        <a:pt x="164" y="28"/>
                      </a:lnTo>
                      <a:lnTo>
                        <a:pt x="164" y="23"/>
                      </a:lnTo>
                      <a:lnTo>
                        <a:pt x="13" y="74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7509600" y="3380400"/>
                <a:ext cx="129240" cy="128880"/>
                <a:chOff x="7509600" y="3380400"/>
                <a:chExt cx="129240" cy="12888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750960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509600" y="3380400"/>
                  <a:ext cx="129240" cy="128880"/>
                </a:xfrm>
                <a:custGeom>
                  <a:avLst/>
                  <a:gdLst/>
                  <a:ahLst/>
                  <a:rect l="l" t="t" r="r" b="b"/>
                  <a:pathLst>
                    <a:path w="109" h="92">
                      <a:moveTo>
                        <a:pt x="88" y="21"/>
                      </a:moveTo>
                      <a:lnTo>
                        <a:pt x="93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09" y="89"/>
                      </a:lnTo>
                      <a:lnTo>
                        <a:pt x="67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4" y="10"/>
                      </a:lnTo>
                      <a:lnTo>
                        <a:pt x="9" y="15"/>
                      </a:lnTo>
                      <a:lnTo>
                        <a:pt x="7" y="13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4" y="15"/>
                      </a:lnTo>
                      <a:lnTo>
                        <a:pt x="9" y="15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8" y="2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443360" y="3505320"/>
                <a:ext cx="10440" cy="65520"/>
                <a:chOff x="7443360" y="3505320"/>
                <a:chExt cx="10440" cy="65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44336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44336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4" y="9"/>
                      </a:lnTo>
                      <a:lnTo>
                        <a:pt x="6" y="8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520400" y="3550320"/>
                <a:ext cx="48600" cy="58680"/>
                <a:chOff x="7520400" y="3550320"/>
                <a:chExt cx="48600" cy="586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20400" y="3550320"/>
                  <a:ext cx="4860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520400" y="3550320"/>
                  <a:ext cx="4860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749556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7720920" y="3550320"/>
                <a:ext cx="48600" cy="58680"/>
                <a:chOff x="7720920" y="3550320"/>
                <a:chExt cx="48600" cy="586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7720920" y="3550320"/>
                  <a:ext cx="4860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720920" y="3550320"/>
                  <a:ext cx="4860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769608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7534800" y="3446640"/>
                <a:ext cx="27000" cy="33480"/>
                <a:chOff x="7534800" y="3446640"/>
                <a:chExt cx="27000" cy="334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7534800" y="3446640"/>
                  <a:ext cx="27000" cy="33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534800" y="3446640"/>
                  <a:ext cx="27000" cy="3348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7595280" y="3320280"/>
                <a:ext cx="182520" cy="69480"/>
                <a:chOff x="7595280" y="3320280"/>
                <a:chExt cx="182520" cy="69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7595280" y="332028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595280" y="33242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595280" y="3328200"/>
                  <a:ext cx="182520" cy="432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595280" y="3332880"/>
                  <a:ext cx="182520" cy="396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595280" y="333684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595280" y="3341160"/>
                  <a:ext cx="182520" cy="396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7595280" y="334512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7595280" y="3349440"/>
                  <a:ext cx="182520" cy="432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595280" y="3353760"/>
                  <a:ext cx="182520" cy="3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595280" y="3358080"/>
                  <a:ext cx="182520" cy="396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595280" y="336204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7595280" y="3366000"/>
                  <a:ext cx="182520" cy="432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595280" y="337068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595280" y="3374640"/>
                  <a:ext cx="182520" cy="252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7595280" y="3377520"/>
                  <a:ext cx="182520" cy="396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595280" y="33818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595280" y="338580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597080" y="3321360"/>
                  <a:ext cx="178920" cy="67320"/>
                </a:xfrm>
                <a:custGeom>
                  <a:avLst/>
                  <a:gdLst/>
                  <a:ahLst/>
                  <a:rect l="l" t="t" r="r" b="b"/>
                  <a:pathLst>
                    <a:path w="151" h="48">
                      <a:moveTo>
                        <a:pt x="0" y="48"/>
                      </a:moveTo>
                      <a:lnTo>
                        <a:pt x="57" y="0"/>
                      </a:lnTo>
                      <a:lnTo>
                        <a:pt x="95" y="0"/>
                      </a:lnTo>
                      <a:lnTo>
                        <a:pt x="151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8398800" y="3625920"/>
                <a:ext cx="354600" cy="12600"/>
                <a:chOff x="8398800" y="3625920"/>
                <a:chExt cx="354600" cy="1260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8398800" y="3625920"/>
                  <a:ext cx="354600" cy="12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398800" y="3625920"/>
                  <a:ext cx="354600" cy="126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8398800" y="3562920"/>
                <a:ext cx="46080" cy="12240"/>
                <a:chOff x="8398800" y="3562920"/>
                <a:chExt cx="46080" cy="122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8398800" y="3562920"/>
                  <a:ext cx="4608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398800" y="3562920"/>
                  <a:ext cx="4608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8395200" y="3413880"/>
                <a:ext cx="76680" cy="104040"/>
                <a:chOff x="8395200" y="3413880"/>
                <a:chExt cx="76680" cy="10404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839520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395200" y="3413880"/>
                  <a:ext cx="766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0" y="68"/>
                      </a:moveTo>
                      <a:lnTo>
                        <a:pt x="7" y="74"/>
                      </a:lnTo>
                      <a:lnTo>
                        <a:pt x="64" y="23"/>
                      </a:lnTo>
                      <a:lnTo>
                        <a:pt x="64" y="22"/>
                      </a:lnTo>
                      <a:lnTo>
                        <a:pt x="65" y="20"/>
                      </a:lnTo>
                      <a:lnTo>
                        <a:pt x="65" y="0"/>
                      </a:lnTo>
                      <a:lnTo>
                        <a:pt x="56" y="0"/>
                      </a:lnTo>
                      <a:lnTo>
                        <a:pt x="56" y="20"/>
                      </a:lnTo>
                      <a:lnTo>
                        <a:pt x="57" y="19"/>
                      </a:lnTo>
                      <a:lnTo>
                        <a:pt x="56" y="20"/>
                      </a:lnTo>
                      <a:lnTo>
                        <a:pt x="61" y="20"/>
                      </a:lnTo>
                      <a:lnTo>
                        <a:pt x="57" y="17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8525880" y="3413880"/>
                <a:ext cx="80640" cy="161280"/>
                <a:chOff x="8525880" y="3413880"/>
                <a:chExt cx="80640" cy="16128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852588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3" y="95"/>
                      </a:lnTo>
                      <a:lnTo>
                        <a:pt x="63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3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3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3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3" y="107"/>
                      </a:lnTo>
                      <a:lnTo>
                        <a:pt x="63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3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8525880" y="3413880"/>
                  <a:ext cx="80640" cy="161280"/>
                </a:xfrm>
                <a:custGeom>
                  <a:avLst/>
                  <a:gdLst/>
                  <a:ahLst/>
                  <a:rect l="l" t="t" r="r" b="b"/>
                  <a:pathLst>
                    <a:path w="68" h="115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" y="92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63" y="95"/>
                      </a:lnTo>
                      <a:lnTo>
                        <a:pt x="63" y="91"/>
                      </a:lnTo>
                      <a:lnTo>
                        <a:pt x="59" y="91"/>
                      </a:lnTo>
                      <a:lnTo>
                        <a:pt x="60" y="92"/>
                      </a:lnTo>
                      <a:lnTo>
                        <a:pt x="62" y="93"/>
                      </a:lnTo>
                      <a:lnTo>
                        <a:pt x="63" y="95"/>
                      </a:lnTo>
                      <a:lnTo>
                        <a:pt x="59" y="91"/>
                      </a:lnTo>
                      <a:lnTo>
                        <a:pt x="59" y="111"/>
                      </a:lnTo>
                      <a:lnTo>
                        <a:pt x="60" y="112"/>
                      </a:lnTo>
                      <a:lnTo>
                        <a:pt x="62" y="114"/>
                      </a:lnTo>
                      <a:lnTo>
                        <a:pt x="63" y="115"/>
                      </a:lnTo>
                      <a:lnTo>
                        <a:pt x="65" y="115"/>
                      </a:lnTo>
                      <a:lnTo>
                        <a:pt x="65" y="107"/>
                      </a:lnTo>
                      <a:lnTo>
                        <a:pt x="63" y="107"/>
                      </a:lnTo>
                      <a:lnTo>
                        <a:pt x="68" y="111"/>
                      </a:lnTo>
                      <a:lnTo>
                        <a:pt x="67" y="109"/>
                      </a:lnTo>
                      <a:lnTo>
                        <a:pt x="65" y="108"/>
                      </a:lnTo>
                      <a:lnTo>
                        <a:pt x="63" y="107"/>
                      </a:lnTo>
                      <a:lnTo>
                        <a:pt x="63" y="111"/>
                      </a:lnTo>
                      <a:lnTo>
                        <a:pt x="68" y="111"/>
                      </a:lnTo>
                      <a:lnTo>
                        <a:pt x="68" y="91"/>
                      </a:lnTo>
                      <a:lnTo>
                        <a:pt x="67" y="89"/>
                      </a:lnTo>
                      <a:lnTo>
                        <a:pt x="65" y="87"/>
                      </a:lnTo>
                      <a:lnTo>
                        <a:pt x="63" y="86"/>
                      </a:lnTo>
                      <a:lnTo>
                        <a:pt x="4" y="86"/>
                      </a:lnTo>
                      <a:lnTo>
                        <a:pt x="9" y="91"/>
                      </a:lnTo>
                      <a:lnTo>
                        <a:pt x="8" y="89"/>
                      </a:lnTo>
                      <a:lnTo>
                        <a:pt x="6" y="87"/>
                      </a:lnTo>
                      <a:lnTo>
                        <a:pt x="4" y="86"/>
                      </a:lnTo>
                      <a:lnTo>
                        <a:pt x="4" y="91"/>
                      </a:lnTo>
                      <a:lnTo>
                        <a:pt x="9" y="9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602920" y="3562920"/>
                <a:ext cx="52200" cy="12240"/>
                <a:chOff x="8602920" y="3562920"/>
                <a:chExt cx="52200" cy="1224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8602920" y="3562920"/>
                  <a:ext cx="52200" cy="122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602920" y="3562920"/>
                  <a:ext cx="52200" cy="1224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8595720" y="3505320"/>
                <a:ext cx="10440" cy="36360"/>
                <a:chOff x="8595720" y="3505320"/>
                <a:chExt cx="10440" cy="363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8595720" y="3505320"/>
                  <a:ext cx="10440" cy="363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595720" y="3505320"/>
                  <a:ext cx="10440" cy="363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8532720" y="3534840"/>
                <a:ext cx="69840" cy="10800"/>
                <a:chOff x="8532720" y="3534840"/>
                <a:chExt cx="69840" cy="108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8532720" y="3534840"/>
                <a:ext cx="69840" cy="10800"/>
                <a:chOff x="8532720" y="3534840"/>
                <a:chExt cx="69840" cy="108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532720" y="3534840"/>
                  <a:ext cx="69840" cy="10800"/>
                </a:xfrm>
                <a:custGeom>
                  <a:avLst/>
                  <a:gdLst/>
                  <a:ahLst/>
                  <a:rect l="l" t="t" r="r" b="b"/>
                  <a:pathLst>
                    <a:path w="59" h="8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57" y="8"/>
                      </a:lnTo>
                      <a:lnTo>
                        <a:pt x="59" y="8"/>
                      </a:lnTo>
                      <a:lnTo>
                        <a:pt x="59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8529480" y="3501360"/>
                <a:ext cx="73440" cy="44640"/>
                <a:chOff x="8529480" y="3501360"/>
                <a:chExt cx="73440" cy="4464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852948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529480" y="3501360"/>
                  <a:ext cx="73440" cy="44640"/>
                </a:xfrm>
                <a:custGeom>
                  <a:avLst/>
                  <a:gdLst/>
                  <a:ahLst/>
                  <a:rect l="l" t="t" r="r" b="b"/>
                  <a:pathLst>
                    <a:path w="62" h="32">
                      <a:moveTo>
                        <a:pt x="0" y="23"/>
                      </a:moveTo>
                      <a:lnTo>
                        <a:pt x="3" y="32"/>
                      </a:lnTo>
                      <a:lnTo>
                        <a:pt x="62" y="9"/>
                      </a:lnTo>
                      <a:lnTo>
                        <a:pt x="60" y="4"/>
                      </a:lnTo>
                      <a:lnTo>
                        <a:pt x="60" y="9"/>
                      </a:lnTo>
                      <a:lnTo>
                        <a:pt x="62" y="9"/>
                      </a:lnTo>
                      <a:lnTo>
                        <a:pt x="62" y="0"/>
                      </a:lnTo>
                      <a:lnTo>
                        <a:pt x="60" y="0"/>
                      </a:lnTo>
                      <a:lnTo>
                        <a:pt x="5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8465400" y="3405600"/>
                <a:ext cx="67320" cy="12600"/>
                <a:chOff x="8465400" y="3405600"/>
                <a:chExt cx="67320" cy="1260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8465400" y="3405600"/>
                  <a:ext cx="67320" cy="12600"/>
                </a:xfrm>
                <a:custGeom>
                  <a:avLst/>
                  <a:gdLst/>
                  <a:ahLst/>
                  <a:rect l="l" t="t" r="r" b="b"/>
                  <a:pathLst>
                    <a:path w="5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7" y="9"/>
                      </a:lnTo>
                      <a:lnTo>
                        <a:pt x="57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465400" y="3405600"/>
                  <a:ext cx="67320" cy="12600"/>
                </a:xfrm>
                <a:custGeom>
                  <a:avLst/>
                  <a:gdLst/>
                  <a:ahLst/>
                  <a:rect l="l" t="t" r="r" b="b"/>
                  <a:pathLst>
                    <a:path w="5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55" y="9"/>
                      </a:lnTo>
                      <a:lnTo>
                        <a:pt x="57" y="9"/>
                      </a:lnTo>
                      <a:lnTo>
                        <a:pt x="57" y="0"/>
                      </a:lnTo>
                      <a:lnTo>
                        <a:pt x="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567280" y="3397320"/>
                <a:ext cx="200520" cy="116280"/>
                <a:chOff x="8567280" y="3397320"/>
                <a:chExt cx="200520" cy="1162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856728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567280" y="3397320"/>
                  <a:ext cx="200520" cy="116280"/>
                </a:xfrm>
                <a:custGeom>
                  <a:avLst/>
                  <a:gdLst/>
                  <a:ahLst/>
                  <a:rect l="l" t="t" r="r" b="b"/>
                  <a:pathLst>
                    <a:path w="169" h="83">
                      <a:moveTo>
                        <a:pt x="14" y="74"/>
                      </a:moveTo>
                      <a:lnTo>
                        <a:pt x="16" y="83"/>
                      </a:lnTo>
                      <a:lnTo>
                        <a:pt x="166" y="33"/>
                      </a:lnTo>
                      <a:lnTo>
                        <a:pt x="166" y="31"/>
                      </a:lnTo>
                      <a:lnTo>
                        <a:pt x="168" y="29"/>
                      </a:lnTo>
                      <a:lnTo>
                        <a:pt x="169" y="28"/>
                      </a:lnTo>
                      <a:lnTo>
                        <a:pt x="169" y="27"/>
                      </a:lnTo>
                      <a:lnTo>
                        <a:pt x="151" y="3"/>
                      </a:lnTo>
                      <a:lnTo>
                        <a:pt x="150" y="3"/>
                      </a:lnTo>
                      <a:lnTo>
                        <a:pt x="148" y="1"/>
                      </a:lnTo>
                      <a:lnTo>
                        <a:pt x="14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47" y="9"/>
                      </a:lnTo>
                      <a:lnTo>
                        <a:pt x="144" y="6"/>
                      </a:lnTo>
                      <a:lnTo>
                        <a:pt x="145" y="7"/>
                      </a:lnTo>
                      <a:lnTo>
                        <a:pt x="147" y="9"/>
                      </a:lnTo>
                      <a:lnTo>
                        <a:pt x="147" y="4"/>
                      </a:lnTo>
                      <a:lnTo>
                        <a:pt x="144" y="7"/>
                      </a:lnTo>
                      <a:lnTo>
                        <a:pt x="162" y="31"/>
                      </a:lnTo>
                      <a:lnTo>
                        <a:pt x="163" y="25"/>
                      </a:lnTo>
                      <a:lnTo>
                        <a:pt x="162" y="27"/>
                      </a:lnTo>
                      <a:lnTo>
                        <a:pt x="160" y="28"/>
                      </a:lnTo>
                      <a:lnTo>
                        <a:pt x="165" y="28"/>
                      </a:lnTo>
                      <a:lnTo>
                        <a:pt x="165" y="23"/>
                      </a:lnTo>
                      <a:lnTo>
                        <a:pt x="14" y="74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8461800" y="3380400"/>
                <a:ext cx="130320" cy="128880"/>
                <a:chOff x="8461800" y="3380400"/>
                <a:chExt cx="130320" cy="12888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8461800" y="3380400"/>
                  <a:ext cx="130320" cy="128880"/>
                </a:xfrm>
                <a:custGeom>
                  <a:avLst/>
                  <a:gdLst/>
                  <a:ahLst/>
                  <a:rect l="l" t="t" r="r" b="b"/>
                  <a:pathLst>
                    <a:path w="110" h="92">
                      <a:moveTo>
                        <a:pt x="89" y="21"/>
                      </a:moveTo>
                      <a:lnTo>
                        <a:pt x="94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2" y="16"/>
                      </a:lnTo>
                      <a:lnTo>
                        <a:pt x="4" y="18"/>
                      </a:lnTo>
                      <a:lnTo>
                        <a:pt x="5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10" y="89"/>
                      </a:lnTo>
                      <a:lnTo>
                        <a:pt x="68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" y="10"/>
                      </a:lnTo>
                      <a:lnTo>
                        <a:pt x="10" y="15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5" y="10"/>
                      </a:lnTo>
                      <a:lnTo>
                        <a:pt x="5" y="15"/>
                      </a:lnTo>
                      <a:lnTo>
                        <a:pt x="10" y="15"/>
                      </a:lnTo>
                      <a:lnTo>
                        <a:pt x="10" y="4"/>
                      </a:lnTo>
                      <a:lnTo>
                        <a:pt x="5" y="9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0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9" y="2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461800" y="3380400"/>
                  <a:ext cx="130320" cy="128880"/>
                </a:xfrm>
                <a:custGeom>
                  <a:avLst/>
                  <a:gdLst/>
                  <a:ahLst/>
                  <a:rect l="l" t="t" r="r" b="b"/>
                  <a:pathLst>
                    <a:path w="110" h="92">
                      <a:moveTo>
                        <a:pt x="89" y="21"/>
                      </a:moveTo>
                      <a:lnTo>
                        <a:pt x="94" y="13"/>
                      </a:lnTo>
                      <a:lnTo>
                        <a:pt x="75" y="2"/>
                      </a:lnTo>
                      <a:lnTo>
                        <a:pt x="72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15"/>
                      </a:lnTo>
                      <a:lnTo>
                        <a:pt x="2" y="16"/>
                      </a:lnTo>
                      <a:lnTo>
                        <a:pt x="4" y="18"/>
                      </a:lnTo>
                      <a:lnTo>
                        <a:pt x="5" y="19"/>
                      </a:lnTo>
                      <a:lnTo>
                        <a:pt x="63" y="19"/>
                      </a:lnTo>
                      <a:lnTo>
                        <a:pt x="63" y="15"/>
                      </a:lnTo>
                      <a:lnTo>
                        <a:pt x="60" y="16"/>
                      </a:lnTo>
                      <a:lnTo>
                        <a:pt x="62" y="18"/>
                      </a:lnTo>
                      <a:lnTo>
                        <a:pt x="63" y="19"/>
                      </a:lnTo>
                      <a:lnTo>
                        <a:pt x="60" y="16"/>
                      </a:lnTo>
                      <a:lnTo>
                        <a:pt x="102" y="92"/>
                      </a:lnTo>
                      <a:lnTo>
                        <a:pt x="110" y="89"/>
                      </a:lnTo>
                      <a:lnTo>
                        <a:pt x="68" y="13"/>
                      </a:lnTo>
                      <a:lnTo>
                        <a:pt x="66" y="13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" y="10"/>
                      </a:lnTo>
                      <a:lnTo>
                        <a:pt x="10" y="15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5" y="10"/>
                      </a:lnTo>
                      <a:lnTo>
                        <a:pt x="5" y="15"/>
                      </a:lnTo>
                      <a:lnTo>
                        <a:pt x="10" y="15"/>
                      </a:lnTo>
                      <a:lnTo>
                        <a:pt x="10" y="4"/>
                      </a:lnTo>
                      <a:lnTo>
                        <a:pt x="5" y="9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0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1" y="9"/>
                      </a:lnTo>
                      <a:lnTo>
                        <a:pt x="89" y="21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8395200" y="3505320"/>
                <a:ext cx="10440" cy="65520"/>
                <a:chOff x="8395200" y="3505320"/>
                <a:chExt cx="10440" cy="655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839520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395200" y="3505320"/>
                  <a:ext cx="10440" cy="65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5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8472240" y="3550320"/>
                <a:ext cx="50040" cy="58680"/>
                <a:chOff x="8472240" y="3550320"/>
                <a:chExt cx="50040" cy="5868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8472240" y="3550320"/>
                  <a:ext cx="5004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8472240" y="3550320"/>
                  <a:ext cx="5004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>
                <a:off x="844848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8673120" y="3550320"/>
                <a:ext cx="49680" cy="58680"/>
                <a:chOff x="8673120" y="3550320"/>
                <a:chExt cx="49680" cy="5868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8673120" y="3550320"/>
                  <a:ext cx="49680" cy="58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8673120" y="3550320"/>
                  <a:ext cx="49680" cy="58680"/>
                </a:xfrm>
                <a:prstGeom prst="ellipse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>
                <a:off x="8647920" y="3526200"/>
                <a:ext cx="98280" cy="1080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8" name=""/>
              <p:cNvGrpSpPr/>
              <p:nvPr/>
            </p:nvGrpSpPr>
            <p:grpSpPr>
              <a:xfrm>
                <a:off x="8486640" y="3446640"/>
                <a:ext cx="28440" cy="33480"/>
                <a:chOff x="8486640" y="3446640"/>
                <a:chExt cx="28440" cy="3348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8486640" y="3446640"/>
                  <a:ext cx="28440" cy="33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486640" y="3446640"/>
                  <a:ext cx="28440" cy="3348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8548560" y="3320280"/>
                <a:ext cx="182520" cy="69480"/>
                <a:chOff x="8548560" y="3320280"/>
                <a:chExt cx="182520" cy="694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8548560" y="332028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548560" y="33242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548560" y="3328200"/>
                  <a:ext cx="182520" cy="432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548560" y="3332880"/>
                  <a:ext cx="182520" cy="396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548560" y="333684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548560" y="3341160"/>
                  <a:ext cx="182520" cy="396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548560" y="334512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8548560" y="3349440"/>
                  <a:ext cx="182520" cy="432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548560" y="3353760"/>
                  <a:ext cx="182520" cy="39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548560" y="3358080"/>
                  <a:ext cx="182520" cy="3960"/>
                </a:xfrm>
                <a:prstGeom prst="rect">
                  <a:avLst/>
                </a:prstGeom>
                <a:solidFill>
                  <a:srgbClr val="3f1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548560" y="3362040"/>
                  <a:ext cx="182520" cy="3960"/>
                </a:xfrm>
                <a:prstGeom prst="rect">
                  <a:avLst/>
                </a:prstGeom>
                <a:solidFill>
                  <a:srgbClr val="692a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8548560" y="3366000"/>
                  <a:ext cx="182520" cy="4320"/>
                </a:xfrm>
                <a:prstGeom prst="rect">
                  <a:avLst/>
                </a:prstGeom>
                <a:solidFill>
                  <a:srgbClr val="933b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548560" y="3370680"/>
                  <a:ext cx="182520" cy="3960"/>
                </a:xfrm>
                <a:prstGeom prst="rect">
                  <a:avLst/>
                </a:prstGeom>
                <a:solidFill>
                  <a:srgbClr val="ba4a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548560" y="3374640"/>
                  <a:ext cx="182520" cy="2520"/>
                </a:xfrm>
                <a:prstGeom prst="rect">
                  <a:avLst/>
                </a:prstGeom>
                <a:solidFill>
                  <a:srgbClr val="d9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8548560" y="3377520"/>
                  <a:ext cx="182520" cy="3960"/>
                </a:xfrm>
                <a:prstGeom prst="rect">
                  <a:avLst/>
                </a:prstGeom>
                <a:solidFill>
                  <a:srgbClr val="ee5f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548560" y="3381840"/>
                  <a:ext cx="182520" cy="3960"/>
                </a:xfrm>
                <a:prstGeom prst="rect">
                  <a:avLst/>
                </a:prstGeom>
                <a:solidFill>
                  <a:srgbClr val="fa64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548560" y="3385800"/>
                  <a:ext cx="182520" cy="396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550360" y="3321360"/>
                  <a:ext cx="178920" cy="67320"/>
                </a:xfrm>
                <a:custGeom>
                  <a:avLst/>
                  <a:gdLst/>
                  <a:ahLst/>
                  <a:rect l="l" t="t" r="r" b="b"/>
                  <a:pathLst>
                    <a:path w="151" h="48">
                      <a:moveTo>
                        <a:pt x="0" y="48"/>
                      </a:moveTo>
                      <a:lnTo>
                        <a:pt x="56" y="0"/>
                      </a:lnTo>
                      <a:lnTo>
                        <a:pt x="94" y="0"/>
                      </a:lnTo>
                      <a:lnTo>
                        <a:pt x="151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cap="rnd"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6585120" y="1946520"/>
                <a:ext cx="2150640" cy="277560"/>
                <a:chOff x="6585120" y="1946520"/>
                <a:chExt cx="2150640" cy="2775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6585120" y="1946520"/>
                  <a:ext cx="2150640" cy="27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585120" y="1946520"/>
                  <a:ext cx="2150640" cy="277560"/>
                </a:xfrm>
                <a:prstGeom prst="rect">
                  <a:avLst/>
                </a:prstGeom>
                <a:solidFill>
                  <a:srgbClr val="ffffff"/>
                </a:solidFill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3" name=""/>
              <p:cNvSpPr/>
              <p:nvPr/>
            </p:nvSpPr>
            <p:spPr>
              <a:xfrm>
                <a:off x="7241760" y="1964520"/>
                <a:ext cx="932040" cy="1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ONCENTRATION PLA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705000" y="3004560"/>
                <a:ext cx="27360" cy="276120"/>
              </a:xfrm>
              <a:custGeom>
                <a:avLst/>
                <a:gdLst/>
                <a:ahLst/>
                <a:rect l="l" t="t" r="r" b="b"/>
                <a:pathLst>
                  <a:path w="128" h="1066">
                    <a:moveTo>
                      <a:pt x="60" y="10"/>
                    </a:moveTo>
                    <a:lnTo>
                      <a:pt x="75" y="995"/>
                    </a:lnTo>
                    <a:cubicBezTo>
                      <a:pt x="75" y="1001"/>
                      <a:pt x="70" y="1006"/>
                      <a:pt x="65" y="1006"/>
                    </a:cubicBezTo>
                    <a:cubicBezTo>
                      <a:pt x="59" y="1006"/>
                      <a:pt x="54" y="1001"/>
                      <a:pt x="54" y="996"/>
                    </a:cubicBezTo>
                    <a:lnTo>
                      <a:pt x="39" y="11"/>
                    </a:lnTo>
                    <a:cubicBezTo>
                      <a:pt x="39" y="5"/>
                      <a:pt x="43" y="0"/>
                      <a:pt x="49" y="0"/>
                    </a:cubicBezTo>
                    <a:cubicBezTo>
                      <a:pt x="55" y="0"/>
                      <a:pt x="60" y="4"/>
                      <a:pt x="60" y="10"/>
                    </a:cubicBezTo>
                    <a:close/>
                    <a:moveTo>
                      <a:pt x="128" y="938"/>
                    </a:moveTo>
                    <a:lnTo>
                      <a:pt x="65" y="1066"/>
                    </a:lnTo>
                    <a:lnTo>
                      <a:pt x="0" y="939"/>
                    </a:lnTo>
                    <a:lnTo>
                      <a:pt x="128" y="93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664040" y="3007080"/>
                <a:ext cx="28440" cy="277920"/>
              </a:xfrm>
              <a:custGeom>
                <a:avLst/>
                <a:gdLst/>
                <a:ahLst/>
                <a:rect l="l" t="t" r="r" b="b"/>
                <a:pathLst>
                  <a:path w="128" h="1066">
                    <a:moveTo>
                      <a:pt x="60" y="10"/>
                    </a:moveTo>
                    <a:lnTo>
                      <a:pt x="75" y="995"/>
                    </a:lnTo>
                    <a:cubicBezTo>
                      <a:pt x="75" y="1001"/>
                      <a:pt x="70" y="1006"/>
                      <a:pt x="65" y="1006"/>
                    </a:cubicBezTo>
                    <a:cubicBezTo>
                      <a:pt x="59" y="1006"/>
                      <a:pt x="54" y="1001"/>
                      <a:pt x="54" y="996"/>
                    </a:cubicBezTo>
                    <a:lnTo>
                      <a:pt x="39" y="11"/>
                    </a:lnTo>
                    <a:cubicBezTo>
                      <a:pt x="39" y="5"/>
                      <a:pt x="43" y="0"/>
                      <a:pt x="49" y="0"/>
                    </a:cubicBezTo>
                    <a:cubicBezTo>
                      <a:pt x="55" y="0"/>
                      <a:pt x="60" y="4"/>
                      <a:pt x="60" y="10"/>
                    </a:cubicBezTo>
                    <a:close/>
                    <a:moveTo>
                      <a:pt x="128" y="938"/>
                    </a:moveTo>
                    <a:lnTo>
                      <a:pt x="65" y="1066"/>
                    </a:lnTo>
                    <a:lnTo>
                      <a:pt x="0" y="939"/>
                    </a:lnTo>
                    <a:lnTo>
                      <a:pt x="128" y="93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624520" y="3004560"/>
                <a:ext cx="27000" cy="276120"/>
              </a:xfrm>
              <a:custGeom>
                <a:avLst/>
                <a:gdLst/>
                <a:ahLst/>
                <a:rect l="l" t="t" r="r" b="b"/>
                <a:pathLst>
                  <a:path w="128" h="1066">
                    <a:moveTo>
                      <a:pt x="60" y="10"/>
                    </a:moveTo>
                    <a:lnTo>
                      <a:pt x="75" y="995"/>
                    </a:lnTo>
                    <a:cubicBezTo>
                      <a:pt x="75" y="1001"/>
                      <a:pt x="70" y="1006"/>
                      <a:pt x="65" y="1006"/>
                    </a:cubicBezTo>
                    <a:cubicBezTo>
                      <a:pt x="59" y="1006"/>
                      <a:pt x="54" y="1001"/>
                      <a:pt x="54" y="996"/>
                    </a:cubicBezTo>
                    <a:lnTo>
                      <a:pt x="39" y="11"/>
                    </a:lnTo>
                    <a:cubicBezTo>
                      <a:pt x="39" y="5"/>
                      <a:pt x="43" y="0"/>
                      <a:pt x="49" y="0"/>
                    </a:cubicBezTo>
                    <a:cubicBezTo>
                      <a:pt x="55" y="0"/>
                      <a:pt x="60" y="4"/>
                      <a:pt x="60" y="10"/>
                    </a:cubicBezTo>
                    <a:close/>
                    <a:moveTo>
                      <a:pt x="128" y="938"/>
                    </a:moveTo>
                    <a:lnTo>
                      <a:pt x="65" y="1066"/>
                    </a:lnTo>
                    <a:lnTo>
                      <a:pt x="0" y="939"/>
                    </a:lnTo>
                    <a:lnTo>
                      <a:pt x="128" y="93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6640920" y="2357640"/>
                <a:ext cx="42480" cy="54720"/>
                <a:chOff x="6640920" y="2357640"/>
                <a:chExt cx="42480" cy="547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640920" y="235764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640920" y="235764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7601400" y="2344680"/>
                <a:ext cx="41400" cy="54720"/>
                <a:chOff x="7601400" y="2344680"/>
                <a:chExt cx="41400" cy="547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7601400" y="2344680"/>
                  <a:ext cx="4140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601400" y="2344680"/>
                  <a:ext cx="4140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8560440" y="2332080"/>
                <a:ext cx="42480" cy="54720"/>
                <a:chOff x="8560440" y="2332080"/>
                <a:chExt cx="42480" cy="547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8560440" y="233208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8560440" y="233208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6606360" y="1842480"/>
                <a:ext cx="41400" cy="53280"/>
                <a:chOff x="6606360" y="1842480"/>
                <a:chExt cx="41400" cy="532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6606360" y="1842480"/>
                  <a:ext cx="41400" cy="53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606360" y="1842480"/>
                  <a:ext cx="41400" cy="5328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7565400" y="1829880"/>
                <a:ext cx="42480" cy="54720"/>
                <a:chOff x="7565400" y="1829880"/>
                <a:chExt cx="42480" cy="5472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7565400" y="182988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565400" y="182988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6672960" y="1797480"/>
                <a:ext cx="28440" cy="14436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3" name=""/>
              <p:cNvGrpSpPr/>
              <p:nvPr/>
            </p:nvGrpSpPr>
            <p:grpSpPr>
              <a:xfrm>
                <a:off x="6728760" y="1796040"/>
                <a:ext cx="313560" cy="88200"/>
                <a:chOff x="6728760" y="1796040"/>
                <a:chExt cx="313560" cy="8820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6728760" y="1796040"/>
                  <a:ext cx="313560" cy="8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728760" y="1796040"/>
                  <a:ext cx="313560" cy="8820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6" name=""/>
              <p:cNvSpPr/>
              <p:nvPr/>
            </p:nvSpPr>
            <p:spPr>
              <a:xfrm>
                <a:off x="6723000" y="1807200"/>
                <a:ext cx="2887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Itabirito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636680" y="1810080"/>
                <a:ext cx="27000" cy="14436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7703280" y="1812960"/>
                <a:ext cx="312120" cy="86760"/>
                <a:chOff x="7703280" y="1812960"/>
                <a:chExt cx="312120" cy="867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7703280" y="1812960"/>
                  <a:ext cx="312120" cy="86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703280" y="1812960"/>
                  <a:ext cx="312120" cy="8676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1" name=""/>
              <p:cNvSpPr/>
              <p:nvPr/>
            </p:nvSpPr>
            <p:spPr>
              <a:xfrm>
                <a:off x="7689240" y="1824120"/>
                <a:ext cx="35280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Hematit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599320" y="1810080"/>
                <a:ext cx="28440" cy="14436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"/>
              <p:cNvGrpSpPr/>
              <p:nvPr/>
            </p:nvGrpSpPr>
            <p:grpSpPr>
              <a:xfrm>
                <a:off x="8638560" y="1821240"/>
                <a:ext cx="311760" cy="87120"/>
                <a:chOff x="8638560" y="1821240"/>
                <a:chExt cx="311760" cy="871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8638560" y="1821240"/>
                  <a:ext cx="311760" cy="8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638560" y="1821240"/>
                  <a:ext cx="311760" cy="87120"/>
                </a:xfrm>
                <a:prstGeom prst="rect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>
                <a:off x="8624880" y="1834200"/>
                <a:ext cx="36792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Residuo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6603120" y="3700440"/>
                <a:ext cx="41400" cy="54720"/>
                <a:chOff x="6603120" y="3700440"/>
                <a:chExt cx="41400" cy="5472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603120" y="3700440"/>
                  <a:ext cx="4140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603120" y="3700440"/>
                  <a:ext cx="4140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6669360" y="3656880"/>
                <a:ext cx="28440" cy="14292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7576200" y="3700440"/>
                <a:ext cx="42480" cy="54720"/>
                <a:chOff x="7576200" y="3700440"/>
                <a:chExt cx="42480" cy="547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7576200" y="3700440"/>
                  <a:ext cx="4248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7576200" y="3700440"/>
                  <a:ext cx="4248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4" name=""/>
              <p:cNvSpPr/>
              <p:nvPr/>
            </p:nvSpPr>
            <p:spPr>
              <a:xfrm>
                <a:off x="7642800" y="3656880"/>
                <a:ext cx="28440" cy="14292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"/>
              <p:cNvGrpSpPr/>
              <p:nvPr/>
            </p:nvGrpSpPr>
            <p:grpSpPr>
              <a:xfrm>
                <a:off x="8550720" y="3700440"/>
                <a:ext cx="41400" cy="54720"/>
                <a:chOff x="8550720" y="3700440"/>
                <a:chExt cx="41400" cy="547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8550720" y="3700440"/>
                  <a:ext cx="41400" cy="5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550720" y="3700440"/>
                  <a:ext cx="41400" cy="54720"/>
                </a:xfrm>
                <a:prstGeom prst="ellipse">
                  <a:avLst/>
                </a:prstGeom>
                <a:noFill/>
                <a:ln cap="rnd"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8616960" y="3656880"/>
                <a:ext cx="27360" cy="142920"/>
              </a:xfrm>
              <a:custGeom>
                <a:avLst/>
                <a:gdLst/>
                <a:ahLst/>
                <a:rect l="l" t="t" r="r" b="b"/>
                <a:pathLst>
                  <a:path w="128" h="554">
                    <a:moveTo>
                      <a:pt x="75" y="10"/>
                    </a:moveTo>
                    <a:lnTo>
                      <a:pt x="75" y="483"/>
                    </a:lnTo>
                    <a:cubicBezTo>
                      <a:pt x="75" y="489"/>
                      <a:pt x="70" y="494"/>
                      <a:pt x="64" y="494"/>
                    </a:cubicBezTo>
                    <a:cubicBezTo>
                      <a:pt x="59" y="494"/>
                      <a:pt x="54" y="489"/>
                      <a:pt x="54" y="483"/>
                    </a:cubicBezTo>
                    <a:lnTo>
                      <a:pt x="54" y="10"/>
                    </a:lnTo>
                    <a:cubicBezTo>
                      <a:pt x="54" y="5"/>
                      <a:pt x="59" y="0"/>
                      <a:pt x="64" y="0"/>
                    </a:cubicBezTo>
                    <a:cubicBezTo>
                      <a:pt x="70" y="0"/>
                      <a:pt x="75" y="5"/>
                      <a:pt x="75" y="10"/>
                    </a:cubicBezTo>
                    <a:close/>
                    <a:moveTo>
                      <a:pt x="128" y="426"/>
                    </a:moveTo>
                    <a:lnTo>
                      <a:pt x="64" y="554"/>
                    </a:lnTo>
                    <a:lnTo>
                      <a:pt x="0" y="426"/>
                    </a:lnTo>
                    <a:lnTo>
                      <a:pt x="128" y="426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3352680" y="1438200"/>
              <a:ext cx="2819520" cy="2533680"/>
              <a:chOff x="3352680" y="1438200"/>
              <a:chExt cx="2819520" cy="2533680"/>
            </a:xfrm>
          </p:grpSpPr>
          <p:pic>
            <p:nvPicPr>
              <p:cNvPr id="730" name="" descr=""/>
              <p:cNvPicPr/>
              <p:nvPr/>
            </p:nvPicPr>
            <p:blipFill>
              <a:blip r:embed="rId1"/>
              <a:srcRect l="0" t="0" r="0" b="63127"/>
              <a:stretch/>
            </p:blipFill>
            <p:spPr>
              <a:xfrm>
                <a:off x="3352680" y="1438200"/>
                <a:ext cx="2819520" cy="76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1" name="" descr=""/>
              <p:cNvPicPr/>
              <p:nvPr/>
            </p:nvPicPr>
            <p:blipFill>
              <a:blip r:embed="rId2"/>
              <a:srcRect l="0" t="14590" r="0" b="0"/>
              <a:stretch/>
            </p:blipFill>
            <p:spPr>
              <a:xfrm>
                <a:off x="3352680" y="2192040"/>
                <a:ext cx="2814480" cy="177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2" name=""/>
            <p:cNvSpPr/>
            <p:nvPr/>
          </p:nvSpPr>
          <p:spPr>
            <a:xfrm>
              <a:off x="380880" y="2741760"/>
              <a:ext cx="3922920" cy="12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174600" indent="-174600">
                <a:lnSpc>
                  <a:spcPct val="85000"/>
                </a:lnSpc>
                <a:spcBef>
                  <a:spcPts val="751"/>
                </a:spcBef>
                <a:buClr>
                  <a:srgbClr val="dc24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lance con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68120">
                <a:lnSpc>
                  <a:spcPct val="85000"/>
                </a:lnSpc>
                <a:spcBef>
                  <a:spcPts val="675"/>
                </a:spcBef>
                <a:buClr>
                  <a:srgbClr val="0053a5"/>
                </a:buClr>
                <a:buSzPct val="12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porte exa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Ráp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16840" y="1141560"/>
              <a:ext cx="4973760" cy="3405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ple Balance - Only for Production Repor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523800" y="3809880"/>
            <a:ext cx="8696520" cy="2514600"/>
            <a:chOff x="523800" y="3809880"/>
            <a:chExt cx="8696520" cy="2514600"/>
          </a:xfrm>
        </p:grpSpPr>
        <p:graphicFrame>
          <p:nvGraphicFramePr>
            <p:cNvPr id="735" name=""/>
            <p:cNvGraphicFramePr/>
            <p:nvPr/>
          </p:nvGraphicFramePr>
          <p:xfrm>
            <a:off x="6238800" y="3925800"/>
            <a:ext cx="2981520" cy="2398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38800" y="3925800"/>
                      <a:ext cx="2981520" cy="23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37" name="" descr=""/>
            <p:cNvPicPr/>
            <p:nvPr/>
          </p:nvPicPr>
          <p:blipFill>
            <a:blip r:embed="rId5"/>
            <a:stretch/>
          </p:blipFill>
          <p:spPr>
            <a:xfrm>
              <a:off x="3495600" y="4038480"/>
              <a:ext cx="281952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23800" y="4038480"/>
              <a:ext cx="39229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174600" indent="-174600">
                <a:lnSpc>
                  <a:spcPct val="85000"/>
                </a:lnSpc>
                <a:spcBef>
                  <a:spcPts val="751"/>
                </a:spcBef>
                <a:buClr>
                  <a:srgbClr val="dc241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lance metalurg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68120">
                <a:lnSpc>
                  <a:spcPct val="85000"/>
                </a:lnSpc>
                <a:spcBef>
                  <a:spcPts val="675"/>
                </a:spcBef>
                <a:buClr>
                  <a:srgbClr val="0053a5"/>
                </a:buClr>
                <a:buSzPct val="12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agnóstico de proble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rumen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r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68120">
                <a:lnSpc>
                  <a:spcPct val="85000"/>
                </a:lnSpc>
                <a:spcBef>
                  <a:spcPts val="675"/>
                </a:spcBef>
                <a:buClr>
                  <a:srgbClr val="0053a5"/>
                </a:buClr>
                <a:buSzPct val="12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stión de la ope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nitor de la prod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738360" indent="-166680">
                <a:lnSpc>
                  <a:spcPct val="85000"/>
                </a:lnSpc>
                <a:spcBef>
                  <a:spcPts val="601"/>
                </a:spcBef>
                <a:buClr>
                  <a:srgbClr val="317023"/>
                </a:buClr>
                <a:buSzPct val="9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428000" y="3809880"/>
              <a:ext cx="3894840" cy="3405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ail Balance – Analyze Ope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 Bal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82680" y="916200"/>
            <a:ext cx="1979640" cy="586800"/>
          </a:xfrm>
          <a:prstGeom prst="flowChartInputOutput">
            <a:avLst/>
          </a:prstGeom>
          <a:solidFill>
            <a:srgbClr val="00cc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centrat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4800" y="1828800"/>
            <a:ext cx="990720" cy="1143000"/>
          </a:xfrm>
          <a:prstGeom prst="flowChartMultidocument">
            <a:avLst/>
          </a:prstGeom>
          <a:solidFill>
            <a:srgbClr val="ffcc6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038480" y="2133720"/>
            <a:ext cx="771480" cy="955440"/>
          </a:xfrm>
          <a:prstGeom prst="flowChartDocument">
            <a:avLst/>
          </a:prstGeom>
          <a:solidFill>
            <a:srgbClr val="ffcc6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458120" y="3844800"/>
            <a:ext cx="1076400" cy="955800"/>
          </a:xfrm>
          <a:prstGeom prst="flowChartDocument">
            <a:avLst/>
          </a:prstGeom>
          <a:solidFill>
            <a:srgbClr val="33cc33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1600200" y="1676520"/>
            <a:ext cx="1143000" cy="1192680"/>
            <a:chOff x="1600200" y="1676520"/>
            <a:chExt cx="1143000" cy="1192680"/>
          </a:xfrm>
        </p:grpSpPr>
        <p:sp>
          <p:nvSpPr>
            <p:cNvPr id="746" name=""/>
            <p:cNvSpPr/>
            <p:nvPr/>
          </p:nvSpPr>
          <p:spPr>
            <a:xfrm>
              <a:off x="1600200" y="1676520"/>
              <a:ext cx="1143000" cy="119268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7" name="" descr=""/>
            <p:cNvPicPr/>
            <p:nvPr/>
          </p:nvPicPr>
          <p:blipFill>
            <a:blip r:embed="rId1"/>
            <a:stretch/>
          </p:blipFill>
          <p:spPr>
            <a:xfrm>
              <a:off x="1855800" y="1716120"/>
              <a:ext cx="614520" cy="61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748" name=""/>
          <p:cNvSpPr/>
          <p:nvPr/>
        </p:nvSpPr>
        <p:spPr>
          <a:xfrm>
            <a:off x="2971800" y="4054680"/>
            <a:ext cx="1979640" cy="586800"/>
          </a:xfrm>
          <a:prstGeom prst="flowChartInputOutput">
            <a:avLst/>
          </a:prstGeom>
          <a:solidFill>
            <a:srgbClr val="00cc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ckpi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562720" y="2895480"/>
            <a:ext cx="1143000" cy="1192680"/>
            <a:chOff x="5562720" y="2895480"/>
            <a:chExt cx="1143000" cy="1192680"/>
          </a:xfrm>
        </p:grpSpPr>
        <p:sp>
          <p:nvSpPr>
            <p:cNvPr id="750" name=""/>
            <p:cNvSpPr/>
            <p:nvPr/>
          </p:nvSpPr>
          <p:spPr>
            <a:xfrm>
              <a:off x="5562720" y="2895480"/>
              <a:ext cx="1143000" cy="1192680"/>
            </a:xfrm>
            <a:prstGeom prst="rect">
              <a:avLst/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lanc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1" name="" descr=""/>
            <p:cNvPicPr/>
            <p:nvPr/>
          </p:nvPicPr>
          <p:blipFill>
            <a:blip r:embed="rId2"/>
            <a:stretch/>
          </p:blipFill>
          <p:spPr>
            <a:xfrm>
              <a:off x="5818320" y="2935080"/>
              <a:ext cx="614520" cy="61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cxnSp>
        <p:nvCxnSpPr>
          <p:cNvPr id="752" name=""/>
          <p:cNvCxnSpPr>
            <a:stCxn id="741" idx="3"/>
            <a:endCxn id="746" idx="1"/>
          </p:cNvCxnSpPr>
          <p:nvPr/>
        </p:nvCxnSpPr>
        <p:spPr>
          <a:xfrm flipH="1" rot="16200000">
            <a:off x="1004400" y="1713240"/>
            <a:ext cx="739080" cy="407160"/>
          </a:xfrm>
          <a:prstGeom prst="bentConnector2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3" name=""/>
          <p:cNvCxnSpPr>
            <a:stCxn id="746" idx="3"/>
            <a:endCxn id="743" idx="1"/>
          </p:cNvCxnSpPr>
          <p:nvPr/>
        </p:nvCxnSpPr>
        <p:spPr>
          <a:xfrm>
            <a:off x="2765160" y="2286000"/>
            <a:ext cx="1251720" cy="326160"/>
          </a:xfrm>
          <a:prstGeom prst="bentConnector3">
            <a:avLst>
              <a:gd name="adj1" fmla="val 5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4" name=""/>
          <p:cNvCxnSpPr>
            <a:stCxn id="742" idx="3"/>
            <a:endCxn id="750" idx="1"/>
          </p:cNvCxnSpPr>
          <p:nvPr/>
        </p:nvCxnSpPr>
        <p:spPr>
          <a:xfrm>
            <a:off x="5127120" y="2400120"/>
            <a:ext cx="413640" cy="1105560"/>
          </a:xfrm>
          <a:prstGeom prst="bentConnector3">
            <a:avLst>
              <a:gd name="adj1" fmla="val 5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5" name=""/>
          <p:cNvCxnSpPr>
            <a:stCxn id="748" idx="5"/>
            <a:endCxn id="750" idx="2"/>
          </p:cNvCxnSpPr>
          <p:nvPr/>
        </p:nvCxnSpPr>
        <p:spPr>
          <a:xfrm flipV="1">
            <a:off x="4771800" y="4136760"/>
            <a:ext cx="1362600" cy="211680"/>
          </a:xfrm>
          <a:prstGeom prst="bentConnector2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6" name=""/>
          <p:cNvCxnSpPr>
            <a:stCxn id="750" idx="3"/>
            <a:endCxn id="744" idx="1"/>
          </p:cNvCxnSpPr>
          <p:nvPr/>
        </p:nvCxnSpPr>
        <p:spPr>
          <a:xfrm>
            <a:off x="6727320" y="3504960"/>
            <a:ext cx="708840" cy="818280"/>
          </a:xfrm>
          <a:prstGeom prst="bentConnector3">
            <a:avLst>
              <a:gd name="adj1" fmla="val 5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57" name=""/>
          <p:cNvGrpSpPr/>
          <p:nvPr/>
        </p:nvGrpSpPr>
        <p:grpSpPr>
          <a:xfrm>
            <a:off x="6095880" y="5410080"/>
            <a:ext cx="914400" cy="685800"/>
            <a:chOff x="6095880" y="5410080"/>
            <a:chExt cx="914400" cy="685800"/>
          </a:xfrm>
        </p:grpSpPr>
        <p:sp>
          <p:nvSpPr>
            <p:cNvPr id="758" name=""/>
            <p:cNvSpPr/>
            <p:nvPr/>
          </p:nvSpPr>
          <p:spPr>
            <a:xfrm>
              <a:off x="6095880" y="5410080"/>
              <a:ext cx="914400" cy="685800"/>
            </a:xfrm>
            <a:prstGeom prst="cube">
              <a:avLst>
                <a:gd name="adj" fmla="val 25000"/>
              </a:avLst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5880" y="5486400"/>
              <a:ext cx="762120" cy="609480"/>
            </a:xfrm>
            <a:prstGeom prst="bevel">
              <a:avLst>
                <a:gd name="adj" fmla="val 12500"/>
              </a:avLst>
            </a:pr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7924680" y="5334120"/>
            <a:ext cx="838440" cy="761760"/>
          </a:xfrm>
          <a:prstGeom prst="foldedCorner">
            <a:avLst>
              <a:gd name="adj" fmla="val 12500"/>
            </a:avLst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1" name=""/>
          <p:cNvCxnSpPr>
            <a:stCxn id="744" idx="2"/>
            <a:endCxn id="758" idx="0"/>
          </p:cNvCxnSpPr>
          <p:nvPr/>
        </p:nvCxnSpPr>
        <p:spPr>
          <a:xfrm rot="5400000">
            <a:off x="7007760" y="4400280"/>
            <a:ext cx="618480" cy="1358280"/>
          </a:xfrm>
          <a:prstGeom prst="bentConnector3">
            <a:avLst>
              <a:gd name="adj1" fmla="val 54222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2"/>
            <a:endCxn id="760" idx="0"/>
          </p:cNvCxnSpPr>
          <p:nvPr/>
        </p:nvCxnSpPr>
        <p:spPr>
          <a:xfrm flipH="1" rot="16200000">
            <a:off x="7899480" y="4866840"/>
            <a:ext cx="542160" cy="348480"/>
          </a:xfrm>
          <a:prstGeom prst="bentConnector3">
            <a:avLst>
              <a:gd name="adj1" fmla="val 54817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3" name=""/>
          <p:cNvSpPr/>
          <p:nvPr/>
        </p:nvSpPr>
        <p:spPr>
          <a:xfrm>
            <a:off x="5334120" y="2333520"/>
            <a:ext cx="838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80520" y="21708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amación de la Producción: Production Schedu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90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eva tecología para facil uso en otros proces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sa un modelo de producción, incluyendo restri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tilización en Fundiciones de Alumin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ción de operaciones batch y contin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z de manejar diferentes capacidades de ho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 el uso de metal para diferente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751"/>
              </a:spcBef>
              <a:buClr>
                <a:srgbClr val="0053a5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oyo a la gestión en de mineria de hier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acho de camiones por diferentes 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38360" indent="-166680">
              <a:lnSpc>
                <a:spcPct val="85000"/>
              </a:lnSpc>
              <a:spcBef>
                <a:spcPts val="675"/>
              </a:spcBef>
              <a:buClr>
                <a:srgbClr val="317023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ción de alimentación de mi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8331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l de Producción: Workce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rcRect l="0" t="2863" r="0" b="0"/>
          <a:stretch/>
        </p:blipFill>
        <p:spPr>
          <a:xfrm>
            <a:off x="4046400" y="1162080"/>
            <a:ext cx="4881600" cy="113328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rcRect l="0" t="2783" r="0" b="2783"/>
          <a:stretch/>
        </p:blipFill>
        <p:spPr>
          <a:xfrm>
            <a:off x="4046400" y="2295360"/>
            <a:ext cx="4881600" cy="11350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3"/>
          <a:srcRect l="0" t="2783" r="0" b="2783"/>
          <a:stretch/>
        </p:blipFill>
        <p:spPr>
          <a:xfrm>
            <a:off x="4046400" y="3430440"/>
            <a:ext cx="4881600" cy="113364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4"/>
          <a:srcRect l="0" t="0" r="0" b="2925"/>
          <a:stretch/>
        </p:blipFill>
        <p:spPr>
          <a:xfrm>
            <a:off x="4046400" y="4564080"/>
            <a:ext cx="4881600" cy="110952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0" y="974520"/>
            <a:ext cx="496728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 servicio web para interactuar en forma segura con datos de proceso y del negoci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center consolida información de fuentes diversas en forma efectiva par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Visualiz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onitoreo y análi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úsqueda de inform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oporte a la toma de decis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opción de la tecnología Microsoft.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tegración total con MySAP Port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09560" y="20952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dores Claves de Gestión: KPI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0" y="80028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ión y seguimiento de Indicadores de Gestión (KP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cer decisiones correctas basadas en KP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sistente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xac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 tiem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5000"/>
              </a:lnSpc>
              <a:spcBef>
                <a:spcPts val="675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 integración con fuentes de da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ase de datos SQ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Historiz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68120">
              <a:lnSpc>
                <a:spcPct val="85000"/>
              </a:lnSpc>
              <a:spcBef>
                <a:spcPts val="675"/>
              </a:spcBef>
              <a:buClr>
                <a:srgbClr val="0000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plicaciones Business Fl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4102200" y="2489040"/>
            <a:ext cx="4857480" cy="13939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6729480" y="1008000"/>
            <a:ext cx="2095560" cy="167652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5410080" y="3352680"/>
            <a:ext cx="3514680" cy="221004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3240" y="4414680"/>
            <a:ext cx="9140760" cy="457200"/>
          </a:xfrm>
          <a:custGeom>
            <a:avLst/>
            <a:gdLst/>
            <a:ahLst/>
            <a:rect l="l" t="t" r="r" b="b"/>
            <a:pathLst>
              <a:path w="5758" h="314">
                <a:moveTo>
                  <a:pt x="0" y="314"/>
                </a:moveTo>
                <a:cubicBezTo>
                  <a:pt x="959" y="157"/>
                  <a:pt x="1919" y="0"/>
                  <a:pt x="2879" y="0"/>
                </a:cubicBezTo>
                <a:cubicBezTo>
                  <a:pt x="3839" y="0"/>
                  <a:pt x="4798" y="157"/>
                  <a:pt x="5758" y="314"/>
                </a:cubicBezTo>
              </a:path>
            </a:pathLst>
          </a:cu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40" y="4871880"/>
            <a:ext cx="9140760" cy="1986120"/>
          </a:xfrm>
          <a:prstGeom prst="rect">
            <a:avLst/>
          </a:pr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1755720" y="1571760"/>
            <a:ext cx="5619960" cy="105732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2943720" y="3314520"/>
            <a:ext cx="32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honeywel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6240" y="47520"/>
            <a:ext cx="66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dena de Valor de la Industria del Co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1523880"/>
            <a:ext cx="8379360" cy="3216600"/>
            <a:chOff x="228600" y="1523880"/>
            <a:chExt cx="8379360" cy="3216600"/>
          </a:xfrm>
        </p:grpSpPr>
        <p:sp>
          <p:nvSpPr>
            <p:cNvPr id="109" name=""/>
            <p:cNvSpPr/>
            <p:nvPr/>
          </p:nvSpPr>
          <p:spPr>
            <a:xfrm>
              <a:off x="228600" y="2558880"/>
              <a:ext cx="1521000" cy="99504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5040"/>
                <a:gd name="textAreaBottom" fmla="*/ 995400 h 9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2520" y="2910240"/>
              <a:ext cx="7030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18840" y="372960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31760" y="4094280"/>
              <a:ext cx="8650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an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28800" y="372960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41720" y="4118040"/>
              <a:ext cx="87804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xivi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25800" y="372960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94440" y="3942720"/>
              <a:ext cx="865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racción  p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lven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59520" y="374292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17720" y="4001040"/>
              <a:ext cx="8179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lectrob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n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9720" y="1547640"/>
              <a:ext cx="1523520" cy="997560"/>
            </a:xfrm>
            <a:custGeom>
              <a:avLst/>
              <a:gdLst>
                <a:gd name="textAreaLeft" fmla="*/ 0 w 1523520"/>
                <a:gd name="textAreaRight" fmla="*/ 1523880 w 152352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55160" y="1912320"/>
              <a:ext cx="8650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an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52560" y="154764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07880" y="1936080"/>
              <a:ext cx="1165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cent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49560" y="154764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18200" y="1960200"/>
              <a:ext cx="865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undi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83280" y="1560960"/>
              <a:ext cx="1521000" cy="997560"/>
            </a:xfrm>
            <a:custGeom>
              <a:avLst/>
              <a:gdLst>
                <a:gd name="textAreaLeft" fmla="*/ 0 w 1521000"/>
                <a:gd name="textAreaRight" fmla="*/ 1521360 w 1521000"/>
                <a:gd name="textAreaTop" fmla="*/ 0 h 997560"/>
                <a:gd name="textAreaBottom" fmla="*/ 997920 h 99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62000" y="1970640"/>
              <a:ext cx="82044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finer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42880" y="1819080"/>
              <a:ext cx="8650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átod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9,99% 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09040" y="3929400"/>
              <a:ext cx="86220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átod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9,99% 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03040" y="2018520"/>
              <a:ext cx="0" cy="22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3480" y="202932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03040" y="4235400"/>
              <a:ext cx="77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0040" y="3051000"/>
              <a:ext cx="23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15160" y="1523880"/>
              <a:ext cx="86508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b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lta Le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9400" y="4293720"/>
              <a:ext cx="865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b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ja Le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>
            <a:hlinkClick r:id="rId1"/>
          </p:cNvPr>
          <p:cNvSpPr/>
          <p:nvPr/>
        </p:nvSpPr>
        <p:spPr>
          <a:xfrm>
            <a:off x="2819520" y="5715000"/>
            <a:ext cx="435564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escondida.cl/Escondida/proc_productivo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63040" y="10584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bjetivos Típic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3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ximizar la produc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ximizar la utilización de activ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mplir estándares de calida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tener / abatir  cost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ero dañ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idar el medioamb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751"/>
              </a:spcBef>
              <a:buClr>
                <a:srgbClr val="dc24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idar las relaciones con el entorno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stake-holder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6367320"/>
            <a:ext cx="38098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e Business FLEX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8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76320" y="0"/>
            <a:ext cx="922032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52480"/>
            <a:ext cx="327672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1752480"/>
            <a:ext cx="6324840" cy="320040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762200"/>
            <a:ext cx="75960" cy="3200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152440"/>
            <a:ext cx="63244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mineros del cobre y su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I y mejores prá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ocesos de planificación y ejec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a aproximación desde Sistemas Colaborativos de Producción (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37720" y="1143000"/>
            <a:ext cx="17175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080" y="2251080"/>
            <a:ext cx="2800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182160"/>
            <a:ext cx="799812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reflexión previa acerca de la Productivi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92280" y="1932120"/>
          <a:ext cx="4911840" cy="3127320"/>
        </p:xfrm>
        <a:graphic>
          <a:graphicData uri="http://schemas.openxmlformats.org/drawingml/2006/table">
            <a:tbl>
              <a:tblPr/>
              <a:tblGrid>
                <a:gridCol w="2455920"/>
                <a:gridCol w="2455920"/>
              </a:tblGrid>
              <a:tr h="15634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5638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714680" y="1308240"/>
            <a:ext cx="54864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mpacto en Aumento de  Productividad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361440" y="2349000"/>
            <a:ext cx="1010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a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95560" y="5105520"/>
            <a:ext cx="5054400" cy="14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ensidad de us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476520"/>
            <a:ext cx="22604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u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udio hecho en el 2004 por Mackinsey en 100 empresas en EEUU y Europa en un período de 9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9040" y="165240"/>
            <a:ext cx="75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ejora Continua de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79560" y="4292640"/>
            <a:ext cx="4275000" cy="1684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L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03240" y="1193760"/>
            <a:ext cx="440244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nalizar Desvi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70480" y="3440160"/>
            <a:ext cx="508320" cy="1407960"/>
          </a:xfrm>
          <a:prstGeom prst="downArrow">
            <a:avLst>
              <a:gd name="adj1" fmla="val 50000"/>
              <a:gd name="adj2" fmla="val 692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37440" y="4711680"/>
            <a:ext cx="280656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finir lo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l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48080" y="2763720"/>
            <a:ext cx="687240" cy="1451160"/>
          </a:xfrm>
          <a:prstGeom prst="downArrow">
            <a:avLst>
              <a:gd name="adj1" fmla="val 50000"/>
              <a:gd name="adj2" fmla="val 5278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200400"/>
            <a:ext cx="243864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plicar Mej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Contr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724280" y="2768760"/>
            <a:ext cx="3174840" cy="1422360"/>
            <a:chOff x="4724280" y="2768760"/>
            <a:chExt cx="3174840" cy="1422360"/>
          </a:xfrm>
        </p:grpSpPr>
        <p:sp>
          <p:nvSpPr>
            <p:cNvPr id="160" name=""/>
            <p:cNvSpPr/>
            <p:nvPr/>
          </p:nvSpPr>
          <p:spPr>
            <a:xfrm>
              <a:off x="4724280" y="2768760"/>
              <a:ext cx="787320" cy="1422360"/>
            </a:xfrm>
            <a:prstGeom prst="upArrow">
              <a:avLst>
                <a:gd name="adj1" fmla="val 50000"/>
                <a:gd name="adj2" fmla="val 4516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99000" y="3289320"/>
              <a:ext cx="24001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Medir el 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0" y="6095880"/>
            <a:ext cx="9144000" cy="455760"/>
          </a:xfrm>
          <a:prstGeom prst="rect">
            <a:avLst/>
          </a:prstGeom>
          <a:solidFill>
            <a:srgbClr val="dc2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erramientas SixSigma para Mejora de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19040" y="165240"/>
            <a:ext cx="75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irámide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91540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00:36:36Z</dcterms:created>
  <dc:creator>Joel T. Langill</dc:creator>
  <dc:description/>
  <cp:keywords/>
  <dc:language>en-US</dc:language>
  <cp:lastModifiedBy>E223047</cp:lastModifiedBy>
  <cp:lastPrinted>1999-03-26T23:10:12Z</cp:lastPrinted>
  <dcterms:modified xsi:type="dcterms:W3CDTF">2006-10-10T15:02:40Z</dcterms:modified>
  <cp:revision>241</cp:revision>
  <dc:subject>Sales Training </dc:subject>
  <dc:title>Pillars of Success</dc:title>
</cp:coreProperties>
</file>