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4.wmf" ContentType="image/x-wmf"/>
  <Override PartName="/ppt/media/image9.wmf" ContentType="image/x-wmf"/>
  <Override PartName="/ppt/media/image14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8600" y="9145440"/>
            <a:ext cx="128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DC17A6-2686-48E8-B736-D7300983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90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9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3080" indent="-120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78560" y="6585120"/>
            <a:ext cx="792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BE17-A204-4BC1-B413-FE388452CA8E}" type="slidenum">
              <a:rPr b="1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55000" y="6585120"/>
            <a:ext cx="2014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NEYWELL -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640" y="6585120"/>
            <a:ext cx="9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ars of Su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404640"/>
            <a:ext cx="8574120" cy="204840"/>
            <a:chOff x="304920" y="404640"/>
            <a:chExt cx="8574120" cy="20484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7936200" y="404640"/>
              <a:ext cx="942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04920" y="609480"/>
              <a:ext cx="8574120" cy="0"/>
            </a:xfrm>
            <a:prstGeom prst="line">
              <a:avLst/>
            </a:prstGeom>
            <a:ln w="1260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0" y="4803840"/>
            <a:ext cx="9141120" cy="2054160"/>
            <a:chOff x="1440" y="4803840"/>
            <a:chExt cx="9141120" cy="2054160"/>
          </a:xfrm>
        </p:grpSpPr>
        <p:sp>
          <p:nvSpPr>
            <p:cNvPr id="46" name=""/>
            <p:cNvSpPr/>
            <p:nvPr/>
          </p:nvSpPr>
          <p:spPr>
            <a:xfrm>
              <a:off x="1440" y="4803840"/>
              <a:ext cx="9141120" cy="457200"/>
            </a:xfrm>
            <a:custGeom>
              <a:avLst/>
              <a:gdLst/>
              <a:ahLst/>
              <a:rect l="l" t="t" r="r" b="b"/>
              <a:pathLst>
                <a:path w="5758" h="314">
                  <a:moveTo>
                    <a:pt x="0" y="314"/>
                  </a:moveTo>
                  <a:cubicBezTo>
                    <a:pt x="959" y="157"/>
                    <a:pt x="1919" y="0"/>
                    <a:pt x="2879" y="0"/>
                  </a:cubicBezTo>
                  <a:cubicBezTo>
                    <a:pt x="3839" y="0"/>
                    <a:pt x="4798" y="157"/>
                    <a:pt x="5758" y="3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0" y="5261040"/>
              <a:ext cx="9141120" cy="15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94320" y="5867280"/>
            <a:ext cx="1987560" cy="37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a5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  <a:p>
            <a:pPr lvl="1" marL="28908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ctr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24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0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condida.cl/Escondida/proc_productivo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241f"/>
                </a:solidFill>
                <a:latin typeface="Arial"/>
              </a:rPr>
              <a:t>Integración de la Cadena de Valor en Minería del Cob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a Aproximación desde los Sistemas Colaborativos de Producción (MES)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562720"/>
            <a:ext cx="22096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148360"/>
            <a:ext cx="472428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2 de Octubre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68280" y="1606680"/>
            <a:ext cx="1218960" cy="609480"/>
            <a:chOff x="368280" y="1606680"/>
            <a:chExt cx="1218960" cy="609480"/>
          </a:xfrm>
        </p:grpSpPr>
        <p:sp>
          <p:nvSpPr>
            <p:cNvPr id="173" name=""/>
            <p:cNvSpPr/>
            <p:nvPr/>
          </p:nvSpPr>
          <p:spPr>
            <a:xfrm>
              <a:off x="368280" y="16066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0600" y="17589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77960" y="1606680"/>
            <a:ext cx="1219320" cy="611280"/>
            <a:chOff x="2577960" y="1606680"/>
            <a:chExt cx="1219320" cy="611280"/>
          </a:xfrm>
        </p:grpSpPr>
        <p:sp>
          <p:nvSpPr>
            <p:cNvPr id="176" name=""/>
            <p:cNvSpPr/>
            <p:nvPr/>
          </p:nvSpPr>
          <p:spPr>
            <a:xfrm>
              <a:off x="2577960" y="16066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6400" y="1758960"/>
              <a:ext cx="111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gram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54080" y="2948040"/>
            <a:ext cx="1240920" cy="641520"/>
            <a:chOff x="1054080" y="2948040"/>
            <a:chExt cx="1240920" cy="641520"/>
          </a:xfrm>
        </p:grpSpPr>
        <p:sp>
          <p:nvSpPr>
            <p:cNvPr id="179" name=""/>
            <p:cNvSpPr/>
            <p:nvPr/>
          </p:nvSpPr>
          <p:spPr>
            <a:xfrm>
              <a:off x="1054080" y="2977920"/>
              <a:ext cx="121932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9840" y="294804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iempos pa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per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77960" y="2978280"/>
            <a:ext cx="1219320" cy="609480"/>
            <a:chOff x="2577960" y="2978280"/>
            <a:chExt cx="1219320" cy="609480"/>
          </a:xfrm>
        </p:grpSpPr>
        <p:sp>
          <p:nvSpPr>
            <p:cNvPr id="182" name=""/>
            <p:cNvSpPr/>
            <p:nvPr/>
          </p:nvSpPr>
          <p:spPr>
            <a:xfrm>
              <a:off x="25779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9680" y="31305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02200" y="2978280"/>
            <a:ext cx="1218960" cy="609480"/>
            <a:chOff x="4102200" y="2978280"/>
            <a:chExt cx="1218960" cy="609480"/>
          </a:xfrm>
        </p:grpSpPr>
        <p:sp>
          <p:nvSpPr>
            <p:cNvPr id="185" name=""/>
            <p:cNvSpPr/>
            <p:nvPr/>
          </p:nvSpPr>
          <p:spPr>
            <a:xfrm>
              <a:off x="4102200" y="2978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7000" y="31305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692760" y="2978280"/>
            <a:ext cx="1232280" cy="609480"/>
            <a:chOff x="6692760" y="2978280"/>
            <a:chExt cx="1232280" cy="609480"/>
          </a:xfrm>
        </p:grpSpPr>
        <p:sp>
          <p:nvSpPr>
            <p:cNvPr id="188" name=""/>
            <p:cNvSpPr/>
            <p:nvPr/>
          </p:nvSpPr>
          <p:spPr>
            <a:xfrm>
              <a:off x="66927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65840" y="3054240"/>
              <a:ext cx="115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Monitore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svi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702400" y="4121280"/>
            <a:ext cx="1218960" cy="641520"/>
            <a:chOff x="5702400" y="4121280"/>
            <a:chExt cx="1218960" cy="641520"/>
          </a:xfrm>
        </p:grpSpPr>
        <p:sp>
          <p:nvSpPr>
            <p:cNvPr id="191" name=""/>
            <p:cNvSpPr/>
            <p:nvPr/>
          </p:nvSpPr>
          <p:spPr>
            <a:xfrm>
              <a:off x="5702400" y="4121280"/>
              <a:ext cx="121896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01840" y="4303800"/>
              <a:ext cx="81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607160" y="4121280"/>
            <a:ext cx="1225080" cy="609480"/>
            <a:chOff x="7607160" y="4121280"/>
            <a:chExt cx="1225080" cy="609480"/>
          </a:xfrm>
        </p:grpSpPr>
        <p:sp>
          <p:nvSpPr>
            <p:cNvPr id="194" name=""/>
            <p:cNvSpPr/>
            <p:nvPr/>
          </p:nvSpPr>
          <p:spPr>
            <a:xfrm>
              <a:off x="7607160" y="4121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57920" y="419724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na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 Ope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692760" y="5264280"/>
            <a:ext cx="1219320" cy="609480"/>
            <a:chOff x="6692760" y="5264280"/>
            <a:chExt cx="1219320" cy="609480"/>
          </a:xfrm>
        </p:grpSpPr>
        <p:sp>
          <p:nvSpPr>
            <p:cNvPr id="197" name=""/>
            <p:cNvSpPr/>
            <p:nvPr/>
          </p:nvSpPr>
          <p:spPr>
            <a:xfrm>
              <a:off x="6692760" y="5264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8160" y="534060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Correc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892160" y="4121280"/>
            <a:ext cx="1219320" cy="609480"/>
            <a:chOff x="1892160" y="4121280"/>
            <a:chExt cx="1219320" cy="609480"/>
          </a:xfrm>
        </p:grpSpPr>
        <p:sp>
          <p:nvSpPr>
            <p:cNvPr id="200" name=""/>
            <p:cNvSpPr/>
            <p:nvPr/>
          </p:nvSpPr>
          <p:spPr>
            <a:xfrm>
              <a:off x="18921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70800" y="43038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63760" y="4121280"/>
            <a:ext cx="1219320" cy="609480"/>
            <a:chOff x="3263760" y="4121280"/>
            <a:chExt cx="1219320" cy="609480"/>
          </a:xfrm>
        </p:grpSpPr>
        <p:sp>
          <p:nvSpPr>
            <p:cNvPr id="203" name=""/>
            <p:cNvSpPr/>
            <p:nvPr/>
          </p:nvSpPr>
          <p:spPr>
            <a:xfrm>
              <a:off x="32637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84640" y="430380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Instru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63118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20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11720" y="4730760"/>
            <a:ext cx="3049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11880" y="4730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1360" y="4425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21160" y="328284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827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87360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187800" y="3587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25680" y="55688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2568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2568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25680" y="3816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11680" y="3587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71168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87800" y="2215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3560" y="27496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587240" y="19112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6356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8261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55080" y="107316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7760" y="107316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18780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7776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1480" y="1149480"/>
            <a:ext cx="49464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9776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cesos de Planificación y Ejecución de la Producció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as típicos encontr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099320" y="1066680"/>
            <a:ext cx="4876920" cy="4648320"/>
            <a:chOff x="4099320" y="1066680"/>
            <a:chExt cx="4876920" cy="4648320"/>
          </a:xfrm>
        </p:grpSpPr>
        <p:sp>
          <p:nvSpPr>
            <p:cNvPr id="234" name=""/>
            <p:cNvSpPr/>
            <p:nvPr/>
          </p:nvSpPr>
          <p:spPr>
            <a:xfrm>
              <a:off x="5342040" y="169056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hift No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03800" y="26622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per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1640" y="4397400"/>
              <a:ext cx="69084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tline Met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Allo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16480" y="3979800"/>
              <a:ext cx="68904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50280" y="404964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8600" y="1414440"/>
              <a:ext cx="690480" cy="484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22464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Invento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37200" y="134460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lie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56440" y="4813200"/>
              <a:ext cx="736560" cy="5540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0360" y="5159520"/>
              <a:ext cx="73512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02520" y="280188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lant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29400" y="1066680"/>
              <a:ext cx="736560" cy="5558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1" idx="3"/>
              <a:endCxn id="234" idx="1"/>
            </p:cNvCxnSpPr>
            <p:nvPr/>
          </p:nvCxnSpPr>
          <p:spPr>
            <a:xfrm>
              <a:off x="4973400" y="1622520"/>
              <a:ext cx="369000" cy="311760"/>
            </a:xfrm>
            <a:prstGeom prst="curvedConnector5">
              <a:avLst>
                <a:gd name="adj1" fmla="val 50000"/>
                <a:gd name="adj2" fmla="val 49942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7" name=""/>
            <p:cNvCxnSpPr>
              <a:stCxn id="241" idx="2"/>
              <a:endCxn id="235" idx="0"/>
            </p:cNvCxnSpPr>
            <p:nvPr/>
          </p:nvCxnSpPr>
          <p:spPr>
            <a:xfrm flipH="1" rot="16200000">
              <a:off x="4694040" y="1808640"/>
              <a:ext cx="764280" cy="94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4191120" y="515952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Flotac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" name=""/>
            <p:cNvCxnSpPr>
              <a:stCxn id="236" idx="1"/>
              <a:endCxn id="248" idx="0"/>
            </p:cNvCxnSpPr>
            <p:nvPr/>
          </p:nvCxnSpPr>
          <p:spPr>
            <a:xfrm flipV="1" rot="10800000">
              <a:off x="4558680" y="4640040"/>
              <a:ext cx="552960" cy="519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0" name=""/>
            <p:cNvCxnSpPr>
              <a:stCxn id="241" idx="1"/>
              <a:endCxn id="236" idx="0"/>
            </p:cNvCxnSpPr>
            <p:nvPr/>
          </p:nvCxnSpPr>
          <p:spPr>
            <a:xfrm flipH="1" flipV="1" rot="10800000">
              <a:off x="4236840" y="1622160"/>
              <a:ext cx="1219680" cy="2775600"/>
            </a:xfrm>
            <a:prstGeom prst="curvedConnector5">
              <a:avLst>
                <a:gd name="adj1" fmla="val -11307"/>
                <a:gd name="adj2" fmla="val 27487"/>
                <a:gd name="adj3" fmla="val -113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1" name=""/>
            <p:cNvCxnSpPr>
              <a:stCxn id="237" idx="2"/>
              <a:endCxn id="243" idx="0"/>
            </p:cNvCxnSpPr>
            <p:nvPr/>
          </p:nvCxnSpPr>
          <p:spPr>
            <a:xfrm rot="5400000">
              <a:off x="6087240" y="4686120"/>
              <a:ext cx="694440" cy="253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2" name=""/>
            <p:cNvCxnSpPr>
              <a:stCxn id="237" idx="3"/>
              <a:endCxn id="242" idx="1"/>
            </p:cNvCxnSpPr>
            <p:nvPr/>
          </p:nvCxnSpPr>
          <p:spPr>
            <a:xfrm>
              <a:off x="6905160" y="4222800"/>
              <a:ext cx="1151640" cy="869040"/>
            </a:xfrm>
            <a:prstGeom prst="curvedConnector5">
              <a:avLst>
                <a:gd name="adj1" fmla="val 50000"/>
                <a:gd name="adj2" fmla="val 49979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3" name=""/>
            <p:cNvCxnSpPr>
              <a:stCxn id="244" idx="2"/>
              <a:endCxn id="237" idx="0"/>
            </p:cNvCxnSpPr>
            <p:nvPr/>
          </p:nvCxnSpPr>
          <p:spPr>
            <a:xfrm rot="5400000">
              <a:off x="7203240" y="2712600"/>
              <a:ext cx="624600" cy="1910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4" name=""/>
            <p:cNvCxnSpPr>
              <a:stCxn id="244" idx="0"/>
              <a:endCxn id="240" idx="3"/>
            </p:cNvCxnSpPr>
            <p:nvPr/>
          </p:nvCxnSpPr>
          <p:spPr>
            <a:xfrm flipV="1" rot="16200000">
              <a:off x="7738200" y="2069280"/>
              <a:ext cx="313560" cy="11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5" name=""/>
            <p:cNvCxnSpPr>
              <a:stCxn id="239" idx="2"/>
              <a:endCxn id="244" idx="3"/>
            </p:cNvCxnSpPr>
            <p:nvPr/>
          </p:nvCxnSpPr>
          <p:spPr>
            <a:xfrm flipH="1" rot="16200000">
              <a:off x="8076240" y="2315880"/>
              <a:ext cx="1180080" cy="345240"/>
            </a:xfrm>
            <a:prstGeom prst="curvedConnector5">
              <a:avLst>
                <a:gd name="adj1" fmla="val 38205"/>
                <a:gd name="adj2" fmla="val 69937"/>
                <a:gd name="adj3" fmla="val 3820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6" name=""/>
            <p:cNvCxnSpPr>
              <a:stCxn id="240" idx="0"/>
              <a:endCxn id="245" idx="2"/>
            </p:cNvCxnSpPr>
            <p:nvPr/>
          </p:nvCxnSpPr>
          <p:spPr>
            <a:xfrm flipH="1" flipV="1" rot="5400000">
              <a:off x="6674400" y="1922760"/>
              <a:ext cx="624600" cy="23040"/>
            </a:xfrm>
            <a:prstGeom prst="curvedConnector5">
              <a:avLst>
                <a:gd name="adj1" fmla="val 50000"/>
                <a:gd name="adj2" fmla="val 49206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36" idx="2"/>
              <a:endCxn id="243" idx="1"/>
            </p:cNvCxnSpPr>
            <p:nvPr/>
          </p:nvCxnSpPr>
          <p:spPr>
            <a:xfrm flipH="1" rot="16200000">
              <a:off x="5420160" y="4917600"/>
              <a:ext cx="554760" cy="484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0" idx="2"/>
              <a:endCxn id="237" idx="1"/>
            </p:cNvCxnSpPr>
            <p:nvPr/>
          </p:nvCxnSpPr>
          <p:spPr>
            <a:xfrm rot="5400000">
              <a:off x="5850000" y="3097800"/>
              <a:ext cx="1491480" cy="759600"/>
            </a:xfrm>
            <a:prstGeom prst="curvedConnector5">
              <a:avLst>
                <a:gd name="adj1" fmla="val 41839"/>
                <a:gd name="adj2" fmla="val 59080"/>
                <a:gd name="adj3" fmla="val 4183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9" name=""/>
            <p:cNvCxnSpPr>
              <a:stCxn id="237" idx="3"/>
              <a:endCxn id="238" idx="1"/>
            </p:cNvCxnSpPr>
            <p:nvPr/>
          </p:nvCxnSpPr>
          <p:spPr>
            <a:xfrm>
              <a:off x="6905160" y="4222800"/>
              <a:ext cx="645480" cy="7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38" idx="3"/>
              <a:endCxn id="244" idx="2"/>
            </p:cNvCxnSpPr>
            <p:nvPr/>
          </p:nvCxnSpPr>
          <p:spPr>
            <a:xfrm flipV="1">
              <a:off x="8240400" y="3355560"/>
              <a:ext cx="230760" cy="937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35" idx="3"/>
              <a:endCxn id="245" idx="1"/>
            </p:cNvCxnSpPr>
            <p:nvPr/>
          </p:nvCxnSpPr>
          <p:spPr>
            <a:xfrm flipV="1">
              <a:off x="5894280" y="1343880"/>
              <a:ext cx="735840" cy="1561320"/>
            </a:xfrm>
            <a:prstGeom prst="curvedConnector5">
              <a:avLst>
                <a:gd name="adj1" fmla="val 49975"/>
                <a:gd name="adj2" fmla="val 50000"/>
                <a:gd name="adj3" fmla="val 4997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2" name=""/>
            <p:cNvCxnSpPr>
              <a:stCxn id="236" idx="3"/>
              <a:endCxn id="237" idx="1"/>
            </p:cNvCxnSpPr>
            <p:nvPr/>
          </p:nvCxnSpPr>
          <p:spPr>
            <a:xfrm flipV="1">
              <a:off x="5802480" y="4222440"/>
              <a:ext cx="414720" cy="418320"/>
            </a:xfrm>
            <a:prstGeom prst="curvedConnector5">
              <a:avLst>
                <a:gd name="adj1" fmla="val 49956"/>
                <a:gd name="adj2" fmla="val 49956"/>
                <a:gd name="adj3" fmla="val 499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4237200" y="356400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I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3" idx="2"/>
              <a:endCxn id="236" idx="1"/>
            </p:cNvCxnSpPr>
            <p:nvPr/>
          </p:nvCxnSpPr>
          <p:spPr>
            <a:xfrm flipH="1" rot="16200000">
              <a:off x="4597920" y="4126320"/>
              <a:ext cx="521640" cy="506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27160"/>
            <a:ext cx="3581280" cy="4664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stemas y procesos crecieron informalmente a lo largo del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ciones individuales y diversas bases de datos para cada sector de pla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fragmentados e inflexibles - Numerosas aplicaciones informales: hojas de datos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no siempre accesibles y muchas veces replic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orte y mantenimiento muy intens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cion dificil de manten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programables en lugar de configur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lto costo de ow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080" y="5589720"/>
            <a:ext cx="87829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stemas no integrados y no 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6211800"/>
            <a:ext cx="51343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todos los procesos y tareas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05080" y="995400"/>
            <a:ext cx="30276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79680" y="692280"/>
            <a:ext cx="1947960" cy="43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jemplo de Arquitectura Integr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086600" y="1522440"/>
            <a:ext cx="1828800" cy="4116240"/>
            <a:chOff x="7086600" y="1522440"/>
            <a:chExt cx="1828800" cy="4116240"/>
          </a:xfrm>
        </p:grpSpPr>
        <p:sp>
          <p:nvSpPr>
            <p:cNvPr id="279" name=""/>
            <p:cNvSpPr/>
            <p:nvPr/>
          </p:nvSpPr>
          <p:spPr>
            <a:xfrm>
              <a:off x="7361280" y="3719520"/>
              <a:ext cx="547560" cy="272880"/>
            </a:xfrm>
            <a:prstGeom prst="leftRightArrow">
              <a:avLst>
                <a:gd name="adj1" fmla="val 50000"/>
                <a:gd name="adj2" fmla="val 399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08840" y="1979640"/>
              <a:ext cx="930240" cy="2743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Work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61280" y="2073240"/>
              <a:ext cx="547560" cy="274680"/>
            </a:xfrm>
            <a:prstGeom prst="leftRightArrow">
              <a:avLst>
                <a:gd name="adj1" fmla="val 50000"/>
                <a:gd name="adj2" fmla="val 396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1640" y="1706400"/>
              <a:ext cx="1463760" cy="384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86600" y="1522440"/>
              <a:ext cx="274680" cy="137304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6600" y="2895480"/>
              <a:ext cx="274680" cy="192096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50040 h 1920960"/>
                <a:gd name="textAreaBottom" fmla="*/ 1870920 h 19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43800" y="5364000"/>
              <a:ext cx="118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ion 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2833560"/>
            <a:ext cx="6948360" cy="9144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2925720"/>
            <a:ext cx="7162560" cy="731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de Datos Histó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475080"/>
            <a:ext cx="6781680" cy="23461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200" y="30020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58212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5211720"/>
            <a:ext cx="129528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3565440"/>
            <a:ext cx="8985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498312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356544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r M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890720" y="4008600"/>
            <a:ext cx="166680" cy="1203120"/>
          </a:xfrm>
          <a:prstGeom prst="downArrow">
            <a:avLst>
              <a:gd name="adj1" fmla="val 50000"/>
              <a:gd name="adj2" fmla="val 180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4830840"/>
            <a:ext cx="838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9000" y="3565440"/>
            <a:ext cx="90000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49831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Info. Mang. S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156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791320" y="3505320"/>
            <a:ext cx="1371600" cy="2103480"/>
            <a:chOff x="5791320" y="3505320"/>
            <a:chExt cx="1371600" cy="2103480"/>
          </a:xfrm>
        </p:grpSpPr>
        <p:sp>
          <p:nvSpPr>
            <p:cNvPr id="304" name=""/>
            <p:cNvSpPr/>
            <p:nvPr/>
          </p:nvSpPr>
          <p:spPr>
            <a:xfrm>
              <a:off x="6110280" y="3505320"/>
              <a:ext cx="9003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1320" y="480096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alit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p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37600" y="396252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2200" y="515160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Lega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Appli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3535200"/>
            <a:ext cx="990720" cy="2103480"/>
            <a:chOff x="4952880" y="3535200"/>
            <a:chExt cx="990720" cy="2103480"/>
          </a:xfrm>
        </p:grpSpPr>
        <p:sp>
          <p:nvSpPr>
            <p:cNvPr id="309" name=""/>
            <p:cNvSpPr/>
            <p:nvPr/>
          </p:nvSpPr>
          <p:spPr>
            <a:xfrm>
              <a:off x="5029200" y="3535200"/>
              <a:ext cx="8985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399240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9200" y="518148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i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49528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172200" y="914400"/>
            <a:ext cx="1130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AP / Ora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37320" y="1371600"/>
            <a:ext cx="179280" cy="884160"/>
          </a:xfrm>
          <a:prstGeom prst="upDownArrow">
            <a:avLst>
              <a:gd name="adj1" fmla="val 50000"/>
              <a:gd name="adj2" fmla="val 981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2276640"/>
            <a:ext cx="990720" cy="466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Hi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1523880"/>
            <a:ext cx="3047760" cy="14623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2300400"/>
            <a:ext cx="900360" cy="46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 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300400"/>
            <a:ext cx="90000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vent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32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ul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39920" y="207180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22860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812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306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v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6668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0020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1538280"/>
            <a:ext cx="22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2300400"/>
            <a:ext cx="90036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z C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52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For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094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etall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5720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828800"/>
            <a:ext cx="960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tatistical Data Reconc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56272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05520" y="1676520"/>
            <a:ext cx="96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alculation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294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58128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525780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Vul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2120" y="4037760"/>
            <a:ext cx="152280" cy="1219320"/>
          </a:xfrm>
          <a:prstGeom prst="down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8006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4120920" cy="2627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niformance / Business F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33308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de datos a lo largo de la cadena de valor: VULCAN, Modular Mining, basculas, PLC, DCS, Laboratorios, otr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se de datos históricos unificad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portes con versión ún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la “verdad”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itoreo de Desviacio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lance Metalúrgico y Con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conciliado estadísticame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IMS (Laboratory Managment Syste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con S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859200" y="1727280"/>
            <a:ext cx="5084640" cy="3568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35080" y="173160"/>
            <a:ext cx="741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eo de la Operación: Operation Monito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00280"/>
            <a:ext cx="5499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Variable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ción de Desvi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ímites altos y baj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larma y reg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plicaciones estructu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álculo Impacto 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Medición tiempos de d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equipos y raz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e Análisis de Cau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17440"/>
            <a:ext cx="8275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 de Produc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1920" y="53352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-130680">
              <a:lnSpc>
                <a:spcPct val="7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ción específica para min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2720" indent="-126000">
              <a:lnSpc>
                <a:spcPct val="7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lances simultán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iempo y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típic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80880" y="1141560"/>
            <a:ext cx="8726760" cy="2896920"/>
            <a:chOff x="380880" y="1141560"/>
            <a:chExt cx="8726760" cy="2896920"/>
          </a:xfrm>
        </p:grpSpPr>
        <p:grpSp>
          <p:nvGrpSpPr>
            <p:cNvPr id="351" name=""/>
            <p:cNvGrpSpPr/>
            <p:nvPr/>
          </p:nvGrpSpPr>
          <p:grpSpPr>
            <a:xfrm>
              <a:off x="6172200" y="1670040"/>
              <a:ext cx="2935440" cy="2198880"/>
              <a:chOff x="6172200" y="1670040"/>
              <a:chExt cx="2935440" cy="2198880"/>
            </a:xfrm>
          </p:grpSpPr>
          <p:sp>
            <p:nvSpPr>
              <p:cNvPr id="352" name=""/>
              <p:cNvSpPr/>
              <p:nvPr/>
            </p:nvSpPr>
            <p:spPr>
              <a:xfrm>
                <a:off x="6172200" y="3860640"/>
                <a:ext cx="2249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72200" y="3860640"/>
                <a:ext cx="224928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42148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2148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425080" y="3860640"/>
                <a:ext cx="453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25080" y="3860640"/>
                <a:ext cx="45324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874720" y="1670040"/>
                <a:ext cx="108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874720" y="1670040"/>
                <a:ext cx="360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72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72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9756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2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2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47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47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7184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18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9756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2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2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2148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47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47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7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7148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968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9684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421480" y="386064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21480" y="3860640"/>
                <a:ext cx="32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64684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64684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74720" y="3864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874720" y="3864600"/>
                <a:ext cx="360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1004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1004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72200" y="1670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72200" y="1670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72200" y="17398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72200" y="173988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72200" y="18115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200" y="18115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2200" y="18817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72200" y="18817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72200" y="19519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72200" y="19519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72200" y="20235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72200" y="2023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72200" y="20937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72200" y="20937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72200" y="21654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72200" y="216540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72200" y="22352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72200" y="22352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72200" y="23058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2200" y="2305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72200" y="23774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72200" y="2377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72200" y="244728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172200" y="24472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72200" y="25171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72200" y="25171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72200" y="2588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72200" y="2588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72200" y="26593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72200" y="26593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72200" y="27291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72200" y="27291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72200" y="28008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72200" y="2800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2200" y="28710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72200" y="28710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72200" y="29412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72200" y="29412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72200" y="30128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72200" y="30128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72200" y="3083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72200" y="3083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72200" y="31543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72200" y="315432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72200" y="32245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72200" y="32245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2200" y="32947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72200" y="32947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72200" y="33663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72200" y="33663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72200" y="34365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72200" y="3436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72200" y="3506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72200" y="3506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72200" y="35784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72200" y="35784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72200" y="36486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72200" y="36486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172200" y="37184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2200" y="3718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2200" y="37900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72200" y="37900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878320" y="3860640"/>
                <a:ext cx="22500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878320" y="3860640"/>
                <a:ext cx="2289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318000" y="2545560"/>
                <a:ext cx="772200" cy="464040"/>
                <a:chOff x="6318000" y="2545560"/>
                <a:chExt cx="772200" cy="464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6585480" y="26506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36520" y="2742120"/>
                <a:ext cx="42732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ellet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42000" y="283320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P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9312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284240" y="2541240"/>
                <a:ext cx="773640" cy="473040"/>
                <a:chOff x="7284240" y="2541240"/>
                <a:chExt cx="773640" cy="4730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7553520" y="264636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93760" y="2737800"/>
                <a:ext cx="43956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inter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06800" y="282888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660440" y="227592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8240760" y="2536920"/>
                <a:ext cx="776160" cy="472680"/>
                <a:chOff x="8240760" y="2536920"/>
                <a:chExt cx="776160" cy="4726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8520840" y="26380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558280" y="2729160"/>
                <a:ext cx="2066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25880" y="2821680"/>
                <a:ext cx="2750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61948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472440" y="3625920"/>
                <a:ext cx="354960" cy="12600"/>
                <a:chOff x="6472440" y="3625920"/>
                <a:chExt cx="354960" cy="126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72440" y="3562920"/>
                <a:ext cx="46080" cy="12240"/>
                <a:chOff x="6472440" y="3562920"/>
                <a:chExt cx="46080" cy="122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468840" y="3413880"/>
                <a:ext cx="76680" cy="104040"/>
                <a:chOff x="6468840" y="3413880"/>
                <a:chExt cx="76680" cy="1040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6599520" y="3413880"/>
                <a:ext cx="80640" cy="161280"/>
                <a:chOff x="6599520" y="3413880"/>
                <a:chExt cx="80640" cy="1612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676560" y="3562920"/>
                <a:ext cx="52200" cy="12240"/>
                <a:chOff x="6676560" y="3562920"/>
                <a:chExt cx="52200" cy="122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69360" y="3505320"/>
                <a:ext cx="10440" cy="36360"/>
                <a:chOff x="6669360" y="3505320"/>
                <a:chExt cx="10440" cy="363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603120" y="3501360"/>
                <a:ext cx="73440" cy="44640"/>
                <a:chOff x="6603120" y="3501360"/>
                <a:chExt cx="73440" cy="446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540120" y="3405600"/>
                <a:ext cx="66240" cy="12600"/>
                <a:chOff x="6540120" y="3405600"/>
                <a:chExt cx="66240" cy="126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6640920" y="3397320"/>
                <a:ext cx="200520" cy="116280"/>
                <a:chOff x="6640920" y="3397320"/>
                <a:chExt cx="200520" cy="1162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536520" y="3380400"/>
                <a:ext cx="129240" cy="128880"/>
                <a:chOff x="6536520" y="3380400"/>
                <a:chExt cx="129240" cy="128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468840" y="3505320"/>
                <a:ext cx="10440" cy="65520"/>
                <a:chOff x="6468840" y="3505320"/>
                <a:chExt cx="10440" cy="655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545880" y="3550320"/>
                <a:ext cx="50040" cy="58680"/>
                <a:chOff x="6545880" y="3550320"/>
                <a:chExt cx="50040" cy="58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65221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6746760" y="3550320"/>
                <a:ext cx="49680" cy="58680"/>
                <a:chOff x="6746760" y="3550320"/>
                <a:chExt cx="49680" cy="5868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6722640" y="3526200"/>
                <a:ext cx="9720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560280" y="3446640"/>
                <a:ext cx="28440" cy="33480"/>
                <a:chOff x="6560280" y="3446640"/>
                <a:chExt cx="28440" cy="33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6622200" y="3320280"/>
                <a:ext cx="182520" cy="69480"/>
                <a:chOff x="6622200" y="3320280"/>
                <a:chExt cx="182520" cy="6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62220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2220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2220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2220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62220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62220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220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220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62220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62220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62220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62220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62220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2220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62220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2220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62220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2400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446960" y="3625920"/>
                <a:ext cx="354960" cy="12600"/>
                <a:chOff x="7446960" y="3625920"/>
                <a:chExt cx="354960" cy="126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46960" y="3562920"/>
                <a:ext cx="45000" cy="12240"/>
                <a:chOff x="7446960" y="3562920"/>
                <a:chExt cx="45000" cy="122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7443360" y="3413880"/>
                <a:ext cx="77040" cy="104040"/>
                <a:chOff x="7443360" y="3413880"/>
                <a:chExt cx="77040" cy="1040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572600" y="3413880"/>
                <a:ext cx="80640" cy="161280"/>
                <a:chOff x="7572600" y="3413880"/>
                <a:chExt cx="80640" cy="1612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649640" y="3562920"/>
                <a:ext cx="53280" cy="12240"/>
                <a:chOff x="7649640" y="3562920"/>
                <a:chExt cx="53280" cy="122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642800" y="3505320"/>
                <a:ext cx="10440" cy="36360"/>
                <a:chOff x="7642800" y="3505320"/>
                <a:chExt cx="10440" cy="363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7576200" y="3501360"/>
                <a:ext cx="73440" cy="44640"/>
                <a:chOff x="7576200" y="3501360"/>
                <a:chExt cx="73440" cy="4464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513200" y="3405600"/>
                <a:ext cx="66240" cy="12600"/>
                <a:chOff x="7513200" y="3405600"/>
                <a:chExt cx="66240" cy="126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615440" y="3397320"/>
                <a:ext cx="200520" cy="116280"/>
                <a:chOff x="7615440" y="3397320"/>
                <a:chExt cx="200520" cy="1162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7509600" y="3380400"/>
                <a:ext cx="129240" cy="128880"/>
                <a:chOff x="7509600" y="3380400"/>
                <a:chExt cx="129240" cy="1288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443360" y="3505320"/>
                <a:ext cx="10440" cy="65520"/>
                <a:chOff x="7443360" y="3505320"/>
                <a:chExt cx="10440" cy="65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520400" y="3550320"/>
                <a:ext cx="48600" cy="58680"/>
                <a:chOff x="7520400" y="3550320"/>
                <a:chExt cx="48600" cy="586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749556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7720920" y="3550320"/>
                <a:ext cx="48600" cy="58680"/>
                <a:chOff x="7720920" y="3550320"/>
                <a:chExt cx="48600" cy="58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76960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7534800" y="3446640"/>
                <a:ext cx="27000" cy="33480"/>
                <a:chOff x="7534800" y="3446640"/>
                <a:chExt cx="27000" cy="33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595280" y="3320280"/>
                <a:ext cx="182520" cy="69480"/>
                <a:chOff x="7595280" y="3320280"/>
                <a:chExt cx="182520" cy="69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59528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9528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59528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59528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59528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59528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59528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59528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59528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59528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59528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59528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59528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59528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59528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59528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59528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59708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7" y="0"/>
                      </a:lnTo>
                      <a:lnTo>
                        <a:pt x="95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8398800" y="3625920"/>
                <a:ext cx="354600" cy="12600"/>
                <a:chOff x="8398800" y="3625920"/>
                <a:chExt cx="354600" cy="126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8398800" y="3562920"/>
                <a:ext cx="46080" cy="12240"/>
                <a:chOff x="8398800" y="3562920"/>
                <a:chExt cx="46080" cy="122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395200" y="3413880"/>
                <a:ext cx="76680" cy="104040"/>
                <a:chOff x="8395200" y="3413880"/>
                <a:chExt cx="76680" cy="1040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8525880" y="3413880"/>
                <a:ext cx="80640" cy="161280"/>
                <a:chOff x="8525880" y="3413880"/>
                <a:chExt cx="80640" cy="1612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602920" y="3562920"/>
                <a:ext cx="52200" cy="12240"/>
                <a:chOff x="8602920" y="3562920"/>
                <a:chExt cx="52200" cy="12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8595720" y="3505320"/>
                <a:ext cx="10440" cy="36360"/>
                <a:chOff x="8595720" y="3505320"/>
                <a:chExt cx="10440" cy="363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8529480" y="3501360"/>
                <a:ext cx="73440" cy="44640"/>
                <a:chOff x="8529480" y="3501360"/>
                <a:chExt cx="73440" cy="446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8465400" y="3405600"/>
                <a:ext cx="67320" cy="12600"/>
                <a:chOff x="8465400" y="3405600"/>
                <a:chExt cx="67320" cy="1260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567280" y="3397320"/>
                <a:ext cx="200520" cy="116280"/>
                <a:chOff x="8567280" y="3397320"/>
                <a:chExt cx="200520" cy="1162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8461800" y="3380400"/>
                <a:ext cx="130320" cy="128880"/>
                <a:chOff x="8461800" y="3380400"/>
                <a:chExt cx="130320" cy="1288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8395200" y="3505320"/>
                <a:ext cx="10440" cy="65520"/>
                <a:chOff x="8395200" y="3505320"/>
                <a:chExt cx="10440" cy="655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8472240" y="3550320"/>
                <a:ext cx="50040" cy="58680"/>
                <a:chOff x="8472240" y="3550320"/>
                <a:chExt cx="50040" cy="586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>
                <a:off x="84484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8673120" y="3550320"/>
                <a:ext cx="49680" cy="58680"/>
                <a:chOff x="8673120" y="3550320"/>
                <a:chExt cx="49680" cy="586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86479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8486640" y="3446640"/>
                <a:ext cx="28440" cy="33480"/>
                <a:chOff x="8486640" y="3446640"/>
                <a:chExt cx="28440" cy="3348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8548560" y="3320280"/>
                <a:ext cx="182520" cy="69480"/>
                <a:chOff x="8548560" y="3320280"/>
                <a:chExt cx="182520" cy="694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54856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4856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54856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54856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54856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54856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54856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54856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54856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54856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54856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54856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54856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54856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54856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54856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54856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55036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6585120" y="1946520"/>
                <a:ext cx="2150640" cy="277560"/>
                <a:chOff x="6585120" y="1946520"/>
                <a:chExt cx="2150640" cy="2775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7241760" y="1964520"/>
                <a:ext cx="9320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ONCENTRATION PLA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05000" y="3004560"/>
                <a:ext cx="2736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664040" y="3007080"/>
                <a:ext cx="28440" cy="2779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24520" y="3004560"/>
                <a:ext cx="2700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640920" y="2357640"/>
                <a:ext cx="42480" cy="54720"/>
                <a:chOff x="6640920" y="2357640"/>
                <a:chExt cx="42480" cy="547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7601400" y="2344680"/>
                <a:ext cx="41400" cy="54720"/>
                <a:chOff x="7601400" y="2344680"/>
                <a:chExt cx="41400" cy="54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8560440" y="2332080"/>
                <a:ext cx="42480" cy="54720"/>
                <a:chOff x="8560440" y="2332080"/>
                <a:chExt cx="42480" cy="547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6606360" y="1842480"/>
                <a:ext cx="41400" cy="53280"/>
                <a:chOff x="6606360" y="1842480"/>
                <a:chExt cx="41400" cy="532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7565400" y="1829880"/>
                <a:ext cx="42480" cy="54720"/>
                <a:chOff x="7565400" y="1829880"/>
                <a:chExt cx="42480" cy="547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6672960" y="17974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6728760" y="1796040"/>
                <a:ext cx="313560" cy="88200"/>
                <a:chOff x="6728760" y="1796040"/>
                <a:chExt cx="313560" cy="882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6723000" y="1807200"/>
                <a:ext cx="2887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tabirit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636680" y="1810080"/>
                <a:ext cx="2700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7703280" y="1812960"/>
                <a:ext cx="312120" cy="86760"/>
                <a:chOff x="7703280" y="1812960"/>
                <a:chExt cx="312120" cy="867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7689240" y="1824120"/>
                <a:ext cx="35280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ematit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599320" y="18100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8638560" y="1821240"/>
                <a:ext cx="311760" cy="87120"/>
                <a:chOff x="8638560" y="1821240"/>
                <a:chExt cx="311760" cy="871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8624880" y="1834200"/>
                <a:ext cx="367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siduo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6603120" y="3700440"/>
                <a:ext cx="41400" cy="54720"/>
                <a:chOff x="6603120" y="3700440"/>
                <a:chExt cx="41400" cy="5472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666936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576200" y="3700440"/>
                <a:ext cx="42480" cy="54720"/>
                <a:chOff x="7576200" y="3700440"/>
                <a:chExt cx="42480" cy="547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764280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8550720" y="3700440"/>
                <a:ext cx="41400" cy="54720"/>
                <a:chOff x="8550720" y="3700440"/>
                <a:chExt cx="41400" cy="547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8616960" y="3656880"/>
                <a:ext cx="2736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352680" y="1438200"/>
              <a:ext cx="2819520" cy="2533680"/>
              <a:chOff x="3352680" y="1438200"/>
              <a:chExt cx="2819520" cy="2533680"/>
            </a:xfrm>
          </p:grpSpPr>
          <p:pic>
            <p:nvPicPr>
              <p:cNvPr id="730" name="" descr=""/>
              <p:cNvPicPr/>
              <p:nvPr/>
            </p:nvPicPr>
            <p:blipFill>
              <a:blip r:embed="rId1"/>
              <a:srcRect l="0" t="0" r="0" b="63127"/>
              <a:stretch/>
            </p:blipFill>
            <p:spPr>
              <a:xfrm>
                <a:off x="3352680" y="1438200"/>
                <a:ext cx="2819520" cy="76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2"/>
              <a:srcRect l="0" t="14590" r="0" b="0"/>
              <a:stretch/>
            </p:blipFill>
            <p:spPr>
              <a:xfrm>
                <a:off x="3352680" y="2192040"/>
                <a:ext cx="2814480" cy="177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"/>
            <p:cNvSpPr/>
            <p:nvPr/>
          </p:nvSpPr>
          <p:spPr>
            <a:xfrm>
              <a:off x="380880" y="2741760"/>
              <a:ext cx="3922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con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orte exa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6840" y="1141560"/>
              <a:ext cx="497376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ple Balance - Only for Production Repor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23800" y="3809880"/>
            <a:ext cx="8696520" cy="2514600"/>
            <a:chOff x="523800" y="3809880"/>
            <a:chExt cx="8696520" cy="2514600"/>
          </a:xfrm>
        </p:grpSpPr>
        <p:graphicFrame>
          <p:nvGraphicFramePr>
            <p:cNvPr id="735" name=""/>
            <p:cNvGraphicFramePr/>
            <p:nvPr/>
          </p:nvGraphicFramePr>
          <p:xfrm>
            <a:off x="6238800" y="3925800"/>
            <a:ext cx="2981520" cy="2398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8800" y="3925800"/>
                      <a:ext cx="2981520" cy="23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7" name="" descr=""/>
            <p:cNvPicPr/>
            <p:nvPr/>
          </p:nvPicPr>
          <p:blipFill>
            <a:blip r:embed="rId5"/>
            <a:stretch/>
          </p:blipFill>
          <p:spPr>
            <a:xfrm>
              <a:off x="3495600" y="4038480"/>
              <a:ext cx="281952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23800" y="4038480"/>
              <a:ext cx="39229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metalur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gnóstico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rum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r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stión de la ope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 de la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28000" y="3809880"/>
              <a:ext cx="389484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ail Balance – Analyze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Ba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2680" y="91620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ntrat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4800" y="1828800"/>
            <a:ext cx="990720" cy="1143000"/>
          </a:xfrm>
          <a:prstGeom prst="flowChartMulti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38480" y="2133720"/>
            <a:ext cx="771480" cy="955440"/>
          </a:xfrm>
          <a:prstGeom prst="flowChart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458120" y="3844800"/>
            <a:ext cx="1076400" cy="955800"/>
          </a:xfrm>
          <a:prstGeom prst="flowChartDocument">
            <a:avLst/>
          </a:prstGeom>
          <a:solidFill>
            <a:srgbClr val="33cc33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600200" y="1676520"/>
            <a:ext cx="1143000" cy="1192680"/>
            <a:chOff x="1600200" y="1676520"/>
            <a:chExt cx="1143000" cy="1192680"/>
          </a:xfrm>
        </p:grpSpPr>
        <p:sp>
          <p:nvSpPr>
            <p:cNvPr id="746" name=""/>
            <p:cNvSpPr/>
            <p:nvPr/>
          </p:nvSpPr>
          <p:spPr>
            <a:xfrm>
              <a:off x="1600200" y="167652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7" name="" descr=""/>
            <p:cNvPicPr/>
            <p:nvPr/>
          </p:nvPicPr>
          <p:blipFill>
            <a:blip r:embed="rId1"/>
            <a:stretch/>
          </p:blipFill>
          <p:spPr>
            <a:xfrm>
              <a:off x="1855800" y="171612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48" name=""/>
          <p:cNvSpPr/>
          <p:nvPr/>
        </p:nvSpPr>
        <p:spPr>
          <a:xfrm>
            <a:off x="2971800" y="405468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ckpi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562720" y="2895480"/>
            <a:ext cx="1143000" cy="1192680"/>
            <a:chOff x="5562720" y="2895480"/>
            <a:chExt cx="1143000" cy="1192680"/>
          </a:xfrm>
        </p:grpSpPr>
        <p:sp>
          <p:nvSpPr>
            <p:cNvPr id="750" name=""/>
            <p:cNvSpPr/>
            <p:nvPr/>
          </p:nvSpPr>
          <p:spPr>
            <a:xfrm>
              <a:off x="5562720" y="289548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5818320" y="293508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cxnSp>
        <p:nvCxnSpPr>
          <p:cNvPr id="752" name=""/>
          <p:cNvCxnSpPr>
            <a:stCxn id="741" idx="3"/>
            <a:endCxn id="746" idx="1"/>
          </p:cNvCxnSpPr>
          <p:nvPr/>
        </p:nvCxnSpPr>
        <p:spPr>
          <a:xfrm flipH="1" rot="16200000">
            <a:off x="1004400" y="1713240"/>
            <a:ext cx="739080" cy="40716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46" idx="3"/>
            <a:endCxn id="743" idx="1"/>
          </p:cNvCxnSpPr>
          <p:nvPr/>
        </p:nvCxnSpPr>
        <p:spPr>
          <a:xfrm>
            <a:off x="2765160" y="2286000"/>
            <a:ext cx="1251720" cy="3261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"/>
          <p:cNvCxnSpPr>
            <a:stCxn id="742" idx="3"/>
            <a:endCxn id="750" idx="1"/>
          </p:cNvCxnSpPr>
          <p:nvPr/>
        </p:nvCxnSpPr>
        <p:spPr>
          <a:xfrm>
            <a:off x="5127120" y="2400120"/>
            <a:ext cx="413640" cy="11055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748" idx="5"/>
            <a:endCxn id="750" idx="2"/>
          </p:cNvCxnSpPr>
          <p:nvPr/>
        </p:nvCxnSpPr>
        <p:spPr>
          <a:xfrm flipV="1">
            <a:off x="4771800" y="4136760"/>
            <a:ext cx="1362600" cy="21168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50" idx="3"/>
            <a:endCxn id="744" idx="1"/>
          </p:cNvCxnSpPr>
          <p:nvPr/>
        </p:nvCxnSpPr>
        <p:spPr>
          <a:xfrm>
            <a:off x="6727320" y="3504960"/>
            <a:ext cx="708840" cy="81828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57" name=""/>
          <p:cNvGrpSpPr/>
          <p:nvPr/>
        </p:nvGrpSpPr>
        <p:grpSpPr>
          <a:xfrm>
            <a:off x="6095880" y="5410080"/>
            <a:ext cx="914400" cy="685800"/>
            <a:chOff x="6095880" y="5410080"/>
            <a:chExt cx="914400" cy="685800"/>
          </a:xfrm>
        </p:grpSpPr>
        <p:sp>
          <p:nvSpPr>
            <p:cNvPr id="758" name=""/>
            <p:cNvSpPr/>
            <p:nvPr/>
          </p:nvSpPr>
          <p:spPr>
            <a:xfrm>
              <a:off x="6095880" y="5410080"/>
              <a:ext cx="914400" cy="685800"/>
            </a:xfrm>
            <a:prstGeom prst="cube">
              <a:avLst>
                <a:gd name="adj" fmla="val 250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5880" y="5486400"/>
              <a:ext cx="762120" cy="609480"/>
            </a:xfrm>
            <a:prstGeom prst="bevel">
              <a:avLst>
                <a:gd name="adj" fmla="val 125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7924680" y="5334120"/>
            <a:ext cx="838440" cy="761760"/>
          </a:xfrm>
          <a:prstGeom prst="foldedCorner">
            <a:avLst>
              <a:gd name="adj" fmla="val 12500"/>
            </a:avLst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44" idx="2"/>
            <a:endCxn id="758" idx="0"/>
          </p:cNvCxnSpPr>
          <p:nvPr/>
        </p:nvCxnSpPr>
        <p:spPr>
          <a:xfrm rot="5400000">
            <a:off x="7007760" y="4400280"/>
            <a:ext cx="618480" cy="1358280"/>
          </a:xfrm>
          <a:prstGeom prst="bentConnector3">
            <a:avLst>
              <a:gd name="adj1" fmla="val 54222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2"/>
            <a:endCxn id="760" idx="0"/>
          </p:cNvCxnSpPr>
          <p:nvPr/>
        </p:nvCxnSpPr>
        <p:spPr>
          <a:xfrm flipH="1" rot="16200000">
            <a:off x="7899480" y="4866840"/>
            <a:ext cx="542160" cy="348480"/>
          </a:xfrm>
          <a:prstGeom prst="bentConnector3">
            <a:avLst>
              <a:gd name="adj1" fmla="val 54817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3" name=""/>
          <p:cNvSpPr/>
          <p:nvPr/>
        </p:nvSpPr>
        <p:spPr>
          <a:xfrm>
            <a:off x="5334120" y="233352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520" y="21708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ción de la Producción: Production Schedu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a tecología para facil uso en otros proces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sa un modelo de producción, incluyendo restri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tilización en Fundiciones de Alumin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ción de operaciones batch y 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z de manejar diferentes capacidades de ho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 el uso de metal para diferente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a la gestión en de mineria de hier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acho de camiones por diferentes 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ción de alimentación de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de Producción: Workce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rcRect l="0" t="2863" r="0" b="0"/>
          <a:stretch/>
        </p:blipFill>
        <p:spPr>
          <a:xfrm>
            <a:off x="4046400" y="1162080"/>
            <a:ext cx="4881600" cy="1133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rcRect l="0" t="2783" r="0" b="2783"/>
          <a:stretch/>
        </p:blipFill>
        <p:spPr>
          <a:xfrm>
            <a:off x="4046400" y="2295360"/>
            <a:ext cx="4881600" cy="11350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rcRect l="0" t="2783" r="0" b="2783"/>
          <a:stretch/>
        </p:blipFill>
        <p:spPr>
          <a:xfrm>
            <a:off x="4046400" y="3430440"/>
            <a:ext cx="4881600" cy="11336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4"/>
          <a:srcRect l="0" t="0" r="0" b="2925"/>
          <a:stretch/>
        </p:blipFill>
        <p:spPr>
          <a:xfrm>
            <a:off x="4046400" y="4564080"/>
            <a:ext cx="4881600" cy="110952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0" y="974520"/>
            <a:ext cx="496728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 servicio web para interactuar en forma segura con datos de proceso y del negoci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center consolida información de fuentes diversas en forma efectiva par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Visualiz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onitoreo y análi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úsqueda de inform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oporte a la toma de decis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opción de la tecnología Microsoft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total con MySAP Por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09560" y="20952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dores Claves de Gestión: KPI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0" y="80028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Indicadores de Gestión (KP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er decisiones correctas basadas en KP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sistent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ac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 integración con fuentes de da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ase de datos 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storiz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plicaciones Business Fl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102200" y="2489040"/>
            <a:ext cx="4857480" cy="13939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6729480" y="1008000"/>
            <a:ext cx="2095560" cy="16765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5410080" y="3352680"/>
            <a:ext cx="3514680" cy="22100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240" y="4414680"/>
            <a:ext cx="9140760" cy="457200"/>
          </a:xfrm>
          <a:custGeom>
            <a:avLst/>
            <a:gdLst/>
            <a:ahLst/>
            <a:rect l="l" t="t" r="r" b="b"/>
            <a:pathLst>
              <a:path w="5758" h="314">
                <a:moveTo>
                  <a:pt x="0" y="314"/>
                </a:moveTo>
                <a:cubicBezTo>
                  <a:pt x="959" y="157"/>
                  <a:pt x="1919" y="0"/>
                  <a:pt x="2879" y="0"/>
                </a:cubicBezTo>
                <a:cubicBezTo>
                  <a:pt x="3839" y="0"/>
                  <a:pt x="4798" y="157"/>
                  <a:pt x="5758" y="314"/>
                </a:cubicBezTo>
              </a:path>
            </a:pathLst>
          </a:cu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40" y="4871880"/>
            <a:ext cx="9140760" cy="1986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1755720" y="1571760"/>
            <a:ext cx="5619960" cy="105732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2943720" y="3314520"/>
            <a:ext cx="32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honeyw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6240" y="47520"/>
            <a:ext cx="66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dena de Valor de la Industria del 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1523880"/>
            <a:ext cx="8379360" cy="3216600"/>
            <a:chOff x="228600" y="1523880"/>
            <a:chExt cx="8379360" cy="3216600"/>
          </a:xfrm>
        </p:grpSpPr>
        <p:sp>
          <p:nvSpPr>
            <p:cNvPr id="109" name=""/>
            <p:cNvSpPr/>
            <p:nvPr/>
          </p:nvSpPr>
          <p:spPr>
            <a:xfrm>
              <a:off x="228600" y="2558880"/>
              <a:ext cx="1521000" cy="99504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2520" y="2910240"/>
              <a:ext cx="703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884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31760" y="409428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8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41720" y="4118040"/>
              <a:ext cx="8780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xiv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5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94440" y="394272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ción  p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ve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59520" y="374292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17720" y="4001040"/>
              <a:ext cx="817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ob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n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9720" y="1547640"/>
              <a:ext cx="1523520" cy="99756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55160" y="191232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52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07880" y="1936080"/>
              <a:ext cx="1165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cen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49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18200" y="1960200"/>
              <a:ext cx="86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undi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3280" y="156096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62000" y="1970640"/>
              <a:ext cx="8204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42880" y="181908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09040" y="3929400"/>
              <a:ext cx="8622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03040" y="2018520"/>
              <a:ext cx="0" cy="22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3480" y="202932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03040" y="4235400"/>
              <a:ext cx="77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0040" y="3051000"/>
              <a:ext cx="23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15160" y="1523880"/>
              <a:ext cx="86508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t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9400" y="4293720"/>
              <a:ext cx="86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j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>
            <a:hlinkClick r:id="rId1"/>
          </p:cNvPr>
          <p:cNvSpPr/>
          <p:nvPr/>
        </p:nvSpPr>
        <p:spPr>
          <a:xfrm>
            <a:off x="2819520" y="5715000"/>
            <a:ext cx="435564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scondida.cl/Escondida/proc_productiv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bjetivos Típ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produc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utilización de activ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mplir estándares de cali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tener / abatir  cost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ero dañ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el medioamb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las relaciones con el entorn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stake-holder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8216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reflexión previa acerca de la Productiv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92280" y="1932120"/>
          <a:ext cx="4911840" cy="3127320"/>
        </p:xfrm>
        <a:graphic>
          <a:graphicData uri="http://schemas.openxmlformats.org/drawingml/2006/table">
            <a:tbl>
              <a:tblPr/>
              <a:tblGrid>
                <a:gridCol w="2455920"/>
                <a:gridCol w="2455920"/>
              </a:tblGrid>
              <a:tr h="15634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638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714680" y="130824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ejora Continua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9560" y="4292640"/>
            <a:ext cx="4275000" cy="1684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3240" y="1193760"/>
            <a:ext cx="440244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alizar Desv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70480" y="3440160"/>
            <a:ext cx="508320" cy="1407960"/>
          </a:xfrm>
          <a:prstGeom prst="downArrow">
            <a:avLst>
              <a:gd name="adj1" fmla="val 50000"/>
              <a:gd name="adj2" fmla="val 692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7440" y="4711680"/>
            <a:ext cx="28065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finir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48080" y="2763720"/>
            <a:ext cx="687240" cy="1451160"/>
          </a:xfrm>
          <a:prstGeom prst="downArrow">
            <a:avLst>
              <a:gd name="adj1" fmla="val 50000"/>
              <a:gd name="adj2" fmla="val 527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200400"/>
            <a:ext cx="243864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icar Mej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Contr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724280" y="2768760"/>
            <a:ext cx="3174840" cy="1422360"/>
            <a:chOff x="4724280" y="2768760"/>
            <a:chExt cx="3174840" cy="1422360"/>
          </a:xfrm>
        </p:grpSpPr>
        <p:sp>
          <p:nvSpPr>
            <p:cNvPr id="160" name=""/>
            <p:cNvSpPr/>
            <p:nvPr/>
          </p:nvSpPr>
          <p:spPr>
            <a:xfrm>
              <a:off x="4724280" y="2768760"/>
              <a:ext cx="787320" cy="1422360"/>
            </a:xfrm>
            <a:prstGeom prst="upArrow">
              <a:avLst>
                <a:gd name="adj1" fmla="val 50000"/>
                <a:gd name="adj2" fmla="val 4516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99000" y="3289320"/>
              <a:ext cx="24001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Medir el 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6095880"/>
            <a:ext cx="9144000" cy="45576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erramientas SixSigma para Mejora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irámide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9154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0:36:36Z</dcterms:created>
  <dc:creator>Joel T. Langill</dc:creator>
  <dc:description/>
  <cp:keywords/>
  <dc:language>en-US</dc:language>
  <cp:lastModifiedBy>E223047</cp:lastModifiedBy>
  <cp:lastPrinted>1999-03-26T23:10:12Z</cp:lastPrinted>
  <dcterms:modified xsi:type="dcterms:W3CDTF">2006-10-10T15:02:40Z</dcterms:modified>
  <cp:revision>241</cp:revision>
  <dc:subject>Sales Training </dc:subject>
  <dc:title>Pillars of Success</dc:title>
</cp:coreProperties>
</file>