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2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9.gif" ContentType="image/gif"/>
  <Override PartName="/ppt/media/image13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4229-63DD-452E-8B74-AB5CACAF446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C63-0F6F-42DD-BDC3-6BE11E9E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8F9-3CA7-4396-9B73-4A68E097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C5A-7268-4AD0-A676-B87C7281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64F-9A56-4C16-AF29-021D76D9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B9CD-BADF-4115-875A-A5C2E57B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43C-1E7F-45D3-B312-408B5D4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059F-D6DD-41B9-919D-20888D06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FF58-3D94-4F21-B8E6-F09F6E1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9C9-285B-4080-8F2E-FD95B0C9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39FE-0F4E-4BA1-A5D6-CE5D0AA4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5B35-C1A2-4DD5-9E51-A44EB44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9BE-C13A-4CC2-9623-D5665E5C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10B5-DBE3-477F-BD09-108AA8C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38F4-8463-412C-BCF8-F166748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ABD8-8346-414F-9AE0-7B99EA7C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341-D078-4271-90F2-1054F330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15AF-11E2-4A74-861E-5BE81162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8FA-6BD7-4459-8834-09FED9A6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A81-381C-4669-BEE6-6869F82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F2D-C0D3-4EA6-A3A2-C81810D5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939-EB92-4915-BE1D-F24A1852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26A-76F6-484D-A1CC-851E1DF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E05-AE82-45ED-AD61-5549B868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E5D-C941-4691-8151-88A1FED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1DF5-77B0-4FE4-80F9-17A93A0CD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9BEF-BDB7-41CF-807E-6A668B9A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3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50560" y="198900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o de un pronóstico de venta para la cadena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cono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895480"/>
            <a:ext cx="8400960" cy="3603600"/>
            <a:chOff x="533520" y="2895480"/>
            <a:chExt cx="8400960" cy="36036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4009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95480" y="312408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formation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601992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t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4038480"/>
              <a:ext cx="16160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tribution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4038480"/>
              <a:ext cx="175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uper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4038480"/>
              <a:ext cx="1371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jemplo: </a:t>
            </a:r>
            <a:br>
              <a:rPr sz="2400"/>
            </a:b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l valor de la información en la cadena logística del retai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998720" y="1938240"/>
            <a:ext cx="5697360" cy="453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Análisis para el Café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9880" y="3733920"/>
            <a:ext cx="2691000" cy="1828800"/>
            <a:chOff x="3809880" y="3733920"/>
            <a:chExt cx="2691000" cy="1828800"/>
          </a:xfrm>
        </p:grpSpPr>
        <p:sp>
          <p:nvSpPr>
            <p:cNvPr id="443" name=""/>
            <p:cNvSpPr/>
            <p:nvPr/>
          </p:nvSpPr>
          <p:spPr>
            <a:xfrm>
              <a:off x="3809880" y="4648320"/>
              <a:ext cx="21337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486400" y="411444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3733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3240" y="26748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afé 170 g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44400" y="523440"/>
            <a:ext cx="6296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Análisis para la Cervez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81080" y="1874880"/>
          <a:ext cx="57150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74880"/>
                    <a:ext cx="57150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895120" y="2209680"/>
            <a:ext cx="3649680" cy="3353040"/>
            <a:chOff x="2895120" y="2209680"/>
            <a:chExt cx="3649680" cy="3353040"/>
          </a:xfrm>
        </p:grpSpPr>
        <p:grpSp>
          <p:nvGrpSpPr>
            <p:cNvPr id="451" name=""/>
            <p:cNvGrpSpPr/>
            <p:nvPr/>
          </p:nvGrpSpPr>
          <p:grpSpPr>
            <a:xfrm>
              <a:off x="2895120" y="3200400"/>
              <a:ext cx="914760" cy="762120"/>
              <a:chOff x="2895120" y="3200400"/>
              <a:chExt cx="914760" cy="762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35053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95120" y="320040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8 S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876560" y="2209680"/>
              <a:ext cx="953280" cy="307080"/>
              <a:chOff x="4876560" y="2209680"/>
              <a:chExt cx="953280" cy="30708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440" y="2209680"/>
                <a:ext cx="95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w Ye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876560" y="251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320" y="2362320"/>
              <a:ext cx="1371960" cy="609480"/>
              <a:chOff x="3352320" y="2362320"/>
              <a:chExt cx="137196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3352320" y="2362320"/>
                <a:ext cx="90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hrist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2590920"/>
                <a:ext cx="609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09880" y="3733920"/>
              <a:ext cx="2734920" cy="1828800"/>
              <a:chOff x="3809880" y="3733920"/>
              <a:chExt cx="2734920" cy="1828800"/>
            </a:xfrm>
          </p:grpSpPr>
          <p:sp>
            <p:nvSpPr>
              <p:cNvPr id="461" name=""/>
              <p:cNvSpPr/>
              <p:nvPr/>
            </p:nvSpPr>
            <p:spPr>
              <a:xfrm>
                <a:off x="3809880" y="4648320"/>
                <a:ext cx="2133720" cy="914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486400" y="4114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5000" y="373392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mm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31560" y="237024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erveza 1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376280"/>
            <a:ext cx="9144000" cy="51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inuación cl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Gerente para LA Honeywell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ndo y reconfigurando la red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Gestión de inventario optimizada</a:t>
            </a: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48520" cy="4792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07320" y="5805360"/>
            <a:ext cx="4515120" cy="86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ost sa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1% of all days; before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ock 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5 days; before: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remos como sinónimos “red de valor” y “cadena de val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Modelos: Ejemplo SC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2920" y="2205000"/>
            <a:ext cx="7129440" cy="19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960" y="2997360"/>
            <a:ext cx="190476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7812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5464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2492280"/>
            <a:ext cx="3352680" cy="68580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3800" y="1720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base par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9240" y="544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xtiende a la 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I. Gestión Integral de la Cadena de Valor (continuació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56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58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59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I. 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2492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II. Presentación Gerente para Latinoamérica Honeywell M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74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V. Armando y reconfigurando la red de valor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 desafío de los negocios de h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Armado de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onfigurando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Cas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Arm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r y reconfigurar permanentemente la cadena de valor, son las claves de asegurar el alineamiento competitivo con mi estrategia de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os que intervienen en el diseño de la cadena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ategia de Nego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del proceso productivo de la indus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ena de valor existente en su estado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ías dispon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gencias y expectativas de mis cl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ciones de proveedores, aliados, distribuid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88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Aspectos centrales en la configuración de la cadena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para el caso de bienes físicos)</a:t>
            </a:r>
            <a:endParaRPr b="1" i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535840" y="2245680"/>
            <a:ext cx="4073400" cy="3921120"/>
            <a:chOff x="2535840" y="2245680"/>
            <a:chExt cx="4073400" cy="3921120"/>
          </a:xfrm>
        </p:grpSpPr>
        <p:sp>
          <p:nvSpPr>
            <p:cNvPr id="633" name="_s113669"/>
            <p:cNvSpPr/>
            <p:nvPr/>
          </p:nvSpPr>
          <p:spPr>
            <a:xfrm flipH="1">
              <a:off x="355212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13670"/>
            <p:cNvSpPr/>
            <p:nvPr/>
          </p:nvSpPr>
          <p:spPr>
            <a:xfrm>
              <a:off x="253584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113671"/>
            <p:cNvSpPr/>
            <p:nvPr/>
          </p:nvSpPr>
          <p:spPr>
            <a:xfrm>
              <a:off x="4572000" y="4695120"/>
              <a:ext cx="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13672"/>
            <p:cNvSpPr/>
            <p:nvPr/>
          </p:nvSpPr>
          <p:spPr>
            <a:xfrm>
              <a:off x="4063680" y="51868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13673"/>
            <p:cNvSpPr/>
            <p:nvPr/>
          </p:nvSpPr>
          <p:spPr>
            <a:xfrm>
              <a:off x="507996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13674"/>
            <p:cNvSpPr/>
            <p:nvPr/>
          </p:nvSpPr>
          <p:spPr>
            <a:xfrm>
              <a:off x="559152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13675"/>
            <p:cNvSpPr/>
            <p:nvPr/>
          </p:nvSpPr>
          <p:spPr>
            <a:xfrm flipV="1">
              <a:off x="4572000" y="32238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13676"/>
            <p:cNvSpPr/>
            <p:nvPr/>
          </p:nvSpPr>
          <p:spPr>
            <a:xfrm>
              <a:off x="4063680" y="22456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13677"/>
            <p:cNvSpPr/>
            <p:nvPr/>
          </p:nvSpPr>
          <p:spPr>
            <a:xfrm>
              <a:off x="406368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"/>
            <p:cNvCxnSpPr>
              <a:stCxn id="640" idx="6"/>
              <a:endCxn id="638" idx="0"/>
            </p:cNvCxnSpPr>
            <p:nvPr/>
          </p:nvCxnSpPr>
          <p:spPr>
            <a:xfrm>
              <a:off x="5081400" y="2736360"/>
              <a:ext cx="10202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3" name=""/>
            <p:cNvCxnSpPr>
              <a:stCxn id="638" idx="4"/>
              <a:endCxn id="636" idx="6"/>
            </p:cNvCxnSpPr>
            <p:nvPr/>
          </p:nvCxnSpPr>
          <p:spPr>
            <a:xfrm flipH="1">
              <a:off x="5081040" y="4696560"/>
              <a:ext cx="10202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36" idx="2"/>
              <a:endCxn id="634" idx="4"/>
            </p:cNvCxnSpPr>
            <p:nvPr/>
          </p:nvCxnSpPr>
          <p:spPr>
            <a:xfrm flipH="1" flipV="1">
              <a:off x="3044880" y="4696200"/>
              <a:ext cx="10184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34" idx="0"/>
              <a:endCxn id="640" idx="2"/>
            </p:cNvCxnSpPr>
            <p:nvPr/>
          </p:nvCxnSpPr>
          <p:spPr>
            <a:xfrm flipV="1">
              <a:off x="3045240" y="2736000"/>
              <a:ext cx="10184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46" name=""/>
          <p:cNvSpPr/>
          <p:nvPr/>
        </p:nvSpPr>
        <p:spPr>
          <a:xfrm>
            <a:off x="4573440" y="2276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de producir y almacenar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 entre respuesta y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abr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la fu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odeg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lotes de acuerdo a necesidades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rossd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vent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l inventario del proceso, desde la materia prima hasta el producto termi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e off entre respuesta y efi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cisione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es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Local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todos los elementos y procesos que conforman la red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cisiones de centralización versus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uevamente el trade off entre respuesta y 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actores: Ambientales, de costo, recursos humanos calificados, impuestos, transporte y sobre todo cercanía a clientes y proveedores cla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s deci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n relevantes en la performance de la cad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terminan fuertemente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fectan por un periodo importante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luencian decisione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on decisiones que dicen mucho de la estrategia de una empresa para abordar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o tipo de desplazamiento de bienes finales a materias primas, pasando por los subproductos intermed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ásicamente se analiz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os (típicos + transporte electr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s contra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 de ope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7840" y="244152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la piedra angular de las cadenas de valor moder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allí la reiterada y creciente referencia a las TIC en los temas de gestión de oper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ecta y le da al sistema la posibilida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s versus costos de las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versus riesgos de 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Ejemplo: Wall Mar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ategia: Crecimiento agresivo orientado a mercados masivos, sobre la base de precios competitiv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uctura de su cadena de valor: Orientada a bajar sus costos, incrementar productividad y traspasar a precio las eficienci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Las técnicas que implementaron son hoy modelos en diseño estratégico de operacione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ansión alrededor de centros de distrib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o de medios electrónicos para intercambio de información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to ‘big box’ para sus tiend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combina tienda y bod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cios bajos todos los días’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jora pronósticos de v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a complejidad en el diseño de cadenas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626436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¡¡¡Tanta complejidad como el tipo de negocio y la estrategia requieran … ni más ni menos!!!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220356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edor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09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28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ee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49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7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3236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ñ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167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8" idx="3"/>
            <a:endCxn id="667" idx="1"/>
          </p:cNvCxnSpPr>
          <p:nvPr/>
        </p:nvCxnSpPr>
        <p:spPr>
          <a:xfrm>
            <a:off x="6227280" y="317628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69" idx="3"/>
            <a:endCxn id="667" idx="0"/>
          </p:cNvCxnSpPr>
          <p:nvPr/>
        </p:nvCxnSpPr>
        <p:spPr>
          <a:xfrm>
            <a:off x="6012000" y="1952280"/>
            <a:ext cx="183744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69" idx="2"/>
            <a:endCxn id="668" idx="0"/>
          </p:cNvCxnSpPr>
          <p:nvPr/>
        </p:nvCxnSpPr>
        <p:spPr>
          <a:xfrm>
            <a:off x="5472000" y="2205000"/>
            <a:ext cx="216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66" idx="3"/>
            <a:endCxn id="668" idx="1"/>
          </p:cNvCxnSpPr>
          <p:nvPr/>
        </p:nvCxnSpPr>
        <p:spPr>
          <a:xfrm>
            <a:off x="4354200" y="31762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66" idx="0"/>
            <a:endCxn id="669" idx="1"/>
          </p:cNvCxnSpPr>
          <p:nvPr/>
        </p:nvCxnSpPr>
        <p:spPr>
          <a:xfrm flipV="1">
            <a:off x="3814920" y="1951920"/>
            <a:ext cx="11178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70" idx="3"/>
            <a:endCxn id="669" idx="1"/>
          </p:cNvCxnSpPr>
          <p:nvPr/>
        </p:nvCxnSpPr>
        <p:spPr>
          <a:xfrm>
            <a:off x="2338200" y="1952280"/>
            <a:ext cx="25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8" name=""/>
          <p:cNvCxnSpPr>
            <a:stCxn id="662" idx="1"/>
            <a:endCxn id="664" idx="2"/>
          </p:cNvCxnSpPr>
          <p:nvPr/>
        </p:nvCxnSpPr>
        <p:spPr>
          <a:xfrm flipH="1" flipV="1">
            <a:off x="1150200" y="3428280"/>
            <a:ext cx="7578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9" name=""/>
          <p:cNvCxnSpPr>
            <a:stCxn id="662" idx="0"/>
            <a:endCxn id="665" idx="2"/>
          </p:cNvCxnSpPr>
          <p:nvPr/>
        </p:nvCxnSpPr>
        <p:spPr>
          <a:xfrm flipV="1">
            <a:off x="2447640" y="34286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62" idx="3"/>
            <a:endCxn id="666" idx="2"/>
          </p:cNvCxnSpPr>
          <p:nvPr/>
        </p:nvCxnSpPr>
        <p:spPr>
          <a:xfrm flipV="1">
            <a:off x="2987640" y="3428280"/>
            <a:ext cx="8280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"/>
          <p:cNvCxnSpPr>
            <a:stCxn id="664" idx="3"/>
            <a:endCxn id="665" idx="1"/>
          </p:cNvCxnSpPr>
          <p:nvPr/>
        </p:nvCxnSpPr>
        <p:spPr>
          <a:xfrm>
            <a:off x="1690560" y="31762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"/>
          <p:cNvCxnSpPr>
            <a:stCxn id="665" idx="3"/>
            <a:endCxn id="666" idx="1"/>
          </p:cNvCxnSpPr>
          <p:nvPr/>
        </p:nvCxnSpPr>
        <p:spPr>
          <a:xfrm>
            <a:off x="2987640" y="3176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"/>
          <p:cNvCxnSpPr>
            <a:stCxn id="663" idx="0"/>
            <a:endCxn id="665" idx="2"/>
          </p:cNvCxnSpPr>
          <p:nvPr/>
        </p:nvCxnSpPr>
        <p:spPr>
          <a:xfrm flipH="1" flipV="1">
            <a:off x="2447640" y="3428640"/>
            <a:ext cx="1583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"/>
          <p:cNvCxnSpPr>
            <a:stCxn id="663" idx="0"/>
            <a:endCxn id="666" idx="2"/>
          </p:cNvCxnSpPr>
          <p:nvPr/>
        </p:nvCxnSpPr>
        <p:spPr>
          <a:xfrm flipH="1" flipV="1">
            <a:off x="3814200" y="342864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5" name=""/>
          <p:cNvCxnSpPr>
            <a:stCxn id="663" idx="3"/>
            <a:endCxn id="671" idx="1"/>
          </p:cNvCxnSpPr>
          <p:nvPr/>
        </p:nvCxnSpPr>
        <p:spPr>
          <a:xfrm>
            <a:off x="4570560" y="4184280"/>
            <a:ext cx="19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6" name=""/>
          <p:cNvCxnSpPr>
            <a:stCxn id="661" idx="2"/>
            <a:endCxn id="665" idx="0"/>
          </p:cNvCxnSpPr>
          <p:nvPr/>
        </p:nvCxnSpPr>
        <p:spPr>
          <a:xfrm flipH="1">
            <a:off x="2447640" y="27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7" name=""/>
          <p:cNvCxnSpPr>
            <a:stCxn id="661" idx="2"/>
            <a:endCxn id="666" idx="0"/>
          </p:cNvCxnSpPr>
          <p:nvPr/>
        </p:nvCxnSpPr>
        <p:spPr>
          <a:xfrm>
            <a:off x="3239640" y="2708280"/>
            <a:ext cx="575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61" idx="3"/>
            <a:endCxn id="668" idx="0"/>
          </p:cNvCxnSpPr>
          <p:nvPr/>
        </p:nvCxnSpPr>
        <p:spPr>
          <a:xfrm>
            <a:off x="3780000" y="2455560"/>
            <a:ext cx="1908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9" name=""/>
          <p:cNvCxnSpPr>
            <a:stCxn id="666" idx="3"/>
            <a:endCxn id="671" idx="1"/>
          </p:cNvCxnSpPr>
          <p:nvPr/>
        </p:nvCxnSpPr>
        <p:spPr>
          <a:xfrm>
            <a:off x="4354560" y="3176640"/>
            <a:ext cx="2162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0" name=""/>
          <p:cNvCxnSpPr>
            <a:stCxn id="670" idx="2"/>
            <a:endCxn id="665" idx="0"/>
          </p:cNvCxnSpPr>
          <p:nvPr/>
        </p:nvCxnSpPr>
        <p:spPr>
          <a:xfrm>
            <a:off x="1798560" y="2205000"/>
            <a:ext cx="650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1" name=""/>
          <p:cNvCxnSpPr>
            <a:stCxn id="670" idx="2"/>
            <a:endCxn id="664" idx="0"/>
          </p:cNvCxnSpPr>
          <p:nvPr/>
        </p:nvCxnSpPr>
        <p:spPr>
          <a:xfrm flipH="1">
            <a:off x="1150200" y="2205000"/>
            <a:ext cx="648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aves de diseñ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ividad versus respu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ños de lo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le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edad de produc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serv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innov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é tipo de jugador somos en la GICAV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aporte clave hace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uantos mercados y cadenas servi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arrollar las capacidades de nuestra GICA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ón de la cade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84360" y="692280"/>
            <a:ext cx="453564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sarrollar capacidades de GIC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6193080" cy="2305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67280" y="2492280"/>
            <a:ext cx="129528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29840" y="2602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neando estrategia de negocio y diseño de la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4324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88360" y="1484640"/>
            <a:ext cx="71640" cy="4968720"/>
          </a:xfrm>
          <a:custGeom>
            <a:avLst/>
            <a:gdLst>
              <a:gd name="textAreaLeft" fmla="*/ 0 w 71640"/>
              <a:gd name="textAreaRight" fmla="*/ 25920 w 71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o de las Cadenas de Farmacia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uerte cambio en los últimos 10 añ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comienzos de los 90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tomización110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70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8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00 prácticamente en quie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 grandes cadenas: Salco, Fasa y Cruz Verd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8% del merc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armalíder 4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Dónde están las claves de esta transform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0920" y="3645000"/>
            <a:ext cx="19447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349360"/>
            <a:ext cx="1728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20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Estructura de operación de las grandes cadena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863640" cy="71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95440" y="244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5440" y="3665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92360" y="357336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3800" y="3716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80920" cy="900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44616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0"/>
            <a:ext cx="4321080" cy="252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8.000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líneas: Separar medicamentos de los productos de conven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bertura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jo de ven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enas de f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cales pequeño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anejo de bajas cant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ta re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35280" y="6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8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24000" y="3357360"/>
            <a:ext cx="129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80320" y="530064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48760" y="3503520"/>
            <a:ext cx="648000" cy="2803320"/>
          </a:xfrm>
          <a:custGeom>
            <a:avLst/>
            <a:gdLst>
              <a:gd name="textAreaLeft" fmla="*/ 86760 w 648000"/>
              <a:gd name="textAreaRight" fmla="*/ 561240 w 648000"/>
              <a:gd name="textAreaTop" fmla="*/ 490320 h 2803320"/>
              <a:gd name="textAreaBottom" fmla="*/ 2032560 h 28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84160" y="256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ta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850800">
            <a:off x="6816600" y="2968560"/>
            <a:ext cx="828720" cy="720720"/>
          </a:xfrm>
          <a:prstGeom prst="leftArrow">
            <a:avLst>
              <a:gd name="adj1" fmla="val 50000"/>
              <a:gd name="adj2" fmla="val 287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649440" cy="6429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617400" cy="51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64328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16720" y="4005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7745400" y="3689280"/>
          <a:ext cx="1398600" cy="316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5400" y="3689280"/>
                    <a:ext cx="13986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500720" y="5734080"/>
            <a:ext cx="863280" cy="7192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076720" y="5734080"/>
            <a:ext cx="1727280" cy="431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3716280"/>
            <a:ext cx="287280" cy="1728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148360" y="4076640"/>
            <a:ext cx="792000" cy="158436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2. Rediseñ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empresas de hoy tiene que analizar constantemente que partes de su cadenas de valor son vulnerables, cuales son defendibles, que alianzas tienen sentido estratégico y cuales son peligro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diseño de la cadena de valor es un proceso perman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ventajas competitivas requiere un constante proceso de revisión y ajuste a la estructura de procesos, proveedores y distribuid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cadenas de valor no solo son complejas, también son cambiantes. Esta es la esencia de la mirada estratégica de la GICA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¿Cómo analizar y rediseñar la cadena de valor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a de MIT/SLOAN (Charles F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3860640"/>
            <a:ext cx="381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acidad de lo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3280" y="292428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riterios clave de evalu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3 área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00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35640" y="3500280"/>
            <a:ext cx="3457080" cy="2100240"/>
            <a:chOff x="5435640" y="3500280"/>
            <a:chExt cx="3457080" cy="2100240"/>
          </a:xfrm>
        </p:grpSpPr>
        <p:sp>
          <p:nvSpPr>
            <p:cNvPr id="741" name=""/>
            <p:cNvSpPr/>
            <p:nvPr/>
          </p:nvSpPr>
          <p:spPr>
            <a:xfrm>
              <a:off x="6267960" y="3929040"/>
              <a:ext cx="1781640" cy="12873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35640" y="5171760"/>
              <a:ext cx="10238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52080" y="3500280"/>
              <a:ext cx="1024200" cy="428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68880" y="5171760"/>
              <a:ext cx="1023840" cy="428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59640" y="3500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51577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84720" y="5157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riterios de evalu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5760" y="1700280"/>
            <a:ext cx="658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rtancia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oj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ció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75840" y="1482840"/>
            <a:ext cx="6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25576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148428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43480" y="1843200"/>
            <a:ext cx="354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importancia para el cliente y rápida evolución tecnológica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Alto valor estratégico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Candidato a in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83480" y="316224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32320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Insourcing es indicado en áreas de ventaja só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8200" y="3933720"/>
            <a:ext cx="75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40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14972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Tiene que haber oferta disponible y capaz para outsoru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45813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4920" y="452916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modularidad facilita exter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4364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ipos de decisione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5184720" cy="253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pacidad de prove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6129000" y="3789360"/>
            <a:ext cx="30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ing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anza/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in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4320000" y="4545720"/>
            <a:ext cx="792360" cy="863640"/>
          </a:xfrm>
          <a:custGeom>
            <a:avLst/>
            <a:gdLst>
              <a:gd name="textAreaLeft" fmla="*/ 264240 w 792360"/>
              <a:gd name="textAreaRight" fmla="*/ 678600 w 79236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80000" y="3933720"/>
            <a:ext cx="360360" cy="215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visando la cadena de valor con dos criter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l valor estratégico (S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 valor económico agregado (E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627280" y="31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7280" y="595008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68560" y="438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1640" y="6113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1636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365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69280" y="3592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alan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67840" y="49608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56920" y="3592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0" y="4941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íntesi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92360" y="213372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465300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65640" y="244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4360" y="496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2349360"/>
            <a:ext cx="431640" cy="2808360"/>
          </a:xfrm>
          <a:custGeom>
            <a:avLst/>
            <a:gdLst>
              <a:gd name="textAreaLeft" fmla="*/ 0 w 431640"/>
              <a:gd name="textAreaRight" fmla="*/ 15588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50360" y="3592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54240" y="31417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e modelo fue desarrollado para la General Mo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lind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ponentes maduras en las que GM no era líder en costo total, se externalizar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de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ferta amplia y capaz de mercado es clave para externalizar. Cuando no la hay la GM la desarro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o altamente integ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nufactura mod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 de evacuación incluyendo el convertidor catálitico, sensores de oxigeno, sistema de inyección de ai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formance afecta emisiones y aceleración, por lo que afecta a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mento clave es el sensor, que evoluciona rápido bajo fuerte regulación gubernamen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ición competitiva de GM es fue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ingún proveedor con capacidad integral en 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ma mod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ndidato natural al insourcing, con cuidado especial de conservar y desarrollar los activos asoc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sos famos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BM decide a comienzos de los 80 externalizar la manufactura de microprocesadores para su primer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Eran los mayores fabricantes, aunque no tenían el requerido para este tipo de computad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mportancia para el cliente se consideró baja, lo que aconsejo el outsourc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n embarg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olución tecnológica b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restringida de proveedores (Intel, A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alla en detectar la potencia modular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reguemos el desarrollo de Wind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Reultado: La combinación WINTEL destruyó completamente las ventajas de IBM y generó un mercado de clones varias veces may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UNILEVE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ción de shampoo de 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y importante el manejo de marca, sin embargo los clientes no perciben quien ensam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 de mezcla no es tecnológicamente de evolución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s de competitividad pequeñ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a base de proveedores habili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mod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ización de la producción del shampo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 desconocido valor de NAPST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lataforma de compartición de música con modelo P2P, usada por decenas de millones de personas en 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IAA: Asociación de Casas Discografica demandó y cerró Nap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de la perspectiva del análisis de la cadena de valor, la decisión no parece ser ta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sividad de Napster era un conducto ideal para mantener algún nivel de control de la distribución de música en lín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identidad como el centro natural de compartición de música era validado por los consumi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vez de destruirla algún tipo de alianza habría sido más efec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sultado: Miles de sitios similares distribuidos y que surgen diariamente mantienen y ha aumentado la amenaza sobre la industria, sin que sea posible controlar y con poca eficacia en el canal leg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n el caso de la industria de los salmone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- Jaulas para peces</a:t>
            </a:r>
            <a:br>
              <a:rPr sz="2800"/>
            </a:b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70102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ortancia para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pacidad de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12T13:48:29Z</dcterms:modified>
  <cp:revision>62</cp:revision>
  <dc:subject/>
  <dc:title>Diapositiva 1</dc:title>
</cp:coreProperties>
</file>