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5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16.wmf" ContentType="image/x-wmf"/>
  <Override PartName="/ppt/media/image6.jpeg" ContentType="image/jpeg"/>
  <Override PartName="/ppt/media/image5.wmf" ContentType="image/x-wmf"/>
  <Override PartName="/ppt/media/image10.png" ContentType="image/png"/>
  <Override PartName="/ppt/media/image28.wmf" ContentType="image/x-wmf"/>
  <Override PartName="/ppt/media/image11.png" ContentType="image/png"/>
  <Override PartName="/ppt/media/image4.wmf" ContentType="image/x-wmf"/>
  <Override PartName="/ppt/media/image3.png" ContentType="image/png"/>
  <Override PartName="/ppt/media/image17.jpeg" ContentType="image/jpeg"/>
  <Override PartName="/ppt/media/image26.png" ContentType="image/png"/>
  <Override PartName="/ppt/media/image29.png" ContentType="image/png"/>
  <Override PartName="/ppt/media/image27.png" ContentType="image/png"/>
  <Override PartName="/ppt/media/image15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20.png" ContentType="image/png"/>
  <Override PartName="/ppt/media/image18.jpeg" ContentType="image/jpeg"/>
  <Override PartName="/ppt/media/image19.wmf" ContentType="image/x-wmf"/>
  <Override PartName="/ppt/media/image14.png" ContentType="image/png"/>
  <Override PartName="/ppt/media/image24.png" ContentType="image/png"/>
  <Override PartName="/ppt/media/image1.png" ContentType="image/pn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Click to move the slide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0789B-789C-422D-A1A6-A65B89DF5C16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70200" cy="3427560"/>
          </a:xfrm>
          <a:prstGeom prst="rect">
            <a:avLst/>
          </a:prstGeom>
          <a:ln w="0">
            <a:noFill/>
          </a:ln>
        </p:spPr>
      </p:sp>
      <p:sp>
        <p:nvSpPr>
          <p:cNvPr id="1109" name="PlaceHolder 2"/>
          <p:cNvSpPr>
            <a:spLocks noGrp="1"/>
          </p:cNvSpPr>
          <p:nvPr>
            <p:ph type="body"/>
          </p:nvPr>
        </p:nvSpPr>
        <p:spPr>
          <a:xfrm>
            <a:off x="684360" y="4341960"/>
            <a:ext cx="5489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This is an article where HP launches a new Server to the marke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See the title... Logistics, Tariffs guide decisions to spread productions around. (go through the slid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Think about how many products are launched by your company (either you are manufacturer or distributor) and the opportunities but also the complexities of operating in a global supply chain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n order to summarize the main supply chain challenges lets look at the same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Supply-Chain Council was organized in 1996 by Pittiglio Rabin Todd &amp; McGrath (PRTM) and AMR Research, and initially included 69 voluntary member companies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pply-Chain Council now has closer to 1,000 corporate members world-wide and has established international chapters in North America, Europe, Greater China, Japan, Australia/New Zealand, South East Asia, Brazil and Southern Africa.  Development of additional chapters in India and South America are underway.   The Supply-Chain Council's membership consists primarily practitioners representing a broad cross section of industries, including manufacturers, services, distributors, and retailers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en es Supply Chain Counci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independent, not-for-profit, global corporation with membership open to all companies and organizations interested in applying and advancing the state-of-the-art in supply-chain management systems and practices, the Council is interested in providing the widest possible dissemination of the SCOR Mod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sldImg"/>
          </p:nvPr>
        </p:nvSpPr>
        <p:spPr>
          <a:xfrm>
            <a:off x="1098720" y="676440"/>
            <a:ext cx="4603680" cy="3452760"/>
          </a:xfrm>
          <a:prstGeom prst="rect">
            <a:avLst/>
          </a:prstGeom>
          <a:ln w="0">
            <a:noFill/>
          </a:ln>
        </p:spPr>
      </p:sp>
      <p:sp>
        <p:nvSpPr>
          <p:cNvPr id="1113" name="PlaceHolder 2"/>
          <p:cNvSpPr>
            <a:spLocks noGrp="1"/>
          </p:cNvSpPr>
          <p:nvPr>
            <p:ph type="body"/>
          </p:nvPr>
        </p:nvSpPr>
        <p:spPr>
          <a:xfrm>
            <a:off x="896760" y="4354560"/>
            <a:ext cx="5081760" cy="41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Descomposicion de actividades alto valor añadido en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sldImg"/>
          </p:nvPr>
        </p:nvSpPr>
        <p:spPr>
          <a:xfrm>
            <a:off x="1098720" y="676440"/>
            <a:ext cx="4603680" cy="3452760"/>
          </a:xfrm>
          <a:prstGeom prst="rect">
            <a:avLst/>
          </a:prstGeom>
          <a:ln w="0">
            <a:noFill/>
          </a:ln>
        </p:spPr>
      </p:sp>
      <p:sp>
        <p:nvSpPr>
          <p:cNvPr id="1115" name="PlaceHolder 2"/>
          <p:cNvSpPr>
            <a:spLocks noGrp="1"/>
          </p:cNvSpPr>
          <p:nvPr>
            <p:ph type="body"/>
          </p:nvPr>
        </p:nvSpPr>
        <p:spPr>
          <a:xfrm>
            <a:off x="896760" y="4354560"/>
            <a:ext cx="5081760" cy="41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Aunque el ERP es necesario no esta diseñado para poder cubrir los nuevos retos y necesidades de las cadenas de suminist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Optimización del transpor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Planificación a capacidad fini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Practicas avanzadas de distribu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ntornos colaborativos multiempres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Diseño de redes logistic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533D-623B-4D6B-B522-A4A3C14D8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657C-6D3B-45CF-A1B8-18EEC0003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91F4-5F9C-4C92-9482-D2DA04CC3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E77E-514C-4399-ACBC-2F687907C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026DC-B5C6-464C-AE1A-BD40720DA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AC80D-4D7B-4389-A0D5-F720273AA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D3859-B8B8-43CC-BF8F-12F712B6F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32F84-53BD-4261-B616-0F40F277A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81C1B-D0B7-43D5-BBD7-0F52379E8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1332000" y="476280"/>
            <a:ext cx="7488000" cy="133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ECF29-8CE2-404A-954C-C6398EF99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253CB-18C7-43B8-8247-E4D89061B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8A5C-110D-4270-8146-9C0BAB438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248F7-E8B2-4A83-B12A-4C6798C00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F36EE-A8D8-4B14-A238-190CD64A3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52C76-0DAB-4A3F-A51D-B2FC49F68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78C4E-3F7D-4266-9694-1960CDE9D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F27E5-9C74-4BC1-81BA-5E0B190B8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431C-328D-44E3-8C49-4CCB49B6E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C776-364F-4CD8-BF8D-4B253820E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AC25-B33F-44D8-B28D-B2615B557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1332000" y="476280"/>
            <a:ext cx="7488000" cy="133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62AA-969D-4BD7-86F1-83ABB2ABF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F928-56A8-4D8C-BD90-6E89A08EB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860C-EAFA-4CAE-A8B0-B96A2F083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3FA0-021E-4DD4-BBA2-BD7093F4C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19C40-F459-421B-A6E4-BE034F8556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62080" y="87480"/>
            <a:ext cx="8488080" cy="1037520"/>
            <a:chOff x="262080" y="87480"/>
            <a:chExt cx="8488080" cy="1037520"/>
          </a:xfrm>
        </p:grpSpPr>
        <p:grpSp>
          <p:nvGrpSpPr>
            <p:cNvPr id="5" name=""/>
            <p:cNvGrpSpPr/>
            <p:nvPr/>
          </p:nvGrpSpPr>
          <p:grpSpPr>
            <a:xfrm>
              <a:off x="1054080" y="184320"/>
              <a:ext cx="7696080" cy="855360"/>
              <a:chOff x="1054080" y="184320"/>
              <a:chExt cx="7696080" cy="855360"/>
            </a:xfrm>
          </p:grpSpPr>
          <p:sp>
            <p:nvSpPr>
              <p:cNvPr id="6" name=""/>
              <p:cNvSpPr/>
              <p:nvPr/>
            </p:nvSpPr>
            <p:spPr>
              <a:xfrm>
                <a:off x="1054080" y="184320"/>
                <a:ext cx="7696080" cy="85536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8"/>
                    </a:moveTo>
                    <a:lnTo>
                      <a:pt x="4848" y="432"/>
                    </a:lnTo>
                    <a:cubicBezTo>
                      <a:pt x="4848" y="432"/>
                      <a:pt x="2424" y="432"/>
                      <a:pt x="0" y="432"/>
                    </a:cubicBezTo>
                    <a:cubicBezTo>
                      <a:pt x="161" y="345"/>
                      <a:pt x="169" y="61"/>
                      <a:pt x="0" y="0"/>
                    </a:cubicBezTo>
                    <a:cubicBezTo>
                      <a:pt x="2424" y="0"/>
                      <a:pt x="4848" y="0"/>
                      <a:pt x="4848" y="0"/>
                    </a:cubicBezTo>
                    <a:lnTo>
                      <a:pt x="4848" y="48"/>
                    </a:lnTo>
                    <a:close/>
                  </a:path>
                </a:pathLst>
              </a:custGeom>
              <a:solidFill>
                <a:srgbClr val="e5d09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" name=""/>
              <p:cNvGrpSpPr/>
              <p:nvPr/>
            </p:nvGrpSpPr>
            <p:grpSpPr>
              <a:xfrm>
                <a:off x="1897200" y="184320"/>
                <a:ext cx="6075360" cy="848520"/>
                <a:chOff x="1897200" y="184320"/>
                <a:chExt cx="6075360" cy="848520"/>
              </a:xfrm>
            </p:grpSpPr>
            <p:grpSp>
              <p:nvGrpSpPr>
                <p:cNvPr id="8" name=""/>
                <p:cNvGrpSpPr/>
                <p:nvPr/>
              </p:nvGrpSpPr>
              <p:grpSpPr>
                <a:xfrm>
                  <a:off x="1897200" y="186480"/>
                  <a:ext cx="3505320" cy="844560"/>
                  <a:chOff x="1897200" y="186480"/>
                  <a:chExt cx="3505320" cy="844560"/>
                </a:xfrm>
              </p:grpSpPr>
              <p:sp>
                <p:nvSpPr>
                  <p:cNvPr id="9" name=""/>
                  <p:cNvSpPr/>
                  <p:nvPr/>
                </p:nvSpPr>
                <p:spPr>
                  <a:xfrm>
                    <a:off x="3859560" y="961560"/>
                    <a:ext cx="111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23">
                        <a:moveTo>
                          <a:pt x="5" y="11"/>
                        </a:moveTo>
                        <a:cubicBezTo>
                          <a:pt x="2" y="1"/>
                          <a:pt x="7" y="0"/>
                          <a:pt x="15" y="5"/>
                        </a:cubicBezTo>
                        <a:cubicBezTo>
                          <a:pt x="14" y="9"/>
                          <a:pt x="15" y="13"/>
                          <a:pt x="13" y="17"/>
                        </a:cubicBezTo>
                        <a:cubicBezTo>
                          <a:pt x="9" y="23"/>
                          <a:pt x="0" y="16"/>
                          <a:pt x="5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" name=""/>
                  <p:cNvSpPr/>
                  <p:nvPr/>
                </p:nvSpPr>
                <p:spPr>
                  <a:xfrm>
                    <a:off x="3978360" y="1014840"/>
                    <a:ext cx="1440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3">
                        <a:moveTo>
                          <a:pt x="3" y="13"/>
                        </a:moveTo>
                        <a:cubicBezTo>
                          <a:pt x="0" y="5"/>
                          <a:pt x="2" y="0"/>
                          <a:pt x="11" y="3"/>
                        </a:cubicBezTo>
                        <a:cubicBezTo>
                          <a:pt x="16" y="10"/>
                          <a:pt x="20" y="23"/>
                          <a:pt x="7" y="19"/>
                        </a:cubicBezTo>
                        <a:cubicBezTo>
                          <a:pt x="6" y="17"/>
                          <a:pt x="3" y="13"/>
                          <a:pt x="3" y="1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>
                    <a:off x="3642120" y="928080"/>
                    <a:ext cx="20520" cy="2772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>
                    <a:off x="3399120" y="954000"/>
                    <a:ext cx="1728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>
                    <a:off x="3326040" y="965520"/>
                    <a:ext cx="4464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>
                    <a:off x="3279960" y="963720"/>
                    <a:ext cx="4608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>
                    <a:off x="3030840" y="791640"/>
                    <a:ext cx="239760" cy="18360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" name=""/>
                  <p:cNvSpPr/>
                  <p:nvPr/>
                </p:nvSpPr>
                <p:spPr>
                  <a:xfrm>
                    <a:off x="3177000" y="779760"/>
                    <a:ext cx="106200" cy="13428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>
                    <a:off x="3279960" y="840960"/>
                    <a:ext cx="74520" cy="259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880" bIns="-208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" name=""/>
                  <p:cNvSpPr/>
                  <p:nvPr/>
                </p:nvSpPr>
                <p:spPr>
                  <a:xfrm>
                    <a:off x="3276720" y="872640"/>
                    <a:ext cx="50760" cy="669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0160" bIns="20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" name=""/>
                  <p:cNvSpPr/>
                  <p:nvPr/>
                </p:nvSpPr>
                <p:spPr>
                  <a:xfrm>
                    <a:off x="3362760" y="835200"/>
                    <a:ext cx="25200" cy="3924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560" bIns="-75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>
                    <a:off x="3368880" y="896400"/>
                    <a:ext cx="3168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" name=""/>
                  <p:cNvSpPr/>
                  <p:nvPr/>
                </p:nvSpPr>
                <p:spPr>
                  <a:xfrm>
                    <a:off x="3402360" y="866880"/>
                    <a:ext cx="410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3320" bIns="-13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" name=""/>
                  <p:cNvSpPr/>
                  <p:nvPr/>
                </p:nvSpPr>
                <p:spPr>
                  <a:xfrm>
                    <a:off x="3413520" y="882720"/>
                    <a:ext cx="193680" cy="12060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>
                    <a:off x="3581640" y="894240"/>
                    <a:ext cx="52560" cy="5148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" bIns="4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" name=""/>
                  <p:cNvSpPr/>
                  <p:nvPr/>
                </p:nvSpPr>
                <p:spPr>
                  <a:xfrm>
                    <a:off x="3692880" y="785880"/>
                    <a:ext cx="1260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" name=""/>
                  <p:cNvSpPr/>
                  <p:nvPr/>
                </p:nvSpPr>
                <p:spPr>
                  <a:xfrm>
                    <a:off x="3759480" y="864720"/>
                    <a:ext cx="1728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2">
                        <a:moveTo>
                          <a:pt x="8" y="14"/>
                        </a:moveTo>
                        <a:cubicBezTo>
                          <a:pt x="5" y="6"/>
                          <a:pt x="5" y="3"/>
                          <a:pt x="14" y="0"/>
                        </a:cubicBezTo>
                        <a:cubicBezTo>
                          <a:pt x="26" y="4"/>
                          <a:pt x="23" y="16"/>
                          <a:pt x="14" y="22"/>
                        </a:cubicBezTo>
                        <a:cubicBezTo>
                          <a:pt x="0" y="17"/>
                          <a:pt x="13" y="3"/>
                          <a:pt x="8" y="1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>
                    <a:off x="3545280" y="686520"/>
                    <a:ext cx="1260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" name=""/>
                  <p:cNvSpPr/>
                  <p:nvPr/>
                </p:nvSpPr>
                <p:spPr>
                  <a:xfrm>
                    <a:off x="3432600" y="770040"/>
                    <a:ext cx="1260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" name=""/>
                  <p:cNvSpPr/>
                  <p:nvPr/>
                </p:nvSpPr>
                <p:spPr>
                  <a:xfrm>
                    <a:off x="3308760" y="744120"/>
                    <a:ext cx="54000" cy="532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>
                    <a:off x="3291120" y="631440"/>
                    <a:ext cx="63360" cy="11484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" name=""/>
                  <p:cNvSpPr/>
                  <p:nvPr/>
                </p:nvSpPr>
                <p:spPr>
                  <a:xfrm>
                    <a:off x="3306960" y="714240"/>
                    <a:ext cx="2232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3320" bIns="-13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" name=""/>
                  <p:cNvSpPr/>
                  <p:nvPr/>
                </p:nvSpPr>
                <p:spPr>
                  <a:xfrm>
                    <a:off x="3262680" y="722520"/>
                    <a:ext cx="2988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3320" bIns="-13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>
                    <a:off x="4927680" y="676800"/>
                    <a:ext cx="474840" cy="354240"/>
                  </a:xfrm>
                  <a:custGeom>
                    <a:avLst/>
                    <a:gdLst/>
                    <a:ahLst/>
                    <a:rect l="l" t="t" r="r" b="b"/>
                    <a:pathLst>
                      <a:path w="471" h="281">
                        <a:moveTo>
                          <a:pt x="21" y="280"/>
                        </a:moveTo>
                        <a:cubicBezTo>
                          <a:pt x="32" y="281"/>
                          <a:pt x="25" y="253"/>
                          <a:pt x="24" y="250"/>
                        </a:cubicBezTo>
                        <a:cubicBezTo>
                          <a:pt x="23" y="248"/>
                          <a:pt x="22" y="245"/>
                          <a:pt x="22" y="245"/>
                        </a:cubicBezTo>
                        <a:cubicBezTo>
                          <a:pt x="21" y="243"/>
                          <a:pt x="20" y="221"/>
                          <a:pt x="16" y="218"/>
                        </a:cubicBezTo>
                        <a:cubicBezTo>
                          <a:pt x="13" y="216"/>
                          <a:pt x="4" y="215"/>
                          <a:pt x="4" y="215"/>
                        </a:cubicBezTo>
                        <a:cubicBezTo>
                          <a:pt x="0" y="207"/>
                          <a:pt x="3" y="200"/>
                          <a:pt x="0" y="191"/>
                        </a:cubicBezTo>
                        <a:cubicBezTo>
                          <a:pt x="2" y="185"/>
                          <a:pt x="7" y="186"/>
                          <a:pt x="12" y="180"/>
                        </a:cubicBezTo>
                        <a:cubicBezTo>
                          <a:pt x="14" y="172"/>
                          <a:pt x="14" y="169"/>
                          <a:pt x="6" y="165"/>
                        </a:cubicBezTo>
                        <a:cubicBezTo>
                          <a:pt x="4" y="163"/>
                          <a:pt x="2" y="162"/>
                          <a:pt x="2" y="160"/>
                        </a:cubicBezTo>
                        <a:cubicBezTo>
                          <a:pt x="2" y="150"/>
                          <a:pt x="16" y="123"/>
                          <a:pt x="28" y="120"/>
                        </a:cubicBezTo>
                        <a:cubicBezTo>
                          <a:pt x="32" y="111"/>
                          <a:pt x="40" y="105"/>
                          <a:pt x="44" y="96"/>
                        </a:cubicBezTo>
                        <a:cubicBezTo>
                          <a:pt x="39" y="83"/>
                          <a:pt x="38" y="85"/>
                          <a:pt x="42" y="70"/>
                        </a:cubicBezTo>
                        <a:cubicBezTo>
                          <a:pt x="38" y="60"/>
                          <a:pt x="34" y="48"/>
                          <a:pt x="24" y="43"/>
                        </a:cubicBezTo>
                        <a:cubicBezTo>
                          <a:pt x="18" y="36"/>
                          <a:pt x="10" y="37"/>
                          <a:pt x="20" y="32"/>
                        </a:cubicBezTo>
                        <a:cubicBezTo>
                          <a:pt x="27" y="34"/>
                          <a:pt x="26" y="32"/>
                          <a:pt x="26" y="36"/>
                        </a:cubicBezTo>
                        <a:cubicBezTo>
                          <a:pt x="34" y="41"/>
                          <a:pt x="39" y="39"/>
                          <a:pt x="48" y="35"/>
                        </a:cubicBezTo>
                        <a:cubicBezTo>
                          <a:pt x="45" y="22"/>
                          <a:pt x="48" y="14"/>
                          <a:pt x="64" y="11"/>
                        </a:cubicBezTo>
                        <a:cubicBezTo>
                          <a:pt x="71" y="8"/>
                          <a:pt x="75" y="3"/>
                          <a:pt x="82" y="0"/>
                        </a:cubicBezTo>
                        <a:cubicBezTo>
                          <a:pt x="84" y="1"/>
                          <a:pt x="88" y="0"/>
                          <a:pt x="88" y="2"/>
                        </a:cubicBezTo>
                        <a:cubicBezTo>
                          <a:pt x="90" y="12"/>
                          <a:pt x="75" y="13"/>
                          <a:pt x="92" y="9"/>
                        </a:cubicBezTo>
                        <a:cubicBezTo>
                          <a:pt x="94" y="8"/>
                          <a:pt x="96" y="5"/>
                          <a:pt x="98" y="5"/>
                        </a:cubicBezTo>
                        <a:cubicBezTo>
                          <a:pt x="102" y="4"/>
                          <a:pt x="106" y="7"/>
                          <a:pt x="110" y="8"/>
                        </a:cubicBezTo>
                        <a:cubicBezTo>
                          <a:pt x="112" y="8"/>
                          <a:pt x="116" y="9"/>
                          <a:pt x="116" y="9"/>
                        </a:cubicBezTo>
                        <a:cubicBezTo>
                          <a:pt x="122" y="16"/>
                          <a:pt x="129" y="13"/>
                          <a:pt x="141" y="14"/>
                        </a:cubicBezTo>
                        <a:cubicBezTo>
                          <a:pt x="143" y="21"/>
                          <a:pt x="147" y="22"/>
                          <a:pt x="155" y="24"/>
                        </a:cubicBezTo>
                        <a:cubicBezTo>
                          <a:pt x="159" y="22"/>
                          <a:pt x="163" y="20"/>
                          <a:pt x="167" y="17"/>
                        </a:cubicBezTo>
                        <a:cubicBezTo>
                          <a:pt x="169" y="16"/>
                          <a:pt x="173" y="14"/>
                          <a:pt x="173" y="14"/>
                        </a:cubicBezTo>
                        <a:cubicBezTo>
                          <a:pt x="195" y="26"/>
                          <a:pt x="175" y="20"/>
                          <a:pt x="195" y="14"/>
                        </a:cubicBezTo>
                        <a:cubicBezTo>
                          <a:pt x="207" y="17"/>
                          <a:pt x="201" y="26"/>
                          <a:pt x="211" y="32"/>
                        </a:cubicBezTo>
                        <a:cubicBezTo>
                          <a:pt x="214" y="38"/>
                          <a:pt x="224" y="55"/>
                          <a:pt x="231" y="59"/>
                        </a:cubicBezTo>
                        <a:cubicBezTo>
                          <a:pt x="241" y="70"/>
                          <a:pt x="235" y="67"/>
                          <a:pt x="245" y="70"/>
                        </a:cubicBezTo>
                        <a:cubicBezTo>
                          <a:pt x="249" y="69"/>
                          <a:pt x="253" y="69"/>
                          <a:pt x="257" y="68"/>
                        </a:cubicBezTo>
                        <a:cubicBezTo>
                          <a:pt x="261" y="67"/>
                          <a:pt x="270" y="65"/>
                          <a:pt x="270" y="65"/>
                        </a:cubicBezTo>
                        <a:cubicBezTo>
                          <a:pt x="278" y="66"/>
                          <a:pt x="283" y="67"/>
                          <a:pt x="290" y="71"/>
                        </a:cubicBezTo>
                        <a:cubicBezTo>
                          <a:pt x="304" y="88"/>
                          <a:pt x="282" y="62"/>
                          <a:pt x="300" y="81"/>
                        </a:cubicBezTo>
                        <a:cubicBezTo>
                          <a:pt x="302" y="84"/>
                          <a:pt x="308" y="90"/>
                          <a:pt x="308" y="90"/>
                        </a:cubicBezTo>
                        <a:cubicBezTo>
                          <a:pt x="311" y="98"/>
                          <a:pt x="315" y="103"/>
                          <a:pt x="318" y="111"/>
                        </a:cubicBezTo>
                        <a:cubicBezTo>
                          <a:pt x="319" y="114"/>
                          <a:pt x="321" y="117"/>
                          <a:pt x="322" y="120"/>
                        </a:cubicBezTo>
                        <a:cubicBezTo>
                          <a:pt x="323" y="122"/>
                          <a:pt x="324" y="125"/>
                          <a:pt x="324" y="125"/>
                        </a:cubicBezTo>
                        <a:cubicBezTo>
                          <a:pt x="321" y="132"/>
                          <a:pt x="313" y="134"/>
                          <a:pt x="310" y="142"/>
                        </a:cubicBezTo>
                        <a:cubicBezTo>
                          <a:pt x="313" y="151"/>
                          <a:pt x="317" y="146"/>
                          <a:pt x="322" y="141"/>
                        </a:cubicBezTo>
                        <a:cubicBezTo>
                          <a:pt x="341" y="143"/>
                          <a:pt x="339" y="142"/>
                          <a:pt x="342" y="155"/>
                        </a:cubicBezTo>
                        <a:cubicBezTo>
                          <a:pt x="351" y="150"/>
                          <a:pt x="355" y="152"/>
                          <a:pt x="364" y="157"/>
                        </a:cubicBezTo>
                        <a:cubicBezTo>
                          <a:pt x="369" y="162"/>
                          <a:pt x="372" y="166"/>
                          <a:pt x="380" y="168"/>
                        </a:cubicBezTo>
                        <a:cubicBezTo>
                          <a:pt x="381" y="169"/>
                          <a:pt x="383" y="171"/>
                          <a:pt x="382" y="172"/>
                        </a:cubicBezTo>
                        <a:cubicBezTo>
                          <a:pt x="380" y="176"/>
                          <a:pt x="368" y="172"/>
                          <a:pt x="382" y="176"/>
                        </a:cubicBezTo>
                        <a:cubicBezTo>
                          <a:pt x="386" y="175"/>
                          <a:pt x="390" y="173"/>
                          <a:pt x="394" y="172"/>
                        </a:cubicBezTo>
                        <a:cubicBezTo>
                          <a:pt x="396" y="172"/>
                          <a:pt x="400" y="171"/>
                          <a:pt x="400" y="171"/>
                        </a:cubicBezTo>
                        <a:cubicBezTo>
                          <a:pt x="413" y="177"/>
                          <a:pt x="427" y="179"/>
                          <a:pt x="439" y="185"/>
                        </a:cubicBezTo>
                        <a:cubicBezTo>
                          <a:pt x="441" y="190"/>
                          <a:pt x="445" y="194"/>
                          <a:pt x="447" y="199"/>
                        </a:cubicBezTo>
                        <a:cubicBezTo>
                          <a:pt x="453" y="198"/>
                          <a:pt x="460" y="195"/>
                          <a:pt x="465" y="201"/>
                        </a:cubicBezTo>
                        <a:cubicBezTo>
                          <a:pt x="468" y="205"/>
                          <a:pt x="471" y="215"/>
                          <a:pt x="471" y="215"/>
                        </a:cubicBezTo>
                        <a:cubicBezTo>
                          <a:pt x="468" y="231"/>
                          <a:pt x="469" y="248"/>
                          <a:pt x="451" y="258"/>
                        </a:cubicBezTo>
                        <a:cubicBezTo>
                          <a:pt x="447" y="262"/>
                          <a:pt x="437" y="275"/>
                          <a:pt x="435" y="281"/>
                        </a:cubicBezTo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" name=""/>
                  <p:cNvSpPr/>
                  <p:nvPr/>
                </p:nvSpPr>
                <p:spPr>
                  <a:xfrm>
                    <a:off x="4299120" y="187920"/>
                    <a:ext cx="666720" cy="559800"/>
                  </a:xfrm>
                  <a:custGeom>
                    <a:avLst/>
                    <a:gdLst/>
                    <a:ahLst/>
                    <a:rect l="l" t="t" r="r" b="b"/>
                    <a:pathLst>
                      <a:path w="984" h="844">
                        <a:moveTo>
                          <a:pt x="82" y="38"/>
                        </a:moveTo>
                        <a:lnTo>
                          <a:pt x="406" y="6"/>
                        </a:lnTo>
                        <a:cubicBezTo>
                          <a:pt x="497" y="22"/>
                          <a:pt x="465" y="0"/>
                          <a:pt x="474" y="54"/>
                        </a:cubicBezTo>
                        <a:cubicBezTo>
                          <a:pt x="492" y="48"/>
                          <a:pt x="484" y="40"/>
                          <a:pt x="502" y="34"/>
                        </a:cubicBezTo>
                        <a:cubicBezTo>
                          <a:pt x="510" y="37"/>
                          <a:pt x="517" y="46"/>
                          <a:pt x="526" y="46"/>
                        </a:cubicBezTo>
                        <a:cubicBezTo>
                          <a:pt x="534" y="46"/>
                          <a:pt x="550" y="38"/>
                          <a:pt x="550" y="38"/>
                        </a:cubicBezTo>
                        <a:cubicBezTo>
                          <a:pt x="556" y="55"/>
                          <a:pt x="552" y="60"/>
                          <a:pt x="542" y="74"/>
                        </a:cubicBezTo>
                        <a:cubicBezTo>
                          <a:pt x="555" y="114"/>
                          <a:pt x="550" y="102"/>
                          <a:pt x="578" y="130"/>
                        </a:cubicBezTo>
                        <a:cubicBezTo>
                          <a:pt x="584" y="148"/>
                          <a:pt x="590" y="148"/>
                          <a:pt x="606" y="138"/>
                        </a:cubicBezTo>
                        <a:cubicBezTo>
                          <a:pt x="600" y="119"/>
                          <a:pt x="594" y="107"/>
                          <a:pt x="586" y="90"/>
                        </a:cubicBezTo>
                        <a:cubicBezTo>
                          <a:pt x="583" y="82"/>
                          <a:pt x="578" y="66"/>
                          <a:pt x="578" y="66"/>
                        </a:cubicBezTo>
                        <a:cubicBezTo>
                          <a:pt x="585" y="44"/>
                          <a:pt x="597" y="56"/>
                          <a:pt x="606" y="70"/>
                        </a:cubicBezTo>
                        <a:cubicBezTo>
                          <a:pt x="609" y="86"/>
                          <a:pt x="608" y="117"/>
                          <a:pt x="626" y="90"/>
                        </a:cubicBezTo>
                        <a:cubicBezTo>
                          <a:pt x="648" y="97"/>
                          <a:pt x="646" y="104"/>
                          <a:pt x="642" y="126"/>
                        </a:cubicBezTo>
                        <a:cubicBezTo>
                          <a:pt x="650" y="150"/>
                          <a:pt x="665" y="141"/>
                          <a:pt x="682" y="130"/>
                        </a:cubicBezTo>
                        <a:cubicBezTo>
                          <a:pt x="689" y="108"/>
                          <a:pt x="673" y="124"/>
                          <a:pt x="682" y="98"/>
                        </a:cubicBezTo>
                        <a:cubicBezTo>
                          <a:pt x="683" y="94"/>
                          <a:pt x="690" y="96"/>
                          <a:pt x="694" y="94"/>
                        </a:cubicBezTo>
                        <a:cubicBezTo>
                          <a:pt x="698" y="92"/>
                          <a:pt x="702" y="89"/>
                          <a:pt x="706" y="86"/>
                        </a:cubicBezTo>
                        <a:cubicBezTo>
                          <a:pt x="717" y="54"/>
                          <a:pt x="688" y="54"/>
                          <a:pt x="742" y="46"/>
                        </a:cubicBezTo>
                        <a:cubicBezTo>
                          <a:pt x="748" y="27"/>
                          <a:pt x="741" y="9"/>
                          <a:pt x="762" y="2"/>
                        </a:cubicBezTo>
                        <a:cubicBezTo>
                          <a:pt x="788" y="11"/>
                          <a:pt x="777" y="38"/>
                          <a:pt x="802" y="46"/>
                        </a:cubicBezTo>
                        <a:cubicBezTo>
                          <a:pt x="831" y="36"/>
                          <a:pt x="805" y="63"/>
                          <a:pt x="798" y="70"/>
                        </a:cubicBezTo>
                        <a:cubicBezTo>
                          <a:pt x="789" y="96"/>
                          <a:pt x="787" y="96"/>
                          <a:pt x="802" y="118"/>
                        </a:cubicBezTo>
                        <a:cubicBezTo>
                          <a:pt x="801" y="122"/>
                          <a:pt x="801" y="127"/>
                          <a:pt x="798" y="130"/>
                        </a:cubicBezTo>
                        <a:cubicBezTo>
                          <a:pt x="794" y="133"/>
                          <a:pt x="784" y="129"/>
                          <a:pt x="782" y="134"/>
                        </a:cubicBezTo>
                        <a:cubicBezTo>
                          <a:pt x="780" y="142"/>
                          <a:pt x="790" y="158"/>
                          <a:pt x="790" y="158"/>
                        </a:cubicBezTo>
                        <a:cubicBezTo>
                          <a:pt x="786" y="161"/>
                          <a:pt x="783" y="165"/>
                          <a:pt x="778" y="166"/>
                        </a:cubicBezTo>
                        <a:cubicBezTo>
                          <a:pt x="774" y="167"/>
                          <a:pt x="769" y="159"/>
                          <a:pt x="766" y="162"/>
                        </a:cubicBezTo>
                        <a:cubicBezTo>
                          <a:pt x="758" y="170"/>
                          <a:pt x="794" y="182"/>
                          <a:pt x="794" y="182"/>
                        </a:cubicBezTo>
                        <a:cubicBezTo>
                          <a:pt x="804" y="211"/>
                          <a:pt x="775" y="190"/>
                          <a:pt x="762" y="186"/>
                        </a:cubicBezTo>
                        <a:cubicBezTo>
                          <a:pt x="767" y="194"/>
                          <a:pt x="773" y="202"/>
                          <a:pt x="778" y="210"/>
                        </a:cubicBezTo>
                        <a:cubicBezTo>
                          <a:pt x="783" y="218"/>
                          <a:pt x="802" y="226"/>
                          <a:pt x="802" y="226"/>
                        </a:cubicBezTo>
                        <a:cubicBezTo>
                          <a:pt x="813" y="242"/>
                          <a:pt x="804" y="245"/>
                          <a:pt x="810" y="262"/>
                        </a:cubicBezTo>
                        <a:cubicBezTo>
                          <a:pt x="803" y="282"/>
                          <a:pt x="793" y="301"/>
                          <a:pt x="786" y="322"/>
                        </a:cubicBezTo>
                        <a:cubicBezTo>
                          <a:pt x="783" y="330"/>
                          <a:pt x="778" y="346"/>
                          <a:pt x="778" y="346"/>
                        </a:cubicBezTo>
                        <a:cubicBezTo>
                          <a:pt x="785" y="366"/>
                          <a:pt x="817" y="394"/>
                          <a:pt x="830" y="414"/>
                        </a:cubicBezTo>
                        <a:cubicBezTo>
                          <a:pt x="835" y="422"/>
                          <a:pt x="841" y="430"/>
                          <a:pt x="846" y="438"/>
                        </a:cubicBezTo>
                        <a:cubicBezTo>
                          <a:pt x="849" y="442"/>
                          <a:pt x="854" y="450"/>
                          <a:pt x="854" y="450"/>
                        </a:cubicBezTo>
                        <a:cubicBezTo>
                          <a:pt x="853" y="457"/>
                          <a:pt x="855" y="466"/>
                          <a:pt x="850" y="470"/>
                        </a:cubicBezTo>
                        <a:cubicBezTo>
                          <a:pt x="844" y="475"/>
                          <a:pt x="831" y="451"/>
                          <a:pt x="830" y="450"/>
                        </a:cubicBezTo>
                        <a:cubicBezTo>
                          <a:pt x="811" y="431"/>
                          <a:pt x="789" y="421"/>
                          <a:pt x="774" y="398"/>
                        </a:cubicBezTo>
                        <a:cubicBezTo>
                          <a:pt x="769" y="379"/>
                          <a:pt x="766" y="371"/>
                          <a:pt x="746" y="378"/>
                        </a:cubicBezTo>
                        <a:cubicBezTo>
                          <a:pt x="717" y="368"/>
                          <a:pt x="730" y="368"/>
                          <a:pt x="706" y="374"/>
                        </a:cubicBezTo>
                        <a:cubicBezTo>
                          <a:pt x="688" y="402"/>
                          <a:pt x="699" y="395"/>
                          <a:pt x="678" y="402"/>
                        </a:cubicBezTo>
                        <a:cubicBezTo>
                          <a:pt x="654" y="386"/>
                          <a:pt x="650" y="390"/>
                          <a:pt x="618" y="394"/>
                        </a:cubicBezTo>
                        <a:cubicBezTo>
                          <a:pt x="607" y="411"/>
                          <a:pt x="601" y="426"/>
                          <a:pt x="590" y="442"/>
                        </a:cubicBezTo>
                        <a:cubicBezTo>
                          <a:pt x="600" y="471"/>
                          <a:pt x="593" y="459"/>
                          <a:pt x="606" y="478"/>
                        </a:cubicBezTo>
                        <a:cubicBezTo>
                          <a:pt x="593" y="518"/>
                          <a:pt x="622" y="548"/>
                          <a:pt x="642" y="578"/>
                        </a:cubicBezTo>
                        <a:cubicBezTo>
                          <a:pt x="651" y="591"/>
                          <a:pt x="651" y="601"/>
                          <a:pt x="666" y="606"/>
                        </a:cubicBezTo>
                        <a:cubicBezTo>
                          <a:pt x="680" y="627"/>
                          <a:pt x="691" y="623"/>
                          <a:pt x="710" y="610"/>
                        </a:cubicBezTo>
                        <a:cubicBezTo>
                          <a:pt x="729" y="616"/>
                          <a:pt x="729" y="606"/>
                          <a:pt x="734" y="590"/>
                        </a:cubicBezTo>
                        <a:cubicBezTo>
                          <a:pt x="735" y="577"/>
                          <a:pt x="731" y="562"/>
                          <a:pt x="738" y="550"/>
                        </a:cubicBezTo>
                        <a:cubicBezTo>
                          <a:pt x="742" y="543"/>
                          <a:pt x="762" y="542"/>
                          <a:pt x="762" y="542"/>
                        </a:cubicBezTo>
                        <a:cubicBezTo>
                          <a:pt x="783" y="547"/>
                          <a:pt x="786" y="552"/>
                          <a:pt x="774" y="570"/>
                        </a:cubicBezTo>
                        <a:cubicBezTo>
                          <a:pt x="779" y="590"/>
                          <a:pt x="790" y="605"/>
                          <a:pt x="770" y="618"/>
                        </a:cubicBezTo>
                        <a:cubicBezTo>
                          <a:pt x="769" y="622"/>
                          <a:pt x="764" y="626"/>
                          <a:pt x="766" y="630"/>
                        </a:cubicBezTo>
                        <a:cubicBezTo>
                          <a:pt x="768" y="634"/>
                          <a:pt x="775" y="634"/>
                          <a:pt x="778" y="638"/>
                        </a:cubicBezTo>
                        <a:cubicBezTo>
                          <a:pt x="788" y="651"/>
                          <a:pt x="786" y="660"/>
                          <a:pt x="802" y="670"/>
                        </a:cubicBezTo>
                        <a:cubicBezTo>
                          <a:pt x="810" y="667"/>
                          <a:pt x="818" y="665"/>
                          <a:pt x="826" y="662"/>
                        </a:cubicBezTo>
                        <a:cubicBezTo>
                          <a:pt x="830" y="661"/>
                          <a:pt x="838" y="658"/>
                          <a:pt x="838" y="658"/>
                        </a:cubicBezTo>
                        <a:cubicBezTo>
                          <a:pt x="857" y="664"/>
                          <a:pt x="864" y="680"/>
                          <a:pt x="870" y="698"/>
                        </a:cubicBezTo>
                        <a:cubicBezTo>
                          <a:pt x="859" y="731"/>
                          <a:pt x="887" y="794"/>
                          <a:pt x="922" y="806"/>
                        </a:cubicBezTo>
                        <a:cubicBezTo>
                          <a:pt x="938" y="801"/>
                          <a:pt x="941" y="792"/>
                          <a:pt x="958" y="798"/>
                        </a:cubicBezTo>
                        <a:cubicBezTo>
                          <a:pt x="984" y="837"/>
                          <a:pt x="928" y="784"/>
                          <a:pt x="942" y="826"/>
                        </a:cubicBezTo>
                        <a:cubicBezTo>
                          <a:pt x="936" y="844"/>
                          <a:pt x="930" y="844"/>
                          <a:pt x="914" y="834"/>
                        </a:cubicBezTo>
                        <a:cubicBezTo>
                          <a:pt x="903" y="817"/>
                          <a:pt x="890" y="821"/>
                          <a:pt x="874" y="810"/>
                        </a:cubicBezTo>
                        <a:cubicBezTo>
                          <a:pt x="851" y="776"/>
                          <a:pt x="882" y="816"/>
                          <a:pt x="854" y="794"/>
                        </a:cubicBezTo>
                        <a:cubicBezTo>
                          <a:pt x="843" y="785"/>
                          <a:pt x="840" y="768"/>
                          <a:pt x="830" y="758"/>
                        </a:cubicBezTo>
                        <a:cubicBezTo>
                          <a:pt x="824" y="739"/>
                          <a:pt x="817" y="724"/>
                          <a:pt x="798" y="718"/>
                        </a:cubicBezTo>
                        <a:cubicBezTo>
                          <a:pt x="791" y="696"/>
                          <a:pt x="800" y="712"/>
                          <a:pt x="778" y="710"/>
                        </a:cubicBezTo>
                        <a:cubicBezTo>
                          <a:pt x="767" y="709"/>
                          <a:pt x="746" y="702"/>
                          <a:pt x="746" y="702"/>
                        </a:cubicBezTo>
                        <a:cubicBezTo>
                          <a:pt x="729" y="691"/>
                          <a:pt x="720" y="674"/>
                          <a:pt x="702" y="662"/>
                        </a:cubicBezTo>
                        <a:cubicBezTo>
                          <a:pt x="694" y="665"/>
                          <a:pt x="687" y="673"/>
                          <a:pt x="678" y="674"/>
                        </a:cubicBezTo>
                        <a:cubicBezTo>
                          <a:pt x="657" y="677"/>
                          <a:pt x="630" y="657"/>
                          <a:pt x="614" y="646"/>
                        </a:cubicBezTo>
                        <a:cubicBezTo>
                          <a:pt x="600" y="637"/>
                          <a:pt x="580" y="639"/>
                          <a:pt x="566" y="630"/>
                        </a:cubicBezTo>
                        <a:cubicBezTo>
                          <a:pt x="546" y="617"/>
                          <a:pt x="525" y="607"/>
                          <a:pt x="506" y="594"/>
                        </a:cubicBezTo>
                        <a:cubicBezTo>
                          <a:pt x="513" y="572"/>
                          <a:pt x="509" y="551"/>
                          <a:pt x="490" y="538"/>
                        </a:cubicBezTo>
                        <a:cubicBezTo>
                          <a:pt x="485" y="522"/>
                          <a:pt x="476" y="515"/>
                          <a:pt x="462" y="506"/>
                        </a:cubicBezTo>
                        <a:cubicBezTo>
                          <a:pt x="441" y="474"/>
                          <a:pt x="469" y="513"/>
                          <a:pt x="442" y="486"/>
                        </a:cubicBezTo>
                        <a:cubicBezTo>
                          <a:pt x="436" y="480"/>
                          <a:pt x="436" y="468"/>
                          <a:pt x="430" y="462"/>
                        </a:cubicBezTo>
                        <a:cubicBezTo>
                          <a:pt x="427" y="459"/>
                          <a:pt x="422" y="459"/>
                          <a:pt x="418" y="458"/>
                        </a:cubicBezTo>
                        <a:cubicBezTo>
                          <a:pt x="407" y="447"/>
                          <a:pt x="382" y="430"/>
                          <a:pt x="382" y="430"/>
                        </a:cubicBezTo>
                        <a:cubicBezTo>
                          <a:pt x="371" y="413"/>
                          <a:pt x="358" y="399"/>
                          <a:pt x="346" y="382"/>
                        </a:cubicBezTo>
                        <a:cubicBezTo>
                          <a:pt x="344" y="378"/>
                          <a:pt x="345" y="373"/>
                          <a:pt x="342" y="370"/>
                        </a:cubicBezTo>
                        <a:cubicBezTo>
                          <a:pt x="339" y="367"/>
                          <a:pt x="334" y="367"/>
                          <a:pt x="330" y="366"/>
                        </a:cubicBezTo>
                        <a:cubicBezTo>
                          <a:pt x="322" y="390"/>
                          <a:pt x="342" y="398"/>
                          <a:pt x="354" y="414"/>
                        </a:cubicBezTo>
                        <a:cubicBezTo>
                          <a:pt x="368" y="432"/>
                          <a:pt x="372" y="446"/>
                          <a:pt x="390" y="458"/>
                        </a:cubicBezTo>
                        <a:cubicBezTo>
                          <a:pt x="409" y="487"/>
                          <a:pt x="399" y="475"/>
                          <a:pt x="418" y="494"/>
                        </a:cubicBezTo>
                        <a:cubicBezTo>
                          <a:pt x="423" y="510"/>
                          <a:pt x="428" y="517"/>
                          <a:pt x="442" y="526"/>
                        </a:cubicBezTo>
                        <a:cubicBezTo>
                          <a:pt x="450" y="550"/>
                          <a:pt x="432" y="533"/>
                          <a:pt x="422" y="526"/>
                        </a:cubicBezTo>
                        <a:cubicBezTo>
                          <a:pt x="399" y="492"/>
                          <a:pt x="430" y="532"/>
                          <a:pt x="402" y="510"/>
                        </a:cubicBezTo>
                        <a:cubicBezTo>
                          <a:pt x="398" y="507"/>
                          <a:pt x="397" y="501"/>
                          <a:pt x="394" y="498"/>
                        </a:cubicBezTo>
                        <a:cubicBezTo>
                          <a:pt x="391" y="495"/>
                          <a:pt x="386" y="493"/>
                          <a:pt x="382" y="490"/>
                        </a:cubicBezTo>
                        <a:cubicBezTo>
                          <a:pt x="377" y="474"/>
                          <a:pt x="370" y="471"/>
                          <a:pt x="354" y="466"/>
                        </a:cubicBezTo>
                        <a:cubicBezTo>
                          <a:pt x="344" y="452"/>
                          <a:pt x="340" y="447"/>
                          <a:pt x="346" y="430"/>
                        </a:cubicBezTo>
                        <a:cubicBezTo>
                          <a:pt x="338" y="418"/>
                          <a:pt x="314" y="402"/>
                          <a:pt x="314" y="402"/>
                        </a:cubicBezTo>
                        <a:cubicBezTo>
                          <a:pt x="306" y="390"/>
                          <a:pt x="298" y="378"/>
                          <a:pt x="290" y="366"/>
                        </a:cubicBezTo>
                        <a:cubicBezTo>
                          <a:pt x="284" y="357"/>
                          <a:pt x="273" y="354"/>
                          <a:pt x="266" y="346"/>
                        </a:cubicBezTo>
                        <a:cubicBezTo>
                          <a:pt x="263" y="342"/>
                          <a:pt x="262" y="337"/>
                          <a:pt x="258" y="334"/>
                        </a:cubicBezTo>
                        <a:cubicBezTo>
                          <a:pt x="243" y="324"/>
                          <a:pt x="225" y="324"/>
                          <a:pt x="210" y="314"/>
                        </a:cubicBezTo>
                        <a:cubicBezTo>
                          <a:pt x="201" y="300"/>
                          <a:pt x="194" y="291"/>
                          <a:pt x="178" y="286"/>
                        </a:cubicBezTo>
                        <a:cubicBezTo>
                          <a:pt x="160" y="260"/>
                          <a:pt x="192" y="247"/>
                          <a:pt x="154" y="238"/>
                        </a:cubicBezTo>
                        <a:cubicBezTo>
                          <a:pt x="111" y="209"/>
                          <a:pt x="106" y="149"/>
                          <a:pt x="90" y="102"/>
                        </a:cubicBezTo>
                        <a:cubicBezTo>
                          <a:pt x="86" y="90"/>
                          <a:pt x="76" y="73"/>
                          <a:pt x="66" y="66"/>
                        </a:cubicBezTo>
                        <a:cubicBezTo>
                          <a:pt x="58" y="60"/>
                          <a:pt x="42" y="50"/>
                          <a:pt x="42" y="50"/>
                        </a:cubicBezTo>
                        <a:cubicBezTo>
                          <a:pt x="39" y="46"/>
                          <a:pt x="38" y="41"/>
                          <a:pt x="34" y="38"/>
                        </a:cubicBezTo>
                        <a:cubicBezTo>
                          <a:pt x="27" y="34"/>
                          <a:pt x="10" y="30"/>
                          <a:pt x="10" y="30"/>
                        </a:cubicBezTo>
                        <a:cubicBezTo>
                          <a:pt x="0" y="1"/>
                          <a:pt x="31" y="17"/>
                          <a:pt x="46" y="22"/>
                        </a:cubicBezTo>
                        <a:cubicBezTo>
                          <a:pt x="65" y="51"/>
                          <a:pt x="61" y="41"/>
                          <a:pt x="86" y="58"/>
                        </a:cubicBezTo>
                        <a:cubicBezTo>
                          <a:pt x="94" y="70"/>
                          <a:pt x="94" y="93"/>
                          <a:pt x="102" y="70"/>
                        </a:cubicBezTo>
                        <a:cubicBezTo>
                          <a:pt x="95" y="49"/>
                          <a:pt x="82" y="62"/>
                          <a:pt x="82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" name=""/>
                  <p:cNvSpPr/>
                  <p:nvPr/>
                </p:nvSpPr>
                <p:spPr>
                  <a:xfrm>
                    <a:off x="4094280" y="589680"/>
                    <a:ext cx="2412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8">
                        <a:moveTo>
                          <a:pt x="6" y="28"/>
                        </a:moveTo>
                        <a:cubicBezTo>
                          <a:pt x="25" y="0"/>
                          <a:pt x="36" y="31"/>
                          <a:pt x="10" y="48"/>
                        </a:cubicBezTo>
                        <a:cubicBezTo>
                          <a:pt x="0" y="34"/>
                          <a:pt x="0" y="40"/>
                          <a:pt x="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>
                    <a:off x="4075200" y="578160"/>
                    <a:ext cx="2556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37">
                        <a:moveTo>
                          <a:pt x="0" y="5"/>
                        </a:moveTo>
                        <a:cubicBezTo>
                          <a:pt x="4" y="4"/>
                          <a:pt x="8" y="0"/>
                          <a:pt x="12" y="1"/>
                        </a:cubicBezTo>
                        <a:cubicBezTo>
                          <a:pt x="21" y="4"/>
                          <a:pt x="36" y="17"/>
                          <a:pt x="36" y="17"/>
                        </a:cubicBezTo>
                        <a:cubicBezTo>
                          <a:pt x="29" y="37"/>
                          <a:pt x="22" y="26"/>
                          <a:pt x="8" y="17"/>
                        </a:cubicBezTo>
                        <a:cubicBezTo>
                          <a:pt x="5" y="13"/>
                          <a:pt x="0" y="5"/>
                          <a:pt x="0" y="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" name=""/>
                  <p:cNvSpPr/>
                  <p:nvPr/>
                </p:nvSpPr>
                <p:spPr>
                  <a:xfrm>
                    <a:off x="4845240" y="512640"/>
                    <a:ext cx="115920" cy="65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0" h="96">
                        <a:moveTo>
                          <a:pt x="0" y="49"/>
                        </a:moveTo>
                        <a:cubicBezTo>
                          <a:pt x="5" y="33"/>
                          <a:pt x="12" y="30"/>
                          <a:pt x="28" y="25"/>
                        </a:cubicBezTo>
                        <a:cubicBezTo>
                          <a:pt x="20" y="0"/>
                          <a:pt x="42" y="16"/>
                          <a:pt x="56" y="21"/>
                        </a:cubicBezTo>
                        <a:cubicBezTo>
                          <a:pt x="56" y="21"/>
                          <a:pt x="77" y="6"/>
                          <a:pt x="80" y="9"/>
                        </a:cubicBezTo>
                        <a:cubicBezTo>
                          <a:pt x="85" y="14"/>
                          <a:pt x="71" y="23"/>
                          <a:pt x="64" y="25"/>
                        </a:cubicBezTo>
                        <a:cubicBezTo>
                          <a:pt x="82" y="37"/>
                          <a:pt x="103" y="42"/>
                          <a:pt x="124" y="49"/>
                        </a:cubicBezTo>
                        <a:cubicBezTo>
                          <a:pt x="136" y="53"/>
                          <a:pt x="160" y="65"/>
                          <a:pt x="160" y="65"/>
                        </a:cubicBezTo>
                        <a:cubicBezTo>
                          <a:pt x="170" y="96"/>
                          <a:pt x="134" y="83"/>
                          <a:pt x="116" y="77"/>
                        </a:cubicBezTo>
                        <a:cubicBezTo>
                          <a:pt x="109" y="57"/>
                          <a:pt x="116" y="66"/>
                          <a:pt x="88" y="57"/>
                        </a:cubicBezTo>
                        <a:cubicBezTo>
                          <a:pt x="84" y="56"/>
                          <a:pt x="76" y="53"/>
                          <a:pt x="76" y="53"/>
                        </a:cubicBezTo>
                        <a:cubicBezTo>
                          <a:pt x="57" y="34"/>
                          <a:pt x="53" y="37"/>
                          <a:pt x="24" y="41"/>
                        </a:cubicBezTo>
                        <a:cubicBezTo>
                          <a:pt x="9" y="51"/>
                          <a:pt x="17" y="49"/>
                          <a:pt x="0" y="4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360" bIns="18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" name=""/>
                  <p:cNvSpPr/>
                  <p:nvPr/>
                </p:nvSpPr>
                <p:spPr>
                  <a:xfrm>
                    <a:off x="4967640" y="565920"/>
                    <a:ext cx="93600" cy="2988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44">
                        <a:moveTo>
                          <a:pt x="0" y="0"/>
                        </a:moveTo>
                        <a:cubicBezTo>
                          <a:pt x="19" y="3"/>
                          <a:pt x="35" y="10"/>
                          <a:pt x="52" y="4"/>
                        </a:cubicBezTo>
                        <a:cubicBezTo>
                          <a:pt x="87" y="11"/>
                          <a:pt x="61" y="15"/>
                          <a:pt x="88" y="24"/>
                        </a:cubicBezTo>
                        <a:cubicBezTo>
                          <a:pt x="96" y="23"/>
                          <a:pt x="104" y="19"/>
                          <a:pt x="112" y="20"/>
                        </a:cubicBezTo>
                        <a:cubicBezTo>
                          <a:pt x="138" y="23"/>
                          <a:pt x="118" y="41"/>
                          <a:pt x="108" y="44"/>
                        </a:cubicBezTo>
                        <a:cubicBezTo>
                          <a:pt x="78" y="34"/>
                          <a:pt x="92" y="34"/>
                          <a:pt x="64" y="40"/>
                        </a:cubicBezTo>
                        <a:cubicBezTo>
                          <a:pt x="41" y="37"/>
                          <a:pt x="22" y="41"/>
                          <a:pt x="0" y="36"/>
                        </a:cubicBezTo>
                        <a:cubicBezTo>
                          <a:pt x="6" y="11"/>
                          <a:pt x="7" y="27"/>
                          <a:pt x="28" y="20"/>
                        </a:cubicBezTo>
                        <a:cubicBezTo>
                          <a:pt x="17" y="13"/>
                          <a:pt x="0" y="13"/>
                          <a:pt x="0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920" bIns="-169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>
                    <a:off x="4918320" y="582120"/>
                    <a:ext cx="3816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42">
                        <a:moveTo>
                          <a:pt x="17" y="25"/>
                        </a:moveTo>
                        <a:cubicBezTo>
                          <a:pt x="0" y="0"/>
                          <a:pt x="21" y="9"/>
                          <a:pt x="37" y="13"/>
                        </a:cubicBezTo>
                        <a:cubicBezTo>
                          <a:pt x="57" y="42"/>
                          <a:pt x="30" y="25"/>
                          <a:pt x="1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" name=""/>
                  <p:cNvSpPr/>
                  <p:nvPr/>
                </p:nvSpPr>
                <p:spPr>
                  <a:xfrm>
                    <a:off x="4892760" y="496800"/>
                    <a:ext cx="25560" cy="352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2">
                        <a:moveTo>
                          <a:pt x="19" y="32"/>
                        </a:moveTo>
                        <a:cubicBezTo>
                          <a:pt x="13" y="14"/>
                          <a:pt x="0" y="13"/>
                          <a:pt x="19" y="0"/>
                        </a:cubicBezTo>
                        <a:cubicBezTo>
                          <a:pt x="23" y="5"/>
                          <a:pt x="39" y="52"/>
                          <a:pt x="19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520" bIns="-115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" name=""/>
                  <p:cNvSpPr/>
                  <p:nvPr/>
                </p:nvSpPr>
                <p:spPr>
                  <a:xfrm>
                    <a:off x="5094720" y="603720"/>
                    <a:ext cx="29880" cy="53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80">
                        <a:moveTo>
                          <a:pt x="4" y="9"/>
                        </a:moveTo>
                        <a:cubicBezTo>
                          <a:pt x="9" y="17"/>
                          <a:pt x="18" y="24"/>
                          <a:pt x="20" y="33"/>
                        </a:cubicBezTo>
                        <a:cubicBezTo>
                          <a:pt x="21" y="38"/>
                          <a:pt x="21" y="45"/>
                          <a:pt x="24" y="49"/>
                        </a:cubicBezTo>
                        <a:cubicBezTo>
                          <a:pt x="27" y="52"/>
                          <a:pt x="32" y="52"/>
                          <a:pt x="36" y="53"/>
                        </a:cubicBezTo>
                        <a:cubicBezTo>
                          <a:pt x="41" y="68"/>
                          <a:pt x="44" y="80"/>
                          <a:pt x="24" y="73"/>
                        </a:cubicBezTo>
                        <a:cubicBezTo>
                          <a:pt x="19" y="55"/>
                          <a:pt x="11" y="37"/>
                          <a:pt x="0" y="21"/>
                        </a:cubicBezTo>
                        <a:cubicBezTo>
                          <a:pt x="4" y="4"/>
                          <a:pt x="4" y="0"/>
                          <a:pt x="4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>
                    <a:off x="4556520" y="198000"/>
                    <a:ext cx="325440" cy="81000"/>
                  </a:xfrm>
                  <a:custGeom>
                    <a:avLst/>
                    <a:gdLst/>
                    <a:ahLst/>
                    <a:rect l="l" t="t" r="r" b="b"/>
                    <a:pathLst>
                      <a:path w="323" h="64">
                        <a:moveTo>
                          <a:pt x="220" y="1"/>
                        </a:moveTo>
                        <a:cubicBezTo>
                          <a:pt x="215" y="12"/>
                          <a:pt x="225" y="17"/>
                          <a:pt x="231" y="8"/>
                        </a:cubicBezTo>
                        <a:cubicBezTo>
                          <a:pt x="235" y="0"/>
                          <a:pt x="229" y="7"/>
                          <a:pt x="235" y="0"/>
                        </a:cubicBezTo>
                        <a:lnTo>
                          <a:pt x="265" y="0"/>
                        </a:lnTo>
                        <a:cubicBezTo>
                          <a:pt x="277" y="6"/>
                          <a:pt x="276" y="11"/>
                          <a:pt x="287" y="17"/>
                        </a:cubicBezTo>
                        <a:cubicBezTo>
                          <a:pt x="308" y="11"/>
                          <a:pt x="293" y="7"/>
                          <a:pt x="319" y="10"/>
                        </a:cubicBezTo>
                        <a:cubicBezTo>
                          <a:pt x="323" y="19"/>
                          <a:pt x="321" y="22"/>
                          <a:pt x="314" y="29"/>
                        </a:cubicBezTo>
                        <a:cubicBezTo>
                          <a:pt x="312" y="39"/>
                          <a:pt x="313" y="50"/>
                          <a:pt x="298" y="46"/>
                        </a:cubicBezTo>
                        <a:cubicBezTo>
                          <a:pt x="297" y="40"/>
                          <a:pt x="298" y="34"/>
                          <a:pt x="295" y="29"/>
                        </a:cubicBezTo>
                        <a:cubicBezTo>
                          <a:pt x="294" y="27"/>
                          <a:pt x="290" y="31"/>
                          <a:pt x="287" y="31"/>
                        </a:cubicBezTo>
                        <a:cubicBezTo>
                          <a:pt x="284" y="31"/>
                          <a:pt x="282" y="30"/>
                          <a:pt x="279" y="29"/>
                        </a:cubicBezTo>
                        <a:cubicBezTo>
                          <a:pt x="274" y="27"/>
                          <a:pt x="263" y="21"/>
                          <a:pt x="263" y="21"/>
                        </a:cubicBezTo>
                        <a:cubicBezTo>
                          <a:pt x="249" y="23"/>
                          <a:pt x="241" y="31"/>
                          <a:pt x="228" y="38"/>
                        </a:cubicBezTo>
                        <a:cubicBezTo>
                          <a:pt x="220" y="41"/>
                          <a:pt x="209" y="42"/>
                          <a:pt x="201" y="44"/>
                        </a:cubicBezTo>
                        <a:cubicBezTo>
                          <a:pt x="193" y="54"/>
                          <a:pt x="200" y="53"/>
                          <a:pt x="212" y="57"/>
                        </a:cubicBezTo>
                        <a:cubicBezTo>
                          <a:pt x="200" y="62"/>
                          <a:pt x="199" y="57"/>
                          <a:pt x="188" y="63"/>
                        </a:cubicBezTo>
                        <a:cubicBezTo>
                          <a:pt x="181" y="62"/>
                          <a:pt x="174" y="64"/>
                          <a:pt x="169" y="61"/>
                        </a:cubicBezTo>
                        <a:cubicBezTo>
                          <a:pt x="166" y="59"/>
                          <a:pt x="175" y="59"/>
                          <a:pt x="177" y="57"/>
                        </a:cubicBezTo>
                        <a:cubicBezTo>
                          <a:pt x="181" y="48"/>
                          <a:pt x="149" y="28"/>
                          <a:pt x="171" y="40"/>
                        </a:cubicBezTo>
                        <a:cubicBezTo>
                          <a:pt x="184" y="55"/>
                          <a:pt x="184" y="36"/>
                          <a:pt x="169" y="31"/>
                        </a:cubicBezTo>
                        <a:cubicBezTo>
                          <a:pt x="167" y="27"/>
                          <a:pt x="167" y="22"/>
                          <a:pt x="158" y="23"/>
                        </a:cubicBezTo>
                        <a:cubicBezTo>
                          <a:pt x="153" y="23"/>
                          <a:pt x="142" y="27"/>
                          <a:pt x="142" y="27"/>
                        </a:cubicBezTo>
                        <a:cubicBezTo>
                          <a:pt x="136" y="39"/>
                          <a:pt x="143" y="31"/>
                          <a:pt x="134" y="27"/>
                        </a:cubicBezTo>
                        <a:cubicBezTo>
                          <a:pt x="130" y="25"/>
                          <a:pt x="126" y="25"/>
                          <a:pt x="123" y="25"/>
                        </a:cubicBezTo>
                        <a:cubicBezTo>
                          <a:pt x="117" y="11"/>
                          <a:pt x="100" y="6"/>
                          <a:pt x="83" y="2"/>
                        </a:cubicBezTo>
                        <a:cubicBezTo>
                          <a:pt x="70" y="4"/>
                          <a:pt x="69" y="9"/>
                          <a:pt x="59" y="14"/>
                        </a:cubicBezTo>
                        <a:cubicBezTo>
                          <a:pt x="45" y="14"/>
                          <a:pt x="0" y="12"/>
                          <a:pt x="1" y="0"/>
                        </a:cubicBezTo>
                        <a:lnTo>
                          <a:pt x="220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4200" bIns="34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" name=""/>
                  <p:cNvSpPr/>
                  <p:nvPr/>
                </p:nvSpPr>
                <p:spPr>
                  <a:xfrm>
                    <a:off x="4268880" y="196200"/>
                    <a:ext cx="301680" cy="3924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31">
                        <a:moveTo>
                          <a:pt x="105" y="31"/>
                        </a:moveTo>
                        <a:cubicBezTo>
                          <a:pt x="83" y="19"/>
                          <a:pt x="0" y="6"/>
                          <a:pt x="30" y="1"/>
                        </a:cubicBezTo>
                        <a:lnTo>
                          <a:pt x="285" y="0"/>
                        </a:lnTo>
                        <a:cubicBezTo>
                          <a:pt x="296" y="4"/>
                          <a:pt x="300" y="5"/>
                          <a:pt x="296" y="14"/>
                        </a:cubicBezTo>
                        <a:cubicBezTo>
                          <a:pt x="285" y="11"/>
                          <a:pt x="276" y="16"/>
                          <a:pt x="264" y="16"/>
                        </a:cubicBezTo>
                        <a:lnTo>
                          <a:pt x="105" y="3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560" bIns="-75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" name=""/>
                  <p:cNvSpPr/>
                  <p:nvPr/>
                </p:nvSpPr>
                <p:spPr>
                  <a:xfrm>
                    <a:off x="3603960" y="253440"/>
                    <a:ext cx="28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>
                    <a:off x="2826000" y="196200"/>
                    <a:ext cx="692280" cy="300600"/>
                  </a:xfrm>
                  <a:custGeom>
                    <a:avLst/>
                    <a:gdLst/>
                    <a:ahLst/>
                    <a:rect l="l" t="t" r="r" b="b"/>
                    <a:pathLst>
                      <a:path w="436" h="152">
                        <a:moveTo>
                          <a:pt x="73" y="1"/>
                        </a:moveTo>
                        <a:lnTo>
                          <a:pt x="436" y="0"/>
                        </a:lnTo>
                        <a:cubicBezTo>
                          <a:pt x="430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" name=""/>
                  <p:cNvSpPr/>
                  <p:nvPr/>
                </p:nvSpPr>
                <p:spPr>
                  <a:xfrm>
                    <a:off x="3519720" y="186480"/>
                    <a:ext cx="3168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" name=""/>
                  <p:cNvSpPr/>
                  <p:nvPr/>
                </p:nvSpPr>
                <p:spPr>
                  <a:xfrm>
                    <a:off x="3500640" y="277200"/>
                    <a:ext cx="93600" cy="6696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0160" bIns="20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>
                    <a:off x="3400560" y="340560"/>
                    <a:ext cx="127080" cy="14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" name=""/>
                  <p:cNvSpPr/>
                  <p:nvPr/>
                </p:nvSpPr>
                <p:spPr>
                  <a:xfrm>
                    <a:off x="3484800" y="381960"/>
                    <a:ext cx="972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" name=""/>
                  <p:cNvSpPr/>
                  <p:nvPr/>
                </p:nvSpPr>
                <p:spPr>
                  <a:xfrm>
                    <a:off x="2773440" y="478800"/>
                    <a:ext cx="551160" cy="37404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>
                    <a:off x="2870280" y="736200"/>
                    <a:ext cx="302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" name=""/>
                  <p:cNvSpPr/>
                  <p:nvPr/>
                </p:nvSpPr>
                <p:spPr>
                  <a:xfrm>
                    <a:off x="3292560" y="542160"/>
                    <a:ext cx="28800" cy="4752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" bIns="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" name=""/>
                  <p:cNvSpPr/>
                  <p:nvPr/>
                </p:nvSpPr>
                <p:spPr>
                  <a:xfrm>
                    <a:off x="3373560" y="518760"/>
                    <a:ext cx="1440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>
                    <a:off x="1897200" y="330840"/>
                    <a:ext cx="687600" cy="7002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" name=""/>
                  <p:cNvSpPr/>
                  <p:nvPr/>
                </p:nvSpPr>
                <p:spPr>
                  <a:xfrm>
                    <a:off x="2163960" y="593640"/>
                    <a:ext cx="258840" cy="43740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" name=""/>
                  <p:cNvSpPr/>
                  <p:nvPr/>
                </p:nvSpPr>
                <p:spPr>
                  <a:xfrm>
                    <a:off x="2619720" y="918000"/>
                    <a:ext cx="1116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>
                    <a:off x="2605320" y="693000"/>
                    <a:ext cx="14400" cy="1368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120" bIns="-33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" name=""/>
                  <p:cNvSpPr/>
                  <p:nvPr/>
                </p:nvSpPr>
                <p:spPr>
                  <a:xfrm>
                    <a:off x="1978200" y="415440"/>
                    <a:ext cx="3960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2457720" y="234000"/>
                    <a:ext cx="468360" cy="46044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>
                    <a:off x="2138760" y="198000"/>
                    <a:ext cx="938160" cy="18792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329200" y="267480"/>
                    <a:ext cx="2052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" name=""/>
                  <p:cNvSpPr/>
                  <p:nvPr/>
                </p:nvSpPr>
                <p:spPr>
                  <a:xfrm>
                    <a:off x="2305440" y="294840"/>
                    <a:ext cx="2988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>
                    <a:off x="2403720" y="376200"/>
                    <a:ext cx="50760" cy="1188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920" bIns="-349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" name=""/>
                  <p:cNvSpPr/>
                  <p:nvPr/>
                </p:nvSpPr>
                <p:spPr>
                  <a:xfrm>
                    <a:off x="2491200" y="374400"/>
                    <a:ext cx="28440" cy="2952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280" bIns="-172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>
                    <a:off x="2257560" y="293040"/>
                    <a:ext cx="2232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" name=""/>
                <p:cNvGrpSpPr/>
                <p:nvPr/>
              </p:nvGrpSpPr>
              <p:grpSpPr>
                <a:xfrm>
                  <a:off x="6164640" y="184320"/>
                  <a:ext cx="1807920" cy="848520"/>
                  <a:chOff x="6164640" y="184320"/>
                  <a:chExt cx="1807920" cy="848520"/>
                </a:xfrm>
              </p:grpSpPr>
              <p:sp>
                <p:nvSpPr>
                  <p:cNvPr id="66" name=""/>
                  <p:cNvSpPr/>
                  <p:nvPr/>
                </p:nvSpPr>
                <p:spPr>
                  <a:xfrm>
                    <a:off x="7909200" y="928080"/>
                    <a:ext cx="20520" cy="2772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" name=""/>
                  <p:cNvSpPr/>
                  <p:nvPr/>
                </p:nvSpPr>
                <p:spPr>
                  <a:xfrm>
                    <a:off x="7666200" y="954000"/>
                    <a:ext cx="1764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>
                    <a:off x="7593120" y="965520"/>
                    <a:ext cx="4464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>
                    <a:off x="7547400" y="963720"/>
                    <a:ext cx="4572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>
                    <a:off x="7297920" y="791640"/>
                    <a:ext cx="239760" cy="18360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>
                    <a:off x="7444080" y="779760"/>
                    <a:ext cx="106200" cy="13428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"/>
                  <p:cNvSpPr/>
                  <p:nvPr/>
                </p:nvSpPr>
                <p:spPr>
                  <a:xfrm>
                    <a:off x="7547400" y="840960"/>
                    <a:ext cx="74520" cy="259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880" bIns="-208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>
                    <a:off x="7544160" y="872640"/>
                    <a:ext cx="50760" cy="669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0160" bIns="20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>
                    <a:off x="7629840" y="835200"/>
                    <a:ext cx="25200" cy="3924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560" bIns="-75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7635960" y="896400"/>
                    <a:ext cx="320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>
                    <a:off x="7669440" y="866880"/>
                    <a:ext cx="4140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3320" bIns="-13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>
                    <a:off x="7680600" y="882720"/>
                    <a:ext cx="193680" cy="12060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" name=""/>
                  <p:cNvSpPr/>
                  <p:nvPr/>
                </p:nvSpPr>
                <p:spPr>
                  <a:xfrm>
                    <a:off x="7848720" y="894240"/>
                    <a:ext cx="52560" cy="5148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" bIns="4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>
                    <a:off x="7959960" y="785880"/>
                    <a:ext cx="1260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>
                    <a:off x="7812360" y="686520"/>
                    <a:ext cx="1260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"/>
                  <p:cNvSpPr/>
                  <p:nvPr/>
                </p:nvSpPr>
                <p:spPr>
                  <a:xfrm>
                    <a:off x="7699680" y="770040"/>
                    <a:ext cx="1260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>
                    <a:off x="7575840" y="744120"/>
                    <a:ext cx="54000" cy="532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"/>
                  <p:cNvSpPr/>
                  <p:nvPr/>
                </p:nvSpPr>
                <p:spPr>
                  <a:xfrm>
                    <a:off x="7558200" y="631440"/>
                    <a:ext cx="63720" cy="11484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"/>
                  <p:cNvSpPr/>
                  <p:nvPr/>
                </p:nvSpPr>
                <p:spPr>
                  <a:xfrm>
                    <a:off x="7574040" y="714240"/>
                    <a:ext cx="2232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3320" bIns="-13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>
                    <a:off x="7529760" y="722520"/>
                    <a:ext cx="302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3320" bIns="-13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>
                    <a:off x="7871040" y="253800"/>
                    <a:ext cx="28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>
                    <a:off x="7091640" y="196200"/>
                    <a:ext cx="695160" cy="300240"/>
                  </a:xfrm>
                  <a:custGeom>
                    <a:avLst/>
                    <a:gdLst/>
                    <a:ahLst/>
                    <a:rect l="l" t="t" r="r" b="b"/>
                    <a:pathLst>
                      <a:path w="438" h="152">
                        <a:moveTo>
                          <a:pt x="73" y="1"/>
                        </a:moveTo>
                        <a:lnTo>
                          <a:pt x="438" y="0"/>
                        </a:lnTo>
                        <a:cubicBezTo>
                          <a:pt x="432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>
                    <a:off x="7786800" y="184320"/>
                    <a:ext cx="32040" cy="1087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"/>
                  <p:cNvSpPr/>
                  <p:nvPr/>
                </p:nvSpPr>
                <p:spPr>
                  <a:xfrm>
                    <a:off x="7767720" y="277560"/>
                    <a:ext cx="93960" cy="6696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0160" bIns="20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7668000" y="340560"/>
                    <a:ext cx="126720" cy="14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>
                    <a:off x="7751880" y="381960"/>
                    <a:ext cx="972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>
                    <a:off x="7040880" y="478800"/>
                    <a:ext cx="550800" cy="37404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>
                    <a:off x="7137720" y="736560"/>
                    <a:ext cx="302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>
                    <a:off x="7560000" y="542160"/>
                    <a:ext cx="28440" cy="4752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" bIns="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"/>
                  <p:cNvSpPr/>
                  <p:nvPr/>
                </p:nvSpPr>
                <p:spPr>
                  <a:xfrm>
                    <a:off x="7641000" y="518760"/>
                    <a:ext cx="140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>
                    <a:off x="6164640" y="332640"/>
                    <a:ext cx="687240" cy="7002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>
                    <a:off x="6431040" y="595800"/>
                    <a:ext cx="258840" cy="43668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" name=""/>
                  <p:cNvSpPr/>
                  <p:nvPr/>
                </p:nvSpPr>
                <p:spPr>
                  <a:xfrm>
                    <a:off x="6886800" y="918000"/>
                    <a:ext cx="1116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>
                    <a:off x="6872400" y="693000"/>
                    <a:ext cx="14400" cy="1368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120" bIns="-33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>
                    <a:off x="6245640" y="415800"/>
                    <a:ext cx="3960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>
                    <a:off x="6724800" y="234000"/>
                    <a:ext cx="468360" cy="46044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>
                    <a:off x="6405840" y="198000"/>
                    <a:ext cx="938160" cy="18792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6596280" y="267480"/>
                    <a:ext cx="2052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>
                    <a:off x="6572520" y="294840"/>
                    <a:ext cx="3024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>
                    <a:off x="6670800" y="376200"/>
                    <a:ext cx="50760" cy="1188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920" bIns="-349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>
                    <a:off x="6758280" y="374400"/>
                    <a:ext cx="28440" cy="2952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280" bIns="-172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>
                    <a:off x="6525000" y="293040"/>
                    <a:ext cx="2196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8" name=""/>
              <p:cNvGrpSpPr/>
              <p:nvPr/>
            </p:nvGrpSpPr>
            <p:grpSpPr>
              <a:xfrm>
                <a:off x="1266840" y="197640"/>
                <a:ext cx="7464240" cy="827640"/>
                <a:chOff x="1266840" y="197640"/>
                <a:chExt cx="7464240" cy="827640"/>
              </a:xfrm>
            </p:grpSpPr>
            <p:sp>
              <p:nvSpPr>
                <p:cNvPr id="109" name=""/>
                <p:cNvSpPr/>
                <p:nvPr/>
              </p:nvSpPr>
              <p:spPr>
                <a:xfrm>
                  <a:off x="1266840" y="635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162864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199080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235260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271476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307656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343836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380052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416232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452448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488628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524844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561024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97204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633420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669600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705816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741996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778176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14392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850572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" name=""/>
              <p:cNvGrpSpPr/>
              <p:nvPr/>
            </p:nvGrpSpPr>
            <p:grpSpPr>
              <a:xfrm>
                <a:off x="1917720" y="194040"/>
                <a:ext cx="5864040" cy="837000"/>
                <a:chOff x="1917720" y="194040"/>
                <a:chExt cx="5864040" cy="8370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4524120" y="196200"/>
                  <a:ext cx="0" cy="28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4717800" y="635400"/>
                  <a:ext cx="111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4886280" y="670680"/>
                  <a:ext cx="0" cy="554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5248080" y="868680"/>
                  <a:ext cx="0" cy="1558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6334200" y="417600"/>
                  <a:ext cx="0" cy="3556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6184800" y="635400"/>
                  <a:ext cx="5526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6696000" y="444960"/>
                  <a:ext cx="0" cy="5817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 flipV="1">
                  <a:off x="6699240" y="200160"/>
                  <a:ext cx="0" cy="98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 flipV="1">
                  <a:off x="7057800" y="195840"/>
                  <a:ext cx="0" cy="359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 flipH="1">
                  <a:off x="7296120" y="635400"/>
                  <a:ext cx="1238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 flipH="1">
                  <a:off x="7086240" y="635400"/>
                  <a:ext cx="98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V="1">
                  <a:off x="7419960" y="195840"/>
                  <a:ext cx="0" cy="5338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7781760" y="908280"/>
                  <a:ext cx="0" cy="669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160" bIns="20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3438360" y="203760"/>
                  <a:ext cx="0" cy="1227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3076560" y="198000"/>
                  <a:ext cx="0" cy="6667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flipH="1">
                  <a:off x="3035160" y="635400"/>
                  <a:ext cx="1080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2822400" y="635400"/>
                  <a:ext cx="954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 flipH="1">
                  <a:off x="2504880" y="635400"/>
                  <a:ext cx="1303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1917720" y="635400"/>
                  <a:ext cx="552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2349360" y="441720"/>
                  <a:ext cx="0" cy="589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1990800" y="477000"/>
                  <a:ext cx="0" cy="3085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V="1">
                  <a:off x="2352600" y="194040"/>
                  <a:ext cx="0" cy="53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2714400" y="334440"/>
                  <a:ext cx="0" cy="190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 flipV="1">
                  <a:off x="2714400" y="198000"/>
                  <a:ext cx="0" cy="432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6777000" y="633240"/>
                  <a:ext cx="127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156" name="" descr=""/>
            <p:cNvPicPr/>
            <p:nvPr/>
          </p:nvPicPr>
          <p:blipFill>
            <a:blip r:embed="rId4"/>
            <a:stretch/>
          </p:blipFill>
          <p:spPr>
            <a:xfrm>
              <a:off x="262080" y="87480"/>
              <a:ext cx="892080" cy="1037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7" name="PlaceHolder 5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"/>
          <p:cNvGrpSpPr/>
          <p:nvPr/>
        </p:nvGrpSpPr>
        <p:grpSpPr>
          <a:xfrm>
            <a:off x="0" y="-19080"/>
            <a:ext cx="9144000" cy="6877080"/>
            <a:chOff x="0" y="-19080"/>
            <a:chExt cx="9144000" cy="6877080"/>
          </a:xfrm>
        </p:grpSpPr>
        <p:sp>
          <p:nvSpPr>
            <p:cNvPr id="195" name=""/>
            <p:cNvSpPr/>
            <p:nvPr/>
          </p:nvSpPr>
          <p:spPr>
            <a:xfrm>
              <a:off x="1752480" y="1600200"/>
              <a:ext cx="7391520" cy="5257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0" y="-19080"/>
              <a:ext cx="9144000" cy="1658880"/>
              <a:chOff x="0" y="-19080"/>
              <a:chExt cx="9144000" cy="1658880"/>
            </a:xfrm>
          </p:grpSpPr>
          <p:sp>
            <p:nvSpPr>
              <p:cNvPr id="197" name=""/>
              <p:cNvSpPr/>
              <p:nvPr/>
            </p:nvSpPr>
            <p:spPr>
              <a:xfrm>
                <a:off x="0" y="1800"/>
                <a:ext cx="9144000" cy="16380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32"/>
                    </a:moveTo>
                    <a:lnTo>
                      <a:pt x="0" y="432"/>
                    </a:lnTo>
                    <a:lnTo>
                      <a:pt x="0" y="0"/>
                    </a:lnTo>
                    <a:lnTo>
                      <a:pt x="4848" y="0"/>
                    </a:lnTo>
                    <a:lnTo>
                      <a:pt x="4848" y="432"/>
                    </a:lnTo>
                    <a:close/>
                  </a:path>
                </a:pathLst>
              </a:cu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8" name=""/>
              <p:cNvGrpSpPr/>
              <p:nvPr/>
            </p:nvGrpSpPr>
            <p:grpSpPr>
              <a:xfrm>
                <a:off x="528480" y="-19080"/>
                <a:ext cx="8217000" cy="1657440"/>
                <a:chOff x="528480" y="-19080"/>
                <a:chExt cx="8217000" cy="165744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5127480" y="150192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5407200" y="1606680"/>
                  <a:ext cx="33120" cy="3168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4618080" y="1436760"/>
                  <a:ext cx="49320" cy="5400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4049640" y="1487520"/>
                  <a:ext cx="39600" cy="1908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3878280" y="1509840"/>
                  <a:ext cx="103320" cy="6192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770280" y="1506600"/>
                  <a:ext cx="108000" cy="6192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3186000" y="1168560"/>
                  <a:ext cx="561960" cy="36180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3527280" y="1144800"/>
                  <a:ext cx="249480" cy="26496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3770280" y="1265400"/>
                  <a:ext cx="174600" cy="5076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3762360" y="1327320"/>
                  <a:ext cx="119160" cy="13320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3963960" y="1254240"/>
                  <a:ext cx="58680" cy="7776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3978360" y="1374840"/>
                  <a:ext cx="74520" cy="3816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4056120" y="1316160"/>
                  <a:ext cx="96840" cy="6660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4083120" y="1347840"/>
                  <a:ext cx="453960" cy="23652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4476600" y="1370160"/>
                  <a:ext cx="123840" cy="10152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4737240" y="1157400"/>
                  <a:ext cx="29880" cy="2232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4894200" y="1312920"/>
                  <a:ext cx="41400" cy="3024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4390920" y="963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4127400" y="1125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3836880" y="1074960"/>
                  <a:ext cx="127080" cy="10476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3795840" y="854280"/>
                  <a:ext cx="149040" cy="22536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3833640" y="1017720"/>
                  <a:ext cx="51120" cy="6516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3728880" y="1033560"/>
                  <a:ext cx="71640" cy="6516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7632720" y="943200"/>
                  <a:ext cx="1112760" cy="69516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6159600" y="-15840"/>
                  <a:ext cx="1562040" cy="109872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678640" y="773280"/>
                  <a:ext cx="56880" cy="6192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5634000" y="749520"/>
                  <a:ext cx="60480" cy="4608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7439040" y="620640"/>
                  <a:ext cx="271440" cy="12888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7726320" y="725400"/>
                  <a:ext cx="219240" cy="5904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610400" y="757440"/>
                  <a:ext cx="88920" cy="5400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551720" y="590760"/>
                  <a:ext cx="58680" cy="6984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8023320" y="800280"/>
                  <a:ext cx="71280" cy="10476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6762600" y="4680"/>
                  <a:ext cx="762120" cy="15876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6087960" y="0"/>
                  <a:ext cx="708120" cy="7776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4529160" y="112680"/>
                  <a:ext cx="66600" cy="3996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2705040" y="0"/>
                  <a:ext cx="1622520" cy="59076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4332240" y="-19080"/>
                  <a:ext cx="74520" cy="2127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4287960" y="158760"/>
                  <a:ext cx="218880" cy="13356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4052880" y="284400"/>
                  <a:ext cx="297000" cy="27936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4249800" y="365040"/>
                  <a:ext cx="22320" cy="1620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2583000" y="555840"/>
                  <a:ext cx="1290600" cy="73332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2809800" y="1060560"/>
                  <a:ext cx="71640" cy="11268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3800520" y="679680"/>
                  <a:ext cx="66600" cy="9360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3989520" y="633600"/>
                  <a:ext cx="33120" cy="3816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528480" y="263520"/>
                  <a:ext cx="1611360" cy="137484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1154160" y="781200"/>
                  <a:ext cx="606240" cy="85716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2222640" y="1417680"/>
                  <a:ext cx="25200" cy="4608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2189160" y="974880"/>
                  <a:ext cx="33480" cy="270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719280" y="432000"/>
                  <a:ext cx="91800" cy="3816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1843200" y="74520"/>
                  <a:ext cx="1096920" cy="90360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1093680" y="4680"/>
                  <a:ext cx="2200320" cy="36864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1541520" y="139680"/>
                  <a:ext cx="47520" cy="399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1484280" y="193680"/>
                  <a:ext cx="71640" cy="4284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1716120" y="354240"/>
                  <a:ext cx="119160" cy="219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840" bIns="-24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1920960" y="349200"/>
                  <a:ext cx="66600" cy="5904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1373040" y="190440"/>
                  <a:ext cx="52560" cy="381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11160" y="4680"/>
                <a:ext cx="9109800" cy="1621800"/>
                <a:chOff x="11160" y="4680"/>
                <a:chExt cx="9109800" cy="162180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11160" y="862200"/>
                  <a:ext cx="91098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7477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15958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24447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32929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41410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49899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58381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66870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75351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83844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576360" y="-3240"/>
                <a:ext cx="7808040" cy="1640520"/>
                <a:chOff x="576360" y="-3240"/>
                <a:chExt cx="7808040" cy="164052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687360" y="0"/>
                  <a:ext cx="0" cy="55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7141320" y="861480"/>
                  <a:ext cx="2599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7535520" y="930960"/>
                  <a:ext cx="0" cy="109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8384400" y="1319040"/>
                  <a:ext cx="0" cy="307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4141080" y="15840"/>
                  <a:ext cx="0" cy="240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3292920" y="3600"/>
                  <a:ext cx="0" cy="13082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 flipH="1">
                  <a:off x="3195360" y="861480"/>
                  <a:ext cx="253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2697120" y="861480"/>
                  <a:ext cx="223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 flipH="1">
                  <a:off x="1953360" y="861480"/>
                  <a:ext cx="304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576360" y="861480"/>
                  <a:ext cx="1295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1587960" y="481320"/>
                  <a:ext cx="0" cy="11559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747360" y="550800"/>
                  <a:ext cx="0" cy="6051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flipV="1">
                  <a:off x="1595520" y="-3240"/>
                  <a:ext cx="0" cy="1044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444760" y="272160"/>
                  <a:ext cx="0" cy="3718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 flipV="1">
                  <a:off x="2444760" y="3240"/>
                  <a:ext cx="0" cy="85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283" name="" descr=""/>
            <p:cNvPicPr/>
            <p:nvPr/>
          </p:nvPicPr>
          <p:blipFill>
            <a:blip r:embed="rId2"/>
            <a:stretch/>
          </p:blipFill>
          <p:spPr>
            <a:xfrm>
              <a:off x="533520" y="2486160"/>
              <a:ext cx="1095120" cy="1019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4BB0D-60C6-4F73-838D-96B9FDF1AB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4.png"/><Relationship Id="rId8" Type="http://schemas.openxmlformats.org/officeDocument/2006/relationships/image" Target="../media/image16.wmf"/><Relationship Id="rId9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4.png"/><Relationship Id="rId8" Type="http://schemas.openxmlformats.org/officeDocument/2006/relationships/image" Target="../media/image16.wmf"/><Relationship Id="rId9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image" Target="../media/image1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22.png"/><Relationship Id="rId10" Type="http://schemas.openxmlformats.org/officeDocument/2006/relationships/image" Target="../media/image22.png"/><Relationship Id="rId1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23.jpeg"/><Relationship Id="rId1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1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1.png"/><Relationship Id="rId8" Type="http://schemas.openxmlformats.org/officeDocument/2006/relationships/image" Target="../media/image22.png"/><Relationship Id="rId9" Type="http://schemas.openxmlformats.org/officeDocument/2006/relationships/image" Target="../media/image22.png"/><Relationship Id="rId10" Type="http://schemas.openxmlformats.org/officeDocument/2006/relationships/image" Target="../media/image1.png"/><Relationship Id="rId11" Type="http://schemas.openxmlformats.org/officeDocument/2006/relationships/image" Target="../media/image22.png"/><Relationship Id="rId12" Type="http://schemas.openxmlformats.org/officeDocument/2006/relationships/image" Target="../media/image22.png"/><Relationship Id="rId1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4.png"/><Relationship Id="rId8" Type="http://schemas.openxmlformats.org/officeDocument/2006/relationships/image" Target="../media/image16.wmf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4.png"/><Relationship Id="rId8" Type="http://schemas.openxmlformats.org/officeDocument/2006/relationships/image" Target="../media/image16.wmf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1.png"/><Relationship Id="rId8" Type="http://schemas.openxmlformats.org/officeDocument/2006/relationships/image" Target="../media/image22.png"/><Relationship Id="rId9" Type="http://schemas.openxmlformats.org/officeDocument/2006/relationships/image" Target="../media/image22.png"/><Relationship Id="rId10" Type="http://schemas.openxmlformats.org/officeDocument/2006/relationships/image" Target="../media/image22.png"/><Relationship Id="rId1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4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image" Target="../media/image22.png"/><Relationship Id="rId9" Type="http://schemas.openxmlformats.org/officeDocument/2006/relationships/image" Target="../media/image1.png"/><Relationship Id="rId10" Type="http://schemas.openxmlformats.org/officeDocument/2006/relationships/image" Target="../media/image22.png"/><Relationship Id="rId11" Type="http://schemas.openxmlformats.org/officeDocument/2006/relationships/image" Target="../media/image22.png"/><Relationship Id="rId12" Type="http://schemas.openxmlformats.org/officeDocument/2006/relationships/image" Target="../media/image22.png"/><Relationship Id="rId13" Type="http://schemas.openxmlformats.org/officeDocument/2006/relationships/image" Target="../media/image22.png"/><Relationship Id="rId14" Type="http://schemas.openxmlformats.org/officeDocument/2006/relationships/image" Target="../media/image22.png"/><Relationship Id="rId1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22.png"/><Relationship Id="rId12" Type="http://schemas.openxmlformats.org/officeDocument/2006/relationships/image" Target="../media/image22.png"/><Relationship Id="rId13" Type="http://schemas.openxmlformats.org/officeDocument/2006/relationships/image" Target="../media/image22.png"/><Relationship Id="rId14" Type="http://schemas.openxmlformats.org/officeDocument/2006/relationships/image" Target="../media/image22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8.png"/><Relationship Id="rId4" Type="http://schemas.openxmlformats.org/officeDocument/2006/relationships/image" Target="../media/image1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1828800" y="4572000"/>
            <a:ext cx="6934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4" name="PlaceHolder 2"/>
          <p:cNvSpPr>
            <a:spLocks noGrp="1"/>
          </p:cNvSpPr>
          <p:nvPr>
            <p:ph type="title"/>
          </p:nvPr>
        </p:nvSpPr>
        <p:spPr>
          <a:xfrm>
            <a:off x="539640" y="3860280"/>
            <a:ext cx="83059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Dirección  de Operaciones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Módulo 2</a:t>
            </a:r>
            <a:br>
              <a:rPr sz="3600"/>
            </a:br>
            <a:endParaRPr b="1" i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547640" y="5300640"/>
            <a:ext cx="6400800" cy="9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Profesor: Iván Bra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Octubre de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000066"/>
                </a:solidFill>
                <a:latin typeface="Times New Roman"/>
              </a:rPr>
              <a:t>GICAV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79280" y="1828800"/>
            <a:ext cx="8713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600" spc="-1" strike="noStrike">
                <a:solidFill>
                  <a:srgbClr val="000000"/>
                </a:solidFill>
                <a:latin typeface="Times New Roman"/>
              </a:rPr>
              <a:t>Analizar la forma forma de gestionar TODA la cadena de valor de nuestro negocio, para estructurarla en forma competiva hacia el client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66"/>
                </a:solidFill>
                <a:latin typeface="Times New Roman"/>
              </a:rPr>
              <a:t>Estrategia de negocio </a:t>
            </a:r>
            <a:r>
              <a:rPr b="0" lang="es-CL" sz="3600" spc="-1" strike="noStrike">
                <a:solidFill>
                  <a:srgbClr val="000066"/>
                </a:solidFill>
                <a:latin typeface="Wingdings"/>
                <a:ea typeface="Wingdings"/>
              </a:rPr>
              <a:t></a:t>
            </a:r>
            <a:r>
              <a:rPr b="0" lang="es-CL" sz="3600" spc="-1" strike="noStrike">
                <a:solidFill>
                  <a:srgbClr val="000066"/>
                </a:solidFill>
                <a:latin typeface="Times New Roman"/>
              </a:rPr>
              <a:t> Diseño de la GICA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000066"/>
                </a:solidFill>
                <a:latin typeface="Times New Roman"/>
              </a:rPr>
              <a:t>Ejemplo: Caso Li Fung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1"/>
          <a:srcRect l="14449" t="14957" r="7250" b="18549"/>
          <a:stretch/>
        </p:blipFill>
        <p:spPr>
          <a:xfrm>
            <a:off x="0" y="1413000"/>
            <a:ext cx="4140360" cy="360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79" name="" descr=""/>
          <p:cNvPicPr/>
          <p:nvPr/>
        </p:nvPicPr>
        <p:blipFill>
          <a:blip r:embed="rId2"/>
          <a:srcRect l="12810" t="19385" r="11344" b="6567"/>
          <a:stretch/>
        </p:blipFill>
        <p:spPr>
          <a:xfrm>
            <a:off x="4462560" y="1413000"/>
            <a:ext cx="4681440" cy="3598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80" name=""/>
          <p:cNvSpPr/>
          <p:nvPr/>
        </p:nvSpPr>
        <p:spPr>
          <a:xfrm>
            <a:off x="3924360" y="3068640"/>
            <a:ext cx="647640" cy="360360"/>
          </a:xfrm>
          <a:prstGeom prst="leftArrow">
            <a:avLst>
              <a:gd name="adj1" fmla="val 50000"/>
              <a:gd name="adj2" fmla="val 4493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92200" y="5392800"/>
            <a:ext cx="8227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d de 7000 fabricas articuladas para abastecer mercados glob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pacidad de articular y coordinar una capacidad de producción distribuida sobre la base de un manejo comercial, logístico, de proveedores y de gestión de la produc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3716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000066"/>
                </a:solidFill>
                <a:latin typeface="Times New Roman"/>
              </a:rPr>
              <a:t>Tendencia en el diseño de la GICAV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04920" y="1905120"/>
            <a:ext cx="35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Disect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095880" y="1905120"/>
            <a:ext cx="237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Integr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981080" y="2286000"/>
            <a:ext cx="38102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407200" y="3429000"/>
            <a:ext cx="311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Gestionar como sist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ptimiz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701028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0" y="3200400"/>
            <a:ext cx="3139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specialización para buscar el mejor en cada parte de la Cade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983960" y="5410080"/>
            <a:ext cx="5383800" cy="11912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¿ Cómo gestiono mi Cadena de Valor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Coordinación vrs Integración Vert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352520" y="477720"/>
            <a:ext cx="7469280" cy="2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Times New Roman"/>
              </a:rPr>
              <a:t>Cadenas de Suministros tradicionales estan cambiando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23800" y="2738520"/>
            <a:ext cx="8086680" cy="41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MS PGothic"/>
              </a:rPr>
              <a:t>Clientes son mas exigentes en coste y servicio (calidad en la entreg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MS PGothic"/>
              </a:rPr>
              <a:t>Globalización – nuevos merc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Deslocalización “offshoring, outsourcing”, especialmente actividades de menor valor añadi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Incremento del ritmo de lanzamiento de nuevos produc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Multiples canales de ventas y distribu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Aprovisionamiento y distribución desde y hacia cualquier pa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173b"/>
                </a:solidFill>
                <a:latin typeface="Arial"/>
                <a:ea typeface="MS PGothic"/>
              </a:rPr>
              <a:t>Incremento exponencial de la complejida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457200" y="925560"/>
            <a:ext cx="1481040" cy="2173320"/>
          </a:xfrm>
          <a:prstGeom prst="rect">
            <a:avLst/>
          </a:prstGeom>
          <a:solidFill>
            <a:srgbClr val="b5e0e3"/>
          </a:solidFill>
          <a:ln w="0">
            <a:noFill/>
          </a:ln>
          <a:effectLst>
            <a:outerShdw dist="17819" dir="2700000" blurRad="0" rotWithShape="0">
              <a:srgbClr val="6c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073920" y="920880"/>
            <a:ext cx="2092320" cy="2192040"/>
          </a:xfrm>
          <a:prstGeom prst="rect">
            <a:avLst/>
          </a:prstGeom>
          <a:solidFill>
            <a:srgbClr val="ccb374"/>
          </a:solidFill>
          <a:ln w="0">
            <a:noFill/>
          </a:ln>
          <a:effectLst>
            <a:outerShdw dist="17819" dir="2700000" blurRad="0" rotWithShape="0">
              <a:srgbClr val="796a4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017800" y="914400"/>
            <a:ext cx="3992400" cy="2187720"/>
          </a:xfrm>
          <a:prstGeom prst="rect">
            <a:avLst/>
          </a:prstGeom>
          <a:solidFill>
            <a:srgbClr val="478ca8"/>
          </a:solidFill>
          <a:ln w="0">
            <a:noFill/>
          </a:ln>
          <a:effectLst>
            <a:outerShdw dist="17819" dir="2700000" blurRad="0" rotWithShape="0">
              <a:srgbClr val="2a536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1"/>
          <a:stretch/>
        </p:blipFill>
        <p:spPr>
          <a:xfrm>
            <a:off x="1241280" y="1725480"/>
            <a:ext cx="682920" cy="648000"/>
          </a:xfrm>
          <a:prstGeom prst="rect">
            <a:avLst/>
          </a:prstGeom>
          <a:ln w="0">
            <a:noFill/>
          </a:ln>
        </p:spPr>
      </p:pic>
      <p:pic>
        <p:nvPicPr>
          <p:cNvPr id="396" name="" descr=""/>
          <p:cNvPicPr/>
          <p:nvPr/>
        </p:nvPicPr>
        <p:blipFill>
          <a:blip r:embed="rId2"/>
          <a:stretch/>
        </p:blipFill>
        <p:spPr>
          <a:xfrm>
            <a:off x="577800" y="1895400"/>
            <a:ext cx="682560" cy="647640"/>
          </a:xfrm>
          <a:prstGeom prst="rect">
            <a:avLst/>
          </a:prstGeom>
          <a:ln w="0">
            <a:noFill/>
          </a:ln>
        </p:spPr>
      </p:pic>
      <p:pic>
        <p:nvPicPr>
          <p:cNvPr id="397" name="" descr=""/>
          <p:cNvPicPr/>
          <p:nvPr/>
        </p:nvPicPr>
        <p:blipFill>
          <a:blip r:embed="rId3"/>
          <a:stretch/>
        </p:blipFill>
        <p:spPr>
          <a:xfrm>
            <a:off x="2489040" y="1630440"/>
            <a:ext cx="567000" cy="774720"/>
          </a:xfrm>
          <a:prstGeom prst="rect">
            <a:avLst/>
          </a:prstGeom>
          <a:ln w="0">
            <a:noFill/>
          </a:ln>
        </p:spPr>
      </p:pic>
      <p:pic>
        <p:nvPicPr>
          <p:cNvPr id="398" name="" descr=""/>
          <p:cNvPicPr/>
          <p:nvPr/>
        </p:nvPicPr>
        <p:blipFill>
          <a:blip r:embed="rId4"/>
          <a:stretch/>
        </p:blipFill>
        <p:spPr>
          <a:xfrm>
            <a:off x="3587760" y="1857240"/>
            <a:ext cx="820800" cy="540000"/>
          </a:xfrm>
          <a:prstGeom prst="rect">
            <a:avLst/>
          </a:prstGeom>
          <a:ln w="0">
            <a:noFill/>
          </a:ln>
        </p:spPr>
      </p:pic>
      <p:pic>
        <p:nvPicPr>
          <p:cNvPr id="399" name="" descr=""/>
          <p:cNvPicPr/>
          <p:nvPr/>
        </p:nvPicPr>
        <p:blipFill>
          <a:blip r:embed="rId5"/>
          <a:stretch/>
        </p:blipFill>
        <p:spPr>
          <a:xfrm flipH="1">
            <a:off x="4922640" y="1838160"/>
            <a:ext cx="677880" cy="522360"/>
          </a:xfrm>
          <a:prstGeom prst="rect">
            <a:avLst/>
          </a:prstGeom>
          <a:ln w="0">
            <a:noFill/>
          </a:ln>
        </p:spPr>
      </p:pic>
      <p:pic>
        <p:nvPicPr>
          <p:cNvPr id="400" name="" descr=""/>
          <p:cNvPicPr/>
          <p:nvPr/>
        </p:nvPicPr>
        <p:blipFill>
          <a:blip r:embed="rId6"/>
          <a:stretch/>
        </p:blipFill>
        <p:spPr>
          <a:xfrm>
            <a:off x="7286760" y="1295280"/>
            <a:ext cx="866520" cy="625680"/>
          </a:xfrm>
          <a:prstGeom prst="rect">
            <a:avLst/>
          </a:prstGeom>
          <a:ln w="0">
            <a:noFill/>
          </a:ln>
        </p:spPr>
      </p:pic>
      <p:pic>
        <p:nvPicPr>
          <p:cNvPr id="401" name="" descr=""/>
          <p:cNvPicPr/>
          <p:nvPr/>
        </p:nvPicPr>
        <p:blipFill>
          <a:blip r:embed="rId7"/>
          <a:stretch/>
        </p:blipFill>
        <p:spPr>
          <a:xfrm flipH="1">
            <a:off x="6225840" y="1371600"/>
            <a:ext cx="677880" cy="52236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/>
          <p:nvPr/>
        </p:nvSpPr>
        <p:spPr>
          <a:xfrm>
            <a:off x="2126520" y="94608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roduc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265640" y="946080"/>
            <a:ext cx="18352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Organizacion de Vent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6627240" y="958680"/>
            <a:ext cx="860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li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28480" y="946080"/>
            <a:ext cx="14133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roveed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550440" y="2463840"/>
            <a:ext cx="9410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Proveed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329480" y="2357280"/>
            <a:ext cx="811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Contr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Man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010600" y="1622520"/>
            <a:ext cx="8143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Fabric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349800" y="1440000"/>
            <a:ext cx="1150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Almacen de Fab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090960" y="2073240"/>
            <a:ext cx="46980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952640" y="2068560"/>
            <a:ext cx="46980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4457880" y="2068560"/>
            <a:ext cx="46980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5686560" y="2068560"/>
            <a:ext cx="46980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010280" y="2057400"/>
            <a:ext cx="47016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572000" y="2330280"/>
            <a:ext cx="11606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Centro de Distribu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6051600" y="1905120"/>
            <a:ext cx="1111320" cy="5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Centro de Distribución Retai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7461360" y="1905120"/>
            <a:ext cx="76824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Tien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" descr=""/>
          <p:cNvPicPr/>
          <p:nvPr/>
        </p:nvPicPr>
        <p:blipFill>
          <a:blip r:embed="rId8"/>
          <a:stretch/>
        </p:blipFill>
        <p:spPr>
          <a:xfrm>
            <a:off x="8542440" y="1835280"/>
            <a:ext cx="525240" cy="40788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/>
          <p:nvPr/>
        </p:nvSpPr>
        <p:spPr>
          <a:xfrm>
            <a:off x="8077320" y="2063880"/>
            <a:ext cx="46980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077320" y="2182680"/>
            <a:ext cx="11556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Cliente fi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6477120" y="2701800"/>
            <a:ext cx="122544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Venta Directa/On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546960" y="2438280"/>
            <a:ext cx="122544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Distribuid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352520" y="477720"/>
            <a:ext cx="7469280" cy="2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Consecuencias del aumento de la complejidad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33520" y="3200400"/>
            <a:ext cx="8086680" cy="344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  <a:ea typeface="MS PGothic"/>
              </a:rPr>
              <a:t>Cadenas de suministros mas largas, tiempos de ciclos mas larg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  <a:ea typeface="MS PGothic"/>
              </a:rPr>
              <a:t>Bajo nivel de servicio a cliente (entrega tarde, incomplet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  <a:ea typeface="MS PGothic"/>
              </a:rPr>
              <a:t>Falta de sincronización en lanzamiento de nuevos produc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Incremento en costes de la cadena de suministr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  <a:ea typeface="MS PGothic"/>
              </a:rPr>
              <a:t>Nuevas inversiones en activos (fabrica, almacenes,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Obsolescencia de Inventar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  <a:ea typeface="MS PGothic"/>
              </a:rPr>
              <a:t>Control del Inventar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90173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0173b"/>
                </a:solidFill>
                <a:latin typeface="Arial"/>
                <a:ea typeface="MS PGothic"/>
              </a:rPr>
              <a:t>Impacto en ventas y margen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Narrow"/>
              </a:rPr>
              <a:t>Outsourcing de actividades cla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rot="12551400">
            <a:off x="7315200" y="4114800"/>
            <a:ext cx="533520" cy="2743200"/>
          </a:xfrm>
          <a:custGeom>
            <a:avLst/>
            <a:gdLst>
              <a:gd name="textAreaLeft" fmla="*/ 71280 w 533520"/>
              <a:gd name="textAreaRight" fmla="*/ 462240 w 533520"/>
              <a:gd name="textAreaTop" fmla="*/ 479880 h 2743200"/>
              <a:gd name="textAreaBottom" fmla="*/ 1989000 h 274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720" rIns="54720" tIns="27360" bIns="27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457200" y="925560"/>
            <a:ext cx="1481040" cy="2173320"/>
          </a:xfrm>
          <a:prstGeom prst="rect">
            <a:avLst/>
          </a:prstGeom>
          <a:solidFill>
            <a:srgbClr val="b5e0e3"/>
          </a:solidFill>
          <a:ln w="0">
            <a:noFill/>
          </a:ln>
          <a:effectLst>
            <a:outerShdw dist="17819" dir="2700000" blurRad="0" rotWithShape="0">
              <a:srgbClr val="6c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073920" y="920880"/>
            <a:ext cx="2092320" cy="2192040"/>
          </a:xfrm>
          <a:prstGeom prst="rect">
            <a:avLst/>
          </a:prstGeom>
          <a:solidFill>
            <a:srgbClr val="ccb374"/>
          </a:solidFill>
          <a:ln w="0">
            <a:noFill/>
          </a:ln>
          <a:effectLst>
            <a:outerShdw dist="17819" dir="2700000" blurRad="0" rotWithShape="0">
              <a:srgbClr val="796a4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017800" y="914400"/>
            <a:ext cx="3992400" cy="2187720"/>
          </a:xfrm>
          <a:prstGeom prst="rect">
            <a:avLst/>
          </a:prstGeom>
          <a:solidFill>
            <a:srgbClr val="478ca8"/>
          </a:solidFill>
          <a:ln w="0">
            <a:noFill/>
          </a:ln>
          <a:effectLst>
            <a:outerShdw dist="17819" dir="2700000" blurRad="0" rotWithShape="0">
              <a:srgbClr val="2a536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" descr=""/>
          <p:cNvPicPr/>
          <p:nvPr/>
        </p:nvPicPr>
        <p:blipFill>
          <a:blip r:embed="rId1"/>
          <a:stretch/>
        </p:blipFill>
        <p:spPr>
          <a:xfrm>
            <a:off x="1241280" y="1725480"/>
            <a:ext cx="682920" cy="648000"/>
          </a:xfrm>
          <a:prstGeom prst="rect">
            <a:avLst/>
          </a:prstGeom>
          <a:ln w="0">
            <a:noFill/>
          </a:ln>
        </p:spPr>
      </p:pic>
      <p:pic>
        <p:nvPicPr>
          <p:cNvPr id="430" name="" descr=""/>
          <p:cNvPicPr/>
          <p:nvPr/>
        </p:nvPicPr>
        <p:blipFill>
          <a:blip r:embed="rId2"/>
          <a:stretch/>
        </p:blipFill>
        <p:spPr>
          <a:xfrm>
            <a:off x="577800" y="1895400"/>
            <a:ext cx="682560" cy="647640"/>
          </a:xfrm>
          <a:prstGeom prst="rect">
            <a:avLst/>
          </a:prstGeom>
          <a:ln w="0">
            <a:noFill/>
          </a:ln>
        </p:spPr>
      </p:pic>
      <p:pic>
        <p:nvPicPr>
          <p:cNvPr id="431" name="" descr=""/>
          <p:cNvPicPr/>
          <p:nvPr/>
        </p:nvPicPr>
        <p:blipFill>
          <a:blip r:embed="rId3"/>
          <a:stretch/>
        </p:blipFill>
        <p:spPr>
          <a:xfrm>
            <a:off x="2489040" y="1630440"/>
            <a:ext cx="567000" cy="774720"/>
          </a:xfrm>
          <a:prstGeom prst="rect">
            <a:avLst/>
          </a:prstGeom>
          <a:ln w="0">
            <a:noFill/>
          </a:ln>
        </p:spPr>
      </p:pic>
      <p:pic>
        <p:nvPicPr>
          <p:cNvPr id="432" name="" descr=""/>
          <p:cNvPicPr/>
          <p:nvPr/>
        </p:nvPicPr>
        <p:blipFill>
          <a:blip r:embed="rId4"/>
          <a:stretch/>
        </p:blipFill>
        <p:spPr>
          <a:xfrm>
            <a:off x="3587760" y="1857240"/>
            <a:ext cx="820800" cy="540000"/>
          </a:xfrm>
          <a:prstGeom prst="rect">
            <a:avLst/>
          </a:prstGeom>
          <a:ln w="0">
            <a:noFill/>
          </a:ln>
        </p:spPr>
      </p:pic>
      <p:pic>
        <p:nvPicPr>
          <p:cNvPr id="433" name="" descr=""/>
          <p:cNvPicPr/>
          <p:nvPr/>
        </p:nvPicPr>
        <p:blipFill>
          <a:blip r:embed="rId5"/>
          <a:stretch/>
        </p:blipFill>
        <p:spPr>
          <a:xfrm flipH="1">
            <a:off x="4922640" y="1838160"/>
            <a:ext cx="677880" cy="522360"/>
          </a:xfrm>
          <a:prstGeom prst="rect">
            <a:avLst/>
          </a:prstGeom>
          <a:ln w="0">
            <a:noFill/>
          </a:ln>
        </p:spPr>
      </p:pic>
      <p:pic>
        <p:nvPicPr>
          <p:cNvPr id="434" name="" descr=""/>
          <p:cNvPicPr/>
          <p:nvPr/>
        </p:nvPicPr>
        <p:blipFill>
          <a:blip r:embed="rId6"/>
          <a:stretch/>
        </p:blipFill>
        <p:spPr>
          <a:xfrm>
            <a:off x="7286760" y="1295280"/>
            <a:ext cx="866520" cy="625680"/>
          </a:xfrm>
          <a:prstGeom prst="rect">
            <a:avLst/>
          </a:prstGeom>
          <a:ln w="0">
            <a:noFill/>
          </a:ln>
        </p:spPr>
      </p:pic>
      <p:pic>
        <p:nvPicPr>
          <p:cNvPr id="435" name="" descr=""/>
          <p:cNvPicPr/>
          <p:nvPr/>
        </p:nvPicPr>
        <p:blipFill>
          <a:blip r:embed="rId7"/>
          <a:stretch/>
        </p:blipFill>
        <p:spPr>
          <a:xfrm flipH="1">
            <a:off x="6225840" y="1371600"/>
            <a:ext cx="677880" cy="522360"/>
          </a:xfrm>
          <a:prstGeom prst="rect">
            <a:avLst/>
          </a:prstGeom>
          <a:ln w="0">
            <a:noFill/>
          </a:ln>
        </p:spPr>
      </p:pic>
      <p:sp>
        <p:nvSpPr>
          <p:cNvPr id="436" name=""/>
          <p:cNvSpPr/>
          <p:nvPr/>
        </p:nvSpPr>
        <p:spPr>
          <a:xfrm>
            <a:off x="2126520" y="94608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roduc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4265640" y="946080"/>
            <a:ext cx="18352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Organizacion de Vent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6627240" y="958680"/>
            <a:ext cx="860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li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528480" y="946080"/>
            <a:ext cx="14133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roveed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550440" y="2463840"/>
            <a:ext cx="9410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Proveed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1329480" y="2357280"/>
            <a:ext cx="811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Contr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Man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010600" y="1622520"/>
            <a:ext cx="8143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Fabric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349800" y="1440000"/>
            <a:ext cx="1150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Almacen de Fab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3090960" y="2073240"/>
            <a:ext cx="46980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952640" y="2068560"/>
            <a:ext cx="46980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4457880" y="2068560"/>
            <a:ext cx="46980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5686560" y="2068560"/>
            <a:ext cx="46980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7010280" y="2057400"/>
            <a:ext cx="47016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572000" y="2330280"/>
            <a:ext cx="11606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Centro de Distribu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6051600" y="1905120"/>
            <a:ext cx="1111320" cy="5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Centro de Distribución Retai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7461360" y="1905120"/>
            <a:ext cx="76824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Tien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" name="" descr=""/>
          <p:cNvPicPr/>
          <p:nvPr/>
        </p:nvPicPr>
        <p:blipFill>
          <a:blip r:embed="rId8"/>
          <a:stretch/>
        </p:blipFill>
        <p:spPr>
          <a:xfrm>
            <a:off x="8542440" y="1835280"/>
            <a:ext cx="525240" cy="40788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8077320" y="2063880"/>
            <a:ext cx="46980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8077320" y="2182680"/>
            <a:ext cx="11556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Cliente fi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6477120" y="2701800"/>
            <a:ext cx="122544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Venta Directa/On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6546960" y="2438280"/>
            <a:ext cx="122544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Distribuid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" descr=""/>
          <p:cNvPicPr/>
          <p:nvPr/>
        </p:nvPicPr>
        <p:blipFill>
          <a:blip r:embed="rId1"/>
          <a:stretch/>
        </p:blipFill>
        <p:spPr>
          <a:xfrm>
            <a:off x="914400" y="1143000"/>
            <a:ext cx="7238880" cy="4933800"/>
          </a:xfrm>
          <a:prstGeom prst="rect">
            <a:avLst/>
          </a:prstGeom>
          <a:ln w="0">
            <a:noFill/>
          </a:ln>
        </p:spPr>
      </p:pic>
      <p:pic>
        <p:nvPicPr>
          <p:cNvPr id="458" name="" descr=""/>
          <p:cNvPicPr/>
          <p:nvPr/>
        </p:nvPicPr>
        <p:blipFill>
          <a:blip r:embed="rId2"/>
          <a:stretch/>
        </p:blipFill>
        <p:spPr>
          <a:xfrm>
            <a:off x="304920" y="2416320"/>
            <a:ext cx="7848360" cy="4441680"/>
          </a:xfrm>
          <a:prstGeom prst="rect">
            <a:avLst/>
          </a:prstGeom>
          <a:ln w="0">
            <a:noFill/>
          </a:ln>
        </p:spPr>
      </p:pic>
      <p:sp>
        <p:nvSpPr>
          <p:cNvPr id="459" name=""/>
          <p:cNvSpPr/>
          <p:nvPr/>
        </p:nvSpPr>
        <p:spPr>
          <a:xfrm>
            <a:off x="0" y="1447920"/>
            <a:ext cx="19810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74320" rIns="27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0" y="1828800"/>
            <a:ext cx="15238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74320" rIns="27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914400" y="260280"/>
            <a:ext cx="82296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     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Globalización de la Cadena de Suministros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66"/>
                </a:solidFill>
                <a:latin typeface="Times New Roman"/>
              </a:rPr>
              <a:t>También el almacenamiento se está deslocalizando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64" name="" descr=""/>
          <p:cNvPicPr/>
          <p:nvPr/>
        </p:nvPicPr>
        <p:blipFill>
          <a:blip r:embed="rId1"/>
          <a:stretch/>
        </p:blipFill>
        <p:spPr>
          <a:xfrm>
            <a:off x="533520" y="1066680"/>
            <a:ext cx="8008920" cy="54579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000066"/>
                </a:solidFill>
                <a:latin typeface="Times New Roman"/>
              </a:rPr>
              <a:t>3. Ejemplos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Industria del Salm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Agroindustr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Text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Pagos (Servipag vs Sencillit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7" name=""/>
          <p:cNvGrpSpPr/>
          <p:nvPr/>
        </p:nvGrpSpPr>
        <p:grpSpPr>
          <a:xfrm>
            <a:off x="76320" y="1917720"/>
            <a:ext cx="1295280" cy="4267080"/>
            <a:chOff x="76320" y="1917720"/>
            <a:chExt cx="1295280" cy="4267080"/>
          </a:xfrm>
        </p:grpSpPr>
        <p:sp>
          <p:nvSpPr>
            <p:cNvPr id="468" name=""/>
            <p:cNvSpPr/>
            <p:nvPr/>
          </p:nvSpPr>
          <p:spPr>
            <a:xfrm>
              <a:off x="76320" y="1917720"/>
              <a:ext cx="1295280" cy="45720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Insumos Marinos y Fluvial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6320" y="2451240"/>
              <a:ext cx="1295280" cy="30456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Laboratori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6320" y="2832120"/>
              <a:ext cx="1295280" cy="45720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Insumos Químic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6320" y="3365640"/>
              <a:ext cx="1295280" cy="30456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Reproductor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6320" y="3746520"/>
              <a:ext cx="1295280" cy="45720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Profesionales y Técnic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6320" y="4280040"/>
              <a:ext cx="1295280" cy="45720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ffffff"/>
                  </a:solidFill>
                  <a:latin typeface="Tahoma"/>
                </a:rPr>
                <a:t>Insumos Agricola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76320" y="4813200"/>
              <a:ext cx="1295280" cy="45720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Harina de Pescad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6320" y="5346720"/>
              <a:ext cx="1295280" cy="45720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ffffff"/>
                  </a:solidFill>
                  <a:latin typeface="Tahoma"/>
                </a:rPr>
                <a:t>Pinturas Antifoulin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6320" y="5880240"/>
              <a:ext cx="1295280" cy="30456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Pañ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" name=""/>
          <p:cNvGrpSpPr/>
          <p:nvPr/>
        </p:nvGrpSpPr>
        <p:grpSpPr>
          <a:xfrm>
            <a:off x="1371240" y="1968480"/>
            <a:ext cx="7671240" cy="4673520"/>
            <a:chOff x="1371240" y="1968480"/>
            <a:chExt cx="7671240" cy="4673520"/>
          </a:xfrm>
        </p:grpSpPr>
        <p:grpSp>
          <p:nvGrpSpPr>
            <p:cNvPr id="478" name=""/>
            <p:cNvGrpSpPr/>
            <p:nvPr/>
          </p:nvGrpSpPr>
          <p:grpSpPr>
            <a:xfrm>
              <a:off x="1371240" y="1968480"/>
              <a:ext cx="7671240" cy="4673520"/>
              <a:chOff x="1371240" y="1968480"/>
              <a:chExt cx="7671240" cy="4673520"/>
            </a:xfrm>
          </p:grpSpPr>
          <p:grpSp>
            <p:nvGrpSpPr>
              <p:cNvPr id="479" name=""/>
              <p:cNvGrpSpPr/>
              <p:nvPr/>
            </p:nvGrpSpPr>
            <p:grpSpPr>
              <a:xfrm>
                <a:off x="1523880" y="1968480"/>
                <a:ext cx="7518600" cy="4673520"/>
                <a:chOff x="1523880" y="1968480"/>
                <a:chExt cx="7518600" cy="4673520"/>
              </a:xfrm>
            </p:grpSpPr>
            <p:sp>
              <p:nvSpPr>
                <p:cNvPr id="480" name=""/>
                <p:cNvSpPr/>
                <p:nvPr/>
              </p:nvSpPr>
              <p:spPr>
                <a:xfrm>
                  <a:off x="1523880" y="2451240"/>
                  <a:ext cx="1067040" cy="1295280"/>
                </a:xfrm>
                <a:custGeom>
                  <a:avLst/>
                  <a:gdLst>
                    <a:gd name="textAreaLeft" fmla="*/ 0 w 1067040"/>
                    <a:gd name="textAreaRight" fmla="*/ 1067400 w 1067040"/>
                    <a:gd name="textAreaTop" fmla="*/ 0 h 1295280"/>
                    <a:gd name="textAreaBottom" fmla="*/ 1295640 h 12952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93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1100" spc="-1" strike="noStrike">
                      <a:solidFill>
                        <a:srgbClr val="000099"/>
                      </a:solidFill>
                      <a:latin typeface="Tahoma"/>
                    </a:rPr>
                    <a:t>Hatchery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2641680" y="2908440"/>
                  <a:ext cx="1117440" cy="457200"/>
                </a:xfrm>
                <a:custGeom>
                  <a:avLst/>
                  <a:gdLst>
                    <a:gd name="textAreaLeft" fmla="*/ 0 w 1117440"/>
                    <a:gd name="textAreaRight" fmla="*/ 1117440 w 1117440"/>
                    <a:gd name="textAreaTop" fmla="*/ 0 h 457200"/>
                    <a:gd name="textAreaBottom" fmla="*/ 457560 h 457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93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000099"/>
                      </a:solidFill>
                      <a:latin typeface="Tahoma"/>
                    </a:rPr>
                    <a:t>Engorda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3809880" y="2908440"/>
                  <a:ext cx="1032120" cy="457200"/>
                </a:xfrm>
                <a:custGeom>
                  <a:avLst/>
                  <a:gdLst>
                    <a:gd name="textAreaLeft" fmla="*/ 0 w 1032120"/>
                    <a:gd name="textAreaRight" fmla="*/ 1032480 w 1032120"/>
                    <a:gd name="textAreaTop" fmla="*/ 0 h 457200"/>
                    <a:gd name="textAreaBottom" fmla="*/ 457560 h 457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93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000099"/>
                      </a:solidFill>
                      <a:latin typeface="Tahoma"/>
                    </a:rPr>
                    <a:t>Cosecha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4890960" y="2908440"/>
                  <a:ext cx="1333800" cy="457200"/>
                </a:xfrm>
                <a:custGeom>
                  <a:avLst/>
                  <a:gdLst>
                    <a:gd name="textAreaLeft" fmla="*/ 0 w 1333800"/>
                    <a:gd name="textAreaRight" fmla="*/ 1334160 w 1333800"/>
                    <a:gd name="textAreaTop" fmla="*/ 0 h 457200"/>
                    <a:gd name="textAreaBottom" fmla="*/ 457560 h 457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93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000099"/>
                      </a:solidFill>
                      <a:latin typeface="Tahoma"/>
                    </a:rPr>
                    <a:t>Plantas Procesadoras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6248520" y="2679840"/>
                  <a:ext cx="1104840" cy="1066680"/>
                </a:xfrm>
                <a:custGeom>
                  <a:avLst/>
                  <a:gdLst>
                    <a:gd name="textAreaLeft" fmla="*/ 0 w 1104840"/>
                    <a:gd name="textAreaRight" fmla="*/ 1105200 w 1104840"/>
                    <a:gd name="textAreaTop" fmla="*/ 0 h 1066680"/>
                    <a:gd name="textAreaBottom" fmla="*/ 1067040 h 1066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93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1000" spc="-1" strike="noStrike">
                      <a:solidFill>
                        <a:srgbClr val="000099"/>
                      </a:solidFill>
                      <a:latin typeface="Tahoma"/>
                    </a:rPr>
                    <a:t>Distribución mayorista nacional e internac. 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7429680" y="2070000"/>
                  <a:ext cx="1180800" cy="457200"/>
                </a:xfrm>
                <a:custGeom>
                  <a:avLst/>
                  <a:gdLst>
                    <a:gd name="textAreaLeft" fmla="*/ 0 w 1180800"/>
                    <a:gd name="textAreaRight" fmla="*/ 1181160 w 1180800"/>
                    <a:gd name="textAreaTop" fmla="*/ 0 h 457200"/>
                    <a:gd name="textAreaBottom" fmla="*/ 457560 h 457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93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900" spc="-1" strike="noStrike">
                      <a:solidFill>
                        <a:srgbClr val="000099"/>
                      </a:solidFill>
                      <a:latin typeface="Tahoma"/>
                    </a:rPr>
                    <a:t>Reprocesador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7429680" y="2603520"/>
                  <a:ext cx="1180800" cy="457200"/>
                </a:xfrm>
                <a:custGeom>
                  <a:avLst/>
                  <a:gdLst>
                    <a:gd name="textAreaLeft" fmla="*/ 0 w 1180800"/>
                    <a:gd name="textAreaRight" fmla="*/ 1181160 w 1180800"/>
                    <a:gd name="textAreaTop" fmla="*/ 0 h 457200"/>
                    <a:gd name="textAreaBottom" fmla="*/ 457560 h 457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93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99"/>
                      </a:solidFill>
                      <a:latin typeface="Tahoma"/>
                    </a:rPr>
                    <a:t>Institucional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7429680" y="3137040"/>
                  <a:ext cx="1180800" cy="990360"/>
                </a:xfrm>
                <a:custGeom>
                  <a:avLst/>
                  <a:gdLst>
                    <a:gd name="textAreaLeft" fmla="*/ 0 w 1180800"/>
                    <a:gd name="textAreaRight" fmla="*/ 1181160 w 1180800"/>
                    <a:gd name="textAreaTop" fmla="*/ 0 h 990360"/>
                    <a:gd name="textAreaBottom" fmla="*/ 990720 h 990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93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900" spc="-1" strike="noStrike">
                      <a:solidFill>
                        <a:srgbClr val="000099"/>
                      </a:solidFill>
                      <a:latin typeface="Tahoma"/>
                    </a:rPr>
                    <a:t>Supermercado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buClr>
                      <a:srgbClr val="000099"/>
                    </a:buClr>
                    <a:buFont typeface="Tahom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900" spc="-1" strike="noStrike">
                      <a:solidFill>
                        <a:srgbClr val="000099"/>
                      </a:solidFill>
                      <a:latin typeface="Tahoma"/>
                    </a:rPr>
                    <a:t>Cash &amp;Carry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buClr>
                      <a:srgbClr val="000099"/>
                    </a:buClr>
                    <a:buFont typeface="Tahom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900" spc="-1" strike="noStrike">
                      <a:solidFill>
                        <a:srgbClr val="000099"/>
                      </a:solidFill>
                      <a:latin typeface="Tahoma"/>
                    </a:rPr>
                    <a:t>Discounters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buClr>
                      <a:srgbClr val="000099"/>
                    </a:buClr>
                    <a:buFont typeface="Tahom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900" spc="-1" strike="noStrike">
                      <a:solidFill>
                        <a:srgbClr val="000099"/>
                      </a:solidFill>
                      <a:latin typeface="Tahoma"/>
                    </a:rPr>
                    <a:t>Supermarket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buClr>
                      <a:srgbClr val="000099"/>
                    </a:buClr>
                    <a:buFont typeface="Tahom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900" spc="-1" strike="noStrike">
                      <a:solidFill>
                        <a:srgbClr val="000099"/>
                      </a:solidFill>
                      <a:latin typeface="Tahoma"/>
                    </a:rPr>
                    <a:t>Tradicional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7429680" y="4203720"/>
                  <a:ext cx="1180800" cy="457200"/>
                </a:xfrm>
                <a:custGeom>
                  <a:avLst/>
                  <a:gdLst>
                    <a:gd name="textAreaLeft" fmla="*/ 0 w 1180800"/>
                    <a:gd name="textAreaRight" fmla="*/ 1181160 w 1180800"/>
                    <a:gd name="textAreaTop" fmla="*/ 0 h 457200"/>
                    <a:gd name="textAreaBottom" fmla="*/ 457560 h 457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93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900" spc="-1" strike="noStrike">
                      <a:solidFill>
                        <a:srgbClr val="000099"/>
                      </a:solidFill>
                      <a:latin typeface="Tahoma"/>
                    </a:rPr>
                    <a:t>Restaurant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 rot="16200000">
                  <a:off x="6534000" y="4133520"/>
                  <a:ext cx="4673520" cy="343080"/>
                </a:xfrm>
                <a:prstGeom prst="rect">
                  <a:avLst/>
                </a:prstGeom>
                <a:solidFill>
                  <a:srgbClr val="ff9900"/>
                </a:solidFill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spcBef>
                      <a:spcPts val="4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MX" sz="1900" spc="-1" strike="noStrike">
                      <a:solidFill>
                        <a:srgbClr val="000099"/>
                      </a:solidFill>
                      <a:latin typeface="Tahoma"/>
                    </a:rPr>
                    <a:t>Consumidores</a:t>
                  </a:r>
                  <a:endParaRPr b="0" lang="en-US" sz="1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1600200" y="2832120"/>
                  <a:ext cx="762120" cy="228600"/>
                </a:xfrm>
                <a:custGeom>
                  <a:avLst/>
                  <a:gdLst>
                    <a:gd name="textAreaLeft" fmla="*/ 0 w 762120"/>
                    <a:gd name="textAreaRight" fmla="*/ 762480 w 76212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000099"/>
                      </a:solidFill>
                      <a:latin typeface="Tahoma"/>
                    </a:rPr>
                    <a:t>Ovas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1600200" y="3137040"/>
                  <a:ext cx="762120" cy="457200"/>
                </a:xfrm>
                <a:custGeom>
                  <a:avLst/>
                  <a:gdLst>
                    <a:gd name="textAreaLeft" fmla="*/ 0 w 762120"/>
                    <a:gd name="textAreaRight" fmla="*/ 762480 w 762120"/>
                    <a:gd name="textAreaTop" fmla="*/ 0 h 457200"/>
                    <a:gd name="textAreaBottom" fmla="*/ 457560 h 457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1100" spc="-1" strike="noStrike">
                      <a:solidFill>
                        <a:srgbClr val="000099"/>
                      </a:solidFill>
                      <a:latin typeface="Tahoma"/>
                    </a:rPr>
                    <a:t>Alevin, Smolt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cxnSp>
            <p:nvCxnSpPr>
              <p:cNvPr id="492" name=""/>
              <p:cNvCxnSpPr>
                <a:stCxn id="468" idx="0"/>
                <a:endCxn id="480" idx="0"/>
              </p:cNvCxnSpPr>
              <p:nvPr/>
            </p:nvCxnSpPr>
            <p:spPr>
              <a:xfrm>
                <a:off x="1371240" y="2146320"/>
                <a:ext cx="153000" cy="95328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93" name=""/>
              <p:cNvCxnSpPr>
                <a:stCxn id="469" idx="0"/>
                <a:endCxn id="480" idx="1"/>
              </p:cNvCxnSpPr>
              <p:nvPr/>
            </p:nvCxnSpPr>
            <p:spPr>
              <a:xfrm>
                <a:off x="1371240" y="2603520"/>
                <a:ext cx="153000" cy="49608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94" name=""/>
              <p:cNvCxnSpPr>
                <a:stCxn id="470" idx="0"/>
                <a:endCxn id="480" idx="2"/>
              </p:cNvCxnSpPr>
              <p:nvPr/>
            </p:nvCxnSpPr>
            <p:spPr>
              <a:xfrm>
                <a:off x="1371240" y="3060720"/>
                <a:ext cx="153000" cy="3888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95" name=""/>
              <p:cNvCxnSpPr>
                <a:stCxn id="471" idx="0"/>
                <a:endCxn id="480" idx="3"/>
              </p:cNvCxnSpPr>
              <p:nvPr/>
            </p:nvCxnSpPr>
            <p:spPr>
              <a:xfrm flipV="1">
                <a:off x="1371240" y="3098520"/>
                <a:ext cx="153000" cy="4197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96" name=""/>
              <p:cNvCxnSpPr>
                <a:stCxn id="472" idx="0"/>
                <a:endCxn id="480" idx="4"/>
              </p:cNvCxnSpPr>
              <p:nvPr/>
            </p:nvCxnSpPr>
            <p:spPr>
              <a:xfrm flipV="1">
                <a:off x="1371240" y="3098520"/>
                <a:ext cx="153000" cy="8769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</p:grpSp>
        <p:cxnSp>
          <p:nvCxnSpPr>
            <p:cNvPr id="497" name=""/>
            <p:cNvCxnSpPr>
              <a:stCxn id="484" idx="0"/>
              <a:endCxn id="485" idx="0"/>
            </p:cNvCxnSpPr>
            <p:nvPr/>
          </p:nvCxnSpPr>
          <p:spPr>
            <a:xfrm flipV="1">
              <a:off x="7353360" y="2298240"/>
              <a:ext cx="76680" cy="91512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98" name=""/>
            <p:cNvCxnSpPr>
              <a:stCxn id="484" idx="1"/>
              <a:endCxn id="486" idx="0"/>
            </p:cNvCxnSpPr>
            <p:nvPr/>
          </p:nvCxnSpPr>
          <p:spPr>
            <a:xfrm flipV="1">
              <a:off x="7353360" y="2831760"/>
              <a:ext cx="76680" cy="38160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99" name=""/>
            <p:cNvCxnSpPr>
              <a:stCxn id="484" idx="2"/>
              <a:endCxn id="487" idx="0"/>
            </p:cNvCxnSpPr>
            <p:nvPr/>
          </p:nvCxnSpPr>
          <p:spPr>
            <a:xfrm>
              <a:off x="7353360" y="3213000"/>
              <a:ext cx="76680" cy="4197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00" name=""/>
            <p:cNvCxnSpPr>
              <a:stCxn id="488" idx="0"/>
              <a:endCxn id="484" idx="3"/>
            </p:cNvCxnSpPr>
            <p:nvPr/>
          </p:nvCxnSpPr>
          <p:spPr>
            <a:xfrm rot="10800000">
              <a:off x="7353360" y="3212280"/>
              <a:ext cx="76680" cy="12200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501" name=""/>
          <p:cNvGrpSpPr/>
          <p:nvPr/>
        </p:nvGrpSpPr>
        <p:grpSpPr>
          <a:xfrm>
            <a:off x="101520" y="3365280"/>
            <a:ext cx="8458200" cy="3302280"/>
            <a:chOff x="101520" y="3365280"/>
            <a:chExt cx="8458200" cy="3302280"/>
          </a:xfrm>
        </p:grpSpPr>
        <p:grpSp>
          <p:nvGrpSpPr>
            <p:cNvPr id="502" name=""/>
            <p:cNvGrpSpPr/>
            <p:nvPr/>
          </p:nvGrpSpPr>
          <p:grpSpPr>
            <a:xfrm>
              <a:off x="101520" y="3505320"/>
              <a:ext cx="8458200" cy="3162240"/>
              <a:chOff x="101520" y="3505320"/>
              <a:chExt cx="8458200" cy="3162240"/>
            </a:xfrm>
          </p:grpSpPr>
          <p:sp>
            <p:nvSpPr>
              <p:cNvPr id="503" name=""/>
              <p:cNvSpPr/>
              <p:nvPr/>
            </p:nvSpPr>
            <p:spPr>
              <a:xfrm>
                <a:off x="101520" y="6210360"/>
                <a:ext cx="8458200" cy="4572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254160" y="6286680"/>
                <a:ext cx="4114800" cy="304560"/>
              </a:xfrm>
              <a:prstGeom prst="rect">
                <a:avLst/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2000"/>
              </a:bodyPr>
              <a:p>
                <a:pPr algn="ctr">
                  <a:lnSpc>
                    <a:spcPct val="100000"/>
                  </a:lnSpc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500" spc="-1" strike="noStrike">
                    <a:solidFill>
                      <a:srgbClr val="ffffff"/>
                    </a:solidFill>
                    <a:latin typeface="Tahoma"/>
                  </a:rPr>
                  <a:t>Transporte Terrestre, Marino y Aéreo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4597560" y="6286680"/>
                <a:ext cx="3809880" cy="304560"/>
              </a:xfrm>
              <a:prstGeom prst="rect">
                <a:avLst/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2000"/>
              </a:bodyPr>
              <a:p>
                <a:pPr algn="ctr">
                  <a:lnSpc>
                    <a:spcPct val="100000"/>
                  </a:lnSpc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500" spc="-1" strike="noStrike">
                    <a:solidFill>
                      <a:srgbClr val="ffffff"/>
                    </a:solidFill>
                    <a:latin typeface="Tahoma"/>
                  </a:rPr>
                  <a:t>Aseguramiento de la Calidad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1447920" y="4584600"/>
                <a:ext cx="1143000" cy="457200"/>
              </a:xfrm>
              <a:custGeom>
                <a:avLst/>
                <a:gdLst>
                  <a:gd name="textAreaLeft" fmla="*/ 0 w 1143000"/>
                  <a:gd name="textAreaRight" fmla="*/ 1143360 w 114300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Tahoma"/>
                  </a:rPr>
                  <a:t>Maestranza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1447920" y="5118120"/>
                <a:ext cx="1143000" cy="457200"/>
              </a:xfrm>
              <a:custGeom>
                <a:avLst/>
                <a:gdLst>
                  <a:gd name="textAreaLeft" fmla="*/ 0 w 1143000"/>
                  <a:gd name="textAreaRight" fmla="*/ 1143360 w 114300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Tahoma"/>
                  </a:rPr>
                  <a:t>Maestranza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2629080" y="3517920"/>
                <a:ext cx="1143000" cy="457200"/>
              </a:xfrm>
              <a:custGeom>
                <a:avLst/>
                <a:gdLst>
                  <a:gd name="textAreaLeft" fmla="*/ 0 w 1143000"/>
                  <a:gd name="textAreaRight" fmla="*/ 1143360 w 114300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Tahoma"/>
                  </a:rPr>
                  <a:t>Proveedore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Tahoma"/>
                  </a:rPr>
                  <a:t>Aliment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2629080" y="4051440"/>
                <a:ext cx="1143000" cy="457200"/>
              </a:xfrm>
              <a:custGeom>
                <a:avLst/>
                <a:gdLst>
                  <a:gd name="textAreaLeft" fmla="*/ 0 w 1143000"/>
                  <a:gd name="textAreaRight" fmla="*/ 1143360 w 114300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Tahoma"/>
                  </a:rPr>
                  <a:t>Laboratorios (Vacunas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2629080" y="4584600"/>
                <a:ext cx="1143000" cy="457200"/>
              </a:xfrm>
              <a:custGeom>
                <a:avLst/>
                <a:gdLst>
                  <a:gd name="textAreaLeft" fmla="*/ 0 w 1143000"/>
                  <a:gd name="textAreaRight" fmla="*/ 1143360 w 114300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Tahoma"/>
                  </a:rPr>
                  <a:t>Jaulas y balsa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2629080" y="5118120"/>
                <a:ext cx="1143000" cy="457200"/>
              </a:xfrm>
              <a:custGeom>
                <a:avLst/>
                <a:gdLst>
                  <a:gd name="textAreaLeft" fmla="*/ 0 w 1143000"/>
                  <a:gd name="textAreaRight" fmla="*/ 1143360 w 114300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000" spc="-1" strike="noStrike">
                    <a:solidFill>
                      <a:srgbClr val="ffffff"/>
                    </a:solidFill>
                    <a:latin typeface="Tahoma"/>
                  </a:rPr>
                  <a:t>Redes y mantención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2629080" y="5651640"/>
                <a:ext cx="1143000" cy="457200"/>
              </a:xfrm>
              <a:custGeom>
                <a:avLst/>
                <a:gdLst>
                  <a:gd name="textAreaLeft" fmla="*/ 0 w 1143000"/>
                  <a:gd name="textAreaRight" fmla="*/ 1143360 w 114300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Tahoma"/>
                  </a:rPr>
                  <a:t>Tratamiento de agua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3807000" y="3505320"/>
                <a:ext cx="1031760" cy="457200"/>
              </a:xfrm>
              <a:custGeom>
                <a:avLst/>
                <a:gdLst>
                  <a:gd name="textAreaLeft" fmla="*/ 0 w 1031760"/>
                  <a:gd name="textAreaRight" fmla="*/ 1032120 w 103176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Tahoma"/>
                  </a:rPr>
                  <a:t>Cosecha y Transp.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4889520" y="3517920"/>
                <a:ext cx="1333440" cy="457200"/>
              </a:xfrm>
              <a:custGeom>
                <a:avLst/>
                <a:gdLst>
                  <a:gd name="textAreaLeft" fmla="*/ 0 w 1333440"/>
                  <a:gd name="textAreaRight" fmla="*/ 1333800 w 13334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Tahoma"/>
                  </a:rPr>
                  <a:t>Envases y caja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4890960" y="4203720"/>
                <a:ext cx="1333800" cy="990720"/>
              </a:xfrm>
              <a:custGeom>
                <a:avLst/>
                <a:gdLst>
                  <a:gd name="textAreaLeft" fmla="*/ 0 w 1333800"/>
                  <a:gd name="textAreaRight" fmla="*/ 1334160 w 1333800"/>
                  <a:gd name="textAreaTop" fmla="*/ 0 h 990720"/>
                  <a:gd name="textAreaBottom" fmla="*/ 991080 h 990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000" spc="-1" strike="noStrike">
                    <a:solidFill>
                      <a:srgbClr val="ffffff"/>
                    </a:solidFill>
                    <a:latin typeface="Tahoma"/>
                  </a:rPr>
                  <a:t>Maquinas de proceso: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000" spc="-1" strike="noStrike">
                    <a:solidFill>
                      <a:srgbClr val="ffffff"/>
                    </a:solidFill>
                    <a:latin typeface="Tahoma"/>
                  </a:rPr>
                  <a:t>- Despieladora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000" spc="-1" strike="noStrike">
                    <a:solidFill>
                      <a:srgbClr val="ffffff"/>
                    </a:solidFill>
                    <a:latin typeface="Tahoma"/>
                  </a:rPr>
                  <a:t>- Ahumadora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000" spc="-1" strike="noStrike">
                    <a:solidFill>
                      <a:srgbClr val="ffffff"/>
                    </a:solidFill>
                    <a:latin typeface="Tahoma"/>
                  </a:rPr>
                  <a:t>- Hielo en escama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516" name=""/>
            <p:cNvCxnSpPr>
              <a:stCxn id="481" idx="0"/>
              <a:endCxn id="508" idx="0"/>
            </p:cNvCxnSpPr>
            <p:nvPr/>
          </p:nvCxnSpPr>
          <p:spPr>
            <a:xfrm rot="5400000">
              <a:off x="2982240" y="3439800"/>
              <a:ext cx="153000" cy="39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17" name=""/>
            <p:cNvCxnSpPr>
              <a:stCxn id="508" idx="1"/>
              <a:endCxn id="509" idx="0"/>
            </p:cNvCxnSpPr>
            <p:nvPr/>
          </p:nvCxnSpPr>
          <p:spPr>
            <a:xfrm flipV="1" rot="10800000">
              <a:off x="3056760" y="3975120"/>
              <a:ext cx="1080" cy="76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18" name=""/>
            <p:cNvCxnSpPr>
              <a:stCxn id="509" idx="1"/>
              <a:endCxn id="510" idx="0"/>
            </p:cNvCxnSpPr>
            <p:nvPr/>
          </p:nvCxnSpPr>
          <p:spPr>
            <a:xfrm flipV="1" rot="10800000">
              <a:off x="3056760" y="4508280"/>
              <a:ext cx="1080" cy="76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19" name=""/>
            <p:cNvCxnSpPr>
              <a:stCxn id="511" idx="0"/>
              <a:endCxn id="510" idx="1"/>
            </p:cNvCxnSpPr>
            <p:nvPr/>
          </p:nvCxnSpPr>
          <p:spPr>
            <a:xfrm flipV="1">
              <a:off x="3057120" y="5041800"/>
              <a:ext cx="1080" cy="76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20" name=""/>
            <p:cNvCxnSpPr>
              <a:stCxn id="512" idx="0"/>
              <a:endCxn id="511" idx="1"/>
            </p:cNvCxnSpPr>
            <p:nvPr/>
          </p:nvCxnSpPr>
          <p:spPr>
            <a:xfrm flipV="1">
              <a:off x="3057120" y="5575320"/>
              <a:ext cx="1080" cy="76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21" name=""/>
            <p:cNvCxnSpPr>
              <a:stCxn id="482" idx="0"/>
              <a:endCxn id="513" idx="0"/>
            </p:cNvCxnSpPr>
            <p:nvPr/>
          </p:nvCxnSpPr>
          <p:spPr>
            <a:xfrm rot="5400000">
              <a:off x="4124880" y="3433680"/>
              <a:ext cx="140400" cy="3960"/>
            </a:xfrm>
            <a:prstGeom prst="bentConnector3">
              <a:avLst>
                <a:gd name="adj1" fmla="val 49871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22" name=""/>
            <p:cNvCxnSpPr>
              <a:stCxn id="483" idx="0"/>
              <a:endCxn id="514" idx="0"/>
            </p:cNvCxnSpPr>
            <p:nvPr/>
          </p:nvCxnSpPr>
          <p:spPr>
            <a:xfrm rot="5400000">
              <a:off x="5313600" y="3440880"/>
              <a:ext cx="15300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23" name=""/>
            <p:cNvCxnSpPr>
              <a:stCxn id="514" idx="1"/>
              <a:endCxn id="515" idx="0"/>
            </p:cNvCxnSpPr>
            <p:nvPr/>
          </p:nvCxnSpPr>
          <p:spPr>
            <a:xfrm flipH="1" rot="16200000">
              <a:off x="5275800" y="4088160"/>
              <a:ext cx="2293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24" name=""/>
            <p:cNvCxnSpPr>
              <a:stCxn id="475" idx="0"/>
              <a:endCxn id="507" idx="0"/>
            </p:cNvCxnSpPr>
            <p:nvPr/>
          </p:nvCxnSpPr>
          <p:spPr>
            <a:xfrm flipV="1">
              <a:off x="1371600" y="5346000"/>
              <a:ext cx="76680" cy="22932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25" name=""/>
            <p:cNvCxnSpPr>
              <a:stCxn id="476" idx="0"/>
              <a:endCxn id="507" idx="1"/>
            </p:cNvCxnSpPr>
            <p:nvPr/>
          </p:nvCxnSpPr>
          <p:spPr>
            <a:xfrm flipV="1">
              <a:off x="1371600" y="5346000"/>
              <a:ext cx="76680" cy="68652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26" name=""/>
            <p:cNvCxnSpPr>
              <a:stCxn id="506" idx="0"/>
              <a:endCxn id="510" idx="2"/>
            </p:cNvCxnSpPr>
            <p:nvPr/>
          </p:nvCxnSpPr>
          <p:spPr>
            <a:xfrm>
              <a:off x="2590920" y="4812840"/>
              <a:ext cx="3888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27" name=""/>
            <p:cNvCxnSpPr>
              <a:stCxn id="507" idx="2"/>
              <a:endCxn id="511" idx="2"/>
            </p:cNvCxnSpPr>
            <p:nvPr/>
          </p:nvCxnSpPr>
          <p:spPr>
            <a:xfrm>
              <a:off x="2590920" y="5346360"/>
              <a:ext cx="3888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528" name=""/>
          <p:cNvGrpSpPr/>
          <p:nvPr/>
        </p:nvGrpSpPr>
        <p:grpSpPr>
          <a:xfrm>
            <a:off x="101520" y="1003320"/>
            <a:ext cx="8991720" cy="1904760"/>
            <a:chOff x="101520" y="1003320"/>
            <a:chExt cx="8991720" cy="1904760"/>
          </a:xfrm>
        </p:grpSpPr>
        <p:cxnSp>
          <p:nvCxnSpPr>
            <p:cNvPr id="529" name=""/>
            <p:cNvCxnSpPr>
              <a:stCxn id="484" idx="4"/>
              <a:endCxn id="530" idx="2"/>
            </p:cNvCxnSpPr>
            <p:nvPr/>
          </p:nvCxnSpPr>
          <p:spPr>
            <a:xfrm flipH="1" flipV="1" rot="5400000">
              <a:off x="7102800" y="1248120"/>
              <a:ext cx="991440" cy="1872360"/>
            </a:xfrm>
            <a:prstGeom prst="bentConnector3">
              <a:avLst>
                <a:gd name="adj1" fmla="val 72902"/>
              </a:avLst>
            </a:prstGeom>
            <a:ln w="9360">
              <a:solidFill>
                <a:srgbClr val="000000"/>
              </a:solidFill>
              <a:prstDash val="dash"/>
              <a:miter/>
            </a:ln>
          </p:spPr>
        </p:cxnSp>
        <p:cxnSp>
          <p:nvCxnSpPr>
            <p:cNvPr id="531" name=""/>
            <p:cNvCxnSpPr>
              <a:stCxn id="480" idx="5"/>
              <a:endCxn id="532" idx="2"/>
            </p:cNvCxnSpPr>
            <p:nvPr/>
          </p:nvCxnSpPr>
          <p:spPr>
            <a:xfrm flipH="1" flipV="1" rot="5400000">
              <a:off x="1914120" y="1698120"/>
              <a:ext cx="762840" cy="74340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prstDash val="dash"/>
              <a:miter/>
            </a:ln>
          </p:spPr>
        </p:cxnSp>
        <p:cxnSp>
          <p:nvCxnSpPr>
            <p:cNvPr id="533" name=""/>
            <p:cNvCxnSpPr>
              <a:stCxn id="481" idx="1"/>
              <a:endCxn id="534" idx="2"/>
            </p:cNvCxnSpPr>
            <p:nvPr/>
          </p:nvCxnSpPr>
          <p:spPr>
            <a:xfrm flipH="1" flipV="1" rot="5400000">
              <a:off x="3701880" y="1047240"/>
              <a:ext cx="1220040" cy="2502720"/>
            </a:xfrm>
            <a:prstGeom prst="bentConnector3">
              <a:avLst>
                <a:gd name="adj1" fmla="val 63518"/>
              </a:avLst>
            </a:prstGeom>
            <a:ln w="9360">
              <a:solidFill>
                <a:srgbClr val="000000"/>
              </a:solidFill>
              <a:prstDash val="dash"/>
              <a:miter/>
            </a:ln>
          </p:spPr>
        </p:cxnSp>
        <p:cxnSp>
          <p:nvCxnSpPr>
            <p:cNvPr id="535" name=""/>
            <p:cNvCxnSpPr>
              <a:stCxn id="482" idx="1"/>
              <a:endCxn id="536" idx="2"/>
            </p:cNvCxnSpPr>
            <p:nvPr/>
          </p:nvCxnSpPr>
          <p:spPr>
            <a:xfrm flipH="1" flipV="1" rot="5400000">
              <a:off x="3850920" y="2034720"/>
              <a:ext cx="1220040" cy="5277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prstDash val="dash"/>
              <a:miter/>
            </a:ln>
          </p:spPr>
        </p:cxnSp>
        <p:grpSp>
          <p:nvGrpSpPr>
            <p:cNvPr id="537" name=""/>
            <p:cNvGrpSpPr/>
            <p:nvPr/>
          </p:nvGrpSpPr>
          <p:grpSpPr>
            <a:xfrm>
              <a:off x="101520" y="1003320"/>
              <a:ext cx="8991720" cy="945000"/>
              <a:chOff x="101520" y="1003320"/>
              <a:chExt cx="8991720" cy="945000"/>
            </a:xfrm>
          </p:grpSpPr>
          <p:sp>
            <p:nvSpPr>
              <p:cNvPr id="538" name=""/>
              <p:cNvSpPr/>
              <p:nvPr/>
            </p:nvSpPr>
            <p:spPr>
              <a:xfrm>
                <a:off x="101520" y="1003320"/>
                <a:ext cx="8991720" cy="7621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228600" y="1117440"/>
                <a:ext cx="838080" cy="571680"/>
              </a:xfrm>
              <a:prstGeom prst="rect">
                <a:avLst/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5000"/>
              </a:bodyPr>
              <a:p>
                <a:pPr algn="ctr">
                  <a:lnSpc>
                    <a:spcPct val="100000"/>
                  </a:lnSpc>
                  <a:spcBef>
                    <a:spcPts val="2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100" spc="-1" strike="noStrike">
                    <a:solidFill>
                      <a:srgbClr val="ffffff"/>
                    </a:solidFill>
                    <a:latin typeface="Tahoma"/>
                  </a:rPr>
                  <a:t>Marina y Directemar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1143000" y="1117440"/>
                <a:ext cx="990720" cy="571680"/>
              </a:xfrm>
              <a:prstGeom prst="rect">
                <a:avLst/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1000"/>
              </a:bodyPr>
              <a:p>
                <a:pPr algn="ctr">
                  <a:lnSpc>
                    <a:spcPct val="100000"/>
                  </a:lnSpc>
                  <a:spcBef>
                    <a:spcPts val="2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ffffff"/>
                    </a:solidFill>
                    <a:latin typeface="Tahoma"/>
                  </a:rPr>
                  <a:t>Subsecretaría de Pesca y SERNAPESCA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2209680" y="1117440"/>
                <a:ext cx="914400" cy="571680"/>
              </a:xfrm>
              <a:prstGeom prst="rect">
                <a:avLst/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87000"/>
              </a:bodyPr>
              <a:p>
                <a:pPr algn="ctr">
                  <a:lnSpc>
                    <a:spcPct val="100000"/>
                  </a:lnSpc>
                  <a:spcBef>
                    <a:spcPts val="2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100" spc="-1" strike="noStrike">
                    <a:solidFill>
                      <a:srgbClr val="ffffff"/>
                    </a:solidFill>
                    <a:latin typeface="Tahoma"/>
                  </a:rPr>
                  <a:t>Centros de Desarrollo Tecnológico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3200400" y="1117440"/>
                <a:ext cx="1066680" cy="571680"/>
              </a:xfrm>
              <a:prstGeom prst="rect">
                <a:avLst/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1000"/>
              </a:bodyPr>
              <a:p>
                <a:pPr algn="ctr">
                  <a:lnSpc>
                    <a:spcPct val="100000"/>
                  </a:lnSpc>
                  <a:spcBef>
                    <a:spcPts val="2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100" spc="-1" strike="noStrike">
                    <a:solidFill>
                      <a:srgbClr val="ffffff"/>
                    </a:solidFill>
                    <a:latin typeface="Tahoma"/>
                  </a:rPr>
                  <a:t>Universidades y Centros de Investigación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4343400" y="1117440"/>
                <a:ext cx="762120" cy="571680"/>
              </a:xfrm>
              <a:prstGeom prst="rect">
                <a:avLst/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77000"/>
              </a:bodyPr>
              <a:p>
                <a:pPr algn="ctr">
                  <a:lnSpc>
                    <a:spcPct val="100000"/>
                  </a:lnSpc>
                  <a:spcBef>
                    <a:spcPts val="2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100" spc="-1" strike="noStrike">
                    <a:solidFill>
                      <a:srgbClr val="ffffff"/>
                    </a:solidFill>
                    <a:latin typeface="Tahoma"/>
                  </a:rPr>
                  <a:t>Sup. Servicios Sanitario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5181480" y="1117440"/>
                <a:ext cx="762120" cy="571680"/>
              </a:xfrm>
              <a:prstGeom prst="rect">
                <a:avLst/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2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100" spc="-1" strike="noStrike">
                    <a:solidFill>
                      <a:srgbClr val="ffffff"/>
                    </a:solidFill>
                    <a:latin typeface="Tahoma"/>
                  </a:rPr>
                  <a:t>CONAMA y SSA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6019920" y="1117440"/>
                <a:ext cx="990360" cy="571680"/>
              </a:xfrm>
              <a:prstGeom prst="rect">
                <a:avLst/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1000"/>
              </a:bodyPr>
              <a:p>
                <a:pPr algn="ctr">
                  <a:lnSpc>
                    <a:spcPct val="100000"/>
                  </a:lnSpc>
                  <a:spcBef>
                    <a:spcPts val="2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100" spc="-1" strike="noStrike">
                    <a:solidFill>
                      <a:srgbClr val="ffffff"/>
                    </a:solidFill>
                    <a:latin typeface="Tahoma"/>
                  </a:rPr>
                  <a:t>Asociaciones y entidades de apoyo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7086600" y="1117440"/>
                <a:ext cx="914400" cy="571680"/>
              </a:xfrm>
              <a:prstGeom prst="rect">
                <a:avLst/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5000"/>
              </a:bodyPr>
              <a:p>
                <a:pPr algn="ctr">
                  <a:lnSpc>
                    <a:spcPct val="100000"/>
                  </a:lnSpc>
                  <a:spcBef>
                    <a:spcPts val="2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100" spc="-1" strike="noStrike">
                    <a:solidFill>
                      <a:srgbClr val="ffffff"/>
                    </a:solidFill>
                    <a:latin typeface="Tahoma"/>
                  </a:rPr>
                  <a:t>Entidades Financiera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8077320" y="1117440"/>
                <a:ext cx="914400" cy="571680"/>
              </a:xfrm>
              <a:prstGeom prst="rect">
                <a:avLst/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84000"/>
              </a:bodyPr>
              <a:p>
                <a:pPr algn="ctr">
                  <a:lnSpc>
                    <a:spcPct val="100000"/>
                  </a:lnSpc>
                  <a:spcBef>
                    <a:spcPts val="2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100" spc="-1" strike="noStrike">
                    <a:solidFill>
                      <a:srgbClr val="ffffff"/>
                    </a:solidFill>
                    <a:latin typeface="Tahoma"/>
                  </a:rPr>
                  <a:t>Centros y Servicios de información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44" name=""/>
              <p:cNvCxnSpPr>
                <a:stCxn id="539" idx="2"/>
                <a:endCxn id="540" idx="2"/>
              </p:cNvCxnSpPr>
              <p:nvPr/>
            </p:nvCxnSpPr>
            <p:spPr>
              <a:xfrm flipH="1" rot="16200000">
                <a:off x="1142280" y="1194120"/>
                <a:ext cx="2160" cy="991440"/>
              </a:xfrm>
              <a:prstGeom prst="bentConnector3">
                <a:avLst>
                  <a:gd name="adj1" fmla="val 8680000"/>
                </a:avLst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</p:cxnSp>
          <p:cxnSp>
            <p:nvCxnSpPr>
              <p:cNvPr id="545" name=""/>
              <p:cNvCxnSpPr>
                <a:stCxn id="532" idx="2"/>
                <a:endCxn id="541" idx="2"/>
              </p:cNvCxnSpPr>
              <p:nvPr/>
            </p:nvCxnSpPr>
            <p:spPr>
              <a:xfrm flipH="1" rot="16200000">
                <a:off x="3199680" y="1155960"/>
                <a:ext cx="2160" cy="1067760"/>
              </a:xfrm>
              <a:prstGeom prst="bentConnector3">
                <a:avLst>
                  <a:gd name="adj1" fmla="val 14400000"/>
                </a:avLst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</p:cxnSp>
        </p:grpSp>
      </p:grpSp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371600" y="260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0066"/>
                </a:solidFill>
                <a:latin typeface="Times New Roman"/>
              </a:rPr>
              <a:t>The Salmon Industry inChile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/>
          <p:nvPr/>
        </p:nvSpPr>
        <p:spPr>
          <a:xfrm>
            <a:off x="0" y="851040"/>
            <a:ext cx="9144000" cy="600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Visión Completa del Sistema-Producto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1523880" y="1590840"/>
            <a:ext cx="4648320" cy="39024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Tahoma"/>
              </a:rPr>
              <a:t>Agentes responsables de Trazabilidad (ISO, HACCP, et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7391520" y="838080"/>
            <a:ext cx="1663560" cy="5969160"/>
          </a:xfrm>
          <a:custGeom>
            <a:avLst/>
            <a:gdLst>
              <a:gd name="textAreaLeft" fmla="*/ 27720 w 1663560"/>
              <a:gd name="textAreaRight" fmla="*/ 1635840 w 1663560"/>
              <a:gd name="textAreaTop" fmla="*/ 27720 h 5969160"/>
              <a:gd name="textAreaBottom" fmla="*/ 5941440 h 5969160"/>
            </a:gdLst>
            <a:ahLst/>
            <a:rect l="textAreaLeft" t="textAreaTop" r="textAreaRight" b="textAreaBottom"/>
            <a:pathLst>
              <a:path w="21600" h="77493">
                <a:moveTo>
                  <a:pt x="1237" y="0"/>
                </a:moveTo>
                <a:arcTo wR="1237" hR="1237" stAng="16200000" swAng="-5400000"/>
                <a:lnTo>
                  <a:pt x="0" y="76256"/>
                </a:lnTo>
                <a:arcTo wR="1237" hR="1237" stAng="10800000" swAng="-5400000"/>
                <a:lnTo>
                  <a:pt x="20363" y="77493"/>
                </a:lnTo>
                <a:arcTo wR="1237" hR="1237" stAng="5400000" swAng="-5400000"/>
                <a:lnTo>
                  <a:pt x="21600" y="1237"/>
                </a:lnTo>
                <a:arcTo wR="1237" hR="1237" stAng="0" swAng="-5400000"/>
                <a:close/>
              </a:path>
            </a:pathLst>
          </a:custGeom>
          <a:solidFill>
            <a:srgbClr val="ff9900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1600200" y="2895480"/>
            <a:ext cx="914400" cy="60984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66"/>
                </a:solidFill>
                <a:latin typeface="Tahoma"/>
              </a:rPr>
              <a:t>Alimento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4419720" y="2895480"/>
            <a:ext cx="914400" cy="60984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Tahoma"/>
              </a:rPr>
              <a:t>Centros de M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876920" y="2133720"/>
            <a:ext cx="1066680" cy="46656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Tahoma"/>
              </a:rPr>
              <a:t>Planta de Proce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1600200" y="3830760"/>
            <a:ext cx="4191120" cy="51264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Tahoma"/>
              </a:rPr>
              <a:t>Investigación y Desarrol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28600" y="4886280"/>
            <a:ext cx="2438280" cy="466920"/>
          </a:xfrm>
          <a:prstGeom prst="rect">
            <a:avLst/>
          </a:prstGeom>
          <a:solidFill>
            <a:srgbClr val="000099"/>
          </a:solidFill>
          <a:ln w="158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Proveedores Materias Pri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2819520" y="4876920"/>
            <a:ext cx="3504960" cy="466560"/>
          </a:xfrm>
          <a:prstGeom prst="rect">
            <a:avLst/>
          </a:prstGeom>
          <a:solidFill>
            <a:srgbClr val="000099"/>
          </a:solidFill>
          <a:ln w="158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Proveedores Servicios y Bienes de Capi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152280" y="5964120"/>
            <a:ext cx="7086600" cy="284400"/>
          </a:xfrm>
          <a:prstGeom prst="rect">
            <a:avLst/>
          </a:prstGeom>
          <a:solidFill>
            <a:srgbClr val="000099"/>
          </a:solidFill>
          <a:ln w="158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Tecnolog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5867280" y="3733920"/>
            <a:ext cx="1219320" cy="466560"/>
          </a:xfrm>
          <a:prstGeom prst="rect">
            <a:avLst/>
          </a:prstGeom>
          <a:solidFill>
            <a:srgbClr val="000099"/>
          </a:solidFill>
          <a:ln w="158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ffffff"/>
                </a:solidFill>
                <a:latin typeface="Tahoma"/>
              </a:rPr>
              <a:t>Transporte Terrestre Frí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304920" y="2362320"/>
            <a:ext cx="1066680" cy="380880"/>
          </a:xfrm>
          <a:prstGeom prst="rect">
            <a:avLst/>
          </a:prstGeom>
          <a:solidFill>
            <a:srgbClr val="000099"/>
          </a:solidFill>
          <a:ln w="158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Pesquer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04920" y="3505320"/>
            <a:ext cx="1066680" cy="466560"/>
          </a:xfrm>
          <a:prstGeom prst="rect">
            <a:avLst/>
          </a:prstGeom>
          <a:solidFill>
            <a:srgbClr val="000099"/>
          </a:solidFill>
          <a:ln w="158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Industria Quím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304920" y="2895480"/>
            <a:ext cx="1066680" cy="466920"/>
          </a:xfrm>
          <a:prstGeom prst="rect">
            <a:avLst/>
          </a:prstGeom>
          <a:solidFill>
            <a:srgbClr val="000099"/>
          </a:solidFill>
          <a:ln w="158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ffffff"/>
                </a:solidFill>
                <a:latin typeface="Tahoma"/>
              </a:rPr>
              <a:t>Productores Agrícola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152280" y="6370560"/>
            <a:ext cx="8839440" cy="347760"/>
          </a:xfrm>
          <a:prstGeom prst="rect">
            <a:avLst/>
          </a:prstGeom>
          <a:solidFill>
            <a:srgbClr val="000099"/>
          </a:solidFill>
          <a:ln w="158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Sistema Económico y Financiero Mund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228600" y="5486400"/>
            <a:ext cx="6934320" cy="380880"/>
          </a:xfrm>
          <a:prstGeom prst="rect">
            <a:avLst/>
          </a:prstGeom>
          <a:solidFill>
            <a:srgbClr val="000099"/>
          </a:solidFill>
          <a:ln w="158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Sistemas de Comunicación e Información (Telefonía, Internet,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2438280" y="2133720"/>
            <a:ext cx="2286000" cy="46656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Tahoma"/>
              </a:rPr>
              <a:t>Genética Reproduc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76320" y="600120"/>
            <a:ext cx="7238880" cy="466560"/>
          </a:xfrm>
          <a:prstGeom prst="rect">
            <a:avLst/>
          </a:prstGeom>
          <a:solidFill>
            <a:srgbClr val="000099"/>
          </a:solidFill>
          <a:ln w="158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Gobierno Nacional y Regional (leyes, macroeconomía,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7620120" y="3733920"/>
            <a:ext cx="1295280" cy="466560"/>
          </a:xfrm>
          <a:prstGeom prst="rect">
            <a:avLst/>
          </a:prstGeom>
          <a:solidFill>
            <a:srgbClr val="000099"/>
          </a:solidFill>
          <a:ln w="158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Transporte Terrestre Frí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2438280" y="3200400"/>
            <a:ext cx="457200" cy="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 flipV="1">
            <a:off x="5181480" y="2616120"/>
            <a:ext cx="0" cy="27936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5791320" y="2616120"/>
            <a:ext cx="0" cy="35568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6324480" y="3352680"/>
            <a:ext cx="0" cy="38124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572000" y="2590920"/>
            <a:ext cx="0" cy="30456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2895480" y="2855880"/>
            <a:ext cx="1295640" cy="64944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Tahoma"/>
              </a:rPr>
              <a:t>Pisciculturas / Centro de Agua Dul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4" name=""/>
          <p:cNvGrpSpPr/>
          <p:nvPr/>
        </p:nvGrpSpPr>
        <p:grpSpPr>
          <a:xfrm>
            <a:off x="2604960" y="2590560"/>
            <a:ext cx="61920" cy="1219320"/>
            <a:chOff x="2604960" y="2590560"/>
            <a:chExt cx="61920" cy="1219320"/>
          </a:xfrm>
        </p:grpSpPr>
        <p:sp>
          <p:nvSpPr>
            <p:cNvPr id="575" name=""/>
            <p:cNvSpPr/>
            <p:nvPr/>
          </p:nvSpPr>
          <p:spPr>
            <a:xfrm flipV="1">
              <a:off x="2666880" y="2590560"/>
              <a:ext cx="0" cy="5331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2666880" y="3276720"/>
              <a:ext cx="0" cy="5331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604960" y="3124080"/>
              <a:ext cx="61920" cy="152640"/>
            </a:xfrm>
            <a:custGeom>
              <a:avLst/>
              <a:gdLst/>
              <a:ahLst/>
              <a:rect l="l" t="t" r="r" b="b"/>
              <a:pathLst>
                <a:path w="39" h="96">
                  <a:moveTo>
                    <a:pt x="39" y="0"/>
                  </a:moveTo>
                  <a:cubicBezTo>
                    <a:pt x="27" y="3"/>
                    <a:pt x="16" y="7"/>
                    <a:pt x="9" y="15"/>
                  </a:cubicBezTo>
                  <a:cubicBezTo>
                    <a:pt x="2" y="23"/>
                    <a:pt x="0" y="38"/>
                    <a:pt x="0" y="48"/>
                  </a:cubicBezTo>
                  <a:cubicBezTo>
                    <a:pt x="0" y="58"/>
                    <a:pt x="6" y="70"/>
                    <a:pt x="12" y="78"/>
                  </a:cubicBezTo>
                  <a:cubicBezTo>
                    <a:pt x="18" y="86"/>
                    <a:pt x="27" y="91"/>
                    <a:pt x="36" y="96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8" name=""/>
          <p:cNvSpPr/>
          <p:nvPr/>
        </p:nvSpPr>
        <p:spPr>
          <a:xfrm flipV="1">
            <a:off x="5486400" y="2590920"/>
            <a:ext cx="0" cy="121896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88920" y="1143000"/>
            <a:ext cx="7226280" cy="304920"/>
          </a:xfrm>
          <a:prstGeom prst="rect">
            <a:avLst/>
          </a:prstGeom>
          <a:solidFill>
            <a:srgbClr val="000099"/>
          </a:solidFill>
          <a:ln w="158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Bancos / Entidades Financier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6477120" y="4440240"/>
            <a:ext cx="1600200" cy="284040"/>
          </a:xfrm>
          <a:prstGeom prst="rect">
            <a:avLst/>
          </a:prstGeom>
          <a:solidFill>
            <a:srgbClr val="0000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Fletes Aére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6477120" y="4973760"/>
            <a:ext cx="1600200" cy="284040"/>
          </a:xfrm>
          <a:prstGeom prst="rect">
            <a:avLst/>
          </a:prstGeom>
          <a:solidFill>
            <a:srgbClr val="0000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Aduan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6477120" y="4689360"/>
            <a:ext cx="1600200" cy="284400"/>
          </a:xfrm>
          <a:prstGeom prst="rect">
            <a:avLst/>
          </a:prstGeom>
          <a:solidFill>
            <a:srgbClr val="0000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Fletes Marítim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7696080" y="533520"/>
            <a:ext cx="1067040" cy="466560"/>
          </a:xfrm>
          <a:prstGeom prst="rect">
            <a:avLst/>
          </a:prstGeom>
          <a:solidFill>
            <a:srgbClr val="ff9900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Tahoma"/>
              </a:rPr>
              <a:t>Mercado Glob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 flipV="1">
            <a:off x="2057400" y="3505320"/>
            <a:ext cx="0" cy="30456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 flipV="1">
            <a:off x="3581280" y="3505320"/>
            <a:ext cx="0" cy="30456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V="1">
            <a:off x="4876920" y="3505320"/>
            <a:ext cx="0" cy="30456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5562720" y="2971800"/>
            <a:ext cx="1447560" cy="38088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66"/>
                </a:solidFill>
                <a:latin typeface="Tahoma"/>
              </a:rPr>
              <a:t>Comercializació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467480" y="5964120"/>
            <a:ext cx="1524240" cy="284400"/>
          </a:xfrm>
          <a:prstGeom prst="rect">
            <a:avLst/>
          </a:prstGeom>
          <a:solidFill>
            <a:srgbClr val="000099"/>
          </a:solidFill>
          <a:ln w="158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Tecnolog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7162920" y="6095880"/>
            <a:ext cx="380880" cy="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5715000" y="3352680"/>
            <a:ext cx="0" cy="45720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1" name=""/>
          <p:cNvCxnSpPr>
            <a:stCxn id="587" idx="0"/>
            <a:endCxn id="592" idx="1"/>
          </p:cNvCxnSpPr>
          <p:nvPr/>
        </p:nvCxnSpPr>
        <p:spPr>
          <a:xfrm flipH="1" flipV="1" rot="5400000">
            <a:off x="6553800" y="2056320"/>
            <a:ext cx="639000" cy="1173600"/>
          </a:xfrm>
          <a:prstGeom prst="bentConnector2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93" name=""/>
          <p:cNvSpPr/>
          <p:nvPr/>
        </p:nvSpPr>
        <p:spPr>
          <a:xfrm>
            <a:off x="533520" y="9144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6400800" y="9144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762120" y="13716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172200" y="13716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1523880" y="190512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5715000" y="190512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1219320" y="5180760"/>
            <a:ext cx="45720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172200" y="5180760"/>
            <a:ext cx="45720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1447920" y="45720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 flipV="1">
            <a:off x="5334120" y="45720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 flipV="1">
            <a:off x="533520" y="57150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 flipV="1">
            <a:off x="6553080" y="57150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 flipV="1">
            <a:off x="152280" y="6095160"/>
            <a:ext cx="45720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 flipV="1">
            <a:off x="6781680" y="6095160"/>
            <a:ext cx="45720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4114800" y="3200400"/>
            <a:ext cx="380880" cy="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581280" y="2590920"/>
            <a:ext cx="0" cy="30456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9" name=""/>
          <p:cNvCxnSpPr>
            <a:stCxn id="587" idx="3"/>
            <a:endCxn id="610" idx="1"/>
          </p:cNvCxnSpPr>
          <p:nvPr/>
        </p:nvCxnSpPr>
        <p:spPr>
          <a:xfrm>
            <a:off x="7019640" y="3162240"/>
            <a:ext cx="440280" cy="153360"/>
          </a:xfrm>
          <a:prstGeom prst="bentConnector3">
            <a:avLst>
              <a:gd name="adj1" fmla="val 49754"/>
            </a:avLst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11" name=""/>
          <p:cNvCxnSpPr>
            <a:endCxn id="580" idx="0"/>
          </p:cNvCxnSpPr>
          <p:nvPr/>
        </p:nvCxnSpPr>
        <p:spPr>
          <a:xfrm flipH="1" rot="16200000">
            <a:off x="6535080" y="3689280"/>
            <a:ext cx="989280" cy="496080"/>
          </a:xfrm>
          <a:prstGeom prst="bentConnector3">
            <a:avLst>
              <a:gd name="adj1" fmla="val 15726"/>
            </a:avLst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612" name=""/>
          <p:cNvSpPr/>
          <p:nvPr/>
        </p:nvSpPr>
        <p:spPr>
          <a:xfrm flipV="1">
            <a:off x="6781680" y="3352320"/>
            <a:ext cx="0" cy="2415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 flipV="1">
            <a:off x="7924680" y="5637960"/>
            <a:ext cx="45720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 flipV="1">
            <a:off x="8534520" y="61722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7467480" y="1676520"/>
            <a:ext cx="1524240" cy="1295280"/>
          </a:xfrm>
          <a:prstGeom prst="rect">
            <a:avLst/>
          </a:prstGeom>
          <a:solidFill>
            <a:srgbClr val="000099"/>
          </a:solidFill>
          <a:ln w="158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CLIENT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Reprocesad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Institucion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Supermerca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Restauran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467480" y="1066680"/>
            <a:ext cx="1524240" cy="381240"/>
          </a:xfrm>
          <a:prstGeom prst="rect">
            <a:avLst/>
          </a:prstGeom>
          <a:solidFill>
            <a:srgbClr val="000099"/>
          </a:solidFill>
          <a:ln w="158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Consumid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 flipV="1">
            <a:off x="8229600" y="1371600"/>
            <a:ext cx="0" cy="38088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7467480" y="3124080"/>
            <a:ext cx="1524240" cy="381240"/>
          </a:xfrm>
          <a:prstGeom prst="rect">
            <a:avLst/>
          </a:prstGeom>
          <a:solidFill>
            <a:srgbClr val="000099"/>
          </a:solidFill>
          <a:ln w="158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Mayorist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1447920" y="2514600"/>
            <a:ext cx="0" cy="12193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 flipH="1">
            <a:off x="1218960" y="3733920"/>
            <a:ext cx="22860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 flipH="1">
            <a:off x="1218960" y="2514600"/>
            <a:ext cx="22860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1447920" y="3200400"/>
            <a:ext cx="22860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 flipH="1">
            <a:off x="1295280" y="3200400"/>
            <a:ext cx="15264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 flipV="1">
            <a:off x="7848720" y="4191120"/>
            <a:ext cx="0" cy="30456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 flipV="1">
            <a:off x="6705720" y="4191120"/>
            <a:ext cx="0" cy="30456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7620120" y="2616120"/>
            <a:ext cx="1295280" cy="304920"/>
          </a:xfrm>
          <a:prstGeom prst="rect">
            <a:avLst/>
          </a:prstGeom>
          <a:solidFill>
            <a:srgbClr val="0000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I &amp; D Clien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 flipV="1">
            <a:off x="8229600" y="3429000"/>
            <a:ext cx="0" cy="38088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 flipV="1">
            <a:off x="8229600" y="2895120"/>
            <a:ext cx="0" cy="30492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 flipH="1">
            <a:off x="5904000" y="2498760"/>
            <a:ext cx="31752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 rot="5400000">
            <a:off x="6255000" y="2392920"/>
            <a:ext cx="61920" cy="152280"/>
          </a:xfrm>
          <a:custGeom>
            <a:avLst/>
            <a:gdLst/>
            <a:ahLst/>
            <a:rect l="l" t="t" r="r" b="b"/>
            <a:pathLst>
              <a:path w="39" h="96">
                <a:moveTo>
                  <a:pt x="39" y="0"/>
                </a:moveTo>
                <a:cubicBezTo>
                  <a:pt x="27" y="3"/>
                  <a:pt x="16" y="7"/>
                  <a:pt x="9" y="15"/>
                </a:cubicBezTo>
                <a:cubicBezTo>
                  <a:pt x="2" y="23"/>
                  <a:pt x="0" y="38"/>
                  <a:pt x="0" y="48"/>
                </a:cubicBezTo>
                <a:cubicBezTo>
                  <a:pt x="0" y="58"/>
                  <a:pt x="6" y="70"/>
                  <a:pt x="12" y="78"/>
                </a:cubicBezTo>
                <a:cubicBezTo>
                  <a:pt x="18" y="86"/>
                  <a:pt x="27" y="91"/>
                  <a:pt x="36" y="96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9" name=""/>
          <p:cNvCxnSpPr>
            <a:stCxn id="628" idx="0"/>
            <a:endCxn id="624" idx="1"/>
          </p:cNvCxnSpPr>
          <p:nvPr/>
        </p:nvCxnSpPr>
        <p:spPr>
          <a:xfrm>
            <a:off x="6375240" y="2498760"/>
            <a:ext cx="1237680" cy="270720"/>
          </a:xfrm>
          <a:prstGeom prst="bentConnector3">
            <a:avLst>
              <a:gd name="adj1" fmla="val 49781"/>
            </a:avLst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630" name=""/>
          <p:cNvSpPr/>
          <p:nvPr/>
        </p:nvSpPr>
        <p:spPr>
          <a:xfrm>
            <a:off x="0" y="76320"/>
            <a:ext cx="87980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000066"/>
                </a:solidFill>
                <a:latin typeface="Times New Roman"/>
              </a:rPr>
              <a:t>Salmon Complex Adaptative System at Invert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4360" y="1196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66"/>
                </a:solidFill>
                <a:uFillTx/>
                <a:latin typeface="Times New Roman"/>
              </a:rPr>
              <a:t>Temario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23640" y="2743200"/>
            <a:ext cx="856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sentación del curs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. Calendario y reglas del jueg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 Introducción a la Estrategia de Operacio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"/>
          <p:cNvSpPr/>
          <p:nvPr/>
        </p:nvSpPr>
        <p:spPr>
          <a:xfrm>
            <a:off x="2160" y="62895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99ff66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447840" y="1376280"/>
            <a:ext cx="8227800" cy="472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66"/>
                </a:solidFill>
                <a:latin typeface="Arial"/>
              </a:rPr>
              <a:t>Temar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evisión síntesis clas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TP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Gestión Integral de la Cadena de Val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ndicaciones Análisis de caso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"/>
          <p:cNvSpPr/>
          <p:nvPr/>
        </p:nvSpPr>
        <p:spPr>
          <a:xfrm>
            <a:off x="7391520" y="838080"/>
            <a:ext cx="1663560" cy="5969160"/>
          </a:xfrm>
          <a:custGeom>
            <a:avLst/>
            <a:gdLst>
              <a:gd name="textAreaLeft" fmla="*/ 27720 w 1663560"/>
              <a:gd name="textAreaRight" fmla="*/ 1635840 w 1663560"/>
              <a:gd name="textAreaTop" fmla="*/ 27720 h 5969160"/>
              <a:gd name="textAreaBottom" fmla="*/ 5941440 h 5969160"/>
            </a:gdLst>
            <a:ahLst/>
            <a:rect l="textAreaLeft" t="textAreaTop" r="textAreaRight" b="textAreaBottom"/>
            <a:pathLst>
              <a:path w="21600" h="77493">
                <a:moveTo>
                  <a:pt x="1237" y="0"/>
                </a:moveTo>
                <a:arcTo wR="1237" hR="1237" stAng="16200000" swAng="-5400000"/>
                <a:lnTo>
                  <a:pt x="0" y="76256"/>
                </a:lnTo>
                <a:arcTo wR="1237" hR="1237" stAng="10800000" swAng="-5400000"/>
                <a:lnTo>
                  <a:pt x="20363" y="77493"/>
                </a:lnTo>
                <a:arcTo wR="1237" hR="1237" stAng="5400000" swAng="-5400000"/>
                <a:lnTo>
                  <a:pt x="21600" y="1237"/>
                </a:lnTo>
                <a:arcTo wR="1237" hR="1237" stAng="0" swAng="-5400000"/>
                <a:close/>
              </a:path>
            </a:pathLst>
          </a:cu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7620120" y="3733920"/>
            <a:ext cx="1295280" cy="46656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0c0c0"/>
                </a:solidFill>
                <a:latin typeface="Tahoma"/>
              </a:rPr>
              <a:t>Transporte Terrestre Frí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7467480" y="1676520"/>
            <a:ext cx="1524240" cy="129528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0c0c0"/>
                </a:solidFill>
                <a:latin typeface="Tahoma"/>
              </a:rPr>
              <a:t>CLIENT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0c0c0"/>
                </a:solidFill>
                <a:latin typeface="Tahoma"/>
              </a:rPr>
              <a:t>Reprocesad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0c0c0"/>
                </a:solidFill>
                <a:latin typeface="Tahoma"/>
              </a:rPr>
              <a:t>Institucion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0c0c0"/>
                </a:solidFill>
                <a:latin typeface="Tahoma"/>
              </a:rPr>
              <a:t>Supermerca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0c0c0"/>
                </a:solidFill>
                <a:latin typeface="Tahoma"/>
              </a:rPr>
              <a:t>Restauran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7467480" y="1066680"/>
            <a:ext cx="1524240" cy="38124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0c0c0"/>
                </a:solidFill>
                <a:latin typeface="Tahoma"/>
              </a:rPr>
              <a:t>Consumid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7467480" y="3124080"/>
            <a:ext cx="1524240" cy="38124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0c0c0"/>
                </a:solidFill>
                <a:latin typeface="Tahoma"/>
              </a:rPr>
              <a:t>Mayorist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7620120" y="2616120"/>
            <a:ext cx="1295280" cy="30492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0c0c0"/>
                </a:solidFill>
                <a:latin typeface="Tahoma"/>
              </a:rPr>
              <a:t>I &amp; D Clien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 flipV="1">
            <a:off x="8229600" y="2895120"/>
            <a:ext cx="0" cy="3812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8" name=""/>
          <p:cNvGrpSpPr/>
          <p:nvPr/>
        </p:nvGrpSpPr>
        <p:grpSpPr>
          <a:xfrm>
            <a:off x="5904000" y="2438280"/>
            <a:ext cx="1782720" cy="330840"/>
            <a:chOff x="5904000" y="2438280"/>
            <a:chExt cx="1782720" cy="330840"/>
          </a:xfrm>
        </p:grpSpPr>
        <p:sp>
          <p:nvSpPr>
            <p:cNvPr id="639" name=""/>
            <p:cNvSpPr/>
            <p:nvPr/>
          </p:nvSpPr>
          <p:spPr>
            <a:xfrm flipH="1">
              <a:off x="5904000" y="2498760"/>
              <a:ext cx="3175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rot="5400000">
              <a:off x="6255000" y="2392920"/>
              <a:ext cx="61920" cy="152280"/>
            </a:xfrm>
            <a:custGeom>
              <a:avLst/>
              <a:gdLst/>
              <a:ahLst/>
              <a:rect l="l" t="t" r="r" b="b"/>
              <a:pathLst>
                <a:path w="39" h="96">
                  <a:moveTo>
                    <a:pt x="39" y="0"/>
                  </a:moveTo>
                  <a:cubicBezTo>
                    <a:pt x="27" y="3"/>
                    <a:pt x="16" y="7"/>
                    <a:pt x="9" y="15"/>
                  </a:cubicBezTo>
                  <a:cubicBezTo>
                    <a:pt x="2" y="23"/>
                    <a:pt x="0" y="38"/>
                    <a:pt x="0" y="48"/>
                  </a:cubicBezTo>
                  <a:cubicBezTo>
                    <a:pt x="0" y="58"/>
                    <a:pt x="6" y="70"/>
                    <a:pt x="12" y="78"/>
                  </a:cubicBezTo>
                  <a:cubicBezTo>
                    <a:pt x="18" y="86"/>
                    <a:pt x="27" y="91"/>
                    <a:pt x="36" y="9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41" name=""/>
            <p:cNvCxnSpPr>
              <a:stCxn id="640" idx="0"/>
              <a:endCxn id="636" idx="1"/>
            </p:cNvCxnSpPr>
            <p:nvPr/>
          </p:nvCxnSpPr>
          <p:spPr>
            <a:xfrm>
              <a:off x="6372000" y="2498760"/>
              <a:ext cx="1315080" cy="2707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</p:grpSp>
      <p:sp>
        <p:nvSpPr>
          <p:cNvPr id="642" name=""/>
          <p:cNvSpPr/>
          <p:nvPr/>
        </p:nvSpPr>
        <p:spPr>
          <a:xfrm flipV="1">
            <a:off x="8229600" y="137160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 flipV="1">
            <a:off x="8229600" y="3429000"/>
            <a:ext cx="0" cy="38088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1523880" y="1590840"/>
            <a:ext cx="4648320" cy="39024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0c0c0"/>
                </a:solidFill>
                <a:latin typeface="Tahoma"/>
              </a:rPr>
              <a:t>Agentes responsables de Trazabilidad (ISO, HACCP, et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1600200" y="2895480"/>
            <a:ext cx="914400" cy="60984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0c0c0"/>
                </a:solidFill>
                <a:latin typeface="Tahoma"/>
              </a:rPr>
              <a:t>Alimen-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4419720" y="2895480"/>
            <a:ext cx="914400" cy="60984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0c0c0"/>
                </a:solidFill>
                <a:latin typeface="Tahoma"/>
              </a:rPr>
              <a:t>Centros de M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4876920" y="2133720"/>
            <a:ext cx="1066680" cy="46656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0c0c0"/>
                </a:solidFill>
                <a:latin typeface="Tahoma"/>
              </a:rPr>
              <a:t>Planta de Proce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1600200" y="3830760"/>
            <a:ext cx="4191120" cy="51264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0c0c0"/>
                </a:solidFill>
                <a:latin typeface="Tahoma"/>
              </a:rPr>
              <a:t>Investigación y Desarrol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228600" y="4886280"/>
            <a:ext cx="2438280" cy="46692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0c0c0"/>
                </a:solidFill>
                <a:latin typeface="Tahoma"/>
              </a:rPr>
              <a:t>Proveedores Mat. Pri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2819520" y="4876920"/>
            <a:ext cx="3504960" cy="46656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0c0c0"/>
                </a:solidFill>
                <a:latin typeface="Tahoma"/>
              </a:rPr>
              <a:t>Proveedores Servicios y Bienes de Capi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152280" y="5964120"/>
            <a:ext cx="7086600" cy="28440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0c0c0"/>
                </a:solidFill>
                <a:latin typeface="Tahoma"/>
              </a:rPr>
              <a:t>Tecnolog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5867280" y="3733920"/>
            <a:ext cx="1143000" cy="46656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c0c0c0"/>
                </a:solidFill>
                <a:latin typeface="Tahoma"/>
              </a:rPr>
              <a:t>Transporte Terrestre Frí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304920" y="2362320"/>
            <a:ext cx="1066680" cy="38088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c0c0c0"/>
                </a:solidFill>
                <a:latin typeface="Tahoma"/>
              </a:rPr>
              <a:t>Pesquer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304920" y="3505320"/>
            <a:ext cx="1066680" cy="46656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c0c0c0"/>
                </a:solidFill>
                <a:latin typeface="Tahoma"/>
              </a:rPr>
              <a:t>Industria Quím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304920" y="2895480"/>
            <a:ext cx="1066680" cy="46692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c0c0c0"/>
                </a:solidFill>
                <a:latin typeface="Tahoma"/>
              </a:rPr>
              <a:t>Productores Agrícol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152280" y="6370560"/>
            <a:ext cx="8839440" cy="34776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0c0c0"/>
                </a:solidFill>
                <a:latin typeface="Tahoma"/>
              </a:rPr>
              <a:t>Sistema Económico y Financiero Mund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228600" y="5486400"/>
            <a:ext cx="6934320" cy="38088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0c0c0"/>
                </a:solidFill>
                <a:latin typeface="Tahoma"/>
              </a:rPr>
              <a:t>Sistemas de Comunicación e Información (Telefonía, Internet,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2438280" y="2133720"/>
            <a:ext cx="2286000" cy="46656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0c0c0"/>
                </a:solidFill>
                <a:latin typeface="Tahoma"/>
              </a:rPr>
              <a:t>Genética Reproduct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0" y="533520"/>
            <a:ext cx="7238880" cy="46656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c0c0c0"/>
                </a:solidFill>
                <a:latin typeface="Tahoma"/>
              </a:rPr>
              <a:t>Gobierno Nacional y Regional (leyes, macroeconomía, etc.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 flipV="1">
            <a:off x="5181480" y="251460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6324480" y="335268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4572000" y="251460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2895480" y="2855880"/>
            <a:ext cx="1295640" cy="64944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0c0c0"/>
                </a:solidFill>
                <a:latin typeface="Tahoma"/>
              </a:rPr>
              <a:t>Pisciculturas / Centro de Agua Dul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4" name=""/>
          <p:cNvGrpSpPr/>
          <p:nvPr/>
        </p:nvGrpSpPr>
        <p:grpSpPr>
          <a:xfrm>
            <a:off x="2604960" y="2590560"/>
            <a:ext cx="61920" cy="1219320"/>
            <a:chOff x="2604960" y="2590560"/>
            <a:chExt cx="61920" cy="1219320"/>
          </a:xfrm>
        </p:grpSpPr>
        <p:sp>
          <p:nvSpPr>
            <p:cNvPr id="665" name=""/>
            <p:cNvSpPr/>
            <p:nvPr/>
          </p:nvSpPr>
          <p:spPr>
            <a:xfrm flipV="1">
              <a:off x="2666880" y="2590560"/>
              <a:ext cx="0" cy="533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666880" y="3276720"/>
              <a:ext cx="0" cy="533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2604960" y="3124080"/>
              <a:ext cx="61920" cy="152640"/>
            </a:xfrm>
            <a:custGeom>
              <a:avLst/>
              <a:gdLst/>
              <a:ahLst/>
              <a:rect l="l" t="t" r="r" b="b"/>
              <a:pathLst>
                <a:path w="39" h="96">
                  <a:moveTo>
                    <a:pt x="39" y="0"/>
                  </a:moveTo>
                  <a:cubicBezTo>
                    <a:pt x="27" y="3"/>
                    <a:pt x="16" y="7"/>
                    <a:pt x="9" y="15"/>
                  </a:cubicBezTo>
                  <a:cubicBezTo>
                    <a:pt x="2" y="23"/>
                    <a:pt x="0" y="38"/>
                    <a:pt x="0" y="48"/>
                  </a:cubicBezTo>
                  <a:cubicBezTo>
                    <a:pt x="0" y="58"/>
                    <a:pt x="6" y="70"/>
                    <a:pt x="12" y="78"/>
                  </a:cubicBezTo>
                  <a:cubicBezTo>
                    <a:pt x="18" y="86"/>
                    <a:pt x="27" y="91"/>
                    <a:pt x="36" y="9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8" name=""/>
          <p:cNvSpPr/>
          <p:nvPr/>
        </p:nvSpPr>
        <p:spPr>
          <a:xfrm flipV="1">
            <a:off x="5486400" y="2590920"/>
            <a:ext cx="0" cy="121896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88920" y="1143000"/>
            <a:ext cx="7226280" cy="30492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0c0c0"/>
                </a:solidFill>
                <a:latin typeface="Tahoma"/>
              </a:rPr>
              <a:t>Bancos / Entidades Financier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6477120" y="4440240"/>
            <a:ext cx="1600200" cy="28404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c0c0c0"/>
                </a:solidFill>
                <a:latin typeface="Tahoma"/>
              </a:rPr>
              <a:t>Fletes Aére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6477120" y="4973760"/>
            <a:ext cx="1600200" cy="28404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c0c0c0"/>
                </a:solidFill>
                <a:latin typeface="Tahoma"/>
              </a:rPr>
              <a:t>Aduan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6477120" y="4689360"/>
            <a:ext cx="1600200" cy="28440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c0c0c0"/>
                </a:solidFill>
                <a:latin typeface="Tahoma"/>
              </a:rPr>
              <a:t>Fletes Marítim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7696080" y="533520"/>
            <a:ext cx="1067040" cy="46656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0c0c0"/>
                </a:solidFill>
                <a:latin typeface="Tahoma"/>
              </a:rPr>
              <a:t>Mercado Glob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 flipV="1">
            <a:off x="2057400" y="350532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 flipV="1">
            <a:off x="3581280" y="350532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 flipV="1">
            <a:off x="4876920" y="350532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5562720" y="2971800"/>
            <a:ext cx="1447560" cy="38088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0c0c0"/>
                </a:solidFill>
                <a:latin typeface="Tahoma"/>
              </a:rPr>
              <a:t>Comerciali-z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7467480" y="5964120"/>
            <a:ext cx="1524240" cy="284400"/>
          </a:xfrm>
          <a:prstGeom prst="rect">
            <a:avLst/>
          </a:prstGeom>
          <a:solidFill>
            <a:srgbClr val="eaeaea"/>
          </a:soli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0c0c0"/>
                </a:solidFill>
                <a:latin typeface="Tahoma"/>
              </a:rPr>
              <a:t>Tecnolog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 flipH="1">
            <a:off x="7162560" y="6095880"/>
            <a:ext cx="53316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 flipV="1">
            <a:off x="5715000" y="335268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1" name=""/>
          <p:cNvCxnSpPr>
            <a:stCxn id="677" idx="0"/>
          </p:cNvCxnSpPr>
          <p:nvPr/>
        </p:nvCxnSpPr>
        <p:spPr>
          <a:xfrm flipH="1" flipV="1" rot="5400000">
            <a:off x="6495840" y="1999800"/>
            <a:ext cx="753480" cy="1172160"/>
          </a:xfrm>
          <a:prstGeom prst="bentConnector2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682" name=""/>
          <p:cNvSpPr/>
          <p:nvPr/>
        </p:nvSpPr>
        <p:spPr>
          <a:xfrm>
            <a:off x="533520" y="9144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3300"/>
              </a:gs>
              <a:gs pos="100000">
                <a:srgbClr val="feb9a8"/>
              </a:gs>
            </a:gsLst>
            <a:lin ang="5400000"/>
          </a:gra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6400800" y="9144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3300"/>
              </a:gs>
              <a:gs pos="100000">
                <a:srgbClr val="feb9a8"/>
              </a:gs>
            </a:gsLst>
            <a:lin ang="5400000"/>
          </a:gra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762120" y="13716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3300"/>
              </a:gs>
              <a:gs pos="100000">
                <a:srgbClr val="feb9a8"/>
              </a:gs>
            </a:gsLst>
            <a:lin ang="5400000"/>
          </a:gra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6172200" y="13716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3300"/>
              </a:gs>
              <a:gs pos="100000">
                <a:srgbClr val="feb9a8"/>
              </a:gs>
            </a:gsLst>
            <a:lin ang="5400000"/>
          </a:gra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1523880" y="190512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3300"/>
              </a:gs>
              <a:gs pos="100000">
                <a:srgbClr val="feb9a8"/>
              </a:gs>
            </a:gsLst>
            <a:lin ang="5400000"/>
          </a:gra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5715000" y="190512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3300"/>
              </a:gs>
              <a:gs pos="100000">
                <a:srgbClr val="feb9a8"/>
              </a:gs>
            </a:gsLst>
            <a:lin ang="5400000"/>
          </a:gra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 flipV="1">
            <a:off x="1219320" y="5180760"/>
            <a:ext cx="457200" cy="38124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3300"/>
              </a:gs>
              <a:gs pos="100000">
                <a:srgbClr val="feb9a8"/>
              </a:gs>
            </a:gsLst>
            <a:lin ang="5400000"/>
          </a:gra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6172200" y="5180760"/>
            <a:ext cx="457200" cy="38124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3300"/>
              </a:gs>
              <a:gs pos="100000">
                <a:srgbClr val="feb9a8"/>
              </a:gs>
            </a:gsLst>
            <a:lin ang="5400000"/>
          </a:gra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 flipV="1">
            <a:off x="1447920" y="45720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3300"/>
              </a:gs>
              <a:gs pos="100000">
                <a:srgbClr val="feb9a8"/>
              </a:gs>
            </a:gsLst>
            <a:lin ang="5400000"/>
          </a:gra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 flipV="1">
            <a:off x="5334120" y="45720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3300"/>
              </a:gs>
              <a:gs pos="100000">
                <a:srgbClr val="feb9a8"/>
              </a:gs>
            </a:gsLst>
            <a:lin ang="5400000"/>
          </a:gra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 flipV="1">
            <a:off x="533520" y="57150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3300"/>
              </a:gs>
              <a:gs pos="100000">
                <a:srgbClr val="feb9a8"/>
              </a:gs>
            </a:gsLst>
            <a:lin ang="5400000"/>
          </a:gra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 flipV="1">
            <a:off x="6553080" y="57150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3300"/>
              </a:gs>
              <a:gs pos="100000">
                <a:srgbClr val="feb9a8"/>
              </a:gs>
            </a:gsLst>
            <a:lin ang="5400000"/>
          </a:gra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V="1">
            <a:off x="152280" y="6095160"/>
            <a:ext cx="457200" cy="38124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3300"/>
              </a:gs>
              <a:gs pos="100000">
                <a:srgbClr val="feb9a8"/>
              </a:gs>
            </a:gsLst>
            <a:lin ang="5400000"/>
          </a:gra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 flipV="1">
            <a:off x="6781680" y="6095160"/>
            <a:ext cx="457200" cy="38124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3300"/>
              </a:gs>
              <a:gs pos="100000">
                <a:srgbClr val="feb9a8"/>
              </a:gs>
            </a:gsLst>
            <a:lin ang="5400000"/>
          </a:gra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4038480" y="3200400"/>
            <a:ext cx="53352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3581280" y="251460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8" name=""/>
          <p:cNvCxnSpPr>
            <a:stCxn id="677" idx="3"/>
          </p:cNvCxnSpPr>
          <p:nvPr/>
        </p:nvCxnSpPr>
        <p:spPr>
          <a:xfrm>
            <a:off x="7019640" y="3161880"/>
            <a:ext cx="438840" cy="1080"/>
          </a:xfrm>
          <a:prstGeom prst="bentConnector2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99" name=""/>
          <p:cNvCxnSpPr>
            <a:endCxn id="670" idx="0"/>
          </p:cNvCxnSpPr>
          <p:nvPr/>
        </p:nvCxnSpPr>
        <p:spPr>
          <a:xfrm flipH="1" rot="16200000">
            <a:off x="6534720" y="3688200"/>
            <a:ext cx="990000" cy="496080"/>
          </a:xfrm>
          <a:prstGeom prst="bentConnector3">
            <a:avLst>
              <a:gd name="adj1" fmla="val 15714"/>
            </a:avLst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700" name=""/>
          <p:cNvSpPr/>
          <p:nvPr/>
        </p:nvSpPr>
        <p:spPr>
          <a:xfrm flipV="1">
            <a:off x="6781680" y="3352320"/>
            <a:ext cx="0" cy="241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 flipV="1">
            <a:off x="7924680" y="5637960"/>
            <a:ext cx="457200" cy="38124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3300"/>
              </a:gs>
              <a:gs pos="100000">
                <a:srgbClr val="feb9a8"/>
              </a:gs>
            </a:gsLst>
            <a:lin ang="5400000"/>
          </a:gra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 flipV="1">
            <a:off x="8534520" y="61722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3300"/>
              </a:gs>
              <a:gs pos="100000">
                <a:srgbClr val="feb9a8"/>
              </a:gs>
            </a:gsLst>
            <a:lin ang="5400000"/>
          </a:gra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1476000" y="188640"/>
            <a:ext cx="94489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3343320"/>
                <a:tab algn="l" pos="6686640"/>
                <a:tab algn="l" pos="10029960"/>
              </a:tabLst>
            </a:pPr>
            <a:r>
              <a:rPr b="1" i="1" lang="es-ES" sz="1800" spc="-1" strike="noStrike">
                <a:solidFill>
                  <a:srgbClr val="000066"/>
                </a:solidFill>
                <a:latin typeface="Tahoma"/>
              </a:rPr>
              <a:t>Relaciones Principales de los Productos de valor agregado</a:t>
            </a:r>
            <a:br>
              <a:rPr sz="1800"/>
            </a:b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704" name=""/>
          <p:cNvGrpSpPr/>
          <p:nvPr/>
        </p:nvGrpSpPr>
        <p:grpSpPr>
          <a:xfrm>
            <a:off x="1218960" y="2514600"/>
            <a:ext cx="381240" cy="1219320"/>
            <a:chOff x="1218960" y="2514600"/>
            <a:chExt cx="381240" cy="1219320"/>
          </a:xfrm>
        </p:grpSpPr>
        <p:grpSp>
          <p:nvGrpSpPr>
            <p:cNvPr id="705" name=""/>
            <p:cNvGrpSpPr/>
            <p:nvPr/>
          </p:nvGrpSpPr>
          <p:grpSpPr>
            <a:xfrm>
              <a:off x="1218960" y="2514600"/>
              <a:ext cx="381240" cy="1219320"/>
              <a:chOff x="1218960" y="2514600"/>
              <a:chExt cx="381240" cy="1219320"/>
            </a:xfrm>
          </p:grpSpPr>
          <p:sp>
            <p:nvSpPr>
              <p:cNvPr id="706" name=""/>
              <p:cNvSpPr/>
              <p:nvPr/>
            </p:nvSpPr>
            <p:spPr>
              <a:xfrm>
                <a:off x="1447920" y="2514600"/>
                <a:ext cx="0" cy="12193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flipH="1">
                <a:off x="1218960" y="3733920"/>
                <a:ext cx="2286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flipH="1">
                <a:off x="1218960" y="2514600"/>
                <a:ext cx="2286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71600" y="3200400"/>
                <a:ext cx="2286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0" name=""/>
            <p:cNvSpPr/>
            <p:nvPr/>
          </p:nvSpPr>
          <p:spPr>
            <a:xfrm flipH="1">
              <a:off x="1295280" y="3200400"/>
              <a:ext cx="1526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1" name=""/>
          <p:cNvSpPr/>
          <p:nvPr/>
        </p:nvSpPr>
        <p:spPr>
          <a:xfrm>
            <a:off x="6705720" y="4191120"/>
            <a:ext cx="0" cy="30456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5791320" y="259092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2286000" y="3200400"/>
            <a:ext cx="76212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 flipV="1">
            <a:off x="3200400" y="182880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 flipH="1">
            <a:off x="5334120" y="2438280"/>
            <a:ext cx="220968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 flipH="1">
            <a:off x="838080" y="3352680"/>
            <a:ext cx="2438640" cy="457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 flipV="1">
            <a:off x="4495680" y="1828800"/>
            <a:ext cx="609840" cy="22860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 flipH="1">
            <a:off x="5562360" y="4038480"/>
            <a:ext cx="60948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3962520" y="2362320"/>
            <a:ext cx="0" cy="36576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 flipV="1">
            <a:off x="6324480" y="1295280"/>
            <a:ext cx="1447920" cy="19051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 flipV="1">
            <a:off x="8763120" y="1219320"/>
            <a:ext cx="0" cy="259056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 flipH="1">
            <a:off x="4114440" y="1295280"/>
            <a:ext cx="1219320" cy="16765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 flipH="1" flipV="1">
            <a:off x="914400" y="2666880"/>
            <a:ext cx="2666880" cy="5335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 flipH="1">
            <a:off x="5257440" y="1219320"/>
            <a:ext cx="2438280" cy="106668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 flipH="1">
            <a:off x="2438280" y="5181480"/>
            <a:ext cx="60984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 flipH="1" flipV="1">
            <a:off x="4952520" y="4267080"/>
            <a:ext cx="1752840" cy="5335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 flipH="1">
            <a:off x="8001000" y="4191120"/>
            <a:ext cx="533520" cy="9144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 flipH="1">
            <a:off x="914400" y="2438280"/>
            <a:ext cx="1905120" cy="6098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 flipV="1">
            <a:off x="3200400" y="3276720"/>
            <a:ext cx="2514600" cy="76176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762120" y="3886200"/>
            <a:ext cx="1143000" cy="38088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2209680" y="1295280"/>
            <a:ext cx="0" cy="43434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2971800" y="1320840"/>
            <a:ext cx="0" cy="47750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 flipV="1">
            <a:off x="4343400" y="4038480"/>
            <a:ext cx="3352680" cy="10670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1752480" y="838080"/>
            <a:ext cx="0" cy="57150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609480" y="3886200"/>
            <a:ext cx="723924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133720" y="1219320"/>
            <a:ext cx="601956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5105520" y="3352680"/>
            <a:ext cx="1600200" cy="12193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762120" y="2514600"/>
            <a:ext cx="3733560" cy="32004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3962520" y="1752480"/>
            <a:ext cx="1066680" cy="43434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3429000" y="1371600"/>
            <a:ext cx="0" cy="3886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 flipV="1">
            <a:off x="685800" y="761760"/>
            <a:ext cx="2133720" cy="243828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5486400" y="1828800"/>
            <a:ext cx="1752480" cy="32767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 flipV="1">
            <a:off x="7848720" y="411480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 flipV="1">
            <a:off x="3809880" y="3276720"/>
            <a:ext cx="3962520" cy="175248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 flipV="1">
            <a:off x="4267080" y="4114440"/>
            <a:ext cx="3886200" cy="198108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 flipV="1">
            <a:off x="4876920" y="4114440"/>
            <a:ext cx="3581280" cy="243828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 flipV="1">
            <a:off x="2438280" y="1828440"/>
            <a:ext cx="5181840" cy="43434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4267080" y="1905120"/>
            <a:ext cx="3581640" cy="190476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125892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66"/>
                </a:solidFill>
                <a:latin typeface="Times New Roman"/>
              </a:rPr>
              <a:t>Desarrollo de Seguridad Alimentaria: </a:t>
            </a:r>
            <a:br>
              <a:rPr sz="3200"/>
            </a:br>
            <a:r>
              <a:rPr b="0" i="1" lang="es-MX" sz="3200" spc="-1" strike="noStrike">
                <a:solidFill>
                  <a:srgbClr val="000066"/>
                </a:solidFill>
                <a:latin typeface="Times New Roman"/>
              </a:rPr>
              <a:t>“Trazabilidad”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0" y="1557360"/>
            <a:ext cx="6302520" cy="21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3680" indent="-193680">
              <a:lnSpc>
                <a:spcPct val="100000"/>
              </a:lnSpc>
              <a:buClr>
                <a:srgbClr val="4d4d4d"/>
              </a:buClr>
              <a:buSzPct val="13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4d4d4d"/>
                </a:solidFill>
                <a:latin typeface="Tahoma"/>
              </a:rPr>
              <a:t>Regulaciones y especificaciones de productos en los países desarrollados son exigentes y protegen al consumidor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lnSpc>
                <a:spcPct val="100000"/>
              </a:lnSpc>
              <a:buClr>
                <a:srgbClr val="4d4d4d"/>
              </a:buClr>
              <a:buSzPct val="13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4d4d4d"/>
                </a:solidFill>
                <a:latin typeface="Tahoma"/>
              </a:rPr>
              <a:t>Seguridad alimetaria es un tema crítico e identificamos sus especificaciones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lnSpc>
                <a:spcPct val="100000"/>
              </a:lnSpc>
              <a:buClr>
                <a:srgbClr val="4d4d4d"/>
              </a:buClr>
              <a:buSzPct val="13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4d4d4d"/>
                </a:solidFill>
                <a:latin typeface="Tahoma"/>
              </a:rPr>
              <a:t>S</a:t>
            </a:r>
            <a:r>
              <a:rPr b="1" lang="es-MX" sz="1700" spc="-1" strike="noStrike">
                <a:solidFill>
                  <a:srgbClr val="4d4d4d"/>
                </a:solidFill>
                <a:latin typeface="Tahoma"/>
              </a:rPr>
              <a:t>istema de rastreo de información</a:t>
            </a:r>
            <a:r>
              <a:rPr b="0" lang="es-MX" sz="1700" spc="-1" strike="noStrike">
                <a:solidFill>
                  <a:srgbClr val="4d4d4d"/>
                </a:solidFill>
                <a:latin typeface="Tahoma"/>
              </a:rPr>
              <a:t> que permite llegar desde el producto final hasta los padres de los peces que fueron la materia prima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1" name="" descr=""/>
          <p:cNvPicPr/>
          <p:nvPr/>
        </p:nvPicPr>
        <p:blipFill>
          <a:blip r:embed="rId1"/>
          <a:stretch/>
        </p:blipFill>
        <p:spPr>
          <a:xfrm>
            <a:off x="6400800" y="1527120"/>
            <a:ext cx="2743200" cy="1825560"/>
          </a:xfrm>
          <a:prstGeom prst="rect">
            <a:avLst/>
          </a:prstGeom>
          <a:ln w="0">
            <a:noFill/>
          </a:ln>
        </p:spPr>
      </p:pic>
      <p:pic>
        <p:nvPicPr>
          <p:cNvPr id="752" name="" descr=""/>
          <p:cNvPicPr/>
          <p:nvPr/>
        </p:nvPicPr>
        <p:blipFill>
          <a:blip r:embed="rId2"/>
          <a:stretch/>
        </p:blipFill>
        <p:spPr>
          <a:xfrm>
            <a:off x="4267080" y="3722760"/>
            <a:ext cx="4724640" cy="3058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"/>
          <p:cNvSpPr/>
          <p:nvPr/>
        </p:nvSpPr>
        <p:spPr>
          <a:xfrm>
            <a:off x="1219320" y="990720"/>
            <a:ext cx="7772400" cy="579096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4" name=""/>
          <p:cNvGrpSpPr/>
          <p:nvPr/>
        </p:nvGrpSpPr>
        <p:grpSpPr>
          <a:xfrm>
            <a:off x="1066680" y="990720"/>
            <a:ext cx="4572000" cy="5638680"/>
            <a:chOff x="1066680" y="990720"/>
            <a:chExt cx="4572000" cy="5638680"/>
          </a:xfrm>
        </p:grpSpPr>
        <p:sp>
          <p:nvSpPr>
            <p:cNvPr id="755" name=""/>
            <p:cNvSpPr/>
            <p:nvPr/>
          </p:nvSpPr>
          <p:spPr>
            <a:xfrm>
              <a:off x="2209680" y="1828800"/>
              <a:ext cx="1371600" cy="762120"/>
            </a:xfrm>
            <a:prstGeom prst="ellipse">
              <a:avLst/>
            </a:prstGeom>
            <a:solidFill>
              <a:srgbClr val="0000cc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ahoma"/>
                </a:rPr>
                <a:t>Recursos Natural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1371600" y="3429000"/>
              <a:ext cx="1295280" cy="838080"/>
            </a:xfrm>
            <a:prstGeom prst="ellipse">
              <a:avLst/>
            </a:prstGeom>
            <a:solidFill>
              <a:srgbClr val="0000cc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ahoma"/>
                </a:rPr>
                <a:t>Medio Ambien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057400" y="4724280"/>
              <a:ext cx="1676520" cy="762120"/>
            </a:xfrm>
            <a:prstGeom prst="ellipse">
              <a:avLst/>
            </a:prstGeom>
            <a:solidFill>
              <a:srgbClr val="0000cc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ahoma"/>
                </a:rPr>
                <a:t>Cercanía Centros d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ahoma"/>
                </a:rPr>
                <a:t>Insum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2743200" y="5638680"/>
              <a:ext cx="1295280" cy="609840"/>
            </a:xfrm>
            <a:prstGeom prst="ellipse">
              <a:avLst/>
            </a:prstGeom>
            <a:solidFill>
              <a:srgbClr val="0000cc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ahoma"/>
                </a:rPr>
                <a:t>Mano de Obr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1066680" y="990720"/>
              <a:ext cx="22860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0000"/>
            </a:bodyPr>
            <a:p>
              <a:pPr algn="ctr"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900" spc="-1" strike="noStrike">
                  <a:solidFill>
                    <a:srgbClr val="000000"/>
                  </a:solidFill>
                  <a:latin typeface="Tahoma"/>
                </a:rPr>
                <a:t>Ventajas Comparativa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886200" y="1143000"/>
              <a:ext cx="1447920" cy="533520"/>
            </a:xfrm>
            <a:prstGeom prst="ellipse">
              <a:avLst/>
            </a:prstGeom>
            <a:solidFill>
              <a:srgbClr val="0000cc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Condiciones Hidrográfica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809880" y="1828800"/>
              <a:ext cx="1371600" cy="495360"/>
            </a:xfrm>
            <a:prstGeom prst="ellipse">
              <a:avLst/>
            </a:prstGeom>
            <a:solidFill>
              <a:srgbClr val="0000cc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Temperatura de las agua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581280" y="2438280"/>
              <a:ext cx="1524240" cy="533520"/>
            </a:xfrm>
            <a:prstGeom prst="ellipse">
              <a:avLst/>
            </a:prstGeom>
            <a:solidFill>
              <a:srgbClr val="0000cc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Estacionalidad invers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63" name=""/>
            <p:cNvCxnSpPr>
              <a:stCxn id="755" idx="7"/>
              <a:endCxn id="760" idx="2"/>
            </p:cNvCxnSpPr>
            <p:nvPr/>
          </p:nvCxnSpPr>
          <p:spPr>
            <a:xfrm flipV="1">
              <a:off x="3379320" y="1409040"/>
              <a:ext cx="506880" cy="53100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764" name=""/>
            <p:cNvCxnSpPr>
              <a:stCxn id="755" idx="6"/>
              <a:endCxn id="761" idx="2"/>
            </p:cNvCxnSpPr>
            <p:nvPr/>
          </p:nvCxnSpPr>
          <p:spPr>
            <a:xfrm flipV="1">
              <a:off x="3580920" y="2076480"/>
              <a:ext cx="229320" cy="13356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765" name=""/>
            <p:cNvCxnSpPr>
              <a:stCxn id="755" idx="5"/>
              <a:endCxn id="762" idx="2"/>
            </p:cNvCxnSpPr>
            <p:nvPr/>
          </p:nvCxnSpPr>
          <p:spPr>
            <a:xfrm>
              <a:off x="3379680" y="2479680"/>
              <a:ext cx="202320" cy="22608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766" name=""/>
            <p:cNvSpPr/>
            <p:nvPr/>
          </p:nvSpPr>
          <p:spPr>
            <a:xfrm>
              <a:off x="3048120" y="3200400"/>
              <a:ext cx="1676160" cy="457200"/>
            </a:xfrm>
            <a:prstGeom prst="ellipse">
              <a:avLst/>
            </a:prstGeom>
            <a:solidFill>
              <a:srgbClr val="0000cc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Lejanía centros poblad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67" name=""/>
            <p:cNvCxnSpPr>
              <a:stCxn id="756" idx="7"/>
              <a:endCxn id="766" idx="2"/>
            </p:cNvCxnSpPr>
            <p:nvPr/>
          </p:nvCxnSpPr>
          <p:spPr>
            <a:xfrm flipV="1">
              <a:off x="2477880" y="3428640"/>
              <a:ext cx="570600" cy="12312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768" name=""/>
            <p:cNvSpPr/>
            <p:nvPr/>
          </p:nvSpPr>
          <p:spPr>
            <a:xfrm>
              <a:off x="3048120" y="3733920"/>
              <a:ext cx="1828800" cy="457200"/>
            </a:xfrm>
            <a:prstGeom prst="ellipse">
              <a:avLst/>
            </a:prstGeom>
            <a:solidFill>
              <a:srgbClr val="0000cc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Aguas Descontaminada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69" name=""/>
            <p:cNvCxnSpPr>
              <a:stCxn id="756" idx="6"/>
              <a:endCxn id="768" idx="2"/>
            </p:cNvCxnSpPr>
            <p:nvPr/>
          </p:nvCxnSpPr>
          <p:spPr>
            <a:xfrm>
              <a:off x="2666520" y="3848040"/>
              <a:ext cx="381960" cy="11520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770" name=""/>
            <p:cNvSpPr/>
            <p:nvPr/>
          </p:nvSpPr>
          <p:spPr>
            <a:xfrm>
              <a:off x="3200400" y="4267080"/>
              <a:ext cx="1676520" cy="457200"/>
            </a:xfrm>
            <a:prstGeom prst="ellipse">
              <a:avLst/>
            </a:prstGeom>
            <a:solidFill>
              <a:srgbClr val="0000cc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Luminosida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71" name=""/>
            <p:cNvCxnSpPr>
              <a:stCxn id="756" idx="5"/>
              <a:endCxn id="770" idx="2"/>
            </p:cNvCxnSpPr>
            <p:nvPr/>
          </p:nvCxnSpPr>
          <p:spPr>
            <a:xfrm>
              <a:off x="2478240" y="4145040"/>
              <a:ext cx="722520" cy="35136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772" name=""/>
            <p:cNvSpPr/>
            <p:nvPr/>
          </p:nvSpPr>
          <p:spPr>
            <a:xfrm>
              <a:off x="3962520" y="5257800"/>
              <a:ext cx="1676160" cy="457200"/>
            </a:xfrm>
            <a:prstGeom prst="ellipse">
              <a:avLst/>
            </a:prstGeom>
            <a:solidFill>
              <a:srgbClr val="0000cc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Disponibilida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4038480" y="6172200"/>
              <a:ext cx="1524240" cy="457200"/>
            </a:xfrm>
            <a:prstGeom prst="ellipse">
              <a:avLst/>
            </a:prstGeom>
            <a:solidFill>
              <a:srgbClr val="0000cc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Profesionales Universitari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74" name=""/>
            <p:cNvCxnSpPr>
              <a:stCxn id="758" idx="7"/>
              <a:endCxn id="772" idx="2"/>
            </p:cNvCxnSpPr>
            <p:nvPr/>
          </p:nvCxnSpPr>
          <p:spPr>
            <a:xfrm flipV="1">
              <a:off x="3849480" y="5486040"/>
              <a:ext cx="113400" cy="24192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775" name=""/>
            <p:cNvCxnSpPr>
              <a:stCxn id="758" idx="5"/>
              <a:endCxn id="773" idx="2"/>
            </p:cNvCxnSpPr>
            <p:nvPr/>
          </p:nvCxnSpPr>
          <p:spPr>
            <a:xfrm>
              <a:off x="3849840" y="6159600"/>
              <a:ext cx="189360" cy="24192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</p:cxnSp>
      </p:grpSp>
      <p:grpSp>
        <p:nvGrpSpPr>
          <p:cNvPr id="776" name=""/>
          <p:cNvGrpSpPr/>
          <p:nvPr/>
        </p:nvGrpSpPr>
        <p:grpSpPr>
          <a:xfrm>
            <a:off x="5410080" y="990720"/>
            <a:ext cx="3657600" cy="5333760"/>
            <a:chOff x="5410080" y="990720"/>
            <a:chExt cx="3657600" cy="5333760"/>
          </a:xfrm>
        </p:grpSpPr>
        <p:sp>
          <p:nvSpPr>
            <p:cNvPr id="777" name=""/>
            <p:cNvSpPr/>
            <p:nvPr/>
          </p:nvSpPr>
          <p:spPr>
            <a:xfrm>
              <a:off x="5638680" y="1447920"/>
              <a:ext cx="1676520" cy="6858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Tahoma"/>
                </a:rPr>
                <a:t>Apoyos públicos inicial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7238880" y="3200400"/>
              <a:ext cx="1524240" cy="60948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Tahoma"/>
                </a:rPr>
                <a:t>Iniciativa empresari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6400800" y="2209680"/>
              <a:ext cx="1905120" cy="6858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000099"/>
                  </a:solidFill>
                  <a:latin typeface="Tahoma"/>
                </a:rPr>
                <a:t>Asociatividad (Asociación de Productore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5638680" y="5638680"/>
              <a:ext cx="1600200" cy="6858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Tahoma"/>
                </a:rPr>
                <a:t>Aprendizaje tecnológic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5943600" y="4876920"/>
              <a:ext cx="2133720" cy="6858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Tahoma"/>
                </a:rPr>
                <a:t>Desarrollo oferta local de insumos y servici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6781680" y="4114800"/>
              <a:ext cx="1981440" cy="6858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Tahoma"/>
                </a:rPr>
                <a:t>Desarrollo Nacional  de Capital Human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6934320" y="990720"/>
              <a:ext cx="213336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61000"/>
            </a:bodyPr>
            <a:p>
              <a:pPr algn="ctr"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900" spc="-1" strike="noStrike">
                  <a:solidFill>
                    <a:srgbClr val="000000"/>
                  </a:solidFill>
                  <a:latin typeface="Tahoma"/>
                </a:rPr>
                <a:t>Capacidades Adquirida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5410080" y="3124080"/>
              <a:ext cx="1676520" cy="10670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Tahoma"/>
                </a:rPr>
                <a:t>Know How Comercial Europa-USA-Japó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1371600" y="18864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Times New Roman"/>
              </a:rPr>
              <a:t>El Cluster del Salmón en Chile</a:t>
            </a:r>
            <a:br>
              <a:rPr sz="2400"/>
            </a:br>
            <a:r>
              <a:rPr b="1" i="1" lang="en-US" sz="2400" spc="-1" strike="noStrike">
                <a:solidFill>
                  <a:srgbClr val="000066"/>
                </a:solidFill>
                <a:latin typeface="Times New Roman"/>
              </a:rPr>
              <a:t>¿Porqué se formó el Cluster del Salmón?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d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"/>
          <p:cNvSpPr/>
          <p:nvPr/>
        </p:nvSpPr>
        <p:spPr>
          <a:xfrm>
            <a:off x="1523880" y="1590840"/>
            <a:ext cx="4648320" cy="39024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50000">
                <a:srgbClr val="f3cbcb"/>
              </a:gs>
              <a:gs pos="100000">
                <a:srgbClr val="cc0000"/>
              </a:gs>
            </a:gsLst>
            <a:lin ang="10800000"/>
          </a:gradFill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Trazabilidad (ISO, HACCP, et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7391520" y="838080"/>
            <a:ext cx="1663560" cy="5969160"/>
          </a:xfrm>
          <a:custGeom>
            <a:avLst/>
            <a:gdLst>
              <a:gd name="textAreaLeft" fmla="*/ 27720 w 1663560"/>
              <a:gd name="textAreaRight" fmla="*/ 1635840 w 1663560"/>
              <a:gd name="textAreaTop" fmla="*/ 27720 h 5969160"/>
              <a:gd name="textAreaBottom" fmla="*/ 5941440 h 5969160"/>
            </a:gdLst>
            <a:ahLst/>
            <a:rect l="textAreaLeft" t="textAreaTop" r="textAreaRight" b="textAreaBottom"/>
            <a:pathLst>
              <a:path w="21600" h="77493">
                <a:moveTo>
                  <a:pt x="1237" y="0"/>
                </a:moveTo>
                <a:arcTo wR="1237" hR="1237" stAng="16200000" swAng="-5400000"/>
                <a:lnTo>
                  <a:pt x="0" y="76256"/>
                </a:lnTo>
                <a:arcTo wR="1237" hR="1237" stAng="10800000" swAng="-5400000"/>
                <a:lnTo>
                  <a:pt x="20363" y="77493"/>
                </a:lnTo>
                <a:arcTo wR="1237" hR="1237" stAng="5400000" swAng="-5400000"/>
                <a:lnTo>
                  <a:pt x="21600" y="1237"/>
                </a:lnTo>
                <a:arcTo wR="1237" hR="1237" stAng="0" swAng="-5400000"/>
                <a:close/>
              </a:path>
            </a:pathLst>
          </a:custGeom>
          <a:solidFill>
            <a:srgbClr val="dddddd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7467480" y="1676520"/>
            <a:ext cx="1524240" cy="1066680"/>
          </a:xfrm>
          <a:prstGeom prst="rect">
            <a:avLst/>
          </a:prstGeom>
          <a:gradFill rotWithShape="0">
            <a:gsLst>
              <a:gs pos="0">
                <a:srgbClr val="b4e8d3"/>
              </a:gs>
              <a:gs pos="50000">
                <a:srgbClr val="fefefe"/>
              </a:gs>
              <a:gs pos="100000">
                <a:srgbClr val="b4e8d3"/>
              </a:gs>
            </a:gsLst>
            <a:lin ang="5400000"/>
          </a:gradFill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CLIENT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Reprocesad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Institucion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228600" y="4886280"/>
            <a:ext cx="2438280" cy="466920"/>
          </a:xfrm>
          <a:prstGeom prst="rect">
            <a:avLst/>
          </a:prstGeom>
          <a:gradFill rotWithShape="0">
            <a:gsLst>
              <a:gs pos="0">
                <a:srgbClr val="b4e8d3"/>
              </a:gs>
              <a:gs pos="50000">
                <a:srgbClr val="fefefe"/>
              </a:gs>
              <a:gs pos="100000">
                <a:srgbClr val="b4e8d3"/>
              </a:gs>
            </a:gsLst>
            <a:lin ang="5400000"/>
          </a:gradFill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Proveedores Mat. Pri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2819520" y="4876920"/>
            <a:ext cx="3504960" cy="466560"/>
          </a:xfrm>
          <a:prstGeom prst="rect">
            <a:avLst/>
          </a:prstGeom>
          <a:gradFill rotWithShape="0">
            <a:gsLst>
              <a:gs pos="0">
                <a:srgbClr val="b4e8d3"/>
              </a:gs>
              <a:gs pos="50000">
                <a:srgbClr val="fefefe"/>
              </a:gs>
              <a:gs pos="100000">
                <a:srgbClr val="b4e8d3"/>
              </a:gs>
            </a:gsLst>
            <a:lin ang="5400000"/>
          </a:gradFill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Proveedores Servicios y Bienes de Capi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152280" y="5964120"/>
            <a:ext cx="7086600" cy="28440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50000">
                <a:srgbClr val="f3cbcb"/>
              </a:gs>
              <a:gs pos="100000">
                <a:srgbClr val="cc0000"/>
              </a:gs>
            </a:gsLst>
            <a:lin ang="10800000"/>
          </a:gradFill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Tecnolog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5867280" y="3733920"/>
            <a:ext cx="1143000" cy="466560"/>
          </a:xfrm>
          <a:prstGeom prst="rect">
            <a:avLst/>
          </a:prstGeom>
          <a:gradFill rotWithShape="0">
            <a:gsLst>
              <a:gs pos="0">
                <a:srgbClr val="b4e8d3"/>
              </a:gs>
              <a:gs pos="50000">
                <a:srgbClr val="fefefe"/>
              </a:gs>
              <a:gs pos="100000">
                <a:srgbClr val="b4e8d3"/>
              </a:gs>
            </a:gsLst>
            <a:lin ang="5400000"/>
          </a:gradFill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Transporte Terrest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152280" y="6370560"/>
            <a:ext cx="8839440" cy="347760"/>
          </a:xfrm>
          <a:prstGeom prst="rect">
            <a:avLst/>
          </a:prstGeom>
          <a:gradFill rotWithShape="0">
            <a:gsLst>
              <a:gs pos="0">
                <a:srgbClr val="b4e8d3"/>
              </a:gs>
              <a:gs pos="50000">
                <a:srgbClr val="fefefe"/>
              </a:gs>
              <a:gs pos="100000">
                <a:srgbClr val="b4e8d3"/>
              </a:gs>
            </a:gsLst>
            <a:lin ang="5400000"/>
          </a:gradFill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Sistema Económico y Financiero Mund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228600" y="5486400"/>
            <a:ext cx="6934320" cy="380880"/>
          </a:xfrm>
          <a:prstGeom prst="rect">
            <a:avLst/>
          </a:prstGeom>
          <a:gradFill rotWithShape="0">
            <a:gsLst>
              <a:gs pos="0">
                <a:srgbClr val="b4e8d3"/>
              </a:gs>
              <a:gs pos="50000">
                <a:srgbClr val="fefefe"/>
              </a:gs>
              <a:gs pos="100000">
                <a:srgbClr val="b4e8d3"/>
              </a:gs>
            </a:gsLst>
            <a:lin ang="5400000"/>
          </a:gradFill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Sistemas de Comunicación e Información (Telefonía, Internet,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76320" y="533520"/>
            <a:ext cx="7238880" cy="466560"/>
          </a:xfrm>
          <a:prstGeom prst="rect">
            <a:avLst/>
          </a:prstGeom>
          <a:gradFill rotWithShape="0">
            <a:gsLst>
              <a:gs pos="0">
                <a:srgbClr val="b4e8d3"/>
              </a:gs>
              <a:gs pos="50000">
                <a:srgbClr val="fefefe"/>
              </a:gs>
              <a:gs pos="100000">
                <a:srgbClr val="b4e8d3"/>
              </a:gs>
            </a:gsLst>
            <a:lin ang="5400000"/>
          </a:gradFill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Gobierno Nacional y Regional (leyes, macroeconomía,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7620120" y="3733920"/>
            <a:ext cx="1295280" cy="466560"/>
          </a:xfrm>
          <a:prstGeom prst="rect">
            <a:avLst/>
          </a:prstGeom>
          <a:gradFill rotWithShape="0">
            <a:gsLst>
              <a:gs pos="0">
                <a:srgbClr val="b4e8d3"/>
              </a:gs>
              <a:gs pos="50000">
                <a:srgbClr val="fefefe"/>
              </a:gs>
              <a:gs pos="100000">
                <a:srgbClr val="b4e8d3"/>
              </a:gs>
            </a:gsLst>
            <a:lin ang="5400000"/>
          </a:gradFill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Transporte Terrest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6324480" y="3352680"/>
            <a:ext cx="0" cy="381240"/>
          </a:xfrm>
          <a:prstGeom prst="line">
            <a:avLst/>
          </a:prstGeom>
          <a:ln w="1908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6705720" y="4191120"/>
            <a:ext cx="0" cy="22860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 flipV="1">
            <a:off x="8229600" y="3352320"/>
            <a:ext cx="0" cy="381240"/>
          </a:xfrm>
          <a:prstGeom prst="line">
            <a:avLst/>
          </a:prstGeom>
          <a:ln w="1908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88920" y="1143000"/>
            <a:ext cx="7226280" cy="304920"/>
          </a:xfrm>
          <a:prstGeom prst="rect">
            <a:avLst/>
          </a:prstGeom>
          <a:gradFill rotWithShape="0">
            <a:gsLst>
              <a:gs pos="0">
                <a:srgbClr val="b4e8d3"/>
              </a:gs>
              <a:gs pos="50000">
                <a:srgbClr val="fefefe"/>
              </a:gs>
              <a:gs pos="100000">
                <a:srgbClr val="b4e8d3"/>
              </a:gs>
            </a:gsLst>
            <a:lin ang="5400000"/>
          </a:gradFill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Bancos / Entidades Financier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6477120" y="4440240"/>
            <a:ext cx="1600200" cy="284040"/>
          </a:xfrm>
          <a:prstGeom prst="rect">
            <a:avLst/>
          </a:prstGeom>
          <a:gradFill rotWithShape="0">
            <a:gsLst>
              <a:gs pos="0">
                <a:srgbClr val="b4e8d3"/>
              </a:gs>
              <a:gs pos="50000">
                <a:srgbClr val="fefefe"/>
              </a:gs>
              <a:gs pos="100000">
                <a:srgbClr val="b4e8d3"/>
              </a:gs>
            </a:gsLst>
            <a:lin ang="5400000"/>
          </a:gradFill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Fletes Aére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6477120" y="4973760"/>
            <a:ext cx="1600200" cy="284040"/>
          </a:xfrm>
          <a:prstGeom prst="rect">
            <a:avLst/>
          </a:prstGeom>
          <a:gradFill rotWithShape="0">
            <a:gsLst>
              <a:gs pos="0">
                <a:srgbClr val="b4e8d3"/>
              </a:gs>
              <a:gs pos="50000">
                <a:srgbClr val="fefefe"/>
              </a:gs>
              <a:gs pos="100000">
                <a:srgbClr val="b4e8d3"/>
              </a:gs>
            </a:gsLst>
            <a:lin ang="5400000"/>
          </a:gradFill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Aduan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6477120" y="4689360"/>
            <a:ext cx="1600200" cy="284400"/>
          </a:xfrm>
          <a:prstGeom prst="rect">
            <a:avLst/>
          </a:prstGeom>
          <a:gradFill rotWithShape="0">
            <a:gsLst>
              <a:gs pos="0">
                <a:srgbClr val="b4e8d3"/>
              </a:gs>
              <a:gs pos="50000">
                <a:srgbClr val="fefefe"/>
              </a:gs>
              <a:gs pos="100000">
                <a:srgbClr val="b4e8d3"/>
              </a:gs>
            </a:gsLst>
            <a:lin ang="5400000"/>
          </a:gradFill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Fletes Marítim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7696080" y="533520"/>
            <a:ext cx="1067040" cy="466560"/>
          </a:xfrm>
          <a:prstGeom prst="rect">
            <a:avLst/>
          </a:prstGeom>
          <a:solidFill>
            <a:srgbClr val="dddddd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Mercado Glob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5562720" y="2971800"/>
            <a:ext cx="1447560" cy="38088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50000">
                <a:srgbClr val="f3cbcb"/>
              </a:gs>
              <a:gs pos="100000">
                <a:srgbClr val="cc0000"/>
              </a:gs>
            </a:gsLst>
            <a:lin ang="10800000"/>
          </a:gradFill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Comerciali-z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467480" y="5964120"/>
            <a:ext cx="1524240" cy="284400"/>
          </a:xfrm>
          <a:prstGeom prst="rect">
            <a:avLst/>
          </a:prstGeom>
          <a:gradFill rotWithShape="0">
            <a:gsLst>
              <a:gs pos="0">
                <a:srgbClr val="b4e8d3"/>
              </a:gs>
              <a:gs pos="50000">
                <a:srgbClr val="fefefe"/>
              </a:gs>
              <a:gs pos="100000">
                <a:srgbClr val="b4e8d3"/>
              </a:gs>
            </a:gsLst>
            <a:lin ang="5400000"/>
          </a:gradFill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Tecnolog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 flipH="1">
            <a:off x="7162920" y="6095880"/>
            <a:ext cx="380880" cy="0"/>
          </a:xfrm>
          <a:prstGeom prst="line">
            <a:avLst/>
          </a:prstGeom>
          <a:ln w="1908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8" name=""/>
          <p:cNvCxnSpPr>
            <a:stCxn id="805" idx="0"/>
            <a:endCxn id="788" idx="1"/>
          </p:cNvCxnSpPr>
          <p:nvPr/>
        </p:nvCxnSpPr>
        <p:spPr>
          <a:xfrm flipH="1" flipV="1" rot="5400000">
            <a:off x="6495840" y="1999800"/>
            <a:ext cx="753480" cy="1172160"/>
          </a:xfrm>
          <a:prstGeom prst="bentConnector2">
            <a:avLst/>
          </a:prstGeom>
          <a:ln w="1908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809" name=""/>
          <p:cNvSpPr/>
          <p:nvPr/>
        </p:nvSpPr>
        <p:spPr>
          <a:xfrm>
            <a:off x="533520" y="9144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efefe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6400800" y="9144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efefe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62120" y="13716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efefe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6172200" y="13716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efefe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1523880" y="1752480"/>
            <a:ext cx="457200" cy="38124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efefe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5715000" y="1752480"/>
            <a:ext cx="457200" cy="38124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efefe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 flipV="1">
            <a:off x="1219320" y="5180760"/>
            <a:ext cx="457200" cy="38124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fefefe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 flipV="1">
            <a:off x="6172200" y="5180760"/>
            <a:ext cx="457200" cy="38124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fefefe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 flipV="1">
            <a:off x="1447920" y="45720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fefefe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 flipV="1">
            <a:off x="5334120" y="45720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fefefe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 flipV="1">
            <a:off x="533520" y="57150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fefefe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 flipV="1">
            <a:off x="6553080" y="57150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fefefe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 flipV="1">
            <a:off x="152280" y="6095160"/>
            <a:ext cx="457200" cy="38124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fefefe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 flipV="1">
            <a:off x="6781680" y="6095160"/>
            <a:ext cx="457200" cy="38124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fefefe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3" name=""/>
          <p:cNvCxnSpPr>
            <a:stCxn id="805" idx="3"/>
            <a:endCxn id="824" idx="1"/>
          </p:cNvCxnSpPr>
          <p:nvPr/>
        </p:nvCxnSpPr>
        <p:spPr>
          <a:xfrm>
            <a:off x="7019640" y="3161880"/>
            <a:ext cx="438840" cy="1080"/>
          </a:xfrm>
          <a:prstGeom prst="bentConnector2">
            <a:avLst/>
          </a:prstGeom>
          <a:ln w="1908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25" name=""/>
          <p:cNvCxnSpPr>
            <a:endCxn id="801" idx="0"/>
          </p:cNvCxnSpPr>
          <p:nvPr/>
        </p:nvCxnSpPr>
        <p:spPr>
          <a:xfrm flipH="1" rot="16200000">
            <a:off x="6534720" y="3688200"/>
            <a:ext cx="990000" cy="496080"/>
          </a:xfrm>
          <a:prstGeom prst="bentConnector3">
            <a:avLst>
              <a:gd name="adj1" fmla="val 15714"/>
            </a:avLst>
          </a:prstGeom>
          <a:ln w="1908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826" name=""/>
          <p:cNvSpPr/>
          <p:nvPr/>
        </p:nvSpPr>
        <p:spPr>
          <a:xfrm flipV="1">
            <a:off x="6781680" y="3352320"/>
            <a:ext cx="0" cy="24156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 flipV="1">
            <a:off x="7924680" y="5637960"/>
            <a:ext cx="457200" cy="38124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fefefe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 flipV="1">
            <a:off x="8534520" y="61722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fefefe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1600200" y="2666880"/>
            <a:ext cx="914400" cy="106704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50000">
                <a:srgbClr val="f3cbcb"/>
              </a:gs>
              <a:gs pos="100000">
                <a:srgbClr val="cc0000"/>
              </a:gs>
            </a:gsLst>
            <a:lin ang="10800000"/>
          </a:gradFill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Materia Prima / Área Agríco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3352680" y="2590920"/>
            <a:ext cx="1447920" cy="54288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50000">
                <a:srgbClr val="f3cbcb"/>
              </a:gs>
              <a:gs pos="100000">
                <a:srgbClr val="cc0000"/>
              </a:gs>
            </a:gsLst>
            <a:lin ang="10800000"/>
          </a:gradFill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Planta Deshidrata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1600200" y="4211640"/>
            <a:ext cx="4191120" cy="28404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50000">
                <a:srgbClr val="f3cbcb"/>
              </a:gs>
              <a:gs pos="100000">
                <a:srgbClr val="cc0000"/>
              </a:gs>
            </a:gsLst>
            <a:lin ang="10800000"/>
          </a:gradFill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Investigación y Desarrol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228600" y="2362320"/>
            <a:ext cx="1143000" cy="380880"/>
          </a:xfrm>
          <a:prstGeom prst="rect">
            <a:avLst/>
          </a:prstGeom>
          <a:gradFill rotWithShape="0">
            <a:gsLst>
              <a:gs pos="0">
                <a:srgbClr val="b4e8d3"/>
              </a:gs>
              <a:gs pos="50000">
                <a:srgbClr val="fefefe"/>
              </a:gs>
              <a:gs pos="100000">
                <a:srgbClr val="b4e8d3"/>
              </a:gs>
            </a:gsLst>
            <a:lin ang="5400000"/>
          </a:gradFill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Insumos Agrícol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228600" y="3505320"/>
            <a:ext cx="1143000" cy="466560"/>
          </a:xfrm>
          <a:prstGeom prst="rect">
            <a:avLst/>
          </a:prstGeom>
          <a:gradFill rotWithShape="0">
            <a:gsLst>
              <a:gs pos="0">
                <a:srgbClr val="b4e8d3"/>
              </a:gs>
              <a:gs pos="50000">
                <a:srgbClr val="fefefe"/>
              </a:gs>
              <a:gs pos="100000">
                <a:srgbClr val="b4e8d3"/>
              </a:gs>
            </a:gsLst>
            <a:lin ang="5400000"/>
          </a:gradFill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Industria Quím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228600" y="2895480"/>
            <a:ext cx="1143000" cy="46692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50000">
                <a:srgbClr val="f3cbcb"/>
              </a:gs>
              <a:gs pos="100000">
                <a:srgbClr val="cc0000"/>
              </a:gs>
            </a:gsLst>
            <a:lin ang="10800000"/>
          </a:gradFill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Productores Agrícol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2438280" y="2057400"/>
            <a:ext cx="2362320" cy="38088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50000">
                <a:srgbClr val="f3cbcb"/>
              </a:gs>
              <a:gs pos="100000">
                <a:srgbClr val="cc0000"/>
              </a:gs>
            </a:gsLst>
            <a:lin ang="10800000"/>
          </a:gradFill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Genét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 flipV="1">
            <a:off x="2819520" y="2514240"/>
            <a:ext cx="0" cy="60948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2819520" y="3276720"/>
            <a:ext cx="0" cy="91440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2757600" y="3124080"/>
            <a:ext cx="61920" cy="152640"/>
          </a:xfrm>
          <a:custGeom>
            <a:avLst/>
            <a:gdLst/>
            <a:ahLst/>
            <a:rect l="l" t="t" r="r" b="b"/>
            <a:pathLst>
              <a:path w="39" h="96">
                <a:moveTo>
                  <a:pt x="39" y="0"/>
                </a:moveTo>
                <a:cubicBezTo>
                  <a:pt x="27" y="3"/>
                  <a:pt x="16" y="7"/>
                  <a:pt x="9" y="15"/>
                </a:cubicBezTo>
                <a:cubicBezTo>
                  <a:pt x="2" y="23"/>
                  <a:pt x="0" y="38"/>
                  <a:pt x="0" y="48"/>
                </a:cubicBezTo>
                <a:cubicBezTo>
                  <a:pt x="0" y="58"/>
                  <a:pt x="6" y="70"/>
                  <a:pt x="12" y="78"/>
                </a:cubicBezTo>
                <a:cubicBezTo>
                  <a:pt x="18" y="86"/>
                  <a:pt x="27" y="91"/>
                  <a:pt x="36" y="96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 flipV="1">
            <a:off x="2057400" y="3733920"/>
            <a:ext cx="0" cy="457200"/>
          </a:xfrm>
          <a:prstGeom prst="line">
            <a:avLst/>
          </a:prstGeom>
          <a:ln w="1908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 flipV="1">
            <a:off x="5715000" y="3352320"/>
            <a:ext cx="0" cy="838440"/>
          </a:xfrm>
          <a:prstGeom prst="line">
            <a:avLst/>
          </a:prstGeom>
          <a:ln w="1908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3352680" y="3724200"/>
            <a:ext cx="1447920" cy="39060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50000">
                <a:srgbClr val="f3cbcb"/>
              </a:gs>
              <a:gs pos="100000">
                <a:srgbClr val="cc0000"/>
              </a:gs>
            </a:gsLst>
            <a:lin ang="10800000"/>
          </a:gradFill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Planta Jug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2" name=""/>
          <p:cNvCxnSpPr>
            <a:stCxn id="829" idx="3"/>
            <a:endCxn id="830" idx="1"/>
          </p:cNvCxnSpPr>
          <p:nvPr/>
        </p:nvCxnSpPr>
        <p:spPr>
          <a:xfrm flipV="1">
            <a:off x="2523960" y="2861640"/>
            <a:ext cx="820080" cy="338760"/>
          </a:xfrm>
          <a:prstGeom prst="bentConnector3">
            <a:avLst>
              <a:gd name="adj1" fmla="val 49978"/>
            </a:avLst>
          </a:prstGeom>
          <a:ln w="1908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43" name=""/>
          <p:cNvCxnSpPr>
            <a:stCxn id="829" idx="3"/>
            <a:endCxn id="841" idx="1"/>
          </p:cNvCxnSpPr>
          <p:nvPr/>
        </p:nvCxnSpPr>
        <p:spPr>
          <a:xfrm>
            <a:off x="2523960" y="3200400"/>
            <a:ext cx="820080" cy="720000"/>
          </a:xfrm>
          <a:prstGeom prst="bentConnector3">
            <a:avLst>
              <a:gd name="adj1" fmla="val 49978"/>
            </a:avLst>
          </a:prstGeom>
          <a:ln w="1908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844" name=""/>
          <p:cNvGrpSpPr/>
          <p:nvPr/>
        </p:nvGrpSpPr>
        <p:grpSpPr>
          <a:xfrm>
            <a:off x="1218960" y="2514600"/>
            <a:ext cx="381240" cy="1219320"/>
            <a:chOff x="1218960" y="2514600"/>
            <a:chExt cx="381240" cy="1219320"/>
          </a:xfrm>
        </p:grpSpPr>
        <p:grpSp>
          <p:nvGrpSpPr>
            <p:cNvPr id="845" name=""/>
            <p:cNvGrpSpPr/>
            <p:nvPr/>
          </p:nvGrpSpPr>
          <p:grpSpPr>
            <a:xfrm>
              <a:off x="1218960" y="2514600"/>
              <a:ext cx="381240" cy="1219320"/>
              <a:chOff x="1218960" y="2514600"/>
              <a:chExt cx="381240" cy="1219320"/>
            </a:xfrm>
          </p:grpSpPr>
          <p:sp>
            <p:nvSpPr>
              <p:cNvPr id="846" name=""/>
              <p:cNvSpPr/>
              <p:nvPr/>
            </p:nvSpPr>
            <p:spPr>
              <a:xfrm>
                <a:off x="1447920" y="2514600"/>
                <a:ext cx="0" cy="121932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1218960" y="3733920"/>
                <a:ext cx="22860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flipH="1">
                <a:off x="1218960" y="2514600"/>
                <a:ext cx="22860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1371600" y="3200400"/>
                <a:ext cx="22860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0" name=""/>
            <p:cNvSpPr/>
            <p:nvPr/>
          </p:nvSpPr>
          <p:spPr>
            <a:xfrm flipH="1">
              <a:off x="1295280" y="3200400"/>
              <a:ext cx="15264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1" name=""/>
          <p:cNvSpPr/>
          <p:nvPr/>
        </p:nvSpPr>
        <p:spPr>
          <a:xfrm>
            <a:off x="3352680" y="3200400"/>
            <a:ext cx="1447920" cy="45720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50000">
                <a:srgbClr val="f3cbcb"/>
              </a:gs>
              <a:gs pos="100000">
                <a:srgbClr val="cc0000"/>
              </a:gs>
            </a:gsLst>
            <a:lin ang="10800000"/>
          </a:gradFill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Planta Congela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2" name=""/>
          <p:cNvCxnSpPr>
            <a:stCxn id="829" idx="3"/>
            <a:endCxn id="851" idx="1"/>
          </p:cNvCxnSpPr>
          <p:nvPr/>
        </p:nvCxnSpPr>
        <p:spPr>
          <a:xfrm>
            <a:off x="2523960" y="3200040"/>
            <a:ext cx="820080" cy="229320"/>
          </a:xfrm>
          <a:prstGeom prst="bentConnector3">
            <a:avLst>
              <a:gd name="adj1" fmla="val 49978"/>
            </a:avLst>
          </a:prstGeom>
          <a:ln w="1908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53" name=""/>
          <p:cNvCxnSpPr>
            <a:stCxn id="830" idx="3"/>
            <a:endCxn id="805" idx="1"/>
          </p:cNvCxnSpPr>
          <p:nvPr/>
        </p:nvCxnSpPr>
        <p:spPr>
          <a:xfrm>
            <a:off x="4809960" y="2862000"/>
            <a:ext cx="743760" cy="300600"/>
          </a:xfrm>
          <a:prstGeom prst="bentConnector3">
            <a:avLst>
              <a:gd name="adj1" fmla="val 49975"/>
            </a:avLst>
          </a:prstGeom>
          <a:ln w="1908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54" name=""/>
          <p:cNvCxnSpPr>
            <a:stCxn id="851" idx="3"/>
            <a:endCxn id="805" idx="1"/>
          </p:cNvCxnSpPr>
          <p:nvPr/>
        </p:nvCxnSpPr>
        <p:spPr>
          <a:xfrm flipV="1">
            <a:off x="4809960" y="3161880"/>
            <a:ext cx="743760" cy="267120"/>
          </a:xfrm>
          <a:prstGeom prst="bentConnector3">
            <a:avLst>
              <a:gd name="adj1" fmla="val 49975"/>
            </a:avLst>
          </a:prstGeom>
          <a:ln w="1908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55" name=""/>
          <p:cNvCxnSpPr>
            <a:stCxn id="841" idx="3"/>
            <a:endCxn id="805" idx="1"/>
          </p:cNvCxnSpPr>
          <p:nvPr/>
        </p:nvCxnSpPr>
        <p:spPr>
          <a:xfrm flipV="1">
            <a:off x="4809960" y="3161880"/>
            <a:ext cx="743760" cy="758160"/>
          </a:xfrm>
          <a:prstGeom prst="bentConnector3">
            <a:avLst>
              <a:gd name="adj1" fmla="val 49975"/>
            </a:avLst>
          </a:prstGeom>
          <a:ln w="1908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856" name=""/>
          <p:cNvSpPr/>
          <p:nvPr/>
        </p:nvSpPr>
        <p:spPr>
          <a:xfrm>
            <a:off x="7467480" y="1066680"/>
            <a:ext cx="1524240" cy="381240"/>
          </a:xfrm>
          <a:prstGeom prst="rect">
            <a:avLst/>
          </a:prstGeom>
          <a:gradFill rotWithShape="0">
            <a:gsLst>
              <a:gs pos="0">
                <a:srgbClr val="b4e8d3"/>
              </a:gs>
              <a:gs pos="50000">
                <a:srgbClr val="fefefe"/>
              </a:gs>
              <a:gs pos="100000">
                <a:srgbClr val="b4e8d3"/>
              </a:gs>
            </a:gsLst>
            <a:lin ang="5400000"/>
          </a:gradFill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Consumid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 flipV="1">
            <a:off x="8229600" y="1371240"/>
            <a:ext cx="0" cy="304920"/>
          </a:xfrm>
          <a:prstGeom prst="line">
            <a:avLst/>
          </a:prstGeom>
          <a:ln w="1908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7467480" y="2971800"/>
            <a:ext cx="1524240" cy="380880"/>
          </a:xfrm>
          <a:prstGeom prst="rect">
            <a:avLst/>
          </a:prstGeom>
          <a:gradFill rotWithShape="0">
            <a:gsLst>
              <a:gs pos="0">
                <a:srgbClr val="b4e8d3"/>
              </a:gs>
              <a:gs pos="50000">
                <a:srgbClr val="fefefe"/>
              </a:gs>
              <a:gs pos="100000">
                <a:srgbClr val="b4e8d3"/>
              </a:gs>
            </a:gsLst>
            <a:lin ang="5400000"/>
          </a:gradFill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Mayorist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 flipV="1">
            <a:off x="8229600" y="2361960"/>
            <a:ext cx="0" cy="609480"/>
          </a:xfrm>
          <a:prstGeom prst="line">
            <a:avLst/>
          </a:prstGeom>
          <a:ln w="1908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 flipV="1">
            <a:off x="7848720" y="4191120"/>
            <a:ext cx="0" cy="304560"/>
          </a:xfrm>
          <a:prstGeom prst="line">
            <a:avLst/>
          </a:prstGeom>
          <a:ln w="1908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4267080" y="22860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efefe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1" name=""/>
          <p:cNvCxnSpPr>
            <a:stCxn id="835" idx="1"/>
            <a:endCxn id="829" idx="0"/>
          </p:cNvCxnSpPr>
          <p:nvPr/>
        </p:nvCxnSpPr>
        <p:spPr>
          <a:xfrm flipV="1" rot="10800000">
            <a:off x="2056680" y="2247480"/>
            <a:ext cx="372240" cy="410400"/>
          </a:xfrm>
          <a:prstGeom prst="bentConnector2">
            <a:avLst/>
          </a:prstGeom>
          <a:ln w="1908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862" name=""/>
          <p:cNvSpPr/>
          <p:nvPr/>
        </p:nvSpPr>
        <p:spPr>
          <a:xfrm>
            <a:off x="324000" y="0"/>
            <a:ext cx="9144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6600"/>
                </a:solidFill>
                <a:latin typeface="Tahoma"/>
              </a:rPr>
              <a:t>Visión del Sistema Complejo-Producto </a:t>
            </a:r>
            <a:r>
              <a:rPr b="1" lang="es-ES_tradnl" sz="2400" spc="-1" strike="noStrike">
                <a:solidFill>
                  <a:srgbClr val="cc0000"/>
                </a:solidFill>
                <a:latin typeface="Tahoma"/>
              </a:rPr>
              <a:t>Piment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620120" y="2362320"/>
            <a:ext cx="1295280" cy="304560"/>
          </a:xfrm>
          <a:prstGeom prst="rect">
            <a:avLst/>
          </a:prstGeom>
          <a:gradFill rotWithShape="0">
            <a:gsLst>
              <a:gs pos="0">
                <a:srgbClr val="b4e8d3"/>
              </a:gs>
              <a:gs pos="50000">
                <a:srgbClr val="fefefe"/>
              </a:gs>
              <a:gs pos="100000">
                <a:srgbClr val="b4e8d3"/>
              </a:gs>
            </a:gsLst>
            <a:lin ang="5400000"/>
          </a:gradFill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I &amp; D Clien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4" name=""/>
          <p:cNvCxnSpPr>
            <a:stCxn id="805" idx="0"/>
          </p:cNvCxnSpPr>
          <p:nvPr/>
        </p:nvCxnSpPr>
        <p:spPr>
          <a:xfrm flipH="1" flipV="1" rot="5400000">
            <a:off x="6728760" y="2080800"/>
            <a:ext cx="439200" cy="1324440"/>
          </a:xfrm>
          <a:prstGeom prst="bentConnector2">
            <a:avLst/>
          </a:prstGeom>
          <a:ln w="1908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</p:cxn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1258920" y="33300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0066"/>
                </a:solidFill>
                <a:latin typeface="Times New Roman"/>
              </a:rPr>
              <a:t>4. Características de la Integración de la cadena de valor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684360" y="2060640"/>
            <a:ext cx="1800000" cy="34560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3059280" y="2060640"/>
            <a:ext cx="2233440" cy="34560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5796000" y="2060640"/>
            <a:ext cx="1871640" cy="34560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3635280" y="2708280"/>
            <a:ext cx="720720" cy="720720"/>
          </a:xfrm>
          <a:prstGeom prst="ellipse">
            <a:avLst/>
          </a:prstGeom>
          <a:solidFill>
            <a:srgbClr val="ffffcc">
              <a:alpha val="2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3851280" y="3213000"/>
            <a:ext cx="647640" cy="647640"/>
          </a:xfrm>
          <a:prstGeom prst="ellipse">
            <a:avLst/>
          </a:prstGeom>
          <a:solidFill>
            <a:srgbClr val="ffffcc">
              <a:alpha val="2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ogís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3348000" y="3213000"/>
            <a:ext cx="792360" cy="720720"/>
          </a:xfrm>
          <a:prstGeom prst="ellipse">
            <a:avLst/>
          </a:prstGeom>
          <a:solidFill>
            <a:srgbClr val="ffffcc">
              <a:alpha val="2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3708360" y="3645000"/>
            <a:ext cx="647640" cy="647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3688560" y="2441520"/>
            <a:ext cx="1198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genie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3688920" y="4098960"/>
            <a:ext cx="1477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per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2988360" y="3357720"/>
            <a:ext cx="1084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our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3327480" y="2009880"/>
            <a:ext cx="1314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66"/>
                </a:solidFill>
                <a:latin typeface="Arial"/>
              </a:rPr>
              <a:t>EMPRE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611280" y="2060640"/>
            <a:ext cx="19497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66"/>
                </a:solidFill>
                <a:latin typeface="Arial"/>
              </a:rPr>
              <a:t>RED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66"/>
                </a:solidFill>
                <a:latin typeface="Arial"/>
              </a:rPr>
              <a:t>PROVEE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1116000" y="3141720"/>
            <a:ext cx="360360" cy="287280"/>
          </a:xfrm>
          <a:prstGeom prst="hexagon">
            <a:avLst>
              <a:gd name="adj" fmla="val 31360"/>
              <a:gd name="vf" fmla="val 115470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1692360" y="2852640"/>
            <a:ext cx="360360" cy="287280"/>
          </a:xfrm>
          <a:prstGeom prst="hexagon">
            <a:avLst>
              <a:gd name="adj" fmla="val 31360"/>
              <a:gd name="vf" fmla="val 115470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1835280" y="3429000"/>
            <a:ext cx="360360" cy="287280"/>
          </a:xfrm>
          <a:prstGeom prst="hexagon">
            <a:avLst>
              <a:gd name="adj" fmla="val 31360"/>
              <a:gd name="vf" fmla="val 115470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1763640" y="2997360"/>
            <a:ext cx="144360" cy="431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1258920" y="3357720"/>
            <a:ext cx="433440" cy="142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2268360" y="3573360"/>
            <a:ext cx="863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4280" bIns="-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 flipV="1">
            <a:off x="2268360" y="2997000"/>
            <a:ext cx="1008360" cy="431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 flipV="1">
            <a:off x="2050920" y="2707920"/>
            <a:ext cx="1225800" cy="144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 flipH="1">
            <a:off x="2050560" y="3933720"/>
            <a:ext cx="12970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4280" bIns="-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1547640" y="3860640"/>
            <a:ext cx="360360" cy="287640"/>
          </a:xfrm>
          <a:prstGeom prst="hexagon">
            <a:avLst>
              <a:gd name="adj" fmla="val 31320"/>
              <a:gd name="vf" fmla="val 115470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971640" y="4508640"/>
            <a:ext cx="144360" cy="21564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619280" y="4653000"/>
            <a:ext cx="144360" cy="28872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1116000" y="4653000"/>
            <a:ext cx="503280" cy="71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27000" bIns="27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1692360" y="4149720"/>
            <a:ext cx="0" cy="503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 flipV="1">
            <a:off x="1835280" y="4220640"/>
            <a:ext cx="1873080" cy="576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971640" y="5084640"/>
            <a:ext cx="144360" cy="14472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2050920" y="5300640"/>
            <a:ext cx="217440" cy="730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7920" bIns="7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1187280" y="5300640"/>
            <a:ext cx="144720" cy="14436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 flipV="1">
            <a:off x="1187280" y="4941720"/>
            <a:ext cx="432000" cy="21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 flipV="1">
            <a:off x="1403280" y="5013000"/>
            <a:ext cx="289080" cy="360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 flipV="1">
            <a:off x="2268360" y="4436640"/>
            <a:ext cx="1366920" cy="792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5940360" y="3068640"/>
            <a:ext cx="576360" cy="50472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6012000" y="4149720"/>
            <a:ext cx="576000" cy="50472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7164360" y="2492280"/>
            <a:ext cx="360360" cy="2872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7164360" y="3573360"/>
            <a:ext cx="360360" cy="2872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7093080" y="4941720"/>
            <a:ext cx="360360" cy="28764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8101080" y="1628640"/>
            <a:ext cx="863640" cy="496908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4280" bIns="4428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ERC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4500720" y="3933720"/>
            <a:ext cx="1511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4280" bIns="-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 flipH="1">
            <a:off x="4500720" y="4149720"/>
            <a:ext cx="15112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4280" bIns="-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 flipV="1">
            <a:off x="6372360" y="2781000"/>
            <a:ext cx="792000" cy="431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6443640" y="3357720"/>
            <a:ext cx="865080" cy="358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 flipV="1">
            <a:off x="6443640" y="3789000"/>
            <a:ext cx="1008000" cy="647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6516720" y="4437000"/>
            <a:ext cx="1727280" cy="71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27360" bIns="27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7380360" y="5084640"/>
            <a:ext cx="1079280" cy="73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28800" bIns="28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6372360" y="4508640"/>
            <a:ext cx="936360" cy="57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7164360" y="3141720"/>
            <a:ext cx="216000" cy="21600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7308720" y="3284640"/>
            <a:ext cx="93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4280" bIns="-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7308720" y="27082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7451640" y="2637000"/>
            <a:ext cx="865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4280" bIns="-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 flipH="1">
            <a:off x="7451280" y="2781360"/>
            <a:ext cx="7923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4280" bIns="-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 flipH="1">
            <a:off x="7380360" y="3716280"/>
            <a:ext cx="7920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4280" bIns="-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 flipH="1">
            <a:off x="7380360" y="3357720"/>
            <a:ext cx="7920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4280" bIns="-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 flipH="1">
            <a:off x="7380360" y="5229360"/>
            <a:ext cx="7920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4280" bIns="-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7524720" y="3933720"/>
            <a:ext cx="719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4280" bIns="-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5796000" y="2060640"/>
            <a:ext cx="18356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66"/>
                </a:solidFill>
                <a:latin typeface="Arial"/>
              </a:rPr>
              <a:t>RED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66"/>
                </a:solidFill>
                <a:latin typeface="Arial"/>
              </a:rPr>
              <a:t>DISTRIBUC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0" y="1341360"/>
            <a:ext cx="8172360" cy="46800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2917440" y="1052640"/>
            <a:ext cx="286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sión sistémica integ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Características que orientan GICAV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Visión integral del sistem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Orientación al clien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Reducción de inventarios intermedi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Reducción de tiempos de cic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Reducción de cost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Modelos de predicción de demand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Enfoque market pu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9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9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9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9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9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9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9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>
                <a:solidFill>
                  <a:srgbClr val="000066"/>
                </a:solidFill>
                <a:latin typeface="Times New Roman"/>
              </a:rPr>
              <a:t>Gestión de Información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611280" y="1341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Integració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Reducción de la latenc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Permitir al sistema de valor completo, trabajar coordinadamente como un todo y contar con la capacidad más amplia para captar y usar la informa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La desconfianza y la protección de la información es otra barrer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9" name=""/>
          <p:cNvSpPr/>
          <p:nvPr/>
        </p:nvSpPr>
        <p:spPr>
          <a:xfrm>
            <a:off x="3851280" y="278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000066"/>
                </a:solidFill>
                <a:latin typeface="Times New Roman"/>
              </a:rPr>
              <a:t>Clave: compartición de beneficios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772400" cy="448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La integración y optimización de la cadena produce beneficio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Compartirlos en forma adecuada es clave para que los incentivos refuercen la integració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Acordar mecanismos de distribiución suele ser el talón de aquiles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9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9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9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000066"/>
                </a:solidFill>
                <a:latin typeface="Times New Roman"/>
              </a:rPr>
              <a:t>¿Por qué ahora?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39640" y="2205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Comunicacio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1991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Transporte, Telecomunicaciones, Tecnologías de Informació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Globalizació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1991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Libre comerci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1991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Presión de la Competenc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1991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Acceso a mercad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Desarrollo y cambios en los costos de mano de obr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Basado en el apoyo de las Tecnologías de Información, para la coordinación y el intercambio de informa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1991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Las Tecnologías de Información habilitan este esquema de operació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1991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Antes no habría sido viabl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000066"/>
                </a:solidFill>
                <a:latin typeface="Times New Roman"/>
              </a:rPr>
              <a:t>Preguntas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¿Cómo está estructurado el diseño de la GICAV en mi empresa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¿ Cómo se relaciona el diseño de la GICAV con los mecanismos de gestión que debo usar para su operación 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¿ Cómo generar incentivos para optimizar la gestión de una cadena integrada de varias empresas 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286200" y="419040"/>
            <a:ext cx="469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Magister en Gestión y Dirección de Empres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Departamento de Ingeniería Industri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332000" y="2708280"/>
            <a:ext cx="7812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66"/>
                </a:solidFill>
                <a:latin typeface="Times New Roman"/>
              </a:rPr>
              <a:t>Gestión Integral de la Cadena de Val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692360" y="3789360"/>
            <a:ext cx="691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reación de valor en red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gestionando la complej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6877080" y="4724280"/>
            <a:ext cx="2089080" cy="19576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1331640" y="-360"/>
            <a:ext cx="8134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000066"/>
                </a:solidFill>
                <a:latin typeface="Times New Roman"/>
              </a:rPr>
              <a:t>Estrategia de crecimiento y GICAV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394920" y="137160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El diseño integrado y flexible de una GICAV es fundamental para el crecimient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Capacidad productiv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Generación de nuevos product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Adaptaciones a requerimientos de calid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Riesgos e inversión asocia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13716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000066"/>
                </a:solidFill>
                <a:latin typeface="Times New Roman"/>
              </a:rPr>
              <a:t>La transición detrás de la GICAV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Proveedores </a:t>
            </a:r>
            <a:r>
              <a:rPr b="0" lang="es-C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 Soci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Empresa </a:t>
            </a:r>
            <a:r>
              <a:rPr b="0" lang="es-C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 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Cerrado </a:t>
            </a:r>
            <a:r>
              <a:rPr b="0" lang="es-C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 Abie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Dependencia </a:t>
            </a:r>
            <a:r>
              <a:rPr b="0" lang="es-C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 Colaboración y la interdependenc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Ordenes de producción </a:t>
            </a:r>
            <a:r>
              <a:rPr b="0" lang="es-C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 Contratos de servic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Recursos internos </a:t>
            </a:r>
            <a:r>
              <a:rPr b="0" lang="es-C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 Externalizació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Capacidad productiva </a:t>
            </a:r>
            <a:r>
              <a:rPr b="0" lang="es-C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 Coordinación y gestió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Capacidad financiera </a:t>
            </a:r>
            <a:r>
              <a:rPr b="0" lang="es-C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 Know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Optimización local </a:t>
            </a:r>
            <a:r>
              <a:rPr b="0" lang="es-C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 Optimización sistémic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0" name="" descr=""/>
          <p:cNvPicPr/>
          <p:nvPr/>
        </p:nvPicPr>
        <p:blipFill>
          <a:blip r:embed="rId10"/>
          <a:stretch/>
        </p:blipFill>
        <p:spPr>
          <a:xfrm>
            <a:off x="7093080" y="5443560"/>
            <a:ext cx="1719000" cy="14144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9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9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9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9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9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9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9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9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9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000066"/>
                </a:solidFill>
                <a:latin typeface="Times New Roman"/>
              </a:rPr>
              <a:t>Importante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¡¡¡Hablar de diseñar y gerenciar las Operaciones hoy, requiere de habilidades distintas a las tradicionales!!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3" name=""/>
          <p:cNvSpPr/>
          <p:nvPr/>
        </p:nvSpPr>
        <p:spPr>
          <a:xfrm>
            <a:off x="288360" y="4365720"/>
            <a:ext cx="849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0000"/>
                </a:solidFill>
                <a:latin typeface="Times New Roman"/>
              </a:rPr>
              <a:t>¡¡¡Es necesario diseñar y gestiona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0000"/>
                </a:solidFill>
                <a:latin typeface="Times New Roman"/>
              </a:rPr>
              <a:t>sistemas complejos de generación de val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0000"/>
                </a:solidFill>
                <a:latin typeface="Times New Roman"/>
              </a:rPr>
              <a:t>formado por una articulación de actores!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66"/>
                </a:solidFill>
                <a:latin typeface="Times New Roman"/>
              </a:rPr>
              <a:t>5. Antecedentes en la Industria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Iniciativas de integración en industri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etail – EC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utomotriz – Lean Manufactu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extil – Quick Respo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mand driven Supply Ch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Ejemplo ECR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ermercados y sus proveedores, desarrollan una cadena integrada, que funciona en base a una coordinación y una visión como sistem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1258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000066"/>
                </a:solidFill>
                <a:latin typeface="Times New Roman"/>
              </a:rPr>
              <a:t>ECR: Efficient Consumer Response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uevo enfoque de la distribución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594360" indent="-22860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r los procesos logísticos de distribución y comercial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4320" indent="-27432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sado en la misma filosofía del cambio en los esquemas de producción (WCM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74320" indent="-27432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mbio de un enfoque ‘push’ movido por los proveedores hacia un enfoque ‘pull’activado por el mercad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594360" indent="-2286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servar la analogía filosófica con el enfoque JIT en producció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951" name="" descr=""/>
          <p:cNvPicPr/>
          <p:nvPr/>
        </p:nvPicPr>
        <p:blipFill>
          <a:blip r:embed="rId1"/>
          <a:stretch/>
        </p:blipFill>
        <p:spPr>
          <a:xfrm>
            <a:off x="609480" y="609480"/>
            <a:ext cx="7925040" cy="57913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Estrategias ECR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osición eficien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rtido eficien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moción eficien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roducción eficien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000066"/>
                </a:solidFill>
                <a:latin typeface="Times New Roman"/>
              </a:rPr>
              <a:t>Facilitadores ECR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ministración por categorí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ministración del Fluj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tandarizac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aprovisionamiento Continu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ejo Electrónico de Dat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Administración por Categorías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ceso diseñado por proveedores y detallistas, para administrar como UN una agrupación de productos percibidos como interrelacionados por los consumidor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rigerad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lud y bellez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Gestión Integral de la cadena del valor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lvl="1" marL="8319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Introducción al concep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31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319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¿Qué es Gestión Integral de la cadena del valor (GICAV)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31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319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Ejemplo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31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319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Características de la GICA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31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319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Aplicaciones en industrias: El caso EC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31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319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Supply Chain Managemen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8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8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Administración del Flujo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ordinación general de la cadena de abastecimiento (flujos de información y productos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ujo de Información: Desde los consumidores a los proveedor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ujo de Productos: Hacia los consumidores en la forma más armónica posibl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835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Estandarización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r y uniformar los elementos y convenciones utilizados por los diferentes componentes de la caden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67480" indent="-267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iene fuerte impacto en la eficiencia de administración de la caden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579240" indent="-222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ificación de Product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579240" indent="-222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dades de distribució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579240" indent="-222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579240" indent="-22284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s de dat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579240" indent="-22284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mulario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Reaprovisionamiento Continuo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elos para coordinar el manejo de inventarios, reposiciones y merm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s aspectos clav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nóstico de ventas: realimentado y comunicado a toda la cade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nistración de Inventarios: vincula administración de inventarios con procesamiento de orden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Manejo Electrónico de Datos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macenamiento, procesamiento, transacciones y transmisión de la informació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ere de Tecnologías de Información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ro también de estandarización de formato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 rediseño de proceso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Avance de ECR (Europa)*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Madurez global de EC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99"/>
              </a:spcBef>
              <a:buSzPct val="10785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Manufactura (36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99"/>
              </a:spcBef>
              <a:buSzPct val="10785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Retailers (44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Administración por Categorí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99"/>
              </a:spcBef>
              <a:buSzPct val="10785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Manufactura (40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99"/>
              </a:spcBef>
              <a:buSzPct val="10785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Retailers (44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Reaprovisionamiento Continu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99"/>
              </a:spcBef>
              <a:buSzPct val="10785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Manufactura (31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99"/>
              </a:spcBef>
              <a:buSzPct val="10785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Retailers (49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601"/>
              </a:spcBef>
              <a:buSzPct val="137123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Tecnologías habilitan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99"/>
              </a:spcBef>
              <a:buSzPct val="107851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Manufactura (38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99"/>
              </a:spcBef>
              <a:buSzPct val="107851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Retailers (3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8" name=""/>
          <p:cNvSpPr/>
          <p:nvPr/>
        </p:nvSpPr>
        <p:spPr>
          <a:xfrm>
            <a:off x="5410080" y="3581280"/>
            <a:ext cx="3124440" cy="155700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el orden de 6% de reducción de costo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71" name="" descr=""/>
          <p:cNvPicPr/>
          <p:nvPr/>
        </p:nvPicPr>
        <p:blipFill>
          <a:blip r:embed="rId1"/>
          <a:stretch/>
        </p:blipFill>
        <p:spPr>
          <a:xfrm>
            <a:off x="0" y="2003400"/>
            <a:ext cx="6659640" cy="4854600"/>
          </a:xfrm>
          <a:prstGeom prst="rect">
            <a:avLst/>
          </a:prstGeom>
          <a:ln w="0">
            <a:noFill/>
          </a:ln>
        </p:spPr>
      </p:pic>
      <p:sp>
        <p:nvSpPr>
          <p:cNvPr id="972" name=""/>
          <p:cNvSpPr/>
          <p:nvPr/>
        </p:nvSpPr>
        <p:spPr>
          <a:xfrm>
            <a:off x="5003640" y="0"/>
            <a:ext cx="4140360" cy="20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Working together - building up ECR capabilities - in a more professional way, will take out our inefficiencies ( 3 - 9%) and allow business grow between trading partners of more than 10%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ahoma"/>
              </a:rPr>
              <a:t>Enrico Toj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200" spc="-1" strike="noStrike">
                <a:solidFill>
                  <a:srgbClr val="000000"/>
                </a:solidFill>
                <a:latin typeface="Tahoma"/>
              </a:rPr>
              <a:t>VP Johson &amp; Johnson Internation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3" name="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7315200" cy="5638680"/>
          </a:xfrm>
          <a:prstGeom prst="rect">
            <a:avLst/>
          </a:prstGeom>
          <a:ln w="0">
            <a:noFill/>
          </a:ln>
        </p:spPr>
      </p:pic>
      <p:sp>
        <p:nvSpPr>
          <p:cNvPr id="974" name=""/>
          <p:cNvSpPr/>
          <p:nvPr/>
        </p:nvSpPr>
        <p:spPr>
          <a:xfrm>
            <a:off x="1333440" y="376200"/>
            <a:ext cx="51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547280" y="404640"/>
            <a:ext cx="844740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000066"/>
                </a:solidFill>
                <a:latin typeface="Times New Roman"/>
              </a:rPr>
              <a:t>Definición de SCM     </a:t>
            </a:r>
            <a:endParaRPr b="1" i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10480" cy="38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208440" indent="0">
              <a:lnSpc>
                <a:spcPct val="100000"/>
              </a:lnSpc>
              <a:spcBef>
                <a:spcPts val="14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996600"/>
                </a:solidFill>
                <a:latin typeface="Tahoma"/>
              </a:rPr>
              <a:t>Supply Chain - Término utilizado internacionalmente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08440" indent="0">
              <a:lnSpc>
                <a:spcPct val="100000"/>
              </a:lnSpc>
              <a:spcBef>
                <a:spcPts val="14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bre cada actividad involucrada en producir y distribuir un producto o servicio desde el proveedor del proveedor hasta el cliente del clien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08440" indent="0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upply Chain Management incluye la gestión de la demanda y suministro, aprovisionamiento de materias primas y componentes, fabricación y montaje, gestión de almacenes y trazabilidad del inventario, gestión de pedidos, distribución multi-canal y entrega a clien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"/>
          <p:cNvSpPr/>
          <p:nvPr/>
        </p:nvSpPr>
        <p:spPr>
          <a:xfrm>
            <a:off x="4883040" y="5715000"/>
            <a:ext cx="2940120" cy="4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720" rIns="54720" tIns="27360" bIns="2736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Arial Narrow"/>
              </a:rPr>
              <a:t>Supply Chain Council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66"/>
                </a:solidFill>
                <a:latin typeface="Times New Roman"/>
              </a:rPr>
              <a:t>Ideas centrales en torno a SCM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Enfoque de esfuerzo compartid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Enfoque estratégic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Enfoque de gest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Enfoque de red, integrada y optimizad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1403280" y="333360"/>
            <a:ext cx="84470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66"/>
                </a:solidFill>
                <a:latin typeface="Times New Roman"/>
              </a:rPr>
              <a:t>Cadena de Suministros = Sincronización y Colaboración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4806720" y="5486400"/>
            <a:ext cx="2940120" cy="4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720" rIns="54720" tIns="27360" bIns="2736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Arial Narrow"/>
              </a:rPr>
              <a:t>Supply Chain Council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2" name="" descr=""/>
          <p:cNvPicPr/>
          <p:nvPr/>
        </p:nvPicPr>
        <p:blipFill>
          <a:blip r:embed="rId1"/>
          <a:stretch/>
        </p:blipFill>
        <p:spPr>
          <a:xfrm>
            <a:off x="264960" y="1600200"/>
            <a:ext cx="8726760" cy="3790800"/>
          </a:xfrm>
          <a:prstGeom prst="rect">
            <a:avLst/>
          </a:prstGeom>
          <a:ln w="0">
            <a:noFill/>
          </a:ln>
        </p:spPr>
      </p:pic>
      <p:sp>
        <p:nvSpPr>
          <p:cNvPr id="983" name=""/>
          <p:cNvSpPr/>
          <p:nvPr/>
        </p:nvSpPr>
        <p:spPr>
          <a:xfrm>
            <a:off x="228600" y="1905120"/>
            <a:ext cx="7848720" cy="4190760"/>
          </a:xfrm>
          <a:custGeom>
            <a:avLst/>
            <a:gdLst>
              <a:gd name="textAreaLeft" fmla="*/ 1051200 w 7848720"/>
              <a:gd name="textAreaRight" fmla="*/ 6797520 w 7848720"/>
              <a:gd name="textAreaTop" fmla="*/ 733320 h 4190760"/>
              <a:gd name="textAreaBottom" fmla="*/ 3038400 h 4190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720" rIns="54720" tIns="27360" bIns="2736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 rot="21205800">
            <a:off x="3073320" y="2287080"/>
            <a:ext cx="23734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720" rIns="54720" tIns="27360" bIns="2736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Flujo de Inform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 rot="407400">
            <a:off x="2140560" y="4700520"/>
            <a:ext cx="1989360" cy="36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720" rIns="54720" tIns="27360" bIns="2736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Flujo de Materi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7" name=""/>
          <p:cNvGraphicFramePr/>
          <p:nvPr/>
        </p:nvGraphicFramePr>
        <p:xfrm>
          <a:off x="1332000" y="1827360"/>
          <a:ext cx="7332480" cy="465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1827360"/>
                    <a:ext cx="7332480" cy="465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1. Introducción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50920" y="105264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Enfoque tradicional de Cadena del Val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1352520" y="477720"/>
            <a:ext cx="7469280" cy="2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Times New Roman"/>
              </a:rPr>
              <a:t>Iniciativas de Optimización de la Cadena de Sumistros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304920" y="2997360"/>
            <a:ext cx="8305560" cy="550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MS PGothic"/>
              </a:rPr>
              <a:t>Análisis y re-diseño de la cadena de suminist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MS PGothic"/>
              </a:rPr>
              <a:t>Implantación de metodologías de mejoras de procesos Six Sigma y Total Quality Management (TQ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MS PGothic"/>
              </a:rPr>
              <a:t>Definición de KPIs de Supply Chain orientados a client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MS PGothic"/>
              </a:rPr>
              <a:t>Creación de Direcciones de Supply Chain Mgt reportando a C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MS PGothic"/>
              </a:rPr>
              <a:t>Evolución de MRP II hacia modelos avanzados de planificación integrada y optimización a capacidad fin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MS PGothic"/>
              </a:rPr>
              <a:t>Consolidación de almacenes de fábrica en centros avanzados de distribu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173b"/>
                </a:solidFill>
                <a:latin typeface="Arial"/>
                <a:ea typeface="MS PGoth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457200" y="925560"/>
            <a:ext cx="1481040" cy="2173320"/>
          </a:xfrm>
          <a:prstGeom prst="rect">
            <a:avLst/>
          </a:prstGeom>
          <a:solidFill>
            <a:srgbClr val="b5e0e3"/>
          </a:solidFill>
          <a:ln w="0">
            <a:noFill/>
          </a:ln>
          <a:effectLst>
            <a:outerShdw dist="17819" dir="2700000" blurRad="0" rotWithShape="0">
              <a:srgbClr val="6c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6073920" y="920880"/>
            <a:ext cx="2092320" cy="2192040"/>
          </a:xfrm>
          <a:prstGeom prst="rect">
            <a:avLst/>
          </a:prstGeom>
          <a:solidFill>
            <a:srgbClr val="ccb374"/>
          </a:solidFill>
          <a:ln w="0">
            <a:noFill/>
          </a:ln>
          <a:effectLst>
            <a:outerShdw dist="17819" dir="2700000" blurRad="0" rotWithShape="0">
              <a:srgbClr val="796a4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2017800" y="914400"/>
            <a:ext cx="3992400" cy="2187720"/>
          </a:xfrm>
          <a:prstGeom prst="rect">
            <a:avLst/>
          </a:prstGeom>
          <a:solidFill>
            <a:srgbClr val="478ca8"/>
          </a:solidFill>
          <a:ln w="0">
            <a:noFill/>
          </a:ln>
          <a:effectLst>
            <a:outerShdw dist="17819" dir="2700000" blurRad="0" rotWithShape="0">
              <a:srgbClr val="2a536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1" name="" descr=""/>
          <p:cNvPicPr/>
          <p:nvPr/>
        </p:nvPicPr>
        <p:blipFill>
          <a:blip r:embed="rId1"/>
          <a:stretch/>
        </p:blipFill>
        <p:spPr>
          <a:xfrm>
            <a:off x="1241280" y="1725480"/>
            <a:ext cx="682920" cy="648000"/>
          </a:xfrm>
          <a:prstGeom prst="rect">
            <a:avLst/>
          </a:prstGeom>
          <a:ln w="0">
            <a:noFill/>
          </a:ln>
        </p:spPr>
      </p:pic>
      <p:pic>
        <p:nvPicPr>
          <p:cNvPr id="992" name="" descr=""/>
          <p:cNvPicPr/>
          <p:nvPr/>
        </p:nvPicPr>
        <p:blipFill>
          <a:blip r:embed="rId2"/>
          <a:stretch/>
        </p:blipFill>
        <p:spPr>
          <a:xfrm>
            <a:off x="577800" y="1895400"/>
            <a:ext cx="682560" cy="647640"/>
          </a:xfrm>
          <a:prstGeom prst="rect">
            <a:avLst/>
          </a:prstGeom>
          <a:ln w="0">
            <a:noFill/>
          </a:ln>
        </p:spPr>
      </p:pic>
      <p:pic>
        <p:nvPicPr>
          <p:cNvPr id="993" name="" descr=""/>
          <p:cNvPicPr/>
          <p:nvPr/>
        </p:nvPicPr>
        <p:blipFill>
          <a:blip r:embed="rId3"/>
          <a:stretch/>
        </p:blipFill>
        <p:spPr>
          <a:xfrm>
            <a:off x="2489040" y="1630440"/>
            <a:ext cx="567000" cy="774720"/>
          </a:xfrm>
          <a:prstGeom prst="rect">
            <a:avLst/>
          </a:prstGeom>
          <a:ln w="0">
            <a:noFill/>
          </a:ln>
        </p:spPr>
      </p:pic>
      <p:pic>
        <p:nvPicPr>
          <p:cNvPr id="994" name="" descr=""/>
          <p:cNvPicPr/>
          <p:nvPr/>
        </p:nvPicPr>
        <p:blipFill>
          <a:blip r:embed="rId4"/>
          <a:stretch/>
        </p:blipFill>
        <p:spPr>
          <a:xfrm>
            <a:off x="3587760" y="1857240"/>
            <a:ext cx="820800" cy="540000"/>
          </a:xfrm>
          <a:prstGeom prst="rect">
            <a:avLst/>
          </a:prstGeom>
          <a:ln w="0">
            <a:noFill/>
          </a:ln>
        </p:spPr>
      </p:pic>
      <p:pic>
        <p:nvPicPr>
          <p:cNvPr id="995" name="" descr=""/>
          <p:cNvPicPr/>
          <p:nvPr/>
        </p:nvPicPr>
        <p:blipFill>
          <a:blip r:embed="rId5"/>
          <a:stretch/>
        </p:blipFill>
        <p:spPr>
          <a:xfrm flipH="1">
            <a:off x="4922640" y="1838160"/>
            <a:ext cx="677880" cy="522360"/>
          </a:xfrm>
          <a:prstGeom prst="rect">
            <a:avLst/>
          </a:prstGeom>
          <a:ln w="0">
            <a:noFill/>
          </a:ln>
        </p:spPr>
      </p:pic>
      <p:pic>
        <p:nvPicPr>
          <p:cNvPr id="996" name="" descr=""/>
          <p:cNvPicPr/>
          <p:nvPr/>
        </p:nvPicPr>
        <p:blipFill>
          <a:blip r:embed="rId6"/>
          <a:stretch/>
        </p:blipFill>
        <p:spPr>
          <a:xfrm>
            <a:off x="7286760" y="1295280"/>
            <a:ext cx="866520" cy="625680"/>
          </a:xfrm>
          <a:prstGeom prst="rect">
            <a:avLst/>
          </a:prstGeom>
          <a:ln w="0">
            <a:noFill/>
          </a:ln>
        </p:spPr>
      </p:pic>
      <p:pic>
        <p:nvPicPr>
          <p:cNvPr id="997" name="" descr=""/>
          <p:cNvPicPr/>
          <p:nvPr/>
        </p:nvPicPr>
        <p:blipFill>
          <a:blip r:embed="rId7"/>
          <a:stretch/>
        </p:blipFill>
        <p:spPr>
          <a:xfrm flipH="1">
            <a:off x="6225840" y="1371600"/>
            <a:ext cx="677880" cy="522360"/>
          </a:xfrm>
          <a:prstGeom prst="rect">
            <a:avLst/>
          </a:prstGeom>
          <a:ln w="0">
            <a:noFill/>
          </a:ln>
        </p:spPr>
      </p:pic>
      <p:sp>
        <p:nvSpPr>
          <p:cNvPr id="998" name=""/>
          <p:cNvSpPr/>
          <p:nvPr/>
        </p:nvSpPr>
        <p:spPr>
          <a:xfrm>
            <a:off x="2126520" y="94608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oduc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4265640" y="946080"/>
            <a:ext cx="18352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gional Sales C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6627240" y="958680"/>
            <a:ext cx="860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li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488880" y="946080"/>
            <a:ext cx="1492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oveedor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550440" y="2463840"/>
            <a:ext cx="9410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roveed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1329480" y="2357280"/>
            <a:ext cx="811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Man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2010600" y="1622520"/>
            <a:ext cx="8143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abric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3349800" y="1440000"/>
            <a:ext cx="1150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Almacen de Fab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3090960" y="2073240"/>
            <a:ext cx="46980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1952640" y="2068560"/>
            <a:ext cx="46980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4457880" y="2068560"/>
            <a:ext cx="46980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5686560" y="2068560"/>
            <a:ext cx="46980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7010280" y="2057400"/>
            <a:ext cx="47016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4572000" y="2330280"/>
            <a:ext cx="11606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entro de Distribu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6051600" y="1905120"/>
            <a:ext cx="1111320" cy="5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entro de Distribución Retai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7461360" y="1905120"/>
            <a:ext cx="76824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ien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4" name="" descr=""/>
          <p:cNvPicPr/>
          <p:nvPr/>
        </p:nvPicPr>
        <p:blipFill>
          <a:blip r:embed="rId8"/>
          <a:stretch/>
        </p:blipFill>
        <p:spPr>
          <a:xfrm>
            <a:off x="8542440" y="1835280"/>
            <a:ext cx="525240" cy="407880"/>
          </a:xfrm>
          <a:prstGeom prst="rect">
            <a:avLst/>
          </a:prstGeom>
          <a:ln w="0">
            <a:noFill/>
          </a:ln>
        </p:spPr>
      </p:pic>
      <p:sp>
        <p:nvSpPr>
          <p:cNvPr id="1015" name=""/>
          <p:cNvSpPr/>
          <p:nvPr/>
        </p:nvSpPr>
        <p:spPr>
          <a:xfrm>
            <a:off x="8077320" y="2063880"/>
            <a:ext cx="46980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8077320" y="2182680"/>
            <a:ext cx="11556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liente fi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6477120" y="2701800"/>
            <a:ext cx="122544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Venta Directa/On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6546960" y="2438280"/>
            <a:ext cx="122544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Distribuid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352520" y="477720"/>
            <a:ext cx="7469280" cy="2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Times New Roman"/>
              </a:rPr>
              <a:t>Iniciativas de Optimización de la Cadena de Sumistros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304920" y="2997360"/>
            <a:ext cx="8305560" cy="60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MS PGothic"/>
              </a:rPr>
              <a:t>Posicionamiento de inventario en centros de consolidación “supplier pools” y servicio a fábrica Just-in-Time (el proveedor es propietario del stock hasta recibir la orden J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MS PGothic"/>
              </a:rPr>
              <a:t>Gestión de transporte Outbound e Inbound (factory gate pric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MS PGothic"/>
              </a:rPr>
              <a:t>Gestión proactiva de eventos en la cadena de suminist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MS PGothic"/>
              </a:rPr>
              <a:t>Portales de compras y ventas (modelos colaborativ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MS PGothic"/>
              </a:rPr>
              <a:t>Sincronización de ficheros maest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173b"/>
                </a:solidFill>
                <a:latin typeface="Arial"/>
                <a:ea typeface="MS PGoth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457200" y="925560"/>
            <a:ext cx="1481040" cy="2173320"/>
          </a:xfrm>
          <a:prstGeom prst="rect">
            <a:avLst/>
          </a:prstGeom>
          <a:solidFill>
            <a:srgbClr val="b5e0e3"/>
          </a:solidFill>
          <a:ln w="0">
            <a:noFill/>
          </a:ln>
          <a:effectLst>
            <a:outerShdw dist="17819" dir="2700000" blurRad="0" rotWithShape="0">
              <a:srgbClr val="6c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6073920" y="920880"/>
            <a:ext cx="2092320" cy="2192040"/>
          </a:xfrm>
          <a:prstGeom prst="rect">
            <a:avLst/>
          </a:prstGeom>
          <a:solidFill>
            <a:srgbClr val="ccb374"/>
          </a:solidFill>
          <a:ln w="0">
            <a:noFill/>
          </a:ln>
          <a:effectLst>
            <a:outerShdw dist="17819" dir="2700000" blurRad="0" rotWithShape="0">
              <a:srgbClr val="796a4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2017800" y="914400"/>
            <a:ext cx="3992400" cy="2187720"/>
          </a:xfrm>
          <a:prstGeom prst="rect">
            <a:avLst/>
          </a:prstGeom>
          <a:solidFill>
            <a:srgbClr val="478ca8"/>
          </a:solidFill>
          <a:ln w="0">
            <a:noFill/>
          </a:ln>
          <a:effectLst>
            <a:outerShdw dist="17819" dir="2700000" blurRad="0" rotWithShape="0">
              <a:srgbClr val="2a536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4" name="" descr=""/>
          <p:cNvPicPr/>
          <p:nvPr/>
        </p:nvPicPr>
        <p:blipFill>
          <a:blip r:embed="rId1"/>
          <a:stretch/>
        </p:blipFill>
        <p:spPr>
          <a:xfrm>
            <a:off x="1241280" y="1725480"/>
            <a:ext cx="682920" cy="648000"/>
          </a:xfrm>
          <a:prstGeom prst="rect">
            <a:avLst/>
          </a:prstGeom>
          <a:ln w="0">
            <a:noFill/>
          </a:ln>
        </p:spPr>
      </p:pic>
      <p:pic>
        <p:nvPicPr>
          <p:cNvPr id="1025" name="" descr=""/>
          <p:cNvPicPr/>
          <p:nvPr/>
        </p:nvPicPr>
        <p:blipFill>
          <a:blip r:embed="rId2"/>
          <a:stretch/>
        </p:blipFill>
        <p:spPr>
          <a:xfrm>
            <a:off x="577800" y="1895400"/>
            <a:ext cx="682560" cy="647640"/>
          </a:xfrm>
          <a:prstGeom prst="rect">
            <a:avLst/>
          </a:prstGeom>
          <a:ln w="0">
            <a:noFill/>
          </a:ln>
        </p:spPr>
      </p:pic>
      <p:pic>
        <p:nvPicPr>
          <p:cNvPr id="1026" name="" descr=""/>
          <p:cNvPicPr/>
          <p:nvPr/>
        </p:nvPicPr>
        <p:blipFill>
          <a:blip r:embed="rId3"/>
          <a:stretch/>
        </p:blipFill>
        <p:spPr>
          <a:xfrm>
            <a:off x="2489040" y="1630440"/>
            <a:ext cx="567000" cy="774720"/>
          </a:xfrm>
          <a:prstGeom prst="rect">
            <a:avLst/>
          </a:prstGeom>
          <a:ln w="0">
            <a:noFill/>
          </a:ln>
        </p:spPr>
      </p:pic>
      <p:pic>
        <p:nvPicPr>
          <p:cNvPr id="1027" name="" descr=""/>
          <p:cNvPicPr/>
          <p:nvPr/>
        </p:nvPicPr>
        <p:blipFill>
          <a:blip r:embed="rId4"/>
          <a:stretch/>
        </p:blipFill>
        <p:spPr>
          <a:xfrm>
            <a:off x="3587760" y="1857240"/>
            <a:ext cx="820800" cy="540000"/>
          </a:xfrm>
          <a:prstGeom prst="rect">
            <a:avLst/>
          </a:prstGeom>
          <a:ln w="0">
            <a:noFill/>
          </a:ln>
        </p:spPr>
      </p:pic>
      <p:pic>
        <p:nvPicPr>
          <p:cNvPr id="1028" name="" descr=""/>
          <p:cNvPicPr/>
          <p:nvPr/>
        </p:nvPicPr>
        <p:blipFill>
          <a:blip r:embed="rId5"/>
          <a:stretch/>
        </p:blipFill>
        <p:spPr>
          <a:xfrm flipH="1">
            <a:off x="4922640" y="1838160"/>
            <a:ext cx="677880" cy="522360"/>
          </a:xfrm>
          <a:prstGeom prst="rect">
            <a:avLst/>
          </a:prstGeom>
          <a:ln w="0">
            <a:noFill/>
          </a:ln>
        </p:spPr>
      </p:pic>
      <p:pic>
        <p:nvPicPr>
          <p:cNvPr id="1029" name="" descr=""/>
          <p:cNvPicPr/>
          <p:nvPr/>
        </p:nvPicPr>
        <p:blipFill>
          <a:blip r:embed="rId6"/>
          <a:stretch/>
        </p:blipFill>
        <p:spPr>
          <a:xfrm>
            <a:off x="7286760" y="1295280"/>
            <a:ext cx="866520" cy="625680"/>
          </a:xfrm>
          <a:prstGeom prst="rect">
            <a:avLst/>
          </a:prstGeom>
          <a:ln w="0">
            <a:noFill/>
          </a:ln>
        </p:spPr>
      </p:pic>
      <p:pic>
        <p:nvPicPr>
          <p:cNvPr id="1030" name="" descr=""/>
          <p:cNvPicPr/>
          <p:nvPr/>
        </p:nvPicPr>
        <p:blipFill>
          <a:blip r:embed="rId7"/>
          <a:stretch/>
        </p:blipFill>
        <p:spPr>
          <a:xfrm flipH="1">
            <a:off x="6225840" y="1371600"/>
            <a:ext cx="677880" cy="522360"/>
          </a:xfrm>
          <a:prstGeom prst="rect">
            <a:avLst/>
          </a:prstGeom>
          <a:ln w="0">
            <a:noFill/>
          </a:ln>
        </p:spPr>
      </p:pic>
      <p:sp>
        <p:nvSpPr>
          <p:cNvPr id="1031" name=""/>
          <p:cNvSpPr/>
          <p:nvPr/>
        </p:nvSpPr>
        <p:spPr>
          <a:xfrm>
            <a:off x="2126520" y="94608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oduc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4265640" y="946080"/>
            <a:ext cx="18352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gional Sales C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6627240" y="958680"/>
            <a:ext cx="860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li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488880" y="946080"/>
            <a:ext cx="1492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oveedor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550440" y="2463840"/>
            <a:ext cx="9410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roveed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1329480" y="2357280"/>
            <a:ext cx="811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Man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2010600" y="1622520"/>
            <a:ext cx="8143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abric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3349800" y="1440000"/>
            <a:ext cx="1150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Almacen de Fab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3090960" y="2073240"/>
            <a:ext cx="46980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1952640" y="2068560"/>
            <a:ext cx="46980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4457880" y="2068560"/>
            <a:ext cx="46980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5686560" y="2068560"/>
            <a:ext cx="46980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7010280" y="2057400"/>
            <a:ext cx="47016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4572000" y="2330280"/>
            <a:ext cx="11606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entro de Distribu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6051600" y="1905120"/>
            <a:ext cx="1111320" cy="5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entro de Distribución Retai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7461360" y="1905120"/>
            <a:ext cx="76824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ien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7" name="" descr=""/>
          <p:cNvPicPr/>
          <p:nvPr/>
        </p:nvPicPr>
        <p:blipFill>
          <a:blip r:embed="rId8"/>
          <a:stretch/>
        </p:blipFill>
        <p:spPr>
          <a:xfrm>
            <a:off x="8542440" y="1835280"/>
            <a:ext cx="525240" cy="407880"/>
          </a:xfrm>
          <a:prstGeom prst="rect">
            <a:avLst/>
          </a:prstGeom>
          <a:ln w="0">
            <a:noFill/>
          </a:ln>
        </p:spPr>
      </p:pic>
      <p:sp>
        <p:nvSpPr>
          <p:cNvPr id="1048" name=""/>
          <p:cNvSpPr/>
          <p:nvPr/>
        </p:nvSpPr>
        <p:spPr>
          <a:xfrm>
            <a:off x="8077320" y="2063880"/>
            <a:ext cx="46980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8077320" y="2182680"/>
            <a:ext cx="11556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liente fi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6477120" y="2701800"/>
            <a:ext cx="122544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Venta Directa/On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6546960" y="2438280"/>
            <a:ext cx="122544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Distribuid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2003400" y="6149880"/>
            <a:ext cx="11124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720" rIns="54720" tIns="27360" bIns="2736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1371600" y="18864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000066"/>
                </a:solidFill>
                <a:latin typeface="Times New Roman"/>
              </a:rPr>
              <a:t>Supply Chain Management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054" name=""/>
          <p:cNvGrpSpPr/>
          <p:nvPr/>
        </p:nvGrpSpPr>
        <p:grpSpPr>
          <a:xfrm>
            <a:off x="324000" y="981000"/>
            <a:ext cx="8604000" cy="3313080"/>
            <a:chOff x="324000" y="981000"/>
            <a:chExt cx="8604000" cy="3313080"/>
          </a:xfrm>
        </p:grpSpPr>
        <p:sp>
          <p:nvSpPr>
            <p:cNvPr id="1055" name=""/>
            <p:cNvSpPr/>
            <p:nvPr/>
          </p:nvSpPr>
          <p:spPr>
            <a:xfrm>
              <a:off x="324000" y="1844640"/>
              <a:ext cx="1079280" cy="50472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1403280" y="1197000"/>
              <a:ext cx="432000" cy="4316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3203640" y="1844640"/>
              <a:ext cx="1728720" cy="6476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5940360" y="1341360"/>
              <a:ext cx="360360" cy="289080"/>
            </a:xfrm>
            <a:custGeom>
              <a:avLst/>
              <a:gdLst>
                <a:gd name="textAreaLeft" fmla="*/ 0 w 360360"/>
                <a:gd name="textAreaRight" fmla="*/ 360720 w 360360"/>
                <a:gd name="textAreaTop" fmla="*/ 0 h 289080"/>
                <a:gd name="textAreaBottom" fmla="*/ 289080 h 28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5940360" y="2133720"/>
              <a:ext cx="1008000" cy="574560"/>
            </a:xfrm>
            <a:custGeom>
              <a:avLst/>
              <a:gdLst>
                <a:gd name="textAreaLeft" fmla="*/ 0 w 1008000"/>
                <a:gd name="textAreaRight" fmla="*/ 1008360 w 1008000"/>
                <a:gd name="textAreaTop" fmla="*/ 0 h 574560"/>
                <a:gd name="textAreaBottom" fmla="*/ 574920 h 57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5940360" y="3068640"/>
              <a:ext cx="649440" cy="431640"/>
            </a:xfrm>
            <a:custGeom>
              <a:avLst/>
              <a:gdLst>
                <a:gd name="textAreaLeft" fmla="*/ 0 w 649440"/>
                <a:gd name="textAreaRight" fmla="*/ 649800 w 64944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1908000" y="2565360"/>
              <a:ext cx="792360" cy="36036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1042920" y="2205000"/>
              <a:ext cx="93672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 flipV="1">
              <a:off x="2627280" y="2205000"/>
              <a:ext cx="57636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1908000" y="1484280"/>
              <a:ext cx="129564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2987640" y="1125360"/>
              <a:ext cx="71640" cy="14292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3348000" y="1125360"/>
              <a:ext cx="142920" cy="14292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3059280" y="1268280"/>
              <a:ext cx="217440" cy="50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3419640" y="1268280"/>
              <a:ext cx="0" cy="50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 flipV="1">
              <a:off x="4859280" y="1483920"/>
              <a:ext cx="100800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4859280" y="2205000"/>
              <a:ext cx="115272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4859280" y="2349360"/>
              <a:ext cx="108108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6516720" y="1484280"/>
              <a:ext cx="1150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7093080" y="2421000"/>
              <a:ext cx="50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6877080" y="3213000"/>
              <a:ext cx="71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7596360" y="981000"/>
              <a:ext cx="1331640" cy="3313080"/>
            </a:xfrm>
            <a:prstGeom prst="ellipse">
              <a:avLst/>
            </a:prstGeom>
            <a:solidFill>
              <a:srgbClr val="99cc00">
                <a:alpha val="1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800" spc="-1" strike="noStrike" baseline="-2000">
                  <a:solidFill>
                    <a:srgbClr val="000000"/>
                  </a:solidFill>
                  <a:latin typeface="Times New Roman"/>
                </a:rPr>
                <a:t>Mercad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 flipH="1">
              <a:off x="1907640" y="1197000"/>
              <a:ext cx="100836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7" name=""/>
          <p:cNvSpPr/>
          <p:nvPr/>
        </p:nvSpPr>
        <p:spPr>
          <a:xfrm>
            <a:off x="0" y="692280"/>
            <a:ext cx="7667640" cy="33843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8" name=""/>
          <p:cNvGrpSpPr/>
          <p:nvPr/>
        </p:nvGrpSpPr>
        <p:grpSpPr>
          <a:xfrm>
            <a:off x="0" y="2565360"/>
            <a:ext cx="9144000" cy="2592360"/>
            <a:chOff x="0" y="2565360"/>
            <a:chExt cx="9144000" cy="2592360"/>
          </a:xfrm>
        </p:grpSpPr>
        <p:grpSp>
          <p:nvGrpSpPr>
            <p:cNvPr id="1079" name=""/>
            <p:cNvGrpSpPr/>
            <p:nvPr/>
          </p:nvGrpSpPr>
          <p:grpSpPr>
            <a:xfrm>
              <a:off x="1042920" y="2565360"/>
              <a:ext cx="7201080" cy="2303640"/>
              <a:chOff x="1042920" y="2565360"/>
              <a:chExt cx="7201080" cy="2303640"/>
            </a:xfrm>
          </p:grpSpPr>
          <p:sp>
            <p:nvSpPr>
              <p:cNvPr id="1080" name=""/>
              <p:cNvSpPr/>
              <p:nvPr/>
            </p:nvSpPr>
            <p:spPr>
              <a:xfrm>
                <a:off x="3276720" y="4365720"/>
                <a:ext cx="1871640" cy="50328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 flipV="1">
                <a:off x="5219640" y="3357720"/>
                <a:ext cx="720720" cy="136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2411280" y="2924280"/>
                <a:ext cx="1081080" cy="1368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4067280" y="2565360"/>
                <a:ext cx="0" cy="172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6084720" y="4365720"/>
                <a:ext cx="576360" cy="431640"/>
              </a:xfrm>
              <a:custGeom>
                <a:avLst/>
                <a:gdLst>
                  <a:gd name="textAreaLeft" fmla="*/ 0 w 576360"/>
                  <a:gd name="textAreaRight" fmla="*/ 576720 w 576360"/>
                  <a:gd name="textAreaTop" fmla="*/ 0 h 431640"/>
                  <a:gd name="textAreaBottom" fmla="*/ 432000 h 431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 flipV="1">
                <a:off x="5219640" y="4581000"/>
                <a:ext cx="936720" cy="14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 flipV="1">
                <a:off x="6659640" y="4076640"/>
                <a:ext cx="1584360" cy="50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1042920" y="4005360"/>
                <a:ext cx="863640" cy="43164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1908000" y="4221000"/>
                <a:ext cx="1368720" cy="43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9" name=""/>
            <p:cNvSpPr/>
            <p:nvPr/>
          </p:nvSpPr>
          <p:spPr>
            <a:xfrm>
              <a:off x="0" y="2924280"/>
              <a:ext cx="9144000" cy="2233440"/>
            </a:xfrm>
            <a:prstGeom prst="ellipse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0" name=""/>
          <p:cNvSpPr/>
          <p:nvPr/>
        </p:nvSpPr>
        <p:spPr>
          <a:xfrm>
            <a:off x="303120" y="5465880"/>
            <a:ext cx="8301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Gestión de cadenas de valor, se da en un contexto de complejas y múltiples relaciones entre empresas, que requiere de una gestión sistém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5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13716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000066"/>
                </a:solidFill>
                <a:latin typeface="Times New Roman"/>
              </a:rPr>
              <a:t>Supply Chain Management:</a:t>
            </a:r>
            <a:br>
              <a:rPr sz="2800"/>
            </a:br>
            <a:r>
              <a:rPr b="1" i="1" lang="es-CL" sz="2800" spc="-1" strike="noStrike">
                <a:solidFill>
                  <a:srgbClr val="000066"/>
                </a:solidFill>
                <a:latin typeface="Times New Roman"/>
              </a:rPr>
              <a:t>¿Por qué el cambio?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 modifica el balance de poder entre productores y comercializador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 cercanía al cliente es la principal fortalez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 requieren menores tiempos de ciclo para competi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s Tecnologías de Información generan nuevas realidades y oportunidad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lobalización de las empres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000066"/>
                </a:solidFill>
                <a:latin typeface="Times New Roman"/>
              </a:rPr>
              <a:t>Supply Chain Management:</a:t>
            </a:r>
            <a:br>
              <a:rPr sz="2800"/>
            </a:br>
            <a:r>
              <a:rPr b="1" i="1" lang="es-CL" sz="2800" spc="-1" strike="noStrike">
                <a:solidFill>
                  <a:srgbClr val="000066"/>
                </a:solidFill>
                <a:latin typeface="Times New Roman"/>
              </a:rPr>
              <a:t>Los principales beneficios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ducción de costos a través de la cadena y más eficiencia en capital de trabaj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ás eficiente gestión de inventarios, de todo tip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ás eficiencia en las transacciones entre las partes de la caden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ás valor al cliente…generalmente en la forma de menores precio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0066"/>
                </a:solidFill>
                <a:latin typeface="Times New Roman"/>
              </a:rPr>
              <a:t>Análisis estratégico para el diseño de las operaciones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504720" y="1628640"/>
            <a:ext cx="813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Identificar la cadena de valor y su configura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Análisis de la estrategia de negoc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Establecer las opciones de diseño/rediseño de la cadena de val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SzPct val="10785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Revisar las decisiones estratégicas de operacio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SzPct val="10785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Revisar las tendencias de mercado y el estado del ar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SzPct val="10785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Darle un sentido de competitividad a la generación de opcion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Evaluar el impacto potencial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SzPct val="10785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Indicadores de operacio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SzPct val="10785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Realidad del negoc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SzPct val="107851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Impacto de los cambios en las operaciones sobre el negoci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000066"/>
                </a:solidFill>
                <a:latin typeface="Times New Roman"/>
              </a:rPr>
              <a:t>Indicadores /GICAV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Cómo influye el diseño de la cadena de valor y su integración en las variables claves para evaluar las operacione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Cost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Calidad (incluyendo servici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Tiemp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Flexibilid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"/>
          <p:cNvSpPr/>
          <p:nvPr/>
        </p:nvSpPr>
        <p:spPr>
          <a:xfrm>
            <a:off x="286200" y="419040"/>
            <a:ext cx="469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Magister en Gestión y Dirección de Empres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Departamento de Ingeniería Industri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1332000" y="2708280"/>
            <a:ext cx="7812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Ejercicio: Análisis de caso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1" name="" descr=""/>
          <p:cNvPicPr/>
          <p:nvPr/>
        </p:nvPicPr>
        <p:blipFill>
          <a:blip r:embed="rId1"/>
          <a:stretch/>
        </p:blipFill>
        <p:spPr>
          <a:xfrm>
            <a:off x="4500720" y="3645000"/>
            <a:ext cx="4140000" cy="29541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1332000" y="360360"/>
            <a:ext cx="74880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Consideremos el servicio de recaudación y pago de cuent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Dos modelos de negocio distinto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Servip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Sencilli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Client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77724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Servipa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SzPct val="10785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Filial de Banc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SzPct val="10785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Apoyo al giro bancario, eliminando trxs de las oficinas bancari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SzPct val="10785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stándares de nivel ban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SzPct val="10785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Sucursales y cajas auxiliares propi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SzPct val="10785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Cobertura: Nac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SzPct val="10785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Nuevos servicios: Depósitos, giros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SzPct val="10785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Tecnología propietaria, usando red propi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Sencilli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SzPct val="107851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No vinculada a Banc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SzPct val="107851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Usa puntos de atención en lugares que tienen otro propósi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SzPct val="107851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Operación basada en red de negocios asociad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SzPct val="107851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Cobertura nac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SzPct val="107851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Tecnología escalable y de bajo cos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0066"/>
                </a:solidFill>
                <a:latin typeface="Times New Roman"/>
              </a:rPr>
              <a:t>Diferentes iniciativas han contribuido a mejorar la eficiencia al interior de las empresas: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Implantación de ERP´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Rediseños de proces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Incorporación de tecnologí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J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C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TQ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Etc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685800" y="1196640"/>
            <a:ext cx="7772400" cy="50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pare ambos modelos en términos de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350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versión requerida para lograr cobertura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350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standarización de proceso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350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cursos humanos requerido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350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structura de costos de operación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350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orario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350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xternalización de actividad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¿Que esperan los clientes de estas empresas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¿Que actividades manejan cada empresa centralizadamente y cuales no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o se comparan en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35005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stos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35005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alida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35005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iempo de entreg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35005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lexibilida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nalice las estrategias de ambas empresas y como el modelo responde a ella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¿Qué amenazas se ciernen sobre este negocio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2209680" y="2438280"/>
            <a:ext cx="2667240" cy="2438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0066"/>
                </a:solidFill>
                <a:latin typeface="Times New Roman"/>
              </a:rPr>
              <a:t>...sin embargo, la empresa no está aislada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66880" y="3124080"/>
            <a:ext cx="1828800" cy="9907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mpr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334120" y="3200400"/>
            <a:ext cx="1752480" cy="7621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Distribuid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981080" y="358128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4495680" y="350532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28600" y="3276720"/>
            <a:ext cx="1752480" cy="76176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rovee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0" y="487692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ara lograr eficiencia, se debe mejorar el proceso completo de negocio, no solamente lo que pasa al interior de la empr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7086600" y="350532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 rot="5400000">
            <a:off x="7453800" y="3444480"/>
            <a:ext cx="170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ERC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0" y="2362320"/>
            <a:ext cx="7391520" cy="2514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666880" y="3124080"/>
            <a:ext cx="1828800" cy="9907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mpr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5334120" y="3200400"/>
            <a:ext cx="1752480" cy="7621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Distribuid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981080" y="358128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495680" y="350532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228600" y="3276720"/>
            <a:ext cx="1752480" cy="76176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rovee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0" y="487692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ara lograr eficiencia, se debe mejorar el proceso completo de negocio, no solamente lo que pasa al interior de la empr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086600" y="350532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rot="5400000">
            <a:off x="7453800" y="3444480"/>
            <a:ext cx="170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ERC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1160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000066"/>
                </a:solidFill>
                <a:latin typeface="Times New Roman"/>
              </a:rPr>
              <a:t>Integración de la cadena de valor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476000" y="-360"/>
            <a:ext cx="734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2. Gestión Integral de la Cadena de Agregación de Valor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Disectar la cadena de valor del negoci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Adaptándola según las necesidades del cliente y las mejores condiciones para cada fase de agregación de valo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Ejemplo: Li &amp; Fung dejando la producción en China y la distribución en Hong Kon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Dónde está el mejor aporte de valor para la cadena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Algunas dimensiones: Costo, Tiempo, Calidad, Característica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8T16:20:04Z</dcterms:created>
  <dc:creator>.</dc:creator>
  <dc:description/>
  <dc:language>en-US</dc:language>
  <cp:lastModifiedBy>.</cp:lastModifiedBy>
  <dcterms:modified xsi:type="dcterms:W3CDTF">2006-10-05T12:00:29Z</dcterms:modified>
  <cp:revision>50</cp:revision>
  <dc:subject/>
  <dc:title>Diapositiva 1</dc:title>
</cp:coreProperties>
</file>