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8.wmf" ContentType="image/x-wmf"/>
  <Override PartName="/ppt/media/image11.png" ContentType="image/png"/>
  <Override PartName="/ppt/media/image4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9.png" ContentType="image/png"/>
  <Override PartName="/ppt/media/image27.png" ContentType="image/png"/>
  <Override PartName="/ppt/media/image1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9.wmf" ContentType="image/x-wmf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B1A4-01A1-4A50-9BE7-0E942E95A84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his is an article where HP launches a new Server to the mark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e the title... Logistics, Tariffs guide decisions to spread productions around. (go through the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hink about how many products are launched by your company (either you are manufacturer or distributor) and the opportunities but also the complexities of operating in a global supply chai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order to summarize the main supply chain challenges lets look at the sam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upply-Chain Council was organized in 1996 by Pittiglio Rabin Todd &amp; McGrath (PRTM) and AMR Research, and initially included 69 voluntary member compan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ply-Chain Council now has closer to 1,000 corporate members world-wide and has established international chapters in North America, Europe, Greater China, Japan, Australia/New Zealand, South East Asia, Brazil and Southern Africa.  Development of additional chapters in India and South America are underway.   The Supply-Chain Council's membership consists primarily practitioners representing a broad cross section of industries, including manufacturers, services, distributors, and retailer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en es Supply Chain Counc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independent, not-for-profit, global corporation with membership open to all companies and organizations interested in applying and advancing the state-of-the-art in supply-chain management systems and practices, the Council is interested in providing the widest possible dissemination of the SCOR 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composicion de actividades alto valor añadido e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nque el ERP es necesario no esta diseñado para poder cubrir los nuevos retos y necesidades de las cadenas de sumini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ptimización del 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anificación a capacidad fin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acticas avanzadas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tornos colaborativos multi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seño de redes logi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BFBE-6143-4F0D-A500-6EE37A77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0DED-8F9C-46CB-9F74-CF082047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C64D-4801-4EFA-B1F5-0E74854D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EA77-3206-4755-A867-8D593474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EE83-903A-4AB2-B811-37763C5E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1508-6F52-41DC-B953-D7D0E8BD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39CE-0E52-47B1-B09C-E7538345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376B-A063-4874-90E2-94C81368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62E9-0400-4272-9378-D8B369FF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E608-20A8-44F0-95D1-70B5C225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2FD0-5803-488F-B079-66B4B7D7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B2E8-CFDE-4664-97C1-092232D6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5A7D-4C4B-4865-A6B9-CFB4D658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FB28-0452-451B-8987-AE89C006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CE07-91FF-4A40-80B5-C4AAEED1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3B8E-FB85-4E1C-A85A-F9CCC785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EEF8-CBEE-44EA-9916-E4EE9A3E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955B-0F39-4A44-A805-60E109EE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3B1-4DE1-405F-B68A-60141157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B86-0161-42DF-8203-B15C849E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61C-1D48-4011-9F91-688F24B9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B30-53C8-4F41-9C01-896BDB22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4B9E-23D6-4FC2-9EDA-357BE0D3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F64-69CC-4D6B-9F3D-6C8687F8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7E5E-26B0-4263-ABA5-366C90833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1037520"/>
            <a:chOff x="262080" y="87480"/>
            <a:chExt cx="8488080" cy="103752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84320"/>
              <a:ext cx="7696080" cy="855360"/>
              <a:chOff x="1054080" y="184320"/>
              <a:chExt cx="7696080" cy="85536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84320"/>
                <a:ext cx="7696080" cy="85536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84320"/>
                <a:ext cx="6075360" cy="848520"/>
                <a:chOff x="1897200" y="184320"/>
                <a:chExt cx="6075360" cy="84852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86480"/>
                  <a:ext cx="3505320" cy="844560"/>
                  <a:chOff x="1897200" y="186480"/>
                  <a:chExt cx="3505320" cy="8445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961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1014840"/>
                    <a:ext cx="14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954000"/>
                    <a:ext cx="172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963720"/>
                    <a:ext cx="460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896400"/>
                    <a:ext cx="31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866880"/>
                    <a:ext cx="410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86472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631440"/>
                    <a:ext cx="63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72252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676800"/>
                    <a:ext cx="47484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87920"/>
                    <a:ext cx="66672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589680"/>
                    <a:ext cx="241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57816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512640"/>
                    <a:ext cx="11592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565920"/>
                    <a:ext cx="936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582120"/>
                    <a:ext cx="3816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96800"/>
                    <a:ext cx="255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603720"/>
                    <a:ext cx="29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98000"/>
                    <a:ext cx="3254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96200"/>
                    <a:ext cx="3016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5344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96200"/>
                    <a:ext cx="692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86480"/>
                    <a:ext cx="3168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77200"/>
                    <a:ext cx="936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340560"/>
                    <a:ext cx="12708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78800"/>
                    <a:ext cx="55116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73620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542160"/>
                    <a:ext cx="288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518760"/>
                    <a:ext cx="144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330840"/>
                    <a:ext cx="68760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593640"/>
                    <a:ext cx="2588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41544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94840"/>
                    <a:ext cx="29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93040"/>
                    <a:ext cx="22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84320"/>
                  <a:ext cx="1807920" cy="848520"/>
                  <a:chOff x="6164640" y="184320"/>
                  <a:chExt cx="1807920" cy="84852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954000"/>
                    <a:ext cx="17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963720"/>
                    <a:ext cx="45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896400"/>
                    <a:ext cx="32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86688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631440"/>
                    <a:ext cx="6372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722520"/>
                    <a:ext cx="302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5380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96200"/>
                    <a:ext cx="69516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84320"/>
                    <a:ext cx="3204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77560"/>
                    <a:ext cx="93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340560"/>
                    <a:ext cx="12672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78800"/>
                    <a:ext cx="55080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73656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542160"/>
                    <a:ext cx="28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518760"/>
                    <a:ext cx="14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332640"/>
                    <a:ext cx="68724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595800"/>
                    <a:ext cx="258840" cy="43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41580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94840"/>
                    <a:ext cx="30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93040"/>
                    <a:ext cx="219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97640"/>
                <a:ext cx="7464240" cy="827640"/>
                <a:chOff x="1266840" y="197640"/>
                <a:chExt cx="7464240" cy="8276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635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94040"/>
                <a:ext cx="5864040" cy="837000"/>
                <a:chOff x="1917720" y="194040"/>
                <a:chExt cx="5864040" cy="8370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96200"/>
                  <a:ext cx="0" cy="28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63540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670680"/>
                  <a:ext cx="0" cy="554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868680"/>
                  <a:ext cx="0" cy="155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417600"/>
                  <a:ext cx="0" cy="355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63540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444960"/>
                  <a:ext cx="0" cy="581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200160"/>
                  <a:ext cx="0" cy="98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95840"/>
                  <a:ext cx="0" cy="359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63540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63540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95840"/>
                  <a:ext cx="0" cy="533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908280"/>
                  <a:ext cx="0" cy="66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203760"/>
                  <a:ext cx="0" cy="122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98000"/>
                  <a:ext cx="0" cy="666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63540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63540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63540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63540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441720"/>
                  <a:ext cx="0" cy="589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477000"/>
                  <a:ext cx="0" cy="3085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94040"/>
                  <a:ext cx="0" cy="53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334440"/>
                  <a:ext cx="0" cy="190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98000"/>
                  <a:ext cx="0" cy="4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633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103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5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DECF-E7F9-4F66-8FA4-5ED9C8E57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1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1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539640" y="3860280"/>
            <a:ext cx="8305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rección  de Operaciones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ódulo 2</a:t>
            </a:r>
            <a:br>
              <a:rPr sz="3600"/>
            </a:b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47640" y="5300640"/>
            <a:ext cx="64008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fesor: Iván B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Octubre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9280" y="182880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Analizar la forma forma de gestionar TODA la cadena de valor de nuestro negocio, para estructurarla en forma competiva hacia el cli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Estrategia de negocio </a:t>
            </a:r>
            <a:r>
              <a:rPr b="0" lang="es-CL" sz="36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 Diseño de la GICA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jemplo: Caso Li Fung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14449" t="14957" r="7250" b="18549"/>
          <a:stretch/>
        </p:blipFill>
        <p:spPr>
          <a:xfrm>
            <a:off x="0" y="1413000"/>
            <a:ext cx="414036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9" name="" descr=""/>
          <p:cNvPicPr/>
          <p:nvPr/>
        </p:nvPicPr>
        <p:blipFill>
          <a:blip r:embed="rId2"/>
          <a:srcRect l="12810" t="19385" r="11344" b="6567"/>
          <a:stretch/>
        </p:blipFill>
        <p:spPr>
          <a:xfrm>
            <a:off x="4462560" y="1413000"/>
            <a:ext cx="4681440" cy="35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0" name=""/>
          <p:cNvSpPr/>
          <p:nvPr/>
        </p:nvSpPr>
        <p:spPr>
          <a:xfrm>
            <a:off x="3924360" y="306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2200" y="5392800"/>
            <a:ext cx="822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de 7000 fabricas articuladas para abastecer mercados glob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dad de articular y coordinar una capacidad de producción distribuida sobre la base de un manejo comercial, logístico, de proveedores y de gestión de la produ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Tendencia en el diseño de la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1905120"/>
            <a:ext cx="35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c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095880" y="190512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g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81080" y="2286000"/>
            <a:ext cx="38102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07200" y="342900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stionar com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ptim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010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200400"/>
            <a:ext cx="313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ización para buscar el mejor en cada parte de la Ca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983960" y="5410080"/>
            <a:ext cx="5383800" cy="11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¿ Cómo gestiono mi Cadena de Valo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ordinación vrs Integración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Cadenas de Suministros tradicionales estan cambian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3800" y="2738520"/>
            <a:ext cx="808668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lientes son mas exigentes en coste y servicio (calidad en la 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lobalización – nuev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eslocalización “offshoring, outsourcing”, especialmente actividades de menor valor aña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cremento del ritmo de lanzamiento de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ultiples canales de ventas y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provisionamiento y distribución desde y hacia cualquier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Incremento exponencial de la complej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rganizacion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8480" y="946080"/>
            <a:ext cx="141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onsecuencias del aumento de la complejidad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520" y="3200400"/>
            <a:ext cx="8086680" cy="34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Cadenas de suministros mas largas, tiempos de ciclos mas lar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Bajo nivel de servicio a cliente (entrega tarde, incomple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Falta de sincronización en lanzamiento de nuevos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Incremento en costes de la cadena de sumin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Nuevas inversiones en activos (fabrica, almacen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Obsolescencia de Inv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Control del Inv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01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173b"/>
                </a:solidFill>
                <a:latin typeface="Arial"/>
                <a:ea typeface="MS PGothic"/>
              </a:rPr>
              <a:t>Impacto en ventas y marge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Outsourcing de actividade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12551400">
            <a:off x="7315200" y="4114800"/>
            <a:ext cx="533520" cy="2743200"/>
          </a:xfrm>
          <a:custGeom>
            <a:avLst/>
            <a:gdLst>
              <a:gd name="textAreaLeft" fmla="*/ 71280 w 533520"/>
              <a:gd name="textAreaRight" fmla="*/ 462240 w 53352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rganizacion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28480" y="946080"/>
            <a:ext cx="141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493380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304920" y="2416320"/>
            <a:ext cx="7848360" cy="44416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0" y="144792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1828800"/>
            <a:ext cx="1523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260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Globalización de la Cadena de Suministro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66"/>
                </a:solidFill>
                <a:latin typeface="Times New Roman"/>
              </a:rPr>
              <a:t>También el almacenamiento se está deslocalizand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8920" cy="545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3. Ejempl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dustria del Salm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xt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gos (Servipag vs Sencillit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76320" y="1917720"/>
            <a:ext cx="1295280" cy="4267080"/>
            <a:chOff x="76320" y="1917720"/>
            <a:chExt cx="1295280" cy="4267080"/>
          </a:xfrm>
        </p:grpSpPr>
        <p:sp>
          <p:nvSpPr>
            <p:cNvPr id="468" name=""/>
            <p:cNvSpPr/>
            <p:nvPr/>
          </p:nvSpPr>
          <p:spPr>
            <a:xfrm>
              <a:off x="76320" y="19177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Insumos Marinos y Fluvi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320" y="24512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aborator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320" y="28321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Insumos Quími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320" y="33656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Reproducto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320" y="37465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fesionales y Técni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320" y="428004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Tahoma"/>
                </a:rPr>
                <a:t>Insumos Agricol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320" y="481320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Harina de Pesc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320" y="53467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Tahoma"/>
                </a:rPr>
                <a:t>Pinturas Antifou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320" y="58802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añ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371240" y="1968480"/>
            <a:ext cx="7671240" cy="4673520"/>
            <a:chOff x="1371240" y="1968480"/>
            <a:chExt cx="7671240" cy="4673520"/>
          </a:xfrm>
        </p:grpSpPr>
        <p:grpSp>
          <p:nvGrpSpPr>
            <p:cNvPr id="478" name=""/>
            <p:cNvGrpSpPr/>
            <p:nvPr/>
          </p:nvGrpSpPr>
          <p:grpSpPr>
            <a:xfrm>
              <a:off x="1371240" y="1968480"/>
              <a:ext cx="7671240" cy="4673520"/>
              <a:chOff x="1371240" y="1968480"/>
              <a:chExt cx="7671240" cy="4673520"/>
            </a:xfrm>
          </p:grpSpPr>
          <p:grpSp>
            <p:nvGrpSpPr>
              <p:cNvPr id="479" name=""/>
              <p:cNvGrpSpPr/>
              <p:nvPr/>
            </p:nvGrpSpPr>
            <p:grpSpPr>
              <a:xfrm>
                <a:off x="1523880" y="1968480"/>
                <a:ext cx="7518600" cy="4673520"/>
                <a:chOff x="1523880" y="1968480"/>
                <a:chExt cx="7518600" cy="467352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1523880" y="2451240"/>
                  <a:ext cx="1067040" cy="1295280"/>
                </a:xfrm>
                <a:custGeom>
                  <a:avLst/>
                  <a:gdLst>
                    <a:gd name="textAreaLeft" fmla="*/ 0 w 1067040"/>
                    <a:gd name="textAreaRight" fmla="*/ 1067400 w 106704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100" spc="-1" strike="noStrike">
                      <a:solidFill>
                        <a:srgbClr val="000099"/>
                      </a:solidFill>
                      <a:latin typeface="Tahoma"/>
                    </a:rPr>
                    <a:t>Hatchery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641680" y="2908440"/>
                  <a:ext cx="1117440" cy="457200"/>
                </a:xfrm>
                <a:custGeom>
                  <a:avLst/>
                  <a:gdLst>
                    <a:gd name="textAreaLeft" fmla="*/ 0 w 1117440"/>
                    <a:gd name="textAreaRight" fmla="*/ 1117440 w 11174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Engord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809880" y="2908440"/>
                  <a:ext cx="1032120" cy="457200"/>
                </a:xfrm>
                <a:custGeom>
                  <a:avLst/>
                  <a:gdLst>
                    <a:gd name="textAreaLeft" fmla="*/ 0 w 1032120"/>
                    <a:gd name="textAreaRight" fmla="*/ 1032480 w 10321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Cosech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890960" y="2908440"/>
                  <a:ext cx="1333800" cy="457200"/>
                </a:xfrm>
                <a:custGeom>
                  <a:avLst/>
                  <a:gdLst>
                    <a:gd name="textAreaLeft" fmla="*/ 0 w 1333800"/>
                    <a:gd name="textAreaRight" fmla="*/ 1334160 w 1333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Plantas Procesadora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248520" y="2679840"/>
                  <a:ext cx="1104840" cy="1066680"/>
                </a:xfrm>
                <a:custGeom>
                  <a:avLst/>
                  <a:gdLst>
                    <a:gd name="textAreaLeft" fmla="*/ 0 w 1104840"/>
                    <a:gd name="textAreaRight" fmla="*/ 1105200 w 1104840"/>
                    <a:gd name="textAreaTop" fmla="*/ 0 h 1066680"/>
                    <a:gd name="textAreaBottom" fmla="*/ 1067040 h 1066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000" spc="-1" strike="noStrike">
                      <a:solidFill>
                        <a:srgbClr val="000099"/>
                      </a:solidFill>
                      <a:latin typeface="Tahoma"/>
                    </a:rPr>
                    <a:t>Distribución mayorista nacional e internac.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429680" y="207000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Reprocesado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429680" y="260352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99"/>
                      </a:solidFill>
                      <a:latin typeface="Tahoma"/>
                    </a:rPr>
                    <a:t>Institucion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429680" y="3137040"/>
                  <a:ext cx="1180800" cy="99036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Supermercado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Cash &amp;Carry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Discounter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Supermarke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Tradicion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429680" y="420372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Restaura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6200000">
                  <a:off x="6534000" y="4133520"/>
                  <a:ext cx="4673520" cy="3430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900" spc="-1" strike="noStrike">
                      <a:solidFill>
                        <a:srgbClr val="000099"/>
                      </a:solidFill>
                      <a:latin typeface="Tahoma"/>
                    </a:rPr>
                    <a:t>Consumidores</a:t>
                  </a: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600200" y="2832120"/>
                  <a:ext cx="762120" cy="22860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Ova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600200" y="3137040"/>
                  <a:ext cx="762120" cy="45720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100" spc="-1" strike="noStrike">
                      <a:solidFill>
                        <a:srgbClr val="000099"/>
                      </a:solidFill>
                      <a:latin typeface="Tahoma"/>
                    </a:rPr>
                    <a:t>Alevin, Smolt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492" name=""/>
              <p:cNvCxnSpPr>
                <a:stCxn id="468" idx="0"/>
                <a:endCxn id="480" idx="0"/>
              </p:cNvCxnSpPr>
              <p:nvPr/>
            </p:nvCxnSpPr>
            <p:spPr>
              <a:xfrm>
                <a:off x="1371240" y="2146320"/>
                <a:ext cx="153000" cy="9532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3" name=""/>
              <p:cNvCxnSpPr>
                <a:stCxn id="469" idx="0"/>
                <a:endCxn id="480" idx="1"/>
              </p:cNvCxnSpPr>
              <p:nvPr/>
            </p:nvCxnSpPr>
            <p:spPr>
              <a:xfrm>
                <a:off x="1371240" y="2603520"/>
                <a:ext cx="153000" cy="4960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4" name=""/>
              <p:cNvCxnSpPr>
                <a:stCxn id="470" idx="0"/>
                <a:endCxn id="480" idx="2"/>
              </p:cNvCxnSpPr>
              <p:nvPr/>
            </p:nvCxnSpPr>
            <p:spPr>
              <a:xfrm>
                <a:off x="1371240" y="3060720"/>
                <a:ext cx="153000" cy="38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5" name=""/>
              <p:cNvCxnSpPr>
                <a:stCxn id="471" idx="0"/>
                <a:endCxn id="480" idx="3"/>
              </p:cNvCxnSpPr>
              <p:nvPr/>
            </p:nvCxnSpPr>
            <p:spPr>
              <a:xfrm flipV="1">
                <a:off x="1371240" y="3098520"/>
                <a:ext cx="153000" cy="4197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6" name=""/>
              <p:cNvCxnSpPr>
                <a:stCxn id="472" idx="0"/>
                <a:endCxn id="480" idx="4"/>
              </p:cNvCxnSpPr>
              <p:nvPr/>
            </p:nvCxnSpPr>
            <p:spPr>
              <a:xfrm flipV="1">
                <a:off x="1371240" y="3098520"/>
                <a:ext cx="153000" cy="8769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cxnSp>
          <p:nvCxnSpPr>
            <p:cNvPr id="497" name=""/>
            <p:cNvCxnSpPr>
              <a:stCxn id="484" idx="0"/>
              <a:endCxn id="485" idx="0"/>
            </p:cNvCxnSpPr>
            <p:nvPr/>
          </p:nvCxnSpPr>
          <p:spPr>
            <a:xfrm flipV="1">
              <a:off x="7353360" y="2298240"/>
              <a:ext cx="76680" cy="915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8" name=""/>
            <p:cNvCxnSpPr>
              <a:stCxn id="484" idx="1"/>
              <a:endCxn id="486" idx="0"/>
            </p:cNvCxnSpPr>
            <p:nvPr/>
          </p:nvCxnSpPr>
          <p:spPr>
            <a:xfrm flipV="1">
              <a:off x="7353360" y="2831760"/>
              <a:ext cx="76680" cy="381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9" name=""/>
            <p:cNvCxnSpPr>
              <a:stCxn id="484" idx="2"/>
              <a:endCxn id="487" idx="0"/>
            </p:cNvCxnSpPr>
            <p:nvPr/>
          </p:nvCxnSpPr>
          <p:spPr>
            <a:xfrm>
              <a:off x="7353360" y="3213000"/>
              <a:ext cx="76680" cy="419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0" name=""/>
            <p:cNvCxnSpPr>
              <a:stCxn id="488" idx="0"/>
              <a:endCxn id="484" idx="3"/>
            </p:cNvCxnSpPr>
            <p:nvPr/>
          </p:nvCxnSpPr>
          <p:spPr>
            <a:xfrm rot="10800000">
              <a:off x="7353360" y="3212280"/>
              <a:ext cx="76680" cy="1220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01" name=""/>
          <p:cNvGrpSpPr/>
          <p:nvPr/>
        </p:nvGrpSpPr>
        <p:grpSpPr>
          <a:xfrm>
            <a:off x="101520" y="3365280"/>
            <a:ext cx="8458200" cy="3302280"/>
            <a:chOff x="101520" y="3365280"/>
            <a:chExt cx="8458200" cy="3302280"/>
          </a:xfrm>
        </p:grpSpPr>
        <p:grpSp>
          <p:nvGrpSpPr>
            <p:cNvPr id="502" name=""/>
            <p:cNvGrpSpPr/>
            <p:nvPr/>
          </p:nvGrpSpPr>
          <p:grpSpPr>
            <a:xfrm>
              <a:off x="101520" y="3505320"/>
              <a:ext cx="8458200" cy="3162240"/>
              <a:chOff x="101520" y="3505320"/>
              <a:chExt cx="8458200" cy="3162240"/>
            </a:xfrm>
          </p:grpSpPr>
          <p:sp>
            <p:nvSpPr>
              <p:cNvPr id="503" name=""/>
              <p:cNvSpPr/>
              <p:nvPr/>
            </p:nvSpPr>
            <p:spPr>
              <a:xfrm>
                <a:off x="101520" y="621036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54160" y="6286680"/>
                <a:ext cx="4114800" cy="304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2000"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Transporte Terrestre, Marino y Aére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7560" y="6286680"/>
                <a:ext cx="3809880" cy="304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2000"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Aseguramiento de la Calida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447920" y="458460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Maestranz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447920" y="51181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Maestranz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629080" y="35179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Proveedor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Aliment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629080" y="405144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Laboratorios (Vacuna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629080" y="458460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Jaulas y bals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629080" y="51181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Redes y manten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629080" y="565164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Tratamiento de agu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807000" y="3505320"/>
                <a:ext cx="1031760" cy="45720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Cosecha y Transp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889520" y="3517920"/>
                <a:ext cx="1333440" cy="45720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Envases y caj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890960" y="4203720"/>
                <a:ext cx="1333800" cy="990720"/>
              </a:xfrm>
              <a:custGeom>
                <a:avLst/>
                <a:gdLst>
                  <a:gd name="textAreaLeft" fmla="*/ 0 w 1333800"/>
                  <a:gd name="textAreaRight" fmla="*/ 1334160 w 1333800"/>
                  <a:gd name="textAreaTop" fmla="*/ 0 h 990720"/>
                  <a:gd name="textAreaBottom" fmla="*/ 99108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Maquinas de proceso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Despielado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Ahumado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Hielo en escam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16" name=""/>
            <p:cNvCxnSpPr>
              <a:stCxn id="481" idx="0"/>
              <a:endCxn id="508" idx="0"/>
            </p:cNvCxnSpPr>
            <p:nvPr/>
          </p:nvCxnSpPr>
          <p:spPr>
            <a:xfrm rot="5400000">
              <a:off x="2982240" y="3439800"/>
              <a:ext cx="15300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7" name=""/>
            <p:cNvCxnSpPr>
              <a:stCxn id="508" idx="1"/>
              <a:endCxn id="509" idx="0"/>
            </p:cNvCxnSpPr>
            <p:nvPr/>
          </p:nvCxnSpPr>
          <p:spPr>
            <a:xfrm flipV="1" rot="10800000">
              <a:off x="3056760" y="397512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8" name=""/>
            <p:cNvCxnSpPr>
              <a:stCxn id="509" idx="1"/>
              <a:endCxn id="510" idx="0"/>
            </p:cNvCxnSpPr>
            <p:nvPr/>
          </p:nvCxnSpPr>
          <p:spPr>
            <a:xfrm flipV="1" rot="10800000">
              <a:off x="3056760" y="450828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9" name=""/>
            <p:cNvCxnSpPr>
              <a:stCxn id="511" idx="0"/>
              <a:endCxn id="510" idx="1"/>
            </p:cNvCxnSpPr>
            <p:nvPr/>
          </p:nvCxnSpPr>
          <p:spPr>
            <a:xfrm flipV="1">
              <a:off x="3057120" y="504180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0" name=""/>
            <p:cNvCxnSpPr>
              <a:stCxn id="512" idx="0"/>
              <a:endCxn id="511" idx="1"/>
            </p:cNvCxnSpPr>
            <p:nvPr/>
          </p:nvCxnSpPr>
          <p:spPr>
            <a:xfrm flipV="1">
              <a:off x="3057120" y="557532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1" name=""/>
            <p:cNvCxnSpPr>
              <a:stCxn id="482" idx="0"/>
              <a:endCxn id="513" idx="0"/>
            </p:cNvCxnSpPr>
            <p:nvPr/>
          </p:nvCxnSpPr>
          <p:spPr>
            <a:xfrm rot="5400000">
              <a:off x="4124880" y="3433680"/>
              <a:ext cx="140400" cy="3960"/>
            </a:xfrm>
            <a:prstGeom prst="bentConnector3">
              <a:avLst>
                <a:gd name="adj1" fmla="val 4987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2" name=""/>
            <p:cNvCxnSpPr>
              <a:stCxn id="483" idx="0"/>
              <a:endCxn id="514" idx="0"/>
            </p:cNvCxnSpPr>
            <p:nvPr/>
          </p:nvCxnSpPr>
          <p:spPr>
            <a:xfrm rot="5400000">
              <a:off x="5313600" y="3440880"/>
              <a:ext cx="15300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3" name=""/>
            <p:cNvCxnSpPr>
              <a:stCxn id="514" idx="1"/>
              <a:endCxn id="515" idx="0"/>
            </p:cNvCxnSpPr>
            <p:nvPr/>
          </p:nvCxnSpPr>
          <p:spPr>
            <a:xfrm flipH="1" rot="16200000">
              <a:off x="5275800" y="4088160"/>
              <a:ext cx="2293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4" name=""/>
            <p:cNvCxnSpPr>
              <a:stCxn id="475" idx="0"/>
              <a:endCxn id="507" idx="0"/>
            </p:cNvCxnSpPr>
            <p:nvPr/>
          </p:nvCxnSpPr>
          <p:spPr>
            <a:xfrm flipV="1">
              <a:off x="1371600" y="5346000"/>
              <a:ext cx="76680" cy="229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5" name=""/>
            <p:cNvCxnSpPr>
              <a:stCxn id="476" idx="0"/>
              <a:endCxn id="507" idx="1"/>
            </p:cNvCxnSpPr>
            <p:nvPr/>
          </p:nvCxnSpPr>
          <p:spPr>
            <a:xfrm flipV="1">
              <a:off x="1371600" y="5346000"/>
              <a:ext cx="76680" cy="686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6" name=""/>
            <p:cNvCxnSpPr>
              <a:stCxn id="506" idx="0"/>
              <a:endCxn id="510" idx="2"/>
            </p:cNvCxnSpPr>
            <p:nvPr/>
          </p:nvCxnSpPr>
          <p:spPr>
            <a:xfrm>
              <a:off x="2590920" y="4812840"/>
              <a:ext cx="388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7" name=""/>
            <p:cNvCxnSpPr>
              <a:stCxn id="507" idx="2"/>
              <a:endCxn id="511" idx="2"/>
            </p:cNvCxnSpPr>
            <p:nvPr/>
          </p:nvCxnSpPr>
          <p:spPr>
            <a:xfrm>
              <a:off x="2590920" y="5346360"/>
              <a:ext cx="388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28" name=""/>
          <p:cNvGrpSpPr/>
          <p:nvPr/>
        </p:nvGrpSpPr>
        <p:grpSpPr>
          <a:xfrm>
            <a:off x="101520" y="1003320"/>
            <a:ext cx="8991720" cy="1904760"/>
            <a:chOff x="101520" y="1003320"/>
            <a:chExt cx="8991720" cy="1904760"/>
          </a:xfrm>
        </p:grpSpPr>
        <p:cxnSp>
          <p:nvCxnSpPr>
            <p:cNvPr id="529" name=""/>
            <p:cNvCxnSpPr>
              <a:stCxn id="484" idx="4"/>
              <a:endCxn id="530" idx="2"/>
            </p:cNvCxnSpPr>
            <p:nvPr/>
          </p:nvCxnSpPr>
          <p:spPr>
            <a:xfrm flipH="1" flipV="1" rot="5400000">
              <a:off x="7102800" y="1248120"/>
              <a:ext cx="991440" cy="1872360"/>
            </a:xfrm>
            <a:prstGeom prst="bentConnector3">
              <a:avLst>
                <a:gd name="adj1" fmla="val 72902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31" name=""/>
            <p:cNvCxnSpPr>
              <a:stCxn id="480" idx="5"/>
              <a:endCxn id="532" idx="2"/>
            </p:cNvCxnSpPr>
            <p:nvPr/>
          </p:nvCxnSpPr>
          <p:spPr>
            <a:xfrm flipH="1" flipV="1" rot="5400000">
              <a:off x="1914120" y="1698120"/>
              <a:ext cx="762840" cy="743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33" name=""/>
            <p:cNvCxnSpPr>
              <a:stCxn id="481" idx="1"/>
              <a:endCxn id="534" idx="2"/>
            </p:cNvCxnSpPr>
            <p:nvPr/>
          </p:nvCxnSpPr>
          <p:spPr>
            <a:xfrm flipH="1" flipV="1" rot="5400000">
              <a:off x="3701880" y="1047240"/>
              <a:ext cx="1220040" cy="2502720"/>
            </a:xfrm>
            <a:prstGeom prst="bentConnector3">
              <a:avLst>
                <a:gd name="adj1" fmla="val 63518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35" name=""/>
            <p:cNvCxnSpPr>
              <a:stCxn id="482" idx="1"/>
              <a:endCxn id="536" idx="2"/>
            </p:cNvCxnSpPr>
            <p:nvPr/>
          </p:nvCxnSpPr>
          <p:spPr>
            <a:xfrm flipH="1" flipV="1" rot="5400000">
              <a:off x="3850920" y="2034720"/>
              <a:ext cx="1220040" cy="527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grpSp>
          <p:nvGrpSpPr>
            <p:cNvPr id="537" name=""/>
            <p:cNvGrpSpPr/>
            <p:nvPr/>
          </p:nvGrpSpPr>
          <p:grpSpPr>
            <a:xfrm>
              <a:off x="101520" y="1003320"/>
              <a:ext cx="8991720" cy="945000"/>
              <a:chOff x="101520" y="1003320"/>
              <a:chExt cx="8991720" cy="945000"/>
            </a:xfrm>
          </p:grpSpPr>
          <p:sp>
            <p:nvSpPr>
              <p:cNvPr id="538" name=""/>
              <p:cNvSpPr/>
              <p:nvPr/>
            </p:nvSpPr>
            <p:spPr>
              <a:xfrm>
                <a:off x="101520" y="1003320"/>
                <a:ext cx="899172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28600" y="1117440"/>
                <a:ext cx="83808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Marina y Directema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143000" y="1117440"/>
                <a:ext cx="9907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Tahoma"/>
                  </a:rPr>
                  <a:t>Subsecretaría de Pesca y SERNAPESC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20968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7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entros de Desarrollo Tecnológic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200400" y="1117440"/>
                <a:ext cx="106668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Universidades y Centros de Investigac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343400" y="1117440"/>
                <a:ext cx="7621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Sup. Servicios Sanitario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181480" y="1117440"/>
                <a:ext cx="7621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ONAMA y SS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19920" y="1117440"/>
                <a:ext cx="99036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Asociaciones y entidades de apoy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08660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Entidades Financiera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07732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4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entros y Servicios de informac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4" name=""/>
              <p:cNvCxnSpPr>
                <a:stCxn id="539" idx="2"/>
                <a:endCxn id="540" idx="2"/>
              </p:cNvCxnSpPr>
              <p:nvPr/>
            </p:nvCxnSpPr>
            <p:spPr>
              <a:xfrm flipH="1" rot="16200000">
                <a:off x="1142280" y="1194120"/>
                <a:ext cx="2160" cy="991440"/>
              </a:xfrm>
              <a:prstGeom prst="bentConnector3">
                <a:avLst>
                  <a:gd name="adj1" fmla="val 8680000"/>
                </a:avLst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545" name=""/>
              <p:cNvCxnSpPr>
                <a:stCxn id="532" idx="2"/>
                <a:endCxn id="541" idx="2"/>
              </p:cNvCxnSpPr>
              <p:nvPr/>
            </p:nvCxnSpPr>
            <p:spPr>
              <a:xfrm flipH="1" rot="16200000">
                <a:off x="3199680" y="1155960"/>
                <a:ext cx="2160" cy="106776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</p:grp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The Salmon Industry inChile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851040"/>
            <a:ext cx="9144000" cy="60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Visión Completa del Sistema-Product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Agentes responsables de 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ff990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00200" y="2895480"/>
            <a:ext cx="914400" cy="609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66"/>
                </a:solidFill>
                <a:latin typeface="Tahoma"/>
              </a:rPr>
              <a:t>Alime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419720" y="2895480"/>
            <a:ext cx="914400" cy="609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Centros de 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6920" y="2133720"/>
            <a:ext cx="1066680" cy="466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Planta de 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0200" y="3830760"/>
            <a:ext cx="4191120" cy="512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veedores Materias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733920"/>
            <a:ext cx="121932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ahoma"/>
              </a:rPr>
              <a:t>Transporte Terrestre Frí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04920" y="2362320"/>
            <a:ext cx="1066680" cy="3808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esqu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3505320"/>
            <a:ext cx="10666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04920" y="2895480"/>
            <a:ext cx="1066680" cy="466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ahoma"/>
              </a:rPr>
              <a:t>Productores Agrícol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438280" y="2133720"/>
            <a:ext cx="2286000" cy="466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Genética Re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6320" y="600120"/>
            <a:ext cx="72388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Gobierno Nacional y Regional (leyes, macroeconomí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38280" y="32004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181480" y="2616120"/>
            <a:ext cx="0" cy="2793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616120"/>
            <a:ext cx="0" cy="3556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324480" y="3352680"/>
            <a:ext cx="0" cy="3812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0" y="2590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2855880"/>
            <a:ext cx="1295640" cy="6494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Pisciculturas / Centro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2604960" y="2590560"/>
            <a:ext cx="61920" cy="1219320"/>
            <a:chOff x="2604960" y="2590560"/>
            <a:chExt cx="61920" cy="1219320"/>
          </a:xfrm>
        </p:grpSpPr>
        <p:sp>
          <p:nvSpPr>
            <p:cNvPr id="575" name=""/>
            <p:cNvSpPr/>
            <p:nvPr/>
          </p:nvSpPr>
          <p:spPr>
            <a:xfrm flipV="1">
              <a:off x="2666880" y="259056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66880" y="327672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604960" y="3124080"/>
              <a:ext cx="61920" cy="1526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V="1">
            <a:off x="5486400" y="2590920"/>
            <a:ext cx="0" cy="12189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ff990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05740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58128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487692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66"/>
                </a:solidFill>
                <a:latin typeface="Tahoma"/>
              </a:rPr>
              <a:t>Comercializ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162920" y="609588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5715000" y="335268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1" name=""/>
          <p:cNvCxnSpPr>
            <a:stCxn id="587" idx="0"/>
            <a:endCxn id="592" idx="1"/>
          </p:cNvCxnSpPr>
          <p:nvPr/>
        </p:nvCxnSpPr>
        <p:spPr>
          <a:xfrm flipH="1" flipV="1" rot="5400000">
            <a:off x="6553800" y="2056320"/>
            <a:ext cx="639000" cy="1173600"/>
          </a:xfrm>
          <a:prstGeom prst="bent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3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52388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71500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114800" y="320040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581280" y="2590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"/>
          <p:cNvCxnSpPr>
            <a:stCxn id="587" idx="3"/>
            <a:endCxn id="610" idx="1"/>
          </p:cNvCxnSpPr>
          <p:nvPr/>
        </p:nvCxnSpPr>
        <p:spPr>
          <a:xfrm>
            <a:off x="7019640" y="3162240"/>
            <a:ext cx="440280" cy="153360"/>
          </a:xfrm>
          <a:prstGeom prst="bentConnector3">
            <a:avLst>
              <a:gd name="adj1" fmla="val 49754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1" name=""/>
          <p:cNvCxnSpPr>
            <a:endCxn id="580" idx="0"/>
          </p:cNvCxnSpPr>
          <p:nvPr/>
        </p:nvCxnSpPr>
        <p:spPr>
          <a:xfrm flipH="1" rot="16200000">
            <a:off x="6535080" y="3689280"/>
            <a:ext cx="989280" cy="496080"/>
          </a:xfrm>
          <a:prstGeom prst="bentConnector3">
            <a:avLst>
              <a:gd name="adj1" fmla="val 15726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12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467480" y="1676520"/>
            <a:ext cx="1524240" cy="12952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uper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Resta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229600" y="13716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467480" y="3124080"/>
            <a:ext cx="1524240" cy="38124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447920" y="251460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218960" y="373392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1218960" y="251460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447920" y="320040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295280" y="3200400"/>
            <a:ext cx="152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7848720" y="41911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705720" y="41911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20120" y="2616120"/>
            <a:ext cx="1295280" cy="30492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8229600" y="34290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8229600" y="289512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5904000" y="2498760"/>
            <a:ext cx="3175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rot="5400000">
            <a:off x="6255000" y="2392920"/>
            <a:ext cx="61920" cy="152280"/>
          </a:xfrm>
          <a:custGeom>
            <a:avLst/>
            <a:gdLst/>
            <a:ahLst/>
            <a:rect l="l" t="t" r="r" b="b"/>
            <a:pathLst>
              <a:path w="39" h="96">
                <a:moveTo>
                  <a:pt x="39" y="0"/>
                </a:moveTo>
                <a:cubicBezTo>
                  <a:pt x="27" y="3"/>
                  <a:pt x="16" y="7"/>
                  <a:pt x="9" y="15"/>
                </a:cubicBezTo>
                <a:cubicBezTo>
                  <a:pt x="2" y="23"/>
                  <a:pt x="0" y="38"/>
                  <a:pt x="0" y="48"/>
                </a:cubicBezTo>
                <a:cubicBezTo>
                  <a:pt x="0" y="58"/>
                  <a:pt x="6" y="70"/>
                  <a:pt x="12" y="78"/>
                </a:cubicBezTo>
                <a:cubicBezTo>
                  <a:pt x="18" y="86"/>
                  <a:pt x="27" y="91"/>
                  <a:pt x="36" y="9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9" name=""/>
          <p:cNvCxnSpPr>
            <a:stCxn id="628" idx="0"/>
            <a:endCxn id="624" idx="1"/>
          </p:cNvCxnSpPr>
          <p:nvPr/>
        </p:nvCxnSpPr>
        <p:spPr>
          <a:xfrm>
            <a:off x="6375240" y="2498760"/>
            <a:ext cx="1237680" cy="270720"/>
          </a:xfrm>
          <a:prstGeom prst="bentConnector3">
            <a:avLst>
              <a:gd name="adj1" fmla="val 4978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30" name=""/>
          <p:cNvSpPr/>
          <p:nvPr/>
        </p:nvSpPr>
        <p:spPr>
          <a:xfrm>
            <a:off x="0" y="76320"/>
            <a:ext cx="8798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66"/>
                </a:solidFill>
                <a:latin typeface="Times New Roman"/>
              </a:rPr>
              <a:t>Salmon Complex Adaptative System at Invert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Temari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23640" y="27432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ación del cur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Calendario y reglas del jue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Introducción a la Estrategia de Ope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2160" y="6289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ff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47840" y="1376280"/>
            <a:ext cx="8227800" cy="472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Arial"/>
              </a:rPr>
              <a:t>Tem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visión síntesis cla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T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ón Integral de la Cadena de Va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dicaciones Análisis de cas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467480" y="1676520"/>
            <a:ext cx="1524240" cy="12952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uper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Resta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467480" y="3124080"/>
            <a:ext cx="1524240" cy="381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620120" y="2616120"/>
            <a:ext cx="1295280" cy="304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8229600" y="289512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5904000" y="2438280"/>
            <a:ext cx="1782720" cy="330840"/>
            <a:chOff x="5904000" y="2438280"/>
            <a:chExt cx="1782720" cy="330840"/>
          </a:xfrm>
        </p:grpSpPr>
        <p:sp>
          <p:nvSpPr>
            <p:cNvPr id="639" name=""/>
            <p:cNvSpPr/>
            <p:nvPr/>
          </p:nvSpPr>
          <p:spPr>
            <a:xfrm flipH="1">
              <a:off x="5904000" y="2498760"/>
              <a:ext cx="317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5400000">
              <a:off x="6255000" y="2392920"/>
              <a:ext cx="61920" cy="15228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"/>
            <p:cNvCxnSpPr>
              <a:stCxn id="640" idx="0"/>
              <a:endCxn id="636" idx="1"/>
            </p:cNvCxnSpPr>
            <p:nvPr/>
          </p:nvCxnSpPr>
          <p:spPr>
            <a:xfrm>
              <a:off x="6372000" y="2498760"/>
              <a:ext cx="1315080" cy="2707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42" name=""/>
          <p:cNvSpPr/>
          <p:nvPr/>
        </p:nvSpPr>
        <p:spPr>
          <a:xfrm flipV="1">
            <a:off x="8229600" y="1371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8229600" y="34290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Agentes responsables de 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600200" y="2895480"/>
            <a:ext cx="914400" cy="6098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Alimen-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19720" y="2895480"/>
            <a:ext cx="914400" cy="6098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entros de 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876920" y="2133720"/>
            <a:ext cx="10666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lanta de 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600200" y="3830760"/>
            <a:ext cx="4191120" cy="5126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roveedores Mat.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67280" y="3733920"/>
            <a:ext cx="114300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04920" y="2362320"/>
            <a:ext cx="106668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Pesqu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04920" y="3505320"/>
            <a:ext cx="10666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04920" y="2895480"/>
            <a:ext cx="1066680" cy="466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Productore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438280" y="2133720"/>
            <a:ext cx="228600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Genética Reprodu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533520"/>
            <a:ext cx="72388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c0c0"/>
                </a:solidFill>
                <a:latin typeface="Tahoma"/>
              </a:rPr>
              <a:t>Gobierno Nacional y Regional (leyes, macroeconomía, etc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518148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895480" y="2855880"/>
            <a:ext cx="1295640" cy="6494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isciculturas / Centro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2604960" y="2590560"/>
            <a:ext cx="61920" cy="1219320"/>
            <a:chOff x="2604960" y="2590560"/>
            <a:chExt cx="61920" cy="1219320"/>
          </a:xfrm>
        </p:grpSpPr>
        <p:sp>
          <p:nvSpPr>
            <p:cNvPr id="665" name=""/>
            <p:cNvSpPr/>
            <p:nvPr/>
          </p:nvSpPr>
          <p:spPr>
            <a:xfrm flipV="1">
              <a:off x="2666880" y="2590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666880" y="327672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04960" y="3124080"/>
              <a:ext cx="61920" cy="1526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 flipV="1">
            <a:off x="5486400" y="25909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205740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8128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487692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omerciali-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7162560" y="60958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5715000" y="33526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1" name=""/>
          <p:cNvCxnSpPr>
            <a:stCxn id="677" idx="0"/>
          </p:cNvCxnSpPr>
          <p:nvPr/>
        </p:nvCxnSpPr>
        <p:spPr>
          <a:xfrm flipH="1" flipV="1" rot="5400000">
            <a:off x="6495840" y="1999800"/>
            <a:ext cx="753480" cy="1172160"/>
          </a:xfrm>
          <a:prstGeom prst="bentConnector2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2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52388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71500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038480" y="3200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58128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8" name=""/>
          <p:cNvCxnSpPr>
            <a:stCxn id="677" idx="3"/>
          </p:cNvCxnSpPr>
          <p:nvPr/>
        </p:nvCxnSpPr>
        <p:spPr>
          <a:xfrm>
            <a:off x="7019640" y="3161880"/>
            <a:ext cx="438840" cy="1080"/>
          </a:xfrm>
          <a:prstGeom prst="bentConnector2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9" name=""/>
          <p:cNvCxnSpPr>
            <a:endCxn id="670" idx="0"/>
          </p:cNvCxnSpPr>
          <p:nvPr/>
        </p:nvCxnSpPr>
        <p:spPr>
          <a:xfrm flipH="1" rot="16200000">
            <a:off x="6534720" y="3688200"/>
            <a:ext cx="990000" cy="496080"/>
          </a:xfrm>
          <a:prstGeom prst="bentConnector3">
            <a:avLst>
              <a:gd name="adj1" fmla="val 1571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00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9448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r>
              <a:rPr b="1" i="1" lang="es-ES" sz="1800" spc="-1" strike="noStrike">
                <a:solidFill>
                  <a:srgbClr val="000066"/>
                </a:solidFill>
                <a:latin typeface="Tahoma"/>
              </a:rPr>
              <a:t>Relaciones Principales de los Productos de valor agregado</a:t>
            </a:r>
            <a:br>
              <a:rPr sz="1800"/>
            </a:b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218960" y="2514600"/>
            <a:ext cx="381240" cy="1219320"/>
            <a:chOff x="1218960" y="2514600"/>
            <a:chExt cx="381240" cy="1219320"/>
          </a:xfrm>
        </p:grpSpPr>
        <p:grpSp>
          <p:nvGrpSpPr>
            <p:cNvPr id="705" name=""/>
            <p:cNvGrpSpPr/>
            <p:nvPr/>
          </p:nvGrpSpPr>
          <p:grpSpPr>
            <a:xfrm>
              <a:off x="1218960" y="2514600"/>
              <a:ext cx="381240" cy="1219320"/>
              <a:chOff x="1218960" y="2514600"/>
              <a:chExt cx="381240" cy="1219320"/>
            </a:xfrm>
          </p:grpSpPr>
          <p:sp>
            <p:nvSpPr>
              <p:cNvPr id="706" name=""/>
              <p:cNvSpPr/>
              <p:nvPr/>
            </p:nvSpPr>
            <p:spPr>
              <a:xfrm>
                <a:off x="1447920" y="25146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1218960" y="373392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1218960" y="251460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71600" y="320040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 flipH="1">
              <a:off x="1295280" y="3200400"/>
              <a:ext cx="152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6705720" y="41911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791320" y="25909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286000" y="32004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200400" y="1828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5334120" y="243828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838080" y="3352680"/>
            <a:ext cx="243864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4495680" y="1828800"/>
            <a:ext cx="609840" cy="2286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5562360" y="4038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962520" y="2362320"/>
            <a:ext cx="0" cy="3657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6324480" y="1295280"/>
            <a:ext cx="1447920" cy="1905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763120" y="1219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4114440" y="1295280"/>
            <a:ext cx="1219320" cy="1676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 flipV="1">
            <a:off x="914400" y="2666880"/>
            <a:ext cx="266688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5257440" y="1219320"/>
            <a:ext cx="2438280" cy="1066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438280" y="51814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4952520" y="4267080"/>
            <a:ext cx="175284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8001000" y="4191120"/>
            <a:ext cx="53352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914400" y="2438280"/>
            <a:ext cx="1905120" cy="609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3200400" y="3276720"/>
            <a:ext cx="2514600" cy="761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62120" y="3886200"/>
            <a:ext cx="114300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209680" y="1295280"/>
            <a:ext cx="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971800" y="1320840"/>
            <a:ext cx="0" cy="4775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343400" y="4038480"/>
            <a:ext cx="3352680" cy="1067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752480" y="838080"/>
            <a:ext cx="0" cy="5715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09480" y="3886200"/>
            <a:ext cx="72392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33720" y="1219320"/>
            <a:ext cx="60195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05520" y="3352680"/>
            <a:ext cx="1600200" cy="1219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62120" y="2514600"/>
            <a:ext cx="3733560" cy="3200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62520" y="1752480"/>
            <a:ext cx="106668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429000" y="1371600"/>
            <a:ext cx="0" cy="3886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685800" y="761760"/>
            <a:ext cx="2133720" cy="2438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86400" y="1828800"/>
            <a:ext cx="1752480" cy="327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7848720" y="4114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3809880" y="3276720"/>
            <a:ext cx="3962520" cy="1752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4267080" y="4114440"/>
            <a:ext cx="3886200" cy="1981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4876920" y="4114440"/>
            <a:ext cx="3581280" cy="2438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2438280" y="1828440"/>
            <a:ext cx="518184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1905120"/>
            <a:ext cx="3581640" cy="1904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66"/>
                </a:solidFill>
                <a:latin typeface="Times New Roman"/>
              </a:rPr>
              <a:t>Desarrollo de Seguridad Alimentaria: </a:t>
            </a:r>
            <a:br>
              <a:rPr sz="3200"/>
            </a:br>
            <a:r>
              <a:rPr b="0" i="1" lang="es-MX" sz="3200" spc="-1" strike="noStrike">
                <a:solidFill>
                  <a:srgbClr val="000066"/>
                </a:solidFill>
                <a:latin typeface="Times New Roman"/>
              </a:rPr>
              <a:t>“Trazabilidad”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1557360"/>
            <a:ext cx="630252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Regulaciones y especificaciones de productos en los países desarrollados son exigentes y protegen al consumid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Seguridad alimetaria es un tema crítico e identificamos sus especificacion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S</a:t>
            </a:r>
            <a:r>
              <a:rPr b="1" lang="es-MX" sz="1700" spc="-1" strike="noStrike">
                <a:solidFill>
                  <a:srgbClr val="4d4d4d"/>
                </a:solidFill>
                <a:latin typeface="Tahoma"/>
              </a:rPr>
              <a:t>istema de rastreo de información</a:t>
            </a: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 que permite llegar desde el producto final hasta los padres de los peces que fueron la materia prim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6400800" y="1527120"/>
            <a:ext cx="2743200" cy="18255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"/>
          <a:stretch/>
        </p:blipFill>
        <p:spPr>
          <a:xfrm>
            <a:off x="4267080" y="3722760"/>
            <a:ext cx="4724640" cy="30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1219320" y="990720"/>
            <a:ext cx="7772400" cy="579096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1066680" y="990720"/>
            <a:ext cx="4572000" cy="5638680"/>
            <a:chOff x="1066680" y="990720"/>
            <a:chExt cx="4572000" cy="5638680"/>
          </a:xfrm>
        </p:grpSpPr>
        <p:sp>
          <p:nvSpPr>
            <p:cNvPr id="755" name=""/>
            <p:cNvSpPr/>
            <p:nvPr/>
          </p:nvSpPr>
          <p:spPr>
            <a:xfrm>
              <a:off x="2209680" y="1828800"/>
              <a:ext cx="1371600" cy="7621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Recursos Natu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371600" y="3429000"/>
              <a:ext cx="1295280" cy="8380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edio Amb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57400" y="4724280"/>
              <a:ext cx="1676520" cy="7621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Cercanía Centro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Insum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3200" y="5638680"/>
              <a:ext cx="1295280" cy="60984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ano de Ob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066680" y="990720"/>
              <a:ext cx="2286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0000"/>
            </a:bodyPr>
            <a:p>
              <a:pPr algn="ctr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000000"/>
                  </a:solidFill>
                  <a:latin typeface="Tahoma"/>
                </a:rPr>
                <a:t>Ventajas Comparativ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886200" y="1143000"/>
              <a:ext cx="1447920" cy="5335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diciones Hidrográfic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809880" y="1828800"/>
              <a:ext cx="1371600" cy="49536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Temperatura de las agu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581280" y="2438280"/>
              <a:ext cx="1524240" cy="5335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Estacionalidad inver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3" name=""/>
            <p:cNvCxnSpPr>
              <a:stCxn id="755" idx="7"/>
              <a:endCxn id="760" idx="2"/>
            </p:cNvCxnSpPr>
            <p:nvPr/>
          </p:nvCxnSpPr>
          <p:spPr>
            <a:xfrm flipV="1">
              <a:off x="3379320" y="1409040"/>
              <a:ext cx="506880" cy="531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64" name=""/>
            <p:cNvCxnSpPr>
              <a:stCxn id="755" idx="6"/>
              <a:endCxn id="761" idx="2"/>
            </p:cNvCxnSpPr>
            <p:nvPr/>
          </p:nvCxnSpPr>
          <p:spPr>
            <a:xfrm flipV="1">
              <a:off x="3580920" y="2076480"/>
              <a:ext cx="229320" cy="1335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65" name=""/>
            <p:cNvCxnSpPr>
              <a:stCxn id="755" idx="5"/>
              <a:endCxn id="762" idx="2"/>
            </p:cNvCxnSpPr>
            <p:nvPr/>
          </p:nvCxnSpPr>
          <p:spPr>
            <a:xfrm>
              <a:off x="3379680" y="2479680"/>
              <a:ext cx="202320" cy="226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66" name=""/>
            <p:cNvSpPr/>
            <p:nvPr/>
          </p:nvSpPr>
          <p:spPr>
            <a:xfrm>
              <a:off x="3048120" y="3200400"/>
              <a:ext cx="167616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ejanía centros pobl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7" name=""/>
            <p:cNvCxnSpPr>
              <a:stCxn id="756" idx="7"/>
              <a:endCxn id="766" idx="2"/>
            </p:cNvCxnSpPr>
            <p:nvPr/>
          </p:nvCxnSpPr>
          <p:spPr>
            <a:xfrm flipV="1">
              <a:off x="2477880" y="3428640"/>
              <a:ext cx="570600" cy="1231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68" name=""/>
            <p:cNvSpPr/>
            <p:nvPr/>
          </p:nvSpPr>
          <p:spPr>
            <a:xfrm>
              <a:off x="3048120" y="3733920"/>
              <a:ext cx="182880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Aguas Descontamin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9" name=""/>
            <p:cNvCxnSpPr>
              <a:stCxn id="756" idx="6"/>
              <a:endCxn id="768" idx="2"/>
            </p:cNvCxnSpPr>
            <p:nvPr/>
          </p:nvCxnSpPr>
          <p:spPr>
            <a:xfrm>
              <a:off x="2666520" y="3848040"/>
              <a:ext cx="381960" cy="1152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70" name=""/>
            <p:cNvSpPr/>
            <p:nvPr/>
          </p:nvSpPr>
          <p:spPr>
            <a:xfrm>
              <a:off x="3200400" y="4267080"/>
              <a:ext cx="167652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uminos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1" name=""/>
            <p:cNvCxnSpPr>
              <a:stCxn id="756" idx="5"/>
              <a:endCxn id="770" idx="2"/>
            </p:cNvCxnSpPr>
            <p:nvPr/>
          </p:nvCxnSpPr>
          <p:spPr>
            <a:xfrm>
              <a:off x="2478240" y="4145040"/>
              <a:ext cx="722520" cy="3513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72" name=""/>
            <p:cNvSpPr/>
            <p:nvPr/>
          </p:nvSpPr>
          <p:spPr>
            <a:xfrm>
              <a:off x="3962520" y="5257800"/>
              <a:ext cx="167616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isponibil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038480" y="6172200"/>
              <a:ext cx="152424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fesionales Universitar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4" name=""/>
            <p:cNvCxnSpPr>
              <a:stCxn id="758" idx="7"/>
              <a:endCxn id="772" idx="2"/>
            </p:cNvCxnSpPr>
            <p:nvPr/>
          </p:nvCxnSpPr>
          <p:spPr>
            <a:xfrm flipV="1">
              <a:off x="3849480" y="5486040"/>
              <a:ext cx="113400" cy="241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75" name=""/>
            <p:cNvCxnSpPr>
              <a:stCxn id="758" idx="5"/>
              <a:endCxn id="773" idx="2"/>
            </p:cNvCxnSpPr>
            <p:nvPr/>
          </p:nvCxnSpPr>
          <p:spPr>
            <a:xfrm>
              <a:off x="3849840" y="6159600"/>
              <a:ext cx="189360" cy="241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776" name=""/>
          <p:cNvGrpSpPr/>
          <p:nvPr/>
        </p:nvGrpSpPr>
        <p:grpSpPr>
          <a:xfrm>
            <a:off x="5410080" y="990720"/>
            <a:ext cx="3657600" cy="5333760"/>
            <a:chOff x="5410080" y="990720"/>
            <a:chExt cx="3657600" cy="5333760"/>
          </a:xfrm>
        </p:grpSpPr>
        <p:sp>
          <p:nvSpPr>
            <p:cNvPr id="777" name=""/>
            <p:cNvSpPr/>
            <p:nvPr/>
          </p:nvSpPr>
          <p:spPr>
            <a:xfrm>
              <a:off x="5638680" y="1447920"/>
              <a:ext cx="16765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Apoyos públicos inic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38880" y="3200400"/>
              <a:ext cx="1524240" cy="609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Iniciativa empresa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400800" y="2209680"/>
              <a:ext cx="19051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99"/>
                  </a:solidFill>
                  <a:latin typeface="Tahoma"/>
                </a:rPr>
                <a:t>Asociatividad (Asociación de Productore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638680" y="5638680"/>
              <a:ext cx="160020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Aprendizaje tecnológ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43600" y="4876920"/>
              <a:ext cx="21337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Desarrollo oferta local de insumos y servic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781680" y="4114800"/>
              <a:ext cx="198144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Desarrollo Nacional  de Capital Huma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934320" y="990720"/>
              <a:ext cx="2133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1000"/>
            </a:bodyPr>
            <a:p>
              <a:pPr algn="ctr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000000"/>
                  </a:solidFill>
                  <a:latin typeface="Tahoma"/>
                </a:rPr>
                <a:t>Capacidades Adquirid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10080" y="3124080"/>
              <a:ext cx="1676520" cy="1067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Know How Comercial Europa-USA-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l Cluster del Salmón en Chile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¿Porqué se formó el Cluster del Salmón?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467480" y="1676520"/>
            <a:ext cx="1524240" cy="10666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veedores Mat.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867280" y="3733920"/>
            <a:ext cx="114300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ransporte Terrest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6320" y="533520"/>
            <a:ext cx="723888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Gobierno Nacional y Regional (leyes, macroeconomí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ransporte Terre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324480" y="335268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705720" y="4191120"/>
            <a:ext cx="0" cy="2286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8229600" y="335232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merciali-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7162920" y="6095880"/>
            <a:ext cx="38088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8" name=""/>
          <p:cNvCxnSpPr>
            <a:stCxn id="805" idx="0"/>
            <a:endCxn id="788" idx="1"/>
          </p:cNvCxnSpPr>
          <p:nvPr/>
        </p:nvCxnSpPr>
        <p:spPr>
          <a:xfrm flipH="1" flipV="1" rot="5400000">
            <a:off x="6495840" y="1999800"/>
            <a:ext cx="753480" cy="117216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9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1752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15000" y="1752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"/>
          <p:cNvCxnSpPr>
            <a:stCxn id="805" idx="3"/>
            <a:endCxn id="824" idx="1"/>
          </p:cNvCxnSpPr>
          <p:nvPr/>
        </p:nvCxnSpPr>
        <p:spPr>
          <a:xfrm>
            <a:off x="7019640" y="3161880"/>
            <a:ext cx="438840" cy="108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5" name=""/>
          <p:cNvCxnSpPr>
            <a:endCxn id="801" idx="0"/>
          </p:cNvCxnSpPr>
          <p:nvPr/>
        </p:nvCxnSpPr>
        <p:spPr>
          <a:xfrm flipH="1" rot="16200000">
            <a:off x="6534720" y="3688200"/>
            <a:ext cx="990000" cy="496080"/>
          </a:xfrm>
          <a:prstGeom prst="bentConnector3">
            <a:avLst>
              <a:gd name="adj1" fmla="val 15714"/>
            </a:avLst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826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600200" y="2666880"/>
            <a:ext cx="914400" cy="10670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teria Prima / Área Agrí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352680" y="2590920"/>
            <a:ext cx="1447920" cy="542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Deshidra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600200" y="4211640"/>
            <a:ext cx="4191120" cy="2840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28600" y="2362320"/>
            <a:ext cx="114300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umo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28600" y="3505320"/>
            <a:ext cx="114300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28600" y="2895480"/>
            <a:ext cx="1143000" cy="4669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ductore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438280" y="2057400"/>
            <a:ext cx="2362320" cy="380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Gené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819520" y="2514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19520" y="3276720"/>
            <a:ext cx="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757600" y="3124080"/>
            <a:ext cx="61920" cy="152640"/>
          </a:xfrm>
          <a:custGeom>
            <a:avLst/>
            <a:gdLst/>
            <a:ahLst/>
            <a:rect l="l" t="t" r="r" b="b"/>
            <a:pathLst>
              <a:path w="39" h="96">
                <a:moveTo>
                  <a:pt x="39" y="0"/>
                </a:moveTo>
                <a:cubicBezTo>
                  <a:pt x="27" y="3"/>
                  <a:pt x="16" y="7"/>
                  <a:pt x="9" y="15"/>
                </a:cubicBezTo>
                <a:cubicBezTo>
                  <a:pt x="2" y="23"/>
                  <a:pt x="0" y="38"/>
                  <a:pt x="0" y="48"/>
                </a:cubicBezTo>
                <a:cubicBezTo>
                  <a:pt x="0" y="58"/>
                  <a:pt x="6" y="70"/>
                  <a:pt x="12" y="78"/>
                </a:cubicBezTo>
                <a:cubicBezTo>
                  <a:pt x="18" y="86"/>
                  <a:pt x="27" y="91"/>
                  <a:pt x="36" y="9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2057400" y="373392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5715000" y="3352320"/>
            <a:ext cx="0" cy="8384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352680" y="3724200"/>
            <a:ext cx="1447920" cy="3906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Ju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2" name=""/>
          <p:cNvCxnSpPr>
            <a:stCxn id="829" idx="3"/>
            <a:endCxn id="830" idx="1"/>
          </p:cNvCxnSpPr>
          <p:nvPr/>
        </p:nvCxnSpPr>
        <p:spPr>
          <a:xfrm flipV="1">
            <a:off x="2523960" y="2861640"/>
            <a:ext cx="820080" cy="33876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3" name=""/>
          <p:cNvCxnSpPr>
            <a:stCxn id="829" idx="3"/>
            <a:endCxn id="841" idx="1"/>
          </p:cNvCxnSpPr>
          <p:nvPr/>
        </p:nvCxnSpPr>
        <p:spPr>
          <a:xfrm>
            <a:off x="2523960" y="3200400"/>
            <a:ext cx="820080" cy="72000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844" name=""/>
          <p:cNvGrpSpPr/>
          <p:nvPr/>
        </p:nvGrpSpPr>
        <p:grpSpPr>
          <a:xfrm>
            <a:off x="1218960" y="2514600"/>
            <a:ext cx="381240" cy="1219320"/>
            <a:chOff x="1218960" y="2514600"/>
            <a:chExt cx="381240" cy="1219320"/>
          </a:xfrm>
        </p:grpSpPr>
        <p:grpSp>
          <p:nvGrpSpPr>
            <p:cNvPr id="845" name=""/>
            <p:cNvGrpSpPr/>
            <p:nvPr/>
          </p:nvGrpSpPr>
          <p:grpSpPr>
            <a:xfrm>
              <a:off x="1218960" y="2514600"/>
              <a:ext cx="381240" cy="1219320"/>
              <a:chOff x="1218960" y="2514600"/>
              <a:chExt cx="381240" cy="1219320"/>
            </a:xfrm>
          </p:grpSpPr>
          <p:sp>
            <p:nvSpPr>
              <p:cNvPr id="846" name=""/>
              <p:cNvSpPr/>
              <p:nvPr/>
            </p:nvSpPr>
            <p:spPr>
              <a:xfrm>
                <a:off x="1447920" y="2514600"/>
                <a:ext cx="0" cy="1219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1218960" y="373392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1218960" y="251460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371600" y="320040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 flipH="1">
              <a:off x="1295280" y="3200400"/>
              <a:ext cx="1526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3352680" y="3200400"/>
            <a:ext cx="1447920" cy="4572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Congel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2" name=""/>
          <p:cNvCxnSpPr>
            <a:stCxn id="829" idx="3"/>
            <a:endCxn id="851" idx="1"/>
          </p:cNvCxnSpPr>
          <p:nvPr/>
        </p:nvCxnSpPr>
        <p:spPr>
          <a:xfrm>
            <a:off x="2523960" y="3200040"/>
            <a:ext cx="820080" cy="22932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05" idx="1"/>
          </p:cNvCxnSpPr>
          <p:nvPr/>
        </p:nvCxnSpPr>
        <p:spPr>
          <a:xfrm>
            <a:off x="4809960" y="2862000"/>
            <a:ext cx="743760" cy="30060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4" name=""/>
          <p:cNvCxnSpPr>
            <a:stCxn id="851" idx="3"/>
            <a:endCxn id="805" idx="1"/>
          </p:cNvCxnSpPr>
          <p:nvPr/>
        </p:nvCxnSpPr>
        <p:spPr>
          <a:xfrm flipV="1">
            <a:off x="4809960" y="3161880"/>
            <a:ext cx="743760" cy="26712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5" name=""/>
          <p:cNvCxnSpPr>
            <a:stCxn id="841" idx="3"/>
            <a:endCxn id="805" idx="1"/>
          </p:cNvCxnSpPr>
          <p:nvPr/>
        </p:nvCxnSpPr>
        <p:spPr>
          <a:xfrm flipV="1">
            <a:off x="4809960" y="3161880"/>
            <a:ext cx="743760" cy="75816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56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8229600" y="1371240"/>
            <a:ext cx="0" cy="30492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4674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8229600" y="2361960"/>
            <a:ext cx="0" cy="60948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7848720" y="4191120"/>
            <a:ext cx="0" cy="30456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267080" y="2286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1" name=""/>
          <p:cNvCxnSpPr>
            <a:stCxn id="835" idx="1"/>
            <a:endCxn id="829" idx="0"/>
          </p:cNvCxnSpPr>
          <p:nvPr/>
        </p:nvCxnSpPr>
        <p:spPr>
          <a:xfrm flipV="1" rot="10800000">
            <a:off x="2056680" y="2247480"/>
            <a:ext cx="372240" cy="410400"/>
          </a:xfrm>
          <a:prstGeom prst="bentConnector2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2" name=""/>
          <p:cNvSpPr/>
          <p:nvPr/>
        </p:nvSpPr>
        <p:spPr>
          <a:xfrm>
            <a:off x="32400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Tahoma"/>
              </a:rPr>
              <a:t>Visión del Sistema Complejo-Producto </a:t>
            </a:r>
            <a:r>
              <a:rPr b="1" lang="es-ES_tradnl" sz="2400" spc="-1" strike="noStrike">
                <a:solidFill>
                  <a:srgbClr val="cc0000"/>
                </a:solidFill>
                <a:latin typeface="Tahoma"/>
              </a:rPr>
              <a:t>Pimen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620120" y="2362320"/>
            <a:ext cx="1295280" cy="304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4" name=""/>
          <p:cNvCxnSpPr>
            <a:stCxn id="805" idx="0"/>
          </p:cNvCxnSpPr>
          <p:nvPr/>
        </p:nvCxnSpPr>
        <p:spPr>
          <a:xfrm flipH="1" flipV="1" rot="5400000">
            <a:off x="6728760" y="2080800"/>
            <a:ext cx="439200" cy="132444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4. Características de la Integración de la cadena de valor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84360" y="2060640"/>
            <a:ext cx="180000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059280" y="2060640"/>
            <a:ext cx="22334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96000" y="2060640"/>
            <a:ext cx="18716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635280" y="2708280"/>
            <a:ext cx="72072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851280" y="3213000"/>
            <a:ext cx="647640" cy="64764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348000" y="3213000"/>
            <a:ext cx="79236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708360" y="3645000"/>
            <a:ext cx="6476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688560" y="2441520"/>
            <a:ext cx="119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688920" y="4098960"/>
            <a:ext cx="147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988360" y="3357720"/>
            <a:ext cx="108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327480" y="2009880"/>
            <a:ext cx="131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11280" y="2060640"/>
            <a:ext cx="194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116000" y="314172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692360" y="285264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835280" y="342900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763640" y="2997360"/>
            <a:ext cx="144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258920" y="3357720"/>
            <a:ext cx="433440" cy="14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268360" y="357336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2268360" y="2997000"/>
            <a:ext cx="1008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050920" y="2707920"/>
            <a:ext cx="122580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2050560" y="3933720"/>
            <a:ext cx="129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547640" y="3860640"/>
            <a:ext cx="360360" cy="287640"/>
          </a:xfrm>
          <a:prstGeom prst="hexagon">
            <a:avLst>
              <a:gd name="adj" fmla="val 3132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971640" y="4508640"/>
            <a:ext cx="144360" cy="215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619280" y="4653000"/>
            <a:ext cx="144360" cy="288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116000" y="4653000"/>
            <a:ext cx="50328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692360" y="414972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1835280" y="4220640"/>
            <a:ext cx="187308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971640" y="5084640"/>
            <a:ext cx="144360" cy="14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050920" y="5300640"/>
            <a:ext cx="21744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7920" bIns="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187280" y="5300640"/>
            <a:ext cx="144720" cy="1443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1187280" y="4941720"/>
            <a:ext cx="43200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1403280" y="5013000"/>
            <a:ext cx="28908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2268360" y="4436640"/>
            <a:ext cx="136692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940360" y="3068640"/>
            <a:ext cx="57636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12000" y="4149720"/>
            <a:ext cx="57600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164360" y="249228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164360" y="357336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093080" y="4941720"/>
            <a:ext cx="360360" cy="287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8101080" y="1628640"/>
            <a:ext cx="863640" cy="49690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500720" y="3933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4500720" y="4149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6372360" y="2781000"/>
            <a:ext cx="79200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443640" y="3357720"/>
            <a:ext cx="865080" cy="35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6443640" y="3789000"/>
            <a:ext cx="1008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516720" y="4437000"/>
            <a:ext cx="1727280" cy="7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380360" y="5084640"/>
            <a:ext cx="107928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372360" y="4508640"/>
            <a:ext cx="936360" cy="57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164360" y="3141720"/>
            <a:ext cx="216000" cy="216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308720" y="3284640"/>
            <a:ext cx="93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308720" y="27082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451640" y="2637000"/>
            <a:ext cx="86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7451280" y="2781360"/>
            <a:ext cx="792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7380360" y="371628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7380360" y="335772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7380360" y="522936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796000" y="2060640"/>
            <a:ext cx="1835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ISTRIBU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0" y="1341360"/>
            <a:ext cx="8172360" cy="4680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917440" y="105264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ón sistémic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aracterísticas que orientan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isión integral del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Orientación a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inventarios intermed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tiempos de cic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cos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delos de predicción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foque market pu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66"/>
                </a:solidFill>
                <a:latin typeface="Times New Roman"/>
              </a:rPr>
              <a:t>Gestión de Inform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nteg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educción de la lat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ermitir al sistema de valor completo, trabajar coordinadamente como un todo y contar con la capacidad más amplia para captar y usar la inform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La desconfianza y la protección de la información es otra barr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3851280" y="278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66"/>
                </a:solidFill>
                <a:latin typeface="Times New Roman"/>
              </a:rPr>
              <a:t>Clave: compartición de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integración y optimización de la cadena produce benefi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partirlos en forma adecuada es clave para que los incentivos refuercen la integ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cordar mecanismos de distribiución suele ser el talón de aquil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¿Por qué ahora?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unic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ransporte, Telecomunicaciones, Tecnologías de Inform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lobaliz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ibre comerc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esión de la Competen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cceso a merc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arrollo y cambios en los costos de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asado en el apoyo de las Tecnologías de Información, para la coordinación y el intercambio de inform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s Tecnologías de Información habilitan este esquema de oper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ntes no habría sido viab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Pregunt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ómo está estructurado el diseño de la GICAV en mi empres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 Cómo se relaciona el diseño de la GICAV con los mecanismos de gestión que debo usar para su operación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 Cómo generar incentivos para optimizar la gestión de una cadena integrada de varias empresa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32000" y="2708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Gestión Integral de la Cadena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92360" y="3789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reación de valor en r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estionando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77080" y="4724280"/>
            <a:ext cx="2089080" cy="195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strategia de crecimiento y GICAV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diseño integrado y flexible de una GICAV es fundamental para el crec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produc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Generación de nuevos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daptaciones a requerimientos de c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iesgos e inversión asoci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La transición detrás de la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veedores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Soc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mpres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errado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Abie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pendenci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laboración y la interdepend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rdenes de producción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ntratos de servi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cursos internos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Externaliz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productiv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ordinación y gest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financier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Know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ptimización local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Optimización sistém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10"/>
          <a:stretch/>
        </p:blipFill>
        <p:spPr>
          <a:xfrm>
            <a:off x="7093080" y="5443560"/>
            <a:ext cx="1719000" cy="14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9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mportant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¡¡¡Hablar de diseñar y gerenciar las Operaciones hoy, requiere de habilidades distintas a las tradicionales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288360" y="4365720"/>
            <a:ext cx="849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¡¡¡Es necesario diseñar y gestion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sistemas complejos de generación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formado por una articulación de actores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5. Antecedentes en la Industria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iciativas de integración en industr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tail –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tomotriz – Lean Manufactu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xtil – Quick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 driven Supply Ch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mplo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mercados y sus proveedores, desarrollan una cadena integrada, que funciona en base a una coordinación y una visión como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CR: Efficient Consumer Response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evo enfoque de la distribució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r los procesos logísticos de distribución y comerci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ado en la misma filosofía del cambio en los esquemas de producción (WC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bio de un enfoque ‘push’ movido por los proveedores hacia un enfoque ‘pull’activado por el merc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r la analogía filosófica con el enfoque JIT en produc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rategia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osi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tido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Facilitadore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del Flu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ndar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ejo Electrónico de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por Categorí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o diseñado por proveedores y detallistas, para administrar como UN una agrupación de productos percibidos como interrelacionados por los consumi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riger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ud y bell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Gestión Integral de la cadena del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roducción al concep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¿Qué es Gestión Integral de la cadena del valor (GICAV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racterísticas de la GICA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plicaciones en industrias: El caso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upply Chain Managem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del Fluj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ción general de la cadena de abastecimiento (flujos de información y producto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Información: Desde los consumidores a los provee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Productos: Hacia los consumidores en la forma más armónica po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andariz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y uniformar los elementos y convenciones utilizados por los diferentes componen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ne fuerte impacto en la eficiencia de administración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ificación de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dades de distribu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s de da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ulari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Reaprovisionamiento Continu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os para coordinar el manejo de inventarios, reposiciones y mer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 aspectos cla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nóstico de ventas: realimentado y comunicado a toda la cad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nistración de Inventarios: vincula administración de inventarios con procesamiento de ord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Manejo Electrónico de Dat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macenamiento, procesamiento, transacciones y transmisión de la in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ere de Tecnologías de Informació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o también de estandarización de forma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rediseño de proces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vance de ECR (Europa)*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adurez global de EC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6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4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1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9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cnologías habilit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8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3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"/>
          <p:cNvSpPr/>
          <p:nvPr/>
        </p:nvSpPr>
        <p:spPr>
          <a:xfrm>
            <a:off x="5410080" y="3581280"/>
            <a:ext cx="312444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l orden de 6% de reducción de cos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1"/>
          <a:stretch/>
        </p:blipFill>
        <p:spPr>
          <a:xfrm>
            <a:off x="0" y="2003400"/>
            <a:ext cx="6659640" cy="485460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5003640" y="0"/>
            <a:ext cx="414036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Working together - building up ECR capabilities - in a more professional way, will take out our inefficiencies ( 3 - 9%) and allow business grow between trading partners of more than 10%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Enrico To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VP Johson &amp; Johnson Internati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63868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1333440" y="3762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8447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66"/>
                </a:solidFill>
                <a:latin typeface="Times New Roman"/>
              </a:rPr>
              <a:t>Definición de SCM     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8440" indent="0">
              <a:lnSpc>
                <a:spcPct val="10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- Término utilizado internacionalment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8440" indent="0">
              <a:lnSpc>
                <a:spcPct val="10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bre cada actividad involucrada en producir y distribuir un producto o servicio desde el proveedor del proveedor hasta el cliente de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8440"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pply Chain Management incluye la gestión de la demanda y suministro, aprovisionamiento de materias primas y componentes, fabricación y montaje, gestión de almacenes y trazabilidad del inventario, gestión de pedidos, distribución multi-canal y entrega a 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"/>
          <p:cNvSpPr/>
          <p:nvPr/>
        </p:nvSpPr>
        <p:spPr>
          <a:xfrm>
            <a:off x="4883040" y="5715000"/>
            <a:ext cx="2940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Ideas centrales en torno a SCM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esfuerzo comparti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estraté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gest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red, integrada y optimiz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8447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Cadena de Suministros = Sincronización y Colaboración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806720" y="5486400"/>
            <a:ext cx="2940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264960" y="1600200"/>
            <a:ext cx="8726760" cy="379080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228600" y="1905120"/>
            <a:ext cx="7848720" cy="4190760"/>
          </a:xfrm>
          <a:custGeom>
            <a:avLst/>
            <a:gdLst>
              <a:gd name="textAreaLeft" fmla="*/ 1051200 w 7848720"/>
              <a:gd name="textAreaRight" fmla="*/ 6797520 w 7848720"/>
              <a:gd name="textAreaTop" fmla="*/ 733320 h 4190760"/>
              <a:gd name="textAreaBottom" fmla="*/ 303840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rot="21205800">
            <a:off x="3073320" y="2287080"/>
            <a:ext cx="23734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Flujo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rot="407400">
            <a:off x="2140560" y="4700520"/>
            <a:ext cx="19893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lujo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1332000" y="1827360"/>
          <a:ext cx="733248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827360"/>
                    <a:ext cx="733248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1. Introduc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105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nfoque tradicional de Cadena del Va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04920" y="2997360"/>
            <a:ext cx="830556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Análisis y re-diseño de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Implantación de metodologías de mejoras de procesos Six Sigma y Total Quality Management (TQ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Definición de KPIs de Supply Chain orientados a cli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reación de Direcciones de Supply Chain Mgt reportando a 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Evolución de MRP II hacia modelos avanzados de planificación integrada y optimización a capacidad fi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onsolidación de almacenes de fábrica en centros avanzados de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04920" y="2997360"/>
            <a:ext cx="830556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sicionamiento de inventario en centros de consolidación “supplier pools” y servicio a fábrica Just-in-Time (el proveedor es propietario del stock hasta recibir la orden J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de transporte Outbound e Inbound (factory gate pri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proactiva de eventos en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rtales de compras y ventas (modelos colaborativ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Sincronización de ficheros mae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1028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1029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1030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1031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003400" y="6149880"/>
            <a:ext cx="111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Supply Chain Managemen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24000" y="981000"/>
            <a:ext cx="8604000" cy="3313080"/>
            <a:chOff x="324000" y="981000"/>
            <a:chExt cx="8604000" cy="3313080"/>
          </a:xfrm>
        </p:grpSpPr>
        <p:sp>
          <p:nvSpPr>
            <p:cNvPr id="1055" name=""/>
            <p:cNvSpPr/>
            <p:nvPr/>
          </p:nvSpPr>
          <p:spPr>
            <a:xfrm>
              <a:off x="324000" y="1844640"/>
              <a:ext cx="1079280" cy="50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403280" y="1197000"/>
              <a:ext cx="432000" cy="431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03640" y="1844640"/>
              <a:ext cx="1728720" cy="64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940360" y="1341360"/>
              <a:ext cx="360360" cy="289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940360" y="2133720"/>
              <a:ext cx="1008000" cy="5745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940360" y="3068640"/>
              <a:ext cx="649440" cy="4316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908000" y="2565360"/>
              <a:ext cx="792360" cy="36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042920" y="2205000"/>
              <a:ext cx="936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2627280" y="220500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908000" y="1484280"/>
              <a:ext cx="1295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987640" y="1125360"/>
              <a:ext cx="7164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48000" y="1125360"/>
              <a:ext cx="1429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059280" y="1268280"/>
              <a:ext cx="21744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419640" y="12682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4859280" y="1483920"/>
              <a:ext cx="100800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859280" y="2205000"/>
              <a:ext cx="1152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859280" y="2349360"/>
              <a:ext cx="1081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516720" y="148428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93080" y="2421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877080" y="32130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596360" y="981000"/>
              <a:ext cx="1331640" cy="3313080"/>
            </a:xfrm>
            <a:prstGeom prst="ellipse">
              <a:avLst/>
            </a:prstGeom>
            <a:solidFill>
              <a:srgbClr val="99cc00">
                <a:alpha val="1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 baseline="-2000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1907640" y="1197000"/>
              <a:ext cx="10083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"/>
          <p:cNvSpPr/>
          <p:nvPr/>
        </p:nvSpPr>
        <p:spPr>
          <a:xfrm>
            <a:off x="0" y="692280"/>
            <a:ext cx="7667640" cy="33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0" y="2565360"/>
            <a:ext cx="9144000" cy="2592360"/>
            <a:chOff x="0" y="2565360"/>
            <a:chExt cx="9144000" cy="2592360"/>
          </a:xfrm>
        </p:grpSpPr>
        <p:grpSp>
          <p:nvGrpSpPr>
            <p:cNvPr id="1079" name=""/>
            <p:cNvGrpSpPr/>
            <p:nvPr/>
          </p:nvGrpSpPr>
          <p:grpSpPr>
            <a:xfrm>
              <a:off x="1042920" y="2565360"/>
              <a:ext cx="7201080" cy="2303640"/>
              <a:chOff x="1042920" y="2565360"/>
              <a:chExt cx="7201080" cy="2303640"/>
            </a:xfrm>
          </p:grpSpPr>
          <p:sp>
            <p:nvSpPr>
              <p:cNvPr id="1080" name=""/>
              <p:cNvSpPr/>
              <p:nvPr/>
            </p:nvSpPr>
            <p:spPr>
              <a:xfrm>
                <a:off x="3276720" y="4365720"/>
                <a:ext cx="1871640" cy="503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5219640" y="3357720"/>
                <a:ext cx="720720" cy="136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411280" y="2924280"/>
                <a:ext cx="108108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067280" y="256536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084720" y="4365720"/>
                <a:ext cx="576360" cy="43164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5219640" y="4581000"/>
                <a:ext cx="936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6659640" y="4076640"/>
                <a:ext cx="158436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42920" y="4005360"/>
                <a:ext cx="863640" cy="4316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908000" y="4221000"/>
                <a:ext cx="136872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9" name=""/>
            <p:cNvSpPr/>
            <p:nvPr/>
          </p:nvSpPr>
          <p:spPr>
            <a:xfrm>
              <a:off x="0" y="2924280"/>
              <a:ext cx="9144000" cy="223344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303120" y="5465880"/>
            <a:ext cx="830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Gestión de cadenas de valor, se da en un contexto de complejas y múltiples relaciones entre empresas, que requiere de una gestión sisté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¿Por qué el cambio?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modifica el balance de poder entre productores y comercializa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ercanía al cliente es la principal fortalez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quieren menores tiempos de ciclo para compet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 Tecnologías de Información generan nuevas realidades y oportun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ción de las empres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Los principales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ción de costos a través de la cadena y más eficiencia en capital de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te gestión de inventarios, de todo ti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cia en las transacciones entre las par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valor al cliente…generalmente en la forma de menores pre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Análisis estratégico para el diseño de las operacion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4720" y="162864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dentificar la cadena de valor y su configu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nálisis de la estrategia de nego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blecer las opciones de diseño/rediseño de la cadena de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decisiones estratégica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tendencias de mercado y el estado del 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arle un sentido de competitividad a la generación de op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valuar el impacto potenci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cadore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alidad del nego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pacto de los cambios en las operaciones sobre 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dicadores /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ómo influye el diseño de la cadena de valor y su integración en las variables claves para evaluar las operacio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lidad (incluyendo servic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332000" y="2708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rcicio: Análisis de cas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4140000" cy="295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332000" y="360360"/>
            <a:ext cx="7488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ideremos el servicio de recaudación y pago de cuen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os modelos de negocio distin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rvip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ncilli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ervipa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ilial de 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poyo al giro bancario, eliminando trxs de las oficinas bancar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ándares de nivel ban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ucursales y cajas auxiliares prop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bertura: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uevos servicios: Depósitos, giro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ecnología propietaria, usando red prop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encilli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vinculada a 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Usa puntos de atención en lugares que tienen otro propós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peración basada en red de negocios asoci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bertura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ecnología escalable y de bajo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Diferentes iniciativas han contribuido a mejorar la eficiencia al interior de las empresas: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mplantación de ERP´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diseños de proce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corporación de tecnolo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J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Q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e ambos modelos en términos d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ersión requerida para lograr cobertur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ndarización de proces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ursos humanos requerid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 de costos de oper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r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ernalización de activida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e esperan los clientes de estas empresa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e actividades manejan cada empresa centralizadamente y cuales n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o se comparan e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st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empo de entreg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ice las estrategias de ambas empresas y como el modelo responde a ell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é amenazas se ciernen sobre este negoci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09680" y="2438280"/>
            <a:ext cx="2667240" cy="2438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...sin embargo, la empresa no está aislad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66880" y="3124080"/>
            <a:ext cx="18288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34120" y="3200400"/>
            <a:ext cx="17524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3581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95680" y="3505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3276720"/>
            <a:ext cx="17524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4876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lograr eficiencia, se debe mejorar el proceso completo de negocio, no solamente lo que pasa al interior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0866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5400000">
            <a:off x="7453800" y="3444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2362320"/>
            <a:ext cx="7391520" cy="2514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6880" y="3124080"/>
            <a:ext cx="18288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34120" y="3200400"/>
            <a:ext cx="17524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81080" y="3581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95680" y="3505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3276720"/>
            <a:ext cx="17524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4876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lograr eficiencia, se debe mejorar el proceso completo de negocio, no solamente lo que pasa al interior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866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5400000">
            <a:off x="7453800" y="3444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tegración de la cadena de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2. Gestión Integral de la Cadena de Agregación de Val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sectar la cadena de valor del negoc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daptándola según las necesidades del cliente y las mejores condiciones para cada fase de agregación de va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jemplo: Li &amp; Fung dejando la producción en China y la distribución en Hong K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ónde está el mejor aporte de valor para la caden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lgunas dimensiones: Costo, Tiempo, Calidad, Característic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6:20:04Z</dcterms:created>
  <dc:creator>.</dc:creator>
  <dc:description/>
  <dc:language>en-US</dc:language>
  <cp:lastModifiedBy>.</cp:lastModifiedBy>
  <dcterms:modified xsi:type="dcterms:W3CDTF">2006-10-05T12:00:29Z</dcterms:modified>
  <cp:revision>50</cp:revision>
  <dc:subject/>
  <dc:title>Diapositiva 1</dc:title>
</cp:coreProperties>
</file>