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5EC1D-726D-4F93-909D-CFF5710DF0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380B5-A2D7-4302-BF1E-D0DC3CD37E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5FE5-15EA-4463-8B9C-FFCDE0850C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83DC40-47BD-4BC6-B185-92848A8E2C8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88F3F1-E903-468B-9E1D-CF8CF483BE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E551B-98CF-4132-AD45-14E07AE6D8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DCFA72-B6DE-4279-BA34-5CA632A279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6AD3-EE32-4EA2-B03E-D51F0A912E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B9DB6-B2D1-4B78-ABF9-F43B3C0BD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487529-BFDC-4877-881F-4770B396FB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CB098-54DC-435B-85F3-F7703EBD5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7C37-0D72-4E0D-9836-A060026565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D6BEE7-572A-431D-AED6-A73F181ABF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Taller de Gestión Públic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rimavera 2006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395280" y="1224000"/>
            <a:ext cx="8497800" cy="42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Valor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Autoaprendizaj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Participación y crítica constructiv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laboració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Compartir aprendizajes y experienci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Innovación didáctica y experimenta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Retroalimentación al profesor y a los alumno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5880" indent="-3358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Exigencia y autoexigenci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Obstácul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HETEROGENEIDA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DMINISTREMOSLA CONSTRUCTIVAMEN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“</a:t>
            </a: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TECNOFOBIA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000000"/>
                </a:solidFill>
                <a:latin typeface="Arial"/>
              </a:rPr>
              <a:t>APRENDAMOS A SUPERARL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Evalu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Informe final de diagnóstico y propuestas 3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Asistencia a clases 5% (90%=7)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alidad de presentaciones 1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Participación en discusiones 20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800" spc="-1" strike="noStrike">
                <a:solidFill>
                  <a:srgbClr val="000000"/>
                </a:solidFill>
                <a:latin typeface="Arial"/>
              </a:rPr>
              <a:t>Controles de lectura 35%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000000"/>
                </a:solidFill>
                <a:latin typeface="Arial"/>
              </a:rPr>
              <a:t>Coordinación y comunicació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UCURSOS es el canal UNICO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3200" spc="-1" strike="noStrike">
                <a:solidFill>
                  <a:srgbClr val="000000"/>
                </a:solidFill>
                <a:latin typeface="Arial"/>
              </a:rPr>
              <a:t>No habrá otros............ para avisos, discusiones de foro (otra forma de participación), notificaciones, eventuales cambios de horario, materiales, etc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52" name=""/>
          <p:cNvGraphicFramePr/>
          <p:nvPr/>
        </p:nvGraphicFramePr>
        <p:xfrm>
          <a:off x="0" y="260280"/>
          <a:ext cx="9144000" cy="63374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260280"/>
                    <a:ext cx="9144000" cy="6337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0-03T21:23:49Z</dcterms:created>
  <dc:creator>mwaissbluth</dc:creator>
  <dc:description/>
  <dc:language>en-US</dc:language>
  <cp:lastModifiedBy>Jinostroza</cp:lastModifiedBy>
  <dcterms:modified xsi:type="dcterms:W3CDTF">2006-10-03T23:14:09Z</dcterms:modified>
  <cp:revision>2</cp:revision>
  <dc:subject/>
  <dc:title>Taller de Gestión Pública</dc:title>
</cp:coreProperties>
</file>