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423-1845-4143-9F8E-738905F3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75B-97D7-4314-9BBF-F22666E1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4EE-8EB4-4A01-B968-552AEE49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6E1-4274-4087-BB0C-501D1155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D55-19A5-466C-ACBE-567BFAA2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616-9CC9-4DA9-B330-04AC6D64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038-2D0F-4BEC-AC90-3D890980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0A5-040C-4F53-9CAC-35F0E5C8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0FA-FAB7-494E-9869-8D294968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CA3-52DC-4394-B59A-9BF1E4BE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738-BE57-47EF-83C4-09CEA048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00F-C2C9-458A-849F-FAC95E9E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6AFE-A33C-449F-BB72-18CE774AC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aller de Gestión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imavera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224000"/>
            <a:ext cx="84978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utoaprendiz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y crítica constru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partir aprendizajes y exper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novación didáctica y experi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troalimentación al profesor y a los alum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igencia y autoexig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Obstá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HETEROGENE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DMINISTREMOSLA CONSTRUCTIV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ECNOFOB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RENDAMOS A SUPER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forme final de diagnóstico y propuestas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sistencia a clases 5% (90%=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lidad de presentaciones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ticipación en discusiones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troles de lectura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ordinación y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CURSOS es el canal U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No habrá otros............ para avisos, discusiones de foro (otra forma de participación), notificaciones, eventuales cambios de horario, material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260280"/>
          <a:ext cx="914400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21:23:49Z</dcterms:created>
  <dc:creator>mwaissbluth</dc:creator>
  <dc:description/>
  <dc:language>en-US</dc:language>
  <cp:lastModifiedBy>Jinostroza</cp:lastModifiedBy>
  <dcterms:modified xsi:type="dcterms:W3CDTF">2006-10-03T23:14:09Z</dcterms:modified>
  <cp:revision>2</cp:revision>
  <dc:subject/>
  <dc:title>Taller de Gestión Pública</dc:title>
</cp:coreProperties>
</file>