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B7A-8AE4-488F-8B41-3F68D95C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554-0C97-4F44-B1F0-54E37C9E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DAD-AC7B-43DB-B1DE-1804156E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36C-1BC6-489F-9BEF-8A56806F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4AA-5B09-40B9-9D5B-62F2EA4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433-F4FA-4259-9FBE-BE457B77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A93-4EF2-4E00-8E74-A0ECF92C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EA4-DAC3-40F6-9722-9D3AFA62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DD4-BE02-4780-AD2B-47D4A2E2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538-251B-404F-A714-C79B1EE0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B24-C5B0-4C2B-BB8B-BD1C645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C74-B392-4E4F-9C18-35D832D3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EF47-E549-4C17-97CD-F24BB2B01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aller de Gestión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imavera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224000"/>
            <a:ext cx="84978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utoaprendi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y crítica constru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partir aprendizajes y exper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novación didáctica y experi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troalimentación al profesor y a los alum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igencia y autoexig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Obstá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DMINISTREMOSLA CONSTRUCTIV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CNOFOB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RENDAMOS A SUPER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forme final de diagnóstico y propuestas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sistencia a clases 5% (90%=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lidad de presentaciones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ticipación en discusiones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troles de lectura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ordinación y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CURSOS es el canal U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No habrá otros............ para avisos, discusiones de foro (otra forma de participación), notificaciones, eventuales cambios de horario, material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260280"/>
          <a:ext cx="914400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21:23:49Z</dcterms:created>
  <dc:creator>mwaissbluth</dc:creator>
  <dc:description/>
  <dc:language>en-US</dc:language>
  <cp:lastModifiedBy>Jinostroza</cp:lastModifiedBy>
  <dcterms:modified xsi:type="dcterms:W3CDTF">2006-10-03T23:14:09Z</dcterms:modified>
  <cp:revision>2</cp:revision>
  <dc:subject/>
  <dc:title>Taller de Gestión Pública</dc:title>
</cp:coreProperties>
</file>