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A5B2-B098-481E-BE42-37972535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37D-B243-43B3-B657-CDC07AEE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F6C5-6FE9-4466-B115-EF9619E56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E714-2A70-4E3B-A084-A269720EF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0345-8C42-41F7-BCE5-05C30D8AC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090F-F1A3-467F-9AEF-298309281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D57B5-5D5D-4D88-8789-878F43F85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DEFC7-F546-47A3-BAAB-9E0BCCA3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E5FE4-48D0-4492-BFE3-38080624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E2EDB-49BF-4B78-859D-94AD1F2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B69BC-3A37-449C-A0E6-9C2EF64C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98272-4C98-41C6-969D-156E08AF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A9903-5B67-443C-B553-5385DAEF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4C57-6A26-4595-9085-FD6432D0F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D1376-48EB-4161-A7CF-AA6146B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50F2-6221-4677-80AA-A0951B2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5D6E-DA18-42A6-B71D-D0DC559F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EAC41-2B91-477A-937C-11E32C9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9532C-87FF-4ECC-95A3-00B9A8B01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7A50-B7DF-4E10-B85E-C0FB802CA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25DB-2BEE-4BEB-AF62-64DFE9665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41EB-98BA-489D-B241-5A4D6D9D5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6830-B07A-450F-BAC3-A95D95203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1E66-CC20-4E23-A8E5-0CE9DBFC8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5D85-AA27-4CA9-9070-43BC11F30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894C-DC9A-44F9-B94D-C2B881F18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AEA9-1854-4659-A150-45DB8EB7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4D6-C577-4A23-8F17-E7EEF2AA59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DB492-300E-42D0-96BD-3DC3A04524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9DB3-25A3-46C0-808D-7EE20E634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B7F8-DC11-4E8E-930A-A66EBD95C2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A6F4-8DA7-44CB-A7C4-33CD9EB3A5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7CBB-E200-4E25-8D2C-0CB6E7481F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4D5C-B9C2-47F3-8AFC-DFA0E73AA5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FDB2-F40B-439B-A1E2-BCCF2EA8ED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97F9-A749-45B9-B02B-22710D7DF0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6C22-C25F-4441-8FFD-91E0094A86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6176-C898-41C3-B175-8DC8774C4D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FAA0-0B37-4B9B-9EF0-3C1C59B16C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E4B3-D5DB-4CBC-B613-A1B4BC24A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C6FB-FD68-4650-9B27-4C1CF9F6EA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C621-713C-489E-BFBB-5200FF7201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D594-57B9-4F05-B878-E863A6116F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5E90-7806-4E3F-9A05-0D4799BC06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4E23-8618-472D-8BAB-86F2A1F4B8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6C5C-D6E3-4E07-8F77-89B0ED0E01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C83D5-4035-409F-B791-536F5887FB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9743-E159-449B-87B7-CA1344AF2F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774B-5758-4A45-B578-C4A58F4805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79516-363F-491D-89BC-0D2D5D3A29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FB2BA-EE66-421E-A930-F87E385CE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4DBD-23E0-446E-B97F-AA4D0B0EFE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0CEA-D24C-4ACF-8EFA-EA27CFC761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D09D-E528-4046-ABDA-C91678EAC8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DB1DE-89B4-4EA5-B1C7-B5F7FFA6FF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5B22-D42E-4E03-8F20-F280D020FB2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8A2C-8846-4484-90D3-0382357F6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6293-01DB-49CF-B83B-FEB3B4F234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86111-AFF8-4D68-902B-36888976DF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319F-F092-4B0F-B5BC-80344EBD3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630C-6266-43FD-8345-F901BAF203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1101-68D3-4CAE-8439-FDC5CA2DE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CACHI</cp:lastModifiedBy>
  <dcterms:modified xsi:type="dcterms:W3CDTF">2006-11-10T18:24:58Z</dcterms:modified>
  <cp:revision>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