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ACAE-5CD2-4B41-9F92-4022A5FAC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9300-EE42-41F7-863A-BD4844F5C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5546-B073-412E-ADE2-FA6318AB1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0749-CA40-4BCA-8E9B-BFD540677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CC8F-616D-481C-B88E-0F000DB6A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57A8-FB93-479D-B244-87865E2B6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0DD71-D708-41B5-8C22-31252082C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3F32A-32B6-4B9F-AF91-CE4F3CB4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76BD6-3882-4FAE-8B7D-B9B89EDC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15BE-7B64-4607-98DF-FD8E671B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2933-3F8C-4BA6-ABAC-940F9FD6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D5999-D777-4318-8725-B7F649E8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7D4A1-4175-48E7-9820-8F7C01D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28A2-6CD0-4B87-A78D-03ECDB900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600D-C894-4137-9CB1-FD84159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7BDDC-7062-4691-A00C-1AE78EE3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33E7A-7A5A-4DED-B946-0E97F48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7253B-F23A-4A0F-8858-087BEB6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21B96-85C9-43CE-8B4E-CA5BCFC968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8AAA-64B8-482C-B7CA-4E020D62B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DD84-A8CA-4380-9C89-D9F5D8E3CE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0442-42FF-419E-B315-7ACCBB696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31F3-A265-42AF-897F-1D9A98F52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D7B6-ED6E-49FC-89A5-31D2BB656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4A2D-86DB-4F0A-9B02-10F532973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DD1D-6384-4E83-AA58-587B0DDE5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64AE-15C2-470F-9F2D-C4D506AC6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75D0-6743-4410-83E6-2C1D87B03DF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ABC70-E53C-411A-AB00-3E811E3380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9908-D01A-418E-BE50-38EBD7EAC4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6989-430B-4D4B-9B3C-5B16C752D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2EFF-3CFD-4E8F-882E-1DBB128902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F949-2628-40B5-964C-377A17066B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4C60-99CA-4E98-A1E8-92487614E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B81A-1EE6-4B54-B29E-6BBBC79DD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3B94-CD49-4F99-9353-51978696B7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6333-287F-4DBC-B1E0-5B69AB728D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F809-7000-4584-9D9E-44C14FB12B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26B1-209D-4038-987F-54D84FC813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1391-D1AF-4239-9D49-6870695AE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BD551-DB7D-40E8-AA78-0DC5F6BEE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800C-50B8-4B42-8239-E0344BA7EE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3C1E-CD44-4A7E-A3E3-2507A40A64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92C5-F5C1-42FD-9870-162324F8FC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AD19C-B6CE-432F-9533-CEB3F811F7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8A7B-F6FE-4C09-B30C-BE359647F6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6FE4D-18D6-4637-A845-4643E530C6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5FA2-817D-4FB6-9FE0-2AAA6A6966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91C7-70BF-4D41-A9E4-4AE11394C9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370C7-6B3D-41F1-9809-7370B56122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88F60-6D4B-4905-B8E7-5FE914FDF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3050-E1BD-4BAA-9064-D2224285A0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A545-54C5-441D-BCCA-9EA7255B6A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28A5-438F-41A4-8E05-76C13CB45F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DA89F-FED6-46CD-AA28-E86C782158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1915-8A30-409E-AF38-79B316D2B2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5130-37A0-489E-ACFA-83C8E11CE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B750-B5E8-49D1-A680-3E17EAAAB0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28276-2700-4D49-9B29-DD29E3519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4C35-BD9B-403C-A5FF-AB995A6891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2E841-2280-493A-B6D6-B6DBD2FB1F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E8C2-182C-4903-B2E3-89A41C32B0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CACHI</cp:lastModifiedBy>
  <dcterms:modified xsi:type="dcterms:W3CDTF">2006-11-10T18:24:58Z</dcterms:modified>
  <cp:revision>6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