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4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CL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856-21B1-4226-8E3C-447EEB94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D34-F180-429C-83C3-B229A119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529-A103-4A88-96D8-3FCC4FD5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C0A-20A2-4EC2-A66F-3F0743C8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6662-107F-4C19-BC68-FF32B71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CB53-6421-4099-A27D-C72877CF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E5E2-B0D0-498B-B435-007B2285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A117-BB6C-48D6-8C0D-4B1018B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F9E9-7153-42F5-AC58-CDA55F5D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7C39-B4E6-48F8-BA9D-26A1DEA9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DBB9-2FE4-4C43-874E-0D5B10B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4E6-1900-41C0-9708-0E9C4DB3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A8E-854F-4BB2-ABD3-243ED7D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340-5426-430B-9FB9-06747B1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58E4-B0A5-43CF-B34B-F222ABE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99DB-5B38-468E-B6F8-E6326329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FB03-4C66-4939-A20B-15B15631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C53-B1D9-4E7C-A407-1A0D51D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3A4-1F8F-457B-BEA0-9920B0E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3C8-8FD7-4341-8F9A-384EB500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0F5-CC67-472A-B175-D7580EBE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BF6-0DAA-420D-8DCE-48D538A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B0E-B30B-4092-AD1A-BE1295E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4CB-AA88-4BC6-9B34-FA223E9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EBC5-92DC-48C7-A681-B8512D65EDC4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66F-945D-4B97-9ED4-502C5EDE2F67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CLIC.WAV"/><Relationship Id="rId5" Type="http://schemas.openxmlformats.org/officeDocument/2006/relationships/audio" Target="../media/LATIGO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198900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valuación  Multicrite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licaciones al ámbit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15772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ra Arancibia             Eduardo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4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5805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C06-E6D9-49AC-ADA8-D7E82D98F7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8120" y="685800"/>
            <a:ext cx="13777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152388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60020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1600200"/>
            <a:ext cx="13795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0" idx="2"/>
            <a:endCxn id="331" idx="0"/>
          </p:cNvCxnSpPr>
          <p:nvPr/>
        </p:nvCxnSpPr>
        <p:spPr>
          <a:xfrm flipH="1">
            <a:off x="1983960" y="1091880"/>
            <a:ext cx="1753200" cy="43236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5" name=""/>
          <p:cNvCxnSpPr>
            <a:stCxn id="330" idx="2"/>
            <a:endCxn id="332" idx="0"/>
          </p:cNvCxnSpPr>
          <p:nvPr/>
        </p:nvCxnSpPr>
        <p:spPr>
          <a:xfrm>
            <a:off x="3736440" y="1091880"/>
            <a:ext cx="76284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6" name=""/>
          <p:cNvCxnSpPr>
            <a:stCxn id="330" idx="2"/>
            <a:endCxn id="333" idx="0"/>
          </p:cNvCxnSpPr>
          <p:nvPr/>
        </p:nvCxnSpPr>
        <p:spPr>
          <a:xfrm>
            <a:off x="3736440" y="1091880"/>
            <a:ext cx="266940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04920" y="2362320"/>
            <a:ext cx="106668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12408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Fa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181480"/>
            <a:ext cx="13161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5181480"/>
            <a:ext cx="13143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5105520"/>
            <a:ext cx="131472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056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304920"/>
            <a:ext cx="41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iorización de la cartera de proyectos de inversión, maximizando el bienestar social y ambiental, considerando además  el    potenciamiento económico de la z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362320"/>
            <a:ext cx="106704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Antróp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362320"/>
            <a:ext cx="12189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porte áreas más po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1120" y="2362320"/>
            <a:ext cx="13716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antidad de 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2362320"/>
            <a:ext cx="99072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236232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236232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66680" y="1981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33920" y="2133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72200" y="2057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50532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8862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43434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Vege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47640" y="357336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ais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12408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1240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Comu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19520" y="38098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31240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38098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in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057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A10-28F9-4430-8D04-60787FD6D7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11280" y="1484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álculo de la prioridad se realiza en función de comparaciones a pares con respecto a un criteri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141720"/>
            <a:ext cx="7848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omparar los elementos se forma una matriz de comparaciones a pares; Representa el entendimiento, información, y nivel de comprensión del equipo de trabajo sobre la materia 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regunta: ¿Cuánto supera este elemento (o actividad) al elemento con el cual se está comparando- en la medida en que posee la propiedad, contribuye a ella, la domina, influye sobre ella, la satisface, o la benefi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/>
          <p:nvPr/>
        </p:nvCxnSpPr>
        <p:spPr>
          <a:xfrm>
            <a:off x="4355640" y="2349000"/>
            <a:ext cx="1080" cy="839160"/>
          </a:xfrm>
          <a:prstGeom prst="straightConnector1">
            <a:avLst/>
          </a:prstGeom>
          <a:ln w="152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761760" y="333360"/>
            <a:ext cx="754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ndo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incipio de establecimiento de prior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528-3E98-41AB-9BB6-B06C18B057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46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12800" y="3049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cala para comparaciones a P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287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cala de Sa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DB7-00FD-48D0-B87F-DF8CBD9D0B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56440" y="228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0960" y="719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ortancia relativa de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8880" y="1752480"/>
            <a:ext cx="91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47480" y="12952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1219320"/>
            <a:ext cx="0" cy="167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1676520"/>
            <a:ext cx="4038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51240" y="1801800"/>
            <a:ext cx="28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5760" y="376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365760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Una vez completada la Matriz el problema se transforma en un problema de Vectores y Val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*w=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*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49370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A=Matriz recíproca de comparaciones a pares (Juicios de importancia/ preferencia de un criterio sobre ot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w= Vector propio que representa el ranking u orden de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Máximo valor propio que representa una medida de la consistencia de los ju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1828800"/>
            <a:ext cx="1143000" cy="4572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94240" y="1600200"/>
            <a:ext cx="9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5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EBD-3EC8-4D79-B067-5D9DFCFE66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0348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8380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nderadores para los subcriterios en el potenciamien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2209680"/>
            <a:ext cx="449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riterio Potenciamiento económico establece el aporte del proyecto a la generación, expansión, aumento, mejor calidad y en general, a potenciar las actividades de la z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65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6800" y="391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 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267080"/>
            <a:ext cx="3276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434340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962520"/>
            <a:ext cx="0" cy="1600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440" y="38084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4343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2286000"/>
            <a:ext cx="17528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9c6e5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971800"/>
            <a:ext cx="9903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97180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297180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066680" y="26665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574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057040" y="2666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95680"/>
            <a:ext cx="838440" cy="228600"/>
          </a:xfrm>
          <a:custGeom>
            <a:avLst/>
            <a:gdLst>
              <a:gd name="textAreaLeft" fmla="*/ 146520 w 838440"/>
              <a:gd name="textAreaRight" fmla="*/ 60804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6320" y="411480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F9C-9682-4D7C-887F-22B2082E81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447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sistencia tiene relación con el grado de dispersión de los juicios del a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uicios consistentes imponen 2 propiedades en forma simultá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36766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) Transitividad de las preferencias: Si C1  es mejor que C2 y C2 es mejor que C3 entonces se espera que C1 sea mejor que C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) Proporcionalidad  de las preferencias: Si C1 es 3 veces mejor que C2 y C2 es 2 veces mejor que C3 entonces se espera que C1 sea 6 veces mejor que C3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/>
          <p:nvPr/>
        </p:nvCxnSpPr>
        <p:spPr>
          <a:xfrm>
            <a:off x="4571640" y="2971440"/>
            <a:ext cx="1080" cy="762840"/>
          </a:xfrm>
          <a:prstGeom prst="straightConnector1">
            <a:avLst/>
          </a:prstGeom>
          <a:ln w="1522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1600200" y="304920"/>
            <a:ext cx="67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cer principio: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382-7AF5-443A-983B-AA40A2EE87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31520" y="228600"/>
            <a:ext cx="636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emos la matriz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84760" y="2022480"/>
            <a:ext cx="1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350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76480" y="167652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057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1905120"/>
            <a:ext cx="144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3200" y="32464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iz norm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07960" y="213372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7       1/7      1/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/7       2/7      2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/7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4/7      4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508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16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8000" y="17524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133720"/>
            <a:ext cx="3429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7920" y="18288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2860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7         3,5       1,75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3886200"/>
            <a:ext cx="443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odas las columnas en la matriz normalizada resultaron ser iguales porque la matriz de comparaciones a pares  era consistente. Es decir Amb=1/2 Social, Amb=1/4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demos deduci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cial=1/2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80880" y="4038480"/>
                <a:ext cx="3429000" cy="21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43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286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781-CBBD-42AA-970B-A19528D950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15238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supuesto, es necesario, cierto grado de consistencia en la fijación de prioridades para los elementos o actividades con respecto a algún criterio para obtener resultados válidos en el mund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AHP mide la inconsistencia global de los juicios mediante la proporción de consis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valor de esta proporción de consistencia no debe superar el 10%. Esto dependerá del tamaño de la matriz de comparación a p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23B-2E8D-4152-96F2-52654F63F1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895480" y="533520"/>
            <a:ext cx="35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íntesis del 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198108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delo del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rivación de Pesos de cri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isión de Consistenci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s alternativas por crit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ción del Ranking de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de Sensibilidad de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1523880"/>
            <a:ext cx="381240" cy="405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9080" y="2133720"/>
            <a:ext cx="1882440" cy="3252960"/>
            <a:chOff x="289080" y="2133720"/>
            <a:chExt cx="1882440" cy="3252960"/>
          </a:xfrm>
        </p:grpSpPr>
        <p:sp>
          <p:nvSpPr>
            <p:cNvPr id="436" name=""/>
            <p:cNvSpPr/>
            <p:nvPr/>
          </p:nvSpPr>
          <p:spPr>
            <a:xfrm rot="20746800">
              <a:off x="458280" y="3878280"/>
              <a:ext cx="609480" cy="145584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840"/>
                <a:gd name="textAreaBottom" fmla="*/ 1072080 h 14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1800" y="2133720"/>
              <a:ext cx="11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5840" y="3353040"/>
              <a:ext cx="11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ínt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9400">
              <a:off x="380520" y="2202120"/>
              <a:ext cx="609480" cy="145548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480"/>
                <a:gd name="textAreaBottom" fmla="*/ 1071720 h 14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40B-05B4-4E05-A08F-4CA68FFB89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03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1752480"/>
            <a:ext cx="3962160" cy="914400"/>
          </a:xfrm>
          <a:prstGeom prst="rightArrowCallout">
            <a:avLst>
              <a:gd name="adj1" fmla="val 25002"/>
              <a:gd name="adj2" fmla="val 25000"/>
              <a:gd name="adj3" fmla="val 72218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Enfoque de valore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vect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4720" y="1903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cala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2971800"/>
            <a:ext cx="3962160" cy="990720"/>
          </a:xfrm>
          <a:prstGeom prst="rightArrowCallout">
            <a:avLst>
              <a:gd name="adj1" fmla="val 25002"/>
              <a:gd name="adj2" fmla="val 25000"/>
              <a:gd name="adj3" fmla="val 66655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Medida de con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5520" y="2819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rrores en la expresión de los ju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4495680"/>
            <a:ext cx="4343400" cy="914400"/>
          </a:xfrm>
          <a:prstGeom prst="rightArrowCallout">
            <a:avLst>
              <a:gd name="adj1" fmla="val 25002"/>
              <a:gd name="adj2" fmla="val 25000"/>
              <a:gd name="adj3" fmla="val 7916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articipación de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rofes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42670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canzar un consenso entre varios juicios que representan experiencias div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30360" y="838080"/>
            <a:ext cx="5354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aciones sobre 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7AC-92EE-4EFF-8532-92562A807F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66840" y="33336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9520" y="1066680"/>
            <a:ext cx="412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upongamos el siguiente c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895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proyecto A será el escogido, puesto que presenta un mayor beneficio n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" y="3581280"/>
            <a:ext cx="547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i agregamos una dimensión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3240" y="5486400"/>
            <a:ext cx="679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Ya no es tan claro que el proyecto A sea el escogido, debido a la cantidad de beneficiarios que involucra el proyecto 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600200"/>
            <a:ext cx="3276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1676520"/>
          <a:ext cx="291312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676520" y="4038480"/>
            <a:ext cx="53337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4191120"/>
          <a:ext cx="487368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41D-3D58-4F2C-9D4C-8D1BDEFB1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3880" y="3049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ntajas de la Metodol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6002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metodología es una herramienta de apoyo a la toma de decision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r el problema que se dese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os criterios discriminantes en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un equipo multidiscipli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r los criterios y subcriterios en una jerarqu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la importancia de cada criterio en términos de ponderadores y sintetizar toda esta información para tomar la mejor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legar a un resultado en consen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5BF-3C71-4C79-A2A7-0F32316D38E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58160" y="27082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s y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F0C-B7A0-462A-9296-07C92B0AE0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31920" y="1154160"/>
            <a:ext cx="6680160" cy="5299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51460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en concurso Fonde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7E8-447B-4BDE-BB51-6945AC2CAA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766880" y="1525680"/>
            <a:ext cx="5610240" cy="3806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622680" y="2058840"/>
            <a:ext cx="2244600" cy="3602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119680" y="5695920"/>
            <a:ext cx="27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1.00 x 1.00 x 0.33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4720" y="8319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trices de compa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807-B7E8-4138-A25F-BF2A14A84B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254240" y="1096920"/>
            <a:ext cx="6635520" cy="550080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686-254F-4933-B564-7AEF745BE5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rcRect l="1937" t="9071" r="14929" b="17071"/>
          <a:stretch/>
        </p:blipFill>
        <p:spPr>
          <a:xfrm>
            <a:off x="1876320" y="1868400"/>
            <a:ext cx="5575320" cy="37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571-82B5-442D-A427-61B25165D8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2017800"/>
            <a:ext cx="8353440" cy="407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08000" y="30492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de Reescolarización para  el Mine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89C-F92E-46FB-97E9-38B008A709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971640" y="2028960"/>
            <a:ext cx="7416720" cy="36320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5C1-51B2-4AE1-9291-07A16A0AA1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79280" y="1751040"/>
            <a:ext cx="6408720" cy="4414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6697440" cy="55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B5A-9D04-4324-A6F4-7837E9F295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6680" y="2273760"/>
            <a:ext cx="848484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292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blema: “Carencia de Exposiciones de Obras Teat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cripción de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1: “Construcción de sala de Teatr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2: “Carpa Itiner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3: “Bus Teatr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Indicador: Costo /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03280" y="765000"/>
            <a:ext cx="62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264-AB17-4804-B124-D54EACD3EB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73720" y="609480"/>
            <a:ext cx="56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 agregarle más dimensiones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7178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uál es  ahora el proyecto más adecu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ómo determinamos la importancia de estos factores, y sintetizamos luego toda esta información para tomar la mejor decis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8640" y="5516640"/>
            <a:ext cx="712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Este es un típico problema de la toma de decis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371600"/>
            <a:ext cx="76960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1676520"/>
          <a:ext cx="6834240" cy="110304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o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793-7903-4031-A042-A90B61C42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619280" y="765000"/>
            <a:ext cx="66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84360" y="2281320"/>
            <a:ext cx="806436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D46-9FBE-4E42-90CB-467D90AE64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687-B35B-40B2-AFF3-9A97705E05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44760" y="2925720"/>
            <a:ext cx="6053040" cy="18716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2800440" y="115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533600" y="5016600"/>
            <a:ext cx="6075360" cy="136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1535040" y="873000"/>
          <a:ext cx="6073920" cy="1763640"/>
        </p:xfrm>
        <a:graphic>
          <a:graphicData uri="http://schemas.openxmlformats.org/drawingml/2006/table">
            <a:tbl>
              <a:tblPr/>
              <a:tblGrid>
                <a:gridCol w="1009800"/>
                <a:gridCol w="809640"/>
                <a:gridCol w="809640"/>
                <a:gridCol w="1284120"/>
                <a:gridCol w="900000"/>
                <a:gridCol w="12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2B9-2A48-4C69-A8BA-EBD7C3E9F3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642160" cy="1584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4800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3A6-1F24-41E5-9FD9-0A3F90FF2A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58520" y="54936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34136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ón de ideas: para hacer ranking de ideas y descartar las malas antes de cualquier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nalizar alternativas de un mismo proyecto en estudios de pre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ogramas: permite agregar resultados del marco lógico en un solo ind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estu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proyectos, en algunos casos para agregar indicadores de desempeño (control de gest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álculo de índices (ejemplo: calidad de v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odos los ejemplos anteriores se necesita agregar varios criterios para llegar a un solo indicador que permita tomar la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1C5-12EA-4EFA-806A-29B8A347AA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59960" y="80964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17064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iorizar proyectos ya evaluados y recomendados: apoyo a los gobiernos regionales y municipios en el proceso de prior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seleccionar en forma consensuada proyectos y programas que postulan a fondos concurs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4005360"/>
            <a:ext cx="77086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todos los ejemplos anteriores se necesita agre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rios criterios para llegar a un solo indicad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a tomar la dec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05E-15AC-4F1C-99FC-4F4C7E9350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10587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32796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900000" y="4710240"/>
            <a:ext cx="7417080" cy="21477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124000" y="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F0E-B896-4A3E-9AE3-72C92A556AD3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7440" y="1542960"/>
            <a:ext cx="8601120" cy="4203360"/>
            <a:chOff x="487440" y="1542960"/>
            <a:chExt cx="8601120" cy="4203360"/>
          </a:xfrm>
        </p:grpSpPr>
        <p:grpSp>
          <p:nvGrpSpPr>
            <p:cNvPr id="136" name=""/>
            <p:cNvGrpSpPr/>
            <p:nvPr/>
          </p:nvGrpSpPr>
          <p:grpSpPr>
            <a:xfrm>
              <a:off x="487440" y="1542960"/>
              <a:ext cx="1228680" cy="1004760"/>
              <a:chOff x="487440" y="1542960"/>
              <a:chExt cx="1228680" cy="100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531720" y="1542960"/>
                <a:ext cx="114012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ernativa</a:t>
                </a:r>
                <a:r>
                  <a:rPr b="1" lang="es-MX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44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716120" y="1542960"/>
              <a:ext cx="1228680" cy="1004760"/>
              <a:chOff x="1716120" y="1542960"/>
              <a:chExt cx="1228680" cy="1004760"/>
            </a:xfrm>
          </p:grpSpPr>
          <p:sp>
            <p:nvSpPr>
              <p:cNvPr id="140" name=""/>
              <p:cNvSpPr/>
              <p:nvPr/>
            </p:nvSpPr>
            <p:spPr>
              <a:xfrm>
                <a:off x="17607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Número de benefici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61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944800" y="1542960"/>
              <a:ext cx="1228680" cy="1004760"/>
              <a:chOff x="2944800" y="1542960"/>
              <a:chExt cx="1228680" cy="1004760"/>
            </a:xfrm>
          </p:grpSpPr>
          <p:sp>
            <p:nvSpPr>
              <p:cNvPr id="143" name=""/>
              <p:cNvSpPr/>
              <p:nvPr/>
            </p:nvSpPr>
            <p:spPr>
              <a:xfrm>
                <a:off x="298944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Monto de inver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448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173480" y="1542960"/>
              <a:ext cx="1229040" cy="1004760"/>
              <a:chOff x="4173480" y="1542960"/>
              <a:chExt cx="1229040" cy="1004760"/>
            </a:xfrm>
          </p:grpSpPr>
          <p:sp>
            <p:nvSpPr>
              <p:cNvPr id="146" name=""/>
              <p:cNvSpPr/>
              <p:nvPr/>
            </p:nvSpPr>
            <p:spPr>
              <a:xfrm>
                <a:off x="421812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Disponibilidad de recurs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73480" y="1542960"/>
                <a:ext cx="122904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02520" y="1542960"/>
              <a:ext cx="1228680" cy="1004760"/>
              <a:chOff x="5402520" y="1542960"/>
              <a:chExt cx="1228680" cy="1004760"/>
            </a:xfrm>
          </p:grpSpPr>
          <p:sp>
            <p:nvSpPr>
              <p:cNvPr id="149" name=""/>
              <p:cNvSpPr/>
              <p:nvPr/>
            </p:nvSpPr>
            <p:spPr>
              <a:xfrm>
                <a:off x="544680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025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631200" y="1542960"/>
              <a:ext cx="1228680" cy="1004760"/>
              <a:chOff x="6631200" y="1542960"/>
              <a:chExt cx="1228680" cy="100476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548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Porcentaje de Subsi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312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859880" y="1542960"/>
              <a:ext cx="1228680" cy="1004760"/>
              <a:chOff x="7859880" y="1542960"/>
              <a:chExt cx="1228680" cy="1004760"/>
            </a:xfrm>
          </p:grpSpPr>
          <p:sp>
            <p:nvSpPr>
              <p:cNvPr id="155" name=""/>
              <p:cNvSpPr/>
              <p:nvPr/>
            </p:nvSpPr>
            <p:spPr>
              <a:xfrm>
                <a:off x="79041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Impac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mbien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5988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87440" y="2547720"/>
              <a:ext cx="1228680" cy="639720"/>
              <a:chOff x="487440" y="2547720"/>
              <a:chExt cx="1228680" cy="639720"/>
            </a:xfrm>
          </p:grpSpPr>
          <p:sp>
            <p:nvSpPr>
              <p:cNvPr id="158" name=""/>
              <p:cNvSpPr/>
              <p:nvPr/>
            </p:nvSpPr>
            <p:spPr>
              <a:xfrm>
                <a:off x="531720" y="254772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44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716120" y="2547720"/>
              <a:ext cx="1228680" cy="639720"/>
              <a:chOff x="1716120" y="2547720"/>
              <a:chExt cx="1228680" cy="639720"/>
            </a:xfrm>
          </p:grpSpPr>
          <p:sp>
            <p:nvSpPr>
              <p:cNvPr id="161" name=""/>
              <p:cNvSpPr/>
              <p:nvPr/>
            </p:nvSpPr>
            <p:spPr>
              <a:xfrm>
                <a:off x="17607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44800" y="2547720"/>
              <a:ext cx="1228680" cy="639720"/>
              <a:chOff x="2944800" y="2547720"/>
              <a:chExt cx="1228680" cy="639720"/>
            </a:xfrm>
          </p:grpSpPr>
          <p:sp>
            <p:nvSpPr>
              <p:cNvPr id="164" name=""/>
              <p:cNvSpPr/>
              <p:nvPr/>
            </p:nvSpPr>
            <p:spPr>
              <a:xfrm>
                <a:off x="298944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48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173480" y="2547720"/>
              <a:ext cx="1229040" cy="639720"/>
              <a:chOff x="4173480" y="2547720"/>
              <a:chExt cx="1229040" cy="639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21812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73480" y="254772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402520" y="2547720"/>
              <a:ext cx="1228680" cy="639720"/>
              <a:chOff x="5402520" y="2547720"/>
              <a:chExt cx="1228680" cy="63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44680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25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631200" y="2547720"/>
              <a:ext cx="1228680" cy="639720"/>
              <a:chOff x="6631200" y="2547720"/>
              <a:chExt cx="1228680" cy="639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67548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312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859880" y="2547720"/>
              <a:ext cx="1228680" cy="639720"/>
              <a:chOff x="7859880" y="2547720"/>
              <a:chExt cx="1228680" cy="6397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041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5988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87440" y="3187440"/>
              <a:ext cx="1228680" cy="639720"/>
              <a:chOff x="487440" y="3187440"/>
              <a:chExt cx="1228680" cy="639720"/>
            </a:xfrm>
          </p:grpSpPr>
          <p:sp>
            <p:nvSpPr>
              <p:cNvPr id="179" name=""/>
              <p:cNvSpPr/>
              <p:nvPr/>
            </p:nvSpPr>
            <p:spPr>
              <a:xfrm>
                <a:off x="531720" y="318744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744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16120" y="3187440"/>
              <a:ext cx="1228680" cy="639720"/>
              <a:chOff x="1716120" y="3187440"/>
              <a:chExt cx="1228680" cy="63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7607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44800" y="3187440"/>
              <a:ext cx="1228680" cy="639720"/>
              <a:chOff x="2944800" y="3187440"/>
              <a:chExt cx="1228680" cy="63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298944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48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73480" y="3187440"/>
              <a:ext cx="1229040" cy="639720"/>
              <a:chOff x="4173480" y="3187440"/>
              <a:chExt cx="1229040" cy="63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421812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73480" y="318744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402520" y="3187440"/>
              <a:ext cx="1228680" cy="639720"/>
              <a:chOff x="5402520" y="3187440"/>
              <a:chExt cx="1228680" cy="63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44680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025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631200" y="3187440"/>
              <a:ext cx="1228680" cy="639720"/>
              <a:chOff x="6631200" y="3187440"/>
              <a:chExt cx="1228680" cy="639720"/>
            </a:xfrm>
          </p:grpSpPr>
          <p:sp>
            <p:nvSpPr>
              <p:cNvPr id="194" name=""/>
              <p:cNvSpPr/>
              <p:nvPr/>
            </p:nvSpPr>
            <p:spPr>
              <a:xfrm>
                <a:off x="667548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312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59880" y="3187440"/>
              <a:ext cx="1228680" cy="639720"/>
              <a:chOff x="7859880" y="3187440"/>
              <a:chExt cx="1228680" cy="639720"/>
            </a:xfrm>
          </p:grpSpPr>
          <p:sp>
            <p:nvSpPr>
              <p:cNvPr id="197" name=""/>
              <p:cNvSpPr/>
              <p:nvPr/>
            </p:nvSpPr>
            <p:spPr>
              <a:xfrm>
                <a:off x="79041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5988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87440" y="3827160"/>
              <a:ext cx="1228680" cy="639720"/>
              <a:chOff x="487440" y="3827160"/>
              <a:chExt cx="1228680" cy="639720"/>
            </a:xfrm>
          </p:grpSpPr>
          <p:sp>
            <p:nvSpPr>
              <p:cNvPr id="200" name=""/>
              <p:cNvSpPr/>
              <p:nvPr/>
            </p:nvSpPr>
            <p:spPr>
              <a:xfrm>
                <a:off x="531720" y="382716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744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716120" y="3827160"/>
              <a:ext cx="1228680" cy="639720"/>
              <a:chOff x="1716120" y="3827160"/>
              <a:chExt cx="1228680" cy="639720"/>
            </a:xfrm>
          </p:grpSpPr>
          <p:sp>
            <p:nvSpPr>
              <p:cNvPr id="203" name=""/>
              <p:cNvSpPr/>
              <p:nvPr/>
            </p:nvSpPr>
            <p:spPr>
              <a:xfrm>
                <a:off x="17607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944800" y="3827160"/>
              <a:ext cx="1228680" cy="639720"/>
              <a:chOff x="2944800" y="3827160"/>
              <a:chExt cx="1228680" cy="639720"/>
            </a:xfrm>
          </p:grpSpPr>
          <p:sp>
            <p:nvSpPr>
              <p:cNvPr id="206" name=""/>
              <p:cNvSpPr/>
              <p:nvPr/>
            </p:nvSpPr>
            <p:spPr>
              <a:xfrm>
                <a:off x="298944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448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173480" y="3827160"/>
              <a:ext cx="1229040" cy="639720"/>
              <a:chOff x="4173480" y="3827160"/>
              <a:chExt cx="1229040" cy="639720"/>
            </a:xfrm>
          </p:grpSpPr>
          <p:sp>
            <p:nvSpPr>
              <p:cNvPr id="209" name=""/>
              <p:cNvSpPr/>
              <p:nvPr/>
            </p:nvSpPr>
            <p:spPr>
              <a:xfrm>
                <a:off x="421812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73480" y="382716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402520" y="3827160"/>
              <a:ext cx="1228680" cy="639720"/>
              <a:chOff x="5402520" y="3827160"/>
              <a:chExt cx="1228680" cy="639720"/>
            </a:xfrm>
          </p:grpSpPr>
          <p:sp>
            <p:nvSpPr>
              <p:cNvPr id="212" name=""/>
              <p:cNvSpPr/>
              <p:nvPr/>
            </p:nvSpPr>
            <p:spPr>
              <a:xfrm>
                <a:off x="544680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025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631200" y="3827160"/>
              <a:ext cx="1228680" cy="639720"/>
              <a:chOff x="6631200" y="3827160"/>
              <a:chExt cx="1228680" cy="639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67548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312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859880" y="3827160"/>
              <a:ext cx="1228680" cy="639720"/>
              <a:chOff x="7859880" y="3827160"/>
              <a:chExt cx="1228680" cy="639720"/>
            </a:xfrm>
          </p:grpSpPr>
          <p:sp>
            <p:nvSpPr>
              <p:cNvPr id="218" name=""/>
              <p:cNvSpPr/>
              <p:nvPr/>
            </p:nvSpPr>
            <p:spPr>
              <a:xfrm>
                <a:off x="79041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988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7440" y="4466880"/>
              <a:ext cx="1228680" cy="639720"/>
              <a:chOff x="487440" y="4466880"/>
              <a:chExt cx="1228680" cy="639720"/>
            </a:xfrm>
          </p:grpSpPr>
          <p:sp>
            <p:nvSpPr>
              <p:cNvPr id="221" name=""/>
              <p:cNvSpPr/>
              <p:nvPr/>
            </p:nvSpPr>
            <p:spPr>
              <a:xfrm>
                <a:off x="531720" y="446688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44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716120" y="4466880"/>
              <a:ext cx="1228680" cy="639720"/>
              <a:chOff x="1716120" y="4466880"/>
              <a:chExt cx="1228680" cy="639720"/>
            </a:xfrm>
          </p:grpSpPr>
          <p:sp>
            <p:nvSpPr>
              <p:cNvPr id="224" name=""/>
              <p:cNvSpPr/>
              <p:nvPr/>
            </p:nvSpPr>
            <p:spPr>
              <a:xfrm>
                <a:off x="17607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161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944800" y="4466880"/>
              <a:ext cx="1228680" cy="639720"/>
              <a:chOff x="2944800" y="4466880"/>
              <a:chExt cx="1228680" cy="639720"/>
            </a:xfrm>
          </p:grpSpPr>
          <p:sp>
            <p:nvSpPr>
              <p:cNvPr id="227" name=""/>
              <p:cNvSpPr/>
              <p:nvPr/>
            </p:nvSpPr>
            <p:spPr>
              <a:xfrm>
                <a:off x="298944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448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173480" y="4466880"/>
              <a:ext cx="1229040" cy="639720"/>
              <a:chOff x="4173480" y="4466880"/>
              <a:chExt cx="122904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421812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73480" y="446688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402520" y="4466880"/>
              <a:ext cx="1228680" cy="639720"/>
              <a:chOff x="5402520" y="4466880"/>
              <a:chExt cx="1228680" cy="639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44680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025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631200" y="4466880"/>
              <a:ext cx="1228680" cy="639720"/>
              <a:chOff x="6631200" y="4466880"/>
              <a:chExt cx="1228680" cy="639720"/>
            </a:xfrm>
          </p:grpSpPr>
          <p:sp>
            <p:nvSpPr>
              <p:cNvPr id="236" name=""/>
              <p:cNvSpPr/>
              <p:nvPr/>
            </p:nvSpPr>
            <p:spPr>
              <a:xfrm>
                <a:off x="667548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312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859880" y="4466880"/>
              <a:ext cx="1228680" cy="639720"/>
              <a:chOff x="7859880" y="4466880"/>
              <a:chExt cx="1228680" cy="63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79041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988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87440" y="5106600"/>
              <a:ext cx="1228680" cy="639720"/>
              <a:chOff x="487440" y="5106600"/>
              <a:chExt cx="1228680" cy="639720"/>
            </a:xfrm>
          </p:grpSpPr>
          <p:sp>
            <p:nvSpPr>
              <p:cNvPr id="242" name=""/>
              <p:cNvSpPr/>
              <p:nvPr/>
            </p:nvSpPr>
            <p:spPr>
              <a:xfrm>
                <a:off x="531720" y="510660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744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716120" y="5106600"/>
              <a:ext cx="1228680" cy="639720"/>
              <a:chOff x="1716120" y="5106600"/>
              <a:chExt cx="1228680" cy="639720"/>
            </a:xfrm>
          </p:grpSpPr>
          <p:sp>
            <p:nvSpPr>
              <p:cNvPr id="245" name=""/>
              <p:cNvSpPr/>
              <p:nvPr/>
            </p:nvSpPr>
            <p:spPr>
              <a:xfrm>
                <a:off x="17607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161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944800" y="5106600"/>
              <a:ext cx="1228680" cy="639720"/>
              <a:chOff x="2944800" y="5106600"/>
              <a:chExt cx="1228680" cy="639720"/>
            </a:xfrm>
          </p:grpSpPr>
          <p:sp>
            <p:nvSpPr>
              <p:cNvPr id="248" name=""/>
              <p:cNvSpPr/>
              <p:nvPr/>
            </p:nvSpPr>
            <p:spPr>
              <a:xfrm>
                <a:off x="298944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448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73480" y="5106600"/>
              <a:ext cx="1229040" cy="639720"/>
              <a:chOff x="4173480" y="5106600"/>
              <a:chExt cx="1229040" cy="6397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1812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73480" y="510660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402520" y="5106600"/>
              <a:ext cx="1228680" cy="639720"/>
              <a:chOff x="5402520" y="5106600"/>
              <a:chExt cx="122868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544680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025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31200" y="5106600"/>
              <a:ext cx="1228680" cy="639720"/>
              <a:chOff x="6631200" y="5106600"/>
              <a:chExt cx="1228680" cy="639720"/>
            </a:xfrm>
          </p:grpSpPr>
          <p:sp>
            <p:nvSpPr>
              <p:cNvPr id="257" name=""/>
              <p:cNvSpPr/>
              <p:nvPr/>
            </p:nvSpPr>
            <p:spPr>
              <a:xfrm>
                <a:off x="667548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312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859880" y="5106600"/>
              <a:ext cx="1228680" cy="639720"/>
              <a:chOff x="7859880" y="5106600"/>
              <a:chExt cx="1228680" cy="639720"/>
            </a:xfrm>
          </p:grpSpPr>
          <p:sp>
            <p:nvSpPr>
              <p:cNvPr id="260" name=""/>
              <p:cNvSpPr/>
              <p:nvPr/>
            </p:nvSpPr>
            <p:spPr>
              <a:xfrm>
                <a:off x="79041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988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2197080" y="5205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4200" y="6540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383-8A49-426B-8E8C-6D4500D2F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1219320"/>
            <a:ext cx="7788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gregar más dimensiones (criterios) al problema es una forma de acercar el modelo a la realidad (multidimension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481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etodologías Multicri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>
            <a:off x="4343400" y="3886200"/>
            <a:ext cx="2160" cy="1296000"/>
          </a:xfrm>
          <a:prstGeom prst="straightConnector1">
            <a:avLst/>
          </a:prstGeom>
          <a:ln w="15228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520" y="4419720"/>
            <a:ext cx="190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27672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Cómo resolver este problema típ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4CC-1563-4408-9A87-CCA1C344FB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1523880"/>
            <a:ext cx="7026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érminos generales el AHP es un método de descomposición de estructuras complejas en sus componentes, ordenando estos componentes o variables en una estructura jerárquica, donde se obtienen valores numéricos para los juicios de preferencia y, finalmente los sintetiza  para determinar qué variable tiene la más alta pri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8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finición de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8240" y="98100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 Analytic Hierarchy Process de Sa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942-0389-4E55-8923-ADE867A2B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14400" y="5477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o se traduce en flexibilidad, lo que permite incorporar o eliminar aspectos sin afectar sustancialmente al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40600">
            <a:off x="6011640" y="4149720"/>
            <a:ext cx="1295280" cy="21240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57120 h 2124000"/>
              <a:gd name="textAreaBottom" fmla="*/ 148140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1822969"/>
                <a:lnTo>
                  <a:pt x="10750" y="20636"/>
                </a:lnTo>
                <a:lnTo>
                  <a:pt x="0" y="16616"/>
                </a:lnTo>
                <a:lnTo>
                  <a:pt x="10750" y="10667"/>
                </a:lnTo>
                <a:lnTo>
                  <a:pt x="10750" y="13569"/>
                </a:lnTo>
                <a:arcTo wR="21600" hR="7267" stAng="1822969" swAng="-1478178"/>
                <a:lnTo>
                  <a:pt x="20694" y="9349"/>
                </a:lnTo>
                <a:arcTo wR="21600" hR="7267" stAng="-344791" swAng="-5055209"/>
                <a:close/>
              </a:path>
              <a:path fill="darkenLess"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-344791"/>
                <a:lnTo>
                  <a:pt x="20694" y="9349"/>
                </a:lnTo>
                <a:arcTo wR="21600" hR="7267" stAng="-344791" swAng="-5055209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177336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 reflejan las precisiones, aportes y sugerencias que a los distintos profesionales les parece pertinente y, que a la vez, son acogidas favorablemente por la totalidad del grupo.</a:t>
            </a: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9600">
            <a:off x="755640" y="1988640"/>
            <a:ext cx="1724040" cy="1981440"/>
          </a:xfrm>
          <a:custGeom>
            <a:avLst/>
            <a:gdLst>
              <a:gd name="textAreaLeft" fmla="*/ 230760 w 1724040"/>
              <a:gd name="textAreaRight" fmla="*/ 1493280 w 1724040"/>
              <a:gd name="textAreaTop" fmla="*/ 316440 h 1981440"/>
              <a:gd name="textAreaBottom" fmla="*/ 142524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99" stAng="-5400000" swAng="-5400000"/>
                <a:lnTo>
                  <a:pt x="0" y="12085"/>
                </a:lnTo>
                <a:arcTo wR="21600" hR="6899" stAng="10800000" swAng="-2375191"/>
                <a:lnTo>
                  <a:pt x="13817" y="21137"/>
                </a:lnTo>
                <a:lnTo>
                  <a:pt x="21600" y="16391"/>
                </a:lnTo>
                <a:lnTo>
                  <a:pt x="13817" y="10719"/>
                </a:lnTo>
                <a:lnTo>
                  <a:pt x="13817" y="13335"/>
                </a:lnTo>
                <a:arcTo wR="21600" hR="6899" stAng="8424809" swAng="1932317"/>
                <a:lnTo>
                  <a:pt x="1584" y="9492"/>
                </a:lnTo>
                <a:arcTo wR="21600" hR="6899" stAng="-10357125" swAng="4957125"/>
                <a:close/>
              </a:path>
              <a:path fill="darkenLess" w="21600" h="21600">
                <a:moveTo>
                  <a:pt x="21600" y="0"/>
                </a:moveTo>
                <a:arcTo wR="21600" hR="6899" stAng="-5400000" swAng="-5400000"/>
                <a:lnTo>
                  <a:pt x="0" y="6899"/>
                </a:lnTo>
                <a:arcTo wR="21600" hR="6899" stAng="10800000" swAng="-442875"/>
                <a:lnTo>
                  <a:pt x="1584" y="9492"/>
                </a:lnTo>
                <a:arcTo wR="21600" hR="6899" stAng="-10357125" swAng="495712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27280" y="3357720"/>
          <a:ext cx="259092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357720"/>
                    <a:ext cx="2590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9640" y="40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AHP ( Analytic Hierarchy Process de Saa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1052640"/>
            <a:ext cx="69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onfección de la jerarquía es un proceso interactivo que realiza un equip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FA0-B117-4BCD-9BBE-2C7BAE6270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62320" y="38088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undamentos d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197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l método AHP está fundado sobre una base teórica simple pero só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2276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sta metodología propone una manera de ordenar el pensamiento analítico, de la cual destacan tres princi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343400"/>
            <a:ext cx="60199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trucción de las jerarq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Establecimiento de prior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istencia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4495320" y="3580920"/>
            <a:ext cx="1080" cy="926280"/>
          </a:xfrm>
          <a:prstGeom prst="straightConnector1">
            <a:avLst/>
          </a:prstGeom>
          <a:ln w="165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940-B645-470A-BC64-0343EE658C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26600" y="47952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nsideraciones sobre las jerarqu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551640" y="2286000"/>
            <a:ext cx="2136960" cy="3066480"/>
            <a:chOff x="6551640" y="2286000"/>
            <a:chExt cx="2136960" cy="3066480"/>
          </a:xfrm>
        </p:grpSpPr>
        <p:sp>
          <p:nvSpPr>
            <p:cNvPr id="287" name=""/>
            <p:cNvSpPr/>
            <p:nvPr/>
          </p:nvSpPr>
          <p:spPr>
            <a:xfrm>
              <a:off x="7391520" y="3095640"/>
              <a:ext cx="457200" cy="1447920"/>
            </a:xfrm>
            <a:prstGeom prst="upDownArrow">
              <a:avLst>
                <a:gd name="adj1" fmla="val 38889"/>
                <a:gd name="adj2" fmla="val 5844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562800">
              <a:off x="6553080" y="3779640"/>
              <a:ext cx="2133720" cy="30456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1562200">
              <a:off x="6781680" y="3627000"/>
              <a:ext cx="1602000" cy="23040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286000"/>
              <a:ext cx="18288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general (estratégico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0" y="4740120"/>
              <a:ext cx="1523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específico (técnic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1552000">
              <a:off x="7044840" y="3551400"/>
              <a:ext cx="1108080" cy="1537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689880" y="144792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¿Qué criterios aportan al objetivo glob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371600"/>
            <a:ext cx="63244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0" y="1676520"/>
            <a:ext cx="137808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25560" y="2082600"/>
            <a:ext cx="4494240" cy="846360"/>
            <a:chOff x="925560" y="2082600"/>
            <a:chExt cx="4494240" cy="846360"/>
          </a:xfrm>
        </p:grpSpPr>
        <p:sp>
          <p:nvSpPr>
            <p:cNvPr id="297" name=""/>
            <p:cNvSpPr/>
            <p:nvPr/>
          </p:nvSpPr>
          <p:spPr>
            <a:xfrm>
              <a:off x="925560" y="2462040"/>
              <a:ext cx="137808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2920" y="2462040"/>
              <a:ext cx="13777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0280" y="2462040"/>
              <a:ext cx="13795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2"/>
              <a:endCxn id="297" idx="0"/>
            </p:cNvCxnSpPr>
            <p:nvPr/>
          </p:nvCxnSpPr>
          <p:spPr>
            <a:xfrm flipH="1">
              <a:off x="1613880" y="2082600"/>
              <a:ext cx="171036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>
              <a:stCxn id="295" idx="2"/>
              <a:endCxn id="298" idx="0"/>
            </p:cNvCxnSpPr>
            <p:nvPr/>
          </p:nvCxnSpPr>
          <p:spPr>
            <a:xfrm flipH="1">
              <a:off x="3171240" y="2082600"/>
              <a:ext cx="15300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95" idx="2"/>
              <a:endCxn id="299" idx="0"/>
            </p:cNvCxnSpPr>
            <p:nvPr/>
          </p:nvCxnSpPr>
          <p:spPr>
            <a:xfrm>
              <a:off x="3323880" y="2082600"/>
              <a:ext cx="140724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03" name=""/>
          <p:cNvGrpSpPr/>
          <p:nvPr/>
        </p:nvGrpSpPr>
        <p:grpSpPr>
          <a:xfrm>
            <a:off x="457200" y="3222720"/>
            <a:ext cx="5486400" cy="1525320"/>
            <a:chOff x="457200" y="3222720"/>
            <a:chExt cx="5486400" cy="1525320"/>
          </a:xfrm>
        </p:grpSpPr>
        <p:sp>
          <p:nvSpPr>
            <p:cNvPr id="304" name=""/>
            <p:cNvSpPr/>
            <p:nvPr/>
          </p:nvSpPr>
          <p:spPr>
            <a:xfrm>
              <a:off x="50652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63880" y="3222720"/>
              <a:ext cx="6267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3222720"/>
              <a:ext cx="6271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212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00640" y="3222720"/>
              <a:ext cx="6285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00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82680" y="3222720"/>
              <a:ext cx="6303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200" y="427356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54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336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160" y="428148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87680" y="3824280"/>
              <a:ext cx="1369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1447920"/>
            <a:ext cx="6095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14400" y="4724280"/>
            <a:ext cx="4394160" cy="1801800"/>
            <a:chOff x="914400" y="4724280"/>
            <a:chExt cx="4394160" cy="1801800"/>
          </a:xfrm>
        </p:grpSpPr>
        <p:sp>
          <p:nvSpPr>
            <p:cNvPr id="318" name=""/>
            <p:cNvSpPr/>
            <p:nvPr/>
          </p:nvSpPr>
          <p:spPr>
            <a:xfrm>
              <a:off x="157464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4400" y="5486400"/>
              <a:ext cx="131580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12720" y="5486400"/>
              <a:ext cx="131472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1280" y="5486400"/>
              <a:ext cx="131436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8960" y="6157800"/>
              <a:ext cx="1685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Alternati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65160" y="5181480"/>
              <a:ext cx="434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651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272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369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85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9852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276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D83-7082-4640-996C-9B6B1B29F7FE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8:19:17Z</dcterms:created>
  <dc:creator>Profesora</dc:creator>
  <dc:description/>
  <dc:language>en-US</dc:language>
  <cp:lastModifiedBy>Sara Arancibia C.</cp:lastModifiedBy>
  <dcterms:modified xsi:type="dcterms:W3CDTF">2006-11-03T14:22:22Z</dcterms:modified>
  <cp:revision>27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9853072</vt:r8>
  </property>
  <property fmtid="{D5CDD505-2E9C-101B-9397-08002B2CF9AE}" pid="3" name="_AuthorEmail">
    <vt:lpwstr>sarancibia@netline.cl</vt:lpwstr>
  </property>
  <property fmtid="{D5CDD505-2E9C-101B-9397-08002B2CF9AE}" pid="4" name="_AuthorEmailDisplayName">
    <vt:lpwstr>Sara Arancibia C.</vt:lpwstr>
  </property>
  <property fmtid="{D5CDD505-2E9C-101B-9397-08002B2CF9AE}" pid="5" name="_EmailSubject">
    <vt:lpwstr>presentación para el viernes</vt:lpwstr>
  </property>
  <property fmtid="{D5CDD505-2E9C-101B-9397-08002B2CF9AE}" pid="6" name="_PreviousAdHocReviewCycleID">
    <vt:r8>816893052</vt:r8>
  </property>
  <property fmtid="{D5CDD505-2E9C-101B-9397-08002B2CF9AE}" pid="7" name="_ReviewingToolsShownOnce">
    <vt:lpwstr/>
  </property>
</Properties>
</file>