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LATIGO.WAV" ContentType="audio/x-wav"/>
  <Override PartName="/ppt/media/image4.wmf" ContentType="image/x-wmf"/>
  <Override PartName="/ppt/media/image11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CLIC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849-B3F8-4257-93A0-5D61B9AE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3A2-7CF0-4545-801B-D2B48A53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05C-7071-4EDE-98AE-831B0658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7A5-2AA2-4E5C-BAF4-D577EB18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3FEB-6EB2-4275-A698-31182398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3D72-C294-433E-BFA3-FFA39501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430C-3DAC-41DE-A465-05D7FFC8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5D3E-EFDC-464A-9D2A-3B772AC8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2373-7E11-4819-BCFB-91E39781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8655-0F96-48FF-BB1A-811BF639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032D-4986-4326-B50D-92F99CDB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CE8-7BAF-4ECF-AF0B-F0BAB1DD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4678-8184-425B-B7E0-99A10695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8F37-AE99-42B3-BC00-43E64D14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E1C6-E093-4B5F-A19A-1604626B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7AF8-3AAE-4BFD-8371-7D7E11C8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9958-FD21-4C56-B84C-E23B9B7B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83A-73DB-4F9F-AC45-D33D578E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C9B-B87C-4693-8A9F-30F43CB2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180-ACD7-4CB0-91E6-444EC04D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AB6-7338-4995-B7AA-20968C78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E9A-1A9B-4F6D-AFFF-A36A1E5F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371-AA27-4939-A81A-C82116EF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ABC-7ACB-45F5-8004-97C0A5AC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999E-2DB6-459E-A0F4-8BC93E132A11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1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5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8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1BEA-C931-4AAC-A1BC-8F2CCF4AB284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CLIC.WAV"/><Relationship Id="rId3" Type="http://schemas.openxmlformats.org/officeDocument/2006/relationships/audio" Target="../media/LATIGO.WAV"/><Relationship Id="rId4" Type="http://schemas.openxmlformats.org/officeDocument/2006/relationships/audio" Target="../media/CLIC.WAV"/><Relationship Id="rId5" Type="http://schemas.openxmlformats.org/officeDocument/2006/relationships/audio" Target="../media/LATIGO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1989000"/>
            <a:ext cx="684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Evaluación  Multicrite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licaciones al ámbito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15772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ara Arancibia             Eduardo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4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58053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v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65A-F9AB-475D-9D70-0AD62F3BDC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8120" y="685800"/>
            <a:ext cx="137772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1523880"/>
            <a:ext cx="137808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1600200"/>
            <a:ext cx="137808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1600200"/>
            <a:ext cx="137952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0" idx="2"/>
            <a:endCxn id="331" idx="0"/>
          </p:cNvCxnSpPr>
          <p:nvPr/>
        </p:nvCxnSpPr>
        <p:spPr>
          <a:xfrm flipH="1">
            <a:off x="1983960" y="1091880"/>
            <a:ext cx="1753200" cy="43236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cxnSp>
        <p:nvCxnSpPr>
          <p:cNvPr id="335" name=""/>
          <p:cNvCxnSpPr>
            <a:stCxn id="330" idx="2"/>
            <a:endCxn id="332" idx="0"/>
          </p:cNvCxnSpPr>
          <p:nvPr/>
        </p:nvCxnSpPr>
        <p:spPr>
          <a:xfrm>
            <a:off x="3736440" y="1091880"/>
            <a:ext cx="762840" cy="50868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cxnSp>
        <p:nvCxnSpPr>
          <p:cNvPr id="336" name=""/>
          <p:cNvCxnSpPr>
            <a:stCxn id="330" idx="2"/>
            <a:endCxn id="333" idx="0"/>
          </p:cNvCxnSpPr>
          <p:nvPr/>
        </p:nvCxnSpPr>
        <p:spPr>
          <a:xfrm>
            <a:off x="3736440" y="1091880"/>
            <a:ext cx="2669400" cy="50868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04920" y="2362320"/>
            <a:ext cx="1066680" cy="520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ntexto na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312408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Fa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5181480"/>
            <a:ext cx="131616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5181480"/>
            <a:ext cx="131436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5105520"/>
            <a:ext cx="131472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5791320"/>
            <a:ext cx="16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Tahoma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7056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304920"/>
            <a:ext cx="419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iorización de la cartera de proyectos de inversión, maximizando el bienestar social y ambiental, considerando además  el    potenciamiento económico de la z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2362320"/>
            <a:ext cx="1067040" cy="520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ntexto Antróp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362320"/>
            <a:ext cx="121896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Aporte áreas más po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91120" y="2362320"/>
            <a:ext cx="13716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antidad de benefici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2362320"/>
            <a:ext cx="99072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2362320"/>
            <a:ext cx="9144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S Fore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24680" y="2362320"/>
            <a:ext cx="106704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otras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066680" y="198108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2057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733920" y="21337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72200" y="2057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350532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388620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434340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Vege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47640" y="3573360"/>
            <a:ext cx="99072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ais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124080"/>
            <a:ext cx="99072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Esp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3124080"/>
            <a:ext cx="9903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onc pob Comu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19520" y="3809880"/>
            <a:ext cx="9903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onc pob 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3124080"/>
            <a:ext cx="99072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Benef dir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3809880"/>
            <a:ext cx="99072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Benef indir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20574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0574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123-D169-4C2E-9AF1-4D74A2AD11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11280" y="148428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álculo de la prioridad se realiza en función de comparaciones a pares con respecto a un criteri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3141720"/>
            <a:ext cx="78483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comparar los elementos se forma una matriz de comparaciones a pares; Representa el entendimiento, información, y nivel de comprensión del equipo de trabajo sobre la materia 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regunta: ¿Cuánto supera este elemento (o actividad) al elemento con el cual se está comparando- en la medida en que posee la propiedad, contribuye a ella, la domina, influye sobre ella, la satisface, o la benefi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/>
          <p:nvPr/>
        </p:nvCxnSpPr>
        <p:spPr>
          <a:xfrm>
            <a:off x="4355640" y="2349000"/>
            <a:ext cx="1080" cy="839160"/>
          </a:xfrm>
          <a:prstGeom prst="straightConnector1">
            <a:avLst/>
          </a:prstGeom>
          <a:ln w="1522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761760" y="333360"/>
            <a:ext cx="754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egundo principi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incipio de establecimiento de prior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AB4-8C0F-4AA0-997F-45C60A5B54E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46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612800" y="3049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cala para comparaciones a P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2873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cala de Sa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F7D-BDF8-4025-9140-9AC9E23544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756440" y="2286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50960" y="719280"/>
            <a:ext cx="53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ortancia relativa de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8880" y="1752480"/>
            <a:ext cx="91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47480" y="12952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57400" y="1219320"/>
            <a:ext cx="0" cy="1676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1676520"/>
            <a:ext cx="4038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51240" y="1801800"/>
            <a:ext cx="28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       1/2       1/4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55760" y="376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3657600"/>
            <a:ext cx="664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Una vez completada la Matriz el problema se transforma en un problema de Vectores y Valore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*w=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*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4937040"/>
            <a:ext cx="754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A=Matriz recíproca de comparaciones a pares (Juicios de importancia/ preferencia de un criterio sobre ot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w= Vector propio que representa el ranking u orden de prio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Máximo valor propio que representa una medida de la consistencia de los ju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1828800"/>
            <a:ext cx="1143000" cy="45720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94240" y="1600200"/>
            <a:ext cx="96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5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B3C-6F49-4D16-94A9-69089067EA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03480" y="148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83808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nderadores para los subcriterios en el potenciamient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2209680"/>
            <a:ext cx="449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criterio Potenciamiento económico establece el aporte del proyecto a la generación, expansión, aumento, mejor calidad y en general, a potenciar las actividades de la z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65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6800" y="391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.T   P. S F   P. O 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4267080"/>
            <a:ext cx="3276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434340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962520"/>
            <a:ext cx="0" cy="1600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7440" y="38084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43434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.T   P. S F   P.O 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2286000"/>
            <a:ext cx="17528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9c6e5"/>
                </a:solidFill>
                <a:latin typeface="Tahoma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2971800"/>
            <a:ext cx="99036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971800"/>
            <a:ext cx="9144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S Fore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2971800"/>
            <a:ext cx="106704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otras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066680" y="266652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0574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057040" y="26665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4495680"/>
            <a:ext cx="838440" cy="228600"/>
          </a:xfrm>
          <a:custGeom>
            <a:avLst/>
            <a:gdLst>
              <a:gd name="textAreaLeft" fmla="*/ 146520 w 838440"/>
              <a:gd name="textAreaRight" fmla="*/ 608040 w 8384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6320" y="4114800"/>
            <a:ext cx="9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628A-2FF8-4AE6-8A8F-3B13615478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85800" y="14479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nsistencia tiene relación con el grado de dispersión de los juicios del ac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uicios consistentes imponen 2 propiedades en forma simultán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367668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) Transitividad de las preferencias: Si C1  es mejor que C2 y C2 es mejor que C3 entonces se espera que C1 sea mejor que C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) Proporcionalidad  de las preferencias: Si C1 es 3 veces mejor que C2 y C2 es 2 veces mejor que C3 entonces se espera que C1 sea 6 veces mejor que C3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5120" y="2286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/>
          <p:nvPr/>
        </p:nvCxnSpPr>
        <p:spPr>
          <a:xfrm>
            <a:off x="4571640" y="2971440"/>
            <a:ext cx="1080" cy="762840"/>
          </a:xfrm>
          <a:prstGeom prst="straightConnector1">
            <a:avLst/>
          </a:prstGeom>
          <a:ln w="1522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1600200" y="304920"/>
            <a:ext cx="67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cer principio: Consistencia 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3D4-E2E1-4331-8007-A702C374E98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31520" y="228600"/>
            <a:ext cx="636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sideremos la matriz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84760" y="2022480"/>
            <a:ext cx="1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35080" y="2209680"/>
            <a:ext cx="91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76480" y="167652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057400"/>
            <a:ext cx="3200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1905120"/>
            <a:ext cx="144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3200" y="324648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triz norm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07960" y="2133720"/>
            <a:ext cx="301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/7       1/7      1/7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/7       2/7      2/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/7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4/7      4/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508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1680" y="2209680"/>
            <a:ext cx="91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8000" y="17524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2133720"/>
            <a:ext cx="3429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7920" y="1828800"/>
            <a:ext cx="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28600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       1/2       1/4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7         3,5       1,75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3886200"/>
            <a:ext cx="443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odas las columnas en la matriz normalizada resultaron ser iguales porque la matriz de comparaciones a pares  era consistente. Es decir Amb=1/2 Social, Amb=1/4 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demos deduci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ocial=1/2 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380880" y="4038480"/>
                <a:ext cx="3429000" cy="21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43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286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57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8AE-6468-48D4-9874-C55B46C2B4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143000" y="152388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supuesto, es necesario, cierto grado de consistencia en la fijación de prioridades para los elementos o actividades con respecto a algún criterio para obtener resultados válidos en el mundo r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AHP mide la inconsistencia global de los juicios mediante la proporción de consist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valor de esta proporción de consistencia no debe superar el 10%. Esto dependerá del tamaño de la matriz de comparación a p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577-8D21-4F36-AFB7-05DEB54A07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895480" y="533520"/>
            <a:ext cx="35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íntesis del mét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198108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delo del pro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rivación de Pesos de crite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isión de Consistenci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valuación de las alternativas por crit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neración del Ranking de altern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álisis de Sensibilidad de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cu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1523880"/>
            <a:ext cx="381240" cy="405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89080" y="2133720"/>
            <a:ext cx="1882440" cy="3252960"/>
            <a:chOff x="289080" y="2133720"/>
            <a:chExt cx="1882440" cy="3252960"/>
          </a:xfrm>
        </p:grpSpPr>
        <p:sp>
          <p:nvSpPr>
            <p:cNvPr id="436" name=""/>
            <p:cNvSpPr/>
            <p:nvPr/>
          </p:nvSpPr>
          <p:spPr>
            <a:xfrm rot="20746800">
              <a:off x="458280" y="3878280"/>
              <a:ext cx="609480" cy="145584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61000 h 1455840"/>
                <a:gd name="textAreaBottom" fmla="*/ 1072080 h 14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3" stAng="-5400000" swAng="-5400000"/>
                  <a:lnTo>
                    <a:pt x="0" y="12030"/>
                  </a:lnTo>
                  <a:arcTo wR="21600" hR="7753" stAng="10800000" swAng="-2395670"/>
                  <a:lnTo>
                    <a:pt x="13087" y="20973"/>
                  </a:lnTo>
                  <a:lnTo>
                    <a:pt x="21600" y="17644"/>
                  </a:lnTo>
                  <a:lnTo>
                    <a:pt x="13087" y="13060"/>
                  </a:lnTo>
                  <a:lnTo>
                    <a:pt x="13087" y="14878"/>
                  </a:lnTo>
                  <a:arcTo wR="21600" hR="7753" stAng="8404330" swAng="2042824"/>
                  <a:lnTo>
                    <a:pt x="838" y="9891"/>
                  </a:lnTo>
                  <a:arcTo wR="21600" hR="7753" stAng="-10447153" swAng="5047153"/>
                  <a:close/>
                </a:path>
                <a:path fill="darkenLess" w="21600" h="21600">
                  <a:moveTo>
                    <a:pt x="21600" y="0"/>
                  </a:moveTo>
                  <a:arcTo wR="21600" hR="7753" stAng="-5400000" swAng="-5400000"/>
                  <a:lnTo>
                    <a:pt x="0" y="7753"/>
                  </a:lnTo>
                  <a:arcTo wR="21600" hR="7753" stAng="10800000" swAng="-352847"/>
                  <a:lnTo>
                    <a:pt x="838" y="9891"/>
                  </a:lnTo>
                  <a:arcTo wR="21600" hR="7753" stAng="-10447153" swAng="5047153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1800" y="2133720"/>
              <a:ext cx="117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Análi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5840" y="3353040"/>
              <a:ext cx="11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ínt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9400">
              <a:off x="380520" y="2202120"/>
              <a:ext cx="609480" cy="145548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61000 h 1455480"/>
                <a:gd name="textAreaBottom" fmla="*/ 1071720 h 145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3" stAng="-5400000" swAng="-5400000"/>
                  <a:lnTo>
                    <a:pt x="0" y="12030"/>
                  </a:lnTo>
                  <a:arcTo wR="21600" hR="7753" stAng="10800000" swAng="-2395670"/>
                  <a:lnTo>
                    <a:pt x="13087" y="20973"/>
                  </a:lnTo>
                  <a:lnTo>
                    <a:pt x="21600" y="17644"/>
                  </a:lnTo>
                  <a:lnTo>
                    <a:pt x="13087" y="13060"/>
                  </a:lnTo>
                  <a:lnTo>
                    <a:pt x="13087" y="14878"/>
                  </a:lnTo>
                  <a:arcTo wR="21600" hR="7753" stAng="8404330" swAng="2042824"/>
                  <a:lnTo>
                    <a:pt x="838" y="9891"/>
                  </a:lnTo>
                  <a:arcTo wR="21600" hR="7753" stAng="-10447153" swAng="5047153"/>
                  <a:close/>
                </a:path>
                <a:path fill="darkenLess" w="21600" h="21600">
                  <a:moveTo>
                    <a:pt x="21600" y="0"/>
                  </a:moveTo>
                  <a:arcTo wR="21600" hR="7753" stAng="-5400000" swAng="-5400000"/>
                  <a:lnTo>
                    <a:pt x="0" y="7753"/>
                  </a:lnTo>
                  <a:arcTo wR="21600" hR="7753" stAng="10800000" swAng="-352847"/>
                  <a:lnTo>
                    <a:pt x="838" y="9891"/>
                  </a:lnTo>
                  <a:arcTo wR="21600" hR="7753" stAng="-10447153" swAng="5047153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7E1-6773-4F0D-924F-9D49FCB86B8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203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1752480"/>
            <a:ext cx="3962160" cy="914400"/>
          </a:xfrm>
          <a:prstGeom prst="rightArrowCallout">
            <a:avLst>
              <a:gd name="adj1" fmla="val 25002"/>
              <a:gd name="adj2" fmla="val 25000"/>
              <a:gd name="adj3" fmla="val 72218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Enfoque de valore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vectore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84720" y="19033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cala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2971800"/>
            <a:ext cx="3962160" cy="990720"/>
          </a:xfrm>
          <a:prstGeom prst="rightArrowCallout">
            <a:avLst>
              <a:gd name="adj1" fmla="val 25002"/>
              <a:gd name="adj2" fmla="val 25000"/>
              <a:gd name="adj3" fmla="val 66655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Medida de consis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05520" y="28195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r errores en la expresión de los ju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4495680"/>
            <a:ext cx="4343400" cy="914400"/>
          </a:xfrm>
          <a:prstGeom prst="rightArrowCallout">
            <a:avLst>
              <a:gd name="adj1" fmla="val 25002"/>
              <a:gd name="adj2" fmla="val 25000"/>
              <a:gd name="adj3" fmla="val 79167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Participación de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profes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426708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canzar un consenso entre varios juicios que representan experiencias diver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30360" y="838080"/>
            <a:ext cx="5354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sideraciones sobre el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616-015A-41E2-9BA2-86BB0908CE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66840" y="33336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problema Típico de Toma de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9520" y="1066680"/>
            <a:ext cx="412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Supongamos el siguiente ca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8954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l proyecto A será el escogido, puesto que presenta un mayor beneficio n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0080" y="3581280"/>
            <a:ext cx="547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Si agregamos una dimensión a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73240" y="5486400"/>
            <a:ext cx="679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Ya no es tan claro que el proyecto A sea el escogido, debido a la cantidad de beneficiarios que involucra el proyecto 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1600200"/>
            <a:ext cx="32767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6880" y="1676520"/>
          <a:ext cx="2913120" cy="100476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676520" y="4038480"/>
            <a:ext cx="533376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81080" y="4191120"/>
          <a:ext cx="4873680" cy="100476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4F3-B028-49A9-9874-56CDECCF7B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3880" y="3049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entajas de la Metodol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160020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metodología es una herramienta de apoyo a la toma de decisione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per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finir el problema que se desea resol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r los criterios discriminantes en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r con un equipo multidisciplin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r los criterios y subcriterios en una jerarqu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la importancia de cada criterio en términos de ponderadores y sintetizar toda esta información para tomar la mejor d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legar a un resultado en consen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ACE-2A95-4B92-91F3-144479F0DFD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558160" y="270828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s y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CC4-7035-4A50-8CEC-7C301D0018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231920" y="1154160"/>
            <a:ext cx="6680160" cy="5299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251460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proyectos en concurso Fonde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998-4356-4455-8DE7-BA184652F1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766880" y="1525680"/>
            <a:ext cx="5610240" cy="3806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622680" y="2058840"/>
            <a:ext cx="2244600" cy="3602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2119680" y="5695920"/>
            <a:ext cx="27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1.00 x 1.00 x 0.33 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3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4720" y="83196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trices de compa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7E1-2AFC-431F-B41F-93438232DC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254240" y="1096920"/>
            <a:ext cx="6635520" cy="550080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rId2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AA8-2380-4C0E-933A-28C813049F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rcRect l="1937" t="9071" r="14929" b="17071"/>
          <a:stretch/>
        </p:blipFill>
        <p:spPr>
          <a:xfrm>
            <a:off x="1876320" y="1868400"/>
            <a:ext cx="5575320" cy="372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C9F-7B2C-4D31-9415-E58F7C1064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95280" y="2017800"/>
            <a:ext cx="8353440" cy="407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908000" y="30492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proyectos de Reescolarización para  el Mined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1F2-BBE9-44E7-9BE0-E788D3D5CE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971640" y="2028960"/>
            <a:ext cx="7416720" cy="36320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21E-A807-4C69-B378-B51777DD1F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179280" y="1751040"/>
            <a:ext cx="6408720" cy="44146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4067280" y="981000"/>
            <a:ext cx="6697440" cy="55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544-EFDD-4464-94B2-17AA7CD71D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56680" y="2273760"/>
            <a:ext cx="848484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292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oblema: “Carencia de Exposiciones de Obras Teatr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cripción de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1: “Construcción de sala de Teatro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2: “Carpa Itiner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3: “Bus Teatr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Indicador: Costo / 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03280" y="765000"/>
            <a:ext cx="62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alternativas para un proyecto de Arte y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272-2DCF-4D47-B186-4FD47067F8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73720" y="609480"/>
            <a:ext cx="56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l agregarle más dimensiones a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505320"/>
            <a:ext cx="7178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Cuál es  ahora el proyecto más adecu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Cómo determinamos la importancia de estos factores, y sintetizamos luego toda esta información para tomar la mejor decisió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8640" y="5516640"/>
            <a:ext cx="712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Este es un típico problema de la toma de decis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371600"/>
            <a:ext cx="76960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90720" y="1676520"/>
          <a:ext cx="6834240" cy="110304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  <a:gridCol w="1960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acto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95C-F617-4626-9738-54D9477D21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619280" y="765000"/>
            <a:ext cx="66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alternativas para un proyecto de Arte y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84360" y="2281320"/>
            <a:ext cx="8064360" cy="337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AE9-8AFA-4E33-ACD5-60C0F58EA4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590840" y="0"/>
            <a:ext cx="5960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E59-2E3C-413F-A317-5E2C7F3DEA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544760" y="2925720"/>
            <a:ext cx="6053040" cy="18716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2800440" y="115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533600" y="5016600"/>
            <a:ext cx="6075360" cy="136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1535040" y="873000"/>
          <a:ext cx="6073920" cy="1763640"/>
        </p:xfrm>
        <a:graphic>
          <a:graphicData uri="http://schemas.openxmlformats.org/drawingml/2006/table">
            <a:tbl>
              <a:tblPr/>
              <a:tblGrid>
                <a:gridCol w="1009800"/>
                <a:gridCol w="809640"/>
                <a:gridCol w="809640"/>
                <a:gridCol w="1284120"/>
                <a:gridCol w="900000"/>
                <a:gridCol w="126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ult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806560"/>
                          <a:tab algn="r" pos="561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OR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8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3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4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B56-C8CF-4894-A593-31CB9B0360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642160" cy="1584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648000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4A5-278D-42B0-B58E-1E8195F61E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58520" y="54936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oría de evaluación multicriterio.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1341360"/>
            <a:ext cx="84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ción de ideas: para hacer ranking de ideas y descartar las malas antes de cualquier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analizar alternativas de un mismo proyecto en estudios de pre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programas: permite agregar resultados del marco lógico en un solo indic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licitaciones de estu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licitaciones de proyectos, en algunos casos para agregar indicadores de desempeño (control de gest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cálculo de índices (ejemplo: calidad de v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todos los ejemplos anteriores se necesita agregar varios criterios para llegar a un solo indicador que permita tomar la d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A38-4B1F-451E-829E-7FA73043B1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759960" y="80964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oría de evaluación multicriterio.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360" y="1706400"/>
            <a:ext cx="77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priorizar proyectos ya evaluados y recomendados: apoyo a los gobiernos regionales y municipios en el proceso de prior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seleccionar en forma consensuada proyectos y programas que postulan a fondos concurs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4360" y="4005360"/>
            <a:ext cx="77086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todos los ejemplos anteriores se necesita agreg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rios criterios para llegar a un solo indicad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permita tomar la deci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01E-F6AE-48BB-A35E-C0F6A4D022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10587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417080" cy="32796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900000" y="4710240"/>
            <a:ext cx="7417080" cy="21477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124000" y="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E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2F0-72F7-49BD-9C43-B95FF168833F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87440" y="1542960"/>
            <a:ext cx="8601120" cy="4203360"/>
            <a:chOff x="487440" y="1542960"/>
            <a:chExt cx="8601120" cy="4203360"/>
          </a:xfrm>
        </p:grpSpPr>
        <p:grpSp>
          <p:nvGrpSpPr>
            <p:cNvPr id="136" name=""/>
            <p:cNvGrpSpPr/>
            <p:nvPr/>
          </p:nvGrpSpPr>
          <p:grpSpPr>
            <a:xfrm>
              <a:off x="487440" y="1542960"/>
              <a:ext cx="1228680" cy="1004760"/>
              <a:chOff x="487440" y="1542960"/>
              <a:chExt cx="1228680" cy="1004760"/>
            </a:xfrm>
          </p:grpSpPr>
          <p:sp>
            <p:nvSpPr>
              <p:cNvPr id="137" name=""/>
              <p:cNvSpPr/>
              <p:nvPr/>
            </p:nvSpPr>
            <p:spPr>
              <a:xfrm>
                <a:off x="531720" y="1542960"/>
                <a:ext cx="114012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ernativa</a:t>
                </a:r>
                <a:r>
                  <a:rPr b="1" lang="es-MX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44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716120" y="1542960"/>
              <a:ext cx="1228680" cy="1004760"/>
              <a:chOff x="1716120" y="1542960"/>
              <a:chExt cx="1228680" cy="1004760"/>
            </a:xfrm>
          </p:grpSpPr>
          <p:sp>
            <p:nvSpPr>
              <p:cNvPr id="140" name=""/>
              <p:cNvSpPr/>
              <p:nvPr/>
            </p:nvSpPr>
            <p:spPr>
              <a:xfrm>
                <a:off x="176076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Número de benefici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1612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944800" y="1542960"/>
              <a:ext cx="1228680" cy="1004760"/>
              <a:chOff x="2944800" y="1542960"/>
              <a:chExt cx="1228680" cy="1004760"/>
            </a:xfrm>
          </p:grpSpPr>
          <p:sp>
            <p:nvSpPr>
              <p:cNvPr id="143" name=""/>
              <p:cNvSpPr/>
              <p:nvPr/>
            </p:nvSpPr>
            <p:spPr>
              <a:xfrm>
                <a:off x="298944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Monto de inver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4480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173480" y="1542960"/>
              <a:ext cx="1229040" cy="1004760"/>
              <a:chOff x="4173480" y="1542960"/>
              <a:chExt cx="1229040" cy="1004760"/>
            </a:xfrm>
          </p:grpSpPr>
          <p:sp>
            <p:nvSpPr>
              <p:cNvPr id="146" name=""/>
              <p:cNvSpPr/>
              <p:nvPr/>
            </p:nvSpPr>
            <p:spPr>
              <a:xfrm>
                <a:off x="421812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Disponibilidad de recurs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73480" y="1542960"/>
                <a:ext cx="122904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402520" y="1542960"/>
              <a:ext cx="1228680" cy="1004760"/>
              <a:chOff x="5402520" y="1542960"/>
              <a:chExt cx="1228680" cy="1004760"/>
            </a:xfrm>
          </p:grpSpPr>
          <p:sp>
            <p:nvSpPr>
              <p:cNvPr id="149" name=""/>
              <p:cNvSpPr/>
              <p:nvPr/>
            </p:nvSpPr>
            <p:spPr>
              <a:xfrm>
                <a:off x="544680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0252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631200" y="1542960"/>
              <a:ext cx="1228680" cy="1004760"/>
              <a:chOff x="6631200" y="1542960"/>
              <a:chExt cx="1228680" cy="1004760"/>
            </a:xfrm>
          </p:grpSpPr>
          <p:sp>
            <p:nvSpPr>
              <p:cNvPr id="152" name=""/>
              <p:cNvSpPr/>
              <p:nvPr/>
            </p:nvSpPr>
            <p:spPr>
              <a:xfrm>
                <a:off x="667548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Porcentaje de Subsi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3120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859880" y="1542960"/>
              <a:ext cx="1228680" cy="1004760"/>
              <a:chOff x="7859880" y="1542960"/>
              <a:chExt cx="1228680" cy="1004760"/>
            </a:xfrm>
          </p:grpSpPr>
          <p:sp>
            <p:nvSpPr>
              <p:cNvPr id="155" name=""/>
              <p:cNvSpPr/>
              <p:nvPr/>
            </p:nvSpPr>
            <p:spPr>
              <a:xfrm>
                <a:off x="790416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Impac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mbien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5988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87440" y="2547720"/>
              <a:ext cx="1228680" cy="639720"/>
              <a:chOff x="487440" y="2547720"/>
              <a:chExt cx="1228680" cy="639720"/>
            </a:xfrm>
          </p:grpSpPr>
          <p:sp>
            <p:nvSpPr>
              <p:cNvPr id="158" name=""/>
              <p:cNvSpPr/>
              <p:nvPr/>
            </p:nvSpPr>
            <p:spPr>
              <a:xfrm>
                <a:off x="531720" y="254772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744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716120" y="2547720"/>
              <a:ext cx="1228680" cy="639720"/>
              <a:chOff x="1716120" y="2547720"/>
              <a:chExt cx="1228680" cy="639720"/>
            </a:xfrm>
          </p:grpSpPr>
          <p:sp>
            <p:nvSpPr>
              <p:cNvPr id="161" name=""/>
              <p:cNvSpPr/>
              <p:nvPr/>
            </p:nvSpPr>
            <p:spPr>
              <a:xfrm>
                <a:off x="176076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44800" y="2547720"/>
              <a:ext cx="1228680" cy="639720"/>
              <a:chOff x="2944800" y="2547720"/>
              <a:chExt cx="1228680" cy="639720"/>
            </a:xfrm>
          </p:grpSpPr>
          <p:sp>
            <p:nvSpPr>
              <p:cNvPr id="164" name=""/>
              <p:cNvSpPr/>
              <p:nvPr/>
            </p:nvSpPr>
            <p:spPr>
              <a:xfrm>
                <a:off x="298944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4480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173480" y="2547720"/>
              <a:ext cx="1229040" cy="639720"/>
              <a:chOff x="4173480" y="2547720"/>
              <a:chExt cx="1229040" cy="639720"/>
            </a:xfrm>
          </p:grpSpPr>
          <p:sp>
            <p:nvSpPr>
              <p:cNvPr id="167" name=""/>
              <p:cNvSpPr/>
              <p:nvPr/>
            </p:nvSpPr>
            <p:spPr>
              <a:xfrm>
                <a:off x="421812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73480" y="254772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402520" y="2547720"/>
              <a:ext cx="1228680" cy="639720"/>
              <a:chOff x="5402520" y="2547720"/>
              <a:chExt cx="1228680" cy="639720"/>
            </a:xfrm>
          </p:grpSpPr>
          <p:sp>
            <p:nvSpPr>
              <p:cNvPr id="170" name=""/>
              <p:cNvSpPr/>
              <p:nvPr/>
            </p:nvSpPr>
            <p:spPr>
              <a:xfrm>
                <a:off x="544680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0252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631200" y="2547720"/>
              <a:ext cx="1228680" cy="639720"/>
              <a:chOff x="6631200" y="2547720"/>
              <a:chExt cx="1228680" cy="639720"/>
            </a:xfrm>
          </p:grpSpPr>
          <p:sp>
            <p:nvSpPr>
              <p:cNvPr id="173" name=""/>
              <p:cNvSpPr/>
              <p:nvPr/>
            </p:nvSpPr>
            <p:spPr>
              <a:xfrm>
                <a:off x="667548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3120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7859880" y="2547720"/>
              <a:ext cx="1228680" cy="639720"/>
              <a:chOff x="7859880" y="2547720"/>
              <a:chExt cx="1228680" cy="639720"/>
            </a:xfrm>
          </p:grpSpPr>
          <p:sp>
            <p:nvSpPr>
              <p:cNvPr id="176" name=""/>
              <p:cNvSpPr/>
              <p:nvPr/>
            </p:nvSpPr>
            <p:spPr>
              <a:xfrm>
                <a:off x="790416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5988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87440" y="3187440"/>
              <a:ext cx="1228680" cy="639720"/>
              <a:chOff x="487440" y="3187440"/>
              <a:chExt cx="1228680" cy="639720"/>
            </a:xfrm>
          </p:grpSpPr>
          <p:sp>
            <p:nvSpPr>
              <p:cNvPr id="179" name=""/>
              <p:cNvSpPr/>
              <p:nvPr/>
            </p:nvSpPr>
            <p:spPr>
              <a:xfrm>
                <a:off x="531720" y="318744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744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716120" y="3187440"/>
              <a:ext cx="1228680" cy="639720"/>
              <a:chOff x="1716120" y="3187440"/>
              <a:chExt cx="1228680" cy="639720"/>
            </a:xfrm>
          </p:grpSpPr>
          <p:sp>
            <p:nvSpPr>
              <p:cNvPr id="182" name=""/>
              <p:cNvSpPr/>
              <p:nvPr/>
            </p:nvSpPr>
            <p:spPr>
              <a:xfrm>
                <a:off x="176076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1612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944800" y="3187440"/>
              <a:ext cx="1228680" cy="639720"/>
              <a:chOff x="2944800" y="3187440"/>
              <a:chExt cx="1228680" cy="639720"/>
            </a:xfrm>
          </p:grpSpPr>
          <p:sp>
            <p:nvSpPr>
              <p:cNvPr id="185" name=""/>
              <p:cNvSpPr/>
              <p:nvPr/>
            </p:nvSpPr>
            <p:spPr>
              <a:xfrm>
                <a:off x="298944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4480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73480" y="3187440"/>
              <a:ext cx="1229040" cy="639720"/>
              <a:chOff x="4173480" y="3187440"/>
              <a:chExt cx="1229040" cy="639720"/>
            </a:xfrm>
          </p:grpSpPr>
          <p:sp>
            <p:nvSpPr>
              <p:cNvPr id="188" name=""/>
              <p:cNvSpPr/>
              <p:nvPr/>
            </p:nvSpPr>
            <p:spPr>
              <a:xfrm>
                <a:off x="421812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73480" y="318744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402520" y="3187440"/>
              <a:ext cx="1228680" cy="639720"/>
              <a:chOff x="5402520" y="3187440"/>
              <a:chExt cx="1228680" cy="639720"/>
            </a:xfrm>
          </p:grpSpPr>
          <p:sp>
            <p:nvSpPr>
              <p:cNvPr id="191" name=""/>
              <p:cNvSpPr/>
              <p:nvPr/>
            </p:nvSpPr>
            <p:spPr>
              <a:xfrm>
                <a:off x="544680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0252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631200" y="3187440"/>
              <a:ext cx="1228680" cy="639720"/>
              <a:chOff x="6631200" y="3187440"/>
              <a:chExt cx="1228680" cy="639720"/>
            </a:xfrm>
          </p:grpSpPr>
          <p:sp>
            <p:nvSpPr>
              <p:cNvPr id="194" name=""/>
              <p:cNvSpPr/>
              <p:nvPr/>
            </p:nvSpPr>
            <p:spPr>
              <a:xfrm>
                <a:off x="667548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3120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859880" y="3187440"/>
              <a:ext cx="1228680" cy="639720"/>
              <a:chOff x="7859880" y="3187440"/>
              <a:chExt cx="1228680" cy="639720"/>
            </a:xfrm>
          </p:grpSpPr>
          <p:sp>
            <p:nvSpPr>
              <p:cNvPr id="197" name=""/>
              <p:cNvSpPr/>
              <p:nvPr/>
            </p:nvSpPr>
            <p:spPr>
              <a:xfrm>
                <a:off x="790416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5988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87440" y="3827160"/>
              <a:ext cx="1228680" cy="639720"/>
              <a:chOff x="487440" y="3827160"/>
              <a:chExt cx="1228680" cy="639720"/>
            </a:xfrm>
          </p:grpSpPr>
          <p:sp>
            <p:nvSpPr>
              <p:cNvPr id="200" name=""/>
              <p:cNvSpPr/>
              <p:nvPr/>
            </p:nvSpPr>
            <p:spPr>
              <a:xfrm>
                <a:off x="531720" y="382716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744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716120" y="3827160"/>
              <a:ext cx="1228680" cy="639720"/>
              <a:chOff x="1716120" y="3827160"/>
              <a:chExt cx="1228680" cy="639720"/>
            </a:xfrm>
          </p:grpSpPr>
          <p:sp>
            <p:nvSpPr>
              <p:cNvPr id="203" name=""/>
              <p:cNvSpPr/>
              <p:nvPr/>
            </p:nvSpPr>
            <p:spPr>
              <a:xfrm>
                <a:off x="176076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1612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944800" y="3827160"/>
              <a:ext cx="1228680" cy="639720"/>
              <a:chOff x="2944800" y="3827160"/>
              <a:chExt cx="1228680" cy="639720"/>
            </a:xfrm>
          </p:grpSpPr>
          <p:sp>
            <p:nvSpPr>
              <p:cNvPr id="206" name=""/>
              <p:cNvSpPr/>
              <p:nvPr/>
            </p:nvSpPr>
            <p:spPr>
              <a:xfrm>
                <a:off x="298944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4480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173480" y="3827160"/>
              <a:ext cx="1229040" cy="639720"/>
              <a:chOff x="4173480" y="3827160"/>
              <a:chExt cx="1229040" cy="639720"/>
            </a:xfrm>
          </p:grpSpPr>
          <p:sp>
            <p:nvSpPr>
              <p:cNvPr id="209" name=""/>
              <p:cNvSpPr/>
              <p:nvPr/>
            </p:nvSpPr>
            <p:spPr>
              <a:xfrm>
                <a:off x="421812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73480" y="382716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402520" y="3827160"/>
              <a:ext cx="1228680" cy="639720"/>
              <a:chOff x="5402520" y="3827160"/>
              <a:chExt cx="1228680" cy="639720"/>
            </a:xfrm>
          </p:grpSpPr>
          <p:sp>
            <p:nvSpPr>
              <p:cNvPr id="212" name=""/>
              <p:cNvSpPr/>
              <p:nvPr/>
            </p:nvSpPr>
            <p:spPr>
              <a:xfrm>
                <a:off x="544680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0252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631200" y="3827160"/>
              <a:ext cx="1228680" cy="639720"/>
              <a:chOff x="6631200" y="3827160"/>
              <a:chExt cx="1228680" cy="639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67548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3120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859880" y="3827160"/>
              <a:ext cx="1228680" cy="639720"/>
              <a:chOff x="7859880" y="3827160"/>
              <a:chExt cx="1228680" cy="639720"/>
            </a:xfrm>
          </p:grpSpPr>
          <p:sp>
            <p:nvSpPr>
              <p:cNvPr id="218" name=""/>
              <p:cNvSpPr/>
              <p:nvPr/>
            </p:nvSpPr>
            <p:spPr>
              <a:xfrm>
                <a:off x="790416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5988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87440" y="4466880"/>
              <a:ext cx="1228680" cy="639720"/>
              <a:chOff x="487440" y="4466880"/>
              <a:chExt cx="1228680" cy="639720"/>
            </a:xfrm>
          </p:grpSpPr>
          <p:sp>
            <p:nvSpPr>
              <p:cNvPr id="221" name=""/>
              <p:cNvSpPr/>
              <p:nvPr/>
            </p:nvSpPr>
            <p:spPr>
              <a:xfrm>
                <a:off x="531720" y="446688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44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716120" y="4466880"/>
              <a:ext cx="1228680" cy="639720"/>
              <a:chOff x="1716120" y="4466880"/>
              <a:chExt cx="1228680" cy="639720"/>
            </a:xfrm>
          </p:grpSpPr>
          <p:sp>
            <p:nvSpPr>
              <p:cNvPr id="224" name=""/>
              <p:cNvSpPr/>
              <p:nvPr/>
            </p:nvSpPr>
            <p:spPr>
              <a:xfrm>
                <a:off x="176076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1612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944800" y="4466880"/>
              <a:ext cx="1228680" cy="639720"/>
              <a:chOff x="2944800" y="4466880"/>
              <a:chExt cx="1228680" cy="639720"/>
            </a:xfrm>
          </p:grpSpPr>
          <p:sp>
            <p:nvSpPr>
              <p:cNvPr id="227" name=""/>
              <p:cNvSpPr/>
              <p:nvPr/>
            </p:nvSpPr>
            <p:spPr>
              <a:xfrm>
                <a:off x="298944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4480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173480" y="4466880"/>
              <a:ext cx="1229040" cy="639720"/>
              <a:chOff x="4173480" y="4466880"/>
              <a:chExt cx="122904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421812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73480" y="446688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402520" y="4466880"/>
              <a:ext cx="1228680" cy="639720"/>
              <a:chOff x="5402520" y="4466880"/>
              <a:chExt cx="1228680" cy="639720"/>
            </a:xfrm>
          </p:grpSpPr>
          <p:sp>
            <p:nvSpPr>
              <p:cNvPr id="233" name=""/>
              <p:cNvSpPr/>
              <p:nvPr/>
            </p:nvSpPr>
            <p:spPr>
              <a:xfrm>
                <a:off x="544680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0252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631200" y="4466880"/>
              <a:ext cx="1228680" cy="639720"/>
              <a:chOff x="6631200" y="4466880"/>
              <a:chExt cx="1228680" cy="639720"/>
            </a:xfrm>
          </p:grpSpPr>
          <p:sp>
            <p:nvSpPr>
              <p:cNvPr id="236" name=""/>
              <p:cNvSpPr/>
              <p:nvPr/>
            </p:nvSpPr>
            <p:spPr>
              <a:xfrm>
                <a:off x="667548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3120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859880" y="4466880"/>
              <a:ext cx="1228680" cy="639720"/>
              <a:chOff x="7859880" y="4466880"/>
              <a:chExt cx="1228680" cy="639720"/>
            </a:xfrm>
          </p:grpSpPr>
          <p:sp>
            <p:nvSpPr>
              <p:cNvPr id="239" name=""/>
              <p:cNvSpPr/>
              <p:nvPr/>
            </p:nvSpPr>
            <p:spPr>
              <a:xfrm>
                <a:off x="790416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5988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87440" y="5106600"/>
              <a:ext cx="1228680" cy="639720"/>
              <a:chOff x="487440" y="5106600"/>
              <a:chExt cx="1228680" cy="639720"/>
            </a:xfrm>
          </p:grpSpPr>
          <p:sp>
            <p:nvSpPr>
              <p:cNvPr id="242" name=""/>
              <p:cNvSpPr/>
              <p:nvPr/>
            </p:nvSpPr>
            <p:spPr>
              <a:xfrm>
                <a:off x="531720" y="510660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744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716120" y="5106600"/>
              <a:ext cx="1228680" cy="639720"/>
              <a:chOff x="1716120" y="5106600"/>
              <a:chExt cx="1228680" cy="639720"/>
            </a:xfrm>
          </p:grpSpPr>
          <p:sp>
            <p:nvSpPr>
              <p:cNvPr id="245" name=""/>
              <p:cNvSpPr/>
              <p:nvPr/>
            </p:nvSpPr>
            <p:spPr>
              <a:xfrm>
                <a:off x="176076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1612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944800" y="5106600"/>
              <a:ext cx="1228680" cy="639720"/>
              <a:chOff x="2944800" y="5106600"/>
              <a:chExt cx="1228680" cy="639720"/>
            </a:xfrm>
          </p:grpSpPr>
          <p:sp>
            <p:nvSpPr>
              <p:cNvPr id="248" name=""/>
              <p:cNvSpPr/>
              <p:nvPr/>
            </p:nvSpPr>
            <p:spPr>
              <a:xfrm>
                <a:off x="298944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4480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73480" y="5106600"/>
              <a:ext cx="1229040" cy="639720"/>
              <a:chOff x="4173480" y="5106600"/>
              <a:chExt cx="1229040" cy="6397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1812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73480" y="510660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402520" y="5106600"/>
              <a:ext cx="1228680" cy="639720"/>
              <a:chOff x="5402520" y="5106600"/>
              <a:chExt cx="122868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544680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0252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631200" y="5106600"/>
              <a:ext cx="1228680" cy="639720"/>
              <a:chOff x="6631200" y="5106600"/>
              <a:chExt cx="1228680" cy="639720"/>
            </a:xfrm>
          </p:grpSpPr>
          <p:sp>
            <p:nvSpPr>
              <p:cNvPr id="257" name=""/>
              <p:cNvSpPr/>
              <p:nvPr/>
            </p:nvSpPr>
            <p:spPr>
              <a:xfrm>
                <a:off x="667548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3120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859880" y="5106600"/>
              <a:ext cx="1228680" cy="639720"/>
              <a:chOff x="7859880" y="5106600"/>
              <a:chExt cx="1228680" cy="639720"/>
            </a:xfrm>
          </p:grpSpPr>
          <p:sp>
            <p:nvSpPr>
              <p:cNvPr id="260" name=""/>
              <p:cNvSpPr/>
              <p:nvPr/>
            </p:nvSpPr>
            <p:spPr>
              <a:xfrm>
                <a:off x="790416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988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2197080" y="5205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oblema típico de Toma de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4200" y="6540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C14-D528-4F92-93D0-4001E6A968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1219320"/>
            <a:ext cx="7788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gregar más dimensiones (criterios) al problema es una forma de acercar el modelo a la realidad (multidimensional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4816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etodologías Multicrit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/>
          <p:nvPr/>
        </p:nvCxnSpPr>
        <p:spPr>
          <a:xfrm>
            <a:off x="4343400" y="3886200"/>
            <a:ext cx="2160" cy="1296000"/>
          </a:xfrm>
          <a:prstGeom prst="straightConnector1">
            <a:avLst/>
          </a:prstGeom>
          <a:ln w="15228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33520" y="4419720"/>
            <a:ext cx="190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3276720"/>
            <a:ext cx="57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¿Cómo resolver este problema típ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17A-1E77-4ADD-86BC-16784E78EC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1523880"/>
            <a:ext cx="70264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términos generales el AHP es un método de descomposición de estructuras complejas en sus componentes, ordenando estos componentes o variables en una estructura jerárquica, donde se obtienen valores numéricos para los juicios de preferencia y, finalmente los sintetiza  para determinar qué variable tiene la más alta pri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380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finición de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8240" y="981000"/>
            <a:ext cx="48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 Analytic Hierarchy Process de Saa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F48-616C-4E69-ABF7-FD505D9352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914400" y="5477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sto se traduce en flexibilidad, lo que permite incorporar o eliminar aspectos sin afectar sustancialmente al mod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1540600">
            <a:off x="6011640" y="4149720"/>
            <a:ext cx="1295280" cy="21240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57120 h 2124000"/>
              <a:gd name="textAreaBottom" fmla="*/ 1481400 h 21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67" stAng="-5400000" swAng="5400000"/>
                <a:lnTo>
                  <a:pt x="21600" y="11432"/>
                </a:lnTo>
                <a:arcTo wR="21600" hR="7267" stAng="0" swAng="1822969"/>
                <a:lnTo>
                  <a:pt x="10750" y="20636"/>
                </a:lnTo>
                <a:lnTo>
                  <a:pt x="0" y="16616"/>
                </a:lnTo>
                <a:lnTo>
                  <a:pt x="10750" y="10667"/>
                </a:lnTo>
                <a:lnTo>
                  <a:pt x="10750" y="13569"/>
                </a:lnTo>
                <a:arcTo wR="21600" hR="7267" stAng="1822969" swAng="-1478178"/>
                <a:lnTo>
                  <a:pt x="20694" y="9349"/>
                </a:lnTo>
                <a:arcTo wR="21600" hR="7267" stAng="-344791" swAng="-5055209"/>
                <a:close/>
              </a:path>
              <a:path fill="darkenLess" w="21600" h="21600">
                <a:moveTo>
                  <a:pt x="0" y="0"/>
                </a:moveTo>
                <a:arcTo wR="21600" hR="7267" stAng="-5400000" swAng="5400000"/>
                <a:lnTo>
                  <a:pt x="21600" y="11432"/>
                </a:lnTo>
                <a:arcTo wR="21600" hR="7267" stAng="0" swAng="-344791"/>
                <a:lnTo>
                  <a:pt x="20694" y="9349"/>
                </a:lnTo>
                <a:arcTo wR="21600" hR="7267" stAng="-344791" swAng="-5055209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177336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 reflejan las precisiones, aportes y sugerencias que a los distintos profesionales les parece pertinente y, que a la vez, son acogidas favorablemente por la totalidad del grupo.</a:t>
            </a: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9600">
            <a:off x="755640" y="1988640"/>
            <a:ext cx="1724040" cy="1981440"/>
          </a:xfrm>
          <a:custGeom>
            <a:avLst/>
            <a:gdLst>
              <a:gd name="textAreaLeft" fmla="*/ 230760 w 1724040"/>
              <a:gd name="textAreaRight" fmla="*/ 1493280 w 1724040"/>
              <a:gd name="textAreaTop" fmla="*/ 316440 h 1981440"/>
              <a:gd name="textAreaBottom" fmla="*/ 142524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899" stAng="-5400000" swAng="-5400000"/>
                <a:lnTo>
                  <a:pt x="0" y="12085"/>
                </a:lnTo>
                <a:arcTo wR="21600" hR="6899" stAng="10800000" swAng="-2375191"/>
                <a:lnTo>
                  <a:pt x="13817" y="21137"/>
                </a:lnTo>
                <a:lnTo>
                  <a:pt x="21600" y="16391"/>
                </a:lnTo>
                <a:lnTo>
                  <a:pt x="13817" y="10719"/>
                </a:lnTo>
                <a:lnTo>
                  <a:pt x="13817" y="13335"/>
                </a:lnTo>
                <a:arcTo wR="21600" hR="6899" stAng="8424809" swAng="1932317"/>
                <a:lnTo>
                  <a:pt x="1584" y="9492"/>
                </a:lnTo>
                <a:arcTo wR="21600" hR="6899" stAng="-10357125" swAng="4957125"/>
                <a:close/>
              </a:path>
              <a:path fill="darkenLess" w="21600" h="21600">
                <a:moveTo>
                  <a:pt x="21600" y="0"/>
                </a:moveTo>
                <a:arcTo wR="21600" hR="6899" stAng="-5400000" swAng="-5400000"/>
                <a:lnTo>
                  <a:pt x="0" y="6899"/>
                </a:lnTo>
                <a:arcTo wR="21600" hR="6899" stAng="10800000" swAng="-442875"/>
                <a:lnTo>
                  <a:pt x="1584" y="9492"/>
                </a:lnTo>
                <a:arcTo wR="21600" hR="6899" stAng="-10357125" swAng="495712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627280" y="3357720"/>
          <a:ext cx="259092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357720"/>
                    <a:ext cx="259092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39640" y="404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l AHP ( Analytic Hierarchy Process de Saa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1052640"/>
            <a:ext cx="69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confección de la jerarquía es un proceso interactivo que realiza un equipo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4EB-3623-4403-8F4F-0E7E771C58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62320" y="38088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undamentos del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1197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El método AHP está fundado sobre una base teórica simple pero sól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8920" y="227664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Esta metodología propone una manera de ordenar el pensamiento analítico, de la cual destacan tres princip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343400"/>
            <a:ext cx="60199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onstrucción de las jerarq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Establecimiento de prior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onsistencia 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>
            <a:off x="4495320" y="3580920"/>
            <a:ext cx="1080" cy="926280"/>
          </a:xfrm>
          <a:prstGeom prst="straightConnector1">
            <a:avLst/>
          </a:prstGeom>
          <a:ln w="1652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547-90B0-42C4-A143-B1D1812412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26600" y="479520"/>
            <a:ext cx="65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nsideraciones sobre las jerarqu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551640" y="2286000"/>
            <a:ext cx="2136960" cy="3066480"/>
            <a:chOff x="6551640" y="2286000"/>
            <a:chExt cx="2136960" cy="3066480"/>
          </a:xfrm>
        </p:grpSpPr>
        <p:sp>
          <p:nvSpPr>
            <p:cNvPr id="287" name=""/>
            <p:cNvSpPr/>
            <p:nvPr/>
          </p:nvSpPr>
          <p:spPr>
            <a:xfrm>
              <a:off x="7391520" y="3095640"/>
              <a:ext cx="457200" cy="1447920"/>
            </a:xfrm>
            <a:prstGeom prst="upDownArrow">
              <a:avLst>
                <a:gd name="adj1" fmla="val 38889"/>
                <a:gd name="adj2" fmla="val 58441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1562800">
              <a:off x="6553080" y="3779640"/>
              <a:ext cx="2133720" cy="304560"/>
            </a:xfrm>
            <a:prstGeom prst="ellipse">
              <a:avLst/>
            </a:prstGeom>
            <a:solidFill>
              <a:srgbClr val="33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1562200">
              <a:off x="6781680" y="3627000"/>
              <a:ext cx="1602000" cy="23040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05720" y="2286000"/>
              <a:ext cx="18288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+ general (estratégico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0" y="4740120"/>
              <a:ext cx="1523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+ específico (técnico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21552000">
              <a:off x="7044840" y="3551400"/>
              <a:ext cx="1108080" cy="15372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689880" y="144792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¿Qué criterios aportan al objetivo glob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371600"/>
            <a:ext cx="632448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35200" y="1676520"/>
            <a:ext cx="137808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25560" y="2082600"/>
            <a:ext cx="4494240" cy="846360"/>
            <a:chOff x="925560" y="2082600"/>
            <a:chExt cx="4494240" cy="846360"/>
          </a:xfrm>
        </p:grpSpPr>
        <p:sp>
          <p:nvSpPr>
            <p:cNvPr id="297" name=""/>
            <p:cNvSpPr/>
            <p:nvPr/>
          </p:nvSpPr>
          <p:spPr>
            <a:xfrm>
              <a:off x="925560" y="2462040"/>
              <a:ext cx="137808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82920" y="2462040"/>
              <a:ext cx="137772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40280" y="2462040"/>
              <a:ext cx="137952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2"/>
              <a:endCxn id="297" idx="0"/>
            </p:cNvCxnSpPr>
            <p:nvPr/>
          </p:nvCxnSpPr>
          <p:spPr>
            <a:xfrm flipH="1">
              <a:off x="1613880" y="2082600"/>
              <a:ext cx="171036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1" name=""/>
            <p:cNvCxnSpPr>
              <a:stCxn id="295" idx="2"/>
              <a:endCxn id="298" idx="0"/>
            </p:cNvCxnSpPr>
            <p:nvPr/>
          </p:nvCxnSpPr>
          <p:spPr>
            <a:xfrm flipH="1">
              <a:off x="3171240" y="2082600"/>
              <a:ext cx="15300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2" name=""/>
            <p:cNvCxnSpPr>
              <a:stCxn id="295" idx="2"/>
              <a:endCxn id="299" idx="0"/>
            </p:cNvCxnSpPr>
            <p:nvPr/>
          </p:nvCxnSpPr>
          <p:spPr>
            <a:xfrm>
              <a:off x="3323880" y="2082600"/>
              <a:ext cx="140724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303" name=""/>
          <p:cNvGrpSpPr/>
          <p:nvPr/>
        </p:nvGrpSpPr>
        <p:grpSpPr>
          <a:xfrm>
            <a:off x="457200" y="3222720"/>
            <a:ext cx="5486400" cy="1525320"/>
            <a:chOff x="457200" y="3222720"/>
            <a:chExt cx="5486400" cy="1525320"/>
          </a:xfrm>
        </p:grpSpPr>
        <p:sp>
          <p:nvSpPr>
            <p:cNvPr id="304" name=""/>
            <p:cNvSpPr/>
            <p:nvPr/>
          </p:nvSpPr>
          <p:spPr>
            <a:xfrm>
              <a:off x="50652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63880" y="3222720"/>
              <a:ext cx="6267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3222720"/>
              <a:ext cx="6271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2124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00640" y="3222720"/>
              <a:ext cx="6285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004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82680" y="3222720"/>
              <a:ext cx="6303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200" y="4273560"/>
              <a:ext cx="117144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95400" y="4273560"/>
              <a:ext cx="117180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33600" y="4273560"/>
              <a:ext cx="117180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2160" y="4281480"/>
              <a:ext cx="117144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87680" y="3824280"/>
              <a:ext cx="1369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99"/>
                  </a:solidFill>
                  <a:latin typeface="Tahoma"/>
                </a:rPr>
                <a:t>Crite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04920" y="1447920"/>
            <a:ext cx="6095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914400" y="4724280"/>
            <a:ext cx="4394160" cy="1801800"/>
            <a:chOff x="914400" y="4724280"/>
            <a:chExt cx="4394160" cy="1801800"/>
          </a:xfrm>
        </p:grpSpPr>
        <p:sp>
          <p:nvSpPr>
            <p:cNvPr id="318" name=""/>
            <p:cNvSpPr/>
            <p:nvPr/>
          </p:nvSpPr>
          <p:spPr>
            <a:xfrm>
              <a:off x="157464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4400" y="5486400"/>
              <a:ext cx="131580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12720" y="5486400"/>
              <a:ext cx="131472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1280" y="5486400"/>
              <a:ext cx="131436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88960" y="6157800"/>
              <a:ext cx="1685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99"/>
                  </a:solidFill>
                  <a:latin typeface="Tahoma"/>
                </a:rPr>
                <a:t>Alternati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65160" y="5181480"/>
              <a:ext cx="434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651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1272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369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085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9852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2276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EE2-7347-4E8C-B3F2-A0908BAA4269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08:19:17Z</dcterms:created>
  <dc:creator>Profesora</dc:creator>
  <dc:description/>
  <dc:language>en-US</dc:language>
  <cp:lastModifiedBy>Sara Arancibia C.</cp:lastModifiedBy>
  <dcterms:modified xsi:type="dcterms:W3CDTF">2006-11-03T14:22:22Z</dcterms:modified>
  <cp:revision>27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29853072</vt:r8>
  </property>
  <property fmtid="{D5CDD505-2E9C-101B-9397-08002B2CF9AE}" pid="3" name="_AuthorEmail">
    <vt:lpwstr>sarancibia@netline.cl</vt:lpwstr>
  </property>
  <property fmtid="{D5CDD505-2E9C-101B-9397-08002B2CF9AE}" pid="4" name="_AuthorEmailDisplayName">
    <vt:lpwstr>Sara Arancibia C.</vt:lpwstr>
  </property>
  <property fmtid="{D5CDD505-2E9C-101B-9397-08002B2CF9AE}" pid="5" name="_EmailSubject">
    <vt:lpwstr>presentación para el viernes</vt:lpwstr>
  </property>
  <property fmtid="{D5CDD505-2E9C-101B-9397-08002B2CF9AE}" pid="6" name="_PreviousAdHocReviewCycleID">
    <vt:r8>816893052</vt:r8>
  </property>
  <property fmtid="{D5CDD505-2E9C-101B-9397-08002B2CF9AE}" pid="7" name="_ReviewingToolsShownOnce">
    <vt:lpwstr/>
  </property>
</Properties>
</file>