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LATIGO.WAV" ContentType="audio/x-wav"/>
  <Override PartName="/ppt/media/image4.wmf" ContentType="image/x-wmf"/>
  <Override PartName="/ppt/media/image11.wmf" ContentType="image/x-wmf"/>
  <Override PartName="/ppt/media/image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CLIC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4023-7270-49DE-8C0B-01C82083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DB6F-972E-4082-B55E-CD9519C0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C49-1D31-4EAE-AF4E-C40E2626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F93-64A1-49F6-8264-E4C98FB7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C1DF-6130-4F1F-8CB6-A02443BA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BEC2-FC5A-4E8E-AF4D-AD5EEDAC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254D-C806-4CA5-9EE3-2E8939F0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034E-3D0B-4C9D-95E1-50BE131E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BB9F-CFF4-4A68-B9AA-B9C69151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3088-C2E2-4BCB-A024-9A5B2356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B487-367F-4655-89C4-E57D0967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909-F5A5-4398-95E8-50068FEE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0258-EADF-45F7-81E1-B78F4FE4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85E0-7120-4953-822D-2F34BCEE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63F9-44AA-4B81-A8E9-AF60BD63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94FB-DE7A-435D-A797-3404DA04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407A-E9D2-4FFF-8E69-D7FE7600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3A3-BDDA-4429-B480-76C25DB7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5482-DF15-4A4F-8BB9-352E5845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052-49CC-4911-A6B9-18055093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549-91B6-42D1-9D34-65C166A8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B44D-7F61-49F2-BA99-650EAFB2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682-26B6-4DFF-B611-D8F27BE7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BB1-659D-4335-87C1-B629D2F2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4F76-4B66-4AB7-880A-F8DDC2344249}" type="slidenum"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1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5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8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24B6-2251-4ADC-901E-263F65DA1F0F}" type="slidenum"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CLIC.WAV"/><Relationship Id="rId3" Type="http://schemas.openxmlformats.org/officeDocument/2006/relationships/audio" Target="../media/LATIGO.WAV"/><Relationship Id="rId4" Type="http://schemas.openxmlformats.org/officeDocument/2006/relationships/audio" Target="../media/CLIC.WAV"/><Relationship Id="rId5" Type="http://schemas.openxmlformats.org/officeDocument/2006/relationships/audio" Target="../media/LATIGO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42920" y="1989000"/>
            <a:ext cx="684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Evaluación  Multicrite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plicaciones al ámbito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5157720"/>
            <a:ext cx="63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ara Arancibia             Eduardo Cont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40" y="33336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08360" y="580536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v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86AC-2E4A-4F4F-AE91-C47D25B469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048120" y="685800"/>
            <a:ext cx="1377720" cy="398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1523880"/>
            <a:ext cx="137808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9c6e5"/>
                </a:solidFill>
                <a:latin typeface="Tahoma"/>
              </a:rPr>
              <a:t>A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9880" y="1600200"/>
            <a:ext cx="137808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9c6e5"/>
                </a:solidFill>
                <a:latin typeface="Tahom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1600200"/>
            <a:ext cx="137952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9c6e5"/>
                </a:solidFill>
                <a:latin typeface="Tahoma"/>
              </a:rPr>
              <a:t>E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30" idx="2"/>
            <a:endCxn id="331" idx="0"/>
          </p:cNvCxnSpPr>
          <p:nvPr/>
        </p:nvCxnSpPr>
        <p:spPr>
          <a:xfrm flipH="1">
            <a:off x="1983960" y="1091880"/>
            <a:ext cx="1753200" cy="432360"/>
          </a:xfrm>
          <a:prstGeom prst="straightConnector1">
            <a:avLst/>
          </a:prstGeom>
          <a:ln w="19080">
            <a:solidFill>
              <a:srgbClr val="000099"/>
            </a:solidFill>
            <a:miter/>
          </a:ln>
        </p:spPr>
      </p:cxnSp>
      <p:cxnSp>
        <p:nvCxnSpPr>
          <p:cNvPr id="335" name=""/>
          <p:cNvCxnSpPr>
            <a:stCxn id="330" idx="2"/>
            <a:endCxn id="332" idx="0"/>
          </p:cNvCxnSpPr>
          <p:nvPr/>
        </p:nvCxnSpPr>
        <p:spPr>
          <a:xfrm>
            <a:off x="3736440" y="1091880"/>
            <a:ext cx="762840" cy="508680"/>
          </a:xfrm>
          <a:prstGeom prst="straightConnector1">
            <a:avLst/>
          </a:prstGeom>
          <a:ln w="19080">
            <a:solidFill>
              <a:srgbClr val="000099"/>
            </a:solidFill>
            <a:miter/>
          </a:ln>
        </p:spPr>
      </p:cxnSp>
      <p:cxnSp>
        <p:nvCxnSpPr>
          <p:cNvPr id="336" name=""/>
          <p:cNvCxnSpPr>
            <a:stCxn id="330" idx="2"/>
            <a:endCxn id="333" idx="0"/>
          </p:cNvCxnSpPr>
          <p:nvPr/>
        </p:nvCxnSpPr>
        <p:spPr>
          <a:xfrm>
            <a:off x="3736440" y="1091880"/>
            <a:ext cx="2669400" cy="508680"/>
          </a:xfrm>
          <a:prstGeom prst="straightConnector1">
            <a:avLst/>
          </a:prstGeom>
          <a:ln w="19080">
            <a:solidFill>
              <a:srgbClr val="000099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304920" y="2362320"/>
            <a:ext cx="1066680" cy="520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Contexto natu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3124080"/>
            <a:ext cx="99036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Fau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5181480"/>
            <a:ext cx="1316160" cy="6080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05320" y="5181480"/>
            <a:ext cx="1314360" cy="6080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81480" y="5105520"/>
            <a:ext cx="1314720" cy="6080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5791320"/>
            <a:ext cx="16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99"/>
                </a:solidFill>
                <a:latin typeface="Tahoma"/>
              </a:rPr>
              <a:t>Alter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70560" y="41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304920"/>
            <a:ext cx="4190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Priorización de la cartera de proyectos de inversión, maximizando el bienestar social y ambiental, considerando además  el    potenciamiento económico de la z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23880" y="2362320"/>
            <a:ext cx="1067040" cy="520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Contexto Antróp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2362320"/>
            <a:ext cx="121896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Aporte áreas más po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91120" y="2362320"/>
            <a:ext cx="137160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Cantidad de benefici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2362320"/>
            <a:ext cx="99072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tur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0" y="2362320"/>
            <a:ext cx="91440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S Fore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24680" y="2362320"/>
            <a:ext cx="106704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otras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066680" y="198108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2480" y="2057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733920" y="21337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172200" y="2057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05120" y="2209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2133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3505320"/>
            <a:ext cx="99036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3886200"/>
            <a:ext cx="99036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4343400"/>
            <a:ext cx="99036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Veget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47640" y="3573360"/>
            <a:ext cx="99072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ais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124080"/>
            <a:ext cx="99072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Esp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19520" y="3124080"/>
            <a:ext cx="99036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Conc pob Comu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19520" y="3809880"/>
            <a:ext cx="99036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Conc pob Re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267080" y="3124080"/>
            <a:ext cx="99072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Benef dir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3809880"/>
            <a:ext cx="99072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Benef indir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80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05720" y="20574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205740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A96D-4D16-4CD2-9BAE-E3AEA3EA28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11280" y="148428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álculo de la prioridad se realiza en función de comparaciones a pares con respecto a un criteri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4360" y="3141720"/>
            <a:ext cx="784836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comparar los elementos se forma una matriz de comparaciones a pares; Representa el entendimiento, información, y nivel de comprensión del equipo de trabajo sobre la materia tr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regunta: ¿Cuánto supera este elemento (o actividad) al elemento con el cual se está comparando- en la medida en que posee la propiedad, contribuye a ella, la domina, influye sobre ella, la satisface, o la benefi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"/>
          <p:cNvCxnSpPr/>
          <p:nvPr/>
        </p:nvCxnSpPr>
        <p:spPr>
          <a:xfrm>
            <a:off x="4355640" y="2349000"/>
            <a:ext cx="1080" cy="839160"/>
          </a:xfrm>
          <a:prstGeom prst="straightConnector1">
            <a:avLst/>
          </a:prstGeom>
          <a:ln w="15228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761760" y="333360"/>
            <a:ext cx="754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egundo principi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rincipio de establecimiento de prior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5029-E213-409E-AF66-F041EDD4B04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858000" cy="44658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612800" y="3049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cala para comparaciones a P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128736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cala de Saa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ABC3-6DF6-40BD-B8A0-A4E77AA41D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756440" y="2286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50960" y="719280"/>
            <a:ext cx="53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mportancia relativa de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48880" y="1752480"/>
            <a:ext cx="91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47480" y="129528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  Social  Ec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57400" y="1219320"/>
            <a:ext cx="0" cy="1676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1676520"/>
            <a:ext cx="4038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51240" y="1801800"/>
            <a:ext cx="289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       1/2       1/4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2           1       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2           1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55760" y="376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14400" y="3657600"/>
            <a:ext cx="664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Una vez completada la Matriz el problema se transforma en un problema de Vectores y Valore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*w=</a:t>
            </a:r>
            <a:r>
              <a:rPr b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*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14400" y="4937040"/>
            <a:ext cx="754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A=Matriz recíproca de comparaciones a pares (Juicios de importancia/ preferencia de un criterio sobre ot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w= Vector propio que representa el ranking u orden de prio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=Máximo valor propio que representa una medida de la consistencia de los ju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1828800"/>
            <a:ext cx="1143000" cy="45720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94240" y="1600200"/>
            <a:ext cx="96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5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C2DE-4390-4E65-A961-9B7A305584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203480" y="1487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83808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nderadores para los subcriterios en el potenciamient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67080" y="2209680"/>
            <a:ext cx="4496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criterio Potenciamiento económico establece el aporte del proyecto a la generación, expansión, aumento, mejor calidad y en general, a potenciar las actividades de la zo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65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16800" y="391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.T   P. S F   P. O 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4267080"/>
            <a:ext cx="3276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19320" y="434340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1         1        1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1         1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1         1        1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962520"/>
            <a:ext cx="0" cy="16002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7440" y="38084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434340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.T   P. S F   P.O 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95280" y="2286000"/>
            <a:ext cx="175284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9c6e5"/>
                </a:solidFill>
                <a:latin typeface="Tahoma"/>
              </a:rPr>
              <a:t>Econó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920" y="2971800"/>
            <a:ext cx="99036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tur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971800"/>
            <a:ext cx="91440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S Fore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2971800"/>
            <a:ext cx="106704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otras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066680" y="266652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057400" y="2666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2057040" y="266652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09880" y="4495680"/>
            <a:ext cx="838440" cy="228600"/>
          </a:xfrm>
          <a:custGeom>
            <a:avLst/>
            <a:gdLst>
              <a:gd name="textAreaLeft" fmla="*/ 146520 w 838440"/>
              <a:gd name="textAreaRight" fmla="*/ 608040 w 83844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46320" y="4114800"/>
            <a:ext cx="9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FB8-3A80-480A-99BE-9A5E1E74DA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685800" y="14479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nsistencia tiene relación con el grado de dispersión de los juicios del act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uicios consistentes imponen 2 propiedades en forma simultán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2120" y="367668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) Transitividad de las preferencias: Si C1  es mejor que C2 y C2 es mejor que C3 entonces se espera que C1 sea mejor que C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) Proporcionalidad  de las preferencias: Si C1 es 3 veces mejor que C2 y C2 es 2 veces mejor que C3 entonces se espera que C1 sea 6 veces mejor que C3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05120" y="2286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/>
          <p:nvPr/>
        </p:nvCxnSpPr>
        <p:spPr>
          <a:xfrm>
            <a:off x="4571640" y="2971440"/>
            <a:ext cx="1080" cy="762840"/>
          </a:xfrm>
          <a:prstGeom prst="straightConnector1">
            <a:avLst/>
          </a:prstGeom>
          <a:ln w="1522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4" name=""/>
          <p:cNvSpPr/>
          <p:nvPr/>
        </p:nvSpPr>
        <p:spPr>
          <a:xfrm>
            <a:off x="1600200" y="304920"/>
            <a:ext cx="672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rcer principio: Consistencia 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6F9-E53A-4CCE-A54B-09EA4BC451D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631520" y="228600"/>
            <a:ext cx="636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sideremos la matriz norma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84760" y="2022480"/>
            <a:ext cx="1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35080" y="2209680"/>
            <a:ext cx="91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76480" y="167652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  Social  Ec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057400"/>
            <a:ext cx="3200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1905120"/>
            <a:ext cx="1440" cy="1600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13200" y="3246480"/>
            <a:ext cx="23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atriz normali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907960" y="2133720"/>
            <a:ext cx="301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/7       1/7      1/7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2/7       2/7      2/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4/7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4/7      4/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508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1680" y="2209680"/>
            <a:ext cx="91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38000" y="175248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  Social  Ec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2133720"/>
            <a:ext cx="3429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47920" y="1828800"/>
            <a:ext cx="0" cy="1600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286000"/>
            <a:ext cx="2743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       1/2       1/4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2           1       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2           1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7         3,5       1,75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14800" y="3886200"/>
            <a:ext cx="443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odas las columnas en la matriz normalizada resultaron ser iguales porque la matriz de comparaciones a pares  era consistente. Es decir Amb=1/2 Social, Amb=1/4 E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demos deduci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ocial=1/2 E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380880" y="4038480"/>
                <a:ext cx="3429000" cy="212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/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/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143</m:t>
                        </m:r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/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/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286</m:t>
                        </m:r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/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/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57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B06-444F-4134-8567-C2AAB41EF6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143000" y="152388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supuesto, es necesario, cierto grado de consistencia en la fijación de prioridades para los elementos o actividades con respecto a algún criterio para obtener resultados válidos en el mundo r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AHP mide la inconsistencia global de los juicios mediante la proporción de consist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valor de esta proporción de consistencia no debe superar el 10%. Esto dependerá del tamaño de la matriz de comparación a p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E7C9-E5C6-4211-89CE-E5BF7B6D3E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895480" y="533520"/>
            <a:ext cx="35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íntesis del mét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198108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je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odelo del probl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rivación de Pesos de crite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isión de Consistencia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valuación de las alternativas por crite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eneración del Ranking de altern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álisis de Sensibilidad de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ocu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81880" y="1523880"/>
            <a:ext cx="381240" cy="405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89080" y="2133720"/>
            <a:ext cx="1882440" cy="3252960"/>
            <a:chOff x="289080" y="2133720"/>
            <a:chExt cx="1882440" cy="3252960"/>
          </a:xfrm>
        </p:grpSpPr>
        <p:sp>
          <p:nvSpPr>
            <p:cNvPr id="436" name=""/>
            <p:cNvSpPr/>
            <p:nvPr/>
          </p:nvSpPr>
          <p:spPr>
            <a:xfrm rot="20746800">
              <a:off x="458280" y="3878280"/>
              <a:ext cx="609480" cy="145584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261000 h 1455840"/>
                <a:gd name="textAreaBottom" fmla="*/ 1072080 h 145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753" stAng="-5400000" swAng="-5400000"/>
                  <a:lnTo>
                    <a:pt x="0" y="12030"/>
                  </a:lnTo>
                  <a:arcTo wR="21600" hR="7753" stAng="10800000" swAng="-2395670"/>
                  <a:lnTo>
                    <a:pt x="13087" y="20973"/>
                  </a:lnTo>
                  <a:lnTo>
                    <a:pt x="21600" y="17644"/>
                  </a:lnTo>
                  <a:lnTo>
                    <a:pt x="13087" y="13060"/>
                  </a:lnTo>
                  <a:lnTo>
                    <a:pt x="13087" y="14878"/>
                  </a:lnTo>
                  <a:arcTo wR="21600" hR="7753" stAng="8404330" swAng="2042824"/>
                  <a:lnTo>
                    <a:pt x="838" y="9891"/>
                  </a:lnTo>
                  <a:arcTo wR="21600" hR="7753" stAng="-10447153" swAng="5047153"/>
                  <a:close/>
                </a:path>
                <a:path fill="darkenLess" w="21600" h="21600">
                  <a:moveTo>
                    <a:pt x="21600" y="0"/>
                  </a:moveTo>
                  <a:arcTo wR="21600" hR="7753" stAng="-5400000" swAng="-5400000"/>
                  <a:lnTo>
                    <a:pt x="0" y="7753"/>
                  </a:lnTo>
                  <a:arcTo wR="21600" hR="7753" stAng="10800000" swAng="-352847"/>
                  <a:lnTo>
                    <a:pt x="838" y="9891"/>
                  </a:lnTo>
                  <a:arcTo wR="21600" hR="7753" stAng="-10447153" swAng="5047153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91800" y="2133720"/>
              <a:ext cx="117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Análi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5840" y="3353040"/>
              <a:ext cx="11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Sínte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59400">
              <a:off x="380520" y="2202120"/>
              <a:ext cx="609480" cy="145548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261000 h 1455480"/>
                <a:gd name="textAreaBottom" fmla="*/ 1071720 h 145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753" stAng="-5400000" swAng="-5400000"/>
                  <a:lnTo>
                    <a:pt x="0" y="12030"/>
                  </a:lnTo>
                  <a:arcTo wR="21600" hR="7753" stAng="10800000" swAng="-2395670"/>
                  <a:lnTo>
                    <a:pt x="13087" y="20973"/>
                  </a:lnTo>
                  <a:lnTo>
                    <a:pt x="21600" y="17644"/>
                  </a:lnTo>
                  <a:lnTo>
                    <a:pt x="13087" y="13060"/>
                  </a:lnTo>
                  <a:lnTo>
                    <a:pt x="13087" y="14878"/>
                  </a:lnTo>
                  <a:arcTo wR="21600" hR="7753" stAng="8404330" swAng="2042824"/>
                  <a:lnTo>
                    <a:pt x="838" y="9891"/>
                  </a:lnTo>
                  <a:arcTo wR="21600" hR="7753" stAng="-10447153" swAng="5047153"/>
                  <a:close/>
                </a:path>
                <a:path fill="darkenLess" w="21600" h="21600">
                  <a:moveTo>
                    <a:pt x="21600" y="0"/>
                  </a:moveTo>
                  <a:arcTo wR="21600" hR="7753" stAng="-5400000" swAng="-5400000"/>
                  <a:lnTo>
                    <a:pt x="0" y="7753"/>
                  </a:lnTo>
                  <a:arcTo wR="21600" hR="7753" stAng="10800000" swAng="-352847"/>
                  <a:lnTo>
                    <a:pt x="838" y="9891"/>
                  </a:lnTo>
                  <a:arcTo wR="21600" hR="7753" stAng="-10447153" swAng="5047153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B097-2042-41B0-A16C-B9C429BA4E2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2034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1752480"/>
            <a:ext cx="3962160" cy="914400"/>
          </a:xfrm>
          <a:prstGeom prst="rightArrowCallout">
            <a:avLst>
              <a:gd name="adj1" fmla="val 25002"/>
              <a:gd name="adj2" fmla="val 25000"/>
              <a:gd name="adj3" fmla="val 72218"/>
              <a:gd name="adj4" fmla="val 6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Enfoque de valore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vectore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84720" y="19033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cala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2971800"/>
            <a:ext cx="3962160" cy="990720"/>
          </a:xfrm>
          <a:prstGeom prst="rightArrowCallout">
            <a:avLst>
              <a:gd name="adj1" fmla="val 25002"/>
              <a:gd name="adj2" fmla="val 25000"/>
              <a:gd name="adj3" fmla="val 66655"/>
              <a:gd name="adj4" fmla="val 6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Medida de consis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05520" y="281952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dentificar errores en la expresión de los ju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4495680"/>
            <a:ext cx="4343400" cy="914400"/>
          </a:xfrm>
          <a:prstGeom prst="rightArrowCallout">
            <a:avLst>
              <a:gd name="adj1" fmla="val 25002"/>
              <a:gd name="adj2" fmla="val 25000"/>
              <a:gd name="adj3" fmla="val 79167"/>
              <a:gd name="adj4" fmla="val 6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Participación de disti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profes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1480" y="426708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canzar un consenso entre varios juicios que representan experiencias diver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30360" y="838080"/>
            <a:ext cx="5354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sideraciones sobre el A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6415-B50F-4B24-9401-C8BBAE0389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66840" y="33336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Un problema Típico de Toma de Dec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9520" y="1066680"/>
            <a:ext cx="412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Supongamos el siguiente ca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8954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El proyecto A será el escogido, puesto que presenta un mayor beneficio n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0080" y="3581280"/>
            <a:ext cx="5470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Si agregamos una dimensión al probl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73240" y="5486400"/>
            <a:ext cx="679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Ya no es tan claro que el proyecto A sea el escogido, debido a la cantidad de beneficiarios que involucra el proyecto B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1600200"/>
            <a:ext cx="32767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66880" y="1676520"/>
          <a:ext cx="2913120" cy="1004760"/>
        </p:xfrm>
        <a:graphic>
          <a:graphicData uri="http://schemas.openxmlformats.org/drawingml/2006/table">
            <a:tbl>
              <a:tblPr/>
              <a:tblGrid>
                <a:gridCol w="952560"/>
                <a:gridCol w="196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ye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ficio Neto Mill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676520" y="4038480"/>
            <a:ext cx="533376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81080" y="4191120"/>
          <a:ext cx="4873680" cy="1004760"/>
        </p:xfrm>
        <a:graphic>
          <a:graphicData uri="http://schemas.openxmlformats.org/drawingml/2006/table">
            <a:tbl>
              <a:tblPr/>
              <a:tblGrid>
                <a:gridCol w="952560"/>
                <a:gridCol w="1960560"/>
                <a:gridCol w="196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ye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ficio Neto Mill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fici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E411-EB16-4A95-85CE-E2C81E1B9D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523880" y="3049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entajas de la Metodol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1600200"/>
            <a:ext cx="86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 metodología es una herramienta de apoyo a la toma de decisiones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perm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finir el problema que se desea resol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dentificar los criterios discriminantes en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bajar con un equipo multidisciplin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ructurar los criterios y subcriterios en una jerarqu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terminar la importancia de cada criterio en términos de ponderadores y sintetizar toda esta información para tomar la mejor dec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legar a un resultado en consen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301B-A6EC-4210-87C8-00C153017C4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558160" y="2708280"/>
            <a:ext cx="39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s y apl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3960-FFE2-4004-B320-3505766A23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231920" y="1154160"/>
            <a:ext cx="6680160" cy="52992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251460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lección de proyectos en concurso Fonde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25A-38D6-41CA-828C-1A4B6AB32A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766880" y="1525680"/>
            <a:ext cx="5610240" cy="38066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3622680" y="2058840"/>
            <a:ext cx="2244600" cy="36021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2119680" y="5695920"/>
            <a:ext cx="27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1.00 x 1.00 x 0.33 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>
            <a:hlinkClick r:id="rId3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4720" y="83196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trices de compa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B342-D03C-46BF-989A-9CB3624E1B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254240" y="1096920"/>
            <a:ext cx="6635520" cy="550080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rId2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702-FEB8-4EC7-9802-B7D8F60DB9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>
            <a:hlinkClick r:id="rId1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rcRect l="1937" t="9071" r="14929" b="17071"/>
          <a:stretch/>
        </p:blipFill>
        <p:spPr>
          <a:xfrm>
            <a:off x="1876320" y="1868400"/>
            <a:ext cx="5575320" cy="372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7E6-75D7-4828-BB3B-4FA7E767BB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95280" y="2017800"/>
            <a:ext cx="8353440" cy="4075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908000" y="30492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lección de proyectos de Reescolarización para  el Mined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EA76-3117-46D3-9255-320D17C937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971640" y="2028960"/>
            <a:ext cx="7416720" cy="3632040"/>
          </a:xfrm>
          <a:prstGeom prst="rect">
            <a:avLst/>
          </a:prstGeom>
          <a:ln w="0">
            <a:noFill/>
          </a:ln>
        </p:spPr>
      </p:pic>
      <p:sp>
        <p:nvSpPr>
          <p:cNvPr id="465" name="">
            <a:hlinkClick r:id="rId2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BFD3-96A1-417D-8F0F-A0BB3E5C25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>
            <a:hlinkClick r:id="rId1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179280" y="1751040"/>
            <a:ext cx="6408720" cy="44146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4067280" y="981000"/>
            <a:ext cx="6697440" cy="554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033-79F5-4E7F-854A-2B8EE9564F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56680" y="2273760"/>
            <a:ext cx="8484840" cy="34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292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roblema: “Carencia de Exposiciones de Obras Teatr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Descripción de 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lternativa 1: “Construcción de sala de Teatro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lternativa 2: “Carpa Itineran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lternativa 3: “Bus Teatr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Indicador: Costo / Benef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403280" y="765000"/>
            <a:ext cx="62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lección de alternativas para un proyecto de Arte y 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4ED-F6E7-4BED-9FC2-6555244E7C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73720" y="609480"/>
            <a:ext cx="56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l agregarle más dimensiones al probl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3505320"/>
            <a:ext cx="7178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Cuál es  ahora el proyecto más adecu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Cómo determinamos la importancia de estos factores, y sintetizamos luego toda esta información para tomar la mejor decisió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8640" y="5516640"/>
            <a:ext cx="712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ff"/>
                </a:solidFill>
                <a:latin typeface="Arial"/>
              </a:rPr>
              <a:t>Este es un típico problema de la toma de decis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371600"/>
            <a:ext cx="769608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90720" y="1676520"/>
          <a:ext cx="6834240" cy="1103040"/>
        </p:xfrm>
        <a:graphic>
          <a:graphicData uri="http://schemas.openxmlformats.org/drawingml/2006/table">
            <a:tbl>
              <a:tblPr/>
              <a:tblGrid>
                <a:gridCol w="952560"/>
                <a:gridCol w="1960560"/>
                <a:gridCol w="1960560"/>
                <a:gridCol w="196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ye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ficio Neto Mill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fici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acto 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BF2-F369-4C89-8A3E-0EA058EBD7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619280" y="765000"/>
            <a:ext cx="66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lección de alternativas para un proyecto de Arte y 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684360" y="2281320"/>
            <a:ext cx="8064360" cy="337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5F31-7A7A-44E0-AAAE-F562ED8EF2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590840" y="0"/>
            <a:ext cx="5960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318-77EE-42F0-8F6C-6BA521235F3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544760" y="2925720"/>
            <a:ext cx="6053040" cy="1871640"/>
          </a:xfrm>
          <a:prstGeom prst="rect">
            <a:avLst/>
          </a:prstGeom>
          <a:ln w="0">
            <a:noFill/>
          </a:ln>
        </p:spPr>
      </p:pic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2800440" y="115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1533600" y="5016600"/>
            <a:ext cx="6075360" cy="136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1535040" y="873000"/>
          <a:ext cx="6073920" cy="1763640"/>
        </p:xfrm>
        <a:graphic>
          <a:graphicData uri="http://schemas.openxmlformats.org/drawingml/2006/table">
            <a:tbl>
              <a:tblPr/>
              <a:tblGrid>
                <a:gridCol w="1009800"/>
                <a:gridCol w="809640"/>
                <a:gridCol w="809640"/>
                <a:gridCol w="1284120"/>
                <a:gridCol w="900000"/>
                <a:gridCol w="126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ult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Organiz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806560"/>
                          <a:tab algn="r" pos="56116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OR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rnativa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7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1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rnativa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8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3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rnativa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4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0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.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CC0F-CB19-4C00-B560-4105EBD7CE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>
            <a:hlinkClick r:id="rId1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8642160" cy="15843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1332000" y="1197000"/>
            <a:ext cx="6480000" cy="20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31F-FA68-4469-9426-E8A92FCA80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758520" y="549360"/>
            <a:ext cx="76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eoría de evaluación multicriterio. Apl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5280" y="1341360"/>
            <a:ext cx="845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dentificación de ideas: para hacer ranking de ideas y descartar las malas antes de cualquier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analizar alternativas de un mismo proyecto en estudios de preinver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programas: permite agregar resultados del marco lógico en un solo indic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licitaciones de estu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licitaciones de proyectos, en algunos casos para agregar indicadores de desempeño (control de gest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cálculo de índices (ejemplo: calidad de vi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todos los ejemplos anteriores se necesita agregar varios criterios para llegar a un solo indicador que permita tomar la dec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787-6C56-492B-9761-525DB1331A3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759960" y="809640"/>
            <a:ext cx="76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eoría de evaluación multicriterio. Apl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4360" y="1706400"/>
            <a:ext cx="777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priorizar proyectos ya evaluados y recomendados: apoyo a los gobiernos regionales y municipios en el proceso de prior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seleccionar en forma consensuada proyectos y programas que postulan a fondos concurs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4360" y="4005360"/>
            <a:ext cx="770868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 todos los ejemplos anteriores se necesita agreg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rios criterios para llegar a un solo indicad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que permita tomar la deci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E1E4-7644-448F-B537-B36544EF3B7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417080" cy="10587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7417080" cy="32796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900000" y="4710240"/>
            <a:ext cx="7417080" cy="21477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124000" y="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NE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D1D-95AB-4E45-8BF5-91C70E943BB9}" type="slidenum">
              <a:t>3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487440" y="1542960"/>
            <a:ext cx="8601120" cy="4203360"/>
            <a:chOff x="487440" y="1542960"/>
            <a:chExt cx="8601120" cy="4203360"/>
          </a:xfrm>
        </p:grpSpPr>
        <p:grpSp>
          <p:nvGrpSpPr>
            <p:cNvPr id="136" name=""/>
            <p:cNvGrpSpPr/>
            <p:nvPr/>
          </p:nvGrpSpPr>
          <p:grpSpPr>
            <a:xfrm>
              <a:off x="487440" y="1542960"/>
              <a:ext cx="1228680" cy="1004760"/>
              <a:chOff x="487440" y="1542960"/>
              <a:chExt cx="1228680" cy="1004760"/>
            </a:xfrm>
          </p:grpSpPr>
          <p:sp>
            <p:nvSpPr>
              <p:cNvPr id="137" name=""/>
              <p:cNvSpPr/>
              <p:nvPr/>
            </p:nvSpPr>
            <p:spPr>
              <a:xfrm>
                <a:off x="531720" y="1542960"/>
                <a:ext cx="114012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ernativa</a:t>
                </a:r>
                <a:r>
                  <a:rPr b="1" lang="es-MX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44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1716120" y="1542960"/>
              <a:ext cx="1228680" cy="1004760"/>
              <a:chOff x="1716120" y="1542960"/>
              <a:chExt cx="1228680" cy="1004760"/>
            </a:xfrm>
          </p:grpSpPr>
          <p:sp>
            <p:nvSpPr>
              <p:cNvPr id="140" name=""/>
              <p:cNvSpPr/>
              <p:nvPr/>
            </p:nvSpPr>
            <p:spPr>
              <a:xfrm>
                <a:off x="176076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Número de beneficiad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1612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944800" y="1542960"/>
              <a:ext cx="1228680" cy="1004760"/>
              <a:chOff x="2944800" y="1542960"/>
              <a:chExt cx="1228680" cy="1004760"/>
            </a:xfrm>
          </p:grpSpPr>
          <p:sp>
            <p:nvSpPr>
              <p:cNvPr id="143" name=""/>
              <p:cNvSpPr/>
              <p:nvPr/>
            </p:nvSpPr>
            <p:spPr>
              <a:xfrm>
                <a:off x="298944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Monto de inver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94480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173480" y="1542960"/>
              <a:ext cx="1229040" cy="1004760"/>
              <a:chOff x="4173480" y="1542960"/>
              <a:chExt cx="1229040" cy="1004760"/>
            </a:xfrm>
          </p:grpSpPr>
          <p:sp>
            <p:nvSpPr>
              <p:cNvPr id="146" name=""/>
              <p:cNvSpPr/>
              <p:nvPr/>
            </p:nvSpPr>
            <p:spPr>
              <a:xfrm>
                <a:off x="421812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Disponibilidad de recurs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173480" y="1542960"/>
                <a:ext cx="122904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402520" y="1542960"/>
              <a:ext cx="1228680" cy="1004760"/>
              <a:chOff x="5402520" y="1542960"/>
              <a:chExt cx="1228680" cy="1004760"/>
            </a:xfrm>
          </p:grpSpPr>
          <p:sp>
            <p:nvSpPr>
              <p:cNvPr id="149" name=""/>
              <p:cNvSpPr/>
              <p:nvPr/>
            </p:nvSpPr>
            <p:spPr>
              <a:xfrm>
                <a:off x="544680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.......................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40252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631200" y="1542960"/>
              <a:ext cx="1228680" cy="1004760"/>
              <a:chOff x="6631200" y="1542960"/>
              <a:chExt cx="1228680" cy="1004760"/>
            </a:xfrm>
          </p:grpSpPr>
          <p:sp>
            <p:nvSpPr>
              <p:cNvPr id="152" name=""/>
              <p:cNvSpPr/>
              <p:nvPr/>
            </p:nvSpPr>
            <p:spPr>
              <a:xfrm>
                <a:off x="667548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Porcentaje de Subsi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63120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7859880" y="1542960"/>
              <a:ext cx="1228680" cy="1004760"/>
              <a:chOff x="7859880" y="1542960"/>
              <a:chExt cx="1228680" cy="1004760"/>
            </a:xfrm>
          </p:grpSpPr>
          <p:sp>
            <p:nvSpPr>
              <p:cNvPr id="155" name=""/>
              <p:cNvSpPr/>
              <p:nvPr/>
            </p:nvSpPr>
            <p:spPr>
              <a:xfrm>
                <a:off x="790416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Impac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mbient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85988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87440" y="2547720"/>
              <a:ext cx="1228680" cy="639720"/>
              <a:chOff x="487440" y="2547720"/>
              <a:chExt cx="1228680" cy="639720"/>
            </a:xfrm>
          </p:grpSpPr>
          <p:sp>
            <p:nvSpPr>
              <p:cNvPr id="158" name=""/>
              <p:cNvSpPr/>
              <p:nvPr/>
            </p:nvSpPr>
            <p:spPr>
              <a:xfrm>
                <a:off x="531720" y="2547720"/>
                <a:ext cx="11401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 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744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1716120" y="2547720"/>
              <a:ext cx="1228680" cy="639720"/>
              <a:chOff x="1716120" y="2547720"/>
              <a:chExt cx="1228680" cy="639720"/>
            </a:xfrm>
          </p:grpSpPr>
          <p:sp>
            <p:nvSpPr>
              <p:cNvPr id="161" name=""/>
              <p:cNvSpPr/>
              <p:nvPr/>
            </p:nvSpPr>
            <p:spPr>
              <a:xfrm>
                <a:off x="176076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1612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944800" y="2547720"/>
              <a:ext cx="1228680" cy="639720"/>
              <a:chOff x="2944800" y="2547720"/>
              <a:chExt cx="1228680" cy="639720"/>
            </a:xfrm>
          </p:grpSpPr>
          <p:sp>
            <p:nvSpPr>
              <p:cNvPr id="164" name=""/>
              <p:cNvSpPr/>
              <p:nvPr/>
            </p:nvSpPr>
            <p:spPr>
              <a:xfrm>
                <a:off x="298944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4480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4173480" y="2547720"/>
              <a:ext cx="1229040" cy="639720"/>
              <a:chOff x="4173480" y="2547720"/>
              <a:chExt cx="1229040" cy="639720"/>
            </a:xfrm>
          </p:grpSpPr>
          <p:sp>
            <p:nvSpPr>
              <p:cNvPr id="167" name=""/>
              <p:cNvSpPr/>
              <p:nvPr/>
            </p:nvSpPr>
            <p:spPr>
              <a:xfrm>
                <a:off x="421812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173480" y="2547720"/>
                <a:ext cx="122904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5402520" y="2547720"/>
              <a:ext cx="1228680" cy="639720"/>
              <a:chOff x="5402520" y="2547720"/>
              <a:chExt cx="1228680" cy="639720"/>
            </a:xfrm>
          </p:grpSpPr>
          <p:sp>
            <p:nvSpPr>
              <p:cNvPr id="170" name=""/>
              <p:cNvSpPr/>
              <p:nvPr/>
            </p:nvSpPr>
            <p:spPr>
              <a:xfrm>
                <a:off x="544680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40252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6631200" y="2547720"/>
              <a:ext cx="1228680" cy="639720"/>
              <a:chOff x="6631200" y="2547720"/>
              <a:chExt cx="1228680" cy="639720"/>
            </a:xfrm>
          </p:grpSpPr>
          <p:sp>
            <p:nvSpPr>
              <p:cNvPr id="173" name=""/>
              <p:cNvSpPr/>
              <p:nvPr/>
            </p:nvSpPr>
            <p:spPr>
              <a:xfrm>
                <a:off x="667548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63120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7859880" y="2547720"/>
              <a:ext cx="1228680" cy="639720"/>
              <a:chOff x="7859880" y="2547720"/>
              <a:chExt cx="1228680" cy="639720"/>
            </a:xfrm>
          </p:grpSpPr>
          <p:sp>
            <p:nvSpPr>
              <p:cNvPr id="176" name=""/>
              <p:cNvSpPr/>
              <p:nvPr/>
            </p:nvSpPr>
            <p:spPr>
              <a:xfrm>
                <a:off x="790416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85988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87440" y="3187440"/>
              <a:ext cx="1228680" cy="639720"/>
              <a:chOff x="487440" y="3187440"/>
              <a:chExt cx="1228680" cy="639720"/>
            </a:xfrm>
          </p:grpSpPr>
          <p:sp>
            <p:nvSpPr>
              <p:cNvPr id="179" name=""/>
              <p:cNvSpPr/>
              <p:nvPr/>
            </p:nvSpPr>
            <p:spPr>
              <a:xfrm>
                <a:off x="531720" y="3187440"/>
                <a:ext cx="11401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744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1716120" y="3187440"/>
              <a:ext cx="1228680" cy="639720"/>
              <a:chOff x="1716120" y="3187440"/>
              <a:chExt cx="1228680" cy="639720"/>
            </a:xfrm>
          </p:grpSpPr>
          <p:sp>
            <p:nvSpPr>
              <p:cNvPr id="182" name=""/>
              <p:cNvSpPr/>
              <p:nvPr/>
            </p:nvSpPr>
            <p:spPr>
              <a:xfrm>
                <a:off x="176076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71612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944800" y="3187440"/>
              <a:ext cx="1228680" cy="639720"/>
              <a:chOff x="2944800" y="3187440"/>
              <a:chExt cx="1228680" cy="639720"/>
            </a:xfrm>
          </p:grpSpPr>
          <p:sp>
            <p:nvSpPr>
              <p:cNvPr id="185" name=""/>
              <p:cNvSpPr/>
              <p:nvPr/>
            </p:nvSpPr>
            <p:spPr>
              <a:xfrm>
                <a:off x="298944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94480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73480" y="3187440"/>
              <a:ext cx="1229040" cy="639720"/>
              <a:chOff x="4173480" y="3187440"/>
              <a:chExt cx="1229040" cy="639720"/>
            </a:xfrm>
          </p:grpSpPr>
          <p:sp>
            <p:nvSpPr>
              <p:cNvPr id="188" name=""/>
              <p:cNvSpPr/>
              <p:nvPr/>
            </p:nvSpPr>
            <p:spPr>
              <a:xfrm>
                <a:off x="421812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73480" y="3187440"/>
                <a:ext cx="122904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402520" y="3187440"/>
              <a:ext cx="1228680" cy="639720"/>
              <a:chOff x="5402520" y="3187440"/>
              <a:chExt cx="1228680" cy="639720"/>
            </a:xfrm>
          </p:grpSpPr>
          <p:sp>
            <p:nvSpPr>
              <p:cNvPr id="191" name=""/>
              <p:cNvSpPr/>
              <p:nvPr/>
            </p:nvSpPr>
            <p:spPr>
              <a:xfrm>
                <a:off x="544680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0252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631200" y="3187440"/>
              <a:ext cx="1228680" cy="639720"/>
              <a:chOff x="6631200" y="3187440"/>
              <a:chExt cx="1228680" cy="639720"/>
            </a:xfrm>
          </p:grpSpPr>
          <p:sp>
            <p:nvSpPr>
              <p:cNvPr id="194" name=""/>
              <p:cNvSpPr/>
              <p:nvPr/>
            </p:nvSpPr>
            <p:spPr>
              <a:xfrm>
                <a:off x="667548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63120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7859880" y="3187440"/>
              <a:ext cx="1228680" cy="639720"/>
              <a:chOff x="7859880" y="3187440"/>
              <a:chExt cx="1228680" cy="639720"/>
            </a:xfrm>
          </p:grpSpPr>
          <p:sp>
            <p:nvSpPr>
              <p:cNvPr id="197" name=""/>
              <p:cNvSpPr/>
              <p:nvPr/>
            </p:nvSpPr>
            <p:spPr>
              <a:xfrm>
                <a:off x="790416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85988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487440" y="3827160"/>
              <a:ext cx="1228680" cy="639720"/>
              <a:chOff x="487440" y="3827160"/>
              <a:chExt cx="1228680" cy="639720"/>
            </a:xfrm>
          </p:grpSpPr>
          <p:sp>
            <p:nvSpPr>
              <p:cNvPr id="200" name=""/>
              <p:cNvSpPr/>
              <p:nvPr/>
            </p:nvSpPr>
            <p:spPr>
              <a:xfrm>
                <a:off x="531720" y="3827160"/>
                <a:ext cx="11401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 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744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1716120" y="3827160"/>
              <a:ext cx="1228680" cy="639720"/>
              <a:chOff x="1716120" y="3827160"/>
              <a:chExt cx="1228680" cy="639720"/>
            </a:xfrm>
          </p:grpSpPr>
          <p:sp>
            <p:nvSpPr>
              <p:cNvPr id="203" name=""/>
              <p:cNvSpPr/>
              <p:nvPr/>
            </p:nvSpPr>
            <p:spPr>
              <a:xfrm>
                <a:off x="176076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1612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2944800" y="3827160"/>
              <a:ext cx="1228680" cy="639720"/>
              <a:chOff x="2944800" y="3827160"/>
              <a:chExt cx="1228680" cy="639720"/>
            </a:xfrm>
          </p:grpSpPr>
          <p:sp>
            <p:nvSpPr>
              <p:cNvPr id="206" name=""/>
              <p:cNvSpPr/>
              <p:nvPr/>
            </p:nvSpPr>
            <p:spPr>
              <a:xfrm>
                <a:off x="298944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94480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173480" y="3827160"/>
              <a:ext cx="1229040" cy="639720"/>
              <a:chOff x="4173480" y="3827160"/>
              <a:chExt cx="1229040" cy="639720"/>
            </a:xfrm>
          </p:grpSpPr>
          <p:sp>
            <p:nvSpPr>
              <p:cNvPr id="209" name=""/>
              <p:cNvSpPr/>
              <p:nvPr/>
            </p:nvSpPr>
            <p:spPr>
              <a:xfrm>
                <a:off x="421812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173480" y="3827160"/>
                <a:ext cx="122904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5402520" y="3827160"/>
              <a:ext cx="1228680" cy="639720"/>
              <a:chOff x="5402520" y="3827160"/>
              <a:chExt cx="1228680" cy="639720"/>
            </a:xfrm>
          </p:grpSpPr>
          <p:sp>
            <p:nvSpPr>
              <p:cNvPr id="212" name=""/>
              <p:cNvSpPr/>
              <p:nvPr/>
            </p:nvSpPr>
            <p:spPr>
              <a:xfrm>
                <a:off x="544680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0252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631200" y="3827160"/>
              <a:ext cx="1228680" cy="639720"/>
              <a:chOff x="6631200" y="3827160"/>
              <a:chExt cx="1228680" cy="639720"/>
            </a:xfrm>
          </p:grpSpPr>
          <p:sp>
            <p:nvSpPr>
              <p:cNvPr id="215" name=""/>
              <p:cNvSpPr/>
              <p:nvPr/>
            </p:nvSpPr>
            <p:spPr>
              <a:xfrm>
                <a:off x="667548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63120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859880" y="3827160"/>
              <a:ext cx="1228680" cy="639720"/>
              <a:chOff x="7859880" y="3827160"/>
              <a:chExt cx="1228680" cy="639720"/>
            </a:xfrm>
          </p:grpSpPr>
          <p:sp>
            <p:nvSpPr>
              <p:cNvPr id="218" name=""/>
              <p:cNvSpPr/>
              <p:nvPr/>
            </p:nvSpPr>
            <p:spPr>
              <a:xfrm>
                <a:off x="790416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85988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87440" y="4466880"/>
              <a:ext cx="1228680" cy="639720"/>
              <a:chOff x="487440" y="4466880"/>
              <a:chExt cx="1228680" cy="639720"/>
            </a:xfrm>
          </p:grpSpPr>
          <p:sp>
            <p:nvSpPr>
              <p:cNvPr id="221" name=""/>
              <p:cNvSpPr/>
              <p:nvPr/>
            </p:nvSpPr>
            <p:spPr>
              <a:xfrm>
                <a:off x="531720" y="4466880"/>
                <a:ext cx="11401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744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1716120" y="4466880"/>
              <a:ext cx="1228680" cy="639720"/>
              <a:chOff x="1716120" y="4466880"/>
              <a:chExt cx="1228680" cy="639720"/>
            </a:xfrm>
          </p:grpSpPr>
          <p:sp>
            <p:nvSpPr>
              <p:cNvPr id="224" name=""/>
              <p:cNvSpPr/>
              <p:nvPr/>
            </p:nvSpPr>
            <p:spPr>
              <a:xfrm>
                <a:off x="176076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71612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944800" y="4466880"/>
              <a:ext cx="1228680" cy="639720"/>
              <a:chOff x="2944800" y="4466880"/>
              <a:chExt cx="1228680" cy="639720"/>
            </a:xfrm>
          </p:grpSpPr>
          <p:sp>
            <p:nvSpPr>
              <p:cNvPr id="227" name=""/>
              <p:cNvSpPr/>
              <p:nvPr/>
            </p:nvSpPr>
            <p:spPr>
              <a:xfrm>
                <a:off x="298944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94480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173480" y="4466880"/>
              <a:ext cx="1229040" cy="639720"/>
              <a:chOff x="4173480" y="4466880"/>
              <a:chExt cx="122904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421812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73480" y="4466880"/>
                <a:ext cx="122904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5402520" y="4466880"/>
              <a:ext cx="1228680" cy="639720"/>
              <a:chOff x="5402520" y="4466880"/>
              <a:chExt cx="1228680" cy="639720"/>
            </a:xfrm>
          </p:grpSpPr>
          <p:sp>
            <p:nvSpPr>
              <p:cNvPr id="233" name=""/>
              <p:cNvSpPr/>
              <p:nvPr/>
            </p:nvSpPr>
            <p:spPr>
              <a:xfrm>
                <a:off x="544680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0252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6631200" y="4466880"/>
              <a:ext cx="1228680" cy="639720"/>
              <a:chOff x="6631200" y="4466880"/>
              <a:chExt cx="1228680" cy="639720"/>
            </a:xfrm>
          </p:grpSpPr>
          <p:sp>
            <p:nvSpPr>
              <p:cNvPr id="236" name=""/>
              <p:cNvSpPr/>
              <p:nvPr/>
            </p:nvSpPr>
            <p:spPr>
              <a:xfrm>
                <a:off x="667548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63120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7859880" y="4466880"/>
              <a:ext cx="1228680" cy="639720"/>
              <a:chOff x="7859880" y="4466880"/>
              <a:chExt cx="1228680" cy="639720"/>
            </a:xfrm>
          </p:grpSpPr>
          <p:sp>
            <p:nvSpPr>
              <p:cNvPr id="239" name=""/>
              <p:cNvSpPr/>
              <p:nvPr/>
            </p:nvSpPr>
            <p:spPr>
              <a:xfrm>
                <a:off x="790416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85988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87440" y="5106600"/>
              <a:ext cx="1228680" cy="639720"/>
              <a:chOff x="487440" y="5106600"/>
              <a:chExt cx="1228680" cy="639720"/>
            </a:xfrm>
          </p:grpSpPr>
          <p:sp>
            <p:nvSpPr>
              <p:cNvPr id="242" name=""/>
              <p:cNvSpPr/>
              <p:nvPr/>
            </p:nvSpPr>
            <p:spPr>
              <a:xfrm>
                <a:off x="531720" y="5106600"/>
                <a:ext cx="11401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 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744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1716120" y="5106600"/>
              <a:ext cx="1228680" cy="639720"/>
              <a:chOff x="1716120" y="5106600"/>
              <a:chExt cx="1228680" cy="639720"/>
            </a:xfrm>
          </p:grpSpPr>
          <p:sp>
            <p:nvSpPr>
              <p:cNvPr id="245" name=""/>
              <p:cNvSpPr/>
              <p:nvPr/>
            </p:nvSpPr>
            <p:spPr>
              <a:xfrm>
                <a:off x="176076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1612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2944800" y="5106600"/>
              <a:ext cx="1228680" cy="639720"/>
              <a:chOff x="2944800" y="5106600"/>
              <a:chExt cx="1228680" cy="639720"/>
            </a:xfrm>
          </p:grpSpPr>
          <p:sp>
            <p:nvSpPr>
              <p:cNvPr id="248" name=""/>
              <p:cNvSpPr/>
              <p:nvPr/>
            </p:nvSpPr>
            <p:spPr>
              <a:xfrm>
                <a:off x="298944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94480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173480" y="5106600"/>
              <a:ext cx="1229040" cy="639720"/>
              <a:chOff x="4173480" y="5106600"/>
              <a:chExt cx="1229040" cy="639720"/>
            </a:xfrm>
          </p:grpSpPr>
          <p:sp>
            <p:nvSpPr>
              <p:cNvPr id="251" name=""/>
              <p:cNvSpPr/>
              <p:nvPr/>
            </p:nvSpPr>
            <p:spPr>
              <a:xfrm>
                <a:off x="421812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73480" y="5106600"/>
                <a:ext cx="122904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402520" y="5106600"/>
              <a:ext cx="1228680" cy="639720"/>
              <a:chOff x="5402520" y="5106600"/>
              <a:chExt cx="122868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544680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40252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631200" y="5106600"/>
              <a:ext cx="1228680" cy="639720"/>
              <a:chOff x="6631200" y="5106600"/>
              <a:chExt cx="1228680" cy="639720"/>
            </a:xfrm>
          </p:grpSpPr>
          <p:sp>
            <p:nvSpPr>
              <p:cNvPr id="257" name=""/>
              <p:cNvSpPr/>
              <p:nvPr/>
            </p:nvSpPr>
            <p:spPr>
              <a:xfrm>
                <a:off x="667548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3120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7859880" y="5106600"/>
              <a:ext cx="1228680" cy="639720"/>
              <a:chOff x="7859880" y="5106600"/>
              <a:chExt cx="1228680" cy="639720"/>
            </a:xfrm>
          </p:grpSpPr>
          <p:sp>
            <p:nvSpPr>
              <p:cNvPr id="260" name=""/>
              <p:cNvSpPr/>
              <p:nvPr/>
            </p:nvSpPr>
            <p:spPr>
              <a:xfrm>
                <a:off x="790416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85988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2197080" y="5205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roblema típico de Toma de Dec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4200" y="6540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6F4C-689B-4204-983F-CB8C6A6FFF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62120" y="1219320"/>
            <a:ext cx="7788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gregar más dimensiones (criterios) al problema es una forma de acercar el modelo a la realidad (multidimensionalid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534816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etodologías Multicrite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/>
          <p:nvPr/>
        </p:nvCxnSpPr>
        <p:spPr>
          <a:xfrm>
            <a:off x="4343400" y="3886200"/>
            <a:ext cx="2160" cy="1296000"/>
          </a:xfrm>
          <a:prstGeom prst="straightConnector1">
            <a:avLst/>
          </a:prstGeom>
          <a:ln w="15228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533520" y="4419720"/>
            <a:ext cx="190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3276720"/>
            <a:ext cx="57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¿Cómo resolver este problema típ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59F-D225-40E1-BBEB-C25C532519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066680" y="1523880"/>
            <a:ext cx="70264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términos generales el AHP es un método de descomposición de estructuras complejas en sus componentes, ordenando estos componentes o variables en una estructura jerárquica, donde se obtienen valores numéricos para los juicios de preferencia y, finalmente los sintetiza  para determinar qué variable tiene la más alta pri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3808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efinición de A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8240" y="981000"/>
            <a:ext cx="48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( Analytic Hierarchy Process de Saa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0DB2-D021-41F3-A769-67604709FA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914400" y="5477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sto se traduce en flexibilidad, lo que permite incorporar o eliminar aspectos sin afectar sustancialmente al mod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21540600">
            <a:off x="6011640" y="4149720"/>
            <a:ext cx="1295280" cy="21240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357120 h 2124000"/>
              <a:gd name="textAreaBottom" fmla="*/ 1481400 h 21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267" stAng="-5400000" swAng="5400000"/>
                <a:lnTo>
                  <a:pt x="21600" y="11432"/>
                </a:lnTo>
                <a:arcTo wR="21600" hR="7267" stAng="0" swAng="1822969"/>
                <a:lnTo>
                  <a:pt x="10750" y="20636"/>
                </a:lnTo>
                <a:lnTo>
                  <a:pt x="0" y="16616"/>
                </a:lnTo>
                <a:lnTo>
                  <a:pt x="10750" y="10667"/>
                </a:lnTo>
                <a:lnTo>
                  <a:pt x="10750" y="13569"/>
                </a:lnTo>
                <a:arcTo wR="21600" hR="7267" stAng="1822969" swAng="-1478178"/>
                <a:lnTo>
                  <a:pt x="20694" y="9349"/>
                </a:lnTo>
                <a:arcTo wR="21600" hR="7267" stAng="-344791" swAng="-5055209"/>
                <a:close/>
              </a:path>
              <a:path fill="darkenLess" w="21600" h="21600">
                <a:moveTo>
                  <a:pt x="0" y="0"/>
                </a:moveTo>
                <a:arcTo wR="21600" hR="7267" stAng="-5400000" swAng="5400000"/>
                <a:lnTo>
                  <a:pt x="21600" y="11432"/>
                </a:lnTo>
                <a:arcTo wR="21600" hR="7267" stAng="0" swAng="-344791"/>
                <a:lnTo>
                  <a:pt x="20694" y="9349"/>
                </a:lnTo>
                <a:arcTo wR="21600" hR="7267" stAng="-344791" swAng="-5055209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87640" y="1773360"/>
            <a:ext cx="563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e reflejan las precisiones, aportes y sugerencias que a los distintos profesionales les parece pertinente y, que a la vez, son acogidas favorablemente por la totalidad del grupo.</a:t>
            </a: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9600">
            <a:off x="755640" y="1988640"/>
            <a:ext cx="1724040" cy="1981440"/>
          </a:xfrm>
          <a:custGeom>
            <a:avLst/>
            <a:gdLst>
              <a:gd name="textAreaLeft" fmla="*/ 230760 w 1724040"/>
              <a:gd name="textAreaRight" fmla="*/ 1493280 w 1724040"/>
              <a:gd name="textAreaTop" fmla="*/ 316440 h 1981440"/>
              <a:gd name="textAreaBottom" fmla="*/ 142524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899" stAng="-5400000" swAng="-5400000"/>
                <a:lnTo>
                  <a:pt x="0" y="12085"/>
                </a:lnTo>
                <a:arcTo wR="21600" hR="6899" stAng="10800000" swAng="-2375191"/>
                <a:lnTo>
                  <a:pt x="13817" y="21137"/>
                </a:lnTo>
                <a:lnTo>
                  <a:pt x="21600" y="16391"/>
                </a:lnTo>
                <a:lnTo>
                  <a:pt x="13817" y="10719"/>
                </a:lnTo>
                <a:lnTo>
                  <a:pt x="13817" y="13335"/>
                </a:lnTo>
                <a:arcTo wR="21600" hR="6899" stAng="8424809" swAng="1932317"/>
                <a:lnTo>
                  <a:pt x="1584" y="9492"/>
                </a:lnTo>
                <a:arcTo wR="21600" hR="6899" stAng="-10357125" swAng="4957125"/>
                <a:close/>
              </a:path>
              <a:path fill="darkenLess" w="21600" h="21600">
                <a:moveTo>
                  <a:pt x="21600" y="0"/>
                </a:moveTo>
                <a:arcTo wR="21600" hR="6899" stAng="-5400000" swAng="-5400000"/>
                <a:lnTo>
                  <a:pt x="0" y="6899"/>
                </a:lnTo>
                <a:arcTo wR="21600" hR="6899" stAng="10800000" swAng="-442875"/>
                <a:lnTo>
                  <a:pt x="1584" y="9492"/>
                </a:lnTo>
                <a:arcTo wR="21600" hR="6899" stAng="-10357125" swAng="495712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627280" y="3357720"/>
          <a:ext cx="2590920" cy="19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357720"/>
                    <a:ext cx="259092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39640" y="404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l AHP ( Analytic Hierarchy Process de Saa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5640" y="1052640"/>
            <a:ext cx="693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confección de la jerarquía es un proceso interactivo que realiza un equipo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74F-40FA-4DFB-8174-F91B6E53994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362320" y="38088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Fundamentos del A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5640" y="1197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El método AHP está fundado sobre una base teórica simple pero sól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58920" y="227664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Esta metodología propone una manera de ordenar el pensamiento analítico, de la cual destacan tres princip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4343400"/>
            <a:ext cx="60199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Construcción de las jerarqu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ffffff"/>
              </a:buClr>
              <a:buSzPct val="7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Establecimiento de prior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ffffff"/>
              </a:buClr>
              <a:buSzPct val="7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Consistencia 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>
            <a:off x="4495320" y="3580920"/>
            <a:ext cx="1080" cy="926280"/>
          </a:xfrm>
          <a:prstGeom prst="straightConnector1">
            <a:avLst/>
          </a:prstGeom>
          <a:ln w="16524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114-F8DE-4CA9-B7A3-2BCE5432C0A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326600" y="479520"/>
            <a:ext cx="650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nsideraciones sobre las jerarqu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551640" y="2286000"/>
            <a:ext cx="2136960" cy="3066480"/>
            <a:chOff x="6551640" y="2286000"/>
            <a:chExt cx="2136960" cy="3066480"/>
          </a:xfrm>
        </p:grpSpPr>
        <p:sp>
          <p:nvSpPr>
            <p:cNvPr id="287" name=""/>
            <p:cNvSpPr/>
            <p:nvPr/>
          </p:nvSpPr>
          <p:spPr>
            <a:xfrm>
              <a:off x="7391520" y="3095640"/>
              <a:ext cx="457200" cy="1447920"/>
            </a:xfrm>
            <a:prstGeom prst="upDownArrow">
              <a:avLst>
                <a:gd name="adj1" fmla="val 38889"/>
                <a:gd name="adj2" fmla="val 58441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1562800">
              <a:off x="6553080" y="3779640"/>
              <a:ext cx="2133720" cy="304560"/>
            </a:xfrm>
            <a:prstGeom prst="ellipse">
              <a:avLst/>
            </a:prstGeom>
            <a:solidFill>
              <a:srgbClr val="33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21562200">
              <a:off x="6781680" y="3627000"/>
              <a:ext cx="1602000" cy="230400"/>
            </a:xfrm>
            <a:prstGeom prst="ellipse">
              <a:avLst/>
            </a:prstGeom>
            <a:solidFill>
              <a:srgbClr val="33cc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05720" y="2286000"/>
              <a:ext cx="18288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+ general (estratégico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58000" y="4740120"/>
              <a:ext cx="152388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+ específico (técnico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21552000">
              <a:off x="7044840" y="3551400"/>
              <a:ext cx="1108080" cy="15372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689880" y="1447920"/>
            <a:ext cx="199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¿Qué criterios aportan al objetivo globa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371600"/>
            <a:ext cx="6324480" cy="52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35200" y="1676520"/>
            <a:ext cx="1378080" cy="398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25560" y="2082600"/>
            <a:ext cx="4494240" cy="846360"/>
            <a:chOff x="925560" y="2082600"/>
            <a:chExt cx="4494240" cy="846360"/>
          </a:xfrm>
        </p:grpSpPr>
        <p:sp>
          <p:nvSpPr>
            <p:cNvPr id="297" name=""/>
            <p:cNvSpPr/>
            <p:nvPr/>
          </p:nvSpPr>
          <p:spPr>
            <a:xfrm>
              <a:off x="925560" y="2462040"/>
              <a:ext cx="1378080" cy="46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82920" y="2462040"/>
              <a:ext cx="1377720" cy="46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40280" y="2462040"/>
              <a:ext cx="1379520" cy="46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2"/>
              <a:endCxn id="297" idx="0"/>
            </p:cNvCxnSpPr>
            <p:nvPr/>
          </p:nvCxnSpPr>
          <p:spPr>
            <a:xfrm flipH="1">
              <a:off x="1613880" y="2082600"/>
              <a:ext cx="1710360" cy="379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01" name=""/>
            <p:cNvCxnSpPr>
              <a:stCxn id="295" idx="2"/>
              <a:endCxn id="298" idx="0"/>
            </p:cNvCxnSpPr>
            <p:nvPr/>
          </p:nvCxnSpPr>
          <p:spPr>
            <a:xfrm flipH="1">
              <a:off x="3171240" y="2082600"/>
              <a:ext cx="153000" cy="379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02" name=""/>
            <p:cNvCxnSpPr>
              <a:stCxn id="295" idx="2"/>
              <a:endCxn id="299" idx="0"/>
            </p:cNvCxnSpPr>
            <p:nvPr/>
          </p:nvCxnSpPr>
          <p:spPr>
            <a:xfrm>
              <a:off x="3323880" y="2082600"/>
              <a:ext cx="1407240" cy="379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303" name=""/>
          <p:cNvGrpSpPr/>
          <p:nvPr/>
        </p:nvGrpSpPr>
        <p:grpSpPr>
          <a:xfrm>
            <a:off x="457200" y="3222720"/>
            <a:ext cx="5486400" cy="1525320"/>
            <a:chOff x="457200" y="3222720"/>
            <a:chExt cx="5486400" cy="1525320"/>
          </a:xfrm>
        </p:grpSpPr>
        <p:sp>
          <p:nvSpPr>
            <p:cNvPr id="304" name=""/>
            <p:cNvSpPr/>
            <p:nvPr/>
          </p:nvSpPr>
          <p:spPr>
            <a:xfrm>
              <a:off x="506520" y="3222720"/>
              <a:ext cx="62532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63880" y="3222720"/>
              <a:ext cx="62676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3280" y="3222720"/>
              <a:ext cx="62712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21240" y="3222720"/>
              <a:ext cx="62532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00640" y="3222720"/>
              <a:ext cx="62856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80040" y="3222720"/>
              <a:ext cx="62532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82680" y="3222720"/>
              <a:ext cx="63036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7200" y="4273560"/>
              <a:ext cx="1171440" cy="466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95400" y="4273560"/>
              <a:ext cx="1171800" cy="466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33600" y="4273560"/>
              <a:ext cx="1171800" cy="466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72160" y="4281480"/>
              <a:ext cx="1171440" cy="466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87680" y="3824280"/>
              <a:ext cx="1369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99"/>
                  </a:solidFill>
                  <a:latin typeface="Tahoma"/>
                </a:rPr>
                <a:t>Criter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04920" y="1447920"/>
            <a:ext cx="6095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914400" y="4724280"/>
            <a:ext cx="4394160" cy="1801800"/>
            <a:chOff x="914400" y="4724280"/>
            <a:chExt cx="4394160" cy="1801800"/>
          </a:xfrm>
        </p:grpSpPr>
        <p:sp>
          <p:nvSpPr>
            <p:cNvPr id="318" name=""/>
            <p:cNvSpPr/>
            <p:nvPr/>
          </p:nvSpPr>
          <p:spPr>
            <a:xfrm>
              <a:off x="1574640" y="51814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14400" y="5486400"/>
              <a:ext cx="1315800" cy="60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12720" y="5486400"/>
              <a:ext cx="1314720" cy="60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51280" y="5486400"/>
              <a:ext cx="1314360" cy="60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88960" y="6157800"/>
              <a:ext cx="16858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99"/>
                  </a:solidFill>
                  <a:latin typeface="Tahoma"/>
                </a:rPr>
                <a:t>Alternativ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65160" y="5181480"/>
              <a:ext cx="434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65160" y="47242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12720" y="47242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36960" y="47242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08560" y="47242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98520" y="51814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22760" y="51814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1CC-F318-4E37-BBD7-E8B25B3222D8}" type="slidenum">
              <a:t>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08:19:17Z</dcterms:created>
  <dc:creator>Profesora</dc:creator>
  <dc:description/>
  <dc:language>en-US</dc:language>
  <cp:lastModifiedBy>Sara Arancibia C.</cp:lastModifiedBy>
  <dcterms:modified xsi:type="dcterms:W3CDTF">2006-11-03T14:22:22Z</dcterms:modified>
  <cp:revision>277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29853072</vt:r8>
  </property>
  <property fmtid="{D5CDD505-2E9C-101B-9397-08002B2CF9AE}" pid="3" name="_AuthorEmail">
    <vt:lpwstr>sarancibia@netline.cl</vt:lpwstr>
  </property>
  <property fmtid="{D5CDD505-2E9C-101B-9397-08002B2CF9AE}" pid="4" name="_AuthorEmailDisplayName">
    <vt:lpwstr>Sara Arancibia C.</vt:lpwstr>
  </property>
  <property fmtid="{D5CDD505-2E9C-101B-9397-08002B2CF9AE}" pid="5" name="_EmailSubject">
    <vt:lpwstr>presentación para el viernes</vt:lpwstr>
  </property>
  <property fmtid="{D5CDD505-2E9C-101B-9397-08002B2CF9AE}" pid="6" name="_PreviousAdHocReviewCycleID">
    <vt:r8>816893052</vt:r8>
  </property>
  <property fmtid="{D5CDD505-2E9C-101B-9397-08002B2CF9AE}" pid="7" name="_ReviewingToolsShownOnce">
    <vt:lpwstr/>
  </property>
</Properties>
</file>