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4F0A-6EB6-4D8F-AFF9-CE21C8EF7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AD93-9D57-4834-9364-3FF664983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AFAA-20DC-4A3D-93D4-F607E64B5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119A-507E-4025-85D0-81D67C9A7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29F0-6D54-4061-A139-4EEBA4CDE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9272-DD8A-486C-BC8B-FBA6F22D6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1130-D606-4F08-BE05-358591996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FCDC-7911-45B4-8E12-3B47750AF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F641-7C45-4B0C-B651-81CD8ACDA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7F09-998C-4D22-9708-B4C613A8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971D-B698-44AA-9D26-A4E8A129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29C6-79D8-40C6-8325-9379CF03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9237C-14A3-4194-94C4-BEE8B5E09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341280"/>
            <a:ext cx="8610480" cy="64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impacto de las reformas estructurales y 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globalizacion sobre las econom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de America Lat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n la presente clase examinamos el impacto que las reformas estructurales de los 1990’s y el proceso de globalizacion de la economia mundial han tenido sobre la conformacion d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structura productiva de diversos paises latinoamericano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a productividad laboral, el empleo y el desarrollo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apacidades tecnologicas domest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828800" y="1371600"/>
            <a:ext cx="0" cy="464832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5334120"/>
            <a:ext cx="571500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971800" y="2590560"/>
            <a:ext cx="0" cy="3429000"/>
          </a:xfrm>
          <a:prstGeom prst="line">
            <a:avLst/>
          </a:prstGeom>
          <a:ln w="9360">
            <a:solidFill>
              <a:srgbClr val="ffff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191120" y="2666880"/>
            <a:ext cx="0" cy="3353040"/>
          </a:xfrm>
          <a:prstGeom prst="line">
            <a:avLst/>
          </a:prstGeom>
          <a:ln w="9360">
            <a:solidFill>
              <a:srgbClr val="ffff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888840"/>
            <a:ext cx="4800600" cy="4991400"/>
          </a:xfrm>
          <a:custGeom>
            <a:avLst/>
            <a:gdLst/>
            <a:ahLst/>
            <a:rect l="l" t="t" r="r" b="b"/>
            <a:pathLst>
              <a:path w="3024" h="3144">
                <a:moveTo>
                  <a:pt x="0" y="1168"/>
                </a:moveTo>
                <a:cubicBezTo>
                  <a:pt x="32" y="1160"/>
                  <a:pt x="64" y="1152"/>
                  <a:pt x="96" y="1168"/>
                </a:cubicBezTo>
                <a:cubicBezTo>
                  <a:pt x="128" y="1184"/>
                  <a:pt x="160" y="1208"/>
                  <a:pt x="192" y="1264"/>
                </a:cubicBezTo>
                <a:cubicBezTo>
                  <a:pt x="224" y="1320"/>
                  <a:pt x="192" y="1232"/>
                  <a:pt x="288" y="1504"/>
                </a:cubicBezTo>
                <a:cubicBezTo>
                  <a:pt x="384" y="1776"/>
                  <a:pt x="592" y="2648"/>
                  <a:pt x="768" y="2896"/>
                </a:cubicBezTo>
                <a:cubicBezTo>
                  <a:pt x="944" y="3144"/>
                  <a:pt x="1168" y="3128"/>
                  <a:pt x="1344" y="2992"/>
                </a:cubicBezTo>
                <a:cubicBezTo>
                  <a:pt x="1520" y="2856"/>
                  <a:pt x="1696" y="2392"/>
                  <a:pt x="1824" y="2080"/>
                </a:cubicBezTo>
                <a:cubicBezTo>
                  <a:pt x="1952" y="1768"/>
                  <a:pt x="2032" y="1400"/>
                  <a:pt x="2112" y="1120"/>
                </a:cubicBezTo>
                <a:cubicBezTo>
                  <a:pt x="2192" y="840"/>
                  <a:pt x="2232" y="576"/>
                  <a:pt x="2304" y="400"/>
                </a:cubicBezTo>
                <a:cubicBezTo>
                  <a:pt x="2376" y="224"/>
                  <a:pt x="2456" y="128"/>
                  <a:pt x="2544" y="64"/>
                </a:cubicBezTo>
                <a:cubicBezTo>
                  <a:pt x="2632" y="0"/>
                  <a:pt x="2752" y="8"/>
                  <a:pt x="2832" y="16"/>
                </a:cubicBezTo>
                <a:cubicBezTo>
                  <a:pt x="2912" y="24"/>
                  <a:pt x="2992" y="96"/>
                  <a:pt x="3024" y="112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90960" y="116856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21480" y="22939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72640" y="5921280"/>
            <a:ext cx="121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se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53080" y="5921280"/>
            <a:ext cx="13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se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95080" y="5921280"/>
            <a:ext cx="144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se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42440" y="4775040"/>
            <a:ext cx="1598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i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824440" y="9586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685800"/>
            <a:ext cx="7772400" cy="5943600"/>
          </a:xfrm>
          <a:prstGeom prst="rect">
            <a:avLst/>
          </a:prstGeom>
          <a:noFill/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752480" y="2666880"/>
            <a:ext cx="152640" cy="152640"/>
          </a:xfrm>
          <a:prstGeom prst="ellipse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715000" y="990000"/>
            <a:ext cx="152280" cy="152280"/>
          </a:xfrm>
          <a:prstGeom prst="ellipse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09960" y="-77760"/>
            <a:ext cx="30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ff99"/>
                </a:solidFill>
                <a:latin typeface="Arial Rounded MT Bold"/>
              </a:rPr>
              <a:t>ASES</a:t>
            </a:r>
            <a:r>
              <a:rPr b="1" lang="en-US" sz="3200" spc="-1" strike="noStrike">
                <a:solidFill>
                  <a:srgbClr val="ffff99"/>
                </a:solidFill>
                <a:latin typeface="Arial Rounded MT Bold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Arial Rounded MT Bold"/>
              </a:rPr>
              <a:t>DEL AJU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163800" y="36360"/>
            <a:ext cx="8978040" cy="6487200"/>
            <a:chOff x="163800" y="36360"/>
            <a:chExt cx="8978040" cy="6487200"/>
          </a:xfrm>
        </p:grpSpPr>
        <p:sp>
          <p:nvSpPr>
            <p:cNvPr id="112" name=""/>
            <p:cNvSpPr/>
            <p:nvPr/>
          </p:nvSpPr>
          <p:spPr>
            <a:xfrm flipV="1">
              <a:off x="761760" y="1639080"/>
              <a:ext cx="0" cy="477144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99160" y="36360"/>
              <a:ext cx="8793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RECIMIENTO DE LA PRODUCTIVIDAD Y NATURALEZA DEL CAMBI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TECNOLÓGICO EN LAS FASES I Y II, Y III DEL AJUSTE INDUSTR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1760" y="6410880"/>
              <a:ext cx="327672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1828440" y="4502160"/>
              <a:ext cx="0" cy="190872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1760" y="3461040"/>
              <a:ext cx="198108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61760" y="4502160"/>
              <a:ext cx="114300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742840" y="3374640"/>
              <a:ext cx="0" cy="303624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61760" y="3182760"/>
              <a:ext cx="2438280" cy="3141000"/>
            </a:xfrm>
            <a:custGeom>
              <a:avLst/>
              <a:gdLst/>
              <a:ahLst/>
              <a:rect l="l" t="t" r="r" b="b"/>
              <a:pathLst>
                <a:path w="1536" h="1738">
                  <a:moveTo>
                    <a:pt x="0" y="1738"/>
                  </a:moveTo>
                  <a:cubicBezTo>
                    <a:pt x="188" y="1382"/>
                    <a:pt x="490" y="972"/>
                    <a:pt x="672" y="730"/>
                  </a:cubicBezTo>
                  <a:cubicBezTo>
                    <a:pt x="854" y="488"/>
                    <a:pt x="950" y="410"/>
                    <a:pt x="1094" y="288"/>
                  </a:cubicBezTo>
                  <a:cubicBezTo>
                    <a:pt x="1238" y="166"/>
                    <a:pt x="1462" y="48"/>
                    <a:pt x="1536" y="0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5181480" y="1639080"/>
              <a:ext cx="0" cy="477144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6410880"/>
              <a:ext cx="327636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6248160" y="2940120"/>
              <a:ext cx="0" cy="347004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81480" y="3027600"/>
              <a:ext cx="106668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1480" y="4502160"/>
              <a:ext cx="114300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181480" y="3182760"/>
              <a:ext cx="2438280" cy="3141000"/>
            </a:xfrm>
            <a:custGeom>
              <a:avLst/>
              <a:gdLst/>
              <a:ahLst/>
              <a:rect l="l" t="t" r="r" b="b"/>
              <a:pathLst>
                <a:path w="1536" h="1738">
                  <a:moveTo>
                    <a:pt x="0" y="1738"/>
                  </a:moveTo>
                  <a:cubicBezTo>
                    <a:pt x="188" y="1382"/>
                    <a:pt x="490" y="972"/>
                    <a:pt x="672" y="730"/>
                  </a:cubicBezTo>
                  <a:cubicBezTo>
                    <a:pt x="854" y="488"/>
                    <a:pt x="950" y="410"/>
                    <a:pt x="1094" y="288"/>
                  </a:cubicBezTo>
                  <a:cubicBezTo>
                    <a:pt x="1238" y="166"/>
                    <a:pt x="1462" y="48"/>
                    <a:pt x="1536" y="0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181480" y="1865520"/>
              <a:ext cx="2133360" cy="4458240"/>
            </a:xfrm>
            <a:custGeom>
              <a:avLst/>
              <a:gdLst/>
              <a:ahLst/>
              <a:rect l="l" t="t" r="r" b="b"/>
              <a:pathLst>
                <a:path w="1344" h="2467">
                  <a:moveTo>
                    <a:pt x="0" y="2467"/>
                  </a:moveTo>
                  <a:cubicBezTo>
                    <a:pt x="112" y="1979"/>
                    <a:pt x="224" y="1491"/>
                    <a:pt x="384" y="1123"/>
                  </a:cubicBezTo>
                  <a:cubicBezTo>
                    <a:pt x="544" y="755"/>
                    <a:pt x="800" y="446"/>
                    <a:pt x="960" y="259"/>
                  </a:cubicBezTo>
                  <a:cubicBezTo>
                    <a:pt x="1120" y="72"/>
                    <a:pt x="1280" y="43"/>
                    <a:pt x="1344" y="0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66880" y="3374640"/>
              <a:ext cx="152280" cy="17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52480" y="4415760"/>
              <a:ext cx="152280" cy="17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171840" y="2940480"/>
              <a:ext cx="152640" cy="173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71840" y="4415760"/>
              <a:ext cx="152640" cy="17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3800" y="120564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ff00"/>
                  </a:solidFill>
                  <a:latin typeface="Arial"/>
                </a:rPr>
                <a:t>Q/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0" y="120564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ff00"/>
                  </a:solidFill>
                  <a:latin typeface="Arial"/>
                </a:rPr>
                <a:t>Q/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051080" y="606384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ff00"/>
                  </a:solidFill>
                  <a:latin typeface="Arial"/>
                </a:rPr>
                <a:t>K/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70440" y="606384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ff00"/>
                  </a:solidFill>
                  <a:latin typeface="Arial"/>
                </a:rPr>
                <a:t>K/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30600" y="4502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821320" y="3374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378840" y="2767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378840" y="4241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1066680" y="1219320"/>
            <a:ext cx="2514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Cambio técnico “desincorporado” ahorrador de mano de o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134120" y="1525680"/>
            <a:ext cx="199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Cambio técnico “incorporado” basado en 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45800" y="1377720"/>
            <a:ext cx="3823200" cy="319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70" y="11604"/>
                </a:moveTo>
                <a:arcTo wR="10800" hR="10800" stAng="256289" swAng="5095102"/>
                <a:lnTo>
                  <a:pt x="10800" y="10800"/>
                </a:lnTo>
                <a:close/>
              </a:path>
              <a:path fill="none" w="21600" h="21600">
                <a:moveTo>
                  <a:pt x="21570" y="11604"/>
                </a:moveTo>
                <a:arcTo wR="10800" hR="10800" stAng="256289" swAng="5095102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68640" y="3112920"/>
            <a:ext cx="0" cy="146232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0880" y="1681560"/>
            <a:ext cx="245052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6" y="21600"/>
                </a:moveTo>
                <a:arcTo wR="10800" hR="10800" stAng="5404464" swAng="5139049"/>
                <a:lnTo>
                  <a:pt x="10800" y="10800"/>
                </a:lnTo>
                <a:close/>
              </a:path>
              <a:path fill="none" w="21600" h="21600">
                <a:moveTo>
                  <a:pt x="10786" y="21600"/>
                </a:moveTo>
                <a:arcTo wR="10800" hR="10800" stAng="5404464" swAng="5139049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91320" y="1229760"/>
            <a:ext cx="3053880" cy="335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63" y="21575"/>
                </a:moveTo>
                <a:arcTo wR="10800" hR="10800" stAng="5634816" swAng="5331325"/>
                <a:lnTo>
                  <a:pt x="10800" y="10800"/>
                </a:lnTo>
                <a:close/>
              </a:path>
              <a:path fill="none" w="21600" h="21600">
                <a:moveTo>
                  <a:pt x="10063" y="21575"/>
                </a:moveTo>
                <a:arcTo wR="10800" hR="10800" stAng="5634816" swAng="5331325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438280" y="3432240"/>
            <a:ext cx="1530360" cy="1140840"/>
            <a:chOff x="2438280" y="3432240"/>
            <a:chExt cx="1530360" cy="1140840"/>
          </a:xfrm>
        </p:grpSpPr>
        <p:sp>
          <p:nvSpPr>
            <p:cNvPr id="146" name=""/>
            <p:cNvSpPr/>
            <p:nvPr/>
          </p:nvSpPr>
          <p:spPr>
            <a:xfrm>
              <a:off x="2790720" y="4436640"/>
              <a:ext cx="117720" cy="13644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08440" y="4419360"/>
              <a:ext cx="118800" cy="1537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673360" y="4470120"/>
              <a:ext cx="117360" cy="10296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8280" y="4520880"/>
              <a:ext cx="117720" cy="522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614680" y="4520880"/>
              <a:ext cx="58680" cy="522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967120" y="4366800"/>
              <a:ext cx="176040" cy="20628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84480" y="4314600"/>
              <a:ext cx="177840" cy="25848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00400" y="4217760"/>
              <a:ext cx="297000" cy="3553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321000" y="4157280"/>
              <a:ext cx="293760" cy="4158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143160" y="4262040"/>
              <a:ext cx="236520" cy="31104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79680" y="4106520"/>
              <a:ext cx="352440" cy="46656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438360" y="4054320"/>
              <a:ext cx="411480" cy="51876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97400" y="4003560"/>
              <a:ext cx="471240" cy="5695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56080" y="3951000"/>
              <a:ext cx="412560" cy="4680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614760" y="3847680"/>
              <a:ext cx="353880" cy="4140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75240" y="3795480"/>
              <a:ext cx="293400" cy="31068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732120" y="3690720"/>
              <a:ext cx="236520" cy="31248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790800" y="3638160"/>
              <a:ext cx="177840" cy="20916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49840" y="3536640"/>
              <a:ext cx="118800" cy="2059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909960" y="3432240"/>
              <a:ext cx="58680" cy="1537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1677960" y="446040"/>
            <a:ext cx="3353040" cy="4146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86" y="11347"/>
                </a:moveTo>
                <a:arcTo wR="10800" hR="10800" stAng="174060" swAng="4824303"/>
                <a:lnTo>
                  <a:pt x="10800" y="10800"/>
                </a:lnTo>
                <a:close/>
              </a:path>
              <a:path fill="none" w="21600" h="21600">
                <a:moveTo>
                  <a:pt x="21586" y="11347"/>
                </a:moveTo>
                <a:arcTo wR="10800" hR="10800" stAng="174060" swAng="4824303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327560" y="4567320"/>
            <a:ext cx="480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00120" y="4567320"/>
            <a:ext cx="595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5486400"/>
            <a:ext cx="87627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M:  Productividad sectorial media antes de la apertura comerci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M</a:t>
            </a:r>
            <a:r>
              <a:rPr b="0" lang="en-US" sz="2200" spc="-1" strike="noStrike" baseline="30000">
                <a:solidFill>
                  <a:srgbClr val="ffffcc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: Productividad sectorial media después de la apertura comerci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1066680"/>
            <a:ext cx="8763120" cy="5410440"/>
          </a:xfrm>
          <a:prstGeom prst="rect">
            <a:avLst/>
          </a:prstGeom>
          <a:noFill/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6880" y="76320"/>
            <a:ext cx="86583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MUERTE Y “NACIMIENTO” DE EMPRESAS Y PRODUCTIVIDAD</a:t>
            </a:r>
            <a:br>
              <a:rPr sz="2200"/>
            </a:b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MEDIA DE UNA RAMA PRODUC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29400" y="1413000"/>
            <a:ext cx="694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 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347840" y="2133720"/>
            <a:ext cx="480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52920" y="2365200"/>
            <a:ext cx="0" cy="22082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81080" y="1603440"/>
            <a:ext cx="3276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057400" y="2389320"/>
            <a:ext cx="2590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10800000">
            <a:off x="3947760" y="2368800"/>
            <a:ext cx="1327320" cy="190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358" y="13073"/>
                </a:moveTo>
                <a:arcTo wR="10800" hR="10800" stAng="729106" swAng="4472904"/>
                <a:lnTo>
                  <a:pt x="10800" y="10800"/>
                </a:lnTo>
                <a:close/>
              </a:path>
              <a:path fill="none" w="21600" h="21600">
                <a:moveTo>
                  <a:pt x="21358" y="13073"/>
                </a:moveTo>
                <a:arcTo wR="10800" hR="10800" stAng="729106" swAng="4472904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10800000">
            <a:off x="3314160" y="2332080"/>
            <a:ext cx="2058480" cy="2504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32" y="21314"/>
                </a:moveTo>
                <a:arcTo wR="10800" hR="10800" stAng="6192608" swAng="3661117"/>
                <a:lnTo>
                  <a:pt x="10800" y="10800"/>
                </a:lnTo>
                <a:close/>
              </a:path>
              <a:path fill="none" w="21600" h="21600">
                <a:moveTo>
                  <a:pt x="8332" y="21314"/>
                </a:moveTo>
                <a:arcTo wR="10800" hR="10800" stAng="6192608" swAng="3661117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057400" y="1603080"/>
            <a:ext cx="0" cy="297180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34120" y="1598760"/>
            <a:ext cx="0" cy="29746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10800000">
            <a:off x="4872600" y="1592280"/>
            <a:ext cx="928800" cy="307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4672375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4672375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10800000">
            <a:off x="5029200" y="1602000"/>
            <a:ext cx="564840" cy="185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69" y="9982"/>
                </a:moveTo>
                <a:arcTo wR="10800" hR="10800" stAng="-260474" swAng="5675800"/>
                <a:lnTo>
                  <a:pt x="10800" y="10800"/>
                </a:lnTo>
                <a:close/>
              </a:path>
              <a:path fill="none" w="21600" h="21600">
                <a:moveTo>
                  <a:pt x="21569" y="9982"/>
                </a:moveTo>
                <a:arcTo wR="10800" hR="10800" stAng="-260474" swAng="5675800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81080" y="4575240"/>
            <a:ext cx="5715000" cy="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838080" y="1523880"/>
          <a:ext cx="6988320" cy="6702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523880"/>
                    <a:ext cx="6988320" cy="670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910440" y="457200"/>
            <a:ext cx="685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ERTES” Y “NACIMIENTOS”DE EMPRESAS EN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DUSTRIA SIDERÚRGICA ARGEN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5960" y="136440"/>
            <a:ext cx="8961480" cy="13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CAMBIOS EN EL PESO RELATIVO DE LOS DISTINTOS SECTORES INDUSTRIALES AL INTERIOR DEL PRODUCTO MANUFACTURERO GLO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90360" y="2525760"/>
            <a:ext cx="9052200" cy="38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eefd"/>
                </a:solidFill>
                <a:latin typeface="Arial"/>
              </a:rPr>
              <a:t>Número de plantas, empleo y productividad laboral en la industria argentina de aceite vegetal 1973-74 y 1993-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38080" y="5486400"/>
            <a:ext cx="769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4920" y="5410080"/>
            <a:ext cx="829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d9ee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Menos plantas fabriles, mayor intensidad de capital y mayor produ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06200" y="2766960"/>
            <a:ext cx="897732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2400" y="244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PRODUCTIVIDAD LABORAL RELATIVA DE LA INDUSTRIA</a:t>
            </a:r>
            <a:br>
              <a:rPr sz="2400"/>
            </a:b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LATINOAMERICANA VIS A VIS EL </a:t>
            </a: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	</a:t>
            </a:r>
            <a:br>
              <a:rPr sz="2400"/>
            </a:b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SECTOR MANUFACTURERO NORTEAMERICANO</a:t>
            </a: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971640" y="1981080"/>
            <a:ext cx="730548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3880" y="122040"/>
            <a:ext cx="7772400" cy="89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PRODUCTIVIDAD LABORAL RELATIVA ARGENTINA - ESTADOS UN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23840" y="1219320"/>
          <a:ext cx="8827920" cy="550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840" y="1219320"/>
                    <a:ext cx="8827920" cy="55069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69696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e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8360" y="95400"/>
            <a:ext cx="883944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ff"/>
                </a:solidFill>
                <a:latin typeface="Arial"/>
              </a:rPr>
              <a:t>AMÉRICA LATINA: BRECHA DE PRODU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22400" y="533520"/>
          <a:ext cx="8912160" cy="611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400" y="533520"/>
                    <a:ext cx="8912160" cy="61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e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762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ff"/>
                </a:solidFill>
                <a:latin typeface="Arial"/>
              </a:rPr>
              <a:t>AMÉRICA LATINA: BRECHA DE PRODU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28600" y="762120"/>
          <a:ext cx="8809200" cy="576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762120"/>
                    <a:ext cx="880920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838080"/>
            <a:ext cx="8534160" cy="52146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NTENIDO DE LA PRESENT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 I :  MARCO TEORI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II  :  LA EVIDENCIA EMPÍ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III:  NUEVOS REGÍMENES SECTOR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ORGANIZACIÓN INDUST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IV: POLÍTICAS DE DESARROLLO PRODUCTIVO Y       TECNOLOG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1432080" y="0"/>
          <a:ext cx="641664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2080" y="0"/>
                    <a:ext cx="64166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12204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rgent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1854360"/>
            <a:ext cx="59220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0840" y="4595760"/>
            <a:ext cx="582480" cy="18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52360" y="1833480"/>
            <a:ext cx="7367760" cy="4640400"/>
          </a:xfrm>
          <a:prstGeom prst="rect">
            <a:avLst/>
          </a:prstGeom>
          <a:solidFill>
            <a:srgbClr val="33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284920" y="2174760"/>
            <a:ext cx="610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421960" y="2174760"/>
            <a:ext cx="6102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388560" y="2174760"/>
            <a:ext cx="6102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258680" y="2174760"/>
            <a:ext cx="610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40280" y="1833480"/>
            <a:ext cx="3594240" cy="2432160"/>
          </a:xfrm>
          <a:custGeom>
            <a:avLst/>
            <a:gdLst/>
            <a:ahLst/>
            <a:rect l="l" t="t" r="r" b="b"/>
            <a:pathLst>
              <a:path w="1249" h="1153">
                <a:moveTo>
                  <a:pt x="0" y="0"/>
                </a:moveTo>
                <a:lnTo>
                  <a:pt x="0" y="1152"/>
                </a:lnTo>
                <a:lnTo>
                  <a:pt x="1248" y="1152"/>
                </a:lnTo>
              </a:path>
            </a:pathLst>
          </a:custGeom>
          <a:noFill/>
          <a:ln cap="rnd"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141560" y="4264200"/>
            <a:ext cx="3800160" cy="2228760"/>
          </a:xfrm>
          <a:custGeom>
            <a:avLst/>
            <a:gdLst/>
            <a:ahLst/>
            <a:rect l="l" t="t" r="r" b="b"/>
            <a:pathLst>
              <a:path w="1321" h="1057">
                <a:moveTo>
                  <a:pt x="0" y="0"/>
                </a:moveTo>
                <a:lnTo>
                  <a:pt x="1320" y="0"/>
                </a:lnTo>
                <a:lnTo>
                  <a:pt x="1320" y="1056"/>
                </a:lnTo>
              </a:path>
            </a:pathLst>
          </a:custGeom>
          <a:noFill/>
          <a:ln cap="rnd"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284920" y="4707000"/>
            <a:ext cx="610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21960" y="4707000"/>
            <a:ext cx="6102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388560" y="4707000"/>
            <a:ext cx="610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41480" y="1295280"/>
            <a:ext cx="1244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MPL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808960" y="1295280"/>
            <a:ext cx="1300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P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65400" y="2408400"/>
            <a:ext cx="3268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ER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41360" y="4676760"/>
            <a:ext cx="3207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057400" y="2362320"/>
            <a:ext cx="4876920" cy="4114800"/>
          </a:xfrm>
          <a:prstGeom prst="rect">
            <a:avLst/>
          </a:prstGeom>
          <a:solidFill>
            <a:srgbClr val="33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146400" y="27716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257800" y="2637000"/>
            <a:ext cx="8380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10160" y="2514600"/>
            <a:ext cx="1982880" cy="1830240"/>
          </a:xfrm>
          <a:custGeom>
            <a:avLst/>
            <a:gdLst/>
            <a:ahLst/>
            <a:rect l="l" t="t" r="r" b="b"/>
            <a:pathLst>
              <a:path w="1249" h="1153">
                <a:moveTo>
                  <a:pt x="0" y="0"/>
                </a:moveTo>
                <a:lnTo>
                  <a:pt x="0" y="1152"/>
                </a:lnTo>
                <a:lnTo>
                  <a:pt x="1248" y="1152"/>
                </a:lnTo>
              </a:path>
            </a:pathLst>
          </a:custGeom>
          <a:noFill/>
          <a:ln cap="rnd"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514600" y="4343400"/>
            <a:ext cx="2097000" cy="1677960"/>
          </a:xfrm>
          <a:custGeom>
            <a:avLst/>
            <a:gdLst/>
            <a:ahLst/>
            <a:rect l="l" t="t" r="r" b="b"/>
            <a:pathLst>
              <a:path w="1321" h="1057">
                <a:moveTo>
                  <a:pt x="0" y="0"/>
                </a:moveTo>
                <a:lnTo>
                  <a:pt x="1320" y="0"/>
                </a:lnTo>
                <a:lnTo>
                  <a:pt x="1320" y="1056"/>
                </a:lnTo>
              </a:path>
            </a:pathLst>
          </a:custGeom>
          <a:noFill/>
          <a:ln cap="rnd"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666880" y="4419720"/>
            <a:ext cx="8589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10440" y="4770360"/>
            <a:ext cx="6102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667840" y="4786200"/>
            <a:ext cx="610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971800" y="1828800"/>
            <a:ext cx="1244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MPL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105880" y="1828800"/>
            <a:ext cx="1300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P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60880" y="2666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875840" y="4419720"/>
            <a:ext cx="61020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63040" y="2414520"/>
            <a:ext cx="560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858600" y="858960"/>
            <a:ext cx="7413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AS 100 FIRMAS INDUSTRIALES MAS GRANDES DE AMÉRICA LATINA Y 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093840" y="1092240"/>
            <a:ext cx="2954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RIBE.1990-92, 1995  Y 1998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352680" y="132408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489480" y="132876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00440" y="1328760"/>
            <a:ext cx="20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ll dólares norteamericano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656320" y="132408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557600" y="1676520"/>
            <a:ext cx="75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990-9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145200" y="1676520"/>
            <a:ext cx="458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586640" y="1676520"/>
            <a:ext cx="458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1280" y="164628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11280" y="164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11280" y="164628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11280" y="164628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11280" y="164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11280" y="164628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17400" y="1646280"/>
            <a:ext cx="35877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205160" y="1646280"/>
            <a:ext cx="504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205160" y="164628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205160" y="164628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210200" y="164628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210200" y="164628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45160" y="1646280"/>
            <a:ext cx="64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645160" y="164628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645160" y="164628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651640" y="164628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651640" y="164628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086600" y="1646280"/>
            <a:ext cx="46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086600" y="164628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086600" y="164628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091280" y="1646280"/>
            <a:ext cx="14353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091280" y="164628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526600" y="164628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526600" y="164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526600" y="164628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526600" y="164628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526600" y="164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526600" y="164628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1280" y="165276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09480" y="1676520"/>
            <a:ext cx="180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205160" y="1652760"/>
            <a:ext cx="504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205160" y="1652760"/>
            <a:ext cx="32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645160" y="1652760"/>
            <a:ext cx="64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45160" y="165276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1652760"/>
            <a:ext cx="46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086600" y="165276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526600" y="165276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526600" y="165276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34680" y="1974960"/>
            <a:ext cx="1613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Número de fir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43400" y="1974960"/>
            <a:ext cx="34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684840" y="1974960"/>
            <a:ext cx="346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125920" y="19749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11280" y="1938240"/>
            <a:ext cx="612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11280" y="193824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11280" y="1938240"/>
            <a:ext cx="3240" cy="5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17400" y="1938240"/>
            <a:ext cx="358776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17400" y="1938240"/>
            <a:ext cx="35877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05160" y="1938240"/>
            <a:ext cx="504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05160" y="1938240"/>
            <a:ext cx="50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05160" y="1938240"/>
            <a:ext cx="3240" cy="5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210200" y="1938240"/>
            <a:ext cx="143496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210200" y="1938240"/>
            <a:ext cx="14349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645160" y="1938240"/>
            <a:ext cx="648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645160" y="1938240"/>
            <a:ext cx="648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645160" y="1938240"/>
            <a:ext cx="1440" cy="5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651640" y="1938240"/>
            <a:ext cx="143496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651640" y="1938240"/>
            <a:ext cx="14349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086600" y="1938240"/>
            <a:ext cx="468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86600" y="1938240"/>
            <a:ext cx="468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086600" y="1938240"/>
            <a:ext cx="1440" cy="5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091280" y="1938240"/>
            <a:ext cx="143532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091280" y="1938240"/>
            <a:ext cx="14353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526600" y="1938240"/>
            <a:ext cx="612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526600" y="193824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526600" y="1938240"/>
            <a:ext cx="1440" cy="5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11280" y="194328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1280" y="1943280"/>
            <a:ext cx="32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205160" y="1943280"/>
            <a:ext cx="504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05160" y="1943280"/>
            <a:ext cx="32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645160" y="1943280"/>
            <a:ext cx="64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645160" y="194328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086600" y="1943280"/>
            <a:ext cx="46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086600" y="194328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526600" y="194328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526600" y="194328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30360" y="2265480"/>
            <a:ext cx="1820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ivadas nacio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357880" y="2265480"/>
            <a:ext cx="23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796080" y="2265480"/>
            <a:ext cx="23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8237160" y="22654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11280" y="222732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11280" y="222732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11280" y="222732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17400" y="2227320"/>
            <a:ext cx="35877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17400" y="2227320"/>
            <a:ext cx="35877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205160" y="2227320"/>
            <a:ext cx="504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05160" y="222732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205160" y="222732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0200" y="222732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210200" y="222732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645160" y="2227320"/>
            <a:ext cx="64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645160" y="222732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645160" y="222732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651640" y="222732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651640" y="222732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086600" y="2227320"/>
            <a:ext cx="46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086600" y="222732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086600" y="222732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91280" y="2227320"/>
            <a:ext cx="14353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091280" y="222732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526600" y="222732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8526600" y="222732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526600" y="222732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11280" y="2233440"/>
            <a:ext cx="6120" cy="28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11280" y="2233440"/>
            <a:ext cx="3240" cy="2844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205160" y="2233440"/>
            <a:ext cx="5040" cy="28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205160" y="2233440"/>
            <a:ext cx="3240" cy="2844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645160" y="2233440"/>
            <a:ext cx="6480" cy="28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645160" y="2233440"/>
            <a:ext cx="1440" cy="2844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086600" y="2233440"/>
            <a:ext cx="4680" cy="28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086600" y="2233440"/>
            <a:ext cx="1440" cy="2844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8526600" y="2233440"/>
            <a:ext cx="6120" cy="28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8526600" y="2233440"/>
            <a:ext cx="1440" cy="2844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33240" y="2550960"/>
            <a:ext cx="1027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xtranje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357880" y="2550960"/>
            <a:ext cx="23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796080" y="2550960"/>
            <a:ext cx="23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237160" y="25509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11280" y="251784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11280" y="251784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205160" y="2517840"/>
            <a:ext cx="504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205160" y="251784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645160" y="2517840"/>
            <a:ext cx="64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645160" y="251784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086600" y="2517840"/>
            <a:ext cx="46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086600" y="251784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526600" y="251784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526600" y="251784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30720" y="2833560"/>
            <a:ext cx="770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úbl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468760" y="2833560"/>
            <a:ext cx="12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908760" y="2833560"/>
            <a:ext cx="12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8349840" y="2833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11280" y="280368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11280" y="280368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205160" y="2803680"/>
            <a:ext cx="504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205160" y="280368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645160" y="2803680"/>
            <a:ext cx="64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645160" y="280368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086600" y="2803680"/>
            <a:ext cx="46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086600" y="280368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8526600" y="280368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526600" y="280368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38280" y="3124080"/>
            <a:ext cx="756720" cy="243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Ventas 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388880" y="3124080"/>
            <a:ext cx="814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mill.U$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204280" y="3124080"/>
            <a:ext cx="66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doll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849920" y="3124080"/>
            <a:ext cx="742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1 39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288120" y="3124080"/>
            <a:ext cx="74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65 73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729560" y="312408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82 0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11280" y="308628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11280" y="308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11280" y="308628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17400" y="3086280"/>
            <a:ext cx="35877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17400" y="3086280"/>
            <a:ext cx="35877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205160" y="3086280"/>
            <a:ext cx="504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205160" y="308628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205160" y="308628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210200" y="308628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210200" y="308628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645160" y="3086280"/>
            <a:ext cx="64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645160" y="308628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645160" y="308628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651640" y="308628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651640" y="308628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086600" y="3086280"/>
            <a:ext cx="46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086600" y="308628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086600" y="308628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091280" y="3086280"/>
            <a:ext cx="14353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091280" y="308628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8526600" y="308628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526600" y="308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526600" y="308628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11280" y="309240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11280" y="309240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205160" y="3092400"/>
            <a:ext cx="504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205160" y="309240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645160" y="3092400"/>
            <a:ext cx="64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645160" y="309240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086600" y="3092400"/>
            <a:ext cx="46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086600" y="309240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526600" y="309240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8526600" y="309240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30360" y="3416400"/>
            <a:ext cx="1820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ivadas nacio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960800" y="341640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2 58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400800" y="3416400"/>
            <a:ext cx="63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69 5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842240" y="341640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69 26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11280" y="337824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11280" y="337824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11280" y="337824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17400" y="3378240"/>
            <a:ext cx="35877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17400" y="3378240"/>
            <a:ext cx="35877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205160" y="3378240"/>
            <a:ext cx="504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205160" y="337824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205160" y="337824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210200" y="337824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210200" y="337824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645160" y="3378240"/>
            <a:ext cx="64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645160" y="337824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645160" y="337824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651640" y="337824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651640" y="337824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086600" y="3378240"/>
            <a:ext cx="46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086600" y="337824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086600" y="337824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091280" y="3378240"/>
            <a:ext cx="14353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091280" y="337824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8526600" y="337824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8526600" y="337824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8526600" y="337824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11280" y="338472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11280" y="338472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205160" y="3384720"/>
            <a:ext cx="504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205160" y="338472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645160" y="3384720"/>
            <a:ext cx="64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645160" y="33847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086600" y="3384720"/>
            <a:ext cx="46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086600" y="33847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526600" y="338472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526600" y="33847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33240" y="3700440"/>
            <a:ext cx="1027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xtranje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960800" y="370044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53 57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400800" y="3700440"/>
            <a:ext cx="63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91 92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729560" y="370044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10 5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11280" y="366876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11280" y="366876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205160" y="3668760"/>
            <a:ext cx="504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205160" y="366876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645160" y="3668760"/>
            <a:ext cx="64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645160" y="366876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086600" y="3668760"/>
            <a:ext cx="46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086600" y="366876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8526600" y="366876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8526600" y="366876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30720" y="3984480"/>
            <a:ext cx="770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úbl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073480" y="3984480"/>
            <a:ext cx="51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5 2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513480" y="3984480"/>
            <a:ext cx="51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 2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954920" y="39844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2 2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11280" y="395460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11280" y="395460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205160" y="3954600"/>
            <a:ext cx="504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205160" y="395460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645160" y="3954600"/>
            <a:ext cx="64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645160" y="395460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086600" y="3954600"/>
            <a:ext cx="46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086600" y="395460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526600" y="395460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8526600" y="395460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31080" y="4275000"/>
            <a:ext cx="344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articipación en las Ventas de las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243400" y="4275000"/>
            <a:ext cx="34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684840" y="4275000"/>
            <a:ext cx="346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125920" y="427500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11280" y="423720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11280" y="423720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280" y="423720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17400" y="4237200"/>
            <a:ext cx="35877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17400" y="4237200"/>
            <a:ext cx="35877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205160" y="4237200"/>
            <a:ext cx="504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205160" y="423720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205160" y="423720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210200" y="423720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210200" y="423720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645160" y="4237200"/>
            <a:ext cx="64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645160" y="423720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645160" y="423720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651640" y="423720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651640" y="423720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086600" y="4237200"/>
            <a:ext cx="46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086600" y="423720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086600" y="423720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091280" y="4237200"/>
            <a:ext cx="14353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091280" y="423720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8526600" y="423720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8526600" y="423720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8526600" y="423720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11280" y="424332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11280" y="424332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205160" y="4243320"/>
            <a:ext cx="504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205160" y="424332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645160" y="4243320"/>
            <a:ext cx="64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645160" y="424332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086600" y="4243320"/>
            <a:ext cx="46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086600" y="424332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8526600" y="424332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8526600" y="424332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34680" y="4567320"/>
            <a:ext cx="1949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ivadas nacio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186520" y="4567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42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627960" y="4567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42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8069400" y="456732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8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11280" y="452916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11280" y="452916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11280" y="452916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17400" y="4529160"/>
            <a:ext cx="35877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17400" y="4529160"/>
            <a:ext cx="35877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205160" y="4529160"/>
            <a:ext cx="504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205160" y="452916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205160" y="452916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210200" y="452916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210200" y="452916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645160" y="4529160"/>
            <a:ext cx="64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645160" y="452916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645160" y="452916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651640" y="452916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651640" y="452916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086600" y="4529160"/>
            <a:ext cx="46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086600" y="452916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086600" y="452916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091280" y="4529160"/>
            <a:ext cx="14353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7091280" y="452916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8526600" y="452916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8526600" y="452916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8526600" y="452916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11280" y="453564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1280" y="453564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205160" y="4535640"/>
            <a:ext cx="504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205160" y="453564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645160" y="4535640"/>
            <a:ext cx="64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645160" y="453564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086600" y="4535640"/>
            <a:ext cx="46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086600" y="453564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8526600" y="453564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8526600" y="453564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33600" y="4851360"/>
            <a:ext cx="110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xtranje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186520" y="48513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2.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627960" y="48513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5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8069400" y="485136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60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11280" y="481968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11280" y="481968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205160" y="4819680"/>
            <a:ext cx="504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205160" y="481968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645160" y="4819680"/>
            <a:ext cx="64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645160" y="481968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086600" y="4819680"/>
            <a:ext cx="46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086600" y="481968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8526600" y="481968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8526600" y="481968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41160" y="5135400"/>
            <a:ext cx="241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Industria automotriz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052960" y="5135400"/>
            <a:ext cx="541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25.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494400" y="5135400"/>
            <a:ext cx="53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29.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7772400" y="5105520"/>
            <a:ext cx="83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30.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11280" y="510552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11280" y="510552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205160" y="5105520"/>
            <a:ext cx="504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4205160" y="510552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645160" y="5105520"/>
            <a:ext cx="64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645160" y="51055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86600" y="5105520"/>
            <a:ext cx="46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086600" y="51055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8526600" y="510552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8526600" y="51055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33600" y="5419800"/>
            <a:ext cx="83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úbl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300640" y="5419800"/>
            <a:ext cx="29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742080" y="541980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8180280" y="541980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11280" y="538812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11280" y="5388120"/>
            <a:ext cx="32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11280" y="567360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11280" y="567360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11280" y="567360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11280" y="567360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11280" y="567360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11280" y="567360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400" y="5673600"/>
            <a:ext cx="35877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400" y="5673600"/>
            <a:ext cx="35877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205160" y="5388120"/>
            <a:ext cx="504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205160" y="5388120"/>
            <a:ext cx="32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205160" y="5673600"/>
            <a:ext cx="504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205160" y="5673600"/>
            <a:ext cx="50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205160" y="567360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210200" y="567360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210200" y="5673600"/>
            <a:ext cx="14349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645160" y="5388120"/>
            <a:ext cx="64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645160" y="538812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645160" y="5673600"/>
            <a:ext cx="64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645160" y="5673600"/>
            <a:ext cx="648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645160" y="567360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651640" y="567360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651640" y="5673600"/>
            <a:ext cx="14349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086600" y="5388120"/>
            <a:ext cx="46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086600" y="538812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7086600" y="5673600"/>
            <a:ext cx="46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086600" y="5673600"/>
            <a:ext cx="468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086600" y="567360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091280" y="5673600"/>
            <a:ext cx="14353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091280" y="5673600"/>
            <a:ext cx="14353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8526600" y="538812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8526600" y="538812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8526600" y="567360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8526600" y="567360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8526600" y="567360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8526600" y="567360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8526600" y="567360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8526600" y="567360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899640" y="5911920"/>
            <a:ext cx="500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400040" y="5916600"/>
            <a:ext cx="1181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CEPAL, DDP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575800" y="5916600"/>
            <a:ext cx="56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ig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134880" y="5916600"/>
            <a:ext cx="79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924720" y="5916600"/>
            <a:ext cx="272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0" name=""/>
          <p:cNvGraphicFramePr/>
          <p:nvPr/>
        </p:nvGraphicFramePr>
        <p:xfrm>
          <a:off x="1752480" y="76320"/>
          <a:ext cx="5372280" cy="63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76320"/>
                    <a:ext cx="537228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2" name=""/>
          <p:cNvGraphicFramePr/>
          <p:nvPr/>
        </p:nvGraphicFramePr>
        <p:xfrm>
          <a:off x="1368360" y="774720"/>
          <a:ext cx="6407280" cy="6083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68360" y="774720"/>
                    <a:ext cx="6407280" cy="6083280"/>
                  </a:xfrm>
                  <a:prstGeom prst="rect">
                    <a:avLst/>
                  </a:prstGeom>
                  <a:ln w="93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4" name=""/>
          <p:cNvGraphicFramePr/>
          <p:nvPr/>
        </p:nvGraphicFramePr>
        <p:xfrm>
          <a:off x="944640" y="1235160"/>
          <a:ext cx="7284960" cy="545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4640" y="1235160"/>
                    <a:ext cx="7284960" cy="54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6" name=""/>
          <p:cNvSpPr/>
          <p:nvPr/>
        </p:nvSpPr>
        <p:spPr>
          <a:xfrm>
            <a:off x="198360" y="146160"/>
            <a:ext cx="818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9eefd"/>
                </a:solidFill>
                <a:latin typeface="Arial"/>
              </a:rPr>
              <a:t>CHILE:  PRODUCTIVIDAD LABORAL DE FIRM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9eefd"/>
                </a:solidFill>
                <a:latin typeface="Arial"/>
              </a:rPr>
              <a:t>PEQUEÑAS Y GRANDES, 1990-19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TRIZ DE CORREL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8" name=""/>
          <p:cNvGraphicFramePr/>
          <p:nvPr/>
        </p:nvGraphicFramePr>
        <p:xfrm>
          <a:off x="839880" y="1752480"/>
          <a:ext cx="7122960" cy="359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1752480"/>
                    <a:ext cx="7122960" cy="35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0" name=""/>
          <p:cNvSpPr/>
          <p:nvPr/>
        </p:nvSpPr>
        <p:spPr>
          <a:xfrm>
            <a:off x="907200" y="5500800"/>
            <a:ext cx="417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40 significativo al 9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1" name=""/>
          <p:cNvGraphicFramePr/>
          <p:nvPr/>
        </p:nvGraphicFramePr>
        <p:xfrm>
          <a:off x="1679400" y="404640"/>
          <a:ext cx="6069240" cy="843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9400" y="404640"/>
                    <a:ext cx="6069240" cy="84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3" name=""/>
          <p:cNvSpPr/>
          <p:nvPr/>
        </p:nvSpPr>
        <p:spPr>
          <a:xfrm>
            <a:off x="904680" y="-61920"/>
            <a:ext cx="70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ÉXICO:  COMPETITIVIDAD INTERNACIONAL 1985-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4603320" y="593640"/>
            <a:ext cx="185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5" name=""/>
          <p:cNvGraphicFramePr/>
          <p:nvPr/>
        </p:nvGraphicFramePr>
        <p:xfrm>
          <a:off x="1770120" y="685800"/>
          <a:ext cx="5773680" cy="613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0120" y="685800"/>
                    <a:ext cx="5773680" cy="61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7" name=""/>
          <p:cNvSpPr/>
          <p:nvPr/>
        </p:nvSpPr>
        <p:spPr>
          <a:xfrm>
            <a:off x="1035720" y="152280"/>
            <a:ext cx="756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GENTINA:  COMPETITIVIDAD INTERNACIONAL 1985-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4600080" y="593640"/>
            <a:ext cx="185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1214280" y="2014560"/>
          <a:ext cx="7399440" cy="415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2014560"/>
                    <a:ext cx="7399440" cy="41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1" name=""/>
          <p:cNvSpPr/>
          <p:nvPr/>
        </p:nvSpPr>
        <p:spPr>
          <a:xfrm>
            <a:off x="1519200" y="243000"/>
            <a:ext cx="5808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ASIL:  ESTRUCTURA DE EXPORT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85-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en porcentaj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98000"/>
            <a:ext cx="777240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s modelos neoclasicos y evolutivos brindan  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a distinta lectura del proceso de desarrollo y del impacto de las reformas estructu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7820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equilibrio como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ceso (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y no como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stado)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y la necesidad de un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gente coordinador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la economi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stituyen dos lecturas muy diferentes del proceso de desarrollo de una sociedad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Europa y Asia el estado ha jugado un papel central como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agente coordinado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 las reformas estructurales y estas han sido incorporadas de manera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gradu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´Esto contradice al Consenso de Washington, en el sentido de que la globalización requiere un gobierno neutral, un estado mínimo y la estabilidad macro como precondición para el crecimiento´. (Amendola y Gaffard, 200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´Ellos (Europa y Asia) se integraron a la economía mundial en sus propios términos´(Rodrik, 1998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2" name=""/>
          <p:cNvGraphicFramePr/>
          <p:nvPr/>
        </p:nvGraphicFramePr>
        <p:xfrm>
          <a:off x="515880" y="387360"/>
          <a:ext cx="8356680" cy="102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5880" y="387360"/>
                    <a:ext cx="8356680" cy="102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4" name=""/>
          <p:cNvGraphicFramePr/>
          <p:nvPr/>
        </p:nvGraphicFramePr>
        <p:xfrm>
          <a:off x="1066680" y="1446120"/>
          <a:ext cx="8534520" cy="5411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1446120"/>
                    <a:ext cx="853452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6" name=""/>
          <p:cNvGraphicFramePr/>
          <p:nvPr/>
        </p:nvGraphicFramePr>
        <p:xfrm>
          <a:off x="1833480" y="530280"/>
          <a:ext cx="5205600" cy="45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3480" y="530280"/>
                    <a:ext cx="520560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8" name=""/>
          <p:cNvGraphicFramePr/>
          <p:nvPr/>
        </p:nvGraphicFramePr>
        <p:xfrm>
          <a:off x="1214280" y="1523880"/>
          <a:ext cx="7296480" cy="4494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4280" y="1523880"/>
                    <a:ext cx="7296480" cy="44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4468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eefd"/>
                </a:solidFill>
                <a:latin typeface="Arial"/>
              </a:rPr>
              <a:t>Saldo en balanza comercial para los grupos de ramas industriales I ,II ,III ,IV y V</a:t>
            </a:r>
            <a:br>
              <a:rPr sz="2800"/>
            </a:br>
            <a:r>
              <a:rPr b="1" i="1" lang="en-US" sz="2800" spc="-1" strike="noStrike">
                <a:solidFill>
                  <a:srgbClr val="d9eefd"/>
                </a:solidFill>
                <a:latin typeface="Arial"/>
              </a:rPr>
              <a:t>(En millones de dólares corrien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-108000" y="2724120"/>
            <a:ext cx="9236160" cy="3009960"/>
            <a:chOff x="-108000" y="2724120"/>
            <a:chExt cx="9236160" cy="3009960"/>
          </a:xfrm>
        </p:grpSpPr>
        <p:pic>
          <p:nvPicPr>
            <p:cNvPr id="672" name="" descr=""/>
            <p:cNvPicPr/>
            <p:nvPr/>
          </p:nvPicPr>
          <p:blipFill>
            <a:blip r:embed="rId1"/>
            <a:stretch/>
          </p:blipFill>
          <p:spPr>
            <a:xfrm>
              <a:off x="-108000" y="2724120"/>
              <a:ext cx="9236160" cy="30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"/>
            <p:cNvSpPr txBox="1"/>
            <p:nvPr/>
          </p:nvSpPr>
          <p:spPr>
            <a:xfrm>
              <a:off x="-108000" y="2724120"/>
              <a:ext cx="9236160" cy="3009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304920" y="223200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259200" y="142920"/>
            <a:ext cx="7549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NUEVOS REGÍMENES SECTORIA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 ORGANIZACIÓN DE LA PRODUCC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4920" y="2057400"/>
            <a:ext cx="8534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“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UERTE” Y NACIMIENTO DE EMPRE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JUVENECIMIENTO DEL STOCK DE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TERNALIZACION DEL PROGRESO TECNOLOG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S-VERTICALIZACIÓN PRODUCTIVA Y NUE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RMAS DE ARTICULACIÓN CON EL EXT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S NUEVAS INSTITUCIONES Y DISCIPLINAS OM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24000" y="2276280"/>
            <a:ext cx="777240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ffff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lase 8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1116000" y="3886200"/>
            <a:ext cx="6400800" cy="17524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contenidos de una nueva agenda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líticas publicas tras la apertura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-regulación de la econom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77240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Lucida Sans Unicode"/>
              </a:rPr>
              <a:t>Volatilidad macro 1990-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" descr=""/>
          <p:cNvPicPr/>
          <p:nvPr/>
        </p:nvPicPr>
        <p:blipFill>
          <a:blip r:embed="rId1"/>
          <a:stretch/>
        </p:blipFill>
        <p:spPr>
          <a:xfrm>
            <a:off x="1116000" y="2297160"/>
            <a:ext cx="627048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55600" y="549000"/>
            <a:ext cx="7772400" cy="114300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cc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Los contenidos de una macro para</a:t>
            </a:r>
            <a:br>
              <a:rPr sz="2800"/>
            </a:b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el  cr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7772400" cy="4114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ccff"/>
                </a:solidFill>
                <a:latin typeface="Arial"/>
              </a:rPr>
              <a:t>Equilibrio de los ‘fundamentals’:  inflacion, deficit fiscal y saldo de cuenta corriente.Condicion necesaria pero no sufic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ccff"/>
                </a:solidFill>
                <a:latin typeface="Arial"/>
              </a:rPr>
              <a:t>Productividad y ‘construccion’ de ventajas comparativas dinamicas basadas en cono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ccff"/>
                </a:solidFill>
                <a:latin typeface="Arial"/>
              </a:rPr>
              <a:t>Empleo, equidad y gobernab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ccff"/>
                </a:solidFill>
                <a:latin typeface="Arial"/>
              </a:rPr>
              <a:t>Co-evolución entre economía, tecnología e instituciones e inter-dependencia entre lo macro y lo microeconomi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304920" y="223200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918720" y="738360"/>
            <a:ext cx="6590520" cy="103860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S CONTENIDOS SECTORIALES DE U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EVA AGENDA DE POLÍTICAS PUBLIC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971640" y="2565360"/>
            <a:ext cx="853416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IVATIZACIONES Y MARCOS REGULATO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MENTO DE LA COMPET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SARROLLO PRODUC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DUCACION Y CREACION DE CAPITAL HUMAN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QUIDAD Y GOBERNABILIDAD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-252360" y="457200"/>
            <a:ext cx="8763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S POLÍTICAS DE DESARROL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DUCTIVO Y TECNOLO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0" y="1797120"/>
            <a:ext cx="9142560" cy="5063760"/>
          </a:xfrm>
          <a:prstGeom prst="rect">
            <a:avLst/>
          </a:prstGeom>
          <a:solidFill>
            <a:srgbClr val="000000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LA ‘CONSTRUCCION’ DE VENTAJAS COMPARATIVAS DINAMICAS.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La busqueda de un patron de especializacion con mas valor agreg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Rol de las PYME, los ´clusters´ y  las ‘cadenas’ de val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El Estado como proveedor de bienes publico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2. </a:t>
            </a:r>
            <a:r>
              <a:rPr b="1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El</a:t>
            </a:r>
            <a:r>
              <a:rPr b="1" lang="en-US" sz="2000" spc="-1" strike="noStrike" u="sng">
                <a:solidFill>
                  <a:srgbClr val="ccccff"/>
                </a:solidFill>
                <a:uFillTx/>
                <a:latin typeface="Arial"/>
              </a:rPr>
              <a:t> Sistema Innovativo nacional </a:t>
            </a:r>
            <a:r>
              <a:rPr b="1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Regimen de incentivos. Subsidio a la oferta o a la demanda?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Propiedad intelectual. Vinculos Universidad/Empresa.</a:t>
            </a: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Programas sectoriales. Recursos naturales, biotech y ICTs.</a:t>
            </a: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3.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L</a:t>
            </a:r>
            <a:r>
              <a:rPr b="1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as Empresas Transnacion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Sipis y ‘enraizmiednto’ local.  Tecnologia local de uso universal.  </a:t>
            </a: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Apoyo al mejoramiento de la competitividad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olíticas ‘horizontales’ relacionadas con el mejoramiento de la infraestructura física e institucional sobre las que se apoya la actividad exportadora. Caminos, Puertos, Silos, Infraestructura de frio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onstruccion de ´activos colectivos´ - apoyo institucional y legal en marcas, temas de ‘denominacion geografica’, etc - .en el marco de nuevas reglas OMC y del Convenio de Biodiversida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. Políticas industriales y tecnológicas sectoriales dirigidas a la creación de nuevos sectores exportado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. Políticas de apoyo a la creación de empresas de base tecnológica, volcadas a la exportac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acia una lectura alternati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20500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Debemos tomar en cuent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terdependendencias entre lo macro y lo mi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-evolución entre lo económico, lo tecnológico y lo institu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transformación de la estructura productiva durante los procesos de ajus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destrucción y creación de capacidades productivas y tecnológicas en el proceso de  reestructuracion de la econom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cambios en la diversidad de la estructura productiva como indice de desarrollo de la economí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Politicas de incentivo al uso de TIC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.Marcos regulatorios y desarrollo de competencia en los mercados de bienes y servicios asociados al uso de TIC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.Apoyo al desarrollo de una infraestructura publica de conexion a TICs en Infocentros, escuelas, parroquias, etc.                           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.Formación de recursos humanos en TIC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.Papel de una estrategia de gobierno digital como mecanismo de incentivo al uso de TICs. Declaracion de impuestos, compras del estado, salud, educac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Politicas de incentivo al desarrollo del Sistema Innovativo Nacion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.Incentivos fiscales, programas de riesgo compartido, licitaciones sectoriales y otras formas institucionales de apoyo a los esfuerzos de I&amp;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.Nuevos vinculos Universidad-Empresas, incluyendo desarrollo de parques industriales, incubadoras tecnológicas y otras formas de apoyo a PyMEs innovador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.Financiamiento para la creación de nuevas empresas de base tecnológ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.Creación de nuevos sectores agroindustriales de alto contenido tecnologico, aprovechando  biodiversidad y nuevos desarrollos en biotecnologia y genetica animal y veget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7480" y="190080"/>
            <a:ext cx="9067680" cy="9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Etapas del desarrollo latinoamericano de posguer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1840" y="2276640"/>
            <a:ext cx="89121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buClr>
                <a:srgbClr val="ffff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La sustitución de import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La fase de turbulencia y desequilibrio macroeconó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El comienzo de la transición hacia economías más abiertas y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    desreguladas, con menor participación productiva del sector púb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480" y="1508040"/>
            <a:ext cx="9005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e distinguen tres fases claramente diferenci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62280" y="4013280"/>
            <a:ext cx="4754520" cy="2022480"/>
          </a:xfrm>
          <a:custGeom>
            <a:avLst/>
            <a:gdLst/>
            <a:ahLst/>
            <a:rect l="l" t="t" r="r" b="b"/>
            <a:pathLst>
              <a:path w="2995" h="1274">
                <a:moveTo>
                  <a:pt x="0" y="0"/>
                </a:moveTo>
                <a:lnTo>
                  <a:pt x="0" y="1273"/>
                </a:lnTo>
                <a:lnTo>
                  <a:pt x="2994" y="1273"/>
                </a:lnTo>
              </a:path>
            </a:pathLst>
          </a:custGeom>
          <a:noFill/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54040" y="4730760"/>
            <a:ext cx="2038320" cy="444600"/>
          </a:xfrm>
          <a:prstGeom prst="ellipse">
            <a:avLst/>
          </a:prstGeom>
          <a:noFill/>
          <a:ln w="12600">
            <a:solidFill>
              <a:srgbClr val="ffff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5320" y="4734000"/>
            <a:ext cx="1517400" cy="674640"/>
          </a:xfrm>
          <a:prstGeom prst="ellipse">
            <a:avLst/>
          </a:prstGeom>
          <a:noFill/>
          <a:ln w="12600">
            <a:solidFill>
              <a:srgbClr val="ffff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68640" y="4092480"/>
            <a:ext cx="2394000" cy="1235160"/>
          </a:xfrm>
          <a:prstGeom prst="ellipse">
            <a:avLst/>
          </a:prstGeom>
          <a:noFill/>
          <a:ln w="12600">
            <a:solidFill>
              <a:srgbClr val="ffff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71800" y="59389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25840" y="6197760"/>
            <a:ext cx="752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700200" y="4156200"/>
            <a:ext cx="1689120" cy="78408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3916440"/>
            <a:ext cx="494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38720" y="5376960"/>
            <a:ext cx="633240" cy="11412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32280" y="6216480"/>
            <a:ext cx="1594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Turbulencia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5181480"/>
            <a:ext cx="1981080" cy="609840"/>
          </a:xfrm>
          <a:prstGeom prst="line">
            <a:avLst/>
          </a:prstGeom>
          <a:ln w="12600">
            <a:solidFill>
              <a:srgbClr val="00ff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62600" y="5675400"/>
            <a:ext cx="1816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Fase de la “Destrucción creativ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62280" y="4267080"/>
            <a:ext cx="4082760" cy="1175040"/>
          </a:xfrm>
          <a:custGeom>
            <a:avLst/>
            <a:gdLst/>
            <a:ahLst/>
            <a:rect l="l" t="t" r="r" b="b"/>
            <a:pathLst>
              <a:path w="2572" h="740">
                <a:moveTo>
                  <a:pt x="0" y="739"/>
                </a:moveTo>
                <a:lnTo>
                  <a:pt x="698" y="336"/>
                </a:lnTo>
                <a:lnTo>
                  <a:pt x="997" y="514"/>
                </a:lnTo>
                <a:lnTo>
                  <a:pt x="1275" y="336"/>
                </a:lnTo>
                <a:lnTo>
                  <a:pt x="1610" y="528"/>
                </a:lnTo>
                <a:lnTo>
                  <a:pt x="2571" y="0"/>
                </a:lnTo>
              </a:path>
            </a:pathLst>
          </a:custGeom>
          <a:noFill/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88120" y="3963960"/>
            <a:ext cx="18795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Hacia un modelo más desregulado y abier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572000"/>
            <a:ext cx="1066680" cy="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075560" y="5938920"/>
            <a:ext cx="690840" cy="625680"/>
            <a:chOff x="4075560" y="5938920"/>
            <a:chExt cx="690840" cy="625680"/>
          </a:xfrm>
        </p:grpSpPr>
        <p:sp>
          <p:nvSpPr>
            <p:cNvPr id="66" name=""/>
            <p:cNvSpPr/>
            <p:nvPr/>
          </p:nvSpPr>
          <p:spPr>
            <a:xfrm>
              <a:off x="4419720" y="5938920"/>
              <a:ext cx="0" cy="21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075560" y="6197760"/>
              <a:ext cx="690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98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3962520" y="4724280"/>
            <a:ext cx="1066680" cy="533520"/>
            <a:chOff x="3962520" y="4724280"/>
            <a:chExt cx="1066680" cy="533520"/>
          </a:xfrm>
        </p:grpSpPr>
        <p:sp>
          <p:nvSpPr>
            <p:cNvPr id="69" name=""/>
            <p:cNvSpPr/>
            <p:nvPr/>
          </p:nvSpPr>
          <p:spPr>
            <a:xfrm>
              <a:off x="4038480" y="4876920"/>
              <a:ext cx="83844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4952880"/>
              <a:ext cx="9144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14800" y="5029200"/>
              <a:ext cx="9144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267080" y="5105520"/>
              <a:ext cx="76212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62520" y="4800600"/>
              <a:ext cx="6858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19720" y="5181480"/>
              <a:ext cx="53316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572000" y="5257800"/>
              <a:ext cx="30492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267080" y="4724280"/>
              <a:ext cx="0" cy="3812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419720" y="4724280"/>
              <a:ext cx="0" cy="4572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72000" y="4800600"/>
              <a:ext cx="0" cy="4572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24280" y="4800600"/>
              <a:ext cx="0" cy="4572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6920" y="4876920"/>
              <a:ext cx="0" cy="3808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14800" y="4724280"/>
              <a:ext cx="0" cy="3049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038480" y="4724280"/>
              <a:ext cx="0" cy="1526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3333cc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Lucida Sans Unicode"/>
              </a:rPr>
              <a:t>Volatilidad macro 1990-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436760" y="2297160"/>
            <a:ext cx="627048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217440" y="1292400"/>
          <a:ext cx="8555040" cy="531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440" y="1292400"/>
                    <a:ext cx="8555040" cy="53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268560" y="289080"/>
            <a:ext cx="883368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VOLUCIÓN ECONÓMICA DE AMÉRICA LATINA: 1945-2000</a:t>
            </a:r>
            <a:br>
              <a:rPr sz="24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(Tasas de crecimiento anu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2440" y="6453360"/>
            <a:ext cx="167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uen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CEP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LA MAYORÍA DE LOSPAÍSES HA SIDO INCAPAZ DE RECUPERAR LOS RITMOS DE CRECIMIENTO ANTERIORES A LA CRISIS DE LA DEU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240" y="1600200"/>
          <a:ext cx="8832960" cy="550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600200"/>
                    <a:ext cx="8832960" cy="550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 flipV="1">
            <a:off x="1219320" y="4343040"/>
            <a:ext cx="1676160" cy="152388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2049480" y="0"/>
          <a:ext cx="4940280" cy="708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9480" y="0"/>
                    <a:ext cx="494028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5T13:45:26Z</dcterms:created>
  <dc:creator>Patricia Roa</dc:creator>
  <dc:description/>
  <dc:language>en-US</dc:language>
  <cp:lastModifiedBy>jkatz</cp:lastModifiedBy>
  <cp:lastPrinted>2000-11-03T20:32:36Z</cp:lastPrinted>
  <dcterms:modified xsi:type="dcterms:W3CDTF">2005-10-21T12:59:00Z</dcterms:modified>
  <cp:revision>148</cp:revision>
  <dc:subject/>
  <dc:title>No Slide Title</dc:title>
</cp:coreProperties>
</file>