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5715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 a ries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incertidumb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s Concep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de naturaleza aleatórea, las probabilidades de ocurrencia de eventos son conoc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certidum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probabilidades de ocurrencia de un evento no son bien cua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nte básica de Incertidu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 incompleta inexacta, sesgada, falsa o contradic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 Que inversión elegi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105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113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60240" y="744840"/>
            <a:ext cx="5566680" cy="3171240"/>
            <a:chOff x="1560240" y="744840"/>
            <a:chExt cx="5566680" cy="3171240"/>
          </a:xfrm>
        </p:grpSpPr>
        <p:grpSp>
          <p:nvGrpSpPr>
            <p:cNvPr id="129" name=""/>
            <p:cNvGrpSpPr/>
            <p:nvPr/>
          </p:nvGrpSpPr>
          <p:grpSpPr>
            <a:xfrm>
              <a:off x="2651040" y="1704960"/>
              <a:ext cx="2782800" cy="1914480"/>
              <a:chOff x="2651040" y="1704960"/>
              <a:chExt cx="2782800" cy="1914480"/>
            </a:xfrm>
          </p:grpSpPr>
          <p:sp>
            <p:nvSpPr>
              <p:cNvPr id="130" name=""/>
              <p:cNvSpPr/>
              <p:nvPr/>
            </p:nvSpPr>
            <p:spPr>
              <a:xfrm>
                <a:off x="2651040" y="1704960"/>
                <a:ext cx="0" cy="190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57520" y="3619440"/>
                <a:ext cx="27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76680" y="349416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7736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795320"/>
              <a:ext cx="0" cy="1908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4332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79280" y="365436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00320" y="744840"/>
              <a:ext cx="3326760" cy="2806560"/>
              <a:chOff x="2200320" y="744840"/>
              <a:chExt cx="3326760" cy="28065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0032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7664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57600" y="1881360"/>
                <a:ext cx="420840" cy="23328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59600" y="311616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2960" y="3390840"/>
                <a:ext cx="62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762440" y="2440080"/>
              <a:ext cx="2364480" cy="99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0240" y="2347920"/>
              <a:ext cx="2457360" cy="117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11480" y="2814480"/>
              <a:ext cx="752760" cy="13176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9480" y="1795320"/>
              <a:ext cx="0" cy="1908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4320" y="361476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95960" y="3390840"/>
              <a:ext cx="1037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9720" y="316692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151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156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788640" y="4368960"/>
            <a:ext cx="299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isg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cisión depende del “comportamiento” del inversor frente al ries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omo se define el comportamiento de un inversionista ante el ries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emos al inversionista a la siguiente pregunt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 Por cuanto dinero estaría dispuesto a vender el boleto de la siguiente  loter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% de probabilidad de ganar $ 1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% de probabilidad de ganar $    500.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valor esperado (E) de la loterí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= 0,5 * 1.000.000 + 0,5 * 500.000 = 75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para el precio (E’) que esta dispuesto a vender se cu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’&lt; E               Adverso al r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’ = E               Neutro a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’ &gt; E               Amante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9680" y="29782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34354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9680" y="38926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7040" y="4886280"/>
            <a:ext cx="833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ntari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i todos los agentes económicos son adversos a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valuada en una situació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terminan las variables mas significativas que afectan los indicadores de rentabilidad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s de ins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icient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busca evaluar la sensibilidad de los indicadores de rentabilidad ante variaciones de las variables significativas  más incier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impacto de una variable riesgosa en el VAN es importante, entonces el proyecto es RIESG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ivel de riesgo se determina en la medida que el VAN se hace negativo para valores probables de l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caso, se debe hacer una evaluación costo-beneficio de la pertinencia de comprar certidumbre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ácil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ácil de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permite analizar variaciones de un parámetro a l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tiliza información como las distribuciones de probabilidad del parámetro a sensib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ntrega distribución de probabilidades de los indicadores de rentabilidad VAN y 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a escenario está determinado por los valores que supuestamente tomarían las variables riesgosas en 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tualmente se definen tres escenarios : optimista, medio y pesim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co conocimiento d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stos y mo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e insu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enario optimi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producto sube un 2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los insumos se manti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ventas crecen en un 1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escenarios deben ser definidos por la alta gerencia de l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es una actividad netamente interfun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57120" y="-36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Análisis de Sensibili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de E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639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Ajuste simple en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 de descu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rtamiento del Inversionist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a inversión mas riesgosa se le exige una mayor ren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tanto se espera recibir un premio por asumir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forma de incorporar el riego es castigar la tasa de descu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3428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2720" y="5486400"/>
            <a:ext cx="4494600" cy="1003320"/>
            <a:chOff x="252720" y="5486400"/>
            <a:chExt cx="4494600" cy="1003320"/>
          </a:xfrm>
        </p:grpSpPr>
        <p:sp>
          <p:nvSpPr>
            <p:cNvPr id="197" name=""/>
            <p:cNvSpPr/>
            <p:nvPr/>
          </p:nvSpPr>
          <p:spPr>
            <a:xfrm>
              <a:off x="252720" y="548640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200" y="579096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5280" y="609588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00" y="554652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92880" y="4578480"/>
            <a:ext cx="295884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07920" y="1606680"/>
            <a:ext cx="1919520" cy="930240"/>
            <a:chOff x="907920" y="1606680"/>
            <a:chExt cx="1919520" cy="930240"/>
          </a:xfrm>
        </p:grpSpPr>
        <p:sp>
          <p:nvSpPr>
            <p:cNvPr id="203" name=""/>
            <p:cNvSpPr/>
            <p:nvPr/>
          </p:nvSpPr>
          <p:spPr>
            <a:xfrm>
              <a:off x="999720" y="1866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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7920" y="1606680"/>
              <a:ext cx="1919520" cy="9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834520" y="1486080"/>
            <a:ext cx="2523960" cy="1432800"/>
            <a:chOff x="5834520" y="1486080"/>
            <a:chExt cx="2523960" cy="1432800"/>
          </a:xfrm>
        </p:grpSpPr>
        <p:sp>
          <p:nvSpPr>
            <p:cNvPr id="214" name=""/>
            <p:cNvSpPr/>
            <p:nvPr/>
          </p:nvSpPr>
          <p:spPr>
            <a:xfrm>
              <a:off x="7311960" y="150336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3280" y="148608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834520" y="1554120"/>
              <a:ext cx="2388600" cy="1364760"/>
              <a:chOff x="5834520" y="1554120"/>
              <a:chExt cx="2388600" cy="136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6026040" y="21114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34440" y="17859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11960" y="173520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34520" y="272088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09800" y="155412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26040" y="2133720"/>
                <a:ext cx="21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11760" y="173520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639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Ajuste simple en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 de descu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s del Méto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ija arbitrari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utiliza información valiosa como la distribución de probabilidades de los fluj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aumenta a medida que pasa el tiempo, cosa que no siempre es c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89400" y="231156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752480" y="-360"/>
            <a:ext cx="5639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Ajuste simple en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 de descu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76440" y="-360"/>
            <a:ext cx="4191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mitaciones del modelo probabilístico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endimiento de prob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icil formulación 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ción de las relaciones entr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ción de la relaciones entr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sibilidad de llegar a una solución 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 : Simulación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imulación permite la evaluación de un gran número de escenarios generados aleatoriamente, de acuerdo a las distribuciones de probabilidades de las variables riesgosas  y de las relaciones de interdependencia entre ell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btiene distribuciones de probabilidad de los criterios de evaluación selecciona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476440" y="-360"/>
            <a:ext cx="4191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ribuciones de Probabilidad mas usad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 ho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1440" y="342900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30960" y="4419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241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H="1">
            <a:off x="4032360" y="2749680"/>
            <a:ext cx="62208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54440" y="2749680"/>
            <a:ext cx="59688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510000"/>
            <a:ext cx="2032200" cy="801720"/>
          </a:xfrm>
          <a:custGeom>
            <a:avLst/>
            <a:gdLst/>
            <a:ahLst/>
            <a:rect l="l" t="t" r="r" b="b"/>
            <a:pathLst>
              <a:path w="1280" h="505">
                <a:moveTo>
                  <a:pt x="0" y="477"/>
                </a:moveTo>
                <a:lnTo>
                  <a:pt x="27" y="468"/>
                </a:lnTo>
                <a:lnTo>
                  <a:pt x="63" y="468"/>
                </a:lnTo>
                <a:lnTo>
                  <a:pt x="113" y="468"/>
                </a:lnTo>
                <a:lnTo>
                  <a:pt x="142" y="460"/>
                </a:lnTo>
                <a:lnTo>
                  <a:pt x="171" y="453"/>
                </a:lnTo>
                <a:lnTo>
                  <a:pt x="199" y="453"/>
                </a:lnTo>
                <a:lnTo>
                  <a:pt x="221" y="439"/>
                </a:lnTo>
                <a:lnTo>
                  <a:pt x="243" y="424"/>
                </a:lnTo>
                <a:lnTo>
                  <a:pt x="271" y="410"/>
                </a:lnTo>
                <a:lnTo>
                  <a:pt x="300" y="381"/>
                </a:lnTo>
                <a:lnTo>
                  <a:pt x="329" y="345"/>
                </a:lnTo>
                <a:lnTo>
                  <a:pt x="343" y="288"/>
                </a:lnTo>
                <a:lnTo>
                  <a:pt x="365" y="259"/>
                </a:lnTo>
                <a:lnTo>
                  <a:pt x="372" y="201"/>
                </a:lnTo>
                <a:lnTo>
                  <a:pt x="394" y="172"/>
                </a:lnTo>
                <a:lnTo>
                  <a:pt x="401" y="136"/>
                </a:lnTo>
                <a:lnTo>
                  <a:pt x="415" y="108"/>
                </a:lnTo>
                <a:lnTo>
                  <a:pt x="430" y="86"/>
                </a:lnTo>
                <a:lnTo>
                  <a:pt x="437" y="64"/>
                </a:lnTo>
                <a:lnTo>
                  <a:pt x="451" y="36"/>
                </a:lnTo>
                <a:lnTo>
                  <a:pt x="473" y="14"/>
                </a:lnTo>
                <a:lnTo>
                  <a:pt x="495" y="7"/>
                </a:lnTo>
                <a:lnTo>
                  <a:pt x="523" y="0"/>
                </a:lnTo>
                <a:lnTo>
                  <a:pt x="545" y="0"/>
                </a:lnTo>
                <a:lnTo>
                  <a:pt x="567" y="7"/>
                </a:lnTo>
                <a:lnTo>
                  <a:pt x="617" y="21"/>
                </a:lnTo>
                <a:lnTo>
                  <a:pt x="646" y="28"/>
                </a:lnTo>
                <a:lnTo>
                  <a:pt x="675" y="50"/>
                </a:lnTo>
                <a:lnTo>
                  <a:pt x="703" y="72"/>
                </a:lnTo>
                <a:lnTo>
                  <a:pt x="732" y="93"/>
                </a:lnTo>
                <a:lnTo>
                  <a:pt x="739" y="115"/>
                </a:lnTo>
                <a:lnTo>
                  <a:pt x="761" y="129"/>
                </a:lnTo>
                <a:lnTo>
                  <a:pt x="768" y="151"/>
                </a:lnTo>
                <a:lnTo>
                  <a:pt x="783" y="180"/>
                </a:lnTo>
                <a:lnTo>
                  <a:pt x="797" y="208"/>
                </a:lnTo>
                <a:lnTo>
                  <a:pt x="811" y="230"/>
                </a:lnTo>
                <a:lnTo>
                  <a:pt x="826" y="252"/>
                </a:lnTo>
                <a:lnTo>
                  <a:pt x="833" y="280"/>
                </a:lnTo>
                <a:lnTo>
                  <a:pt x="855" y="302"/>
                </a:lnTo>
                <a:lnTo>
                  <a:pt x="855" y="324"/>
                </a:lnTo>
                <a:lnTo>
                  <a:pt x="876" y="352"/>
                </a:lnTo>
                <a:lnTo>
                  <a:pt x="891" y="374"/>
                </a:lnTo>
                <a:lnTo>
                  <a:pt x="905" y="396"/>
                </a:lnTo>
                <a:lnTo>
                  <a:pt x="927" y="410"/>
                </a:lnTo>
                <a:lnTo>
                  <a:pt x="941" y="432"/>
                </a:lnTo>
                <a:lnTo>
                  <a:pt x="963" y="446"/>
                </a:lnTo>
                <a:lnTo>
                  <a:pt x="991" y="460"/>
                </a:lnTo>
                <a:lnTo>
                  <a:pt x="1013" y="475"/>
                </a:lnTo>
                <a:lnTo>
                  <a:pt x="1035" y="482"/>
                </a:lnTo>
                <a:lnTo>
                  <a:pt x="1063" y="489"/>
                </a:lnTo>
                <a:lnTo>
                  <a:pt x="1085" y="489"/>
                </a:lnTo>
                <a:lnTo>
                  <a:pt x="1107" y="496"/>
                </a:lnTo>
                <a:lnTo>
                  <a:pt x="1135" y="504"/>
                </a:lnTo>
                <a:lnTo>
                  <a:pt x="1157" y="504"/>
                </a:lnTo>
                <a:lnTo>
                  <a:pt x="1179" y="504"/>
                </a:lnTo>
                <a:lnTo>
                  <a:pt x="1207" y="504"/>
                </a:lnTo>
                <a:lnTo>
                  <a:pt x="1229" y="504"/>
                </a:lnTo>
                <a:lnTo>
                  <a:pt x="1251" y="504"/>
                </a:lnTo>
                <a:lnTo>
                  <a:pt x="1279" y="5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59160" y="4718160"/>
            <a:ext cx="52056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9160" y="5035680"/>
            <a:ext cx="5205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7400" y="4521240"/>
            <a:ext cx="3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7040" y="51307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330960" y="4959360"/>
            <a:ext cx="2502000" cy="1365120"/>
            <a:chOff x="6330960" y="4959360"/>
            <a:chExt cx="2502000" cy="1365120"/>
          </a:xfrm>
        </p:grpSpPr>
        <p:sp>
          <p:nvSpPr>
            <p:cNvPr id="253" name=""/>
            <p:cNvSpPr/>
            <p:nvPr/>
          </p:nvSpPr>
          <p:spPr>
            <a:xfrm>
              <a:off x="6330960" y="6324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416560"/>
              <a:ext cx="633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5880" y="5492880"/>
              <a:ext cx="13968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8160" y="5950080"/>
              <a:ext cx="2919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3080" y="5721480"/>
              <a:ext cx="21564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21680" y="5416560"/>
              <a:ext cx="2919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6240" y="4959360"/>
              <a:ext cx="6372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2560" y="6026040"/>
              <a:ext cx="74916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2476440" y="-360"/>
            <a:ext cx="4191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82840" y="3740040"/>
            <a:ext cx="120672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73960" y="3740040"/>
            <a:ext cx="1282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50960" y="2139840"/>
            <a:ext cx="1796760" cy="1401480"/>
            <a:chOff x="750960" y="2139840"/>
            <a:chExt cx="1796760" cy="1401480"/>
          </a:xfrm>
        </p:grpSpPr>
        <p:sp>
          <p:nvSpPr>
            <p:cNvPr id="266" name=""/>
            <p:cNvSpPr/>
            <p:nvPr/>
          </p:nvSpPr>
          <p:spPr>
            <a:xfrm>
              <a:off x="768240" y="2139840"/>
              <a:ext cx="17398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0960" y="217476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206880" y="2292480"/>
            <a:ext cx="1206360" cy="977760"/>
            <a:chOff x="3206880" y="2292480"/>
            <a:chExt cx="1206360" cy="977760"/>
          </a:xfrm>
        </p:grpSpPr>
        <p:sp>
          <p:nvSpPr>
            <p:cNvPr id="269" name=""/>
            <p:cNvSpPr/>
            <p:nvPr/>
          </p:nvSpPr>
          <p:spPr>
            <a:xfrm>
              <a:off x="3206880" y="2292480"/>
              <a:ext cx="1206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0800" y="247968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415320" y="4003560"/>
            <a:ext cx="836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37320" y="5187960"/>
            <a:ext cx="1699200" cy="1036440"/>
            <a:chOff x="3037320" y="5187960"/>
            <a:chExt cx="1699200" cy="1036440"/>
          </a:xfrm>
        </p:grpSpPr>
        <p:sp>
          <p:nvSpPr>
            <p:cNvPr id="273" name=""/>
            <p:cNvSpPr/>
            <p:nvPr/>
          </p:nvSpPr>
          <p:spPr>
            <a:xfrm>
              <a:off x="3054240" y="5187960"/>
              <a:ext cx="15876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37320" y="522288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340240" y="3740040"/>
            <a:ext cx="1219680" cy="978120"/>
            <a:chOff x="5340240" y="3740040"/>
            <a:chExt cx="1219680" cy="978120"/>
          </a:xfrm>
        </p:grpSpPr>
        <p:sp>
          <p:nvSpPr>
            <p:cNvPr id="276" name=""/>
            <p:cNvSpPr/>
            <p:nvPr/>
          </p:nvSpPr>
          <p:spPr>
            <a:xfrm>
              <a:off x="5340240" y="374004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97120" y="385128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54520" y="385128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1080" y="274320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3282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09880" y="47178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02160" y="42670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42670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476440" y="-360"/>
            <a:ext cx="4191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ado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7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ción de Probabilidades del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64280" y="7473960"/>
            <a:ext cx="63360" cy="1892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225440" y="2063880"/>
            <a:ext cx="6540480" cy="4178160"/>
            <a:chOff x="1225440" y="2063880"/>
            <a:chExt cx="6540480" cy="4178160"/>
          </a:xfrm>
        </p:grpSpPr>
        <p:sp>
          <p:nvSpPr>
            <p:cNvPr id="288" name=""/>
            <p:cNvSpPr/>
            <p:nvPr/>
          </p:nvSpPr>
          <p:spPr>
            <a:xfrm>
              <a:off x="1225440" y="2063880"/>
              <a:ext cx="6540480" cy="417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3528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11240" y="5492880"/>
              <a:ext cx="6372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7560" y="5340240"/>
              <a:ext cx="633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63880" y="4654440"/>
              <a:ext cx="63360" cy="158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9840" y="5264280"/>
              <a:ext cx="6372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161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4959360"/>
              <a:ext cx="6372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44760" y="4883040"/>
              <a:ext cx="6336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21080" y="5111640"/>
              <a:ext cx="63360" cy="11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97040" y="4807080"/>
              <a:ext cx="6372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336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968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5640" y="5035680"/>
              <a:ext cx="6372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196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8280" y="4578480"/>
              <a:ext cx="63360" cy="166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42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0560" y="4502160"/>
              <a:ext cx="63360" cy="173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840" y="4730760"/>
              <a:ext cx="6372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68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354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1440" y="4273560"/>
              <a:ext cx="6372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77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40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400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3892680"/>
              <a:ext cx="63360" cy="234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92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8640" y="3435480"/>
              <a:ext cx="63720" cy="2806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44960" y="3587760"/>
              <a:ext cx="63360" cy="265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21280" y="2216160"/>
              <a:ext cx="63360" cy="402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7240" y="3206880"/>
              <a:ext cx="63720" cy="303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73560" y="2749680"/>
              <a:ext cx="63360" cy="349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49880" y="3816360"/>
              <a:ext cx="63360" cy="242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5840" y="3587760"/>
              <a:ext cx="63720" cy="265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21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8480" y="3816360"/>
              <a:ext cx="63360" cy="242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4730760"/>
              <a:ext cx="6372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30760" y="4273560"/>
              <a:ext cx="6336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7080" y="4121280"/>
              <a:ext cx="6336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59360" y="4044960"/>
              <a:ext cx="63360" cy="219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35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11640" y="4197240"/>
              <a:ext cx="63720" cy="204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7960" y="3968640"/>
              <a:ext cx="63360" cy="227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40240" y="4273560"/>
              <a:ext cx="6372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64280" y="3892680"/>
              <a:ext cx="63360" cy="234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65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2880" y="4502160"/>
              <a:ext cx="63360" cy="173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8840" y="4044960"/>
              <a:ext cx="63720" cy="219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451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148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7440" y="4197240"/>
              <a:ext cx="63720" cy="204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73760" y="3968640"/>
              <a:ext cx="63360" cy="227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008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26040" y="4121280"/>
              <a:ext cx="6372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0236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78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54640" y="4578480"/>
              <a:ext cx="63720" cy="166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309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7280" y="4578480"/>
              <a:ext cx="63360" cy="166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240" y="4807080"/>
              <a:ext cx="6372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9560" y="5111640"/>
              <a:ext cx="63360" cy="11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35880" y="5416560"/>
              <a:ext cx="6336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8816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64480" y="5264280"/>
              <a:ext cx="63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40440" y="5416560"/>
              <a:ext cx="637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76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9160" y="4425840"/>
              <a:ext cx="63360" cy="1816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1840" y="5416560"/>
              <a:ext cx="637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2476440" y="-360"/>
            <a:ext cx="4191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990720" y="1812960"/>
            <a:ext cx="7727760" cy="37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iversificación de Markowitz se preocupa del grado de covarianza entre las rentabilidades de los activos componentes de un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dea central es combinar en un portafolio, activos que no estén perfectamente correlacionados, con el propósito de disminuir el riesgo sin sacrificar re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79064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fuentes de información poco conf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ámic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es de interpretación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es en la manipulación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rtidumbre y carter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67080" y="3911760"/>
            <a:ext cx="314892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7080" y="3533760"/>
            <a:ext cx="5739480" cy="20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60" swAng="539285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60" swAng="5392858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2217600"/>
            <a:ext cx="0" cy="379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84440" y="6019920"/>
            <a:ext cx="45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7760" y="32418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94760" y="499428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16520" y="52070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18240" y="4216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56680" y="3530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61240" y="43689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400" y="2387520"/>
            <a:ext cx="148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6000" y="61214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671120" y="4572000"/>
            <a:ext cx="1459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4579920"/>
            <a:ext cx="0" cy="14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671120" y="3886200"/>
            <a:ext cx="1452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37800" y="1647720"/>
            <a:ext cx="466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junto factible está representado por la cu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37440" y="2409840"/>
            <a:ext cx="475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junto eficiente está representado por la cur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4427640"/>
            <a:ext cx="0" cy="15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1640" y="3073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58280" y="415620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44080" y="43084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17400" y="3835440"/>
            <a:ext cx="40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4080" y="36226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599840" y="3276720"/>
            <a:ext cx="213372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 Riesgo -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6720" y="618912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epto Riesgo - Re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065240" y="2649600"/>
            <a:ext cx="7013520" cy="4132080"/>
            <a:chOff x="1065240" y="2649600"/>
            <a:chExt cx="7013520" cy="4132080"/>
          </a:xfrm>
        </p:grpSpPr>
        <p:grpSp>
          <p:nvGrpSpPr>
            <p:cNvPr id="392" name=""/>
            <p:cNvGrpSpPr/>
            <p:nvPr/>
          </p:nvGrpSpPr>
          <p:grpSpPr>
            <a:xfrm>
              <a:off x="1065240" y="2649600"/>
              <a:ext cx="7013520" cy="4132080"/>
              <a:chOff x="1065240" y="2649600"/>
              <a:chExt cx="7013520" cy="4132080"/>
            </a:xfrm>
          </p:grpSpPr>
          <p:sp>
            <p:nvSpPr>
              <p:cNvPr id="393" name=""/>
              <p:cNvSpPr/>
              <p:nvPr/>
            </p:nvSpPr>
            <p:spPr>
              <a:xfrm>
                <a:off x="1065240" y="2649600"/>
                <a:ext cx="7012080" cy="4130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19240" y="2703240"/>
                <a:ext cx="6900840" cy="1220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19240" y="2825640"/>
                <a:ext cx="214200" cy="3898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33440" y="2825640"/>
                <a:ext cx="6686640" cy="1202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33440" y="2946240"/>
                <a:ext cx="214200" cy="37778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47640" y="2946240"/>
                <a:ext cx="6472440" cy="13140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547640" y="3078000"/>
                <a:ext cx="214560" cy="364608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62200" y="3078000"/>
                <a:ext cx="6257880" cy="1202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2200" y="3198600"/>
                <a:ext cx="214200" cy="3525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76400" y="3198600"/>
                <a:ext cx="6043680" cy="13140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976400" y="3330360"/>
                <a:ext cx="214200" cy="339372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90600" y="3330360"/>
                <a:ext cx="5829480" cy="1202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190600" y="3450960"/>
                <a:ext cx="214560" cy="327312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405160" y="3450960"/>
                <a:ext cx="5614920" cy="1314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05160" y="3582720"/>
                <a:ext cx="222120" cy="314136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27280" y="3582720"/>
                <a:ext cx="5392800" cy="1202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27280" y="3703320"/>
                <a:ext cx="214200" cy="302076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41480" y="3703320"/>
                <a:ext cx="5178600" cy="122040"/>
              </a:xfrm>
              <a:prstGeom prst="rect">
                <a:avLst/>
              </a:pr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41480" y="3825720"/>
                <a:ext cx="214560" cy="2898360"/>
              </a:xfrm>
              <a:prstGeom prst="rect">
                <a:avLst/>
              </a:pr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56040" y="3825720"/>
                <a:ext cx="4964040" cy="1299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56040" y="3956040"/>
                <a:ext cx="214200" cy="27680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270240" y="3956040"/>
                <a:ext cx="4749840" cy="121680"/>
              </a:xfrm>
              <a:prstGeom prst="rect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70240" y="4078080"/>
                <a:ext cx="214200" cy="2646000"/>
              </a:xfrm>
              <a:prstGeom prst="rect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84440" y="4078080"/>
                <a:ext cx="4535640" cy="129960"/>
              </a:xfrm>
              <a:prstGeom prst="rect">
                <a:avLst/>
              </a:pr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84440" y="4208400"/>
                <a:ext cx="214560" cy="2515680"/>
              </a:xfrm>
              <a:prstGeom prst="rect">
                <a:avLst/>
              </a:pr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99000" y="4208400"/>
                <a:ext cx="4321080" cy="121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99000" y="4330440"/>
                <a:ext cx="223560" cy="239364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22560" y="4330440"/>
                <a:ext cx="4097520" cy="131400"/>
              </a:xfrm>
              <a:prstGeom prst="rect">
                <a:avLst/>
              </a:pr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22560" y="4462200"/>
                <a:ext cx="214560" cy="2261880"/>
              </a:xfrm>
              <a:prstGeom prst="rect">
                <a:avLst/>
              </a:pr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37120" y="4462200"/>
                <a:ext cx="3882960" cy="120240"/>
              </a:xfrm>
              <a:prstGeom prst="rect">
                <a:avLst/>
              </a:pr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37120" y="4582800"/>
                <a:ext cx="214200" cy="2141280"/>
              </a:xfrm>
              <a:prstGeom prst="rect">
                <a:avLst/>
              </a:pr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51320" y="4582800"/>
                <a:ext cx="3668760" cy="131400"/>
              </a:xfrm>
              <a:prstGeom prst="rect">
                <a:avLst/>
              </a:pr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51320" y="4714560"/>
                <a:ext cx="214200" cy="2009520"/>
              </a:xfrm>
              <a:prstGeom prst="rect">
                <a:avLst/>
              </a:pr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65520" y="4714560"/>
                <a:ext cx="3454560" cy="120600"/>
              </a:xfrm>
              <a:prstGeom prst="rect">
                <a:avLst/>
              </a:pr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65520" y="4835520"/>
                <a:ext cx="214560" cy="1888560"/>
              </a:xfrm>
              <a:prstGeom prst="rect">
                <a:avLst/>
              </a:pr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80080" y="4835520"/>
                <a:ext cx="3240000" cy="121680"/>
              </a:xfrm>
              <a:prstGeom prst="rect">
                <a:avLst/>
              </a:prstGeom>
              <a:solidFill>
                <a:srgbClr val="e1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80080" y="4957560"/>
                <a:ext cx="214200" cy="1766520"/>
              </a:xfrm>
              <a:prstGeom prst="rect">
                <a:avLst/>
              </a:prstGeom>
              <a:solidFill>
                <a:srgbClr val="e1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94280" y="4957560"/>
                <a:ext cx="3025800" cy="129960"/>
              </a:xfrm>
              <a:prstGeom prst="rect">
                <a:avLst/>
              </a:pr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94280" y="5087880"/>
                <a:ext cx="214200" cy="1636200"/>
              </a:xfrm>
              <a:prstGeom prst="rect">
                <a:avLst/>
              </a:pr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08480" y="5087880"/>
                <a:ext cx="2811600" cy="121680"/>
              </a:xfrm>
              <a:prstGeom prst="rect">
                <a:avLst/>
              </a:pr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208480" y="5209920"/>
                <a:ext cx="222480" cy="1514160"/>
              </a:xfrm>
              <a:prstGeom prst="rect">
                <a:avLst/>
              </a:pr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30960" y="5209920"/>
                <a:ext cx="2589120" cy="129960"/>
              </a:xfrm>
              <a:prstGeom prst="rect">
                <a:avLst/>
              </a:prstGeom>
              <a:solidFill>
                <a:srgbClr val="da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0960" y="5340240"/>
                <a:ext cx="214200" cy="1383840"/>
              </a:xfrm>
              <a:prstGeom prst="rect">
                <a:avLst/>
              </a:prstGeom>
              <a:solidFill>
                <a:srgbClr val="da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45160" y="5340240"/>
                <a:ext cx="2374920" cy="121680"/>
              </a:xfrm>
              <a:prstGeom prst="rect">
                <a:avLst/>
              </a:prstGeom>
              <a:solidFill>
                <a:srgbClr val="d7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645160" y="5462280"/>
                <a:ext cx="214200" cy="1261800"/>
              </a:xfrm>
              <a:prstGeom prst="rect">
                <a:avLst/>
              </a:prstGeom>
              <a:solidFill>
                <a:srgbClr val="d7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59360" y="5462280"/>
                <a:ext cx="2160720" cy="129960"/>
              </a:xfrm>
              <a:prstGeom prst="rect">
                <a:avLst/>
              </a:pr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59360" y="5592600"/>
                <a:ext cx="214560" cy="1131480"/>
              </a:xfrm>
              <a:prstGeom prst="rect">
                <a:avLst/>
              </a:pr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73920" y="5592600"/>
                <a:ext cx="1946160" cy="122040"/>
              </a:xfrm>
              <a:prstGeom prst="rect">
                <a:avLst/>
              </a:prstGeom>
              <a:solidFill>
                <a:srgbClr val="d4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73920" y="5715000"/>
                <a:ext cx="214200" cy="1009080"/>
              </a:xfrm>
              <a:prstGeom prst="rect">
                <a:avLst/>
              </a:prstGeom>
              <a:solidFill>
                <a:srgbClr val="d4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88120" y="5715000"/>
                <a:ext cx="1731960" cy="120240"/>
              </a:xfrm>
              <a:prstGeom prst="rect">
                <a:avLst/>
              </a:prstGeom>
              <a:solidFill>
                <a:srgbClr val="d2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88120" y="5835600"/>
                <a:ext cx="214200" cy="888480"/>
              </a:xfrm>
              <a:prstGeom prst="rect">
                <a:avLst/>
              </a:prstGeom>
              <a:solidFill>
                <a:srgbClr val="d2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02320" y="5835600"/>
                <a:ext cx="1517760" cy="131400"/>
              </a:xfrm>
              <a:prstGeom prst="rect">
                <a:avLst/>
              </a:pr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02320" y="5967360"/>
                <a:ext cx="223920" cy="756720"/>
              </a:xfrm>
              <a:prstGeom prst="rect">
                <a:avLst/>
              </a:pr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26240" y="5967360"/>
                <a:ext cx="1293840" cy="121680"/>
              </a:xfrm>
              <a:prstGeom prst="rect">
                <a:avLst/>
              </a:pr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26240" y="6089400"/>
                <a:ext cx="214200" cy="634680"/>
              </a:xfrm>
              <a:prstGeom prst="rect">
                <a:avLst/>
              </a:pr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40440" y="6089400"/>
                <a:ext cx="1079640" cy="129960"/>
              </a:xfrm>
              <a:prstGeom prst="rect">
                <a:avLst/>
              </a:pr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40440" y="6219720"/>
                <a:ext cx="214560" cy="504360"/>
              </a:xfrm>
              <a:prstGeom prst="rect">
                <a:avLst/>
              </a:pr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55000" y="6219720"/>
                <a:ext cx="865080" cy="121680"/>
              </a:xfrm>
              <a:prstGeom prst="rect">
                <a:avLst/>
              </a:pr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55000" y="6341760"/>
                <a:ext cx="214200" cy="382320"/>
              </a:xfrm>
              <a:prstGeom prst="rect">
                <a:avLst/>
              </a:pr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69200" y="6341760"/>
                <a:ext cx="650880" cy="129960"/>
              </a:xfrm>
              <a:prstGeom prst="rect">
                <a:avLst/>
              </a:pr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69200" y="6472080"/>
                <a:ext cx="214200" cy="252000"/>
              </a:xfrm>
              <a:prstGeom prst="rect">
                <a:avLst/>
              </a:pr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83400" y="6472080"/>
                <a:ext cx="436680" cy="122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83400" y="6594480"/>
                <a:ext cx="214560" cy="129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97960" y="6594480"/>
                <a:ext cx="222120" cy="129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19240" y="2703240"/>
                <a:ext cx="6918120" cy="40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59120" y="2927160"/>
                <a:ext cx="1440" cy="298404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16280" y="5911560"/>
                <a:ext cx="42840" cy="144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16280" y="2927160"/>
                <a:ext cx="42840" cy="144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59120" y="5911560"/>
                <a:ext cx="5813280" cy="144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959120" y="5911200"/>
                <a:ext cx="144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790720" y="5911200"/>
                <a:ext cx="180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3622680" y="5911200"/>
                <a:ext cx="144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4452840" y="5911200"/>
                <a:ext cx="180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6880" y="5911200"/>
                <a:ext cx="144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108840" y="5911200"/>
                <a:ext cx="144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940440" y="5911200"/>
                <a:ext cx="180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772400" y="5911200"/>
                <a:ext cx="1440" cy="45720"/>
              </a:xfrm>
              <a:prstGeom prst="line">
                <a:avLst/>
              </a:prstGeom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34040" y="3367080"/>
                <a:ext cx="292320" cy="318600"/>
              </a:xfrm>
              <a:custGeom>
                <a:avLst/>
                <a:gdLst/>
                <a:ahLst/>
                <a:rect l="l" t="t" r="r" b="b"/>
                <a:pathLst>
                  <a:path w="184" h="201">
                    <a:moveTo>
                      <a:pt x="92" y="0"/>
                    </a:moveTo>
                    <a:lnTo>
                      <a:pt x="184" y="100"/>
                    </a:lnTo>
                    <a:lnTo>
                      <a:pt x="92" y="201"/>
                    </a:lnTo>
                    <a:lnTo>
                      <a:pt x="0" y="10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99ccff"/>
              </a:solidFill>
              <a:ln w="79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68720" y="3751200"/>
                <a:ext cx="290520" cy="31716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91" y="0"/>
                    </a:moveTo>
                    <a:lnTo>
                      <a:pt x="183" y="100"/>
                    </a:lnTo>
                    <a:lnTo>
                      <a:pt x="91" y="200"/>
                    </a:lnTo>
                    <a:lnTo>
                      <a:pt x="0" y="10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57b49"/>
              </a:solidFill>
              <a:ln w="7920">
                <a:solidFill>
                  <a:srgbClr val="f57b4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24200" y="4133880"/>
                <a:ext cx="292320" cy="318600"/>
              </a:xfrm>
              <a:custGeom>
                <a:avLst/>
                <a:gdLst/>
                <a:ahLst/>
                <a:rect l="l" t="t" r="r" b="b"/>
                <a:pathLst>
                  <a:path w="184" h="201">
                    <a:moveTo>
                      <a:pt x="92" y="0"/>
                    </a:moveTo>
                    <a:lnTo>
                      <a:pt x="184" y="100"/>
                    </a:lnTo>
                    <a:lnTo>
                      <a:pt x="92" y="201"/>
                    </a:lnTo>
                    <a:lnTo>
                      <a:pt x="0" y="10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00"/>
              </a:solidFill>
              <a:ln w="7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33680" y="4255920"/>
                <a:ext cx="290520" cy="31716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92" y="0"/>
                    </a:moveTo>
                    <a:lnTo>
                      <a:pt x="183" y="100"/>
                    </a:lnTo>
                    <a:lnTo>
                      <a:pt x="92" y="200"/>
                    </a:lnTo>
                    <a:lnTo>
                      <a:pt x="0" y="10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99cc"/>
              </a:solidFill>
              <a:ln w="792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936880" y="4518000"/>
                <a:ext cx="290520" cy="31716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91" y="0"/>
                    </a:moveTo>
                    <a:lnTo>
                      <a:pt x="183" y="100"/>
                    </a:lnTo>
                    <a:lnTo>
                      <a:pt x="91" y="200"/>
                    </a:lnTo>
                    <a:lnTo>
                      <a:pt x="0" y="10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9900"/>
              </a:solidFill>
              <a:ln w="792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62200" y="3404880"/>
                <a:ext cx="4654440" cy="1692000"/>
              </a:xfrm>
              <a:custGeom>
                <a:avLst/>
                <a:gdLst/>
                <a:ahLst/>
                <a:rect l="l" t="t" r="r" b="b"/>
                <a:pathLst>
                  <a:path w="543" h="181">
                    <a:moveTo>
                      <a:pt x="0" y="181"/>
                    </a:moveTo>
                    <a:lnTo>
                      <a:pt x="4" y="178"/>
                    </a:lnTo>
                    <a:lnTo>
                      <a:pt x="7" y="174"/>
                    </a:lnTo>
                    <a:lnTo>
                      <a:pt x="10" y="171"/>
                    </a:lnTo>
                    <a:lnTo>
                      <a:pt x="14" y="168"/>
                    </a:lnTo>
                    <a:lnTo>
                      <a:pt x="17" y="165"/>
                    </a:lnTo>
                    <a:lnTo>
                      <a:pt x="21" y="162"/>
                    </a:lnTo>
                    <a:lnTo>
                      <a:pt x="24" y="159"/>
                    </a:lnTo>
                    <a:lnTo>
                      <a:pt x="27" y="156"/>
                    </a:lnTo>
                    <a:lnTo>
                      <a:pt x="31" y="153"/>
                    </a:lnTo>
                    <a:lnTo>
                      <a:pt x="34" y="151"/>
                    </a:lnTo>
                    <a:lnTo>
                      <a:pt x="38" y="148"/>
                    </a:lnTo>
                    <a:lnTo>
                      <a:pt x="41" y="145"/>
                    </a:lnTo>
                    <a:lnTo>
                      <a:pt x="44" y="143"/>
                    </a:lnTo>
                    <a:lnTo>
                      <a:pt x="48" y="141"/>
                    </a:lnTo>
                    <a:lnTo>
                      <a:pt x="51" y="138"/>
                    </a:lnTo>
                    <a:lnTo>
                      <a:pt x="55" y="136"/>
                    </a:lnTo>
                    <a:lnTo>
                      <a:pt x="58" y="134"/>
                    </a:lnTo>
                    <a:lnTo>
                      <a:pt x="61" y="132"/>
                    </a:lnTo>
                    <a:lnTo>
                      <a:pt x="65" y="130"/>
                    </a:lnTo>
                    <a:lnTo>
                      <a:pt x="68" y="128"/>
                    </a:lnTo>
                    <a:lnTo>
                      <a:pt x="72" y="126"/>
                    </a:lnTo>
                    <a:lnTo>
                      <a:pt x="75" y="124"/>
                    </a:lnTo>
                    <a:lnTo>
                      <a:pt x="78" y="122"/>
                    </a:lnTo>
                    <a:lnTo>
                      <a:pt x="82" y="120"/>
                    </a:lnTo>
                    <a:lnTo>
                      <a:pt x="85" y="118"/>
                    </a:lnTo>
                    <a:lnTo>
                      <a:pt x="88" y="116"/>
                    </a:lnTo>
                    <a:lnTo>
                      <a:pt x="92" y="114"/>
                    </a:lnTo>
                    <a:lnTo>
                      <a:pt x="95" y="113"/>
                    </a:lnTo>
                    <a:lnTo>
                      <a:pt x="99" y="111"/>
                    </a:lnTo>
                    <a:lnTo>
                      <a:pt x="102" y="109"/>
                    </a:lnTo>
                    <a:lnTo>
                      <a:pt x="105" y="108"/>
                    </a:lnTo>
                    <a:lnTo>
                      <a:pt x="109" y="106"/>
                    </a:lnTo>
                    <a:lnTo>
                      <a:pt x="112" y="105"/>
                    </a:lnTo>
                    <a:lnTo>
                      <a:pt x="116" y="103"/>
                    </a:lnTo>
                    <a:lnTo>
                      <a:pt x="119" y="101"/>
                    </a:lnTo>
                    <a:lnTo>
                      <a:pt x="122" y="100"/>
                    </a:lnTo>
                    <a:lnTo>
                      <a:pt x="126" y="99"/>
                    </a:lnTo>
                    <a:lnTo>
                      <a:pt x="129" y="97"/>
                    </a:lnTo>
                    <a:lnTo>
                      <a:pt x="133" y="96"/>
                    </a:lnTo>
                    <a:lnTo>
                      <a:pt x="136" y="94"/>
                    </a:lnTo>
                    <a:lnTo>
                      <a:pt x="139" y="93"/>
                    </a:lnTo>
                    <a:lnTo>
                      <a:pt x="143" y="91"/>
                    </a:lnTo>
                    <a:lnTo>
                      <a:pt x="146" y="90"/>
                    </a:lnTo>
                    <a:lnTo>
                      <a:pt x="149" y="89"/>
                    </a:lnTo>
                    <a:lnTo>
                      <a:pt x="153" y="88"/>
                    </a:lnTo>
                    <a:lnTo>
                      <a:pt x="156" y="86"/>
                    </a:lnTo>
                    <a:lnTo>
                      <a:pt x="160" y="85"/>
                    </a:lnTo>
                    <a:lnTo>
                      <a:pt x="163" y="84"/>
                    </a:lnTo>
                    <a:lnTo>
                      <a:pt x="166" y="82"/>
                    </a:lnTo>
                    <a:lnTo>
                      <a:pt x="170" y="81"/>
                    </a:lnTo>
                    <a:lnTo>
                      <a:pt x="173" y="80"/>
                    </a:lnTo>
                    <a:lnTo>
                      <a:pt x="177" y="79"/>
                    </a:lnTo>
                    <a:lnTo>
                      <a:pt x="180" y="78"/>
                    </a:lnTo>
                    <a:lnTo>
                      <a:pt x="183" y="77"/>
                    </a:lnTo>
                    <a:lnTo>
                      <a:pt x="187" y="75"/>
                    </a:lnTo>
                    <a:lnTo>
                      <a:pt x="190" y="74"/>
                    </a:lnTo>
                    <a:lnTo>
                      <a:pt x="194" y="73"/>
                    </a:lnTo>
                    <a:lnTo>
                      <a:pt x="197" y="72"/>
                    </a:lnTo>
                    <a:lnTo>
                      <a:pt x="200" y="71"/>
                    </a:lnTo>
                    <a:lnTo>
                      <a:pt x="204" y="70"/>
                    </a:lnTo>
                    <a:lnTo>
                      <a:pt x="207" y="69"/>
                    </a:lnTo>
                    <a:lnTo>
                      <a:pt x="211" y="68"/>
                    </a:lnTo>
                    <a:lnTo>
                      <a:pt x="214" y="67"/>
                    </a:lnTo>
                    <a:lnTo>
                      <a:pt x="217" y="66"/>
                    </a:lnTo>
                    <a:lnTo>
                      <a:pt x="221" y="65"/>
                    </a:lnTo>
                    <a:lnTo>
                      <a:pt x="224" y="64"/>
                    </a:lnTo>
                    <a:lnTo>
                      <a:pt x="227" y="63"/>
                    </a:lnTo>
                    <a:lnTo>
                      <a:pt x="231" y="62"/>
                    </a:lnTo>
                    <a:lnTo>
                      <a:pt x="234" y="61"/>
                    </a:lnTo>
                    <a:lnTo>
                      <a:pt x="238" y="60"/>
                    </a:lnTo>
                    <a:lnTo>
                      <a:pt x="241" y="59"/>
                    </a:lnTo>
                    <a:lnTo>
                      <a:pt x="244" y="58"/>
                    </a:lnTo>
                    <a:lnTo>
                      <a:pt x="248" y="57"/>
                    </a:lnTo>
                    <a:lnTo>
                      <a:pt x="251" y="56"/>
                    </a:lnTo>
                    <a:lnTo>
                      <a:pt x="255" y="55"/>
                    </a:lnTo>
                    <a:lnTo>
                      <a:pt x="258" y="54"/>
                    </a:lnTo>
                    <a:lnTo>
                      <a:pt x="261" y="54"/>
                    </a:lnTo>
                    <a:lnTo>
                      <a:pt x="265" y="53"/>
                    </a:lnTo>
                    <a:lnTo>
                      <a:pt x="268" y="52"/>
                    </a:lnTo>
                    <a:lnTo>
                      <a:pt x="272" y="51"/>
                    </a:lnTo>
                    <a:lnTo>
                      <a:pt x="275" y="50"/>
                    </a:lnTo>
                    <a:lnTo>
                      <a:pt x="278" y="49"/>
                    </a:lnTo>
                    <a:lnTo>
                      <a:pt x="282" y="48"/>
                    </a:lnTo>
                    <a:lnTo>
                      <a:pt x="285" y="48"/>
                    </a:lnTo>
                    <a:lnTo>
                      <a:pt x="288" y="47"/>
                    </a:lnTo>
                    <a:lnTo>
                      <a:pt x="292" y="46"/>
                    </a:lnTo>
                    <a:lnTo>
                      <a:pt x="295" y="45"/>
                    </a:lnTo>
                    <a:lnTo>
                      <a:pt x="299" y="44"/>
                    </a:lnTo>
                    <a:lnTo>
                      <a:pt x="302" y="43"/>
                    </a:lnTo>
                    <a:lnTo>
                      <a:pt x="305" y="43"/>
                    </a:lnTo>
                    <a:lnTo>
                      <a:pt x="309" y="42"/>
                    </a:lnTo>
                    <a:lnTo>
                      <a:pt x="312" y="41"/>
                    </a:lnTo>
                    <a:lnTo>
                      <a:pt x="316" y="40"/>
                    </a:lnTo>
                    <a:lnTo>
                      <a:pt x="319" y="40"/>
                    </a:lnTo>
                    <a:lnTo>
                      <a:pt x="322" y="39"/>
                    </a:lnTo>
                    <a:lnTo>
                      <a:pt x="326" y="38"/>
                    </a:lnTo>
                    <a:lnTo>
                      <a:pt x="329" y="37"/>
                    </a:lnTo>
                    <a:lnTo>
                      <a:pt x="333" y="37"/>
                    </a:lnTo>
                    <a:lnTo>
                      <a:pt x="336" y="36"/>
                    </a:lnTo>
                    <a:lnTo>
                      <a:pt x="339" y="35"/>
                    </a:lnTo>
                    <a:lnTo>
                      <a:pt x="343" y="34"/>
                    </a:lnTo>
                    <a:lnTo>
                      <a:pt x="346" y="34"/>
                    </a:lnTo>
                    <a:lnTo>
                      <a:pt x="349" y="33"/>
                    </a:lnTo>
                    <a:lnTo>
                      <a:pt x="353" y="32"/>
                    </a:lnTo>
                    <a:lnTo>
                      <a:pt x="356" y="32"/>
                    </a:lnTo>
                    <a:lnTo>
                      <a:pt x="360" y="31"/>
                    </a:lnTo>
                    <a:lnTo>
                      <a:pt x="363" y="30"/>
                    </a:lnTo>
                    <a:lnTo>
                      <a:pt x="366" y="30"/>
                    </a:lnTo>
                    <a:lnTo>
                      <a:pt x="370" y="29"/>
                    </a:lnTo>
                    <a:lnTo>
                      <a:pt x="373" y="28"/>
                    </a:lnTo>
                    <a:lnTo>
                      <a:pt x="377" y="28"/>
                    </a:lnTo>
                    <a:lnTo>
                      <a:pt x="380" y="27"/>
                    </a:lnTo>
                    <a:lnTo>
                      <a:pt x="383" y="26"/>
                    </a:lnTo>
                    <a:lnTo>
                      <a:pt x="387" y="26"/>
                    </a:lnTo>
                    <a:lnTo>
                      <a:pt x="390" y="25"/>
                    </a:lnTo>
                    <a:lnTo>
                      <a:pt x="394" y="24"/>
                    </a:lnTo>
                    <a:lnTo>
                      <a:pt x="397" y="24"/>
                    </a:lnTo>
                    <a:lnTo>
                      <a:pt x="400" y="23"/>
                    </a:lnTo>
                    <a:lnTo>
                      <a:pt x="404" y="22"/>
                    </a:lnTo>
                    <a:lnTo>
                      <a:pt x="407" y="22"/>
                    </a:lnTo>
                    <a:lnTo>
                      <a:pt x="411" y="21"/>
                    </a:lnTo>
                    <a:lnTo>
                      <a:pt x="414" y="21"/>
                    </a:lnTo>
                    <a:lnTo>
                      <a:pt x="417" y="20"/>
                    </a:lnTo>
                    <a:lnTo>
                      <a:pt x="421" y="19"/>
                    </a:lnTo>
                    <a:lnTo>
                      <a:pt x="424" y="19"/>
                    </a:lnTo>
                    <a:lnTo>
                      <a:pt x="427" y="18"/>
                    </a:lnTo>
                    <a:lnTo>
                      <a:pt x="431" y="18"/>
                    </a:lnTo>
                    <a:lnTo>
                      <a:pt x="434" y="17"/>
                    </a:lnTo>
                    <a:lnTo>
                      <a:pt x="438" y="16"/>
                    </a:lnTo>
                    <a:lnTo>
                      <a:pt x="441" y="16"/>
                    </a:lnTo>
                    <a:lnTo>
                      <a:pt x="444" y="15"/>
                    </a:lnTo>
                    <a:lnTo>
                      <a:pt x="448" y="15"/>
                    </a:lnTo>
                    <a:lnTo>
                      <a:pt x="451" y="14"/>
                    </a:lnTo>
                    <a:lnTo>
                      <a:pt x="455" y="14"/>
                    </a:lnTo>
                    <a:lnTo>
                      <a:pt x="458" y="13"/>
                    </a:lnTo>
                    <a:lnTo>
                      <a:pt x="461" y="12"/>
                    </a:lnTo>
                    <a:lnTo>
                      <a:pt x="465" y="12"/>
                    </a:lnTo>
                    <a:lnTo>
                      <a:pt x="468" y="11"/>
                    </a:lnTo>
                    <a:lnTo>
                      <a:pt x="472" y="11"/>
                    </a:lnTo>
                    <a:lnTo>
                      <a:pt x="475" y="10"/>
                    </a:lnTo>
                    <a:lnTo>
                      <a:pt x="478" y="10"/>
                    </a:lnTo>
                    <a:lnTo>
                      <a:pt x="482" y="9"/>
                    </a:lnTo>
                    <a:lnTo>
                      <a:pt x="485" y="9"/>
                    </a:lnTo>
                    <a:lnTo>
                      <a:pt x="488" y="8"/>
                    </a:lnTo>
                    <a:lnTo>
                      <a:pt x="492" y="8"/>
                    </a:lnTo>
                    <a:lnTo>
                      <a:pt x="495" y="7"/>
                    </a:lnTo>
                    <a:lnTo>
                      <a:pt x="499" y="6"/>
                    </a:lnTo>
                    <a:lnTo>
                      <a:pt x="502" y="6"/>
                    </a:lnTo>
                    <a:lnTo>
                      <a:pt x="505" y="5"/>
                    </a:lnTo>
                    <a:lnTo>
                      <a:pt x="509" y="5"/>
                    </a:lnTo>
                    <a:lnTo>
                      <a:pt x="512" y="4"/>
                    </a:lnTo>
                    <a:lnTo>
                      <a:pt x="516" y="4"/>
                    </a:lnTo>
                    <a:lnTo>
                      <a:pt x="519" y="3"/>
                    </a:lnTo>
                    <a:lnTo>
                      <a:pt x="522" y="3"/>
                    </a:lnTo>
                    <a:lnTo>
                      <a:pt x="526" y="2"/>
                    </a:lnTo>
                    <a:lnTo>
                      <a:pt x="529" y="2"/>
                    </a:lnTo>
                    <a:lnTo>
                      <a:pt x="533" y="1"/>
                    </a:lnTo>
                    <a:lnTo>
                      <a:pt x="536" y="1"/>
                    </a:lnTo>
                    <a:lnTo>
                      <a:pt x="539" y="0"/>
                    </a:lnTo>
                    <a:lnTo>
                      <a:pt x="543" y="0"/>
                    </a:lnTo>
                  </a:path>
                </a:pathLst>
              </a:custGeom>
              <a:noFill/>
              <a:ln w="17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32240" y="582768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554120" y="284292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54720" y="605124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6320" y="605124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18280" y="605124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50240" y="605124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72480" y="605124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60880" y="60512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92840" y="60512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24440" y="60512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037760" y="6341760"/>
                <a:ext cx="1762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Riesgo (volatilidad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6200000">
                <a:off x="708480" y="4292280"/>
                <a:ext cx="1335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Retorno anual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65240" y="2649600"/>
                <a:ext cx="7013520" cy="41320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138400" y="2960640"/>
              <a:ext cx="4119480" cy="1998000"/>
              <a:chOff x="2138400" y="2960640"/>
              <a:chExt cx="4119480" cy="1998000"/>
            </a:xfrm>
          </p:grpSpPr>
          <p:sp>
            <p:nvSpPr>
              <p:cNvPr id="490" name=""/>
              <p:cNvSpPr/>
              <p:nvPr/>
            </p:nvSpPr>
            <p:spPr>
              <a:xfrm>
                <a:off x="2138400" y="4103280"/>
                <a:ext cx="909720" cy="32184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7040" y="4163400"/>
                <a:ext cx="711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ndo 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86320" y="4636440"/>
                <a:ext cx="919080" cy="32220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84960" y="4696920"/>
                <a:ext cx="72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ndo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76480" y="3646080"/>
                <a:ext cx="919080" cy="32184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75480" y="3706200"/>
                <a:ext cx="72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ndo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10200" y="4179240"/>
                <a:ext cx="919080" cy="32220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9200" y="4239720"/>
                <a:ext cx="72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ndo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8800" y="2960640"/>
                <a:ext cx="919080" cy="32184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437800" y="3020400"/>
                <a:ext cx="72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ndo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2368440" y="2100240"/>
            <a:ext cx="4659480" cy="41436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63840" y="2133720"/>
            <a:ext cx="446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eríodo enero 1990 a diciembr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ción de retornos históricos de Multifo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6720" y="618912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epto Riesgo - Re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044000" y="2818440"/>
            <a:ext cx="7122600" cy="3427920"/>
            <a:chOff x="1044000" y="2818440"/>
            <a:chExt cx="7122600" cy="3427920"/>
          </a:xfrm>
        </p:grpSpPr>
        <p:graphicFrame>
          <p:nvGraphicFramePr>
            <p:cNvPr id="505" name=""/>
            <p:cNvGraphicFramePr/>
            <p:nvPr/>
          </p:nvGraphicFramePr>
          <p:xfrm>
            <a:off x="1214280" y="3274560"/>
            <a:ext cx="6724800" cy="29718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4280" y="3274560"/>
                      <a:ext cx="672480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7" name=""/>
            <p:cNvSpPr/>
            <p:nvPr/>
          </p:nvSpPr>
          <p:spPr>
            <a:xfrm>
              <a:off x="1044000" y="2818440"/>
              <a:ext cx="712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Supuestos de diversificación de las carteras de inver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33520" y="2057400"/>
                <a:ext cx="74674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limLow>
                          <m:e>
                            <m:limUpp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=1</m:t>
                            </m:r>
                          </m:lim>
                        </m:limLow>
                        <m:s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762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nza del portafoli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3809880"/>
            <a:ext cx="73152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cción de riqueza invertida en cada alternativa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N,  donde N es el número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= VAR (r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57200" y="1523880"/>
                <a:ext cx="7924680" cy="449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=&gt;   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f>
                          <m:num>
                            <m:limLow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e>
                              <m:lim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lim>
                            </m:limLow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,j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-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=&gt;   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-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3880" y="2293920"/>
            <a:ext cx="0" cy="35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31800" y="5867280"/>
            <a:ext cx="55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711360"/>
            <a:ext cx="8939880" cy="40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519200" y="4724280"/>
            <a:ext cx="4354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1720" y="19303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38000" y="5969160"/>
            <a:ext cx="2179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orta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70640" y="2943360"/>
            <a:ext cx="363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iesgo diversificable (no sistem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14920" y="5076720"/>
            <a:ext cx="239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sistem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976400" y="3284640"/>
            <a:ext cx="1611360" cy="10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9400" y="4884840"/>
            <a:ext cx="366840" cy="36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176440" y="5265720"/>
            <a:ext cx="39204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29200" y="4732200"/>
            <a:ext cx="0" cy="112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27760" cy="192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mos que la relación más típica entre riesgo y rentabilidad es lin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términos más form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095480" y="4048200"/>
                <a:ext cx="3794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291960" y="5105520"/>
            <a:ext cx="115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1280" y="5181480"/>
            <a:ext cx="92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46200" y="4503600"/>
            <a:ext cx="4431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03400" y="4491000"/>
            <a:ext cx="5191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78320" y="5181480"/>
            <a:ext cx="107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io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08200" y="5181480"/>
            <a:ext cx="109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846000" y="4491000"/>
            <a:ext cx="36684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913040" y="4491000"/>
            <a:ext cx="6192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2890800" y="4719240"/>
            <a:ext cx="16344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17800" y="4656240"/>
            <a:ext cx="3668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99040" y="4643280"/>
            <a:ext cx="5191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262400" y="4948200"/>
            <a:ext cx="23976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772776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xpresión anterior formalmente se deriva de imponer que la pendiente de la LMC es igual a la derivada de la frontera eficiente en el punto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v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epresenta la cantidad de riesgo y se denomina riesgo sistemá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definición sabemos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 = Cov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Var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 Var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76160" y="5291280"/>
            <a:ext cx="5649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men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olátil o sensible que el “mercad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52040" y="4224240"/>
            <a:ext cx="7193520" cy="1536840"/>
            <a:chOff x="752040" y="4224240"/>
            <a:chExt cx="7193520" cy="1536840"/>
          </a:xfrm>
        </p:grpSpPr>
        <p:sp>
          <p:nvSpPr>
            <p:cNvPr id="545" name=""/>
            <p:cNvSpPr/>
            <p:nvPr/>
          </p:nvSpPr>
          <p:spPr>
            <a:xfrm>
              <a:off x="752040" y="422424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 &gt;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2040" y="529092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 &lt;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76520" y="4224240"/>
              <a:ext cx="5369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ctivo </a:t>
              </a: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á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volátil o sensible que el “mercado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35280" y="429732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35280" y="536400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Para qué sirve el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9520" y="2066760"/>
            <a:ext cx="778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ásicamente, para determinar el costo de capital (empresa, divisió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yect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838080" y="3286080"/>
                <a:ext cx="2603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520200" y="4800600"/>
            <a:ext cx="1589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uerdo a CA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42440" y="4038480"/>
            <a:ext cx="1865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ominador refl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esgo siste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42440" y="2971800"/>
            <a:ext cx="1895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erador refl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esg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ste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608120" y="4109760"/>
            <a:ext cx="1281240" cy="77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271680" y="3284640"/>
            <a:ext cx="161136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3348000" y="4033800"/>
            <a:ext cx="1535040" cy="2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ndo 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libre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os: Papeles del Banco Central de Chile (PRC’s van desde 2 a 20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bilidad esperada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 problema: Portafol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portafolio de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óricamente representa el valor de mercado de todos los activos de la economía (debidamente ponder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os pa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índices bursátiles (IPSA, IGPA), índices sectoriales, PIB, consumo agrega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6019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ques para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poración del Ries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Análisis individual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Análisis probabil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Análisis de Sensibilidad y de E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3 Ajuste simple en la tasa de descu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4 Sim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Análisis de porta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Diversificación y en modelo CA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Análisis de Decisiones Secuenciales y                Arboles de 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ón de B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eta de una comp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ñía es típicamente estimado a través de una regresión con datos hist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 esti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ó el beta para Hewlett Packard a partir de 60 observaciones de retornos de su acción y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P500 y obtu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754360" y="4179960"/>
                <a:ext cx="27828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1434600" y="5272200"/>
            <a:ext cx="56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81 significa alto riesgo. Claramente mayor a 1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sto de capital promedio ponderado (WACC) asume que la estructura de capital es replic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9240" y="3840120"/>
                <a:ext cx="4119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355400" y="54640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31200" y="546408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46120" y="24922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71080" y="2492280"/>
            <a:ext cx="989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26840" y="5464080"/>
            <a:ext cx="12268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19000" y="2492280"/>
            <a:ext cx="110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89000" y="4414320"/>
            <a:ext cx="443160" cy="107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360600" y="4566960"/>
            <a:ext cx="138240" cy="9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567320" y="4490640"/>
            <a:ext cx="87120" cy="10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51120" y="3436920"/>
            <a:ext cx="29052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110120" y="3132000"/>
            <a:ext cx="163440" cy="82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405040" y="3132000"/>
            <a:ext cx="468360" cy="82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to el CAPM como el WACC “aproximan” el costo de capital para efectos de val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aproximación más exacta consiste en valorar cada componente del flujo de caja de acuerdo a su propio co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se conoce como valoración por componentes o valor presente neto aju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61960" y="4772160"/>
                <a:ext cx="8213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ecto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inanciamiento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1511280" y="5791320"/>
            <a:ext cx="151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oración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ursos pro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522520" y="5176800"/>
            <a:ext cx="29052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70680" y="5638680"/>
            <a:ext cx="2481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sión de acciones/ADR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cudo tribu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sión de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éditos banc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862240" y="5100120"/>
            <a:ext cx="8748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se usa  el WACC, se deben descontar los flujos de la inversión “pura” (sin deuda). Se obtiene un Valor Presente de los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se desea estimar el Valor Presente del Patrimonio, al valor anterior se le resta la de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xiste deuda, se puede aplicar el procedimiento anterior “reversando” los gastos finan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equivalente a descontar los flujos con deuda (“inversión financiada”), con la tasa de costo del patrimonio Re (ó cost of equity ó rentabilidad patrimonial ó rentabilidad sobre el capi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lternativa al portafolio domést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Una manera de evitar el problema de trabajar con un portafolio no observable es un portafolio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mundial”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proxy típicamente usado para estos efectos es un índice proveniente de los países que permiten un libre flujo de capitales (OE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jo este esquema, estaríamos interpretando a la OECD como un solo gran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Riesgo cambi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in embargo, inversionistas internacionales están expuestos a riesgos de tipo de cambio re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Más aún, inversionistas de diferentes países no tienen expectativas homogeneas debido a que el retorno para ellos puede ser diferente dependiendo del país donde se encuentr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533520" y="1517760"/>
            <a:ext cx="8153280" cy="50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Inversionistas chilenos estarán preocupados de su rentabilidad en pesos chile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Si por ejemplo, ellos tienen un portafolio de acciones en Estados Unidos, su retorno en pesos será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peso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1+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3100" spc="-1" strike="noStrike" baseline="-25000">
                <a:solidFill>
                  <a:srgbClr val="000000"/>
                </a:solidFill>
                <a:latin typeface="Times New Roman"/>
              </a:rPr>
              <a:t>ólares</a:t>
            </a: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)(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peso/d</a:t>
            </a:r>
            <a:r>
              <a:rPr b="0" lang="es-CL" sz="3100" spc="-1" strike="noStrike" baseline="-25000">
                <a:solidFill>
                  <a:srgbClr val="000000"/>
                </a:solidFill>
                <a:latin typeface="Times New Roman"/>
              </a:rPr>
              <a:t>ólar</a:t>
            </a: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s corresponde al cambio en el tipo de camb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Inversionistas chilenos se preocuparán ahora de la distribución conjunta del retorno del portafolio en pesos y del tipo de camb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sto quiere decir que el valor esperado y la varianza del portafolio no son suficientes para rankear portafol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specíficamente, debemos considerar la covarianza entre el retorno del portafolio y el tipo de camb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90640" y="22860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151776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Para incoporar el efecto del riesgo cambiario, debemos capturar el premio que espera recibir un inversionista por tomar este ries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 modelo de dos países (Estados Unidos y Chile), podemos usar como premio por riesgo cambiario la diferencia entre los bonos del tesoro de Estados Unidos y bonos libre de riesgo en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Reformulando CAPM obtenemos: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285920" y="4191120"/>
                <a:ext cx="739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esorfus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fusa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290520" y="5181480"/>
            <a:ext cx="88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 formulación puede ser estimada a través d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51160" y="5899320"/>
                <a:ext cx="267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r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γs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790640" y="22860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602080"/>
            <a:ext cx="9045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chos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xtensión al modelo de muchos países se obtiene incorporando los restantes tipos de camb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(r-r</a:t>
            </a:r>
            <a:r>
              <a:rPr b="0" lang="es-CL" sz="2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(r</a:t>
            </a:r>
            <a:r>
              <a:rPr b="0" lang="es-CL" sz="2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0" lang="es-CL" sz="2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+ …..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90640" y="22860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iesg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bilidad del P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iesgo Secto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bilidad del PGB sectorial (del mercado objetivo y de insu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iesg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alacamient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alancamiento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748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intos Niveles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6019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nálisis individual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Inver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1 Análisis probabilístico de una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forma de Interpretar 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hora los flujos de caja son variables Ale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82640" y="5029200"/>
            <a:ext cx="532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035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42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035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42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035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349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42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42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5035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640" y="5732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956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7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9720" y="40179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560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264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40640" y="3941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31160" y="56181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0080" y="45514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35720" y="43228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3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iación estándar del flujo de caja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Valor esperado del flujo de caja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Esperado de la Inver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VAN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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16360" y="51814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8080" y="516096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4440" y="518148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4640" y="518148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9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391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viación estándar de una I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so 1: Flujos de caja indepe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so 2 : Flujos de caja perfectamente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cor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v(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 = 1 = Coeficiente de cor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so 3: Flujos de caja imperfectamente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or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8440" y="426708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5800" y="4251240"/>
            <a:ext cx="1039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demos obtener el comportamiento probabilístico del rendimiento económ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89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46200" y="608328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6680" y="1225800"/>
            <a:ext cx="5550840" cy="4602960"/>
            <a:chOff x="1606680" y="1225800"/>
            <a:chExt cx="5550840" cy="4602960"/>
          </a:xfrm>
        </p:grpSpPr>
        <p:sp>
          <p:nvSpPr>
            <p:cNvPr id="97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4280" y="5191200"/>
              <a:ext cx="265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.1 Análisis probabilístico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una Inver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9T23:48:26Z</dcterms:created>
  <dc:creator>Eduardo Contreras</dc:creator>
  <dc:description/>
  <dc:language>en-US</dc:language>
  <cp:lastModifiedBy>Eduardo Contreras</cp:lastModifiedBy>
  <cp:lastPrinted>1997-06-27T12:45:24Z</cp:lastPrinted>
  <dcterms:modified xsi:type="dcterms:W3CDTF">2003-10-17T16:24:19Z</dcterms:modified>
  <cp:revision>13</cp:revision>
  <dc:subject>Selección de portafolios</dc:subject>
  <dc:title>Gestión Financiera-Tema 6</dc:title>
</cp:coreProperties>
</file>