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45A-055A-41EB-8E8F-EABF1B53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F2D-1427-4CF9-B3AC-9B216BC5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FD2-61AF-4979-B53B-057529C9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C99-A20A-4837-8122-1A625199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8B34-678E-4A8A-A53B-B2E8C36A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0C43-B260-4758-B25A-A24416C4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A8F8-E5A6-4D3A-9F50-633859F8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4B36-254E-4F88-8573-065475EB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7EBF-ABF6-4153-A9E8-DD050AC6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8E6C-A2BF-48A1-BF2F-888E19B1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0DD5-7AE8-4E3D-8ECA-41753BE0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F69-BDC7-47A3-A877-C2AAB5B3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3BFF-A5EC-473D-BBD6-9D09DBF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3C5D-8C31-406D-A0C5-118C37F5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C9FB-7788-46EB-976D-06B8F531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79CA-C842-4B0D-8C94-13094D6C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86EC-C646-4141-B035-B761362C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E0C-B659-4B35-B783-A30C95C1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94A-6AAC-4E33-B6F0-9DB9DCF9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A4F-C4EC-41FF-AB01-CCA783E8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811-38B7-4A40-A922-1C5BDFD3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0F8-4BA7-4CAB-9F9E-512A7EA7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313-CDBC-449B-A2BE-4BB6ACDD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2AD-5926-4B68-AA0D-9C84727D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C06C-64F4-41D2-BC1C-45AF18930DB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E21D-D907-4F6A-9489-13CB00C30D3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Cost Estimation Hand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e libro  relativo a la minería presenta fórmulas para estimar costos de explotación,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1/Costo 2 = (capacidad 1/capacidad 2)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.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formula fue desarrollada por Mular en 19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mer y Chai (1990) indica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portador de rodill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evado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mpres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ad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úa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lderas de vapo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otores eléctrico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s fu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nería, agri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cnología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comunic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61 – 0,6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tivas y segur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3:25:30Z</dcterms:created>
  <dc:creator>Werner Pieber</dc:creator>
  <dc:description/>
  <dc:language>en-US</dc:language>
  <cp:lastModifiedBy>Eduardo Contreras</cp:lastModifiedBy>
  <dcterms:modified xsi:type="dcterms:W3CDTF">2005-08-24T13:38:15Z</dcterms:modified>
  <cp:revision>13</cp:revision>
  <dc:subject/>
  <dc:title>Rediseño Proceso de Negocios  SERMET S.A. www.sermet.cl  </dc:title>
</cp:coreProperties>
</file>