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0C00-2B81-45BE-9982-21297FA04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3D3F-AC09-454D-9371-D1ADCC4B9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9C40-D3FB-40FF-9793-A02C0EACD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A675-6335-411A-9D35-E030DBB09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EABF6-39DB-4AF6-81CD-D4A5E48E6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98DB8-31C5-4178-A96C-D0AAB8C91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0E5B5-CB06-43F0-AA43-EC621781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FBE05-09AD-46B0-ABBD-1A0F5226F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15E1A-DA58-495B-B01E-2D377180A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8A328-CCAE-4ECD-99D6-0137ACDA0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0F996-6B25-4BFA-9B5D-C1758F04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49CB-9A79-440E-ADA6-1C191900E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57F02-DEDE-4470-8947-17B3AFAE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B2107-DDBD-408D-8965-3FA062C7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568D2-0088-4CDB-B410-3D635687E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DC0DB-6858-42E5-ADCF-86A26B7B9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5D76A-6026-4EEF-A46B-ABC928E8F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36D7-E3E8-44B5-B54E-01597E9B5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CCD0-B59E-4865-9485-940B90CE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E059-6722-4EB4-B440-EFC407560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232E-7635-4F68-AC8D-A0792CEE5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23B2-8233-431F-81E9-0FFC8D52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8E14-94DA-4830-AB29-EAF2338E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3282-EA74-468F-AC0F-CD5858BD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ECAC2-519D-451C-B3F8-92C0505B77C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3141B-3931-46A1-9F2B-9E91C7B5ADF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Times New Roman"/>
              </a:rPr>
              <a:t>Cost Estimation Handboo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11280" y="1447920"/>
            <a:ext cx="7920000" cy="51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ste libro  relativo a la minería presenta fórmulas para estimar costos de explotación,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sto 1/Costo 2 = (capacidad 1/capacidad 2)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Times New Roman"/>
              </a:rPr>
              <a:t>0.6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sta formula fue desarrollada por Mular en 197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Times New Roman"/>
              </a:rPr>
              <a:t>En gener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1280" y="1447920"/>
            <a:ext cx="7920000" cy="51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: Factor de escal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osto 1/Costo 2 = (capacidad 1/capacidad 2) </a:t>
            </a:r>
            <a:r>
              <a:rPr b="0" lang="el-GR" sz="1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Remer y Chai (1990) indican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em</a:t>
            </a:r>
            <a:r>
              <a:rPr b="0" lang="es-MX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l-G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Transportador de rodillo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0,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Elevadores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0,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ompresor de aire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0,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Secador de aire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0,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Grúas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0,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alderas de vapor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0,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Motores eléctricos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0,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Times New Roman"/>
              </a:rPr>
              <a:t>En gener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11280" y="1447920"/>
            <a:ext cx="7920000" cy="51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: Factor de esca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osto 1/Costo 2 = (capacidad 1/capacidad 2) </a:t>
            </a:r>
            <a:r>
              <a:rPr b="0" lang="el-GR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tras fuent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or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l-G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inería, agricultur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0,5 – 0,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ecnologías de Inform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y comunicacion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0,61 – 0,6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Normativas y segurida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0,55 – 0,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9T23:25:30Z</dcterms:created>
  <dc:creator>Werner Pieber</dc:creator>
  <dc:description/>
  <dc:language>en-US</dc:language>
  <cp:lastModifiedBy>Eduardo Contreras</cp:lastModifiedBy>
  <dcterms:modified xsi:type="dcterms:W3CDTF">2005-08-24T13:38:15Z</dcterms:modified>
  <cp:revision>13</cp:revision>
  <dc:subject/>
  <dc:title>Rediseño Proceso de Negocios  SERMET S.A. www.sermet.cl  </dc:title>
</cp:coreProperties>
</file>