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238-37D8-4BEE-97AF-5CBF92F4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2F6-6291-4BDA-BA51-DCAEFFCF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483-5B1E-4702-9358-0828769B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246-82F1-4751-9AE9-0B686F00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CF68-9994-471F-B9E5-825057A7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BEAB-3491-4DC1-9095-C359811F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E2DE-5399-443B-BBA1-E00B358A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B8BB-54E9-46B8-AAE7-03F9829F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5CED-B41E-40E7-ACD7-6B2CE236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B25D-AA1D-4F7A-871D-D8624EF2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80B7-E1D8-4E39-9D0C-EF9AB9A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06D-EE14-4462-8EA8-F33C48C2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7163-9FBE-4990-9048-769AC5D3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8247-2CF8-454D-808C-5CC97615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3609-2091-41A5-944B-31386C9A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03F1-3604-451A-B61D-8DE2E921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9E22-1132-4242-98AB-276209D1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E42-08C7-4A5E-87C2-7F82CF3E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776-35FA-4B7F-BCEF-0C446EFE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D0E-842F-40D1-8703-F71FE1C0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0A9-74CF-4B7F-8F03-0ED2084A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F3E-1122-4A39-9772-97BCE38A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F0D-3FEA-418A-B0D8-6C79EFF8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8C8-F21A-4E1D-9AF7-F3BC0662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922D-343C-47E2-AA57-B6231496DE2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421C-A7F2-4DDE-AF86-0AF5C642BE4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Cost Estimation Hand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e libro  relativo a la minería presenta fórmulas para estimar costos de explotación,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 1/Costo 2 = (capacidad 1/capacidad 2)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.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formula fue desarrollada por Mular en 19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mer y Chai (1990) indica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portador de rodill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evado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mpres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ad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úa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lderas de vapo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otores eléctrico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s fu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or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nería, agri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cnologías de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comunic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61 – 0,6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tivas y segur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3:25:30Z</dcterms:created>
  <dc:creator>Werner Pieber</dc:creator>
  <dc:description/>
  <dc:language>en-US</dc:language>
  <cp:lastModifiedBy>Eduardo Contreras</cp:lastModifiedBy>
  <dcterms:modified xsi:type="dcterms:W3CDTF">2005-08-24T13:38:15Z</dcterms:modified>
  <cp:revision>13</cp:revision>
  <dc:subject/>
  <dc:title>Rediseño Proceso de Negocios  SERMET S.A. www.sermet.cl  </dc:title>
</cp:coreProperties>
</file>