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LATIGO.WAV" ContentType="audio/x-wav"/>
  <Override PartName="/ppt/media/image3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8899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27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90720" y="3826080"/>
            <a:ext cx="7727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72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5072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03600" y="167652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16120" y="167652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90720" y="382608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03600" y="382608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16120" y="382608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5072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5072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9072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5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072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720" y="3826080"/>
            <a:ext cx="7727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560" y="1371600"/>
            <a:ext cx="7975440" cy="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80808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audio" Target="../media/LATIGO.WAV"/><Relationship Id="rId11" Type="http://schemas.openxmlformats.org/officeDocument/2006/relationships/audio" Target="../media/LATIGO.WAV"/><Relationship Id="rId12" Type="http://schemas.openxmlformats.org/officeDocument/2006/relationships/audio" Target="../media/LATIGO.WAV"/><Relationship Id="rId13" Type="http://schemas.openxmlformats.org/officeDocument/2006/relationships/audio" Target="../media/LATIGO.WAV"/><Relationship Id="rId14" Type="http://schemas.openxmlformats.org/officeDocument/2006/relationships/audio" Target="../media/LATIGO.WAV"/><Relationship Id="rId15" Type="http://schemas.openxmlformats.org/officeDocument/2006/relationships/audio" Target="../media/LATIGO.WAV"/><Relationship Id="rId16" Type="http://schemas.openxmlformats.org/officeDocument/2006/relationships/audio" Target="../media/LATIGO.WAV"/><Relationship Id="rId17" Type="http://schemas.openxmlformats.org/officeDocument/2006/relationships/audio" Target="../media/LATIGO.WAV"/><Relationship Id="rId18" Type="http://schemas.openxmlformats.org/officeDocument/2006/relationships/audio" Target="../media/LATIGO.WAV"/><Relationship Id="rId19" Type="http://schemas.openxmlformats.org/officeDocument/2006/relationships/audio" Target="../media/LATIGO.WAV"/><Relationship Id="rId20" Type="http://schemas.openxmlformats.org/officeDocument/2006/relationships/audio" Target="../media/LATIGO.WAV"/><Relationship Id="rId21" Type="http://schemas.openxmlformats.org/officeDocument/2006/relationships/audio" Target="../media/LATIGO.WAV"/><Relationship Id="rId22" Type="http://schemas.openxmlformats.org/officeDocument/2006/relationships/audio" Target="../media/LATIGO.WAV"/><Relationship Id="rId23" Type="http://schemas.openxmlformats.org/officeDocument/2006/relationships/audio" Target="../media/LATIGO.WAV"/><Relationship Id="rId24" Type="http://schemas.openxmlformats.org/officeDocument/2006/relationships/audio" Target="../media/LATIGO.WAV"/><Relationship Id="rId25" Type="http://schemas.openxmlformats.org/officeDocument/2006/relationships/audio" Target="../media/LATIGO.WAV"/><Relationship Id="rId26" Type="http://schemas.openxmlformats.org/officeDocument/2006/relationships/audio" Target="../media/LATIGO.WAV"/><Relationship Id="rId27" Type="http://schemas.openxmlformats.org/officeDocument/2006/relationships/audio" Target="../media/LATIGO.WAV"/><Relationship Id="rId2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05000" y="289080"/>
            <a:ext cx="653400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Valor presente de la deu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944640"/>
            <a:ext cx="8534160" cy="223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71880" indent="-371880">
              <a:spcBef>
                <a:spcPts val="751"/>
              </a:spcBef>
              <a:buClr>
                <a:srgbClr val="8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Supuest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000" indent="-2595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No existe la posibilidad de no pago (defaul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000" indent="-2595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Flujos de caja son nomina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000" indent="-2595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Las fórmulas tradicionales de valor presente aplican a la deud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304920" y="4164120"/>
            <a:ext cx="8534160" cy="20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99960" indent="-399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jemplo: suponga que todas las tasas spot son iguales a 3.5% por cada 6 meses (cotizada a 7% anual). Los cupones son de 8% anuales y faltan 10 años para madur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806400" y="3270240"/>
                <a:ext cx="396864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C</m:t>
                        </m:r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T</m:t>
                        </m:r>
                      </m:num>
                      <m:den>
                        <m:sSup>
                          <m:e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820800" y="5541840"/>
                <a:ext cx="711684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l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r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sup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35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4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35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86080" y="0"/>
            <a:ext cx="35431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58080" y="1790640"/>
            <a:ext cx="8069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ebemos  considerar la posibilidad de existencia de convexidad en los bo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carteras). Este problema se presenta en épocas de fuerte volatilidad en las tas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El problema se origina en que la derivada del precio en la deducción de D, es un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proximación  lineal (con diferenciales) a una función que no es line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La convexidad positiva implica pérdidas de valor del bono (cartera) por debajo de 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stimado a través de la duración, e incrementos de valor por encima de lo previsto 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a dur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352680" y="3962160"/>
            <a:ext cx="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52680" y="6019920"/>
            <a:ext cx="2438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77600" y="3922560"/>
            <a:ext cx="56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Prec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39200" y="6132600"/>
            <a:ext cx="5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.I.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912200">
            <a:off x="3754080" y="3073320"/>
            <a:ext cx="3047040" cy="259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3352320" y="4572000"/>
            <a:ext cx="167652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3505320" y="4572000"/>
            <a:ext cx="228600" cy="76320"/>
          </a:xfrm>
          <a:prstGeom prst="line">
            <a:avLst/>
          </a:prstGeom>
          <a:ln w="1260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657600" y="4724280"/>
            <a:ext cx="228600" cy="76320"/>
          </a:xfrm>
          <a:prstGeom prst="line">
            <a:avLst/>
          </a:prstGeom>
          <a:ln w="1260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809880" y="4876560"/>
            <a:ext cx="228600" cy="75960"/>
          </a:xfrm>
          <a:prstGeom prst="line">
            <a:avLst/>
          </a:prstGeom>
          <a:ln w="1260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724280" y="5638680"/>
            <a:ext cx="76320" cy="76320"/>
          </a:xfrm>
          <a:prstGeom prst="line">
            <a:avLst/>
          </a:prstGeom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52880" y="5638320"/>
            <a:ext cx="76320" cy="228600"/>
          </a:xfrm>
          <a:prstGeom prst="line">
            <a:avLst/>
          </a:prstGeom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657600" y="4648320"/>
            <a:ext cx="914400" cy="7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4648320"/>
            <a:ext cx="38088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69600" y="4343400"/>
            <a:ext cx="91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onvex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FLUJO DE CAJA Y VALORACIÓN DE EMPRES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5800" y="1333440"/>
            <a:ext cx="7772400" cy="55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8892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os componentes del flujo son los siguient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eriodo 0      Periodo 1   ....     Periodo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+   Ingresos por 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+   Intereses por Depósi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+   Otros Ingre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+/- Ganancias/Pérdidas  de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    Costos Fij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    Costos Vari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    Pago de Intereses por Crédi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    Depreciaciones Leg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    Pérdidas del Ejercicio An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   Utilidad Antes de Impue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    Impuesto de Primera Categoría (15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   Utilidad Después de Impue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+    Depreciaciones Leg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+    Pérdidas del Ejercicio An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/+  Ganancias/Pérdidas de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=    Flujo de Caja Oper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    Inversión Fi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+    Valor Residual de los Ac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    Capital de Traba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+    Recuperación del Capital de Traba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+    Préstam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    Amortiz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=    Flujo de Capit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=    Flujo de Caja Pri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6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6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6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6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6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6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6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6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82840" y="288720"/>
            <a:ext cx="6178320" cy="74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Valoración de ac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órmula de Gordon Shapi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upuesto 1:Perpetu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upuesto 2: Tasa de crecimiento constante de los flujos de dividen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atio P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143000" y="2717640"/>
            <a:ext cx="6553080" cy="41403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85800" y="1600200"/>
            <a:ext cx="73915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xpectativas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:(negativo): El mercado accionario también empeora  muy golpeado por las inversiones en Argentina y Brasil..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143000" y="2695680"/>
            <a:ext cx="4991040" cy="37908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324480" y="3809880"/>
            <a:ext cx="15242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+ 1 st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Prome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24480" y="51055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- 1 st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90720" y="18097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) P/U largo plazo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838080" y="19051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) Chile: niveles de valoración también atra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4038480"/>
            <a:ext cx="15238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+ 1 st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Prome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- 1 st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19320" y="23623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/U largo plazo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85800" y="2971800"/>
            <a:ext cx="5562720" cy="35766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47840" y="228600"/>
            <a:ext cx="4648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Detalle de un bo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841040"/>
            <a:ext cx="8534160" cy="2876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45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Ratings de la C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8720" indent="-5025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A pesar de que el bono establece un pago fijo en el tiempo, existe la posibilidad de no pago por dificultades financieras o quiebra del emiso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8720" indent="-5025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De acuerdo a ello, se establecen clasificaciones. En el caso de USA existen dos clasificadoras importantes para bonos: Moody’s y Standard &amp; Poo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1276200" y="2406600"/>
            <a:ext cx="6286320" cy="4093920"/>
            <a:chOff x="1276200" y="2406600"/>
            <a:chExt cx="6286320" cy="4093920"/>
          </a:xfrm>
        </p:grpSpPr>
        <p:sp>
          <p:nvSpPr>
            <p:cNvPr id="47" name=""/>
            <p:cNvSpPr/>
            <p:nvPr/>
          </p:nvSpPr>
          <p:spPr>
            <a:xfrm>
              <a:off x="5340600" y="6104520"/>
              <a:ext cx="2221920" cy="39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326400" y="6104520"/>
              <a:ext cx="2013840" cy="39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340600" y="5708880"/>
              <a:ext cx="2221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1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326400" y="5708880"/>
              <a:ext cx="20138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100" spc="-1" strike="noStrike">
                  <a:solidFill>
                    <a:srgbClr val="000000"/>
                  </a:solidFill>
                  <a:latin typeface="Times New Roman"/>
                </a:rPr>
                <a:t>C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40600" y="5315760"/>
              <a:ext cx="222192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100" spc="-1" strike="noStrike">
                  <a:solidFill>
                    <a:srgbClr val="000000"/>
                  </a:solidFill>
                  <a:latin typeface="Times New Roman"/>
                </a:rPr>
                <a:t>CC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326400" y="5315760"/>
              <a:ext cx="201384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100" spc="-1" strike="noStrike">
                  <a:solidFill>
                    <a:srgbClr val="000000"/>
                  </a:solidFill>
                  <a:latin typeface="Times New Roman"/>
                </a:rPr>
                <a:t>Ca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276200" y="5315760"/>
              <a:ext cx="2050200" cy="118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100" spc="-1" strike="noStrike">
                  <a:solidFill>
                    <a:srgbClr val="000000"/>
                  </a:solidFill>
                  <a:latin typeface="Times New Roman"/>
                </a:rPr>
                <a:t>Peligro no pag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40600" y="4919760"/>
              <a:ext cx="2221920" cy="39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1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326400" y="4919760"/>
              <a:ext cx="2013840" cy="39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1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340600" y="4523760"/>
              <a:ext cx="2221920" cy="39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100" spc="-1" strike="noStrike">
                  <a:solidFill>
                    <a:srgbClr val="000000"/>
                  </a:solidFill>
                  <a:latin typeface="Times New Roman"/>
                </a:rPr>
                <a:t>B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26400" y="4523760"/>
              <a:ext cx="2013840" cy="39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100" spc="-1" strike="noStrike">
                  <a:solidFill>
                    <a:srgbClr val="000000"/>
                  </a:solidFill>
                  <a:latin typeface="Times New Roman"/>
                </a:rPr>
                <a:t>B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276200" y="4523760"/>
              <a:ext cx="20502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Times New Roman"/>
                </a:rPr>
                <a:t>Especulaci</a:t>
              </a:r>
              <a:r>
                <a:rPr b="0" lang="es-CL" sz="1100" spc="-1" strike="noStrike">
                  <a:solidFill>
                    <a:srgbClr val="000000"/>
                  </a:solidFill>
                  <a:latin typeface="Times New Roman"/>
                </a:rPr>
                <a:t>ó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340600" y="4128120"/>
              <a:ext cx="2221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Times New Roman"/>
                </a:rPr>
                <a:t>BB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26400" y="4128120"/>
              <a:ext cx="20138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Times New Roman"/>
                </a:rPr>
                <a:t>Ba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40600" y="3732120"/>
              <a:ext cx="2221920" cy="39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26400" y="3732120"/>
              <a:ext cx="2013840" cy="39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276200" y="3732120"/>
              <a:ext cx="2050200" cy="79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Times New Roman"/>
                </a:rPr>
                <a:t>Grado Medi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340600" y="3338640"/>
              <a:ext cx="222192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Times New Roman"/>
                </a:rPr>
                <a:t>A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326400" y="3338640"/>
              <a:ext cx="201384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Times New Roman"/>
                </a:rPr>
                <a:t>A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40600" y="2943360"/>
              <a:ext cx="2221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Times New Roman"/>
                </a:rPr>
                <a:t>AA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326400" y="2943360"/>
              <a:ext cx="20138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Times New Roman"/>
                </a:rPr>
                <a:t>Aa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76200" y="2943360"/>
              <a:ext cx="2050200" cy="78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Times New Roman"/>
                </a:rPr>
                <a:t>Alto Grad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340600" y="2406600"/>
              <a:ext cx="2221920" cy="53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Times New Roman"/>
                </a:rPr>
                <a:t>Standard &amp; Poor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326400" y="2406600"/>
              <a:ext cx="2013840" cy="53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Times New Roman"/>
                </a:rPr>
                <a:t>Moody’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276200" y="2406600"/>
              <a:ext cx="2050200" cy="53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76200" y="2406600"/>
              <a:ext cx="62863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276200" y="2943360"/>
              <a:ext cx="628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276200" y="3732120"/>
              <a:ext cx="628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76200" y="4523760"/>
              <a:ext cx="628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276200" y="5315760"/>
              <a:ext cx="628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276200" y="6500520"/>
              <a:ext cx="62863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276200" y="2406600"/>
              <a:ext cx="0" cy="40939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326400" y="2406600"/>
              <a:ext cx="0" cy="409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340600" y="2406600"/>
              <a:ext cx="0" cy="409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562520" y="2406600"/>
              <a:ext cx="0" cy="40939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326400" y="3338640"/>
              <a:ext cx="4235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26400" y="4128120"/>
              <a:ext cx="4235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26400" y="4919760"/>
              <a:ext cx="4235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26400" y="5708880"/>
              <a:ext cx="4235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326400" y="6104520"/>
              <a:ext cx="4235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47840" y="228600"/>
            <a:ext cx="4648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Detalle de un bo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66400" y="1288800"/>
            <a:ext cx="8534520" cy="321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8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El retorno de un bono es una medida de la tasa de interés implícita en una estructura de pago. Se define como la tasa de interés a la cual el valor presente de los pagos del bono es igual al precio del bon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200"/>
              </a:spcBef>
              <a:buClr>
                <a:srgbClr val="8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Ejemplo: Bono a 3 años con cupones anuales de 10% con un precio de mercado igual a 98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727280" y="4241880"/>
                <a:ext cx="448920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sSup>
                          <m:e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0</m:t>
                        </m:r>
                      </m:num>
                      <m:den>
                        <m:sSup>
                          <m:e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266760" y="5575320"/>
            <a:ext cx="85345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El retorno del bono (Y) es igual a 10.82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2247840" y="228600"/>
            <a:ext cx="4648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Detalle de un bo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34800" y="1671480"/>
            <a:ext cx="8245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14000" y="247320"/>
            <a:ext cx="6039000" cy="97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Medición de la estructura temporal</a:t>
            </a: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66400" y="134604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8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En equilibrio, TODOS los bonos del gobierno son valorizados por el mercado usando las MISMAS tasas spot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6760" y="612792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A, B, C son suficientes para calcular r</a:t>
            </a:r>
            <a:r>
              <a:rPr b="0" lang="es-CL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es-CL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 y r</a:t>
            </a:r>
            <a:r>
              <a:rPr b="0" lang="es-CL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041480" y="2139840"/>
                <a:ext cx="6146640" cy="379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rPr>
                            <m:lit/>
                            <m:nor/>
                          </m:rPr>
                          <m:t xml:space="preserve">ecio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  <m:r>
                              <m:t xml:space="preserve">A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C</m:t>
                            </m:r>
                            <m:r>
                              <m:t xml:space="preserve">A</m:t>
                            </m:r>
                            <m:r>
                              <m:t xml:space="preserve">2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B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  <m:r>
                              <m:t xml:space="preserve">B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C</m:t>
                            </m:r>
                            <m:r>
                              <m:t xml:space="preserve">B</m:t>
                            </m:r>
                            <m:r>
                              <m:t xml:space="preserve">2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C</m:t>
                            </m:r>
                            <m:r>
                              <m:t xml:space="preserve">B</m:t>
                            </m:r>
                            <m:r>
                              <m:t xml:space="preserve">3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C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  <m:r>
                              <m:t xml:space="preserve">C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C</m:t>
                            </m:r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C</m:t>
                            </m:r>
                            <m:r>
                              <m:t xml:space="preserve">C</m:t>
                            </m:r>
                            <m:r>
                              <m:t xml:space="preserve">3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  <m:r>
                              <m:t xml:space="preserve">D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C</m:t>
                            </m:r>
                            <m:r>
                              <m:t xml:space="preserve">D</m:t>
                            </m:r>
                            <m:r>
                              <m:t xml:space="preserve">2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C</m:t>
                            </m:r>
                            <m:r>
                              <m:t xml:space="preserve">D</m:t>
                            </m:r>
                            <m:r>
                              <m:t xml:space="preserve">3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57440" y="0"/>
            <a:ext cx="5829120" cy="123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Medición de la estructura 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temporal – Ejemp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6400" y="3250800"/>
            <a:ext cx="8534520" cy="5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Solución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6760" y="612792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Suponer que el valor par es $1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638360" y="1511280"/>
          <a:ext cx="6095880" cy="193644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8960"/>
                <a:gridCol w="1219320"/>
                <a:gridCol w="1219320"/>
              </a:tblGrid>
              <a:tr h="52020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c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s-CL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s-CL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s-CL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8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1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.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69.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965160" y="3733920"/>
                <a:ext cx="544212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03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80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4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50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06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4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5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80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33560" y="0"/>
            <a:ext cx="527688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Tasas spots y forward – Ejemp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66400" y="1384200"/>
            <a:ext cx="8534520" cy="560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8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uáles son las tasas forward implicitas en las siguientes tasas forwa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.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.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= 0.0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(1+r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= (1+r1)(1+f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(1.05)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= (1.04)(1+f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),   entonces  f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= 0.06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(1+r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= (1+r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(1+f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(1.055)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= (1.05)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(1+f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), entonces f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= 0.065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86080" y="0"/>
            <a:ext cx="35431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402920"/>
            <a:ext cx="8534160" cy="89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8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El precio del bono debería cambiar en aproximadamente             –D/(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y)=-D* por cada 1% de cambio en el retorn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079640" y="2919240"/>
                <a:ext cx="3173400" cy="77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D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2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07" name=""/>
          <p:cNvGraphicFramePr/>
          <p:nvPr/>
        </p:nvGraphicFramePr>
        <p:xfrm>
          <a:off x="838080" y="3987720"/>
          <a:ext cx="3753000" cy="2489400"/>
        </p:xfrm>
        <a:graphic>
          <a:graphicData uri="http://schemas.openxmlformats.org/drawingml/2006/table">
            <a:tbl>
              <a:tblPr/>
              <a:tblGrid>
                <a:gridCol w="971640"/>
                <a:gridCol w="1028520"/>
                <a:gridCol w="1752840"/>
              </a:tblGrid>
              <a:tr h="311400">
                <a:tc>
                  <a:txBody>
                    <a:bodyPr lIns="90000" rIns="9000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tor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c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cio con 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90000" rIns="9000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.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.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90000" rIns="9000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.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90000" rIns="9000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.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.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90000" rIns="9000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90000" rIns="9000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.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.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90000" rIns="9000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7.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7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90000" rIns="9000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.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.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219640" y="4208400"/>
                <a:ext cx="3770280" cy="10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rPr>
                            <m:lit/>
                            <m:nor/>
                          </m:rPr>
                          <m:t xml:space="preserve">ecio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r>
                          <m:t xml:space="preserve">Δy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ar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to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ase</m:t>
                        </m:r>
                      </m:e>
                      <m:e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rPr>
                            <m:lit/>
                            <m:nor/>
                          </m:rPr>
                          <m:t xml:space="preserve">ecio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10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31T19:47:18Z</dcterms:created>
  <dc:creator>Eduardo Contreras</dc:creator>
  <dc:description/>
  <dc:language>en-US</dc:language>
  <cp:lastModifiedBy>Eduardo Contreras</cp:lastModifiedBy>
  <cp:lastPrinted>2000-02-10T05:27:12Z</cp:lastPrinted>
  <dcterms:modified xsi:type="dcterms:W3CDTF">2004-08-11T14:43:58Z</dcterms:modified>
  <cp:revision>475</cp:revision>
  <dc:subject>Curso Diploma</dc:subject>
  <dc:title>Bonos</dc:title>
</cp:coreProperties>
</file>