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F42-4972-4F4F-ABBB-AA533DF5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E6F-A479-44E2-AC0F-8778166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E4E-A6C6-4B66-B302-2996759F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AAA-5674-4BC3-B0BE-B1EC4856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2C5-3E45-4AF7-BE48-572C6F1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317-A412-4C7E-A97A-CF6377B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571-14C4-4F54-92AF-FB87374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FD2-63AA-44CF-B199-9F9BAB2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113-550D-4F6E-BB73-14E0039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4E7-9595-49B6-A838-D2ACEB0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8EF-B5C5-4130-A6B7-B3A2C5D8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0C2-2899-4D08-A5D4-03DABA75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767-DF93-425E-8922-63DD8551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26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839-EE42-4A0D-BB99-0D8599AD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6389640"/>
            <a:ext cx="185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rimaver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18360" y="640080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Miguel Cru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33720" y="2743200"/>
          <a:ext cx="5240160" cy="17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743200"/>
                    <a:ext cx="52401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62280" y="4800600"/>
                <a:ext cx="5086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61440" y="119340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os maneras de invertir $1 en un período de 2 añ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dos años a una tasa anual de r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2)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un año a una tasa anual de r1, y lo obtenido prestarlo hoy a una tasa f (anual ) por un año a partir del fin del primer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1)(1+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ambas están disponibles (y riesgos similares) entonces debieran rentar lo mism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309760"/>
            <a:ext cx="0" cy="380880"/>
          </a:xfrm>
          <a:prstGeom prst="line">
            <a:avLst/>
          </a:prstGeom>
          <a:ln w="50760">
            <a:solidFill>
              <a:srgbClr val="a2c1f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1880" y="1852560"/>
            <a:ext cx="0" cy="457200"/>
          </a:xfrm>
          <a:prstGeom prst="line">
            <a:avLst/>
          </a:prstGeom>
          <a:ln w="50760">
            <a:solidFill>
              <a:srgbClr val="a2c1fe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18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2c1fe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8880" y="24620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148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00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2400" y="23097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96280" y="185256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862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5320" y="245916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16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68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7520" y="3986280"/>
            <a:ext cx="15242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97520" y="398628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6021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21760" y="352908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1360" y="406224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5120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8908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90672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9920" y="3678120"/>
            <a:ext cx="376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50160" y="3678120"/>
            <a:ext cx="252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86040" y="124308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14640" y="349092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spots y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400" y="1104840"/>
            <a:ext cx="85345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tasas spots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.....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n tasas forward bien defini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956040"/>
            <a:ext cx="85341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da tasa spot dura 1 período aunque podemos pensar también en tasas forward de mayor plaz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tasas forward pueden ser aseguradas invirtiendo con mayores períodos de madu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actuales tasas spots futuras r2, r3 etc. diferirán de las correspondientes tasas forward act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uebe que en un mundo sin incertidumbre, las tasas spot y forward deben ser ig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276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2744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305080"/>
            <a:ext cx="14353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23050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3640" y="2774880"/>
            <a:ext cx="283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680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27748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308400"/>
            <a:ext cx="4343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1040" y="3790800"/>
            <a:ext cx="5790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00560" y="3314880"/>
            <a:ext cx="14288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9404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160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1188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376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3558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9240" y="288936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337176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428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89240" y="23684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92104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spots y forward – Ejemplo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85345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áles son las tasas forward implicitas en las siguientes tasas forwar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= 0.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1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4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  entonces 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entonces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5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23:38:38Z</dcterms:created>
  <dc:creator>Miguel Cruz</dc:creator>
  <dc:description/>
  <dc:language>en-US</dc:language>
  <cp:lastModifiedBy>Eduardo Contreras</cp:lastModifiedBy>
  <dcterms:modified xsi:type="dcterms:W3CDTF">2006-08-07T16:44:21Z</dcterms:modified>
  <cp:revision>18</cp:revision>
  <dc:subject/>
  <dc:title>Instrumentos financieros</dc:title>
</cp:coreProperties>
</file>