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38786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84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068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608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099B-6676-4EA5-BD75-5ABD648E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C2E-63B2-4CCF-ADCA-01FB10C5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CA6-CD0A-45EC-A245-60386509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68EE-B2BD-4F88-8EEB-F505C284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72F8-E19F-4B47-8DC3-7D7A5C55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076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46D1-714E-469C-9DF4-9E90765B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002C-EC17-460D-B937-B547F2AD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08E5-10BE-4DF2-BDD3-A0FE2B17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464B-12C8-4EB2-92D9-59568D19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8786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649-43C5-4478-864B-84840C77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E73-8245-4FE8-898C-418DE2F2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38786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BCB9-CD5E-4255-BF16-8405E424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076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840" y="38786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8786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6688-C2DF-4249-A09A-E72FF83AE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326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64B6-B2A7-4417-978E-AE2E31EF0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00" y="6184800"/>
            <a:ext cx="9129600" cy="673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000" y="6389640"/>
            <a:ext cx="185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rimavera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18360" y="6400800"/>
            <a:ext cx="173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J. Miguel Cru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133720" y="2743200"/>
          <a:ext cx="5240160" cy="179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743200"/>
                    <a:ext cx="524016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762280" y="4800600"/>
                <a:ext cx="50864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61440" y="119340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os maneras de invertir $1 en un período de 2 añ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58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ir hoy $1 a dos años a una tasa anual de r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>
              <a:spcBef>
                <a:spcPts val="45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F = (1+r2)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>
              <a:spcBef>
                <a:spcPts val="45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>
              <a:spcBef>
                <a:spcPts val="451"/>
              </a:spcBef>
              <a:buNone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58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tir hoy $1 a un año a una tasa anual de r1, y lo obtenido prestarlo hoy a una tasa f (anual ) por un año a partir del fin del primer añ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>
              <a:spcBef>
                <a:spcPts val="45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F = (1+r1)(1+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0">
              <a:spcBef>
                <a:spcPts val="45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i ambas están disponibles (y riesgos similares) entonces debieran rentar lo mism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0" y="2309760"/>
            <a:ext cx="1523880" cy="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2309760"/>
            <a:ext cx="0" cy="380880"/>
          </a:xfrm>
          <a:prstGeom prst="line">
            <a:avLst/>
          </a:prstGeom>
          <a:ln w="50760">
            <a:solidFill>
              <a:srgbClr val="a2c1fe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1880" y="1852560"/>
            <a:ext cx="0" cy="457200"/>
          </a:xfrm>
          <a:prstGeom prst="line">
            <a:avLst/>
          </a:prstGeom>
          <a:ln w="50760">
            <a:solidFill>
              <a:srgbClr val="a2c1fe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1840" y="2386080"/>
            <a:ext cx="4899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a2c1fe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28880" y="2462040"/>
            <a:ext cx="284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71480" y="2004840"/>
            <a:ext cx="3207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a2c1fe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48000" y="2004840"/>
            <a:ext cx="3207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a2c1fe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2309760"/>
            <a:ext cx="152388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72400" y="2309760"/>
            <a:ext cx="0" cy="38088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96280" y="1852560"/>
            <a:ext cx="0" cy="457200"/>
          </a:xfrm>
          <a:prstGeom prst="line">
            <a:avLst/>
          </a:prstGeom>
          <a:ln w="50760">
            <a:solidFill>
              <a:srgbClr val="3333c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86240" y="2386080"/>
            <a:ext cx="4899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65320" y="2459160"/>
            <a:ext cx="284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5160" y="2004840"/>
            <a:ext cx="3297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61680" y="2004840"/>
            <a:ext cx="3297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97520" y="3986280"/>
            <a:ext cx="1524240" cy="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97520" y="3986280"/>
            <a:ext cx="0" cy="38088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3602160"/>
            <a:ext cx="0" cy="380880"/>
          </a:xfrm>
          <a:prstGeom prst="line">
            <a:avLst/>
          </a:prstGeom>
          <a:ln w="50760">
            <a:solidFill>
              <a:srgbClr val="3333c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21760" y="3529080"/>
            <a:ext cx="0" cy="457200"/>
          </a:xfrm>
          <a:prstGeom prst="line">
            <a:avLst/>
          </a:prstGeom>
          <a:ln w="50760">
            <a:solidFill>
              <a:srgbClr val="3333c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11360" y="4062240"/>
            <a:ext cx="4899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51200" y="4211640"/>
            <a:ext cx="284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89080" y="4211640"/>
            <a:ext cx="284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43800" y="3906720"/>
            <a:ext cx="0" cy="45720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9920" y="3678120"/>
            <a:ext cx="3769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00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50160" y="3678120"/>
            <a:ext cx="2520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54468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sas Forwar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86040" y="1243080"/>
            <a:ext cx="4777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00"/>
                </a:solidFill>
                <a:latin typeface="Arial"/>
              </a:rPr>
              <a:t>V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414640" y="3490920"/>
            <a:ext cx="4777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00"/>
                </a:solidFill>
                <a:latin typeface="Arial"/>
              </a:rPr>
              <a:t>V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90080"/>
            <a:ext cx="8534160" cy="93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s spots y forw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6400" y="1104840"/>
            <a:ext cx="853452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s tasas spots 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.....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ontienen tasas forward bien definid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3956040"/>
            <a:ext cx="853416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da tasa spot dura 1 período aunque podemos pensar también en tasas forward de mayor plaz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Las tasas forward pueden ser aseguradas invirtiendo con mayores períodos de madur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Las actuales tasas spots futuras r2, r3 etc. diferirán de las correspondientes tasas forward actu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uebe que en un mundo sin incertidumbre, las tasas spot y forward deben ser igu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962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2760" y="1962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27440" y="1962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72120" y="1962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305080"/>
            <a:ext cx="14353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73400" y="2305080"/>
            <a:ext cx="14349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63640" y="2774880"/>
            <a:ext cx="28321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16800" y="196200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2774880"/>
            <a:ext cx="14349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3308400"/>
            <a:ext cx="43434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51040" y="3790800"/>
            <a:ext cx="57909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00560" y="3314880"/>
            <a:ext cx="14288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94040" y="1619280"/>
            <a:ext cx="622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41600" y="1619280"/>
            <a:ext cx="622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1619280"/>
            <a:ext cx="622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11880" y="1619280"/>
            <a:ext cx="622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93760" y="1886040"/>
            <a:ext cx="622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2355840"/>
            <a:ext cx="622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89240" y="2889360"/>
            <a:ext cx="622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2720" y="3371760"/>
            <a:ext cx="6220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54280" y="1886040"/>
            <a:ext cx="622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89240" y="2368440"/>
            <a:ext cx="622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2921040"/>
            <a:ext cx="6220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619280"/>
            <a:ext cx="622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190080"/>
            <a:ext cx="8534160" cy="93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Tasas spots y forward – Ejemplo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257120"/>
            <a:ext cx="85345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Cuáles son las tasas forward implicitas en las siguientes tasas forwar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0.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0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= 0.0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1+r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= (1+r1)(1+f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1.05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= (1.04)(1+f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,   entonces  f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= 0.06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1+r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= (1+r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1+f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1.055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= (1.05)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1+f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, entonces f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= 0.065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23:38:38Z</dcterms:created>
  <dc:creator>Miguel Cruz</dc:creator>
  <dc:description/>
  <dc:language>en-US</dc:language>
  <cp:lastModifiedBy>Eduardo Contreras</cp:lastModifiedBy>
  <dcterms:modified xsi:type="dcterms:W3CDTF">2006-08-07T16:44:21Z</dcterms:modified>
  <cp:revision>18</cp:revision>
  <dc:subject/>
  <dc:title>Instrumentos financieros</dc:title>
</cp:coreProperties>
</file>