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720" y="382608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5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0360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1612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72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0360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1612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7975440" cy="0"/>
          </a:xfrm>
          <a:prstGeom prst="line">
            <a:avLst/>
          </a:prstGeom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ALOR PRESENTE 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TU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s empresas invierten en distintos activos re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ctivos pueden ser de diferentes tipo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tivos tangibles o físicos (maquinaria, edificio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tivos intangibles (contratos de gestión, Patent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tivos financieros (acciones, bono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tivo de la decisión de inversión es encontrar activos cuyo valor supere su c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do lo anterior surge la necesidad de valorar adecuadamente los ac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existe un buen mercado para un activo el valor será exactamente su precio de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ELECCIÓN INTERTEMPORAL DEL CONSUM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Caso 2: Con Acceso al mercado de capit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El mercado de capitales permite transferencias de riqueza a través de tiemp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El mercado de capitales es un mercado en que la gente intercambia dólares presentes por dólares futur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r representa la tasa de preferencia intertemporal del comsumo, tasa a la cual las personas intercambian consumo de hoy para mañan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219320" y="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DAMENTOS DEL V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ELECCIÓN INTERTEMPORAL DEL CONSUM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Caso 2: Con Acceso al mercado de capit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Máxima riqueza en t=0 (Wo) es el valor presente de las posibilidades de consumo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Wo = Do + D1/(1+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Máxima riqueza en t=1 (W1) es el valor futuro de las posibilidades de consumo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W1 = (1+r)Do + D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Notar  que Wo * (1+r) = W1 =&gt; Wo = W1/(1+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219320" y="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DAMENTOS DEL V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ELECCIÓN INTERTEMPORAL DEL CONSUM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Caso 2: Con Acceso al mercado de capit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438280" y="274284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563868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62000" y="575640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o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680" y="263196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íod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44197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44197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30880" y="41562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3440" y="57564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200400"/>
            <a:ext cx="2971800" cy="24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82920" y="57150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38080" y="30132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3352680"/>
            <a:ext cx="3124080" cy="2133720"/>
          </a:xfrm>
          <a:custGeom>
            <a:avLst/>
            <a:gdLst/>
            <a:ahLst/>
            <a:rect l="l" t="t" r="r" b="b"/>
            <a:pathLst>
              <a:path w="1968" h="1344">
                <a:moveTo>
                  <a:pt x="0" y="0"/>
                </a:moveTo>
                <a:cubicBezTo>
                  <a:pt x="172" y="392"/>
                  <a:pt x="344" y="784"/>
                  <a:pt x="672" y="1008"/>
                </a:cubicBezTo>
                <a:cubicBezTo>
                  <a:pt x="1000" y="1232"/>
                  <a:pt x="1752" y="1288"/>
                  <a:pt x="1968" y="13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495680" y="4876920"/>
            <a:ext cx="0" cy="76176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437920" y="4876920"/>
            <a:ext cx="2057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2920" y="5715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38800" y="4765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3048120"/>
            <a:ext cx="3124080" cy="2133360"/>
          </a:xfrm>
          <a:custGeom>
            <a:avLst/>
            <a:gdLst/>
            <a:ahLst/>
            <a:rect l="l" t="t" r="r" b="b"/>
            <a:pathLst>
              <a:path w="1968" h="1344">
                <a:moveTo>
                  <a:pt x="0" y="0"/>
                </a:moveTo>
                <a:cubicBezTo>
                  <a:pt x="172" y="392"/>
                  <a:pt x="344" y="784"/>
                  <a:pt x="672" y="1008"/>
                </a:cubicBezTo>
                <a:cubicBezTo>
                  <a:pt x="1000" y="1232"/>
                  <a:pt x="1752" y="1288"/>
                  <a:pt x="1968" y="13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29160" y="358128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 - Do = Deuda en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219320" y="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DAMENTOS DEL V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ELECCIÓN INTERTEMPORAL DEL CONSUM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Caso 2: Con Acceso al mercado de capit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438280" y="274284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563868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62000" y="575640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o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0680" y="263196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íod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38280" y="44197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44197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30880" y="41562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83440" y="57564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3200400"/>
            <a:ext cx="2971800" cy="24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82920" y="57150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38080" y="30132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2514600"/>
            <a:ext cx="3124080" cy="2133720"/>
          </a:xfrm>
          <a:custGeom>
            <a:avLst/>
            <a:gdLst/>
            <a:ahLst/>
            <a:rect l="l" t="t" r="r" b="b"/>
            <a:pathLst>
              <a:path w="1968" h="1344">
                <a:moveTo>
                  <a:pt x="0" y="0"/>
                </a:moveTo>
                <a:cubicBezTo>
                  <a:pt x="172" y="392"/>
                  <a:pt x="344" y="784"/>
                  <a:pt x="672" y="1008"/>
                </a:cubicBezTo>
                <a:cubicBezTo>
                  <a:pt x="1000" y="1232"/>
                  <a:pt x="1752" y="1288"/>
                  <a:pt x="1968" y="13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429000" y="4038120"/>
            <a:ext cx="0" cy="16002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438280" y="4038480"/>
            <a:ext cx="990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19760" y="5715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38800" y="3809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743200"/>
            <a:ext cx="3124080" cy="2133720"/>
          </a:xfrm>
          <a:custGeom>
            <a:avLst/>
            <a:gdLst/>
            <a:ahLst/>
            <a:rect l="l" t="t" r="r" b="b"/>
            <a:pathLst>
              <a:path w="1968" h="1344">
                <a:moveTo>
                  <a:pt x="0" y="0"/>
                </a:moveTo>
                <a:cubicBezTo>
                  <a:pt x="172" y="392"/>
                  <a:pt x="344" y="784"/>
                  <a:pt x="672" y="1008"/>
                </a:cubicBezTo>
                <a:cubicBezTo>
                  <a:pt x="1000" y="1232"/>
                  <a:pt x="1752" y="1288"/>
                  <a:pt x="1968" y="13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28440" y="358128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 - Co = Depósito en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219320" y="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DAMENTOS DEL V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ELECCIÓN INTERTEMPORAL DEL CONSUM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Caso 2: Con Acceso al mercado de capit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CONCEPTO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El mercado de capitales no crea riqueza, sólo transforma en el tiemp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A lo largo de la curva Wo W1 la riqueza es la mis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La tasa de interés en una sola, para prestar o pedir prestad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El punto en la recta de presupuesto depende de las preferencias de las personas (Curva de utilidad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El mercado de capitales permite intercambiar fondos para realizar invers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219320" y="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DAMENTOS DEL V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ECISIÓN ÓPTIMA DE INVERS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uesto: Inversión tiene rendimientos decre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438280" y="2285640"/>
            <a:ext cx="0" cy="335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38280" y="563868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62000" y="575640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o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26280" y="22096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íod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38280" y="2971800"/>
            <a:ext cx="2743200" cy="2666880"/>
          </a:xfrm>
          <a:custGeom>
            <a:avLst/>
            <a:gdLst/>
            <a:ahLst/>
            <a:rect l="l" t="t" r="r" b="b"/>
            <a:pathLst>
              <a:path w="1728" h="1680">
                <a:moveTo>
                  <a:pt x="0" y="0"/>
                </a:moveTo>
                <a:cubicBezTo>
                  <a:pt x="552" y="52"/>
                  <a:pt x="1104" y="104"/>
                  <a:pt x="1392" y="384"/>
                </a:cubicBezTo>
                <a:cubicBezTo>
                  <a:pt x="1680" y="664"/>
                  <a:pt x="1704" y="1172"/>
                  <a:pt x="1728" y="168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4419720" y="3429000"/>
            <a:ext cx="0" cy="22096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38280" y="3429000"/>
            <a:ext cx="19814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657600" y="3123720"/>
            <a:ext cx="0" cy="25146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437920" y="3124080"/>
            <a:ext cx="1219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876920" y="3962520"/>
            <a:ext cx="0" cy="167616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438280" y="3962520"/>
            <a:ext cx="2438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62880" y="569916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6200" y="447984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K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72160" y="57150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20080" y="57150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6200" y="30481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K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06200" y="35053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K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219320" y="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DAMENTOS DEL V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DECISIÓN ÓPTIMA DE INVERS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438280" y="2133720"/>
            <a:ext cx="0" cy="35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38280" y="563868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55680" y="60958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o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26280" y="19810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íod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3429000"/>
            <a:ext cx="2514600" cy="2209680"/>
          </a:xfrm>
          <a:custGeom>
            <a:avLst/>
            <a:gdLst/>
            <a:ahLst/>
            <a:rect l="l" t="t" r="r" b="b"/>
            <a:pathLst>
              <a:path w="1728" h="1680">
                <a:moveTo>
                  <a:pt x="0" y="0"/>
                </a:moveTo>
                <a:cubicBezTo>
                  <a:pt x="552" y="52"/>
                  <a:pt x="1104" y="104"/>
                  <a:pt x="1392" y="384"/>
                </a:cubicBezTo>
                <a:cubicBezTo>
                  <a:pt x="1680" y="664"/>
                  <a:pt x="1704" y="1172"/>
                  <a:pt x="1728" y="168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2437920" y="4267080"/>
            <a:ext cx="251460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25000" y="56386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05840" y="40384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W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124080" y="4647960"/>
            <a:ext cx="0" cy="99036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437920" y="4648320"/>
            <a:ext cx="6858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82160" y="44197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20600" y="56386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2438280" y="2819160"/>
            <a:ext cx="518184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343400" y="3886200"/>
            <a:ext cx="0" cy="1752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438280" y="3886200"/>
            <a:ext cx="19051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43520" y="5715000"/>
            <a:ext cx="5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65520" y="3657600"/>
            <a:ext cx="5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374240" y="563868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W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219320" y="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DAMENTOS DEL V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DECISIÓN ÓPTIMA DE INVERS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438280" y="2133720"/>
            <a:ext cx="0" cy="35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38280" y="563868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555680" y="60958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o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26280" y="19810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íod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38280" y="3429000"/>
            <a:ext cx="2514600" cy="2209680"/>
          </a:xfrm>
          <a:custGeom>
            <a:avLst/>
            <a:gdLst/>
            <a:ahLst/>
            <a:rect l="l" t="t" r="r" b="b"/>
            <a:pathLst>
              <a:path w="1728" h="1680">
                <a:moveTo>
                  <a:pt x="0" y="0"/>
                </a:moveTo>
                <a:cubicBezTo>
                  <a:pt x="552" y="52"/>
                  <a:pt x="1104" y="104"/>
                  <a:pt x="1392" y="384"/>
                </a:cubicBezTo>
                <a:cubicBezTo>
                  <a:pt x="1680" y="664"/>
                  <a:pt x="1704" y="1172"/>
                  <a:pt x="1728" y="168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2437920" y="4267080"/>
            <a:ext cx="251460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25000" y="56386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05840" y="40384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W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3124080" y="4647960"/>
            <a:ext cx="0" cy="99036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437920" y="4648320"/>
            <a:ext cx="6858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2160" y="44197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20600" y="56386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2438280" y="2819160"/>
            <a:ext cx="518184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343400" y="3886200"/>
            <a:ext cx="0" cy="1752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438280" y="3886200"/>
            <a:ext cx="19051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43520" y="5715000"/>
            <a:ext cx="5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65520" y="3657600"/>
            <a:ext cx="5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74240" y="563868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W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86400" y="3809880"/>
            <a:ext cx="2590920" cy="1524240"/>
          </a:xfrm>
          <a:custGeom>
            <a:avLst/>
            <a:gdLst/>
            <a:ahLst/>
            <a:rect l="l" t="t" r="r" b="b"/>
            <a:pathLst>
              <a:path w="1968" h="1344">
                <a:moveTo>
                  <a:pt x="0" y="0"/>
                </a:moveTo>
                <a:cubicBezTo>
                  <a:pt x="172" y="392"/>
                  <a:pt x="344" y="784"/>
                  <a:pt x="672" y="1008"/>
                </a:cubicBezTo>
                <a:cubicBezTo>
                  <a:pt x="1000" y="1232"/>
                  <a:pt x="1752" y="1288"/>
                  <a:pt x="1968" y="13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14600" y="2133720"/>
            <a:ext cx="2895480" cy="1676160"/>
          </a:xfrm>
          <a:custGeom>
            <a:avLst/>
            <a:gdLst/>
            <a:ahLst/>
            <a:rect l="l" t="t" r="r" b="b"/>
            <a:pathLst>
              <a:path w="1968" h="1344">
                <a:moveTo>
                  <a:pt x="0" y="0"/>
                </a:moveTo>
                <a:cubicBezTo>
                  <a:pt x="172" y="392"/>
                  <a:pt x="344" y="784"/>
                  <a:pt x="672" y="1008"/>
                </a:cubicBezTo>
                <a:cubicBezTo>
                  <a:pt x="1000" y="1232"/>
                  <a:pt x="1752" y="1288"/>
                  <a:pt x="1968" y="13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1219320" y="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DAMENTOS DEL V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DECISIÓN ÓPTIMA DE INVERS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Valor Presente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VP = K*o + K*1/(1+r) = W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Valor Presente de la Inversión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VP = K*1/(1+r) = WI - K*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Valor Presente Neto de la Inversión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 algn="just">
              <a:spcBef>
                <a:spcPts val="5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VPN = -Io + K*1/(1+r) = WI - W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219320" y="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DAMENTOS DEL V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DECISIÓN ÓPTIMA DE INVERS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Inversión Óptima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VPN = -Io + K*1/(1+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K*1 = f(Io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VPN = -Io + f(Io)/(1+r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dVPN/dIo = -1 + f ‘(Io)/(1+r) = 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f ‘(Io) = (1+r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Rentabilidad Marginal de la inversión es igual a la tasa de interés (hasta aquí invierto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Las decisiones de inversión son independientes de las decisiones de consumo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219320" y="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DAMENTOS DEL V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ongamos invierto hoy $ 350.000 y que esa inversión al cabo de un año la podré vender en $ 400.000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 pregunta a  resolver es si esos $ 400.000 dentro de u año es mayor que los $ 350.000 que he invertido hoy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ER PRINCIPIO FINANCIER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 dólar hoy vale más que un dólar mañana bajo la premisa de que hoy puedo invertir ese dólar para generar intereses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acuerdo a lo anterior los $ 400.000 dentro de un año son menos de $ 400.000 ho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ALOR PRESENTE 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TU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TEOREMA DE SEPARABILIDAD DE FISH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Decsiones de inversión se pueden separar de las decisiones de consum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Inversión óptima es independiente de las preferencias y de la riqueza de los inversionista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Lo anterior implica que las decisiones de inversión son delegabl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Regla de oro para decidir una inversión es aquella que maximiza el VA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El calculo del VAN debe hacerse con la tasa a la cual se puede ahorrar y pedir prestad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Ojo que el mundo real las tasas difieren y por lo tanto lo relevante es el costo de oportunidad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219320" y="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DAMENTOS DEL V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VALOR PRESENTE = FD * VALOR FUTU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FD = 1 / (1 + r) (Factor de Descuento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FD es menor que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FD = Tasa de rentabil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r = rentabilidad exigida por el inversionista por un pago aplazad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Valor Presente = Valor Futuro actualizado por la tasa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de rentabilidad exigid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ALOR PRESENTE 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TU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r = Tasa de descuen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Tasa míni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Costo de oportunidad del capit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Costo de oportunidad: Rentabilidad a la que se renuncia al invertir en un proyect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SEGUNDO PRINCIPIO FINANCIERO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Un dólar seguro vale más que uno con riesgo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ALOR PRESENTE 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TU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 todas las inversiones tienen el mismo riesg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jemplo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onos del teso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ción de ofici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ación de un pozo de petról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principio a mayor riesgo mayor es la rentabilidad exigida y por lo tanto baja el precio o valor de un ac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problema del principio anterior es que asume que los flujos futuros son cierto lo cual no es ver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ás adelante se discutirá el problema del riesgo y como éste afecta el valor de los ac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ALOR PRESENTE 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TU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 DE OPORTUNIDAD DEL CAPIT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E UN PROYECTO DE INVERSIÓN ES LA TASA ESPERADA DE RENTABILIDAD DEMANDADA POR LOS INVERSIONISTAS EN ACTIVOS SUJETOS AL MISMO RIESGO DEL PROYE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ALOR PRESENTE 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TU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1160" y="228240"/>
            <a:ext cx="6781680" cy="72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STO DE OPORTUN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UENTES HABITUALES DE CONFUS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conociendo variación en los flujos se descuenta a la tasa libre de riesg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sumir que la tasa de descuento es equivalente a la tasa a la cual puedo endeudarm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DAMENTOS DEL V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ELECCIÓN INTERTEMPORAL DEL CONSUM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Caso 1: Sin Acceso al mercado de capit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438280" y="274284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563868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62000" y="575640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o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0680" y="263196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íod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2895480"/>
            <a:ext cx="3124080" cy="2133720"/>
          </a:xfrm>
          <a:custGeom>
            <a:avLst/>
            <a:gdLst/>
            <a:ahLst/>
            <a:rect l="l" t="t" r="r" b="b"/>
            <a:pathLst>
              <a:path w="1968" h="1344">
                <a:moveTo>
                  <a:pt x="0" y="0"/>
                </a:moveTo>
                <a:cubicBezTo>
                  <a:pt x="172" y="392"/>
                  <a:pt x="344" y="784"/>
                  <a:pt x="672" y="1008"/>
                </a:cubicBezTo>
                <a:cubicBezTo>
                  <a:pt x="1000" y="1232"/>
                  <a:pt x="1752" y="1288"/>
                  <a:pt x="1968" y="13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38280" y="44197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86200" y="44197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05280" y="41562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1=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4840" y="57564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=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48840" y="3927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81720" y="3394080"/>
            <a:ext cx="206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(Co,C1) = U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ELECCIÓN INTERTEMPORAL DEL CONSUM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Caso 2: Con Acceso al mercado de capit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438280" y="274284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563868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62000" y="575640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o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0680" y="263196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íod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38280" y="44197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86200" y="44197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05280" y="41562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1=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54840" y="57564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=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38280" y="3200400"/>
            <a:ext cx="2971800" cy="24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51360" y="5334120"/>
            <a:ext cx="177840" cy="304560"/>
          </a:xfrm>
          <a:custGeom>
            <a:avLst/>
            <a:gdLst/>
            <a:ahLst/>
            <a:rect l="l" t="t" r="r" b="b"/>
            <a:pathLst>
              <a:path w="112" h="192">
                <a:moveTo>
                  <a:pt x="16" y="192"/>
                </a:moveTo>
                <a:cubicBezTo>
                  <a:pt x="8" y="136"/>
                  <a:pt x="0" y="80"/>
                  <a:pt x="16" y="48"/>
                </a:cubicBezTo>
                <a:cubicBezTo>
                  <a:pt x="32" y="16"/>
                  <a:pt x="96" y="8"/>
                  <a:pt x="11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181480" y="518112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70920" y="491796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(1+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82920" y="57150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38080" y="30132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1219320" y="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DAMENTOS DEL V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4T15:19:40Z</dcterms:created>
  <dc:creator>Eduardo Contreras Villablanca</dc:creator>
  <dc:description/>
  <dc:language>en-US</dc:language>
  <cp:lastModifiedBy>Eduardo Contreras</cp:lastModifiedBy>
  <cp:lastPrinted>2000-08-10T13:24:25Z</cp:lastPrinted>
  <dcterms:modified xsi:type="dcterms:W3CDTF">2003-10-17T16:26:41Z</dcterms:modified>
  <cp:revision>17</cp:revision>
  <dc:subject>Planificación financiera</dc:subject>
  <dc:title>PLANIFICACION FINANCIERA</dc:title>
</cp:coreProperties>
</file>