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597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597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597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4479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4479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597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597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597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162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597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597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447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597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eaec5e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609480" y="317520"/>
            <a:ext cx="7925040" cy="14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62560"/>
            <a:ext cx="7880400" cy="32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74160" y="635940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Century Schoolbook"/>
              </a:rPr>
              <a:t>Eduardo Contre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ualmente el costo de oportunidad del dinero se expresa como una tasa de interés expresada para un cierto periodo.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demostrar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VP ( 1 +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de interés (Compues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: Número de perío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666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ualizar y capitaliz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ongamos un flujo de dinero en un periodo futuro t, llamémoslo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ste flujo puede ser expresado en forma equivalente, es decir que hay indiferencia entre recibirlo en t u en otro momento, si el flujo es capitalizado hacia el futuro o actualizado o descontado hacia el pres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6040" y="3463920"/>
            <a:ext cx="5916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138096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lor Presente 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llamado Valor Actual Neto (VAN), Valor Neto Descontado (VND), Beneficio Neto Actual (BNA) o Net Present Value (NPV), se calcula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PN es el excedente que queda para el (los) inversionista(s) después de haber recuperado la inversión y el costo de oportunidad de los recursos destin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305160" y="3159000"/>
                <a:ext cx="29145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211400"/>
            <a:ext cx="7632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Presente 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ego, el criterio de decisión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N &gt; 0, conviene hacer el proyecto porque aporta riquez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N = 0, se está indiferente entre hacer o no 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N &lt; 0, no conviene realizarlo, es mejor destinar el capital a su uso alternativo (de rentabilidad “r”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yoría de las veces si a un proyecto se le exige una mayor tasa de descuento entonces el VPN disminuye, es decir, la relación entre la tasa de descuento y el VPN se puede representar gráficamente como en la figura 1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gura 1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Figura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04960" y="3376440"/>
          <a:ext cx="2724120" cy="25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3376440"/>
                    <a:ext cx="2724120" cy="2505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095800" y="3376440"/>
          <a:ext cx="272412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5800" y="3376440"/>
                    <a:ext cx="2724120" cy="2505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IR es un indicador asociado al VPN y por lo tanto requiere la misma información necesaria para calcularl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IR son todas aquellas tasas de descuento constantes que hacen que el VPN del proyecto en cuestión sea cero. O sea, es la tasa de descuento límite entre la aceptación y rechazo de un proyec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 la rentabilidad media intrínseca del proyecto que se está evaluan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riterio de decisión es que se deben aceptar los proyectos con TIR&gt;r. O sea todos los proyectos cuya tasa de retorno sea mayor que el costo de oportunidad del capi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ién llamado “Payback” o PRI, corresponde al primer período en el cual el flujo acumulado (sin descontar)se hace positiv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indicador se interpreta como el tiempo necesario para que el proyecto recupere el capital invertid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indicador no permite jerarquizar proyectos en forma eficiente. No nos indica nada respecto del aporte de riqueza que  de la invers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67080" y="5162400"/>
          <a:ext cx="27147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7080" y="5162400"/>
                    <a:ext cx="2714760" cy="952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c5e"/>
                </a:solidFill>
                <a:latin typeface="Arial"/>
              </a:rPr>
              <a:t>Priorización de inversiones con restricción de capital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o de proyectos independi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erio: Seleccionar las inversiones tales que su VPN conjunto sea el máxim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y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 = VP /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: Valor presente de benefic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c5e"/>
                </a:solidFill>
                <a:latin typeface="Arial"/>
              </a:rPr>
              <a:t>Priorización de inversiones con restricción de capital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tricción: 10 UM, Criterio ordenar por VPN hasta agotar capital =&gt; Hacer sól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o si hacemos B+C =&gt; VPNbc = 28, ¡Mejor que A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lución para evitar el análisis combinatorio: 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º :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º :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3º :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utiliza indicador equivalente al IR denominado IVAN = VPN /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3T11:21:18Z</dcterms:created>
  <dc:creator>EDUARDO CONTRERAS</dc:creator>
  <dc:description/>
  <dc:language>en-US</dc:language>
  <cp:lastModifiedBy>Eduardo Contreras</cp:lastModifiedBy>
  <cp:lastPrinted>2000-08-03T15:28:05Z</cp:lastPrinted>
  <dcterms:modified xsi:type="dcterms:W3CDTF">2004-08-09T17:36:20Z</dcterms:modified>
  <cp:revision>40</cp:revision>
  <dc:subject/>
  <dc:title>Evaluación</dc:title>
</cp:coreProperties>
</file>