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66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javascript:ir(&apos;PPS%20%20%20%20%20%20%20&apos;,&apos;BT&apos;,&apos;Bonos+Tesorer%26iacute%3Ba+y+Banco+Central&apos;,1);" TargetMode="External"/><Relationship Id="rId3" Type="http://schemas.openxmlformats.org/officeDocument/2006/relationships/hyperlink" Target="javascript:ir(&apos;PEP%20%20%20%20%20%20%20&apos;,&apos;BT&apos;,&apos;Bonos+Tesorer%26iacute%3Ba+y+Banco+Central&apos;,1);" TargetMode="External"/><Relationship Id="rId4" Type="http://schemas.openxmlformats.org/officeDocument/2006/relationships/hyperlink" Target="javascript:ir(&apos;PRD%20%20%20%20%20%20%20&apos;,&apos;BT&apos;,&apos;Bonos+Tesorer%26iacute%3Ba+y+Banco+Central&apos;,1);" TargetMode="External"/><Relationship Id="rId5" Type="http://schemas.openxmlformats.org/officeDocument/2006/relationships/hyperlink" Target="javascript:ir(&apos;PTF%20%20%20%20%20%20%20&apos;,&apos;BT&apos;,&apos;Bonos+Tesorer%26iacute%3Ba+y+Banco+Central&apos;,1);" TargetMode="External"/><Relationship Id="rId6" Type="http://schemas.openxmlformats.org/officeDocument/2006/relationships/hyperlink" Target="javascript:ir(&apos;BCU%20%20%20%20%20%20%20&apos;,&apos;BT&apos;,&apos;Bonos+Tesorer%26iacute%3Ba+y+Banco+Central&apos;,1);" TargetMode="External"/><Relationship Id="rId7" Type="http://schemas.openxmlformats.org/officeDocument/2006/relationships/hyperlink" Target="javascript:ir(&apos;BCD%20%20%20%20%20%20%20&apos;,&apos;BT&apos;,&apos;Bonos+Tesorer%26iacute%3Ba+y+Banco+Central&apos;,1);" TargetMode="External"/><Relationship Id="rId8" Type="http://schemas.openxmlformats.org/officeDocument/2006/relationships/hyperlink" Target="javascript:ir(&apos;BCP%20%20%20%20%20%20%20&apos;,&apos;BT&apos;,&apos;Bonos+Tesorer%26iacute%3Ba+y+Banco+Central&apos;,1);" TargetMode="External"/><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
        <p:nvSpPr>
          <p:cNvPr id="40"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 son y para que sirven las finanza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ivel micro (empresa)</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empresa para funcionar requiere activo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obtener esos activos requiere pagar por ellos,i.e., financiarlo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eoría financiera nos entrega modelos y herramientas de apoyo para decisiones como:</a:t>
            </a:r>
            <a:endParaRPr b="0" lang="en-US" sz="2400" spc="-1" strike="noStrike">
              <a:solidFill>
                <a:srgbClr val="000000"/>
              </a:solidFill>
              <a:latin typeface="Times New Roman"/>
            </a:endParaRPr>
          </a:p>
          <a:p>
            <a:pPr lvl="3" marL="1519920" indent="-21708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uales activos invertir</a:t>
            </a:r>
            <a:endParaRPr b="0" lang="en-US" sz="2000" spc="-1" strike="noStrike">
              <a:solidFill>
                <a:srgbClr val="000000"/>
              </a:solidFill>
              <a:latin typeface="Times New Roman"/>
            </a:endParaRPr>
          </a:p>
          <a:p>
            <a:pPr lvl="3" marL="1519920" indent="-21708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anto invertir en cada activo</a:t>
            </a:r>
            <a:endParaRPr b="0" lang="en-US" sz="2000" spc="-1" strike="noStrike">
              <a:solidFill>
                <a:srgbClr val="000000"/>
              </a:solidFill>
              <a:latin typeface="Times New Roman"/>
            </a:endParaRPr>
          </a:p>
          <a:p>
            <a:pPr lvl="3" marL="1519920" indent="-21708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ómo conseguir los fondos necesarios para esas inversiones</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ituciones integrantes del mercado de capit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lsa de Comercio y Bolsa Electrónica de Santiag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itución (Externa) responsable de la regulación del mercad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ntendencia de Valores y Seguros</a:t>
            </a:r>
            <a:endParaRPr b="0" lang="en-US" sz="2400" spc="-1" strike="noStrike">
              <a:solidFill>
                <a:srgbClr val="000000"/>
              </a:solidFill>
              <a:latin typeface="Times New Roman"/>
            </a:endParaRPr>
          </a:p>
        </p:txBody>
      </p:sp>
      <p:sp>
        <p:nvSpPr>
          <p:cNvPr id="75"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stituciones integrantes del mercado de capital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mediarios Financieros:</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nco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FP</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ondos Mutuo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nanciera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ñías de Seguro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ondos de Capital de Riesgo (FIDEs)</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ituciones integrantes del mercado de capit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dades Anónimas Abiert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úblico en gener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resas estata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ios Informativos</a:t>
            </a:r>
            <a:endParaRPr b="0" lang="en-US" sz="2800" spc="-1" strike="noStrike">
              <a:solidFill>
                <a:srgbClr val="000000"/>
              </a:solidFill>
              <a:latin typeface="Times New Roman"/>
            </a:endParaRPr>
          </a:p>
        </p:txBody>
      </p:sp>
      <p:sp>
        <p:nvSpPr>
          <p:cNvPr id="79"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s sobre las Instituciones integrantes del mercado de capitale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principal entre bancos y financieras: los primeros son los únicos que pueden otorgar cuentas corriente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AFP caen dentro de la clasificación de “ahorro involuntario”</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dos Mutuos: Invierten en un portafolio bien diversificado de activos financieros</a:t>
            </a:r>
            <a:endParaRPr b="0" lang="en-US" sz="2800" spc="-1" strike="noStrike">
              <a:solidFill>
                <a:srgbClr val="000000"/>
              </a:solidFill>
              <a:latin typeface="Times New Roman"/>
            </a:endParaRPr>
          </a:p>
        </p:txBody>
      </p:sp>
      <p:sp>
        <p:nvSpPr>
          <p:cNvPr id="81"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s sobre las Instituciones integrantes del mercado de capit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Sociedad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dad Anónima Abierta: Sus acciones pueden ser transadas en Bol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dad Anónima Cerrada: Lo contrario, sus acciones no se transan en Bolsa.</a:t>
            </a:r>
            <a:endParaRPr b="0" lang="en-US" sz="2800" spc="-1" strike="noStrike">
              <a:solidFill>
                <a:srgbClr val="000000"/>
              </a:solidFill>
              <a:latin typeface="Times New Roman"/>
            </a:endParaRPr>
          </a:p>
        </p:txBody>
      </p:sp>
      <p:sp>
        <p:nvSpPr>
          <p:cNvPr id="83"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de renta variable</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iones: Títulos de propiedad sobre una fracción de los activos físicos de una empresa</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ajas de la propiedad accionaria: Responsabilidad limitada al total de la inversión individual y facilidad de transferencia</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os que inducen a comprar acciones</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abilidad: Ganancia de capital + Dividendo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Times New Roman"/>
            </a:endParaRPr>
          </a:p>
        </p:txBody>
      </p:sp>
      <p:sp>
        <p:nvSpPr>
          <p:cNvPr id="85"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de renta vari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chos de los accionista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r en las ganancias de la socied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r en el patrimonio que resulta de la liquidación de la socied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o preferencial de suscripció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o a voz y vot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o a retiro </a:t>
            </a:r>
            <a:endParaRPr b="0" lang="en-US" sz="2400" spc="-1" strike="noStrike">
              <a:solidFill>
                <a:srgbClr val="000000"/>
              </a:solidFill>
              <a:latin typeface="Times New Roman"/>
            </a:endParaRPr>
          </a:p>
        </p:txBody>
      </p:sp>
      <p:sp>
        <p:nvSpPr>
          <p:cNvPr id="87"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variable</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acciones</a:t>
            </a:r>
            <a:endParaRPr b="0" lang="en-US" sz="28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acuerdo a la posibilidad de ejercer ciertos derechos</a:t>
            </a:r>
            <a:endParaRPr b="0" lang="en-US" sz="24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inarias</a:t>
            </a:r>
            <a:endParaRPr b="0" lang="en-US" sz="20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iales</a:t>
            </a:r>
            <a:endParaRPr b="0" lang="en-US" sz="20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acuerdo a la modalidad de transferencia</a:t>
            </a:r>
            <a:endParaRPr b="0" lang="en-US" sz="24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tivas; a nombre de una persona, la venta de la acción debe notificarse a la compañía</a:t>
            </a:r>
            <a:endParaRPr b="0" lang="en-US" sz="20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portador: Traspaso por venta simple </a:t>
            </a:r>
            <a:endParaRPr b="0" lang="en-US" sz="20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o sin sucesión perpetua (heredables o no heredables)</a:t>
            </a:r>
            <a:endParaRPr b="0" lang="en-US" sz="2400" spc="-1" strike="noStrike">
              <a:solidFill>
                <a:srgbClr val="000000"/>
              </a:solidFill>
              <a:latin typeface="Times New Roman"/>
            </a:endParaRPr>
          </a:p>
        </p:txBody>
      </p:sp>
      <p:sp>
        <p:nvSpPr>
          <p:cNvPr id="89"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variabl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precios asociados a una acción</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nominal, el que se pone en la acción al momento de emitirla: Activo / Nº de acciones</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contable o de libros: El que aparece en el Balance </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mercado: El que determina la oferta y la demanda en la Bolsa.</a:t>
            </a:r>
            <a:endParaRPr b="0" lang="en-US" sz="24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ributos relevantes: rentabilidad, riesgo y liquidez.</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2057400" y="2514600"/>
            <a:ext cx="5334120" cy="3962520"/>
          </a:xfrm>
          <a:prstGeom prst="rect">
            <a:avLst/>
          </a:prstGeom>
          <a:ln w="0">
            <a:noFill/>
          </a:ln>
        </p:spPr>
      </p:pic>
      <p:sp>
        <p:nvSpPr>
          <p:cNvPr id="93" name=""/>
          <p:cNvSpPr/>
          <p:nvPr/>
        </p:nvSpPr>
        <p:spPr>
          <a:xfrm>
            <a:off x="1219320" y="19051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ones:</a:t>
            </a:r>
            <a:endParaRPr b="0" lang="en-US" sz="24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9000"/>
          </a:bodyPr>
          <a:p>
            <a:pPr marL="305280" indent="-3052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e son y para que sirven las finanzas?</a:t>
            </a:r>
            <a:endParaRPr b="0" lang="en-US" sz="32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éxito de las decisiones anteriores se mide por la contribución de estas al mayor o menor VALOR de la empresa.</a:t>
            </a:r>
            <a:endParaRPr b="0" lang="en-US" sz="24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nivel macro (mercado financiero)</a:t>
            </a:r>
            <a:endParaRPr b="0" lang="en-US" sz="28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herramientas para el análisis del flujo ahorro-inversión: Transferencia de recursos desde oferentes de capital (ahorrantes) a demandantes de capital (inversionistas)</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rienta y permite diseñar políticas para incidir en la asignación de recursos entre empresas y sectores</a:t>
            </a:r>
            <a:endParaRPr b="0" lang="en-US" sz="2400" spc="-1" strike="noStrike">
              <a:solidFill>
                <a:srgbClr val="000000"/>
              </a:solidFill>
              <a:latin typeface="Times New Roman"/>
            </a:endParaRPr>
          </a:p>
        </p:txBody>
      </p:sp>
      <p:sp>
        <p:nvSpPr>
          <p:cNvPr id="42"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7000"/>
          </a:bodyPr>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ción: Son activos financieros emitidos por las empresas o el Estado, compromiso del emisor a devolver el capital prestado en un plazo preestablecido y a pagar intereses hasta el vencimiento del empréstito.</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acciones vs. Renta Fija: Grado de compromiso adquirido:</a:t>
            </a:r>
            <a:endParaRPr b="0" lang="en-US" sz="2800" spc="-1" strike="noStrike">
              <a:solidFill>
                <a:srgbClr val="000000"/>
              </a:solidFill>
              <a:latin typeface="Times New Roman"/>
            </a:endParaRPr>
          </a:p>
          <a:p>
            <a:pPr lvl="2" marL="99432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 =&gt; Pasivo no exigible</a:t>
            </a:r>
            <a:endParaRPr b="0" lang="en-US" sz="2400" spc="-1" strike="noStrike">
              <a:solidFill>
                <a:srgbClr val="000000"/>
              </a:solidFill>
              <a:latin typeface="Times New Roman"/>
            </a:endParaRPr>
          </a:p>
          <a:p>
            <a:pPr lvl="2" marL="99432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gt; Pasivo exigible</a:t>
            </a:r>
            <a:endParaRPr b="0" lang="en-US" sz="2400" spc="-1" strike="noStrike">
              <a:solidFill>
                <a:srgbClr val="000000"/>
              </a:solidFill>
              <a:latin typeface="Times New Roman"/>
            </a:endParaRPr>
          </a:p>
          <a:p>
            <a:pPr lvl="4" marL="1789920" indent="-19872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ólo si se mantienen hasta el vencimiento</a:t>
            </a:r>
            <a:endParaRPr b="0" lang="en-US" sz="2000" spc="-1" strike="noStrike">
              <a:solidFill>
                <a:srgbClr val="000000"/>
              </a:solidFill>
              <a:latin typeface="Times New Roman"/>
            </a:endParaRPr>
          </a:p>
        </p:txBody>
      </p:sp>
      <p:sp>
        <p:nvSpPr>
          <p:cNvPr id="95"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1447920"/>
            <a:ext cx="7728120" cy="4114800"/>
          </a:xfrm>
          <a:prstGeom prst="rect">
            <a:avLst/>
          </a:prstGeom>
          <a:noFill/>
          <a:ln w="0">
            <a:noFill/>
          </a:ln>
        </p:spPr>
        <p:txBody>
          <a:bodyPr lIns="90360" rIns="90360" tIns="44280" bIns="44280" anchor="t">
            <a:normAutofit fontScale="90000"/>
          </a:bodyPr>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RF del Estado:</a:t>
            </a:r>
            <a:endParaRPr b="0" lang="en-US" sz="28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arés de Tesorería Gral. de la República</a:t>
            </a:r>
            <a:endParaRPr b="0" lang="en-US" sz="24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Reajustables de Tesorería(PRT)</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onos CAR</a:t>
            </a:r>
            <a:endParaRPr b="0" lang="en-US" sz="20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arés del Banco Central</a:t>
            </a:r>
            <a:endParaRPr b="0" lang="en-US" sz="24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Dólar Preferencial (PDP)</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Portador del Bco. Central (PPBC)</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Capítulo Dieciocho y Diecinueve (PCD)</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Compra Cartera (PCC)</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Reajustables con Cupones (PRC)</a:t>
            </a:r>
            <a:endParaRPr b="0" lang="en-US" sz="2000" spc="-1" strike="noStrike">
              <a:solidFill>
                <a:srgbClr val="000000"/>
              </a:solidFill>
              <a:latin typeface="Times New Roman"/>
            </a:endParaRPr>
          </a:p>
          <a:p>
            <a:pPr lvl="2" marL="1028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ción a la teoría y la gestión financiera</a:t>
            </a:r>
            <a:endParaRPr b="0" lang="en-US" sz="4400" spc="-1" strike="noStrike">
              <a:solidFill>
                <a:srgbClr val="000000"/>
              </a:solidFill>
              <a:latin typeface="Times New Roman"/>
            </a:endParaRPr>
          </a:p>
        </p:txBody>
      </p:sp>
      <p:sp>
        <p:nvSpPr>
          <p:cNvPr id="99"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ros instrumentos de Tesorería y Banco Central</a:t>
            </a:r>
            <a:endParaRPr b="0" lang="en-US" sz="32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2"/>
              </a:rPr>
              <a:t>PPS [PPS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3"/>
              </a:rPr>
              <a:t>PEP [PEP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4"/>
              </a:rPr>
              <a:t>PRD [PRD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5"/>
              </a:rPr>
              <a:t>PTF [PTF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6"/>
              </a:rPr>
              <a:t>BCU [BCU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7"/>
              </a:rPr>
              <a:t>BCD [BCD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8"/>
              </a:rPr>
              <a:t> BCP [BCP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mediación financier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orería General de la Repúblic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D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co Centra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BC</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BC</a:t>
            </a:r>
            <a:endParaRPr b="0" lang="en-US" sz="2400" spc="-1" strike="noStrike">
              <a:solidFill>
                <a:srgbClr val="000000"/>
              </a:solidFill>
              <a:latin typeface="Times New Roman"/>
            </a:endParaRPr>
          </a:p>
        </p:txBody>
      </p:sp>
      <p:sp>
        <p:nvSpPr>
          <p:cNvPr id="101"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5000"/>
          </a:bodyPr>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RF de empresas privadas</a:t>
            </a:r>
            <a:endParaRPr b="0" lang="en-US" sz="28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tras Hipotecarias (Banco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nos Bancario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nos de Empresa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arés de Empresas, brokers: instrumentos de corto plazo emitidos por sociedades anónima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ósitos a plazo; no son bonos, es un activo financiero de los Banco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entures; para financiar inversiones de sociedades anónimas</a:t>
            </a:r>
            <a:endParaRPr b="0" lang="en-US" sz="2400" spc="-1" strike="noStrike">
              <a:solidFill>
                <a:srgbClr val="000000"/>
              </a:solidFill>
              <a:latin typeface="Times New Roman"/>
            </a:endParaRPr>
          </a:p>
        </p:txBody>
      </p:sp>
      <p:sp>
        <p:nvSpPr>
          <p:cNvPr id="103"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precios de los IRF</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cara: Precio que sale estampado en el bono en el momento de la emisión</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nominal (o par): Suma de las amortizaciones no canceladas más los intereses devengados y no pagados</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 Al momento de emitir un bono, Valor Cara = Valor Nominal</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mercado: Valor al cual se transan los IRF en la Bolsa. </a:t>
            </a:r>
            <a:endParaRPr b="0" lang="en-US" sz="2400" spc="-1" strike="noStrike">
              <a:solidFill>
                <a:srgbClr val="000000"/>
              </a:solidFill>
              <a:latin typeface="Times New Roman"/>
            </a:endParaRPr>
          </a:p>
        </p:txBody>
      </p:sp>
      <p:sp>
        <p:nvSpPr>
          <p:cNvPr id="105"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533520" y="990720"/>
            <a:ext cx="8076960" cy="5181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533520" y="990720"/>
            <a:ext cx="7772400" cy="502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295280" y="182880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 Fija:</a:t>
            </a:r>
            <a:endParaRPr b="0" lang="en-US" sz="2400" spc="-1" strike="noStrike">
              <a:solidFill>
                <a:srgbClr val="000000"/>
              </a:solidFill>
              <a:latin typeface="Times New Roman"/>
            </a:endParaRPr>
          </a:p>
        </p:txBody>
      </p:sp>
      <p:pic>
        <p:nvPicPr>
          <p:cNvPr id="109" name="" descr=""/>
          <p:cNvPicPr/>
          <p:nvPr/>
        </p:nvPicPr>
        <p:blipFill>
          <a:blip r:embed="rId2"/>
          <a:stretch/>
        </p:blipFill>
        <p:spPr>
          <a:xfrm>
            <a:off x="1981080" y="2514600"/>
            <a:ext cx="5639040" cy="3921120"/>
          </a:xfrm>
          <a:prstGeom prst="rect">
            <a:avLst/>
          </a:prstGeom>
          <a:ln w="0">
            <a:noFill/>
          </a:ln>
        </p:spPr>
      </p:pic>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711000" y="1738440"/>
            <a:ext cx="7569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IFICACION  DE INSTRUMENTOS FINANCIE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BALANCE</a:t>
            </a:r>
            <a:endParaRPr b="0" lang="en-US" sz="2400" spc="-1" strike="noStrike">
              <a:solidFill>
                <a:srgbClr val="000000"/>
              </a:solidFill>
              <a:latin typeface="Times New Roman"/>
            </a:endParaRPr>
          </a:p>
        </p:txBody>
      </p:sp>
      <p:sp>
        <p:nvSpPr>
          <p:cNvPr id="111" name=""/>
          <p:cNvSpPr/>
          <p:nvPr/>
        </p:nvSpPr>
        <p:spPr>
          <a:xfrm>
            <a:off x="2216160" y="3054240"/>
            <a:ext cx="3263760" cy="326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9880" y="3054240"/>
            <a:ext cx="0" cy="326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16160" y="4267080"/>
            <a:ext cx="15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16360" y="4648320"/>
            <a:ext cx="15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66000" y="3262320"/>
            <a:ext cx="1011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jo</a:t>
            </a:r>
            <a:endParaRPr b="0" lang="en-US" sz="2400" spc="-1" strike="noStrike">
              <a:solidFill>
                <a:srgbClr val="000000"/>
              </a:solidFill>
              <a:latin typeface="Times New Roman"/>
            </a:endParaRPr>
          </a:p>
        </p:txBody>
      </p:sp>
      <p:sp>
        <p:nvSpPr>
          <p:cNvPr id="116" name=""/>
          <p:cNvSpPr/>
          <p:nvPr/>
        </p:nvSpPr>
        <p:spPr>
          <a:xfrm>
            <a:off x="2372040" y="4557600"/>
            <a:ext cx="1351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ulante</a:t>
            </a:r>
            <a:endParaRPr b="0" lang="en-US" sz="2400" spc="-1" strike="noStrike">
              <a:solidFill>
                <a:srgbClr val="000000"/>
              </a:solidFill>
              <a:latin typeface="Times New Roman"/>
            </a:endParaRPr>
          </a:p>
        </p:txBody>
      </p:sp>
      <p:sp>
        <p:nvSpPr>
          <p:cNvPr id="117" name=""/>
          <p:cNvSpPr/>
          <p:nvPr/>
        </p:nvSpPr>
        <p:spPr>
          <a:xfrm>
            <a:off x="3878640" y="3567240"/>
            <a:ext cx="15393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118" name=""/>
          <p:cNvSpPr/>
          <p:nvPr/>
        </p:nvSpPr>
        <p:spPr>
          <a:xfrm>
            <a:off x="4236840" y="5091120"/>
            <a:ext cx="9770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119" name=""/>
          <p:cNvSpPr/>
          <p:nvPr/>
        </p:nvSpPr>
        <p:spPr>
          <a:xfrm>
            <a:off x="6504480" y="3567240"/>
            <a:ext cx="1316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a:t>
            </a:r>
            <a:endParaRPr b="0" lang="en-US" sz="2400" spc="-1" strike="noStrike">
              <a:solidFill>
                <a:srgbClr val="000000"/>
              </a:solidFill>
              <a:latin typeface="Times New Roman"/>
            </a:endParaRPr>
          </a:p>
        </p:txBody>
      </p:sp>
      <p:sp>
        <p:nvSpPr>
          <p:cNvPr id="120" name=""/>
          <p:cNvSpPr/>
          <p:nvPr/>
        </p:nvSpPr>
        <p:spPr>
          <a:xfrm>
            <a:off x="6759720" y="5319720"/>
            <a:ext cx="6555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a:t>
            </a:r>
            <a:endParaRPr b="0" lang="en-US" sz="2400" spc="-1" strike="noStrike">
              <a:solidFill>
                <a:srgbClr val="000000"/>
              </a:solidFill>
              <a:latin typeface="Times New Roman"/>
            </a:endParaRPr>
          </a:p>
        </p:txBody>
      </p:sp>
      <p:sp>
        <p:nvSpPr>
          <p:cNvPr id="121" name=""/>
          <p:cNvSpPr/>
          <p:nvPr/>
        </p:nvSpPr>
        <p:spPr>
          <a:xfrm flipH="1">
            <a:off x="5708160" y="3886200"/>
            <a:ext cx="698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5708520" y="5562720"/>
            <a:ext cx="77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reas del administrador financiero</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uar como intermediario entre las operaciones de la empresa y el mercado de capitales.</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tar flujos de Tesorería desde los inversionistas (ahorrantes) para la empresa</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tir dichos flujos en activos necesarios para la operación de la empresa</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stionar los rendimientos que generan los activos</a:t>
            </a:r>
            <a:endParaRPr b="0" lang="en-US" sz="2400" spc="-1" strike="noStrike">
              <a:solidFill>
                <a:srgbClr val="000000"/>
              </a:solidFill>
              <a:latin typeface="Times New Roman"/>
            </a:endParaRPr>
          </a:p>
          <a:p>
            <a:pPr lvl="3" marL="1504080" indent="-214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invirtiendo en la empresa</a:t>
            </a:r>
            <a:endParaRPr b="0" lang="en-US" sz="2000" spc="-1" strike="noStrike">
              <a:solidFill>
                <a:srgbClr val="000000"/>
              </a:solidFill>
              <a:latin typeface="Times New Roman"/>
            </a:endParaRPr>
          </a:p>
          <a:p>
            <a:pPr lvl="3" marL="1504080" indent="-214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ribuyendo a los inversionistas</a:t>
            </a:r>
            <a:endParaRPr b="0" lang="en-US" sz="2000" spc="-1" strike="noStrike">
              <a:solidFill>
                <a:srgbClr val="000000"/>
              </a:solidFill>
              <a:latin typeface="Times New Roman"/>
            </a:endParaRPr>
          </a:p>
        </p:txBody>
      </p:sp>
      <p:sp>
        <p:nvSpPr>
          <p:cNvPr id="44"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eas del administrador financiero</a:t>
            </a:r>
            <a:endParaRPr b="0" lang="en-US" sz="3200" spc="-1" strike="noStrike">
              <a:solidFill>
                <a:srgbClr val="000000"/>
              </a:solidFill>
              <a:latin typeface="Times New Roman"/>
            </a:endParaRPr>
          </a:p>
        </p:txBody>
      </p:sp>
      <p:sp>
        <p:nvSpPr>
          <p:cNvPr id="46" name=""/>
          <p:cNvSpPr/>
          <p:nvPr/>
        </p:nvSpPr>
        <p:spPr>
          <a:xfrm>
            <a:off x="3664080" y="3359160"/>
            <a:ext cx="151128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794040" y="3408480"/>
            <a:ext cx="12664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zas</a:t>
            </a:r>
            <a:endParaRPr b="0" lang="en-US" sz="2400" spc="-1" strike="noStrike">
              <a:solidFill>
                <a:srgbClr val="000000"/>
              </a:solidFill>
              <a:latin typeface="Times New Roman"/>
            </a:endParaRPr>
          </a:p>
        </p:txBody>
      </p:sp>
      <p:sp>
        <p:nvSpPr>
          <p:cNvPr id="48" name=""/>
          <p:cNvSpPr/>
          <p:nvPr/>
        </p:nvSpPr>
        <p:spPr>
          <a:xfrm>
            <a:off x="7016760" y="2901960"/>
            <a:ext cx="151128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145640" y="3027240"/>
            <a:ext cx="13183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es</a:t>
            </a:r>
            <a:endParaRPr b="0" lang="en-US" sz="2400" spc="-1" strike="noStrike">
              <a:solidFill>
                <a:srgbClr val="000000"/>
              </a:solidFill>
              <a:latin typeface="Times New Roman"/>
            </a:endParaRPr>
          </a:p>
        </p:txBody>
      </p:sp>
      <p:sp>
        <p:nvSpPr>
          <p:cNvPr id="50" name=""/>
          <p:cNvSpPr/>
          <p:nvPr/>
        </p:nvSpPr>
        <p:spPr>
          <a:xfrm>
            <a:off x="996840" y="2901960"/>
            <a:ext cx="151128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126800" y="3027240"/>
            <a:ext cx="12499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52" name=""/>
          <p:cNvSpPr/>
          <p:nvPr/>
        </p:nvSpPr>
        <p:spPr>
          <a:xfrm flipH="1">
            <a:off x="5175000" y="3429000"/>
            <a:ext cx="1841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088600" y="2104920"/>
            <a:ext cx="19065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a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recur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venta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os financieros</a:t>
            </a:r>
            <a:endParaRPr b="0" lang="en-US" sz="1800" spc="-1" strike="noStrike">
              <a:solidFill>
                <a:srgbClr val="000000"/>
              </a:solidFill>
              <a:latin typeface="Times New Roman"/>
            </a:endParaRPr>
          </a:p>
        </p:txBody>
      </p:sp>
      <p:sp>
        <p:nvSpPr>
          <p:cNvPr id="54" name=""/>
          <p:cNvSpPr/>
          <p:nvPr/>
        </p:nvSpPr>
        <p:spPr>
          <a:xfrm flipH="1">
            <a:off x="2507760" y="3429000"/>
            <a:ext cx="115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498040" y="2257560"/>
            <a:ext cx="16077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rsión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os 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ciones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Eª</a:t>
            </a:r>
            <a:endParaRPr b="0" lang="en-US" sz="1800" spc="-1" strike="noStrike">
              <a:solidFill>
                <a:srgbClr val="000000"/>
              </a:solidFill>
              <a:latin typeface="Times New Roman"/>
            </a:endParaRPr>
          </a:p>
        </p:txBody>
      </p:sp>
      <p:sp>
        <p:nvSpPr>
          <p:cNvPr id="56" name=""/>
          <p:cNvSpPr/>
          <p:nvPr/>
        </p:nvSpPr>
        <p:spPr>
          <a:xfrm>
            <a:off x="2521080" y="4343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74000" y="4543560"/>
            <a:ext cx="14814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ndimi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tenido en l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ción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Eª</a:t>
            </a:r>
            <a:endParaRPr b="0" lang="en-US" sz="1800" spc="-1" strike="noStrike">
              <a:solidFill>
                <a:srgbClr val="000000"/>
              </a:solidFill>
              <a:latin typeface="Times New Roman"/>
            </a:endParaRPr>
          </a:p>
        </p:txBody>
      </p:sp>
      <p:sp>
        <p:nvSpPr>
          <p:cNvPr id="58" name=""/>
          <p:cNvSpPr/>
          <p:nvPr/>
        </p:nvSpPr>
        <p:spPr>
          <a:xfrm>
            <a:off x="4806720" y="3816000"/>
            <a:ext cx="749160" cy="444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807080" y="3741840"/>
            <a:ext cx="748800" cy="59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699880" y="385776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versión</a:t>
            </a:r>
            <a:endParaRPr b="0" lang="en-US" sz="1800" spc="-1" strike="noStrike">
              <a:solidFill>
                <a:srgbClr val="000000"/>
              </a:solidFill>
              <a:latin typeface="Times New Roman"/>
            </a:endParaRPr>
          </a:p>
        </p:txBody>
      </p:sp>
      <p:sp>
        <p:nvSpPr>
          <p:cNvPr id="61" name=""/>
          <p:cNvSpPr/>
          <p:nvPr/>
        </p:nvSpPr>
        <p:spPr>
          <a:xfrm>
            <a:off x="5187960" y="4419720"/>
            <a:ext cx="18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65640" y="4772160"/>
            <a:ext cx="1600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bució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inversionistas</a:t>
            </a:r>
            <a:endParaRPr b="0" lang="en-US" sz="1800" spc="-1" strike="noStrike">
              <a:solidFill>
                <a:srgbClr val="000000"/>
              </a:solidFill>
              <a:latin typeface="Times New Roman"/>
            </a:endParaRPr>
          </a:p>
        </p:txBody>
      </p:sp>
      <p:sp>
        <p:nvSpPr>
          <p:cNvPr id="63"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os básicos: el tiempo y el riesgo</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versión en activos de la empresa tarda en dar frutos (rendimiento), estos no siempre se obtienen en el corto plazo (menos de un año)</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rendimientos (beneficios) futuros de la inversión no son ciertos, son siempre rendimientos esperados, sujetos a variabilidad (Ej.: Fallos en pronósticos de ventas, en precios estimados, etc.)</a:t>
            </a:r>
            <a:endParaRPr b="0" lang="en-US" sz="2800" spc="-1" strike="noStrike">
              <a:solidFill>
                <a:srgbClr val="000000"/>
              </a:solidFill>
              <a:latin typeface="Times New Roman"/>
            </a:endParaRPr>
          </a:p>
        </p:txBody>
      </p:sp>
      <p:sp>
        <p:nvSpPr>
          <p:cNvPr id="65"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financiero</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ciones y conceptos general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s financieros son derechos sobre una parte del Activo real de la empresa. Visto desde el punto de vista de una empresa X, un activo financiero es una cuenta de pasivo, ya que da derecho a terceros sobre sus activos.</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mpresa A tendrá activos financieros en la cuenta de Activos, cuando tenga derechos sobre los activos de otra empresa B</a:t>
            </a:r>
            <a:endParaRPr b="0" lang="en-US" sz="2400" spc="-1" strike="noStrike">
              <a:solidFill>
                <a:srgbClr val="000000"/>
              </a:solidFill>
              <a:latin typeface="Times New Roman"/>
            </a:endParaRPr>
          </a:p>
        </p:txBody>
      </p:sp>
      <p:sp>
        <p:nvSpPr>
          <p:cNvPr id="67"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financiero</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ciones y conceptos general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ctivos financieros relacionan las empresas entre sí, de forma que al mirar en forma agregada se anulan</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tanto, , si bien los activos financieros son útiles para fomentar la inversión y el desarrollo, no se pueden considerar como un indicador de desarrollo (son condición necesaria pero no suficiente para el desarrollo económico)</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financiero</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de Capitales:Mercado donde se transan los activos financieros. Ej.: Acciones en la Bolsa de Comercio</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del dinero: Similar pero con alcance de muy corto plazo. Ej.: Línea de crédito, depósitos a 6 meses.</a:t>
            </a:r>
            <a:endParaRPr b="0" lang="en-US" sz="28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ras clasificaciones</a:t>
            </a:r>
            <a:endParaRPr b="0" lang="en-US" sz="2400" spc="-1" strike="noStrike">
              <a:solidFill>
                <a:srgbClr val="000000"/>
              </a:solidFill>
              <a:latin typeface="Times New Roman"/>
            </a:endParaRPr>
          </a:p>
          <a:p>
            <a:pPr lvl="3" marL="1455840" indent="-20772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ado formal y mercado informal</a:t>
            </a:r>
            <a:endParaRPr b="0" lang="en-US" sz="2000" spc="-1" strike="noStrike">
              <a:solidFill>
                <a:srgbClr val="000000"/>
              </a:solidFill>
              <a:latin typeface="Times New Roman"/>
            </a:endParaRPr>
          </a:p>
          <a:p>
            <a:pPr lvl="3" marL="1455840" indent="-20772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ado primario y mercado secundario</a:t>
            </a:r>
            <a:endParaRPr b="0" lang="en-US" sz="2000" spc="-1" strike="noStrike">
              <a:solidFill>
                <a:srgbClr val="000000"/>
              </a:solidFill>
              <a:latin typeface="Times New Roman"/>
            </a:endParaRPr>
          </a:p>
        </p:txBody>
      </p:sp>
      <p:sp>
        <p:nvSpPr>
          <p:cNvPr id="71"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iones del Mercado de Capital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r el proceso de Ahorro-Inversión</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ías de escala o ahorro de costos de transacción</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eedor de información: sobre valor de activos financieros, valor de empresas (por medio del valor de sus acciones, etc.)</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ción de la asignación de recursos</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ción del mercado: Puede ser autorregulación o regulación externa (por organismos del estado)</a:t>
            </a:r>
            <a:endParaRPr b="0" lang="en-US" sz="2400" spc="-1" strike="noStrike">
              <a:solidFill>
                <a:srgbClr val="000000"/>
              </a:solidFill>
              <a:latin typeface="Times New Roman"/>
            </a:endParaRPr>
          </a:p>
        </p:txBody>
      </p:sp>
      <p:sp>
        <p:nvSpPr>
          <p:cNvPr id="73"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20T11:15:26Z</dcterms:created>
  <dc:creator>Eduardo Contreras V.</dc:creator>
  <dc:description/>
  <dc:language>en-US</dc:language>
  <cp:lastModifiedBy>Eduardo Contreras</cp:lastModifiedBy>
  <dcterms:modified xsi:type="dcterms:W3CDTF">2003-10-17T16:18:59Z</dcterms:modified>
  <cp:revision>5</cp:revision>
  <dc:subject>Curso de finanzas de pregrado</dc:subject>
  <dc:title>Introducción a la teoría y la gestión financiera</dc:title>
</cp:coreProperties>
</file>