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CB5-E428-4166-AD85-9699F025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086-85DC-4BDF-A778-580A65C8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547-1C8F-4AFB-8062-4FA2E776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1B9-EC35-4CB0-9CAE-3B17762A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4154-411C-4784-BB8C-896ABC30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1DA6-9785-45E3-A02F-B34D893D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A630-F52A-481F-B818-535E3591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BB09-C13E-40B4-87D1-C0F79CCD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3A46-5271-4EEF-A386-2C0E9817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7B49-EDC3-4369-B2CC-0D607973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0BA2-C33F-4046-88E3-94F8CEFE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1C2-864D-4341-AE86-84599610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24A4-303B-46DA-BD31-62EA5C87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A1B3-8E86-4A27-849B-497AB84F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9DD7-7E70-4938-834A-434DCBE7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A881-70D5-45D5-87C8-4BB11C05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63A3-5A50-4A93-AE21-CC49315C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7B4-F92A-4333-93D1-32867A4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5A2-C5C1-4F8D-BD58-3B20A6B6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2A4-C549-4C82-BF6A-C62F5E84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464-27E3-4D2E-9CD7-914992CF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03A-5233-4D23-AF7E-ADCBDDA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191-A424-47A2-989E-50E86513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C3A-FD36-4BDB-906C-ADBDA945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BA90-4699-40C3-BDAF-A40A95F2DF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ED26-93AC-41B8-AC12-52AB07B0D9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iskamerica.com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1148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5013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fesor: Eduardo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eniero Civil Industrial, 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ster of Business Administration (MBA), ES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Detalle de rentabilidad de  fondos propios (Patrimoni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E = BPT / FP = BPT/ Vtas. Netas * Vtas Netas / F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rgen global neto = BPT / Vtas. N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tación de fondos propios= Vtas.N. / F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14200" y="56246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19240" indent="-21924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Detalle de rentabilidad de  fondos prop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rotación de FP depende del grado de aversión al ries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-182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financiación =&gt; Incremento de FP =&gt; Menor rentabilidad (RO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-182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 aumentamos “E” (deuda) =&gt; Aumenta rotación de FP pero cae el BPT. Por lo tanto el resultado no es cla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4200" y="56246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7000"/>
          </a:bodyPr>
          <a:p>
            <a:pPr marL="126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26720" indent="-126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ausencia de endeudamiento y de impues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-105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IT = BPT =&gt; ROA = RO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-105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.: BAIT=BPT=20 y FP=Act.Total Neto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-105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otro supuesto: No existe Resultado no Oper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1000"/>
          </a:bodyPr>
          <a:p>
            <a:pPr marL="106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06200" indent="-106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Conviene endeudar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230040" indent="-8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:Act Total Neto = 100, FP = 50 y Deuda = 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30040" indent="-8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és 10%/año=&gt; Gts. Financ.= 5 =&gt; BPT=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30040" indent="-8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A = 20/100 = 20% y ROE = 15/50 =30 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30040" indent="-8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viene endeudarse (en este caso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604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fecto de la deud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ecto (+) Rotación; aumenta Vtas./F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ecto (-) Margen; disminuye BPT/Vt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Hasta donde conviene endeudar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ongamos ahora Interés de 25% 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A = 20/100= 20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E = (20-12,5)/50 =15% .....¡Disminuy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conviene si i &gt; ROA &lt;=&gt; ROA &gt; RO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789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fecto de la deuda: Lo que determina que el apalancamiento sea positivo es el tipo de interés (i). Recordem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ecto (+) Rotación; aumenta Vtas./F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ecto (-) Margen; disminuye BPT/Vt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ando i &gt; ROA, el “efecto gasto financiero” sobre el margen anula el efecto rot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1800" y="3186000"/>
            <a:ext cx="338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 &gt; i =&gt; ROE &gt; R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76680" y="3110040"/>
            <a:ext cx="2182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lanc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0800" y="4786200"/>
            <a:ext cx="330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 &lt; i =&gt; ROA &gt; R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28960" y="4481640"/>
            <a:ext cx="2182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lanc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Descomposición de Rentabilidad de F.P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delo ROE = f(R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PT/FP = (BAIT + Atípicos)/ Act.T.N. * FA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nde FAFF: Factor de apalancamiento Financiero-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162080" y="5396040"/>
            <a:ext cx="666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FF =------------------ * --------------- * 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41280" y="5091120"/>
            <a:ext cx="516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. Tot. Neto         BAT                  B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1640" y="5700600"/>
            <a:ext cx="511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ndos P.         BAIT + Atíp.          B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686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omposición del F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FF = FAF * Efecto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F = (Act. T. N.)/ FP * BAT / (BAIT+Atíp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F: Factor de apalancamiento financi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F = Endeudamiento *Efecto Gts.Financi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ordar E`= Activo/FP = 1 +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fecto Gastos Fin. = BAT / (BAIT + Atípic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ecto Fiscal = BPT / 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M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5080" y="3435480"/>
            <a:ext cx="8445240" cy="2133000"/>
            <a:chOff x="235080" y="3435480"/>
            <a:chExt cx="8445240" cy="2133000"/>
          </a:xfrm>
        </p:grpSpPr>
        <p:sp>
          <p:nvSpPr>
            <p:cNvPr id="169" name=""/>
            <p:cNvSpPr/>
            <p:nvPr/>
          </p:nvSpPr>
          <p:spPr>
            <a:xfrm>
              <a:off x="313200" y="3643200"/>
              <a:ext cx="82159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E = ROA * ENDEUDAMIENTO * IMPACTO   * 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NCIERO      FIS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01960" y="502920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629400" y="4489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22120" y="5091120"/>
              <a:ext cx="73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92480" y="5562720"/>
              <a:ext cx="585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153280" y="456516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422600" y="5700600"/>
            <a:ext cx="90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4600" y="6005520"/>
            <a:ext cx="87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La Empresa sólo puede influir en el FAF, el FAFF es ex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as del cur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ntroducción - Ordenamiento del Bal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Análisis Patrimonial Estát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Análisis Patrimonial Dinám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Análisis de Circulante - Rot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Análisis del Estado de Result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Análisis Rentabilidad,Rend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Planificación Financiera de C/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84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gulación del FA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stión de los ejecutivos de operaciones, marketing, finaza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.: Políticas de crédito a clientes, innovaciones tecnológ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` y Gastos Financier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uctura de pas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de propietarios y aversión al ries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 de inter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92504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90800" y="22860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O BESTPHA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8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Patrimon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átic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2332080" y="5232240"/>
            <a:ext cx="44910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1219320"/>
            <a:ext cx="9142560" cy="5637960"/>
            <a:chOff x="0" y="1219320"/>
            <a:chExt cx="9142560" cy="5637960"/>
          </a:xfrm>
        </p:grpSpPr>
        <p:sp>
          <p:nvSpPr>
            <p:cNvPr id="188" name=""/>
            <p:cNvSpPr/>
            <p:nvPr/>
          </p:nvSpPr>
          <p:spPr>
            <a:xfrm>
              <a:off x="25200" y="1219320"/>
              <a:ext cx="9056880" cy="144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00" y="1593000"/>
              <a:ext cx="9056880" cy="1476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200" y="4031640"/>
              <a:ext cx="9056880" cy="126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200" y="4406040"/>
              <a:ext cx="9056880" cy="144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200" y="5905800"/>
              <a:ext cx="9056880" cy="144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0" y="1219320"/>
              <a:ext cx="9142560" cy="5637960"/>
              <a:chOff x="0" y="1219320"/>
              <a:chExt cx="9142560" cy="563796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1219320"/>
                <a:ext cx="9081720" cy="563796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08400" y="1237320"/>
                <a:ext cx="2125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Análisis Patrimonial Estático Año 199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3680" y="1424520"/>
                <a:ext cx="50652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ACTIV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58360" y="1424520"/>
                <a:ext cx="1836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M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80480" y="1424520"/>
                <a:ext cx="127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1040" y="1802160"/>
                <a:ext cx="11286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Inmovilizado materi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262560" y="1802160"/>
                <a:ext cx="416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630,03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579520" y="180216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9.7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9280" y="1989360"/>
                <a:ext cx="12276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Inmovilizado inmateri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62560" y="1989360"/>
                <a:ext cx="416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501,28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579520" y="198936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7.7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8680" y="2174400"/>
                <a:ext cx="13096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ACTIVO FIJO BRU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18560" y="217440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,131,32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453520" y="2174400"/>
                <a:ext cx="415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7.48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2600" y="2552040"/>
                <a:ext cx="524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Inventar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18560" y="255204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2,837,39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75120" y="2552040"/>
                <a:ext cx="3938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43.84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53040" y="2738880"/>
                <a:ext cx="1076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Realizable Funcio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18560" y="273888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2,273,1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475120" y="2738880"/>
                <a:ext cx="3938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35.12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8680" y="2926080"/>
                <a:ext cx="13251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Realizable Extrafuncio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8680" y="2926080"/>
                <a:ext cx="3528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62,5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579520" y="292608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0.9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2400" y="3114720"/>
                <a:ext cx="5583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Disponib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58680" y="3114720"/>
                <a:ext cx="3528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58,1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579520" y="311472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0.9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26200" y="3298320"/>
                <a:ext cx="13874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ACTIVO CIRCULAN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18560" y="329832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5,231,2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53520" y="3298320"/>
                <a:ext cx="415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80.8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0440" y="3489120"/>
                <a:ext cx="106452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Documento Garantí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62560" y="3489120"/>
                <a:ext cx="416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09,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79520" y="348912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.69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65520" y="3861000"/>
                <a:ext cx="16696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TOTAL DE ACTIVO BRU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118560" y="386100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6,472,03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363520" y="3861000"/>
                <a:ext cx="4791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00.0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5320" y="4424040"/>
                <a:ext cx="4791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PASIV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15600" y="4424040"/>
                <a:ext cx="648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980480" y="4424040"/>
                <a:ext cx="127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1480" y="4801680"/>
                <a:ext cx="7732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Capital Paga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18560" y="480168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,168,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475120" y="4801680"/>
                <a:ext cx="3938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8.0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0200" y="4988880"/>
                <a:ext cx="45792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Reserv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118560" y="498888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,170,36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75120" y="4988880"/>
                <a:ext cx="3938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8.08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600" y="5172120"/>
                <a:ext cx="109512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CAPITAL PROP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18560" y="517212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2,338,66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53520" y="5172120"/>
                <a:ext cx="415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36.1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7320" y="5551920"/>
                <a:ext cx="1171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xigible a Largo Plaz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62560" y="5551920"/>
                <a:ext cx="416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450,92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79520" y="555192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6.9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94080" y="5738760"/>
                <a:ext cx="11559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xigible a Corto Plaz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118560" y="573876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3,522,58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75120" y="5738760"/>
                <a:ext cx="3938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54.4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6600" y="5922360"/>
                <a:ext cx="623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EXIGIB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118560" y="592236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3,973,5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53520" y="5922360"/>
                <a:ext cx="415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61.4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2120" y="6112800"/>
                <a:ext cx="111312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Documentos Garantí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62560" y="6112800"/>
                <a:ext cx="416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09,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79520" y="611280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.69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0400" y="6299640"/>
                <a:ext cx="12978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Depreciación Acumula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58680" y="6299640"/>
                <a:ext cx="3528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50,36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579520" y="629964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0.78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5080" y="6671880"/>
                <a:ext cx="9532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TOTAL PASIV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118560" y="667188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6,472,03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363520" y="6671880"/>
                <a:ext cx="4791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00.0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1219320"/>
                <a:ext cx="2880" cy="5637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1219320"/>
                <a:ext cx="25200" cy="563796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9056520" y="1233720"/>
                <a:ext cx="2880" cy="56235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9056520" y="1233720"/>
                <a:ext cx="25200" cy="562356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5200" y="1219320"/>
                <a:ext cx="90565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200" y="1406160"/>
                <a:ext cx="905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200" y="140616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200" y="1593000"/>
                <a:ext cx="90565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200" y="2156040"/>
                <a:ext cx="90565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200" y="215604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200" y="2342880"/>
                <a:ext cx="90565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200" y="234288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200" y="3281760"/>
                <a:ext cx="905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200" y="328176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200" y="3468960"/>
                <a:ext cx="90565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200" y="346896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200" y="3843000"/>
                <a:ext cx="905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200" y="384300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200" y="4031640"/>
                <a:ext cx="90565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200" y="4405680"/>
                <a:ext cx="90565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200" y="4592880"/>
                <a:ext cx="905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200" y="459288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200" y="5155560"/>
                <a:ext cx="90565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200" y="5342760"/>
                <a:ext cx="9056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5200" y="5342760"/>
                <a:ext cx="9056520" cy="1476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200" y="5905800"/>
                <a:ext cx="90565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200" y="6092640"/>
                <a:ext cx="905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5200" y="609264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6040" y="6681240"/>
                <a:ext cx="90565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5200" y="665568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200" y="6842520"/>
                <a:ext cx="9056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5200" y="6842520"/>
                <a:ext cx="9056520" cy="1476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álisis Económico 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533520" y="1859040"/>
            <a:ext cx="8305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1828800"/>
            <a:ext cx="8915040" cy="4266720"/>
            <a:chOff x="0" y="1828800"/>
            <a:chExt cx="8915040" cy="4266720"/>
          </a:xfrm>
        </p:grpSpPr>
        <p:sp>
          <p:nvSpPr>
            <p:cNvPr id="294" name=""/>
            <p:cNvSpPr/>
            <p:nvPr/>
          </p:nvSpPr>
          <p:spPr>
            <a:xfrm>
              <a:off x="32040" y="1828800"/>
              <a:ext cx="1540080" cy="198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40" y="2349000"/>
              <a:ext cx="1581840" cy="198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31840" y="2376720"/>
              <a:ext cx="7707240" cy="198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0" y="3935520"/>
              <a:ext cx="8825400" cy="198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0" y="1841400"/>
              <a:ext cx="8915040" cy="425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 de alterna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ando los resultados anteriores podemos afirmar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-El apalancamiento era negativo en el año 9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-El apalancamiento era positivo en el 93 pero negativo en el 9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-El apalancamiento era positivo en ambos añ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27280" y="0"/>
            <a:ext cx="568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jercicio Propues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omponer la rentabilidad patrimonial (ROE) de acuerdo al esquema analizado en clase en el punto 6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5080" y="3733920"/>
            <a:ext cx="8445240" cy="2133000"/>
            <a:chOff x="235080" y="3733920"/>
            <a:chExt cx="8445240" cy="2133000"/>
          </a:xfrm>
        </p:grpSpPr>
        <p:sp>
          <p:nvSpPr>
            <p:cNvPr id="305" name=""/>
            <p:cNvSpPr/>
            <p:nvPr/>
          </p:nvSpPr>
          <p:spPr>
            <a:xfrm>
              <a:off x="313200" y="3941640"/>
              <a:ext cx="82159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E = ROA * ENDEUDAMIENTO * IMPACTO   * 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NCIERO      FIS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5080" y="3733920"/>
              <a:ext cx="8445240" cy="12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5480" y="48006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01960" y="532764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629400" y="47876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22120" y="5389560"/>
              <a:ext cx="73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0" y="4648320"/>
              <a:ext cx="0" cy="12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92480" y="5861160"/>
              <a:ext cx="585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153280" y="4863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84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gulación del FA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stión de los ejecutivos de operaciones, marketing, finaza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.: Políticas de crédito a clientes, innovaciones tecnológ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` y Gastos Financier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uctura de pas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de propietarios y aversión al ries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 de inter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 .Pirámide de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 esquema de la página 19 del Caso PRONAS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71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 modelo simplificado (No en funcion del ROA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 = (BPT/Vtas)*(Vtas/Act.)*(Act./F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 = margen*rotacion*endeud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 = m*r*e = r*m*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ROE/ROE= 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)(dr/r) + 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)(dm/m) + 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)(de/e) dond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 y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 son coeficientes 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) estimables por regresiones de minimos cuadr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.Rendimiento del a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Detalle de rendimiento de a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Rentabilidad de fondos prop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Detalle de rentabilidad de fondos prop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El 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(ROE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mode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ROE/ROE= Cte.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(dr/r)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(dm/m)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(de/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los estados financieros de varios años se pueden calcular las tres series de incrementos porcentu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uego se hace la regresion y se estiman los coefic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clusiones: determinar que politicas inciden en forma mas determinante sobre la rent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er datos en pág. 17 del ca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JO: Método de análisis, válido para análisis patrimonial, circulante y económ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tuación general: ratios altos o bajo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endencia (evolución tempor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A = (BAIT + Atípicos) / AT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:(36+4)/274=14,6% ; Año 5: 15,2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Bueno o malo? Bien comparado con el costo del exi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tendencia? Mej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A específico: (BAIT/ Act. Func. Ne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: 36 /(274,4-11)=13,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5: 120,4/(813,6-10,8-5,6)=15,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o extrafuncional no es relevante =&gt; Variaciones mín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JO: Si extrafunc. son altos podríamos pasar a rendimientos negativos (menores que el tipo de interé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talle del ROA específic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árgen     Rota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Márgen         Ro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6/825=4,4%   825/263=3,13    120/1351=8,9%    1351/798=1,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pecto al año 1 mejoró mucho el márgen, pero empeoró la ro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minuyó rotación por aumento de A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Inversión en Fijo impactó en el margen aunque no tanto en las ventas (más eficienc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ja rotación podría mejorar si se contraresta tendencia a aumento de clientes por cobra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E = BPT / FP (puede ser BAT/F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ño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ñ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2,6/143=15,8%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1,4/233=13,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Bueno o malo? Depende de otras rentabilidades de ese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ción : Empe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talle del RO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árgen     Rotación FP Márgen         Ro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3/825=2,7%   825/143=5,8R     31/1351=2,3%    1351/233=5,9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menor rentabilidad es básicamente por reducción del márgen global (Rotación casi no varí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ecuencia del aumento del endeudamiento (impacto de gastos financieros en el B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ordar análisis patrimonial estático y dinámico: Pronasa no practica autofinanci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alancamiento financier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5,8%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3,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4,6%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5,2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: ROE &gt; ROA Efecto posi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5: ROE &lt; ROA Efecto negativ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r Pág 17, gastos financieros pasan de 1,36% de las ventas a 6,13% de v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uesto: Analizar evoluciones porcentuales de la página 17, por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a el BAIT de 4,37% a 8,91% ¿Porqué?, ¿Cómo inciden los gastos fijos imputables y no imputables?, ¿y los costos variables comerciales y de fabric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evolucionan los márgenes de fabricación, el bruto y el de contribución (comercial)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egún product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ASA está potenciando los congelados ¿Es unabuena decis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.Indicadores intern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sa de distribución de dividen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sa de reinver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sa de autofinanciamiento y ot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Ratios de Valor de Merc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ice Earning Ratio (P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ntabilidad por dividen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alor de Mercado - Valor Lib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 de T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.Tasa de distribución de dividen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=Dividendos por acción = Dividendos/N°acció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=Beneficio por acción = BPT/ N°acció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asa de distribución= X /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Tasa de reinversión (TR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 = 1 - Tasa de distrib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 = 1- Dividendos/ BPT= (BPT- Dividendos)/B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 = Capitalización de Utilidades (a Reservas)/B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 = Utilidades retenidas / B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Cómo analizar la cuenta de resultados una vez ordenad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Rendimiento del a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2960" y="3567240"/>
            <a:ext cx="180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12960" y="4024440"/>
            <a:ext cx="183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8640" y="3809880"/>
            <a:ext cx="187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&gt; BA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76800" y="5014800"/>
            <a:ext cx="187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F extrafu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07960" y="5396040"/>
            <a:ext cx="20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 extrafu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243400"/>
            <a:ext cx="5029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Ingresos o Gastos  No Ope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típ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Tasa de autofinanciamiento (TA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 = Utilidades Retenidas (Reservas) / Fondos Prop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 = Capitalización Utilidades / Patrimo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 =(Utilidades Retenidas/BPT)*(BPT/Patrimoni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 = TR * RO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 Si una empresa solo distribuye el mínimo legal (30%) y sus reservas son un 20% del Patrimonio. Determinar el RO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E = 0,2 / 0,7 = 28,6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dicadores de Financiación Extern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01040" indent="-154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uevas Inversiones = Activos Iniciales * Tasa de creci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01040" indent="-154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nanciación Externa = Nuevas Inversiones - Utilidades Retenidas = Activos Iniciales * Tasa de crecimiento - Utilidades reten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01040" indent="-154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sa Interna de Crecimiento (TIC, no confundir con TIR): Tasa de crec. Posible sin acudir a fuentes externas. Imponemos Fin. Externa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617040" indent="-123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0 = Activos Iniciales * TIC - Utilidades reten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7040" indent="-123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C = Utilidades Retenidas / Ac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7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licando Teorema de Nikita Nipone (2 veces) a la ecuación anteri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C = Utilidades retenidas/BPT * BPT/Patrimonio * Patrimonio/Ac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C = TR * ROE * Patrimonio / Ac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C = TR * ROE *(1 / (Activos./Patrimonio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C = TR * ROE * (1/ E´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asa de crecimiento sostenible: La que mantiene constante la razón D/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2000"/>
          </a:bodyPr>
          <a:p>
            <a:pPr marL="178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asa de crecimiento sostenible (TCS): En lugar de imponer “Fuentes Externas = 0”, siendo menos restrictivos imponemos “Ampliación de capital = 0 con razón D/Cap = constante”. Luego, considerando que Fuentes Externas = Ampliación de Capital + Nueva Deu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a Deuda = Tasa de Crecimiento Sostenible * Activos - Utilidades reten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CS = (Util. Retenidas + Nueva Deuda) / Ac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CS = (Util. Retenidas + Util. Ret*(D/C)) / Ac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CS = (Util. Retenidas*(1+D/C)) / (D + 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CS = (Util. Retenidas*(1+D/C)) / (C*(1 +D/ 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214200" y="56246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99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1200" indent="-66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S =  (Util. Retenidas) /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31200" indent="-66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S = Util. Retenidas/BPT * BPT/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31200" indent="-66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S = TR * ROE = Tasa de autofinanciamiento!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15280" indent="-8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do la TCS (o TA) se hace igual a la T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15280" indent="-8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o se cumple si 1 / (Activos/Patrimonio) =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15280" indent="-8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decir, cuando la empresa no tiene deuda (Activos = Patrimonio), la tasa interna de crecimiento es igual a la tasa de crecimiento sosten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tios de Valor de Merc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 Price Earning Ratio (P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 = Precio de la acción / BPT por a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tos ratios PER signific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e los inversores esperan altos crecimientos del dividendo (Crecimientos de la empres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e la acción tiene bajo ries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e se espera un crecimiento de la tasa de distribución de dividen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Ratio Valor de Mercado / Valor Libr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ién llamado Ratio Cotización / Valor Con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M / VL = Precio acción / Valor Contable a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mos que al dividir VM / VL por el 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M / VL) / PER = (Precio acción / valor contable de  la acción) * (BPT por acción / Precio acc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M / VL)/PER =(BPT/acción)/(V.Contable/acc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icando por el numero de ac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M / VL ) / PER = BPT / Patrimo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E = (VM / VL) / 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 Q de Tob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 = VM de activos / Costo de reposición de ac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iferencia del ratio VM / VL 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numerador incluye todos los títulos de deuda y acciones de la empresa, no solo las ac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denominador incluye todos los activos, no solo el capital de la e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activos no están valorados contablemente, sino por lo que costaría reponerlos (precios de mercad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bin sostiene que las empresas tienen incentivos a invertir Si q es mayor que 1, es decir, invierten cuando el valor de los activos es mayor que lo que cuest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o se asocia a empresas con fuertes ventajas competitivas en sus sectores industri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von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8,5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Xerox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,5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BM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,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ca Col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,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lly Sugar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ational Steel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0,5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.S. Steel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0,6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2590920"/>
            <a:ext cx="5105160" cy="39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259092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18280" y="1793880"/>
            <a:ext cx="79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es medios de q 1960-1977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Journal of Business 54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dto. del activo = Return on Assets (RO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82080" y="3567240"/>
            <a:ext cx="108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85560" y="35672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4680" y="3262320"/>
            <a:ext cx="258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IT + ATIP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38480" y="394812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O TOTAL 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5400" y="5091120"/>
            <a:ext cx="6681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L DENOMINADOR “NETO” SE REFI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O DE DEPRE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dos los indicadores vistos hasta ahora en el curso son ùtiles para el análisis bursátil: análisis funda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ambién existe la escuela de análisis técn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a ayuda a decidir que comprar, la otra cuando entrar y cuando sal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17884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tios de interé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quote.bloomberg.com/analytics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yahoo.marketguide.com/MGI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stockselector.com/industry.a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cbs.marketwatch.com/tools/stockresearch/default.asp?siteid=mkt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stern.nyu.edu/~adamodar/New_Home_Page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financewise.com/public/unregistered/riskm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corporateinformation.com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bancosantandersantiago.cl (ver en “Información Bursátil”: Empresas Nacionales y Empresa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salafinanciera.com/chile (análisis técnic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riskamerica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economatica.com/index_fla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dto. Específico (o técnico) del a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5040" y="3110040"/>
            <a:ext cx="108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7320" y="3110040"/>
            <a:ext cx="35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21040" y="2881440"/>
            <a:ext cx="89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38480" y="349092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O FUNCIONAL 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640" y="4495680"/>
            <a:ext cx="35618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ivo Total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F extra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C extra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preciación  Ac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Detalle del rendimiento del a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680" y="2530440"/>
            <a:ext cx="8987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  =   ---------------------  =  ---------------  * ---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86920" y="2225520"/>
            <a:ext cx="100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05800" y="2911320"/>
            <a:ext cx="236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. func. N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77840" y="2149560"/>
            <a:ext cx="100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02000" y="2911320"/>
            <a:ext cx="2063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s 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64320" y="2149560"/>
            <a:ext cx="2063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s 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39560" y="2911320"/>
            <a:ext cx="236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. func. N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1520" y="4100400"/>
            <a:ext cx="852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 = MARGEN DE VENTAS (%) * ROTACION DEL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95320" y="4710240"/>
            <a:ext cx="67438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ROA es el rendimiento que debería cubrir el co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edio  ponderado  del  capital (WACC), es deci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ría cubrir el costo del capital propio y el cos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uda.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Detalle del rendimiento del a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ROA que calculemos son buenos o malos en término relativos (comparados con otros del s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esa analizar las diferencias intersectoriales en la  descomposición del rendimiento (márgen y rotació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08480" indent="-14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.1: Venta de antiguedades de colección; Alto Márgen y Baja Rota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08480" indent="-14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.2: Bombas de Bencina; Bajo Márgen y Altísima Ro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Rentabilidad de los fondos propios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tdad. F.P. = Return on Equity (RO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 = BPT / Fondos Prop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BPT porque es lo que realmente interesa a los accioni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De que depende la rentab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ende del mercado específico y sus riesgos, a mayor riesgo mayor RO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TA: ROA y ROE son aproximaciones del corto plazo a los retornos del CA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4T01:36:04Z</dcterms:created>
  <dc:creator>Eduardo Contreras</dc:creator>
  <dc:description/>
  <dc:language>en-US</dc:language>
  <cp:lastModifiedBy>Eduardo Contreras</cp:lastModifiedBy>
  <dcterms:modified xsi:type="dcterms:W3CDTF">2004-06-21T14:47:11Z</dcterms:modified>
  <cp:revision>60</cp:revision>
  <dc:subject>Gestión financiera</dc:subject>
  <dc:title>Rentabilidad y Rendimiento</dc:title>
</cp:coreProperties>
</file>