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FEE-7028-4C9E-BF31-DF5C0DBC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870-9894-43B7-9297-132D874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332-4B64-4C2A-B8B8-0E066BEC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C68-D46E-482E-B1C2-DA3BD8BB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C73A-5023-4A5F-AE6E-06466978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A711-7B78-4AE1-8B3A-B078B396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A4B3-CD2A-4AAE-B268-974E6052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BC46-FE49-4FE7-9E61-EDF227BA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64B4-8EE0-4669-A2D6-A19D798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B956-BC63-4768-94B0-CE8C28C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5D88-2B43-4805-BB6A-B7F309E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068-0E15-4F9B-B25B-FA1F1A1A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F660-2363-4C39-A4FC-FDE7E91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AA06-62C0-47EB-B749-58F1AFA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19A-11CF-410E-B3E6-C6B54B8D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C08-EFBE-4F04-BC43-8CDE8E8C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B71D-AAEF-4B06-9CA7-FEC52003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5E0-E874-48DC-BF1F-11AF2BCE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A5A-4B5D-4ED6-9EB4-D668F07C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35D-BD41-4FAA-A81B-0A78ACEA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7C4-ADBE-48E3-BD02-8B037C2F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15C-7FEA-4861-8595-1E598AC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4ED-6F33-44FD-89AC-80AE0CC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0C6-CC6D-4C5C-9908-CAE589F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5C54-E9D2-4F4B-A7D2-C67AEC9421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2A22-6443-4C23-BF25-3C5D4A092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01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esor: Eduardo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eniero Civil Industrial, 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ster of Business Administration (MBA), E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Detalle de rentabilidad de  fondos propios (Patrimon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E = BPT / FP = BPT/ Vtas. Netas * Vtas Netas / 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rgen global neto = BPT / Vtas. N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ón de fondos propios= Vtas.N. / F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-21924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Detalle de rentabilidad de 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rotación de FP depende del grado de aversión al ries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-182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financiación =&gt; Incremento de FP =&gt; Menor rentabilidad (RO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-182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 aumentamos “E” (deuda) =&gt; Aumenta rotación de FP pero cae el BPT. Por lo tanto el resultado no es cla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7000"/>
          </a:bodyPr>
          <a:p>
            <a:pPr marL="126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6720" indent="-126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ausencia de endeudamiento y de impues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IT = BPT =&gt; ROA = R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.: BAIT=BPT=20 y FP=Act.Total Neto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otro supuesto: No existe Resultado no Oper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06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6200" indent="-106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Conviene endeudar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:Act Total Neto = 100, FP = 50 y Deuda =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és 10%/año=&gt; Gts. Financ.= 5 =&gt; BPT=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= 20/100 = 20% y ROE = 15/50 =30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30040" indent="-8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viene endeudarse (en este cas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04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ecto de la deu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+) Rotación; aumenta Vtas./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-) Margen; disminuye BPT/V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Hasta donde conviene endeudar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ongamos ahora Interés de 25% 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= 20/100= 20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E = (20-12,5)/50 =15% .....¡Disminuy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conviene si i &gt; ROA &lt;=&gt; ROA &gt; R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789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ecto de la deuda: Lo que determina que el apalancamiento sea positivo es el tipo de interés (i). Record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+) Rotación; aumenta Vtas./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(-) Margen; disminuye BPT/V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ando i &gt; ROA, el “efecto gasto financiero” sobre el margen anula el efecto ro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1800" y="3186000"/>
            <a:ext cx="338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 &gt; i =&gt; ROE &gt; R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76680" y="3110040"/>
            <a:ext cx="218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lanc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0800" y="4786200"/>
            <a:ext cx="330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 &lt; i =&gt; ROA &gt; R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28960" y="4481640"/>
            <a:ext cx="218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lanc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Descomposición de Rentabilidad de F.P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elo ROE = f(R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PT/FP = (BAIT + Atípicos)/ Act.T.N. * F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nde FAFF: Factor de apalancamiento Financiero-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162080" y="5396040"/>
            <a:ext cx="666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FF =------------------ * --------------- * 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1280" y="5091120"/>
            <a:ext cx="516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. Tot. Neto         BAT                  B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1640" y="5700600"/>
            <a:ext cx="51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ndos P.         BAIT + Atíp.          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86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omposición del F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FF = FAF * Efecto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F = (Act. T. N.)/ FP * BAT / (BAIT+Atíp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F: Factor de apalancamiento financi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F = Endeudamiento *Efecto Gts.Financi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ordar E`= Activo/FP = 1 +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fecto Gastos Fin. = BAT / (BAIT + Atípic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ecto Fiscal = BPT / 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9" name=""/>
            <p:cNvSpPr/>
            <p:nvPr/>
          </p:nvSpPr>
          <p:spPr>
            <a:xfrm>
              <a:off x="313200" y="3643200"/>
              <a:ext cx="8215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E = ROA * ENDEUDAMIENTO * IMPACTO   * 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ERO      FIS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22120" y="509112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422600" y="5700600"/>
            <a:ext cx="90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00" y="6005520"/>
            <a:ext cx="87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La Empresa sólo puede influir en el FAF, el FAFF es 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as del cur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ntroducción - Ordenamiento del Bal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nálisis Patrimonial Estát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Análisis Patrimonial Dinám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Análisis de Circulante - Rot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Análisis del Estado de Result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Análisis Rentabilidad,Rend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Planificación Financiera de C/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84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gulación del F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stión de los ejecutivos de operaciones, marketing, finaza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: Políticas de crédito a clientes, innovaciones tecnológ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` y Gastos Financie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pas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de propietarios y aversión al 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 de inter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O BESTPHA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Patrimon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átic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1219320"/>
            <a:ext cx="9142560" cy="5637960"/>
            <a:chOff x="0" y="1219320"/>
            <a:chExt cx="9142560" cy="5637960"/>
          </a:xfrm>
        </p:grpSpPr>
        <p:sp>
          <p:nvSpPr>
            <p:cNvPr id="188" name=""/>
            <p:cNvSpPr/>
            <p:nvPr/>
          </p:nvSpPr>
          <p:spPr>
            <a:xfrm>
              <a:off x="25200" y="1219320"/>
              <a:ext cx="9056880" cy="144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00" y="1593000"/>
              <a:ext cx="9056880" cy="147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00" y="4031640"/>
              <a:ext cx="9056880" cy="126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200" y="4406040"/>
              <a:ext cx="9056880" cy="144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200" y="5905800"/>
              <a:ext cx="9056880" cy="144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0" y="1219320"/>
              <a:ext cx="9142560" cy="5637960"/>
              <a:chOff x="0" y="1219320"/>
              <a:chExt cx="9142560" cy="56379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219320"/>
                <a:ext cx="9081720" cy="563796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8400" y="1237320"/>
                <a:ext cx="212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nálisis Patrimonial Estático Año 199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3680" y="1424520"/>
                <a:ext cx="5065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CTIV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58360" y="1424520"/>
                <a:ext cx="1836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80480" y="1424520"/>
                <a:ext cx="127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1040" y="1802160"/>
                <a:ext cx="11286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movilizado materi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62560" y="180216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630,03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579520" y="180216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.7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9280" y="1989360"/>
                <a:ext cx="12276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movilizado inmateri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62560" y="198936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01,28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579520" y="198936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7.7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8680" y="2174400"/>
                <a:ext cx="13096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CTIVO FIJO BRU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8560" y="217440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,131,3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453520" y="217440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7.4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2600" y="2552040"/>
                <a:ext cx="524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ventar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18560" y="255204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2,837,3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75120" y="255204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43.8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3040" y="2738880"/>
                <a:ext cx="1076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Realizable Func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18560" y="27388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2,273,1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75120" y="273888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35.1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8680" y="2926080"/>
                <a:ext cx="1325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ffffff"/>
                    </a:solidFill>
                    <a:latin typeface="Times New Roman"/>
                  </a:rPr>
                  <a:t>Realizable Extrafunc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8680" y="2926080"/>
                <a:ext cx="352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62,5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79520" y="292608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0.9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2400" y="3114720"/>
                <a:ext cx="5583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isponi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58680" y="3114720"/>
                <a:ext cx="352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8,1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579520" y="311472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0.9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26200" y="3298320"/>
                <a:ext cx="13874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CTIVO CIRCULA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18560" y="329832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5,231,2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53520" y="329832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80.8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0440" y="3489120"/>
                <a:ext cx="10645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ocumento Garantí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62560" y="348912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9,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9520" y="348912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.6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65520" y="3861000"/>
                <a:ext cx="16696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TOTAL DE ACTIVO BRU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18560" y="386100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6,472,03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63520" y="3861000"/>
                <a:ext cx="479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0.0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5320" y="4424040"/>
                <a:ext cx="479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PASIV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15600" y="4424040"/>
                <a:ext cx="64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80480" y="4424040"/>
                <a:ext cx="127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1480" y="4801680"/>
                <a:ext cx="7732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Capital Pag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18560" y="48016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,168,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475120" y="480168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8.0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0200" y="4988880"/>
                <a:ext cx="4579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Reserv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118560" y="49888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,170,36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75120" y="498888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8.0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600" y="5172120"/>
                <a:ext cx="10951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CAPITAL PROP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18560" y="517212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2,338,66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53520" y="517212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36.1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7320" y="5551920"/>
                <a:ext cx="1171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xigible a Largo Pl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62560" y="555192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450,9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79520" y="555192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6.9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4080" y="5738760"/>
                <a:ext cx="11559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xigible a Corto Pl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18560" y="573876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3,522,58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75120" y="5738760"/>
                <a:ext cx="3938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4.4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6600" y="5922360"/>
                <a:ext cx="623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EXIGI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18560" y="592236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3,973,5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53520" y="5922360"/>
                <a:ext cx="4150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61.4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2120" y="6112800"/>
                <a:ext cx="111312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ocumentos Garantí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62560" y="6112800"/>
                <a:ext cx="4168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9,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79520" y="611280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.6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0400" y="6299640"/>
                <a:ext cx="1297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Depreciación Acumul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58680" y="6299640"/>
                <a:ext cx="35280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0,36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79520" y="6299640"/>
                <a:ext cx="3297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0.7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5080" y="6671880"/>
                <a:ext cx="95328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TOTAL PASIV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18560" y="6671880"/>
                <a:ext cx="51264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6,472,03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63520" y="6671880"/>
                <a:ext cx="479160" cy="15264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00.0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219320"/>
                <a:ext cx="2880" cy="5637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219320"/>
                <a:ext cx="25200" cy="563796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056520" y="1233720"/>
                <a:ext cx="2880" cy="56235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056520" y="1233720"/>
                <a:ext cx="25200" cy="562356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5200" y="121932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200" y="140616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200" y="140616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200" y="159300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200" y="215604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00" y="215604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200" y="234288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200" y="234288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200" y="328176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200" y="328176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200" y="346896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200" y="346896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200" y="384300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200" y="384300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200" y="403164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200" y="440568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200" y="459288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200" y="459288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200" y="515556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200" y="5342760"/>
                <a:ext cx="9056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200" y="5342760"/>
                <a:ext cx="9056520" cy="1476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200" y="5905800"/>
                <a:ext cx="90565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200" y="6092640"/>
                <a:ext cx="905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200" y="609264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6040" y="6681240"/>
                <a:ext cx="90565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200" y="6655680"/>
                <a:ext cx="9056520" cy="1440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200" y="6842520"/>
                <a:ext cx="9056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200" y="6842520"/>
                <a:ext cx="9056520" cy="14760"/>
              </a:xfrm>
              <a:prstGeom prst="rect">
                <a:avLst/>
              </a:prstGeom>
              <a:solidFill>
                <a:srgbClr val="5e5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álisis Económico 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3520" y="1859040"/>
            <a:ext cx="8305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1828800"/>
            <a:ext cx="8915040" cy="4266720"/>
            <a:chOff x="0" y="1828800"/>
            <a:chExt cx="8915040" cy="4266720"/>
          </a:xfrm>
        </p:grpSpPr>
        <p:sp>
          <p:nvSpPr>
            <p:cNvPr id="294" name=""/>
            <p:cNvSpPr/>
            <p:nvPr/>
          </p:nvSpPr>
          <p:spPr>
            <a:xfrm>
              <a:off x="32040" y="1828800"/>
              <a:ext cx="154008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40" y="2349000"/>
              <a:ext cx="158184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31840" y="2376720"/>
              <a:ext cx="770724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0" y="3935520"/>
              <a:ext cx="8825400" cy="1980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0" y="1841400"/>
              <a:ext cx="8915040" cy="42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 de alterna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ando los resultados anteriores podemos afirmar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-El apalancamiento era negativo en el año 9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-El apalancamiento era positivo en el 93 pero negativo en el 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-El apalancamiento era positivo en ambos a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jercicio Propues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omponer la rentabilidad patrimonial (ROE) de acuerdo al esquema analizado en clase en el punto 6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05" name=""/>
            <p:cNvSpPr/>
            <p:nvPr/>
          </p:nvSpPr>
          <p:spPr>
            <a:xfrm>
              <a:off x="313200" y="3941640"/>
              <a:ext cx="8215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E = ROA * ENDEUDAMIENTO * IMPACTO   * 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ERO      FIS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22120" y="538956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84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gulación del F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stión de los ejecutivos de operaciones, marketing, finaza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: Políticas de crédito a clientes, innovaciones tecnológ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` y Gastos Financie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pas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de propietarios y aversión al 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 de inter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.Pirámide de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 esquema de la página 19 del Caso PRONAS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 modelo simplificado (No en funcion del RO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(BPT/Vtas)*(Vtas/Act.)*(Act./F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margen*rotacion*endeud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m*r*e = r*m*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ROE/ROE=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)(dr/r) +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)(dm/m) +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)(de/e) dond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 y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/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 son coeficientes 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) estimables por regresiones de minimos cuadr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.Rendimiento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Detalle de rendimiento de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Rentabilidad de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Detalle de rentabilidad de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El apalancamiento financiero (lever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Return on Equity Breakdown (ROE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mode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ROE/ROE= Cte.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r/r)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m/m)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e/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los estados financieros de varios años se pueden calcular las tres series de incrementos porcent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uego se hace la regresion y se estiman los coefi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clusiones: determinar que politicas inciden en forma mas determinante sobre la ren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 datos en pág. 17 del ca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JO: Método de análisis, válido para análisis patrimonial, circulante y econó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tuación general: ratios altos o bajo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ndencia (evolución tempor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A = (BAIT + Atípicos) / A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:(36+4)/274=14,6% ; Año 5: 15,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Bueno o malo? Bien comparado con el costo del exi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tendencia? Mej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A específico: (BAIT/ Act. Func. Ne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: 36 /(274,4-11)=13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: 120,4/(813,6-10,8-5,6)=15,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o extrafuncional no es relevante =&gt; Variaciones mín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JO: Si extrafunc. son altos podríamos pasar a rendimientos negativos (menores que el tipo de inter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talle del ROA específi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árgen     Rot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Márgen         Ro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6/825=4,4%   825/263=3,13    120/1351=8,9%    1351/798=1,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pecto al año 1 mejoró mucho el márgen, pero empeoró la ro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minuyó rotación por aumento de A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Inversión en Fijo impactó en el margen aunque no tanto en las ventas (más eficienc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E = BPT / FP (puede ser BAT/F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2,6/143=15,8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1,4/233=13,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Bueno o malo? Depende de otras rentabilidades de es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ción : Empe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talle del RO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árgen     Rotación FP Márgen         Ro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3/825=2,7%   825/143=5,8R     31/1351=2,3%    1351/233=5,9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menor rentabilidad es básicamente por reducción del márgen global (Rotación casi no varí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ecuencia del aumento del endeudamiento (impacto de gastos financieros en el B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ordar análisis patrimonial estático y dinámico: Pronasa no practica autofinanci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alancamiento financier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5,8%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3,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4,6%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5,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: ROE &gt; ROA Efecto posi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5: ROE &lt; ROA Efecto negativ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 Pág 17, gastos financieros pasan de 1,36% de las ventas a 6,13% de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uesto: Analizar evoluciones porcentuales de la página 17, por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evolucionan los márgenes de fabricación, el bruto y el de contribución (comercial)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ún product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ASA está potenciando los congelados ¿Es unabuena decis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.Indicadores intern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de distribución de dividen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de re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de autofinanciamiento y ot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Ratios de Valor de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ce Earning Ratio (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ntabilidad por dividen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lor de Mercado - Valor Lib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 de T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.Tasa de distribución de dividen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=Dividendos por acción = Dividendos/N°acció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=Beneficio por acción = BPT/ N°acció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sa de distribución= X /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Tasa de reinversión (TR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1 - Tasa de distrib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1- Dividendos/ BPT= (BPT- Dividendos)/B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Capitalización de Utilidades (a Reservas)/B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 = Utilidades retenidas / B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ómo analizar la cuenta de resultados una vez orden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Rendimiento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2960" y="3567240"/>
            <a:ext cx="180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2960" y="4024440"/>
            <a:ext cx="183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8640" y="3809880"/>
            <a:ext cx="187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&gt; BA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6800" y="501480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F extrafu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7960" y="539604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 extrafu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243400"/>
            <a:ext cx="5029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gresos o Gastos  No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típ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Tasa de autofinanciamiento (T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 Utilidades Retenidas (Reservas) / Fondos Prop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 Capitalización Utilidades / Patrimo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(Utilidades Retenidas/BPT)*(BPT/Patrimon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= TR * R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 Si una empresa solo distribuye el mínimo legal (30%) y sus reservas son un 20% del Patrimonio. Determinar el R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E = 0,2 / 0,7 = 28,6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dicadores de Financiación Exter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uevas Inversiones = Activos Iniciales * Tasa de crec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nanciación Externa = Nuevas Inversiones - Utilidades Retenidas = Activos Iniciales * Tasa de crecimiento - Utilidades rete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sa Interna de Crecimiento (TIC, no confundir con TIR): Tasa de crec. Posible sin acudir a fuentes externas. Imponemos Fin. Externa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617040" indent="-123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 = Activos Iniciales * TIC - Utilidades reten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7040" indent="-123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C = Utilidades Retenidas /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7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licando Teorema de Nikita Nipone (2 veces) a la ecuación anteri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Utilidades retenidas/BPT * BPT/Patrimonio * Patrimonio/A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TR * ROE * Patrimonio / A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TR * ROE *(1 / (Activos./Patrimonio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 = TR * ROE * (1/ E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sa de crecimiento sostenible: La que mantiene constante la razón D/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 Deuda = Tasa de Crecimiento Sostenible * Activos - Utilidades reten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 + Nueva Deuda) /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 + Util. Ret*(D/C)) /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*(1+D/C)) / (D +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-118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CS = (Util. Retenidas*(1+D/C)) / (C*(1 +D/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94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99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-66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S =  (Util. Retenidas) /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-66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S = Util. Retenidas/BPT * BPT/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-66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S = TR * ROE = Tasa de autofinanciamiento!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15280" indent="-8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do la TCS (o TA) se hace igual a la 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15280" indent="-8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o se cumple si 1 / (Activos/Patrimonio) =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15280" indent="-8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decir, cuando la empresa no tiene deuda (Activos = Patrimonio), la tasa interna de crecimiento es igual a la tasa de crecimiento sosten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tios de Valor de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Price Earning Ratio (P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 = Precio de la acción / BPT por a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os ratios PER signific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los inversores esperan altos crecimientos del dividendo (Crecimientos de la empres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la acción tiene bajo 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se espera un crecimiento de la tasa de distribución de divide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Ratio Valor de Mercado / Valor Libr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ién llamado Ratio Cotización / Valor Con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M / VL = Precio acción / Valor Contable a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mos que al dividir VM / VL por el 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M / VL) / PER = (Precio acción / valor contable de  la acción) * (BPT por acción / Precio acc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M / VL)/PER =(BPT/acción)/(V.Contable/acc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icando por el numero de a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M / VL ) / PER = BPT / Patrimo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E = (VM / VL) / 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6. Q de To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 = VM de activos / Costo de reposición de ac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iferencia del ratio VM / VL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umerador incluye todos los títulos de deuda y acciones de la empresa, no solo las ac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denominador incluye todos los activos, no solo el capital de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activos no están valorados contablemente, sino por lo que costaría reponerlos (precios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o se asocia a empresas con fuertes ventajas competitivas en sus sectores industr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vo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8,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Xerox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,5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BM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,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ca Col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,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lly Sugar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ational Stee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0,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.S. Stee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0,6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2590920"/>
            <a:ext cx="5105160" cy="39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25909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8280" y="1793880"/>
            <a:ext cx="79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medios de q 1960-1977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Journal of Business 54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dto. del activo = Return on Assets (RO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2080" y="3567240"/>
            <a:ext cx="108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85560" y="35672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4680" y="3262320"/>
            <a:ext cx="258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T + ATIP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38480" y="39481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O TOTAL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400" y="5091120"/>
            <a:ext cx="668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DENOMINADOR “NETO” SE REFI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O DE DEPRE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dos los indicadores vistos hasta ahora en el curso son ùtiles para el análisis bursátil: análisis 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mbién existe la escuela de análisis técn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ayuda a decidir que comprar, la otra cuando entrar y cuando sa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tios de interé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quote.bloomberg.com/analytics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yahoo.marketguide.com/MGI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stockselector.com/industry.a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stern.nyu.edu/~adamodar/New_Home_Page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financewise.com/public/unregistered/riskm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corporateinformation.com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bancosantandersantiago.cl (ver en “Información Bursátil”: Empresas Nacionales y Empresa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salafinanciera.com/chile (análisis técnic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ttp://www.economatica.com/index_fla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dto. Específico (o técnico)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5040" y="3110040"/>
            <a:ext cx="10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7320" y="3110040"/>
            <a:ext cx="35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1040" y="2881440"/>
            <a:ext cx="89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8480" y="34909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O FUNCIONAL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640" y="4495680"/>
            <a:ext cx="3561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o Total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F extra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C extra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preciación  Ac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Detalle del rendimiento del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680" y="2530440"/>
            <a:ext cx="8987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  =   ---------------------  =  ---------------  * 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86920" y="2225520"/>
            <a:ext cx="100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05800" y="2911320"/>
            <a:ext cx="236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. func. N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77840" y="2149560"/>
            <a:ext cx="100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0" y="2911320"/>
            <a:ext cx="206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s 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64320" y="2149560"/>
            <a:ext cx="206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s 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9560" y="2911320"/>
            <a:ext cx="236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. func. N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520" y="4100400"/>
            <a:ext cx="852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 = MARGEN DE VENTAS (%) * ROTACION DEL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95320" y="4710240"/>
            <a:ext cx="6743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OA es el rendimiento que debería cubrir 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dio  ponderado  del  capital (WACC), es deci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ría cubrir el costo del capital propio y el cos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uda.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Detalle del rendimiento del a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ROA que calculemos son buenos o malos en término relativos (comparados con otros del s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esa analizar las diferencias intersectoriales en la  descomposición del rendimiento (márgen y rot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1: Venta de antiguedades de colección; Alto Márgen y Baja Rota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2: Bombas de Bencina; Bajo Márgen y Altísima Ro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Rentabilidad de los fondos propios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tdad. F.P. = Return on Equity (RO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E = BPT / Fondos Prop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BPT porque es lo que realmente interesa a los accion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De que depende la rentab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l mercado específico y sus riesgos, a mayor riesgo mayor R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TA: ROA y ROE son aproximaciones del corto plazo a los retornos del CA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ECONOMICO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4T01:36:04Z</dcterms:created>
  <dc:creator>Eduardo Contreras</dc:creator>
  <dc:description/>
  <dc:language>en-US</dc:language>
  <cp:lastModifiedBy>Eduardo Contreras</cp:lastModifiedBy>
  <dcterms:modified xsi:type="dcterms:W3CDTF">2004-06-21T14:47:11Z</dcterms:modified>
  <cp:revision>60</cp:revision>
  <dc:subject>Gestión financiera</dc:subject>
  <dc:title>Rentabilidad y Rendimiento</dc:title>
</cp:coreProperties>
</file>