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52A-2156-4931-AE19-9ED43003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9F5-5C44-4F85-8554-2299409D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0D6-E8FB-4AE4-85F4-ECD5061D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0C3-C4AA-4C13-80E9-1F4C071D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037B-0492-4EE0-B51F-C65D1E38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0576-6403-4643-9CD1-870D8335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3FFC-01B9-4CC4-A8A2-327EF0C2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200F-1AA4-47DA-A335-53F5D35C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DFF8-8199-4F20-9B7D-C8165980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B33D-0157-4104-B671-85C23C88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7628-F45D-449E-A1E4-431DD0C4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6D1-D9B2-4961-B161-4F98809A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C049-53A3-4957-A465-296E372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D256-A788-47E5-A8C3-6E4C6C9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9434-B378-4363-8B46-9A250EC8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25D2-D828-4250-BEA2-99B4AC29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FCC6-4B43-40DA-9D8C-76078D1E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864-A86D-4C83-ADB3-B59AE714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C70-87F0-448C-8D77-7A32FBA2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0D6-A02D-49F1-B447-4A3B5A5F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697-78AC-40CF-8678-9A6E6BFD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607-33F6-4F84-B33A-69C7473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341-4DF9-4EF6-A731-B87053E6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6B7-11EA-41FA-8EAE-C7A2756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00C8-27DE-49C2-ACC3-8E9EAA272D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B8D1-6267-4BD6-A51C-9D1346B708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41148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334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ores: Eduardo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TACION DE STOCKS, CLIENTES Y 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/ STOCKS: Cuántas veces da vuelta el stock en el ciclo stock -&gt; Producto -&gt; 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.: 10.000 / 1000 = 10 R &lt;=&gt; Rotó 10 ve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emos calcular 1000 / 10.000 * 365 = 36,5 días: Permanencia media del stock en la e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JO : El indicador “miente” en empresas con estacionalidades (stocks muy altos o muy bajos al momento de med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tas /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.: 2500 / 10.000 * 365 = 91 d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o =&gt; Vigilar que no au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JO: TE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AS / PROVE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eedores es cuenta de pasivo ¿Conviene que disminuya la rotación medida en vueltas? ( es decir que aumente en número de dí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RAS / PROVE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veedores es cuenta de pasivo =&gt; Conviene que disminuya la rotación (aumenta el número de día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: Si Proveedores / Compras * 365 aumenta de 30 a 60 días tengo más financiamiento de tipo cícl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89040" y="228240"/>
            <a:ext cx="416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JO: Otro Te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 Proveedores / Compras * 365 aumenta de 60 a 210 días ¿es necesariamente bueno?. Contestar Y o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TACION DETALLADA DE ST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ck MP / Utilización de 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ck PC / Fabr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ck PA / V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a masa patrimonial se compara c/r al flujo de salida hacia el que tiende en el ciclo de madur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160" y="175248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M.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66880" y="514656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M.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1520" y="179388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os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0720" y="49179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19480" y="52228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20" y="6137280"/>
            <a:ext cx="91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Utilización M. Primas + Otros Insumos = Entradas a Fabr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7560" y="2697120"/>
            <a:ext cx="11836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ig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9840" y="4648320"/>
            <a:ext cx="12826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apit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m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55440" y="3567240"/>
            <a:ext cx="73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63000" y="4100400"/>
            <a:ext cx="72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4920" y="3490920"/>
            <a:ext cx="10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4920" y="3948120"/>
            <a:ext cx="10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8960" y="4481640"/>
            <a:ext cx="10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56440" y="2590920"/>
            <a:ext cx="257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cimiento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derado : 5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464832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120" y="25909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ig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de a la liquidez en 160 dí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de a la exigibilidad en 50 d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Tiende a la impuntua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cesariamente, hay que analiz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ánto de clientes se puede cobrar en los próximos 50 d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ánto de la deuda vence en los próximos 50 d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es deben 100 Millones para los próximos 100 d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illón de “$ diario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udamos 50 para los próximos 50 d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illón de “$ diario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as del cur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ntroducción - Ordenamiento del Bal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Análisis Patrimonial Estát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Análisis Patrimonial Dinám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Análisis de Circulante -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t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Análisis del Estado de Result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Análisis de Rentabilidad y Rend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Planificación Financiera de C/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ía: Es una empresa de alta capacidad  (solvencia de capacidad) y baja rotación &lt;=&gt; Río ancho y poco caud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 problemas no son de puntualidad si no de crecimiento ¿Cómo aumentar ventas sin que se afecten las rot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sumables en dí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ermanencia media de activo=(Act./V)*36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t./V = (S+C+D+AF)/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uego Act./V*365= Permanencia media de stocks+plazo de cobro a clientes+ días-venta de saldo de caja+ permanencia media del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88840" y="-360"/>
            <a:ext cx="736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Caso Pronasa: cálculo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flujos para Rotacio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52680" y="1886040"/>
          <a:ext cx="5987880" cy="417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2680" y="1886040"/>
                    <a:ext cx="59878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ÁLISIS DE CIRCULANTE I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taciones (ver página 8 del enunciado del Caso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AÑO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MP*365/Sal.Alm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8,2*365/693,5=4,3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,7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PC*365/Fab.Acab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9*365/700,3=15,1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,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PA*365/ Ventas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,4*365/701=2,5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2,33 día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7,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eoró rotación de stocks en un 2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JO con el producto en curso (aumenta en 26%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tación de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ÑO 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AÑO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ientes*365/Vtas. 121,2*365/874,1=50,6  98,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xcluyeron los morosos y se incluyeron los descon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JO con el IVA, incluírlo o excluirlo en el numerador y el denomin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rotación empeora en un 95%, ¡Peligroso! Empeoró la calidad de la cartera de clientes, ¿Devoluciones de productos? (disminuyen ventas)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 hay que unirlo con que la solvencia de capacidad también había empeorado (AC/PC de 1,6 a 1,2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ÁLISIS DE CIRCULANTE I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tal stocks más clientes (Período de maduración del activo circulan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72,29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5,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mpeora un 7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Proveedores? Proveedores*365/Comp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2,4*365/(692,8*1,06)=21,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3,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umentó un 10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ecesidad de Fondo de Maniobra aumenta en 6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ÁLISIS DE CIRCULANTE I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términos absolutos FM = AC - PC aumentó al doble en d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Cómo se fina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 vimos en análisis dinámico: Con de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terminación de la sobreinvers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os: AC pasó de 72, 8 días a 125,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alizable + Stocks 164,4 M$ a 471,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s sin IV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824    a       1350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ÁLISIS DE CIRCULANTE I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se mantuviera rotación en 72, 29, el AC serí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= 72,8*1350,6/365 = 269,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uego 471,4-269,4 = 202 es la sobreinver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lo financiamos con deuda al 15%, podemos decir que la mala gestión del circulante está costando 30 mill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ÁLISIS DE CIRCULANTE I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SO PRONA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medida de la solvencia como puntu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concepto de rot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tación del Activo Fijo y Circul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tación de Stocks, Clientes y 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medida de la solvencia de puntu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hay ratios para medir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recimiento comercial y mantención de niveles =&gt; Aumento del activo circul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 no se logra mantener la velocidad de rotación del AC ( mantener su tendencia a la liquidez) =&gt;  Aumento del 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medida de la solvencia de puntu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biera financiarse con cíclicos o con exigible CP expr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gible LP y autofinanciación: mi activo debe generar cash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81200" y="1585800"/>
            <a:ext cx="1335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9360" y="1585800"/>
            <a:ext cx="175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60" y="318600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6880" y="3110040"/>
            <a:ext cx="105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.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48600" y="4603680"/>
            <a:ext cx="859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em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9360" y="4832280"/>
            <a:ext cx="143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55480" y="3110040"/>
            <a:ext cx="138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8720" y="311004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g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6920" y="4100400"/>
            <a:ext cx="112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L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66400" y="4100400"/>
            <a:ext cx="113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C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1040" y="5273640"/>
            <a:ext cx="2221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31160" y="3490920"/>
            <a:ext cx="1758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90560" y="486252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íc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54840" y="40384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40449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229600" y="403236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48120" y="5425920"/>
            <a:ext cx="2249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55040" y="3719520"/>
            <a:ext cx="158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H FLOW = BENEFICIO + DEPRECIACION + PREVI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CADOR DE PUNTUALIDA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H FLOW &gt; Dividendos + Vencimientos de Exigibles de L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ITAR PERDIDA DE ROTAC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oncepto de rotación se ve más adelan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ITAR AUMENTAR EXPRESOS VS CICLIC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CONCEPTO DE ROTAC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atio VENTAS/A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s: Medida de la actividad de l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: Medida del tamaño, de la inver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uego es una 1ª proxy a medir efic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nidad es “Rotaciones” (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 Cuantas veces “da vuelta” el activ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ño 1 : 5R ----&gt; Año 2 : 3R ¡ARGG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OTACION DE AF VS 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paro el ratio anterior en : Ventas / AF y Ventas / AC (porque AF y AC no necesariamente se mueven jun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 / AF es una  relación más bien técnica de dimension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 / AC depende de la gestión del circulante y en particular de l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bajaremos más con V / 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ÁLISIS D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LANT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4T01:36:04Z</dcterms:created>
  <dc:creator>Eduardo Contreras</dc:creator>
  <dc:description/>
  <dc:language>en-US</dc:language>
  <cp:lastModifiedBy>Eduardo Contreras</cp:lastModifiedBy>
  <dcterms:modified xsi:type="dcterms:W3CDTF">2006-08-02T21:14:47Z</dcterms:modified>
  <cp:revision>51</cp:revision>
  <dc:subject>Gestión financiera</dc:subject>
  <dc:title>Rotaciones</dc:title>
</cp:coreProperties>
</file>