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E05-AFD0-4279-B44A-CC8C404B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708-B15F-4803-A55C-0D94E2A6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56F-4826-4846-ADF5-45F04A15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E19-66AF-4DE0-90A5-A0B8F76F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F13-6E3E-46FB-BD89-471F156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0D5-5569-4183-AF09-ACF78B4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283-B8A4-4E20-8F52-14197C2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4AE-CF04-408A-9DDB-DE33097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0D6-927A-4698-8FAF-D9F01AC3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85A-2749-4A26-90A1-78A7D61B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243-785C-40A8-BA86-D708D15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258-6ACA-439D-9AC5-F39C165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18F7-604F-4067-ADC6-CA3AD3B6C7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solidFill>
            <a:srgbClr val="96969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93760" y="1371600"/>
            <a:ext cx="6847920" cy="4672800"/>
            <a:chOff x="1193760" y="1371600"/>
            <a:chExt cx="6847920" cy="4672800"/>
          </a:xfrm>
        </p:grpSpPr>
        <p:sp>
          <p:nvSpPr>
            <p:cNvPr id="43" name=""/>
            <p:cNvSpPr/>
            <p:nvPr/>
          </p:nvSpPr>
          <p:spPr>
            <a:xfrm>
              <a:off x="3137760" y="1371600"/>
              <a:ext cx="284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Lucida Sans Unicode"/>
                </a:rPr>
                <a:t>Curva de rend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75480" y="170820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Lucida Sans Unicode"/>
                </a:rPr>
                <a:t>(porcentaj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193760" y="1997280"/>
              <a:ext cx="6847920" cy="4047120"/>
              <a:chOff x="1193760" y="1997280"/>
              <a:chExt cx="6847920" cy="4047120"/>
            </a:xfrm>
          </p:grpSpPr>
          <p:sp>
            <p:nvSpPr>
              <p:cNvPr id="46" name=""/>
              <p:cNvSpPr/>
              <p:nvPr/>
            </p:nvSpPr>
            <p:spPr>
              <a:xfrm>
                <a:off x="1558800" y="2085840"/>
                <a:ext cx="6408720" cy="310212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58800" y="46713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58800" y="41533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558800" y="363816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58800" y="3120120"/>
                <a:ext cx="6408720" cy="144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558800" y="260388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58800" y="2085840"/>
                <a:ext cx="6408720" cy="1080"/>
              </a:xfrm>
              <a:prstGeom prst="line">
                <a:avLst/>
              </a:prstGeom>
              <a:ln w="0">
                <a:solidFill>
                  <a:srgbClr val="3366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58800" y="5187960"/>
                <a:ext cx="6408720" cy="108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5588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8504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24127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28404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2666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69576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412200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54968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49770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54032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8309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62586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8484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112520" y="5187960"/>
                <a:ext cx="108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754020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967520" y="5187960"/>
                <a:ext cx="1440" cy="46800"/>
              </a:xfrm>
              <a:prstGeom prst="line">
                <a:avLst/>
              </a:prstGeom>
              <a:ln w="20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71920" y="5024520"/>
                <a:ext cx="427320" cy="334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2199600" y="4986000"/>
                <a:ext cx="425880" cy="716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2625840" y="4776480"/>
                <a:ext cx="427680" cy="2095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053520" y="4625280"/>
                <a:ext cx="427320" cy="1508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481200" y="4385880"/>
                <a:ext cx="426240" cy="2397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3907440" y="4185360"/>
                <a:ext cx="428760" cy="200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336200" y="3983760"/>
                <a:ext cx="426240" cy="2016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762800" y="3828960"/>
                <a:ext cx="427320" cy="154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5190120" y="3685680"/>
                <a:ext cx="427320" cy="143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617800" y="3558960"/>
                <a:ext cx="426240" cy="12672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6044040" y="3460680"/>
                <a:ext cx="427320" cy="975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6471720" y="3217680"/>
                <a:ext cx="427320" cy="24300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899400" y="3089880"/>
                <a:ext cx="427320" cy="12816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327080" y="2964240"/>
                <a:ext cx="426240" cy="12528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1920" y="5032080"/>
                <a:ext cx="427320" cy="50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199600" y="4992120"/>
                <a:ext cx="425880" cy="90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625840" y="4799880"/>
                <a:ext cx="427680" cy="1922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3053520" y="4664880"/>
                <a:ext cx="427320" cy="1346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3481200" y="4461840"/>
                <a:ext cx="426240" cy="2030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3907440" y="4290480"/>
                <a:ext cx="428760" cy="17100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336200" y="4125960"/>
                <a:ext cx="426240" cy="1648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762800" y="3997080"/>
                <a:ext cx="427320" cy="1285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190120" y="3881160"/>
                <a:ext cx="427320" cy="115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617800" y="3775680"/>
                <a:ext cx="426240" cy="1051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044040" y="3692880"/>
                <a:ext cx="427320" cy="82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471720" y="3479040"/>
                <a:ext cx="427320" cy="213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899400" y="3372120"/>
                <a:ext cx="427320" cy="10692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327080" y="3257640"/>
                <a:ext cx="426240" cy="11448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771920" y="4150080"/>
                <a:ext cx="427320" cy="27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199600" y="3867840"/>
                <a:ext cx="425880" cy="282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625840" y="3535560"/>
                <a:ext cx="427680" cy="331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053520" y="3381120"/>
                <a:ext cx="427320" cy="154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3481200" y="3245400"/>
                <a:ext cx="426240" cy="135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907440" y="3140280"/>
                <a:ext cx="428760" cy="105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336200" y="3040920"/>
                <a:ext cx="426240" cy="9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4762800" y="2972160"/>
                <a:ext cx="42732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190120" y="2889360"/>
                <a:ext cx="427320" cy="82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617800" y="2820960"/>
                <a:ext cx="426240" cy="68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044040" y="2803320"/>
                <a:ext cx="427320" cy="16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471720" y="2501280"/>
                <a:ext cx="427320" cy="302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899400" y="2398680"/>
                <a:ext cx="427320" cy="101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27080" y="2399040"/>
                <a:ext cx="426240" cy="77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771920" y="4376520"/>
                <a:ext cx="427320" cy="2750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199600" y="4144320"/>
                <a:ext cx="425880" cy="2318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25840" y="3845880"/>
                <a:ext cx="427680" cy="2977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053520" y="3691440"/>
                <a:ext cx="427320" cy="154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481200" y="3580560"/>
                <a:ext cx="426240" cy="1108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907440" y="3465720"/>
                <a:ext cx="428760" cy="11448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336200" y="3349440"/>
                <a:ext cx="426240" cy="115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762800" y="3237840"/>
                <a:ext cx="427320" cy="1112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190120" y="3145680"/>
                <a:ext cx="427320" cy="918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617800" y="3054600"/>
                <a:ext cx="426240" cy="9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044040" y="3023640"/>
                <a:ext cx="427320" cy="306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471720" y="2701080"/>
                <a:ext cx="427320" cy="32220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99400" y="2592720"/>
                <a:ext cx="427320" cy="10836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27080" y="2593080"/>
                <a:ext cx="426240" cy="3492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93760" y="5099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93760" y="458244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93760" y="40644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93760" y="354960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3760" y="303156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93760" y="251532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.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93760" y="1997280"/>
                <a:ext cx="290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.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5060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76480" y="5311800"/>
                <a:ext cx="31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326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1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94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170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4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476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692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6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98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7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2600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8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53680" y="5311800"/>
                <a:ext cx="23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9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352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6152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15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064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2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16880" y="5311800"/>
                <a:ext cx="35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30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98240" y="5887800"/>
                <a:ext cx="176040" cy="1440"/>
              </a:xfrm>
              <a:prstGeom prst="line">
                <a:avLst/>
              </a:prstGeom>
              <a:ln w="205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76880" y="5800680"/>
                <a:ext cx="1212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56680" y="5887800"/>
                <a:ext cx="176040" cy="1440"/>
              </a:xfrm>
              <a:prstGeom prst="line">
                <a:avLst/>
              </a:prstGeom>
              <a:ln w="2052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67360" y="5800680"/>
                <a:ext cx="1174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MU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7960" y="5887800"/>
                <a:ext cx="176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08560" y="5800680"/>
                <a:ext cx="1398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Mar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69080" y="5887800"/>
                <a:ext cx="176040" cy="1440"/>
              </a:xfrm>
              <a:prstGeom prst="line">
                <a:avLst/>
              </a:prstGeom>
              <a:ln w="205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79040" y="5800680"/>
                <a:ext cx="1360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Lucida Sans Unicode"/>
                  </a:rPr>
                  <a:t>EE.UU. Feb '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890640" y="1066680"/>
            <a:ext cx="7400880" cy="537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3960" y="6049800"/>
            <a:ext cx="42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Lucida Sans Unicode"/>
              </a:rPr>
              <a:t>Fuente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1206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Tasas de Política Monetaria y Contratos Futuro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2880" y="2266920"/>
            <a:ext cx="7933320" cy="3247200"/>
            <a:chOff x="632880" y="2266920"/>
            <a:chExt cx="7933320" cy="3247200"/>
          </a:xfrm>
        </p:grpSpPr>
        <p:sp>
          <p:nvSpPr>
            <p:cNvPr id="160" name=""/>
            <p:cNvSpPr/>
            <p:nvPr/>
          </p:nvSpPr>
          <p:spPr>
            <a:xfrm>
              <a:off x="957240" y="469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7240" y="42274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7240" y="37605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7240" y="3286080"/>
              <a:ext cx="760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281916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7240" y="2354040"/>
              <a:ext cx="760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7240" y="5160960"/>
              <a:ext cx="760896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95724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25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6868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869000" y="5160600"/>
              <a:ext cx="144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17688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78640" y="5160600"/>
              <a:ext cx="1800" cy="37800"/>
            </a:xfrm>
            <a:prstGeom prst="line">
              <a:avLst/>
            </a:prstGeom>
            <a:ln w="33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23400" y="2600280"/>
              <a:ext cx="442800" cy="61920"/>
            </a:xfrm>
            <a:custGeom>
              <a:avLst/>
              <a:gdLst/>
              <a:ahLst/>
              <a:rect l="l" t="t" r="r" b="b"/>
              <a:pathLst>
                <a:path w="52" h="8">
                  <a:moveTo>
                    <a:pt x="0" y="8"/>
                  </a:moveTo>
                  <a:lnTo>
                    <a:pt x="1" y="6"/>
                  </a:lnTo>
                  <a:lnTo>
                    <a:pt x="14" y="3"/>
                  </a:lnTo>
                  <a:lnTo>
                    <a:pt x="26" y="0"/>
                  </a:lnTo>
                  <a:lnTo>
                    <a:pt x="39" y="1"/>
                  </a:lnTo>
                  <a:lnTo>
                    <a:pt x="52" y="1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0640" y="2670120"/>
              <a:ext cx="655560" cy="12528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0" y="16"/>
                  </a:moveTo>
                  <a:lnTo>
                    <a:pt x="12" y="7"/>
                  </a:lnTo>
                  <a:lnTo>
                    <a:pt x="13" y="4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39" y="1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7" y="2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7240" y="2590560"/>
              <a:ext cx="7166160" cy="2103480"/>
            </a:xfrm>
            <a:custGeom>
              <a:avLst/>
              <a:gdLst/>
              <a:ahLst/>
              <a:rect l="l" t="t" r="r" b="b"/>
              <a:pathLst>
                <a:path w="843" h="266">
                  <a:moveTo>
                    <a:pt x="0" y="0"/>
                  </a:moveTo>
                  <a:lnTo>
                    <a:pt x="12" y="0"/>
                  </a:lnTo>
                  <a:lnTo>
                    <a:pt x="12" y="29"/>
                  </a:lnTo>
                  <a:lnTo>
                    <a:pt x="25" y="29"/>
                  </a:lnTo>
                  <a:lnTo>
                    <a:pt x="25" y="59"/>
                  </a:lnTo>
                  <a:lnTo>
                    <a:pt x="37" y="59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1" y="103"/>
                  </a:lnTo>
                  <a:lnTo>
                    <a:pt x="63" y="103"/>
                  </a:lnTo>
                  <a:lnTo>
                    <a:pt x="76" y="103"/>
                  </a:lnTo>
                  <a:lnTo>
                    <a:pt x="76" y="118"/>
                  </a:lnTo>
                  <a:lnTo>
                    <a:pt x="89" y="118"/>
                  </a:lnTo>
                  <a:lnTo>
                    <a:pt x="90" y="148"/>
                  </a:lnTo>
                  <a:lnTo>
                    <a:pt x="102" y="148"/>
                  </a:lnTo>
                  <a:lnTo>
                    <a:pt x="102" y="177"/>
                  </a:lnTo>
                  <a:lnTo>
                    <a:pt x="115" y="177"/>
                  </a:lnTo>
                  <a:lnTo>
                    <a:pt x="115" y="207"/>
                  </a:lnTo>
                  <a:lnTo>
                    <a:pt x="127" y="207"/>
                  </a:lnTo>
                  <a:lnTo>
                    <a:pt x="128" y="221"/>
                  </a:lnTo>
                  <a:lnTo>
                    <a:pt x="140" y="221"/>
                  </a:lnTo>
                  <a:lnTo>
                    <a:pt x="153" y="221"/>
                  </a:lnTo>
                  <a:lnTo>
                    <a:pt x="165" y="221"/>
                  </a:lnTo>
                  <a:lnTo>
                    <a:pt x="178" y="221"/>
                  </a:lnTo>
                  <a:lnTo>
                    <a:pt x="191" y="221"/>
                  </a:lnTo>
                  <a:lnTo>
                    <a:pt x="204" y="221"/>
                  </a:lnTo>
                  <a:lnTo>
                    <a:pt x="216" y="221"/>
                  </a:lnTo>
                  <a:lnTo>
                    <a:pt x="229" y="221"/>
                  </a:lnTo>
                  <a:lnTo>
                    <a:pt x="242" y="221"/>
                  </a:lnTo>
                  <a:lnTo>
                    <a:pt x="255" y="221"/>
                  </a:lnTo>
                  <a:lnTo>
                    <a:pt x="268" y="221"/>
                  </a:lnTo>
                  <a:lnTo>
                    <a:pt x="269" y="251"/>
                  </a:lnTo>
                  <a:lnTo>
                    <a:pt x="281" y="251"/>
                  </a:lnTo>
                  <a:lnTo>
                    <a:pt x="281" y="251"/>
                  </a:lnTo>
                  <a:lnTo>
                    <a:pt x="294" y="251"/>
                  </a:lnTo>
                  <a:lnTo>
                    <a:pt x="307" y="251"/>
                  </a:lnTo>
                  <a:lnTo>
                    <a:pt x="319" y="251"/>
                  </a:lnTo>
                  <a:lnTo>
                    <a:pt x="319" y="251"/>
                  </a:lnTo>
                  <a:lnTo>
                    <a:pt x="332" y="251"/>
                  </a:lnTo>
                  <a:lnTo>
                    <a:pt x="344" y="251"/>
                  </a:lnTo>
                  <a:lnTo>
                    <a:pt x="357" y="251"/>
                  </a:lnTo>
                  <a:lnTo>
                    <a:pt x="358" y="266"/>
                  </a:lnTo>
                  <a:lnTo>
                    <a:pt x="370" y="266"/>
                  </a:lnTo>
                  <a:lnTo>
                    <a:pt x="383" y="266"/>
                  </a:lnTo>
                  <a:lnTo>
                    <a:pt x="396" y="266"/>
                  </a:lnTo>
                  <a:lnTo>
                    <a:pt x="408" y="266"/>
                  </a:lnTo>
                  <a:lnTo>
                    <a:pt x="421" y="266"/>
                  </a:lnTo>
                  <a:lnTo>
                    <a:pt x="447" y="266"/>
                  </a:lnTo>
                  <a:lnTo>
                    <a:pt x="460" y="266"/>
                  </a:lnTo>
                  <a:lnTo>
                    <a:pt x="472" y="266"/>
                  </a:lnTo>
                  <a:lnTo>
                    <a:pt x="485" y="266"/>
                  </a:lnTo>
                  <a:lnTo>
                    <a:pt x="498" y="266"/>
                  </a:lnTo>
                  <a:lnTo>
                    <a:pt x="511" y="266"/>
                  </a:lnTo>
                  <a:lnTo>
                    <a:pt x="511" y="251"/>
                  </a:lnTo>
                  <a:lnTo>
                    <a:pt x="524" y="251"/>
                  </a:lnTo>
                  <a:lnTo>
                    <a:pt x="537" y="251"/>
                  </a:lnTo>
                  <a:lnTo>
                    <a:pt x="537" y="236"/>
                  </a:lnTo>
                  <a:lnTo>
                    <a:pt x="550" y="236"/>
                  </a:lnTo>
                  <a:lnTo>
                    <a:pt x="550" y="221"/>
                  </a:lnTo>
                  <a:lnTo>
                    <a:pt x="562" y="221"/>
                  </a:lnTo>
                  <a:lnTo>
                    <a:pt x="575" y="221"/>
                  </a:lnTo>
                  <a:lnTo>
                    <a:pt x="576" y="207"/>
                  </a:lnTo>
                  <a:lnTo>
                    <a:pt x="588" y="207"/>
                  </a:lnTo>
                  <a:lnTo>
                    <a:pt x="588" y="192"/>
                  </a:lnTo>
                  <a:lnTo>
                    <a:pt x="601" y="192"/>
                  </a:lnTo>
                  <a:lnTo>
                    <a:pt x="614" y="192"/>
                  </a:lnTo>
                  <a:lnTo>
                    <a:pt x="614" y="177"/>
                  </a:lnTo>
                  <a:lnTo>
                    <a:pt x="626" y="177"/>
                  </a:lnTo>
                  <a:lnTo>
                    <a:pt x="626" y="162"/>
                  </a:lnTo>
                  <a:lnTo>
                    <a:pt x="639" y="162"/>
                  </a:lnTo>
                  <a:lnTo>
                    <a:pt x="651" y="162"/>
                  </a:lnTo>
                  <a:lnTo>
                    <a:pt x="652" y="148"/>
                  </a:lnTo>
                  <a:lnTo>
                    <a:pt x="664" y="148"/>
                  </a:lnTo>
                  <a:lnTo>
                    <a:pt x="665" y="133"/>
                  </a:lnTo>
                  <a:lnTo>
                    <a:pt x="677" y="133"/>
                  </a:lnTo>
                  <a:lnTo>
                    <a:pt x="690" y="133"/>
                  </a:lnTo>
                  <a:lnTo>
                    <a:pt x="690" y="118"/>
                  </a:lnTo>
                  <a:lnTo>
                    <a:pt x="703" y="118"/>
                  </a:lnTo>
                  <a:lnTo>
                    <a:pt x="703" y="103"/>
                  </a:lnTo>
                  <a:lnTo>
                    <a:pt x="716" y="103"/>
                  </a:lnTo>
                  <a:lnTo>
                    <a:pt x="729" y="103"/>
                  </a:lnTo>
                  <a:lnTo>
                    <a:pt x="729" y="88"/>
                  </a:lnTo>
                  <a:lnTo>
                    <a:pt x="741" y="88"/>
                  </a:lnTo>
                  <a:lnTo>
                    <a:pt x="742" y="74"/>
                  </a:lnTo>
                  <a:lnTo>
                    <a:pt x="754" y="74"/>
                  </a:lnTo>
                  <a:lnTo>
                    <a:pt x="767" y="74"/>
                  </a:lnTo>
                  <a:lnTo>
                    <a:pt x="768" y="59"/>
                  </a:lnTo>
                  <a:lnTo>
                    <a:pt x="779" y="59"/>
                  </a:lnTo>
                  <a:lnTo>
                    <a:pt x="779" y="44"/>
                  </a:lnTo>
                  <a:lnTo>
                    <a:pt x="792" y="44"/>
                  </a:lnTo>
                  <a:lnTo>
                    <a:pt x="805" y="44"/>
                  </a:lnTo>
                  <a:lnTo>
                    <a:pt x="805" y="29"/>
                  </a:lnTo>
                  <a:lnTo>
                    <a:pt x="818" y="29"/>
                  </a:lnTo>
                  <a:lnTo>
                    <a:pt x="818" y="29"/>
                  </a:lnTo>
                  <a:lnTo>
                    <a:pt x="830" y="29"/>
                  </a:lnTo>
                  <a:lnTo>
                    <a:pt x="831" y="14"/>
                  </a:lnTo>
                  <a:lnTo>
                    <a:pt x="843" y="14"/>
                  </a:lnTo>
                </a:path>
              </a:pathLst>
            </a:custGeom>
            <a:noFill/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10640" y="3643200"/>
              <a:ext cx="655560" cy="252360"/>
            </a:xfrm>
            <a:custGeom>
              <a:avLst/>
              <a:gdLst/>
              <a:ahLst/>
              <a:rect l="l" t="t" r="r" b="b"/>
              <a:pathLst>
                <a:path w="77" h="32">
                  <a:moveTo>
                    <a:pt x="0" y="32"/>
                  </a:moveTo>
                  <a:lnTo>
                    <a:pt x="12" y="29"/>
                  </a:lnTo>
                  <a:lnTo>
                    <a:pt x="13" y="26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39" y="13"/>
                  </a:lnTo>
                  <a:lnTo>
                    <a:pt x="51" y="8"/>
                  </a:lnTo>
                  <a:lnTo>
                    <a:pt x="64" y="5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7240" y="2938320"/>
              <a:ext cx="7166160" cy="1289160"/>
            </a:xfrm>
            <a:custGeom>
              <a:avLst/>
              <a:gdLst/>
              <a:ahLst/>
              <a:rect l="l" t="t" r="r" b="b"/>
              <a:pathLst>
                <a:path w="843" h="163">
                  <a:moveTo>
                    <a:pt x="0" y="0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90" y="59"/>
                  </a:lnTo>
                  <a:lnTo>
                    <a:pt x="102" y="59"/>
                  </a:lnTo>
                  <a:lnTo>
                    <a:pt x="102" y="59"/>
                  </a:lnTo>
                  <a:lnTo>
                    <a:pt x="115" y="59"/>
                  </a:lnTo>
                  <a:lnTo>
                    <a:pt x="115" y="89"/>
                  </a:lnTo>
                  <a:lnTo>
                    <a:pt x="127" y="89"/>
                  </a:lnTo>
                  <a:lnTo>
                    <a:pt x="128" y="89"/>
                  </a:lnTo>
                  <a:lnTo>
                    <a:pt x="140" y="89"/>
                  </a:lnTo>
                  <a:lnTo>
                    <a:pt x="153" y="89"/>
                  </a:lnTo>
                  <a:lnTo>
                    <a:pt x="165" y="89"/>
                  </a:lnTo>
                  <a:lnTo>
                    <a:pt x="178" y="89"/>
                  </a:lnTo>
                  <a:lnTo>
                    <a:pt x="191" y="89"/>
                  </a:lnTo>
                  <a:lnTo>
                    <a:pt x="204" y="89"/>
                  </a:lnTo>
                  <a:lnTo>
                    <a:pt x="216" y="89"/>
                  </a:lnTo>
                  <a:lnTo>
                    <a:pt x="229" y="89"/>
                  </a:lnTo>
                  <a:lnTo>
                    <a:pt x="242" y="89"/>
                  </a:lnTo>
                  <a:lnTo>
                    <a:pt x="255" y="89"/>
                  </a:lnTo>
                  <a:lnTo>
                    <a:pt x="268" y="89"/>
                  </a:lnTo>
                  <a:lnTo>
                    <a:pt x="269" y="89"/>
                  </a:lnTo>
                  <a:lnTo>
                    <a:pt x="281" y="89"/>
                  </a:lnTo>
                  <a:lnTo>
                    <a:pt x="281" y="118"/>
                  </a:lnTo>
                  <a:lnTo>
                    <a:pt x="294" y="118"/>
                  </a:lnTo>
                  <a:lnTo>
                    <a:pt x="307" y="118"/>
                  </a:lnTo>
                  <a:lnTo>
                    <a:pt x="319" y="118"/>
                  </a:lnTo>
                  <a:lnTo>
                    <a:pt x="319" y="133"/>
                  </a:lnTo>
                  <a:lnTo>
                    <a:pt x="332" y="133"/>
                  </a:lnTo>
                  <a:lnTo>
                    <a:pt x="344" y="133"/>
                  </a:lnTo>
                  <a:lnTo>
                    <a:pt x="357" y="133"/>
                  </a:lnTo>
                  <a:lnTo>
                    <a:pt x="358" y="163"/>
                  </a:lnTo>
                  <a:lnTo>
                    <a:pt x="370" y="163"/>
                  </a:lnTo>
                  <a:lnTo>
                    <a:pt x="383" y="163"/>
                  </a:lnTo>
                  <a:lnTo>
                    <a:pt x="396" y="163"/>
                  </a:lnTo>
                  <a:lnTo>
                    <a:pt x="408" y="163"/>
                  </a:lnTo>
                  <a:lnTo>
                    <a:pt x="421" y="163"/>
                  </a:lnTo>
                  <a:lnTo>
                    <a:pt x="447" y="163"/>
                  </a:lnTo>
                  <a:lnTo>
                    <a:pt x="460" y="163"/>
                  </a:lnTo>
                  <a:lnTo>
                    <a:pt x="472" y="163"/>
                  </a:lnTo>
                  <a:lnTo>
                    <a:pt x="485" y="163"/>
                  </a:lnTo>
                  <a:lnTo>
                    <a:pt x="498" y="163"/>
                  </a:lnTo>
                  <a:lnTo>
                    <a:pt x="511" y="163"/>
                  </a:lnTo>
                  <a:lnTo>
                    <a:pt x="511" y="163"/>
                  </a:lnTo>
                  <a:lnTo>
                    <a:pt x="524" y="163"/>
                  </a:lnTo>
                  <a:lnTo>
                    <a:pt x="537" y="163"/>
                  </a:lnTo>
                  <a:lnTo>
                    <a:pt x="537" y="163"/>
                  </a:lnTo>
                  <a:lnTo>
                    <a:pt x="550" y="163"/>
                  </a:lnTo>
                  <a:lnTo>
                    <a:pt x="550" y="163"/>
                  </a:lnTo>
                  <a:lnTo>
                    <a:pt x="562" y="163"/>
                  </a:lnTo>
                  <a:lnTo>
                    <a:pt x="575" y="163"/>
                  </a:lnTo>
                  <a:lnTo>
                    <a:pt x="576" y="163"/>
                  </a:lnTo>
                  <a:lnTo>
                    <a:pt x="588" y="163"/>
                  </a:lnTo>
                  <a:lnTo>
                    <a:pt x="588" y="163"/>
                  </a:lnTo>
                  <a:lnTo>
                    <a:pt x="601" y="163"/>
                  </a:lnTo>
                  <a:lnTo>
                    <a:pt x="614" y="163"/>
                  </a:lnTo>
                  <a:lnTo>
                    <a:pt x="614" y="163"/>
                  </a:lnTo>
                  <a:lnTo>
                    <a:pt x="626" y="163"/>
                  </a:lnTo>
                  <a:lnTo>
                    <a:pt x="626" y="163"/>
                  </a:lnTo>
                  <a:lnTo>
                    <a:pt x="639" y="163"/>
                  </a:lnTo>
                  <a:lnTo>
                    <a:pt x="651" y="163"/>
                  </a:lnTo>
                  <a:lnTo>
                    <a:pt x="652" y="163"/>
                  </a:lnTo>
                  <a:lnTo>
                    <a:pt x="664" y="163"/>
                  </a:lnTo>
                  <a:lnTo>
                    <a:pt x="665" y="163"/>
                  </a:lnTo>
                  <a:lnTo>
                    <a:pt x="677" y="163"/>
                  </a:lnTo>
                  <a:lnTo>
                    <a:pt x="690" y="163"/>
                  </a:lnTo>
                  <a:lnTo>
                    <a:pt x="690" y="163"/>
                  </a:lnTo>
                  <a:lnTo>
                    <a:pt x="703" y="163"/>
                  </a:lnTo>
                  <a:lnTo>
                    <a:pt x="703" y="163"/>
                  </a:lnTo>
                  <a:lnTo>
                    <a:pt x="716" y="163"/>
                  </a:lnTo>
                  <a:lnTo>
                    <a:pt x="729" y="163"/>
                  </a:lnTo>
                  <a:lnTo>
                    <a:pt x="729" y="163"/>
                  </a:lnTo>
                  <a:lnTo>
                    <a:pt x="741" y="163"/>
                  </a:lnTo>
                  <a:lnTo>
                    <a:pt x="742" y="148"/>
                  </a:lnTo>
                  <a:lnTo>
                    <a:pt x="754" y="148"/>
                  </a:lnTo>
                  <a:lnTo>
                    <a:pt x="767" y="148"/>
                  </a:lnTo>
                  <a:lnTo>
                    <a:pt x="768" y="148"/>
                  </a:lnTo>
                  <a:lnTo>
                    <a:pt x="779" y="148"/>
                  </a:lnTo>
                  <a:lnTo>
                    <a:pt x="779" y="133"/>
                  </a:lnTo>
                  <a:lnTo>
                    <a:pt x="792" y="133"/>
                  </a:lnTo>
                  <a:lnTo>
                    <a:pt x="805" y="133"/>
                  </a:lnTo>
                  <a:lnTo>
                    <a:pt x="805" y="133"/>
                  </a:lnTo>
                  <a:lnTo>
                    <a:pt x="818" y="133"/>
                  </a:lnTo>
                  <a:lnTo>
                    <a:pt x="818" y="118"/>
                  </a:lnTo>
                  <a:lnTo>
                    <a:pt x="830" y="118"/>
                  </a:lnTo>
                  <a:lnTo>
                    <a:pt x="831" y="118"/>
                  </a:lnTo>
                  <a:lnTo>
                    <a:pt x="843" y="118"/>
                  </a:lnTo>
                </a:path>
              </a:pathLst>
            </a:custGeom>
            <a:noFill/>
            <a:ln w="334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23400" y="3563640"/>
              <a:ext cx="442800" cy="2271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1" y="28"/>
                  </a:lnTo>
                  <a:lnTo>
                    <a:pt x="14" y="17"/>
                  </a:lnTo>
                  <a:lnTo>
                    <a:pt x="26" y="13"/>
                  </a:lnTo>
                  <a:lnTo>
                    <a:pt x="39" y="8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240" y="5040000"/>
              <a:ext cx="7166160" cy="120960"/>
            </a:xfrm>
            <a:custGeom>
              <a:avLst/>
              <a:gdLst/>
              <a:ahLst/>
              <a:rect l="l" t="t" r="r" b="b"/>
              <a:pathLst>
                <a:path w="843" h="15">
                  <a:moveTo>
                    <a:pt x="0" y="0"/>
                  </a:moveTo>
                  <a:lnTo>
                    <a:pt x="12" y="0"/>
                  </a:lnTo>
                  <a:lnTo>
                    <a:pt x="12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7" y="15"/>
                  </a:lnTo>
                  <a:lnTo>
                    <a:pt x="38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63" y="15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40" y="15"/>
                  </a:lnTo>
                  <a:lnTo>
                    <a:pt x="153" y="15"/>
                  </a:lnTo>
                  <a:lnTo>
                    <a:pt x="165" y="15"/>
                  </a:lnTo>
                  <a:lnTo>
                    <a:pt x="178" y="15"/>
                  </a:lnTo>
                  <a:lnTo>
                    <a:pt x="191" y="15"/>
                  </a:lnTo>
                  <a:lnTo>
                    <a:pt x="204" y="15"/>
                  </a:lnTo>
                  <a:lnTo>
                    <a:pt x="216" y="15"/>
                  </a:lnTo>
                  <a:lnTo>
                    <a:pt x="229" y="15"/>
                  </a:lnTo>
                  <a:lnTo>
                    <a:pt x="242" y="15"/>
                  </a:lnTo>
                  <a:lnTo>
                    <a:pt x="255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81" y="15"/>
                  </a:lnTo>
                  <a:lnTo>
                    <a:pt x="281" y="15"/>
                  </a:lnTo>
                  <a:lnTo>
                    <a:pt x="294" y="15"/>
                  </a:lnTo>
                  <a:lnTo>
                    <a:pt x="307" y="15"/>
                  </a:lnTo>
                  <a:lnTo>
                    <a:pt x="319" y="15"/>
                  </a:lnTo>
                  <a:lnTo>
                    <a:pt x="319" y="15"/>
                  </a:lnTo>
                  <a:lnTo>
                    <a:pt x="332" y="15"/>
                  </a:lnTo>
                  <a:lnTo>
                    <a:pt x="344" y="15"/>
                  </a:lnTo>
                  <a:lnTo>
                    <a:pt x="357" y="15"/>
                  </a:lnTo>
                  <a:lnTo>
                    <a:pt x="358" y="15"/>
                  </a:lnTo>
                  <a:lnTo>
                    <a:pt x="370" y="15"/>
                  </a:lnTo>
                  <a:lnTo>
                    <a:pt x="383" y="15"/>
                  </a:lnTo>
                  <a:lnTo>
                    <a:pt x="396" y="15"/>
                  </a:lnTo>
                  <a:lnTo>
                    <a:pt x="408" y="15"/>
                  </a:lnTo>
                  <a:lnTo>
                    <a:pt x="421" y="15"/>
                  </a:lnTo>
                  <a:lnTo>
                    <a:pt x="447" y="15"/>
                  </a:lnTo>
                  <a:lnTo>
                    <a:pt x="460" y="15"/>
                  </a:lnTo>
                  <a:lnTo>
                    <a:pt x="472" y="15"/>
                  </a:lnTo>
                  <a:lnTo>
                    <a:pt x="485" y="15"/>
                  </a:lnTo>
                  <a:lnTo>
                    <a:pt x="498" y="15"/>
                  </a:lnTo>
                  <a:lnTo>
                    <a:pt x="511" y="15"/>
                  </a:lnTo>
                  <a:lnTo>
                    <a:pt x="511" y="15"/>
                  </a:lnTo>
                  <a:lnTo>
                    <a:pt x="524" y="15"/>
                  </a:lnTo>
                  <a:lnTo>
                    <a:pt x="537" y="15"/>
                  </a:lnTo>
                  <a:lnTo>
                    <a:pt x="537" y="15"/>
                  </a:lnTo>
                  <a:lnTo>
                    <a:pt x="550" y="15"/>
                  </a:lnTo>
                  <a:lnTo>
                    <a:pt x="550" y="15"/>
                  </a:lnTo>
                  <a:lnTo>
                    <a:pt x="562" y="15"/>
                  </a:lnTo>
                  <a:lnTo>
                    <a:pt x="575" y="15"/>
                  </a:lnTo>
                  <a:lnTo>
                    <a:pt x="576" y="15"/>
                  </a:lnTo>
                  <a:lnTo>
                    <a:pt x="588" y="15"/>
                  </a:lnTo>
                  <a:lnTo>
                    <a:pt x="588" y="15"/>
                  </a:lnTo>
                  <a:lnTo>
                    <a:pt x="601" y="15"/>
                  </a:lnTo>
                  <a:lnTo>
                    <a:pt x="614" y="15"/>
                  </a:lnTo>
                  <a:lnTo>
                    <a:pt x="614" y="15"/>
                  </a:lnTo>
                  <a:lnTo>
                    <a:pt x="626" y="15"/>
                  </a:lnTo>
                  <a:lnTo>
                    <a:pt x="626" y="15"/>
                  </a:lnTo>
                  <a:lnTo>
                    <a:pt x="639" y="15"/>
                  </a:lnTo>
                  <a:lnTo>
                    <a:pt x="651" y="15"/>
                  </a:lnTo>
                  <a:lnTo>
                    <a:pt x="652" y="15"/>
                  </a:lnTo>
                  <a:lnTo>
                    <a:pt x="664" y="15"/>
                  </a:lnTo>
                  <a:lnTo>
                    <a:pt x="665" y="15"/>
                  </a:lnTo>
                  <a:lnTo>
                    <a:pt x="677" y="15"/>
                  </a:lnTo>
                  <a:lnTo>
                    <a:pt x="690" y="15"/>
                  </a:lnTo>
                  <a:lnTo>
                    <a:pt x="690" y="15"/>
                  </a:lnTo>
                  <a:lnTo>
                    <a:pt x="703" y="15"/>
                  </a:lnTo>
                  <a:lnTo>
                    <a:pt x="703" y="15"/>
                  </a:lnTo>
                  <a:lnTo>
                    <a:pt x="716" y="15"/>
                  </a:lnTo>
                  <a:lnTo>
                    <a:pt x="729" y="15"/>
                  </a:lnTo>
                  <a:lnTo>
                    <a:pt x="729" y="15"/>
                  </a:lnTo>
                  <a:lnTo>
                    <a:pt x="741" y="15"/>
                  </a:lnTo>
                  <a:lnTo>
                    <a:pt x="742" y="15"/>
                  </a:lnTo>
                  <a:lnTo>
                    <a:pt x="754" y="15"/>
                  </a:lnTo>
                  <a:lnTo>
                    <a:pt x="767" y="15"/>
                  </a:lnTo>
                  <a:lnTo>
                    <a:pt x="768" y="15"/>
                  </a:lnTo>
                  <a:lnTo>
                    <a:pt x="779" y="15"/>
                  </a:lnTo>
                  <a:lnTo>
                    <a:pt x="779" y="15"/>
                  </a:lnTo>
                  <a:lnTo>
                    <a:pt x="792" y="15"/>
                  </a:lnTo>
                  <a:lnTo>
                    <a:pt x="805" y="15"/>
                  </a:lnTo>
                  <a:lnTo>
                    <a:pt x="805" y="15"/>
                  </a:lnTo>
                  <a:lnTo>
                    <a:pt x="818" y="15"/>
                  </a:lnTo>
                  <a:lnTo>
                    <a:pt x="818" y="15"/>
                  </a:lnTo>
                  <a:lnTo>
                    <a:pt x="830" y="15"/>
                  </a:lnTo>
                  <a:lnTo>
                    <a:pt x="831" y="15"/>
                  </a:lnTo>
                  <a:lnTo>
                    <a:pt x="843" y="15"/>
                  </a:lnTo>
                </a:path>
              </a:pathLst>
            </a:custGeom>
            <a:noFill/>
            <a:ln w="33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3400" y="4932360"/>
              <a:ext cx="442800" cy="12528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6"/>
                  </a:moveTo>
                  <a:lnTo>
                    <a:pt x="1" y="14"/>
                  </a:lnTo>
                  <a:lnTo>
                    <a:pt x="14" y="11"/>
                  </a:lnTo>
                  <a:lnTo>
                    <a:pt x="26" y="7"/>
                  </a:lnTo>
                  <a:lnTo>
                    <a:pt x="39" y="3"/>
                  </a:lnTo>
                  <a:lnTo>
                    <a:pt x="52" y="0"/>
                  </a:lnTo>
                </a:path>
              </a:pathLst>
            </a:custGeom>
            <a:noFill/>
            <a:ln w="33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0640" y="4970160"/>
              <a:ext cx="655560" cy="18288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23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2"/>
                  </a:lnTo>
                  <a:lnTo>
                    <a:pt x="77" y="0"/>
                  </a:lnTo>
                </a:path>
              </a:pathLst>
            </a:custGeom>
            <a:noFill/>
            <a:ln w="3348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7640" y="500364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7720" y="500364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30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39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1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9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620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32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826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2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39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5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48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067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17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948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8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3836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9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2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3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73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84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39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0372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4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2916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86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51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74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2240" y="5121000"/>
              <a:ext cx="8280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829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4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2760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2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385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8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924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04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11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268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18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3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46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358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73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482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0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5804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595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0800" y="5121000"/>
              <a:ext cx="83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8024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9148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023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1216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1368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304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5121000"/>
              <a:ext cx="860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58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4372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9120" y="512100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58000" y="5121000"/>
              <a:ext cx="856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7800" y="5121000"/>
              <a:ext cx="871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7076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78680" y="5121000"/>
              <a:ext cx="87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82000" y="5121000"/>
              <a:ext cx="842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880" y="5075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880" y="46083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880" y="41400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880" y="367344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880" y="32004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880" y="27334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880" y="226692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91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76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732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95840" y="52704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3280" y="336528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4960" y="336528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25680" y="482436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7840" y="2119320"/>
            <a:ext cx="8715240" cy="4334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30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Futuros Fed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 2006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484200" y="2097000"/>
            <a:ext cx="7946280" cy="4023720"/>
            <a:chOff x="484200" y="2097000"/>
            <a:chExt cx="7946280" cy="4023720"/>
          </a:xfrm>
        </p:grpSpPr>
        <p:sp>
          <p:nvSpPr>
            <p:cNvPr id="298" name=""/>
            <p:cNvSpPr/>
            <p:nvPr/>
          </p:nvSpPr>
          <p:spPr>
            <a:xfrm>
              <a:off x="5726160" y="5950080"/>
              <a:ext cx="372960" cy="1440"/>
            </a:xfrm>
            <a:prstGeom prst="line">
              <a:avLst/>
            </a:prstGeom>
            <a:ln w="30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9600" y="5877000"/>
              <a:ext cx="101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Zona E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20840" y="5950080"/>
              <a:ext cx="372960" cy="1440"/>
            </a:xfrm>
            <a:prstGeom prst="line">
              <a:avLst/>
            </a:prstGeom>
            <a:ln w="30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35920" y="5877000"/>
              <a:ext cx="64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EE.UU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2800" y="47926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82800" y="428472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2800" y="377496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82800" y="325584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82800" y="2747880"/>
              <a:ext cx="733896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2800" y="2238480"/>
              <a:ext cx="733896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2800" y="5300640"/>
              <a:ext cx="7338960" cy="14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9828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92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41136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46404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88312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091280" y="5300280"/>
              <a:ext cx="180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310600" y="5300280"/>
              <a:ext cx="1440" cy="71640"/>
            </a:xfrm>
            <a:prstGeom prst="line">
              <a:avLst/>
            </a:prstGeom>
            <a:ln w="20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93600" y="3668760"/>
              <a:ext cx="7317000" cy="1100160"/>
            </a:xfrm>
            <a:custGeom>
              <a:avLst/>
              <a:gdLst/>
              <a:ahLst/>
              <a:rect l="l" t="t" r="r" b="b"/>
              <a:pathLst>
                <a:path w="696" h="93">
                  <a:moveTo>
                    <a:pt x="0" y="38"/>
                  </a:moveTo>
                  <a:lnTo>
                    <a:pt x="1" y="39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3"/>
                  </a:lnTo>
                  <a:lnTo>
                    <a:pt x="9" y="44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2" y="46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0" y="50"/>
                  </a:lnTo>
                  <a:lnTo>
                    <a:pt x="21" y="45"/>
                  </a:lnTo>
                  <a:lnTo>
                    <a:pt x="23" y="46"/>
                  </a:lnTo>
                  <a:lnTo>
                    <a:pt x="26" y="47"/>
                  </a:lnTo>
                  <a:lnTo>
                    <a:pt x="28" y="47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7" y="48"/>
                  </a:lnTo>
                  <a:lnTo>
                    <a:pt x="38" y="47"/>
                  </a:lnTo>
                  <a:lnTo>
                    <a:pt x="39" y="46"/>
                  </a:lnTo>
                  <a:lnTo>
                    <a:pt x="40" y="47"/>
                  </a:lnTo>
                  <a:lnTo>
                    <a:pt x="44" y="53"/>
                  </a:lnTo>
                  <a:lnTo>
                    <a:pt x="46" y="52"/>
                  </a:lnTo>
                  <a:lnTo>
                    <a:pt x="47" y="56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3" y="53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57" y="46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3" y="35"/>
                  </a:lnTo>
                  <a:lnTo>
                    <a:pt x="65" y="35"/>
                  </a:lnTo>
                  <a:lnTo>
                    <a:pt x="66" y="32"/>
                  </a:lnTo>
                  <a:lnTo>
                    <a:pt x="67" y="34"/>
                  </a:lnTo>
                  <a:lnTo>
                    <a:pt x="71" y="34"/>
                  </a:lnTo>
                  <a:lnTo>
                    <a:pt x="72" y="31"/>
                  </a:lnTo>
                  <a:lnTo>
                    <a:pt x="74" y="28"/>
                  </a:lnTo>
                  <a:lnTo>
                    <a:pt x="75" y="29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1" y="33"/>
                  </a:lnTo>
                  <a:lnTo>
                    <a:pt x="83" y="29"/>
                  </a:lnTo>
                  <a:lnTo>
                    <a:pt x="84" y="27"/>
                  </a:lnTo>
                  <a:lnTo>
                    <a:pt x="85" y="29"/>
                  </a:lnTo>
                  <a:lnTo>
                    <a:pt x="89" y="28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3" y="36"/>
                  </a:lnTo>
                  <a:lnTo>
                    <a:pt x="94" y="34"/>
                  </a:lnTo>
                  <a:lnTo>
                    <a:pt x="98" y="32"/>
                  </a:lnTo>
                  <a:lnTo>
                    <a:pt x="99" y="35"/>
                  </a:lnTo>
                  <a:lnTo>
                    <a:pt x="100" y="31"/>
                  </a:lnTo>
                  <a:lnTo>
                    <a:pt x="102" y="34"/>
                  </a:lnTo>
                  <a:lnTo>
                    <a:pt x="103" y="33"/>
                  </a:lnTo>
                  <a:lnTo>
                    <a:pt x="107" y="33"/>
                  </a:lnTo>
                  <a:lnTo>
                    <a:pt x="108" y="34"/>
                  </a:lnTo>
                  <a:lnTo>
                    <a:pt x="109" y="37"/>
                  </a:lnTo>
                  <a:lnTo>
                    <a:pt x="111" y="41"/>
                  </a:lnTo>
                  <a:lnTo>
                    <a:pt x="112" y="41"/>
                  </a:lnTo>
                  <a:lnTo>
                    <a:pt x="116" y="44"/>
                  </a:lnTo>
                  <a:lnTo>
                    <a:pt x="117" y="43"/>
                  </a:lnTo>
                  <a:lnTo>
                    <a:pt x="118" y="44"/>
                  </a:lnTo>
                  <a:lnTo>
                    <a:pt x="120" y="47"/>
                  </a:lnTo>
                  <a:lnTo>
                    <a:pt x="121" y="45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7" y="51"/>
                  </a:lnTo>
                  <a:lnTo>
                    <a:pt x="129" y="50"/>
                  </a:lnTo>
                  <a:lnTo>
                    <a:pt x="130" y="53"/>
                  </a:lnTo>
                  <a:lnTo>
                    <a:pt x="134" y="55"/>
                  </a:lnTo>
                  <a:lnTo>
                    <a:pt x="135" y="57"/>
                  </a:lnTo>
                  <a:lnTo>
                    <a:pt x="136" y="56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3" y="56"/>
                  </a:lnTo>
                  <a:lnTo>
                    <a:pt x="144" y="56"/>
                  </a:lnTo>
                  <a:lnTo>
                    <a:pt x="145" y="59"/>
                  </a:lnTo>
                  <a:lnTo>
                    <a:pt x="146" y="60"/>
                  </a:lnTo>
                  <a:lnTo>
                    <a:pt x="148" y="61"/>
                  </a:lnTo>
                  <a:lnTo>
                    <a:pt x="151" y="61"/>
                  </a:lnTo>
                  <a:lnTo>
                    <a:pt x="153" y="63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7" y="56"/>
                  </a:lnTo>
                  <a:lnTo>
                    <a:pt x="160" y="59"/>
                  </a:lnTo>
                  <a:lnTo>
                    <a:pt x="162" y="64"/>
                  </a:lnTo>
                  <a:lnTo>
                    <a:pt x="163" y="67"/>
                  </a:lnTo>
                  <a:lnTo>
                    <a:pt x="164" y="67"/>
                  </a:lnTo>
                  <a:lnTo>
                    <a:pt x="166" y="68"/>
                  </a:lnTo>
                  <a:lnTo>
                    <a:pt x="169" y="69"/>
                  </a:lnTo>
                  <a:lnTo>
                    <a:pt x="171" y="69"/>
                  </a:lnTo>
                  <a:lnTo>
                    <a:pt x="172" y="66"/>
                  </a:lnTo>
                  <a:lnTo>
                    <a:pt x="173" y="65"/>
                  </a:lnTo>
                  <a:lnTo>
                    <a:pt x="174" y="62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3" y="67"/>
                  </a:lnTo>
                  <a:lnTo>
                    <a:pt x="187" y="66"/>
                  </a:lnTo>
                  <a:lnTo>
                    <a:pt x="188" y="72"/>
                  </a:lnTo>
                  <a:lnTo>
                    <a:pt x="190" y="75"/>
                  </a:lnTo>
                  <a:lnTo>
                    <a:pt x="191" y="76"/>
                  </a:lnTo>
                  <a:lnTo>
                    <a:pt x="192" y="75"/>
                  </a:lnTo>
                  <a:lnTo>
                    <a:pt x="196" y="76"/>
                  </a:lnTo>
                  <a:lnTo>
                    <a:pt x="197" y="81"/>
                  </a:lnTo>
                  <a:lnTo>
                    <a:pt x="199" y="84"/>
                  </a:lnTo>
                  <a:lnTo>
                    <a:pt x="200" y="85"/>
                  </a:lnTo>
                  <a:lnTo>
                    <a:pt x="201" y="83"/>
                  </a:lnTo>
                  <a:lnTo>
                    <a:pt x="205" y="78"/>
                  </a:lnTo>
                  <a:lnTo>
                    <a:pt x="206" y="77"/>
                  </a:lnTo>
                  <a:lnTo>
                    <a:pt x="208" y="70"/>
                  </a:lnTo>
                  <a:lnTo>
                    <a:pt x="209" y="68"/>
                  </a:lnTo>
                  <a:lnTo>
                    <a:pt x="210" y="70"/>
                  </a:lnTo>
                  <a:lnTo>
                    <a:pt x="214" y="70"/>
                  </a:lnTo>
                  <a:lnTo>
                    <a:pt x="215" y="76"/>
                  </a:lnTo>
                  <a:lnTo>
                    <a:pt x="217" y="82"/>
                  </a:lnTo>
                  <a:lnTo>
                    <a:pt x="218" y="81"/>
                  </a:lnTo>
                  <a:lnTo>
                    <a:pt x="219" y="83"/>
                  </a:lnTo>
                  <a:lnTo>
                    <a:pt x="223" y="85"/>
                  </a:lnTo>
                  <a:lnTo>
                    <a:pt x="224" y="81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81"/>
                  </a:lnTo>
                  <a:lnTo>
                    <a:pt x="232" y="80"/>
                  </a:lnTo>
                  <a:lnTo>
                    <a:pt x="233" y="77"/>
                  </a:lnTo>
                  <a:lnTo>
                    <a:pt x="234" y="75"/>
                  </a:lnTo>
                  <a:lnTo>
                    <a:pt x="236" y="79"/>
                  </a:lnTo>
                  <a:lnTo>
                    <a:pt x="237" y="79"/>
                  </a:lnTo>
                  <a:lnTo>
                    <a:pt x="241" y="74"/>
                  </a:lnTo>
                  <a:lnTo>
                    <a:pt x="242" y="75"/>
                  </a:lnTo>
                  <a:lnTo>
                    <a:pt x="243" y="73"/>
                  </a:lnTo>
                  <a:lnTo>
                    <a:pt x="245" y="70"/>
                  </a:lnTo>
                  <a:lnTo>
                    <a:pt x="246" y="70"/>
                  </a:lnTo>
                  <a:lnTo>
                    <a:pt x="250" y="73"/>
                  </a:lnTo>
                  <a:lnTo>
                    <a:pt x="251" y="70"/>
                  </a:lnTo>
                  <a:lnTo>
                    <a:pt x="252" y="69"/>
                  </a:lnTo>
                  <a:lnTo>
                    <a:pt x="254" y="69"/>
                  </a:lnTo>
                  <a:lnTo>
                    <a:pt x="255" y="75"/>
                  </a:lnTo>
                  <a:lnTo>
                    <a:pt x="259" y="77"/>
                  </a:lnTo>
                  <a:lnTo>
                    <a:pt x="260" y="74"/>
                  </a:lnTo>
                  <a:lnTo>
                    <a:pt x="261" y="76"/>
                  </a:lnTo>
                  <a:lnTo>
                    <a:pt x="263" y="75"/>
                  </a:lnTo>
                  <a:lnTo>
                    <a:pt x="264" y="74"/>
                  </a:lnTo>
                  <a:lnTo>
                    <a:pt x="268" y="69"/>
                  </a:lnTo>
                  <a:lnTo>
                    <a:pt x="269" y="66"/>
                  </a:lnTo>
                  <a:lnTo>
                    <a:pt x="270" y="67"/>
                  </a:lnTo>
                  <a:lnTo>
                    <a:pt x="271" y="66"/>
                  </a:lnTo>
                  <a:lnTo>
                    <a:pt x="273" y="63"/>
                  </a:lnTo>
                  <a:lnTo>
                    <a:pt x="277" y="63"/>
                  </a:lnTo>
                  <a:lnTo>
                    <a:pt x="278" y="62"/>
                  </a:lnTo>
                  <a:lnTo>
                    <a:pt x="279" y="64"/>
                  </a:lnTo>
                  <a:lnTo>
                    <a:pt x="280" y="65"/>
                  </a:lnTo>
                  <a:lnTo>
                    <a:pt x="282" y="70"/>
                  </a:lnTo>
                  <a:lnTo>
                    <a:pt x="285" y="70"/>
                  </a:lnTo>
                  <a:lnTo>
                    <a:pt x="287" y="74"/>
                  </a:lnTo>
                  <a:lnTo>
                    <a:pt x="288" y="74"/>
                  </a:lnTo>
                  <a:lnTo>
                    <a:pt x="289" y="77"/>
                  </a:lnTo>
                  <a:lnTo>
                    <a:pt x="291" y="77"/>
                  </a:lnTo>
                  <a:lnTo>
                    <a:pt x="294" y="78"/>
                  </a:lnTo>
                  <a:lnTo>
                    <a:pt x="296" y="80"/>
                  </a:lnTo>
                  <a:lnTo>
                    <a:pt x="297" y="80"/>
                  </a:lnTo>
                  <a:lnTo>
                    <a:pt x="298" y="82"/>
                  </a:lnTo>
                  <a:lnTo>
                    <a:pt x="300" y="82"/>
                  </a:lnTo>
                  <a:lnTo>
                    <a:pt x="303" y="82"/>
                  </a:lnTo>
                  <a:lnTo>
                    <a:pt x="305" y="82"/>
                  </a:lnTo>
                  <a:lnTo>
                    <a:pt x="306" y="86"/>
                  </a:lnTo>
                  <a:lnTo>
                    <a:pt x="307" y="89"/>
                  </a:lnTo>
                  <a:lnTo>
                    <a:pt x="308" y="90"/>
                  </a:lnTo>
                  <a:lnTo>
                    <a:pt x="312" y="91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6" y="89"/>
                  </a:lnTo>
                  <a:lnTo>
                    <a:pt x="317" y="91"/>
                  </a:lnTo>
                  <a:lnTo>
                    <a:pt x="321" y="84"/>
                  </a:lnTo>
                  <a:lnTo>
                    <a:pt x="322" y="87"/>
                  </a:lnTo>
                  <a:lnTo>
                    <a:pt x="324" y="87"/>
                  </a:lnTo>
                  <a:lnTo>
                    <a:pt x="325" y="86"/>
                  </a:lnTo>
                  <a:lnTo>
                    <a:pt x="326" y="83"/>
                  </a:lnTo>
                  <a:lnTo>
                    <a:pt x="330" y="87"/>
                  </a:lnTo>
                  <a:lnTo>
                    <a:pt x="331" y="87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9"/>
                  </a:lnTo>
                  <a:lnTo>
                    <a:pt x="339" y="84"/>
                  </a:lnTo>
                  <a:lnTo>
                    <a:pt x="340" y="84"/>
                  </a:lnTo>
                  <a:lnTo>
                    <a:pt x="342" y="84"/>
                  </a:lnTo>
                  <a:lnTo>
                    <a:pt x="343" y="82"/>
                  </a:lnTo>
                  <a:lnTo>
                    <a:pt x="344" y="83"/>
                  </a:lnTo>
                  <a:lnTo>
                    <a:pt x="348" y="78"/>
                  </a:lnTo>
                  <a:lnTo>
                    <a:pt x="349" y="79"/>
                  </a:lnTo>
                  <a:lnTo>
                    <a:pt x="351" y="80"/>
                  </a:lnTo>
                  <a:lnTo>
                    <a:pt x="352" y="79"/>
                  </a:lnTo>
                  <a:lnTo>
                    <a:pt x="353" y="80"/>
                  </a:lnTo>
                  <a:lnTo>
                    <a:pt x="357" y="81"/>
                  </a:lnTo>
                  <a:lnTo>
                    <a:pt x="358" y="79"/>
                  </a:lnTo>
                  <a:lnTo>
                    <a:pt x="359" y="75"/>
                  </a:lnTo>
                  <a:lnTo>
                    <a:pt x="361" y="70"/>
                  </a:lnTo>
                  <a:lnTo>
                    <a:pt x="362" y="69"/>
                  </a:lnTo>
                  <a:lnTo>
                    <a:pt x="366" y="69"/>
                  </a:lnTo>
                  <a:lnTo>
                    <a:pt x="367" y="70"/>
                  </a:lnTo>
                  <a:lnTo>
                    <a:pt x="368" y="73"/>
                  </a:lnTo>
                  <a:lnTo>
                    <a:pt x="370" y="70"/>
                  </a:lnTo>
                  <a:lnTo>
                    <a:pt x="371" y="72"/>
                  </a:lnTo>
                  <a:lnTo>
                    <a:pt x="375" y="74"/>
                  </a:lnTo>
                  <a:lnTo>
                    <a:pt x="376" y="68"/>
                  </a:lnTo>
                  <a:lnTo>
                    <a:pt x="377" y="62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4"/>
                  </a:lnTo>
                  <a:lnTo>
                    <a:pt x="389" y="53"/>
                  </a:lnTo>
                  <a:lnTo>
                    <a:pt x="393" y="51"/>
                  </a:lnTo>
                  <a:lnTo>
                    <a:pt x="394" y="55"/>
                  </a:lnTo>
                  <a:lnTo>
                    <a:pt x="395" y="49"/>
                  </a:lnTo>
                  <a:lnTo>
                    <a:pt x="396" y="50"/>
                  </a:lnTo>
                  <a:lnTo>
                    <a:pt x="398" y="51"/>
                  </a:lnTo>
                  <a:lnTo>
                    <a:pt x="402" y="48"/>
                  </a:lnTo>
                  <a:lnTo>
                    <a:pt x="403" y="51"/>
                  </a:lnTo>
                  <a:lnTo>
                    <a:pt x="404" y="58"/>
                  </a:lnTo>
                  <a:lnTo>
                    <a:pt x="405" y="57"/>
                  </a:lnTo>
                  <a:lnTo>
                    <a:pt x="407" y="49"/>
                  </a:lnTo>
                  <a:lnTo>
                    <a:pt x="411" y="53"/>
                  </a:lnTo>
                  <a:lnTo>
                    <a:pt x="412" y="53"/>
                  </a:lnTo>
                  <a:lnTo>
                    <a:pt x="413" y="52"/>
                  </a:lnTo>
                  <a:lnTo>
                    <a:pt x="414" y="59"/>
                  </a:lnTo>
                  <a:lnTo>
                    <a:pt x="416" y="58"/>
                  </a:lnTo>
                  <a:lnTo>
                    <a:pt x="419" y="59"/>
                  </a:lnTo>
                  <a:lnTo>
                    <a:pt x="421" y="55"/>
                  </a:lnTo>
                  <a:lnTo>
                    <a:pt x="422" y="55"/>
                  </a:lnTo>
                  <a:lnTo>
                    <a:pt x="423" y="59"/>
                  </a:lnTo>
                  <a:lnTo>
                    <a:pt x="425" y="61"/>
                  </a:lnTo>
                  <a:lnTo>
                    <a:pt x="428" y="59"/>
                  </a:lnTo>
                  <a:lnTo>
                    <a:pt x="430" y="63"/>
                  </a:lnTo>
                  <a:lnTo>
                    <a:pt x="431" y="61"/>
                  </a:lnTo>
                  <a:lnTo>
                    <a:pt x="432" y="62"/>
                  </a:lnTo>
                  <a:lnTo>
                    <a:pt x="433" y="57"/>
                  </a:lnTo>
                  <a:lnTo>
                    <a:pt x="437" y="59"/>
                  </a:lnTo>
                  <a:lnTo>
                    <a:pt x="439" y="60"/>
                  </a:lnTo>
                  <a:lnTo>
                    <a:pt x="440" y="63"/>
                  </a:lnTo>
                  <a:lnTo>
                    <a:pt x="441" y="62"/>
                  </a:lnTo>
                  <a:lnTo>
                    <a:pt x="442" y="65"/>
                  </a:lnTo>
                  <a:lnTo>
                    <a:pt x="446" y="66"/>
                  </a:lnTo>
                  <a:lnTo>
                    <a:pt x="448" y="65"/>
                  </a:lnTo>
                  <a:lnTo>
                    <a:pt x="449" y="60"/>
                  </a:lnTo>
                  <a:lnTo>
                    <a:pt x="450" y="64"/>
                  </a:lnTo>
                  <a:lnTo>
                    <a:pt x="451" y="67"/>
                  </a:lnTo>
                  <a:lnTo>
                    <a:pt x="455" y="67"/>
                  </a:lnTo>
                  <a:lnTo>
                    <a:pt x="456" y="67"/>
                  </a:lnTo>
                  <a:lnTo>
                    <a:pt x="458" y="69"/>
                  </a:lnTo>
                  <a:lnTo>
                    <a:pt x="459" y="66"/>
                  </a:lnTo>
                  <a:lnTo>
                    <a:pt x="460" y="68"/>
                  </a:lnTo>
                  <a:lnTo>
                    <a:pt x="464" y="66"/>
                  </a:lnTo>
                  <a:lnTo>
                    <a:pt x="465" y="67"/>
                  </a:lnTo>
                  <a:lnTo>
                    <a:pt x="467" y="70"/>
                  </a:lnTo>
                  <a:lnTo>
                    <a:pt x="468" y="71"/>
                  </a:lnTo>
                  <a:lnTo>
                    <a:pt x="469" y="72"/>
                  </a:lnTo>
                  <a:lnTo>
                    <a:pt x="473" y="73"/>
                  </a:lnTo>
                  <a:lnTo>
                    <a:pt x="474" y="70"/>
                  </a:lnTo>
                  <a:lnTo>
                    <a:pt x="476" y="69"/>
                  </a:lnTo>
                  <a:lnTo>
                    <a:pt x="477" y="71"/>
                  </a:lnTo>
                  <a:lnTo>
                    <a:pt x="478" y="72"/>
                  </a:lnTo>
                  <a:lnTo>
                    <a:pt x="482" y="71"/>
                  </a:lnTo>
                  <a:lnTo>
                    <a:pt x="483" y="72"/>
                  </a:lnTo>
                  <a:lnTo>
                    <a:pt x="485" y="71"/>
                  </a:lnTo>
                  <a:lnTo>
                    <a:pt x="486" y="66"/>
                  </a:lnTo>
                  <a:lnTo>
                    <a:pt x="487" y="63"/>
                  </a:lnTo>
                  <a:lnTo>
                    <a:pt x="491" y="62"/>
                  </a:lnTo>
                  <a:lnTo>
                    <a:pt x="492" y="63"/>
                  </a:lnTo>
                  <a:lnTo>
                    <a:pt x="493" y="58"/>
                  </a:lnTo>
                  <a:lnTo>
                    <a:pt x="495" y="53"/>
                  </a:lnTo>
                  <a:lnTo>
                    <a:pt x="496" y="53"/>
                  </a:lnTo>
                  <a:lnTo>
                    <a:pt x="500" y="54"/>
                  </a:lnTo>
                  <a:lnTo>
                    <a:pt x="501" y="54"/>
                  </a:lnTo>
                  <a:lnTo>
                    <a:pt x="502" y="50"/>
                  </a:lnTo>
                  <a:lnTo>
                    <a:pt x="504" y="49"/>
                  </a:lnTo>
                  <a:lnTo>
                    <a:pt x="505" y="53"/>
                  </a:lnTo>
                  <a:lnTo>
                    <a:pt x="509" y="53"/>
                  </a:lnTo>
                  <a:lnTo>
                    <a:pt x="510" y="50"/>
                  </a:lnTo>
                  <a:lnTo>
                    <a:pt x="511" y="51"/>
                  </a:lnTo>
                  <a:lnTo>
                    <a:pt x="513" y="54"/>
                  </a:lnTo>
                  <a:lnTo>
                    <a:pt x="514" y="54"/>
                  </a:lnTo>
                  <a:lnTo>
                    <a:pt x="518" y="52"/>
                  </a:lnTo>
                  <a:lnTo>
                    <a:pt x="519" y="52"/>
                  </a:lnTo>
                  <a:lnTo>
                    <a:pt x="520" y="51"/>
                  </a:lnTo>
                  <a:lnTo>
                    <a:pt x="522" y="51"/>
                  </a:lnTo>
                  <a:lnTo>
                    <a:pt x="523" y="56"/>
                  </a:lnTo>
                  <a:lnTo>
                    <a:pt x="527" y="57"/>
                  </a:lnTo>
                  <a:lnTo>
                    <a:pt x="528" y="56"/>
                  </a:lnTo>
                  <a:lnTo>
                    <a:pt x="529" y="59"/>
                  </a:lnTo>
                  <a:lnTo>
                    <a:pt x="530" y="53"/>
                  </a:lnTo>
                  <a:lnTo>
                    <a:pt x="532" y="53"/>
                  </a:lnTo>
                  <a:lnTo>
                    <a:pt x="536" y="49"/>
                  </a:lnTo>
                  <a:lnTo>
                    <a:pt x="537" y="53"/>
                  </a:lnTo>
                  <a:lnTo>
                    <a:pt x="538" y="51"/>
                  </a:lnTo>
                  <a:lnTo>
                    <a:pt x="539" y="45"/>
                  </a:lnTo>
                  <a:lnTo>
                    <a:pt x="541" y="44"/>
                  </a:lnTo>
                  <a:lnTo>
                    <a:pt x="545" y="44"/>
                  </a:lnTo>
                  <a:lnTo>
                    <a:pt x="546" y="43"/>
                  </a:lnTo>
                  <a:lnTo>
                    <a:pt x="547" y="39"/>
                  </a:lnTo>
                  <a:lnTo>
                    <a:pt x="548" y="39"/>
                  </a:lnTo>
                  <a:lnTo>
                    <a:pt x="550" y="35"/>
                  </a:lnTo>
                  <a:lnTo>
                    <a:pt x="553" y="34"/>
                  </a:lnTo>
                  <a:lnTo>
                    <a:pt x="555" y="38"/>
                  </a:lnTo>
                  <a:lnTo>
                    <a:pt x="556" y="36"/>
                  </a:lnTo>
                  <a:lnTo>
                    <a:pt x="557" y="38"/>
                  </a:lnTo>
                  <a:lnTo>
                    <a:pt x="559" y="35"/>
                  </a:lnTo>
                  <a:lnTo>
                    <a:pt x="562" y="38"/>
                  </a:lnTo>
                  <a:lnTo>
                    <a:pt x="564" y="37"/>
                  </a:lnTo>
                  <a:lnTo>
                    <a:pt x="565" y="39"/>
                  </a:lnTo>
                  <a:lnTo>
                    <a:pt x="566" y="37"/>
                  </a:lnTo>
                  <a:lnTo>
                    <a:pt x="567" y="40"/>
                  </a:lnTo>
                  <a:lnTo>
                    <a:pt x="571" y="40"/>
                  </a:lnTo>
                  <a:lnTo>
                    <a:pt x="573" y="31"/>
                  </a:lnTo>
                  <a:lnTo>
                    <a:pt x="574" y="29"/>
                  </a:lnTo>
                  <a:lnTo>
                    <a:pt x="575" y="27"/>
                  </a:lnTo>
                  <a:lnTo>
                    <a:pt x="576" y="28"/>
                  </a:lnTo>
                  <a:lnTo>
                    <a:pt x="580" y="22"/>
                  </a:lnTo>
                  <a:lnTo>
                    <a:pt x="582" y="22"/>
                  </a:lnTo>
                  <a:lnTo>
                    <a:pt x="583" y="21"/>
                  </a:lnTo>
                  <a:lnTo>
                    <a:pt x="584" y="18"/>
                  </a:lnTo>
                  <a:lnTo>
                    <a:pt x="585" y="17"/>
                  </a:lnTo>
                  <a:lnTo>
                    <a:pt x="589" y="18"/>
                  </a:lnTo>
                  <a:lnTo>
                    <a:pt x="590" y="19"/>
                  </a:lnTo>
                  <a:lnTo>
                    <a:pt x="592" y="18"/>
                  </a:lnTo>
                  <a:lnTo>
                    <a:pt x="593" y="13"/>
                  </a:lnTo>
                  <a:lnTo>
                    <a:pt x="594" y="12"/>
                  </a:lnTo>
                  <a:lnTo>
                    <a:pt x="598" y="12"/>
                  </a:lnTo>
                  <a:lnTo>
                    <a:pt x="599" y="13"/>
                  </a:lnTo>
                  <a:lnTo>
                    <a:pt x="601" y="12"/>
                  </a:lnTo>
                  <a:lnTo>
                    <a:pt x="602" y="15"/>
                  </a:lnTo>
                  <a:lnTo>
                    <a:pt x="603" y="13"/>
                  </a:lnTo>
                  <a:lnTo>
                    <a:pt x="607" y="14"/>
                  </a:lnTo>
                  <a:lnTo>
                    <a:pt x="608" y="9"/>
                  </a:lnTo>
                  <a:lnTo>
                    <a:pt x="610" y="9"/>
                  </a:lnTo>
                  <a:lnTo>
                    <a:pt x="611" y="12"/>
                  </a:lnTo>
                  <a:lnTo>
                    <a:pt x="612" y="13"/>
                  </a:lnTo>
                  <a:lnTo>
                    <a:pt x="616" y="13"/>
                  </a:lnTo>
                  <a:lnTo>
                    <a:pt x="617" y="10"/>
                  </a:lnTo>
                  <a:lnTo>
                    <a:pt x="619" y="8"/>
                  </a:lnTo>
                  <a:lnTo>
                    <a:pt x="620" y="5"/>
                  </a:lnTo>
                  <a:lnTo>
                    <a:pt x="621" y="8"/>
                  </a:lnTo>
                  <a:lnTo>
                    <a:pt x="625" y="7"/>
                  </a:lnTo>
                  <a:lnTo>
                    <a:pt x="626" y="6"/>
                  </a:lnTo>
                  <a:lnTo>
                    <a:pt x="627" y="9"/>
                  </a:lnTo>
                  <a:lnTo>
                    <a:pt x="629" y="3"/>
                  </a:lnTo>
                  <a:lnTo>
                    <a:pt x="630" y="2"/>
                  </a:lnTo>
                  <a:lnTo>
                    <a:pt x="634" y="7"/>
                  </a:lnTo>
                  <a:lnTo>
                    <a:pt x="635" y="7"/>
                  </a:lnTo>
                  <a:lnTo>
                    <a:pt x="636" y="2"/>
                  </a:lnTo>
                  <a:lnTo>
                    <a:pt x="638" y="6"/>
                  </a:lnTo>
                  <a:lnTo>
                    <a:pt x="639" y="10"/>
                  </a:lnTo>
                  <a:lnTo>
                    <a:pt x="643" y="16"/>
                  </a:lnTo>
                  <a:lnTo>
                    <a:pt x="644" y="14"/>
                  </a:lnTo>
                  <a:lnTo>
                    <a:pt x="645" y="18"/>
                  </a:lnTo>
                  <a:lnTo>
                    <a:pt x="647" y="18"/>
                  </a:lnTo>
                  <a:lnTo>
                    <a:pt x="648" y="19"/>
                  </a:lnTo>
                  <a:lnTo>
                    <a:pt x="652" y="18"/>
                  </a:lnTo>
                  <a:lnTo>
                    <a:pt x="653" y="14"/>
                  </a:lnTo>
                  <a:lnTo>
                    <a:pt x="654" y="10"/>
                  </a:lnTo>
                  <a:lnTo>
                    <a:pt x="656" y="9"/>
                  </a:lnTo>
                  <a:lnTo>
                    <a:pt x="657" y="15"/>
                  </a:lnTo>
                  <a:lnTo>
                    <a:pt x="661" y="11"/>
                  </a:lnTo>
                  <a:lnTo>
                    <a:pt x="662" y="9"/>
                  </a:lnTo>
                  <a:lnTo>
                    <a:pt x="663" y="8"/>
                  </a:lnTo>
                  <a:lnTo>
                    <a:pt x="664" y="16"/>
                  </a:lnTo>
                  <a:lnTo>
                    <a:pt x="666" y="14"/>
                  </a:lnTo>
                  <a:lnTo>
                    <a:pt x="670" y="16"/>
                  </a:lnTo>
                  <a:lnTo>
                    <a:pt x="671" y="20"/>
                  </a:lnTo>
                  <a:lnTo>
                    <a:pt x="672" y="17"/>
                  </a:lnTo>
                  <a:lnTo>
                    <a:pt x="673" y="13"/>
                  </a:lnTo>
                  <a:lnTo>
                    <a:pt x="675" y="14"/>
                  </a:lnTo>
                  <a:lnTo>
                    <a:pt x="678" y="11"/>
                  </a:lnTo>
                  <a:lnTo>
                    <a:pt x="680" y="9"/>
                  </a:lnTo>
                  <a:lnTo>
                    <a:pt x="681" y="7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3"/>
                  </a:lnTo>
                  <a:lnTo>
                    <a:pt x="693" y="2"/>
                  </a:lnTo>
                  <a:lnTo>
                    <a:pt x="696" y="1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93600" y="2498760"/>
              <a:ext cx="7317000" cy="1384200"/>
            </a:xfrm>
            <a:custGeom>
              <a:avLst/>
              <a:gdLst/>
              <a:ahLst/>
              <a:rect l="l" t="t" r="r" b="b"/>
              <a:pathLst>
                <a:path w="696" h="117">
                  <a:moveTo>
                    <a:pt x="0" y="89"/>
                  </a:moveTo>
                  <a:lnTo>
                    <a:pt x="1" y="82"/>
                  </a:lnTo>
                  <a:lnTo>
                    <a:pt x="2" y="83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4"/>
                  </a:lnTo>
                  <a:lnTo>
                    <a:pt x="10" y="87"/>
                  </a:lnTo>
                  <a:lnTo>
                    <a:pt x="11" y="87"/>
                  </a:lnTo>
                  <a:lnTo>
                    <a:pt x="12" y="93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19" y="91"/>
                  </a:lnTo>
                  <a:lnTo>
                    <a:pt x="20" y="93"/>
                  </a:lnTo>
                  <a:lnTo>
                    <a:pt x="21" y="93"/>
                  </a:lnTo>
                  <a:lnTo>
                    <a:pt x="23" y="95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9" y="90"/>
                  </a:lnTo>
                  <a:lnTo>
                    <a:pt x="30" y="89"/>
                  </a:lnTo>
                  <a:lnTo>
                    <a:pt x="32" y="95"/>
                  </a:lnTo>
                  <a:lnTo>
                    <a:pt x="35" y="96"/>
                  </a:lnTo>
                  <a:lnTo>
                    <a:pt x="37" y="95"/>
                  </a:lnTo>
                  <a:lnTo>
                    <a:pt x="38" y="95"/>
                  </a:lnTo>
                  <a:lnTo>
                    <a:pt x="39" y="93"/>
                  </a:lnTo>
                  <a:lnTo>
                    <a:pt x="40" y="101"/>
                  </a:lnTo>
                  <a:lnTo>
                    <a:pt x="44" y="103"/>
                  </a:lnTo>
                  <a:lnTo>
                    <a:pt x="46" y="106"/>
                  </a:lnTo>
                  <a:lnTo>
                    <a:pt x="47" y="108"/>
                  </a:lnTo>
                  <a:lnTo>
                    <a:pt x="48" y="100"/>
                  </a:lnTo>
                  <a:lnTo>
                    <a:pt x="49" y="100"/>
                  </a:lnTo>
                  <a:lnTo>
                    <a:pt x="53" y="101"/>
                  </a:lnTo>
                  <a:lnTo>
                    <a:pt x="55" y="99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4"/>
                  </a:lnTo>
                  <a:lnTo>
                    <a:pt x="62" y="85"/>
                  </a:lnTo>
                  <a:lnTo>
                    <a:pt x="63" y="83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7" y="85"/>
                  </a:lnTo>
                  <a:lnTo>
                    <a:pt x="71" y="75"/>
                  </a:lnTo>
                  <a:lnTo>
                    <a:pt x="72" y="76"/>
                  </a:lnTo>
                  <a:lnTo>
                    <a:pt x="74" y="75"/>
                  </a:lnTo>
                  <a:lnTo>
                    <a:pt x="75" y="7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3" y="67"/>
                  </a:lnTo>
                  <a:lnTo>
                    <a:pt x="94" y="64"/>
                  </a:lnTo>
                  <a:lnTo>
                    <a:pt x="98" y="62"/>
                  </a:lnTo>
                  <a:lnTo>
                    <a:pt x="99" y="52"/>
                  </a:lnTo>
                  <a:lnTo>
                    <a:pt x="100" y="57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7" y="52"/>
                  </a:lnTo>
                  <a:lnTo>
                    <a:pt x="108" y="58"/>
                  </a:lnTo>
                  <a:lnTo>
                    <a:pt x="109" y="60"/>
                  </a:lnTo>
                  <a:lnTo>
                    <a:pt x="111" y="66"/>
                  </a:lnTo>
                  <a:lnTo>
                    <a:pt x="112" y="69"/>
                  </a:lnTo>
                  <a:lnTo>
                    <a:pt x="116" y="68"/>
                  </a:lnTo>
                  <a:lnTo>
                    <a:pt x="117" y="67"/>
                  </a:lnTo>
                  <a:lnTo>
                    <a:pt x="118" y="71"/>
                  </a:lnTo>
                  <a:lnTo>
                    <a:pt x="120" y="66"/>
                  </a:lnTo>
                  <a:lnTo>
                    <a:pt x="121" y="67"/>
                  </a:lnTo>
                  <a:lnTo>
                    <a:pt x="125" y="70"/>
                  </a:lnTo>
                  <a:lnTo>
                    <a:pt x="126" y="77"/>
                  </a:lnTo>
                  <a:lnTo>
                    <a:pt x="127" y="76"/>
                  </a:lnTo>
                  <a:lnTo>
                    <a:pt x="129" y="81"/>
                  </a:lnTo>
                  <a:lnTo>
                    <a:pt x="130" y="87"/>
                  </a:lnTo>
                  <a:lnTo>
                    <a:pt x="134" y="84"/>
                  </a:lnTo>
                  <a:lnTo>
                    <a:pt x="135" y="89"/>
                  </a:lnTo>
                  <a:lnTo>
                    <a:pt x="136" y="91"/>
                  </a:lnTo>
                  <a:lnTo>
                    <a:pt x="137" y="82"/>
                  </a:lnTo>
                  <a:lnTo>
                    <a:pt x="139" y="86"/>
                  </a:lnTo>
                  <a:lnTo>
                    <a:pt x="143" y="86"/>
                  </a:lnTo>
                  <a:lnTo>
                    <a:pt x="144" y="84"/>
                  </a:lnTo>
                  <a:lnTo>
                    <a:pt x="145" y="88"/>
                  </a:lnTo>
                  <a:lnTo>
                    <a:pt x="146" y="95"/>
                  </a:lnTo>
                  <a:lnTo>
                    <a:pt x="148" y="90"/>
                  </a:lnTo>
                  <a:lnTo>
                    <a:pt x="151" y="91"/>
                  </a:lnTo>
                  <a:lnTo>
                    <a:pt x="153" y="93"/>
                  </a:lnTo>
                  <a:lnTo>
                    <a:pt x="154" y="91"/>
                  </a:lnTo>
                  <a:lnTo>
                    <a:pt x="155" y="94"/>
                  </a:lnTo>
                  <a:lnTo>
                    <a:pt x="157" y="85"/>
                  </a:lnTo>
                  <a:lnTo>
                    <a:pt x="160" y="83"/>
                  </a:lnTo>
                  <a:lnTo>
                    <a:pt x="162" y="90"/>
                  </a:lnTo>
                  <a:lnTo>
                    <a:pt x="163" y="90"/>
                  </a:lnTo>
                  <a:lnTo>
                    <a:pt x="164" y="93"/>
                  </a:lnTo>
                  <a:lnTo>
                    <a:pt x="166" y="97"/>
                  </a:lnTo>
                  <a:lnTo>
                    <a:pt x="169" y="96"/>
                  </a:lnTo>
                  <a:lnTo>
                    <a:pt x="171" y="98"/>
                  </a:lnTo>
                  <a:lnTo>
                    <a:pt x="172" y="100"/>
                  </a:lnTo>
                  <a:lnTo>
                    <a:pt x="173" y="98"/>
                  </a:lnTo>
                  <a:lnTo>
                    <a:pt x="174" y="97"/>
                  </a:lnTo>
                  <a:lnTo>
                    <a:pt x="178" y="103"/>
                  </a:lnTo>
                  <a:lnTo>
                    <a:pt x="180" y="105"/>
                  </a:lnTo>
                  <a:lnTo>
                    <a:pt x="181" y="100"/>
                  </a:lnTo>
                  <a:lnTo>
                    <a:pt x="182" y="101"/>
                  </a:lnTo>
                  <a:lnTo>
                    <a:pt x="183" y="101"/>
                  </a:lnTo>
                  <a:lnTo>
                    <a:pt x="187" y="101"/>
                  </a:lnTo>
                  <a:lnTo>
                    <a:pt x="188" y="109"/>
                  </a:lnTo>
                  <a:lnTo>
                    <a:pt x="190" y="117"/>
                  </a:lnTo>
                  <a:lnTo>
                    <a:pt x="191" y="116"/>
                  </a:lnTo>
                  <a:lnTo>
                    <a:pt x="192" y="110"/>
                  </a:lnTo>
                  <a:lnTo>
                    <a:pt x="196" y="111"/>
                  </a:lnTo>
                  <a:lnTo>
                    <a:pt x="197" y="116"/>
                  </a:lnTo>
                  <a:lnTo>
                    <a:pt x="199" y="113"/>
                  </a:lnTo>
                  <a:lnTo>
                    <a:pt x="200" y="112"/>
                  </a:lnTo>
                  <a:lnTo>
                    <a:pt x="201" y="103"/>
                  </a:lnTo>
                  <a:lnTo>
                    <a:pt x="205" y="99"/>
                  </a:lnTo>
                  <a:lnTo>
                    <a:pt x="206" y="98"/>
                  </a:lnTo>
                  <a:lnTo>
                    <a:pt x="208" y="99"/>
                  </a:lnTo>
                  <a:lnTo>
                    <a:pt x="209" y="102"/>
                  </a:lnTo>
                  <a:lnTo>
                    <a:pt x="210" y="101"/>
                  </a:lnTo>
                  <a:lnTo>
                    <a:pt x="214" y="98"/>
                  </a:lnTo>
                  <a:lnTo>
                    <a:pt x="215" y="104"/>
                  </a:lnTo>
                  <a:lnTo>
                    <a:pt x="217" y="113"/>
                  </a:lnTo>
                  <a:lnTo>
                    <a:pt x="218" y="112"/>
                  </a:lnTo>
                  <a:lnTo>
                    <a:pt x="219" y="114"/>
                  </a:lnTo>
                  <a:lnTo>
                    <a:pt x="223" y="116"/>
                  </a:lnTo>
                  <a:lnTo>
                    <a:pt x="224" y="110"/>
                  </a:lnTo>
                  <a:lnTo>
                    <a:pt x="225" y="109"/>
                  </a:lnTo>
                  <a:lnTo>
                    <a:pt x="227" y="115"/>
                  </a:lnTo>
                  <a:lnTo>
                    <a:pt x="228" y="103"/>
                  </a:lnTo>
                  <a:lnTo>
                    <a:pt x="232" y="104"/>
                  </a:lnTo>
                  <a:lnTo>
                    <a:pt x="233" y="98"/>
                  </a:lnTo>
                  <a:lnTo>
                    <a:pt x="234" y="101"/>
                  </a:lnTo>
                  <a:lnTo>
                    <a:pt x="236" y="102"/>
                  </a:lnTo>
                  <a:lnTo>
                    <a:pt x="237" y="99"/>
                  </a:lnTo>
                  <a:lnTo>
                    <a:pt x="241" y="99"/>
                  </a:lnTo>
                  <a:lnTo>
                    <a:pt x="242" y="95"/>
                  </a:lnTo>
                  <a:lnTo>
                    <a:pt x="243" y="94"/>
                  </a:lnTo>
                  <a:lnTo>
                    <a:pt x="245" y="92"/>
                  </a:lnTo>
                  <a:lnTo>
                    <a:pt x="246" y="93"/>
                  </a:lnTo>
                  <a:lnTo>
                    <a:pt x="250" y="88"/>
                  </a:lnTo>
                  <a:lnTo>
                    <a:pt x="251" y="92"/>
                  </a:lnTo>
                  <a:lnTo>
                    <a:pt x="252" y="94"/>
                  </a:lnTo>
                  <a:lnTo>
                    <a:pt x="254" y="83"/>
                  </a:lnTo>
                  <a:lnTo>
                    <a:pt x="255" y="88"/>
                  </a:lnTo>
                  <a:lnTo>
                    <a:pt x="259" y="86"/>
                  </a:lnTo>
                  <a:lnTo>
                    <a:pt x="260" y="88"/>
                  </a:lnTo>
                  <a:lnTo>
                    <a:pt x="261" y="85"/>
                  </a:lnTo>
                  <a:lnTo>
                    <a:pt x="263" y="91"/>
                  </a:lnTo>
                  <a:lnTo>
                    <a:pt x="264" y="83"/>
                  </a:lnTo>
                  <a:lnTo>
                    <a:pt x="268" y="81"/>
                  </a:lnTo>
                  <a:lnTo>
                    <a:pt x="269" y="78"/>
                  </a:lnTo>
                  <a:lnTo>
                    <a:pt x="270" y="82"/>
                  </a:lnTo>
                  <a:lnTo>
                    <a:pt x="271" y="80"/>
                  </a:lnTo>
                  <a:lnTo>
                    <a:pt x="273" y="74"/>
                  </a:lnTo>
                  <a:lnTo>
                    <a:pt x="277" y="71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0" y="80"/>
                  </a:lnTo>
                  <a:lnTo>
                    <a:pt x="282" y="86"/>
                  </a:lnTo>
                  <a:lnTo>
                    <a:pt x="285" y="83"/>
                  </a:lnTo>
                  <a:lnTo>
                    <a:pt x="287" y="90"/>
                  </a:lnTo>
                  <a:lnTo>
                    <a:pt x="288" y="84"/>
                  </a:lnTo>
                  <a:lnTo>
                    <a:pt x="289" y="90"/>
                  </a:lnTo>
                  <a:lnTo>
                    <a:pt x="291" y="90"/>
                  </a:lnTo>
                  <a:lnTo>
                    <a:pt x="294" y="89"/>
                  </a:lnTo>
                  <a:lnTo>
                    <a:pt x="296" y="92"/>
                  </a:lnTo>
                  <a:lnTo>
                    <a:pt x="297" y="93"/>
                  </a:lnTo>
                  <a:lnTo>
                    <a:pt x="298" y="94"/>
                  </a:lnTo>
                  <a:lnTo>
                    <a:pt x="300" y="91"/>
                  </a:lnTo>
                  <a:lnTo>
                    <a:pt x="303" y="93"/>
                  </a:lnTo>
                  <a:lnTo>
                    <a:pt x="305" y="100"/>
                  </a:lnTo>
                  <a:lnTo>
                    <a:pt x="306" y="106"/>
                  </a:lnTo>
                  <a:lnTo>
                    <a:pt x="307" y="105"/>
                  </a:lnTo>
                  <a:lnTo>
                    <a:pt x="308" y="104"/>
                  </a:lnTo>
                  <a:lnTo>
                    <a:pt x="312" y="105"/>
                  </a:lnTo>
                  <a:lnTo>
                    <a:pt x="314" y="99"/>
                  </a:lnTo>
                  <a:lnTo>
                    <a:pt x="315" y="95"/>
                  </a:lnTo>
                  <a:lnTo>
                    <a:pt x="316" y="95"/>
                  </a:lnTo>
                  <a:lnTo>
                    <a:pt x="317" y="97"/>
                  </a:lnTo>
                  <a:lnTo>
                    <a:pt x="321" y="93"/>
                  </a:lnTo>
                  <a:lnTo>
                    <a:pt x="322" y="96"/>
                  </a:lnTo>
                  <a:lnTo>
                    <a:pt x="324" y="93"/>
                  </a:lnTo>
                  <a:lnTo>
                    <a:pt x="325" y="89"/>
                  </a:lnTo>
                  <a:lnTo>
                    <a:pt x="326" y="84"/>
                  </a:lnTo>
                  <a:lnTo>
                    <a:pt x="330" y="86"/>
                  </a:lnTo>
                  <a:lnTo>
                    <a:pt x="331" y="86"/>
                  </a:lnTo>
                  <a:lnTo>
                    <a:pt x="333" y="93"/>
                  </a:lnTo>
                  <a:lnTo>
                    <a:pt x="334" y="92"/>
                  </a:lnTo>
                  <a:lnTo>
                    <a:pt x="335" y="86"/>
                  </a:lnTo>
                  <a:lnTo>
                    <a:pt x="339" y="82"/>
                  </a:lnTo>
                  <a:lnTo>
                    <a:pt x="340" y="83"/>
                  </a:lnTo>
                  <a:lnTo>
                    <a:pt x="342" y="85"/>
                  </a:lnTo>
                  <a:lnTo>
                    <a:pt x="343" y="82"/>
                  </a:lnTo>
                  <a:lnTo>
                    <a:pt x="344" y="79"/>
                  </a:lnTo>
                  <a:lnTo>
                    <a:pt x="348" y="74"/>
                  </a:lnTo>
                  <a:lnTo>
                    <a:pt x="349" y="76"/>
                  </a:lnTo>
                  <a:lnTo>
                    <a:pt x="351" y="78"/>
                  </a:lnTo>
                  <a:lnTo>
                    <a:pt x="352" y="74"/>
                  </a:lnTo>
                  <a:lnTo>
                    <a:pt x="353" y="75"/>
                  </a:lnTo>
                  <a:lnTo>
                    <a:pt x="357" y="77"/>
                  </a:lnTo>
                  <a:lnTo>
                    <a:pt x="358" y="74"/>
                  </a:lnTo>
                  <a:lnTo>
                    <a:pt x="359" y="69"/>
                  </a:lnTo>
                  <a:lnTo>
                    <a:pt x="361" y="68"/>
                  </a:lnTo>
                  <a:lnTo>
                    <a:pt x="362" y="66"/>
                  </a:lnTo>
                  <a:lnTo>
                    <a:pt x="366" y="65"/>
                  </a:lnTo>
                  <a:lnTo>
                    <a:pt x="367" y="67"/>
                  </a:lnTo>
                  <a:lnTo>
                    <a:pt x="368" y="68"/>
                  </a:lnTo>
                  <a:lnTo>
                    <a:pt x="370" y="70"/>
                  </a:lnTo>
                  <a:lnTo>
                    <a:pt x="371" y="74"/>
                  </a:lnTo>
                  <a:lnTo>
                    <a:pt x="375" y="69"/>
                  </a:lnTo>
                  <a:lnTo>
                    <a:pt x="376" y="61"/>
                  </a:lnTo>
                  <a:lnTo>
                    <a:pt x="377" y="57"/>
                  </a:lnTo>
                  <a:lnTo>
                    <a:pt x="379" y="60"/>
                  </a:lnTo>
                  <a:lnTo>
                    <a:pt x="380" y="59"/>
                  </a:lnTo>
                  <a:lnTo>
                    <a:pt x="384" y="60"/>
                  </a:lnTo>
                  <a:lnTo>
                    <a:pt x="385" y="59"/>
                  </a:lnTo>
                  <a:lnTo>
                    <a:pt x="386" y="55"/>
                  </a:lnTo>
                  <a:lnTo>
                    <a:pt x="388" y="51"/>
                  </a:lnTo>
                  <a:lnTo>
                    <a:pt x="389" y="50"/>
                  </a:lnTo>
                  <a:lnTo>
                    <a:pt x="393" y="54"/>
                  </a:lnTo>
                  <a:lnTo>
                    <a:pt x="394" y="60"/>
                  </a:lnTo>
                  <a:lnTo>
                    <a:pt x="395" y="52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402" y="55"/>
                  </a:lnTo>
                  <a:lnTo>
                    <a:pt x="403" y="59"/>
                  </a:lnTo>
                  <a:lnTo>
                    <a:pt x="404" y="67"/>
                  </a:lnTo>
                  <a:lnTo>
                    <a:pt x="405" y="68"/>
                  </a:lnTo>
                  <a:lnTo>
                    <a:pt x="407" y="65"/>
                  </a:lnTo>
                  <a:lnTo>
                    <a:pt x="411" y="68"/>
                  </a:lnTo>
                  <a:lnTo>
                    <a:pt x="412" y="71"/>
                  </a:lnTo>
                  <a:lnTo>
                    <a:pt x="413" y="65"/>
                  </a:lnTo>
                  <a:lnTo>
                    <a:pt x="414" y="67"/>
                  </a:lnTo>
                  <a:lnTo>
                    <a:pt x="416" y="70"/>
                  </a:lnTo>
                  <a:lnTo>
                    <a:pt x="419" y="72"/>
                  </a:lnTo>
                  <a:lnTo>
                    <a:pt x="421" y="66"/>
                  </a:lnTo>
                  <a:lnTo>
                    <a:pt x="422" y="66"/>
                  </a:lnTo>
                  <a:lnTo>
                    <a:pt x="423" y="63"/>
                  </a:lnTo>
                  <a:lnTo>
                    <a:pt x="425" y="63"/>
                  </a:lnTo>
                  <a:lnTo>
                    <a:pt x="428" y="58"/>
                  </a:lnTo>
                  <a:lnTo>
                    <a:pt x="430" y="66"/>
                  </a:lnTo>
                  <a:lnTo>
                    <a:pt x="431" y="63"/>
                  </a:lnTo>
                  <a:lnTo>
                    <a:pt x="432" y="67"/>
                  </a:lnTo>
                  <a:lnTo>
                    <a:pt x="433" y="62"/>
                  </a:lnTo>
                  <a:lnTo>
                    <a:pt x="437" y="60"/>
                  </a:lnTo>
                  <a:lnTo>
                    <a:pt x="439" y="63"/>
                  </a:lnTo>
                  <a:lnTo>
                    <a:pt x="440" y="68"/>
                  </a:lnTo>
                  <a:lnTo>
                    <a:pt x="441" y="68"/>
                  </a:lnTo>
                  <a:lnTo>
                    <a:pt x="442" y="70"/>
                  </a:lnTo>
                  <a:lnTo>
                    <a:pt x="446" y="69"/>
                  </a:lnTo>
                  <a:lnTo>
                    <a:pt x="448" y="68"/>
                  </a:lnTo>
                  <a:lnTo>
                    <a:pt x="449" y="65"/>
                  </a:lnTo>
                  <a:lnTo>
                    <a:pt x="450" y="70"/>
                  </a:lnTo>
                  <a:lnTo>
                    <a:pt x="451" y="75"/>
                  </a:lnTo>
                  <a:lnTo>
                    <a:pt x="455" y="75"/>
                  </a:lnTo>
                  <a:lnTo>
                    <a:pt x="456" y="78"/>
                  </a:lnTo>
                  <a:lnTo>
                    <a:pt x="458" y="75"/>
                  </a:lnTo>
                  <a:lnTo>
                    <a:pt x="459" y="77"/>
                  </a:lnTo>
                  <a:lnTo>
                    <a:pt x="460" y="74"/>
                  </a:lnTo>
                  <a:lnTo>
                    <a:pt x="464" y="74"/>
                  </a:lnTo>
                  <a:lnTo>
                    <a:pt x="465" y="76"/>
                  </a:lnTo>
                  <a:lnTo>
                    <a:pt x="467" y="78"/>
                  </a:lnTo>
                  <a:lnTo>
                    <a:pt x="468" y="77"/>
                  </a:lnTo>
                  <a:lnTo>
                    <a:pt x="469" y="75"/>
                  </a:lnTo>
                  <a:lnTo>
                    <a:pt x="473" y="76"/>
                  </a:lnTo>
                  <a:lnTo>
                    <a:pt x="474" y="71"/>
                  </a:lnTo>
                  <a:lnTo>
                    <a:pt x="476" y="68"/>
                  </a:lnTo>
                  <a:lnTo>
                    <a:pt x="477" y="73"/>
                  </a:lnTo>
                  <a:lnTo>
                    <a:pt x="478" y="77"/>
                  </a:lnTo>
                  <a:lnTo>
                    <a:pt x="482" y="77"/>
                  </a:lnTo>
                  <a:lnTo>
                    <a:pt x="483" y="79"/>
                  </a:lnTo>
                  <a:lnTo>
                    <a:pt x="485" y="79"/>
                  </a:lnTo>
                  <a:lnTo>
                    <a:pt x="486" y="75"/>
                  </a:lnTo>
                  <a:lnTo>
                    <a:pt x="487" y="77"/>
                  </a:lnTo>
                  <a:lnTo>
                    <a:pt x="491" y="77"/>
                  </a:lnTo>
                  <a:lnTo>
                    <a:pt x="492" y="74"/>
                  </a:lnTo>
                  <a:lnTo>
                    <a:pt x="493" y="66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500" y="62"/>
                  </a:lnTo>
                  <a:lnTo>
                    <a:pt x="501" y="63"/>
                  </a:lnTo>
                  <a:lnTo>
                    <a:pt x="502" y="59"/>
                  </a:lnTo>
                  <a:lnTo>
                    <a:pt x="504" y="59"/>
                  </a:lnTo>
                  <a:lnTo>
                    <a:pt x="505" y="62"/>
                  </a:lnTo>
                  <a:lnTo>
                    <a:pt x="509" y="60"/>
                  </a:lnTo>
                  <a:lnTo>
                    <a:pt x="510" y="59"/>
                  </a:lnTo>
                  <a:lnTo>
                    <a:pt x="511" y="57"/>
                  </a:lnTo>
                  <a:lnTo>
                    <a:pt x="513" y="60"/>
                  </a:lnTo>
                  <a:lnTo>
                    <a:pt x="514" y="57"/>
                  </a:lnTo>
                  <a:lnTo>
                    <a:pt x="518" y="58"/>
                  </a:lnTo>
                  <a:lnTo>
                    <a:pt x="519" y="55"/>
                  </a:lnTo>
                  <a:lnTo>
                    <a:pt x="520" y="56"/>
                  </a:lnTo>
                  <a:lnTo>
                    <a:pt x="522" y="57"/>
                  </a:lnTo>
                  <a:lnTo>
                    <a:pt x="523" y="61"/>
                  </a:lnTo>
                  <a:lnTo>
                    <a:pt x="527" y="61"/>
                  </a:lnTo>
                  <a:lnTo>
                    <a:pt x="528" y="59"/>
                  </a:lnTo>
                  <a:lnTo>
                    <a:pt x="529" y="62"/>
                  </a:lnTo>
                  <a:lnTo>
                    <a:pt x="530" y="59"/>
                  </a:lnTo>
                  <a:lnTo>
                    <a:pt x="532" y="58"/>
                  </a:lnTo>
                  <a:lnTo>
                    <a:pt x="536" y="56"/>
                  </a:lnTo>
                  <a:lnTo>
                    <a:pt x="537" y="60"/>
                  </a:lnTo>
                  <a:lnTo>
                    <a:pt x="538" y="57"/>
                  </a:lnTo>
                  <a:lnTo>
                    <a:pt x="539" y="53"/>
                  </a:lnTo>
                  <a:lnTo>
                    <a:pt x="541" y="49"/>
                  </a:lnTo>
                  <a:lnTo>
                    <a:pt x="545" y="43"/>
                  </a:lnTo>
                  <a:lnTo>
                    <a:pt x="546" y="45"/>
                  </a:lnTo>
                  <a:lnTo>
                    <a:pt x="547" y="45"/>
                  </a:lnTo>
                  <a:lnTo>
                    <a:pt x="548" y="45"/>
                  </a:lnTo>
                  <a:lnTo>
                    <a:pt x="550" y="42"/>
                  </a:lnTo>
                  <a:lnTo>
                    <a:pt x="553" y="41"/>
                  </a:lnTo>
                  <a:lnTo>
                    <a:pt x="555" y="48"/>
                  </a:lnTo>
                  <a:lnTo>
                    <a:pt x="556" y="45"/>
                  </a:lnTo>
                  <a:lnTo>
                    <a:pt x="557" y="52"/>
                  </a:lnTo>
                  <a:lnTo>
                    <a:pt x="559" y="49"/>
                  </a:lnTo>
                  <a:lnTo>
                    <a:pt x="562" y="51"/>
                  </a:lnTo>
                  <a:lnTo>
                    <a:pt x="564" y="45"/>
                  </a:lnTo>
                  <a:lnTo>
                    <a:pt x="565" y="47"/>
                  </a:lnTo>
                  <a:lnTo>
                    <a:pt x="566" y="44"/>
                  </a:lnTo>
                  <a:lnTo>
                    <a:pt x="567" y="50"/>
                  </a:lnTo>
                  <a:lnTo>
                    <a:pt x="571" y="47"/>
                  </a:lnTo>
                  <a:lnTo>
                    <a:pt x="573" y="40"/>
                  </a:lnTo>
                  <a:lnTo>
                    <a:pt x="574" y="38"/>
                  </a:lnTo>
                  <a:lnTo>
                    <a:pt x="575" y="34"/>
                  </a:lnTo>
                  <a:lnTo>
                    <a:pt x="576" y="34"/>
                  </a:lnTo>
                  <a:lnTo>
                    <a:pt x="580" y="33"/>
                  </a:lnTo>
                  <a:lnTo>
                    <a:pt x="582" y="33"/>
                  </a:lnTo>
                  <a:lnTo>
                    <a:pt x="583" y="35"/>
                  </a:lnTo>
                  <a:lnTo>
                    <a:pt x="584" y="30"/>
                  </a:lnTo>
                  <a:lnTo>
                    <a:pt x="585" y="23"/>
                  </a:lnTo>
                  <a:lnTo>
                    <a:pt x="589" y="25"/>
                  </a:lnTo>
                  <a:lnTo>
                    <a:pt x="590" y="28"/>
                  </a:lnTo>
                  <a:lnTo>
                    <a:pt x="592" y="23"/>
                  </a:lnTo>
                  <a:lnTo>
                    <a:pt x="593" y="17"/>
                  </a:lnTo>
                  <a:lnTo>
                    <a:pt x="594" y="17"/>
                  </a:lnTo>
                  <a:lnTo>
                    <a:pt x="598" y="21"/>
                  </a:lnTo>
                  <a:lnTo>
                    <a:pt x="599" y="23"/>
                  </a:lnTo>
                  <a:lnTo>
                    <a:pt x="601" y="19"/>
                  </a:lnTo>
                  <a:lnTo>
                    <a:pt x="602" y="18"/>
                  </a:lnTo>
                  <a:lnTo>
                    <a:pt x="603" y="20"/>
                  </a:lnTo>
                  <a:lnTo>
                    <a:pt x="607" y="23"/>
                  </a:lnTo>
                  <a:lnTo>
                    <a:pt x="608" y="15"/>
                  </a:lnTo>
                  <a:lnTo>
                    <a:pt x="610" y="12"/>
                  </a:lnTo>
                  <a:lnTo>
                    <a:pt x="611" y="15"/>
                  </a:lnTo>
                  <a:lnTo>
                    <a:pt x="612" y="17"/>
                  </a:lnTo>
                  <a:lnTo>
                    <a:pt x="616" y="9"/>
                  </a:lnTo>
                  <a:lnTo>
                    <a:pt x="617" y="12"/>
                  </a:lnTo>
                  <a:lnTo>
                    <a:pt x="619" y="9"/>
                  </a:lnTo>
                  <a:lnTo>
                    <a:pt x="620" y="8"/>
                  </a:lnTo>
                  <a:lnTo>
                    <a:pt x="621" y="12"/>
                  </a:lnTo>
                  <a:lnTo>
                    <a:pt x="625" y="11"/>
                  </a:lnTo>
                  <a:lnTo>
                    <a:pt x="626" y="11"/>
                  </a:lnTo>
                  <a:lnTo>
                    <a:pt x="627" y="10"/>
                  </a:lnTo>
                  <a:lnTo>
                    <a:pt x="629" y="8"/>
                  </a:lnTo>
                  <a:lnTo>
                    <a:pt x="630" y="4"/>
                  </a:lnTo>
                  <a:lnTo>
                    <a:pt x="634" y="8"/>
                  </a:lnTo>
                  <a:lnTo>
                    <a:pt x="635" y="13"/>
                  </a:lnTo>
                  <a:lnTo>
                    <a:pt x="636" y="9"/>
                  </a:lnTo>
                  <a:lnTo>
                    <a:pt x="638" y="16"/>
                  </a:lnTo>
                  <a:lnTo>
                    <a:pt x="639" y="16"/>
                  </a:lnTo>
                  <a:lnTo>
                    <a:pt x="643" y="18"/>
                  </a:lnTo>
                  <a:lnTo>
                    <a:pt x="644" y="20"/>
                  </a:lnTo>
                  <a:lnTo>
                    <a:pt x="645" y="18"/>
                  </a:lnTo>
                  <a:lnTo>
                    <a:pt x="647" y="15"/>
                  </a:lnTo>
                  <a:lnTo>
                    <a:pt x="648" y="17"/>
                  </a:lnTo>
                  <a:lnTo>
                    <a:pt x="652" y="17"/>
                  </a:lnTo>
                  <a:lnTo>
                    <a:pt x="653" y="14"/>
                  </a:lnTo>
                  <a:lnTo>
                    <a:pt x="654" y="11"/>
                  </a:lnTo>
                  <a:lnTo>
                    <a:pt x="656" y="13"/>
                  </a:lnTo>
                  <a:lnTo>
                    <a:pt x="657" y="22"/>
                  </a:lnTo>
                  <a:lnTo>
                    <a:pt x="661" y="19"/>
                  </a:lnTo>
                  <a:lnTo>
                    <a:pt x="662" y="21"/>
                  </a:lnTo>
                  <a:lnTo>
                    <a:pt x="663" y="19"/>
                  </a:lnTo>
                  <a:lnTo>
                    <a:pt x="664" y="22"/>
                  </a:lnTo>
                  <a:lnTo>
                    <a:pt x="666" y="23"/>
                  </a:lnTo>
                  <a:lnTo>
                    <a:pt x="670" y="23"/>
                  </a:lnTo>
                  <a:lnTo>
                    <a:pt x="671" y="24"/>
                  </a:lnTo>
                  <a:lnTo>
                    <a:pt x="672" y="16"/>
                  </a:lnTo>
                  <a:lnTo>
                    <a:pt x="673" y="13"/>
                  </a:lnTo>
                  <a:lnTo>
                    <a:pt x="675" y="10"/>
                  </a:lnTo>
                  <a:lnTo>
                    <a:pt x="678" y="9"/>
                  </a:lnTo>
                  <a:lnTo>
                    <a:pt x="680" y="8"/>
                  </a:lnTo>
                  <a:lnTo>
                    <a:pt x="681" y="8"/>
                  </a:lnTo>
                  <a:lnTo>
                    <a:pt x="682" y="3"/>
                  </a:lnTo>
                  <a:lnTo>
                    <a:pt x="684" y="2"/>
                  </a:lnTo>
                  <a:lnTo>
                    <a:pt x="687" y="1"/>
                  </a:lnTo>
                  <a:lnTo>
                    <a:pt x="689" y="4"/>
                  </a:lnTo>
                  <a:lnTo>
                    <a:pt x="690" y="0"/>
                  </a:lnTo>
                  <a:lnTo>
                    <a:pt x="691" y="4"/>
                  </a:lnTo>
                  <a:lnTo>
                    <a:pt x="693" y="9"/>
                  </a:lnTo>
                  <a:lnTo>
                    <a:pt x="696" y="8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4200" y="51595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4200" y="46512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4200" y="41418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4200" y="363384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4200" y="311292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200" y="260496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4200" y="2097000"/>
              <a:ext cx="29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636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3920" y="548964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364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8120" y="5489640"/>
              <a:ext cx="57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54440" y="548964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0720" y="5489640"/>
              <a:ext cx="57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3160" y="548964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  </a:t>
              </a: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28000" y="2133720"/>
              <a:ext cx="0" cy="331128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312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Tasas de Interés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ero 2005 - julio 2006, porcenta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569520" y="2206800"/>
            <a:ext cx="8001360" cy="3958920"/>
            <a:chOff x="569520" y="2206800"/>
            <a:chExt cx="8001360" cy="3958920"/>
          </a:xfrm>
        </p:grpSpPr>
        <p:sp>
          <p:nvSpPr>
            <p:cNvPr id="335" name=""/>
            <p:cNvSpPr/>
            <p:nvPr/>
          </p:nvSpPr>
          <p:spPr>
            <a:xfrm>
              <a:off x="3205080" y="6165720"/>
              <a:ext cx="28728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9520" y="2269800"/>
              <a:ext cx="8001360" cy="3654360"/>
              <a:chOff x="569520" y="2269800"/>
              <a:chExt cx="8001360" cy="3654360"/>
            </a:xfrm>
          </p:grpSpPr>
          <p:sp>
            <p:nvSpPr>
              <p:cNvPr id="337" name=""/>
              <p:cNvSpPr/>
              <p:nvPr/>
            </p:nvSpPr>
            <p:spPr>
              <a:xfrm>
                <a:off x="984240" y="50713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84240" y="461700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84240" y="416232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84240" y="370620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84240" y="325152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84240" y="2796840"/>
                <a:ext cx="7383240" cy="144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984240" y="2342880"/>
                <a:ext cx="7383240" cy="1080"/>
              </a:xfrm>
              <a:prstGeom prst="line">
                <a:avLst/>
              </a:prstGeom>
              <a:ln w="11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84240" y="5525640"/>
                <a:ext cx="7383240" cy="144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98424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220032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4318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46767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919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37360" y="5525280"/>
                <a:ext cx="144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8367480" y="5525280"/>
                <a:ext cx="1800" cy="37800"/>
              </a:xfrm>
              <a:prstGeom prst="line">
                <a:avLst/>
              </a:prstGeom>
              <a:ln w="11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84240" y="2385000"/>
                <a:ext cx="7383240" cy="3089160"/>
              </a:xfrm>
              <a:custGeom>
                <a:avLst/>
                <a:gdLst/>
                <a:ahLst/>
                <a:rect l="l" t="t" r="r" b="b"/>
                <a:pathLst>
                  <a:path w="5065" h="3208">
                    <a:moveTo>
                      <a:pt x="0" y="2298"/>
                    </a:moveTo>
                    <a:lnTo>
                      <a:pt x="9" y="2322"/>
                    </a:lnTo>
                    <a:lnTo>
                      <a:pt x="19" y="2296"/>
                    </a:lnTo>
                    <a:lnTo>
                      <a:pt x="28" y="2416"/>
                    </a:lnTo>
                    <a:lnTo>
                      <a:pt x="37" y="2438"/>
                    </a:lnTo>
                    <a:lnTo>
                      <a:pt x="65" y="2499"/>
                    </a:lnTo>
                    <a:lnTo>
                      <a:pt x="74" y="2508"/>
                    </a:lnTo>
                    <a:lnTo>
                      <a:pt x="83" y="2657"/>
                    </a:lnTo>
                    <a:lnTo>
                      <a:pt x="93" y="2591"/>
                    </a:lnTo>
                    <a:lnTo>
                      <a:pt x="102" y="2688"/>
                    </a:lnTo>
                    <a:lnTo>
                      <a:pt x="130" y="2688"/>
                    </a:lnTo>
                    <a:lnTo>
                      <a:pt x="139" y="2679"/>
                    </a:lnTo>
                    <a:lnTo>
                      <a:pt x="148" y="2511"/>
                    </a:lnTo>
                    <a:lnTo>
                      <a:pt x="158" y="2357"/>
                    </a:lnTo>
                    <a:lnTo>
                      <a:pt x="167" y="2232"/>
                    </a:lnTo>
                    <a:lnTo>
                      <a:pt x="195" y="2164"/>
                    </a:lnTo>
                    <a:lnTo>
                      <a:pt x="204" y="2303"/>
                    </a:lnTo>
                    <a:lnTo>
                      <a:pt x="213" y="2449"/>
                    </a:lnTo>
                    <a:lnTo>
                      <a:pt x="223" y="2497"/>
                    </a:lnTo>
                    <a:lnTo>
                      <a:pt x="232" y="2497"/>
                    </a:lnTo>
                    <a:lnTo>
                      <a:pt x="260" y="2596"/>
                    </a:lnTo>
                    <a:lnTo>
                      <a:pt x="269" y="2782"/>
                    </a:lnTo>
                    <a:lnTo>
                      <a:pt x="278" y="2870"/>
                    </a:lnTo>
                    <a:lnTo>
                      <a:pt x="288" y="2839"/>
                    </a:lnTo>
                    <a:lnTo>
                      <a:pt x="297" y="2976"/>
                    </a:lnTo>
                    <a:lnTo>
                      <a:pt x="325" y="2853"/>
                    </a:lnTo>
                    <a:lnTo>
                      <a:pt x="334" y="2884"/>
                    </a:lnTo>
                    <a:lnTo>
                      <a:pt x="343" y="2790"/>
                    </a:lnTo>
                    <a:lnTo>
                      <a:pt x="353" y="2905"/>
                    </a:lnTo>
                    <a:lnTo>
                      <a:pt x="362" y="2924"/>
                    </a:lnTo>
                    <a:lnTo>
                      <a:pt x="390" y="2903"/>
                    </a:lnTo>
                    <a:lnTo>
                      <a:pt x="399" y="2962"/>
                    </a:lnTo>
                    <a:lnTo>
                      <a:pt x="408" y="3002"/>
                    </a:lnTo>
                    <a:lnTo>
                      <a:pt x="417" y="2844"/>
                    </a:lnTo>
                    <a:lnTo>
                      <a:pt x="427" y="2983"/>
                    </a:lnTo>
                    <a:lnTo>
                      <a:pt x="455" y="2983"/>
                    </a:lnTo>
                    <a:lnTo>
                      <a:pt x="464" y="2520"/>
                    </a:lnTo>
                    <a:lnTo>
                      <a:pt x="473" y="2697"/>
                    </a:lnTo>
                    <a:lnTo>
                      <a:pt x="482" y="2891"/>
                    </a:lnTo>
                    <a:lnTo>
                      <a:pt x="492" y="2910"/>
                    </a:lnTo>
                    <a:lnTo>
                      <a:pt x="519" y="2771"/>
                    </a:lnTo>
                    <a:lnTo>
                      <a:pt x="529" y="2780"/>
                    </a:lnTo>
                    <a:lnTo>
                      <a:pt x="538" y="2671"/>
                    </a:lnTo>
                    <a:lnTo>
                      <a:pt x="547" y="2570"/>
                    </a:lnTo>
                    <a:lnTo>
                      <a:pt x="557" y="2804"/>
                    </a:lnTo>
                    <a:lnTo>
                      <a:pt x="584" y="2728"/>
                    </a:lnTo>
                    <a:lnTo>
                      <a:pt x="594" y="2695"/>
                    </a:lnTo>
                    <a:lnTo>
                      <a:pt x="603" y="2624"/>
                    </a:lnTo>
                    <a:lnTo>
                      <a:pt x="612" y="2674"/>
                    </a:lnTo>
                    <a:lnTo>
                      <a:pt x="622" y="2601"/>
                    </a:lnTo>
                    <a:lnTo>
                      <a:pt x="649" y="2697"/>
                    </a:lnTo>
                    <a:lnTo>
                      <a:pt x="659" y="2518"/>
                    </a:lnTo>
                    <a:lnTo>
                      <a:pt x="668" y="2438"/>
                    </a:lnTo>
                    <a:lnTo>
                      <a:pt x="677" y="2485"/>
                    </a:lnTo>
                    <a:lnTo>
                      <a:pt x="686" y="2520"/>
                    </a:lnTo>
                    <a:lnTo>
                      <a:pt x="714" y="2409"/>
                    </a:lnTo>
                    <a:lnTo>
                      <a:pt x="724" y="2253"/>
                    </a:lnTo>
                    <a:lnTo>
                      <a:pt x="733" y="2303"/>
                    </a:lnTo>
                    <a:lnTo>
                      <a:pt x="742" y="2454"/>
                    </a:lnTo>
                    <a:lnTo>
                      <a:pt x="751" y="2454"/>
                    </a:lnTo>
                    <a:lnTo>
                      <a:pt x="779" y="2376"/>
                    </a:lnTo>
                    <a:lnTo>
                      <a:pt x="789" y="2201"/>
                    </a:lnTo>
                    <a:lnTo>
                      <a:pt x="798" y="2402"/>
                    </a:lnTo>
                    <a:lnTo>
                      <a:pt x="807" y="2312"/>
                    </a:lnTo>
                    <a:lnTo>
                      <a:pt x="816" y="2296"/>
                    </a:lnTo>
                    <a:lnTo>
                      <a:pt x="844" y="2291"/>
                    </a:lnTo>
                    <a:lnTo>
                      <a:pt x="853" y="2393"/>
                    </a:lnTo>
                    <a:lnTo>
                      <a:pt x="863" y="2518"/>
                    </a:lnTo>
                    <a:lnTo>
                      <a:pt x="872" y="2712"/>
                    </a:lnTo>
                    <a:lnTo>
                      <a:pt x="881" y="2643"/>
                    </a:lnTo>
                    <a:lnTo>
                      <a:pt x="909" y="2794"/>
                    </a:lnTo>
                    <a:lnTo>
                      <a:pt x="918" y="2955"/>
                    </a:lnTo>
                    <a:lnTo>
                      <a:pt x="928" y="2480"/>
                    </a:lnTo>
                    <a:lnTo>
                      <a:pt x="937" y="2192"/>
                    </a:lnTo>
                    <a:lnTo>
                      <a:pt x="946" y="1434"/>
                    </a:lnTo>
                    <a:lnTo>
                      <a:pt x="974" y="1712"/>
                    </a:lnTo>
                    <a:lnTo>
                      <a:pt x="983" y="2090"/>
                    </a:lnTo>
                    <a:lnTo>
                      <a:pt x="993" y="1627"/>
                    </a:lnTo>
                    <a:lnTo>
                      <a:pt x="1002" y="2220"/>
                    </a:lnTo>
                    <a:lnTo>
                      <a:pt x="1011" y="1991"/>
                    </a:lnTo>
                    <a:lnTo>
                      <a:pt x="1039" y="2171"/>
                    </a:lnTo>
                    <a:lnTo>
                      <a:pt x="1048" y="2102"/>
                    </a:lnTo>
                    <a:lnTo>
                      <a:pt x="1058" y="2112"/>
                    </a:lnTo>
                    <a:lnTo>
                      <a:pt x="1067" y="1642"/>
                    </a:lnTo>
                    <a:lnTo>
                      <a:pt x="1076" y="2008"/>
                    </a:lnTo>
                    <a:lnTo>
                      <a:pt x="1104" y="2053"/>
                    </a:lnTo>
                    <a:lnTo>
                      <a:pt x="1113" y="2192"/>
                    </a:lnTo>
                    <a:lnTo>
                      <a:pt x="1122" y="2353"/>
                    </a:lnTo>
                    <a:lnTo>
                      <a:pt x="1132" y="2322"/>
                    </a:lnTo>
                    <a:lnTo>
                      <a:pt x="1141" y="2305"/>
                    </a:lnTo>
                    <a:lnTo>
                      <a:pt x="1169" y="2376"/>
                    </a:lnTo>
                    <a:lnTo>
                      <a:pt x="1178" y="2102"/>
                    </a:lnTo>
                    <a:lnTo>
                      <a:pt x="1187" y="2211"/>
                    </a:lnTo>
                    <a:lnTo>
                      <a:pt x="1197" y="1816"/>
                    </a:lnTo>
                    <a:lnTo>
                      <a:pt x="1206" y="1769"/>
                    </a:lnTo>
                    <a:lnTo>
                      <a:pt x="1234" y="1920"/>
                    </a:lnTo>
                    <a:lnTo>
                      <a:pt x="1243" y="2183"/>
                    </a:lnTo>
                    <a:lnTo>
                      <a:pt x="1252" y="2405"/>
                    </a:lnTo>
                    <a:lnTo>
                      <a:pt x="1262" y="2478"/>
                    </a:lnTo>
                    <a:lnTo>
                      <a:pt x="1271" y="2520"/>
                    </a:lnTo>
                    <a:lnTo>
                      <a:pt x="1299" y="2565"/>
                    </a:lnTo>
                    <a:lnTo>
                      <a:pt x="1308" y="2627"/>
                    </a:lnTo>
                    <a:lnTo>
                      <a:pt x="1317" y="2653"/>
                    </a:lnTo>
                    <a:lnTo>
                      <a:pt x="1327" y="2733"/>
                    </a:lnTo>
                    <a:lnTo>
                      <a:pt x="1336" y="2754"/>
                    </a:lnTo>
                    <a:lnTo>
                      <a:pt x="1364" y="2754"/>
                    </a:lnTo>
                    <a:lnTo>
                      <a:pt x="1373" y="2485"/>
                    </a:lnTo>
                    <a:lnTo>
                      <a:pt x="1382" y="2705"/>
                    </a:lnTo>
                    <a:lnTo>
                      <a:pt x="1391" y="2827"/>
                    </a:lnTo>
                    <a:lnTo>
                      <a:pt x="1401" y="2754"/>
                    </a:lnTo>
                    <a:lnTo>
                      <a:pt x="1429" y="2723"/>
                    </a:lnTo>
                    <a:lnTo>
                      <a:pt x="1438" y="2697"/>
                    </a:lnTo>
                    <a:lnTo>
                      <a:pt x="1447" y="2624"/>
                    </a:lnTo>
                    <a:lnTo>
                      <a:pt x="1456" y="2771"/>
                    </a:lnTo>
                    <a:lnTo>
                      <a:pt x="1466" y="2799"/>
                    </a:lnTo>
                    <a:lnTo>
                      <a:pt x="1494" y="2872"/>
                    </a:lnTo>
                    <a:lnTo>
                      <a:pt x="1503" y="2839"/>
                    </a:lnTo>
                    <a:lnTo>
                      <a:pt x="1512" y="2917"/>
                    </a:lnTo>
                    <a:lnTo>
                      <a:pt x="1521" y="2990"/>
                    </a:lnTo>
                    <a:lnTo>
                      <a:pt x="1531" y="2912"/>
                    </a:lnTo>
                    <a:lnTo>
                      <a:pt x="1558" y="2915"/>
                    </a:lnTo>
                    <a:lnTo>
                      <a:pt x="1568" y="3007"/>
                    </a:lnTo>
                    <a:lnTo>
                      <a:pt x="1577" y="3014"/>
                    </a:lnTo>
                    <a:lnTo>
                      <a:pt x="1586" y="2759"/>
                    </a:lnTo>
                    <a:lnTo>
                      <a:pt x="1596" y="2747"/>
                    </a:lnTo>
                    <a:lnTo>
                      <a:pt x="1623" y="2667"/>
                    </a:lnTo>
                    <a:lnTo>
                      <a:pt x="1633" y="2889"/>
                    </a:lnTo>
                    <a:lnTo>
                      <a:pt x="1642" y="2844"/>
                    </a:lnTo>
                    <a:lnTo>
                      <a:pt x="1651" y="2780"/>
                    </a:lnTo>
                    <a:lnTo>
                      <a:pt x="1661" y="2931"/>
                    </a:lnTo>
                    <a:lnTo>
                      <a:pt x="1688" y="2931"/>
                    </a:lnTo>
                    <a:lnTo>
                      <a:pt x="1698" y="2865"/>
                    </a:lnTo>
                    <a:lnTo>
                      <a:pt x="1707" y="2726"/>
                    </a:lnTo>
                    <a:lnTo>
                      <a:pt x="1716" y="2674"/>
                    </a:lnTo>
                    <a:lnTo>
                      <a:pt x="1725" y="2919"/>
                    </a:lnTo>
                    <a:lnTo>
                      <a:pt x="1753" y="2960"/>
                    </a:lnTo>
                    <a:lnTo>
                      <a:pt x="1763" y="3038"/>
                    </a:lnTo>
                    <a:lnTo>
                      <a:pt x="1772" y="3064"/>
                    </a:lnTo>
                    <a:lnTo>
                      <a:pt x="1781" y="3071"/>
                    </a:lnTo>
                    <a:lnTo>
                      <a:pt x="1790" y="3184"/>
                    </a:lnTo>
                    <a:lnTo>
                      <a:pt x="1818" y="3080"/>
                    </a:lnTo>
                    <a:lnTo>
                      <a:pt x="1827" y="3156"/>
                    </a:lnTo>
                    <a:lnTo>
                      <a:pt x="1837" y="3208"/>
                    </a:lnTo>
                    <a:lnTo>
                      <a:pt x="1846" y="3033"/>
                    </a:lnTo>
                    <a:lnTo>
                      <a:pt x="1855" y="3139"/>
                    </a:lnTo>
                    <a:lnTo>
                      <a:pt x="1883" y="3002"/>
                    </a:lnTo>
                    <a:lnTo>
                      <a:pt x="1892" y="3028"/>
                    </a:lnTo>
                    <a:lnTo>
                      <a:pt x="1902" y="3177"/>
                    </a:lnTo>
                    <a:lnTo>
                      <a:pt x="1911" y="3139"/>
                    </a:lnTo>
                    <a:lnTo>
                      <a:pt x="1920" y="2891"/>
                    </a:lnTo>
                    <a:lnTo>
                      <a:pt x="1948" y="2771"/>
                    </a:lnTo>
                    <a:lnTo>
                      <a:pt x="1957" y="2849"/>
                    </a:lnTo>
                    <a:lnTo>
                      <a:pt x="1967" y="2849"/>
                    </a:lnTo>
                    <a:lnTo>
                      <a:pt x="1976" y="2667"/>
                    </a:lnTo>
                    <a:lnTo>
                      <a:pt x="1985" y="2676"/>
                    </a:lnTo>
                    <a:lnTo>
                      <a:pt x="2013" y="2504"/>
                    </a:lnTo>
                    <a:lnTo>
                      <a:pt x="2022" y="2695"/>
                    </a:lnTo>
                    <a:lnTo>
                      <a:pt x="2032" y="2700"/>
                    </a:lnTo>
                    <a:lnTo>
                      <a:pt x="2041" y="2690"/>
                    </a:lnTo>
                    <a:lnTo>
                      <a:pt x="2050" y="2615"/>
                    </a:lnTo>
                    <a:lnTo>
                      <a:pt x="2078" y="2728"/>
                    </a:lnTo>
                    <a:lnTo>
                      <a:pt x="2087" y="2431"/>
                    </a:lnTo>
                    <a:lnTo>
                      <a:pt x="2097" y="2482"/>
                    </a:lnTo>
                    <a:lnTo>
                      <a:pt x="2106" y="2454"/>
                    </a:lnTo>
                    <a:lnTo>
                      <a:pt x="2115" y="2454"/>
                    </a:lnTo>
                    <a:lnTo>
                      <a:pt x="2143" y="2454"/>
                    </a:lnTo>
                    <a:lnTo>
                      <a:pt x="2152" y="2473"/>
                    </a:lnTo>
                    <a:lnTo>
                      <a:pt x="2161" y="2277"/>
                    </a:lnTo>
                    <a:lnTo>
                      <a:pt x="2171" y="2381"/>
                    </a:lnTo>
                    <a:lnTo>
                      <a:pt x="2180" y="2383"/>
                    </a:lnTo>
                    <a:lnTo>
                      <a:pt x="2208" y="2431"/>
                    </a:lnTo>
                    <a:lnTo>
                      <a:pt x="2217" y="2400"/>
                    </a:lnTo>
                    <a:lnTo>
                      <a:pt x="2226" y="2648"/>
                    </a:lnTo>
                    <a:lnTo>
                      <a:pt x="2236" y="2518"/>
                    </a:lnTo>
                    <a:lnTo>
                      <a:pt x="2245" y="2419"/>
                    </a:lnTo>
                    <a:lnTo>
                      <a:pt x="2273" y="2419"/>
                    </a:lnTo>
                    <a:lnTo>
                      <a:pt x="2282" y="2570"/>
                    </a:lnTo>
                    <a:lnTo>
                      <a:pt x="2291" y="2667"/>
                    </a:lnTo>
                    <a:lnTo>
                      <a:pt x="2301" y="2570"/>
                    </a:lnTo>
                    <a:lnTo>
                      <a:pt x="2310" y="2794"/>
                    </a:lnTo>
                    <a:lnTo>
                      <a:pt x="2338" y="2872"/>
                    </a:lnTo>
                    <a:lnTo>
                      <a:pt x="2347" y="2697"/>
                    </a:lnTo>
                    <a:lnTo>
                      <a:pt x="2356" y="2575"/>
                    </a:lnTo>
                    <a:lnTo>
                      <a:pt x="2366" y="2674"/>
                    </a:lnTo>
                    <a:lnTo>
                      <a:pt x="2375" y="2974"/>
                    </a:lnTo>
                    <a:lnTo>
                      <a:pt x="2403" y="2757"/>
                    </a:lnTo>
                    <a:lnTo>
                      <a:pt x="2412" y="2638"/>
                    </a:lnTo>
                    <a:lnTo>
                      <a:pt x="2421" y="2367"/>
                    </a:lnTo>
                    <a:lnTo>
                      <a:pt x="2430" y="2475"/>
                    </a:lnTo>
                    <a:lnTo>
                      <a:pt x="2440" y="2563"/>
                    </a:lnTo>
                    <a:lnTo>
                      <a:pt x="2468" y="2544"/>
                    </a:lnTo>
                    <a:lnTo>
                      <a:pt x="2477" y="2610"/>
                    </a:lnTo>
                    <a:lnTo>
                      <a:pt x="2486" y="2641"/>
                    </a:lnTo>
                    <a:lnTo>
                      <a:pt x="2495" y="2733"/>
                    </a:lnTo>
                    <a:lnTo>
                      <a:pt x="2505" y="2808"/>
                    </a:lnTo>
                    <a:lnTo>
                      <a:pt x="2533" y="2681"/>
                    </a:lnTo>
                    <a:lnTo>
                      <a:pt x="2542" y="2506"/>
                    </a:lnTo>
                    <a:lnTo>
                      <a:pt x="2551" y="2187"/>
                    </a:lnTo>
                    <a:lnTo>
                      <a:pt x="2560" y="2090"/>
                    </a:lnTo>
                    <a:lnTo>
                      <a:pt x="2570" y="2178"/>
                    </a:lnTo>
                    <a:lnTo>
                      <a:pt x="2597" y="1951"/>
                    </a:lnTo>
                    <a:lnTo>
                      <a:pt x="2607" y="1932"/>
                    </a:lnTo>
                    <a:lnTo>
                      <a:pt x="2616" y="1793"/>
                    </a:lnTo>
                    <a:lnTo>
                      <a:pt x="2625" y="1734"/>
                    </a:lnTo>
                    <a:lnTo>
                      <a:pt x="2635" y="2112"/>
                    </a:lnTo>
                    <a:lnTo>
                      <a:pt x="2662" y="2159"/>
                    </a:lnTo>
                    <a:lnTo>
                      <a:pt x="2672" y="2003"/>
                    </a:lnTo>
                    <a:lnTo>
                      <a:pt x="2681" y="2435"/>
                    </a:lnTo>
                    <a:lnTo>
                      <a:pt x="2690" y="1819"/>
                    </a:lnTo>
                    <a:lnTo>
                      <a:pt x="2699" y="1814"/>
                    </a:lnTo>
                    <a:lnTo>
                      <a:pt x="2727" y="2142"/>
                    </a:lnTo>
                    <a:lnTo>
                      <a:pt x="2737" y="2192"/>
                    </a:lnTo>
                    <a:lnTo>
                      <a:pt x="2746" y="2178"/>
                    </a:lnTo>
                    <a:lnTo>
                      <a:pt x="2755" y="1840"/>
                    </a:lnTo>
                    <a:lnTo>
                      <a:pt x="2764" y="2258"/>
                    </a:lnTo>
                    <a:lnTo>
                      <a:pt x="2792" y="2005"/>
                    </a:lnTo>
                    <a:lnTo>
                      <a:pt x="2802" y="2116"/>
                    </a:lnTo>
                    <a:lnTo>
                      <a:pt x="2811" y="2440"/>
                    </a:lnTo>
                    <a:lnTo>
                      <a:pt x="2820" y="2553"/>
                    </a:lnTo>
                    <a:lnTo>
                      <a:pt x="2829" y="2513"/>
                    </a:lnTo>
                    <a:lnTo>
                      <a:pt x="2857" y="2530"/>
                    </a:lnTo>
                    <a:lnTo>
                      <a:pt x="2866" y="2534"/>
                    </a:lnTo>
                    <a:lnTo>
                      <a:pt x="2876" y="2601"/>
                    </a:lnTo>
                    <a:lnTo>
                      <a:pt x="2885" y="2813"/>
                    </a:lnTo>
                    <a:lnTo>
                      <a:pt x="2894" y="2877"/>
                    </a:lnTo>
                    <a:lnTo>
                      <a:pt x="2922" y="2747"/>
                    </a:lnTo>
                    <a:lnTo>
                      <a:pt x="2931" y="2735"/>
                    </a:lnTo>
                    <a:lnTo>
                      <a:pt x="2941" y="2728"/>
                    </a:lnTo>
                    <a:lnTo>
                      <a:pt x="2950" y="2967"/>
                    </a:lnTo>
                    <a:lnTo>
                      <a:pt x="2959" y="2997"/>
                    </a:lnTo>
                    <a:lnTo>
                      <a:pt x="2987" y="3068"/>
                    </a:lnTo>
                    <a:lnTo>
                      <a:pt x="2996" y="3120"/>
                    </a:lnTo>
                    <a:lnTo>
                      <a:pt x="3006" y="3035"/>
                    </a:lnTo>
                    <a:lnTo>
                      <a:pt x="3015" y="3035"/>
                    </a:lnTo>
                    <a:lnTo>
                      <a:pt x="3024" y="3054"/>
                    </a:lnTo>
                    <a:lnTo>
                      <a:pt x="3052" y="2827"/>
                    </a:lnTo>
                    <a:lnTo>
                      <a:pt x="3061" y="2816"/>
                    </a:lnTo>
                    <a:lnTo>
                      <a:pt x="3071" y="2775"/>
                    </a:lnTo>
                    <a:lnTo>
                      <a:pt x="3080" y="2969"/>
                    </a:lnTo>
                    <a:lnTo>
                      <a:pt x="3089" y="3023"/>
                    </a:lnTo>
                    <a:lnTo>
                      <a:pt x="3117" y="2884"/>
                    </a:lnTo>
                    <a:lnTo>
                      <a:pt x="3126" y="2903"/>
                    </a:lnTo>
                    <a:lnTo>
                      <a:pt x="3135" y="2747"/>
                    </a:lnTo>
                    <a:lnTo>
                      <a:pt x="3145" y="2740"/>
                    </a:lnTo>
                    <a:lnTo>
                      <a:pt x="3154" y="2863"/>
                    </a:lnTo>
                    <a:lnTo>
                      <a:pt x="3182" y="2915"/>
                    </a:lnTo>
                    <a:lnTo>
                      <a:pt x="3191" y="3000"/>
                    </a:lnTo>
                    <a:lnTo>
                      <a:pt x="3200" y="3149"/>
                    </a:lnTo>
                    <a:lnTo>
                      <a:pt x="3210" y="3090"/>
                    </a:lnTo>
                    <a:lnTo>
                      <a:pt x="3219" y="3101"/>
                    </a:lnTo>
                    <a:lnTo>
                      <a:pt x="3247" y="2936"/>
                    </a:lnTo>
                    <a:lnTo>
                      <a:pt x="3256" y="2981"/>
                    </a:lnTo>
                    <a:lnTo>
                      <a:pt x="3265" y="3071"/>
                    </a:lnTo>
                    <a:lnTo>
                      <a:pt x="3275" y="3193"/>
                    </a:lnTo>
                    <a:lnTo>
                      <a:pt x="3284" y="3198"/>
                    </a:lnTo>
                    <a:lnTo>
                      <a:pt x="3312" y="3198"/>
                    </a:lnTo>
                    <a:lnTo>
                      <a:pt x="3321" y="2891"/>
                    </a:lnTo>
                    <a:lnTo>
                      <a:pt x="3330" y="2943"/>
                    </a:lnTo>
                    <a:lnTo>
                      <a:pt x="3340" y="2882"/>
                    </a:lnTo>
                    <a:lnTo>
                      <a:pt x="3349" y="2773"/>
                    </a:lnTo>
                    <a:lnTo>
                      <a:pt x="3377" y="2773"/>
                    </a:lnTo>
                    <a:lnTo>
                      <a:pt x="3386" y="2993"/>
                    </a:lnTo>
                    <a:lnTo>
                      <a:pt x="3395" y="2938"/>
                    </a:lnTo>
                    <a:lnTo>
                      <a:pt x="3404" y="2953"/>
                    </a:lnTo>
                    <a:lnTo>
                      <a:pt x="3414" y="3026"/>
                    </a:lnTo>
                    <a:lnTo>
                      <a:pt x="3442" y="2995"/>
                    </a:lnTo>
                    <a:lnTo>
                      <a:pt x="3451" y="3059"/>
                    </a:lnTo>
                    <a:lnTo>
                      <a:pt x="3460" y="3040"/>
                    </a:lnTo>
                    <a:lnTo>
                      <a:pt x="3469" y="2979"/>
                    </a:lnTo>
                    <a:lnTo>
                      <a:pt x="3479" y="2971"/>
                    </a:lnTo>
                    <a:lnTo>
                      <a:pt x="3507" y="2971"/>
                    </a:lnTo>
                    <a:lnTo>
                      <a:pt x="3516" y="2811"/>
                    </a:lnTo>
                    <a:lnTo>
                      <a:pt x="3525" y="2731"/>
                    </a:lnTo>
                    <a:lnTo>
                      <a:pt x="3534" y="2794"/>
                    </a:lnTo>
                    <a:lnTo>
                      <a:pt x="3544" y="2185"/>
                    </a:lnTo>
                    <a:lnTo>
                      <a:pt x="3571" y="2334"/>
                    </a:lnTo>
                    <a:lnTo>
                      <a:pt x="3581" y="2480"/>
                    </a:lnTo>
                    <a:lnTo>
                      <a:pt x="3590" y="2584"/>
                    </a:lnTo>
                    <a:lnTo>
                      <a:pt x="3599" y="2690"/>
                    </a:lnTo>
                    <a:lnTo>
                      <a:pt x="3609" y="2797"/>
                    </a:lnTo>
                    <a:lnTo>
                      <a:pt x="3636" y="2697"/>
                    </a:lnTo>
                    <a:lnTo>
                      <a:pt x="3646" y="2565"/>
                    </a:lnTo>
                    <a:lnTo>
                      <a:pt x="3655" y="2705"/>
                    </a:lnTo>
                    <a:lnTo>
                      <a:pt x="3664" y="2499"/>
                    </a:lnTo>
                    <a:lnTo>
                      <a:pt x="3674" y="2563"/>
                    </a:lnTo>
                    <a:lnTo>
                      <a:pt x="3701" y="2544"/>
                    </a:lnTo>
                    <a:lnTo>
                      <a:pt x="3711" y="2414"/>
                    </a:lnTo>
                    <a:lnTo>
                      <a:pt x="3720" y="2594"/>
                    </a:lnTo>
                    <a:lnTo>
                      <a:pt x="3729" y="2525"/>
                    </a:lnTo>
                    <a:lnTo>
                      <a:pt x="3738" y="2584"/>
                    </a:lnTo>
                    <a:lnTo>
                      <a:pt x="3766" y="2471"/>
                    </a:lnTo>
                    <a:lnTo>
                      <a:pt x="3776" y="2731"/>
                    </a:lnTo>
                    <a:lnTo>
                      <a:pt x="3785" y="2716"/>
                    </a:lnTo>
                    <a:lnTo>
                      <a:pt x="3794" y="2912"/>
                    </a:lnTo>
                    <a:lnTo>
                      <a:pt x="3803" y="2787"/>
                    </a:lnTo>
                    <a:lnTo>
                      <a:pt x="3831" y="2787"/>
                    </a:lnTo>
                    <a:lnTo>
                      <a:pt x="3840" y="2693"/>
                    </a:lnTo>
                    <a:lnTo>
                      <a:pt x="3850" y="2818"/>
                    </a:lnTo>
                    <a:lnTo>
                      <a:pt x="3859" y="2820"/>
                    </a:lnTo>
                    <a:lnTo>
                      <a:pt x="3868" y="2917"/>
                    </a:lnTo>
                    <a:lnTo>
                      <a:pt x="3896" y="2886"/>
                    </a:lnTo>
                    <a:lnTo>
                      <a:pt x="3905" y="2709"/>
                    </a:lnTo>
                    <a:lnTo>
                      <a:pt x="3915" y="2898"/>
                    </a:lnTo>
                    <a:lnTo>
                      <a:pt x="3924" y="2856"/>
                    </a:lnTo>
                    <a:lnTo>
                      <a:pt x="3933" y="2799"/>
                    </a:lnTo>
                    <a:lnTo>
                      <a:pt x="3961" y="2615"/>
                    </a:lnTo>
                    <a:lnTo>
                      <a:pt x="3970" y="2634"/>
                    </a:lnTo>
                    <a:lnTo>
                      <a:pt x="3980" y="2714"/>
                    </a:lnTo>
                    <a:lnTo>
                      <a:pt x="3989" y="2629"/>
                    </a:lnTo>
                    <a:lnTo>
                      <a:pt x="3998" y="2825"/>
                    </a:lnTo>
                    <a:lnTo>
                      <a:pt x="4026" y="2938"/>
                    </a:lnTo>
                    <a:lnTo>
                      <a:pt x="4035" y="3087"/>
                    </a:lnTo>
                    <a:lnTo>
                      <a:pt x="4045" y="2943"/>
                    </a:lnTo>
                    <a:lnTo>
                      <a:pt x="4054" y="2794"/>
                    </a:lnTo>
                    <a:lnTo>
                      <a:pt x="4063" y="2761"/>
                    </a:lnTo>
                    <a:lnTo>
                      <a:pt x="4091" y="2839"/>
                    </a:lnTo>
                    <a:lnTo>
                      <a:pt x="4100" y="2879"/>
                    </a:lnTo>
                    <a:lnTo>
                      <a:pt x="4110" y="2976"/>
                    </a:lnTo>
                    <a:lnTo>
                      <a:pt x="4119" y="2986"/>
                    </a:lnTo>
                    <a:lnTo>
                      <a:pt x="4128" y="2981"/>
                    </a:lnTo>
                    <a:lnTo>
                      <a:pt x="4156" y="2917"/>
                    </a:lnTo>
                    <a:lnTo>
                      <a:pt x="4165" y="2889"/>
                    </a:lnTo>
                    <a:lnTo>
                      <a:pt x="4174" y="3038"/>
                    </a:lnTo>
                    <a:lnTo>
                      <a:pt x="4184" y="2891"/>
                    </a:lnTo>
                    <a:lnTo>
                      <a:pt x="4193" y="2934"/>
                    </a:lnTo>
                    <a:lnTo>
                      <a:pt x="4221" y="2891"/>
                    </a:lnTo>
                    <a:lnTo>
                      <a:pt x="4230" y="2993"/>
                    </a:lnTo>
                    <a:lnTo>
                      <a:pt x="4239" y="2995"/>
                    </a:lnTo>
                    <a:lnTo>
                      <a:pt x="4249" y="2919"/>
                    </a:lnTo>
                    <a:lnTo>
                      <a:pt x="4258" y="2728"/>
                    </a:lnTo>
                    <a:lnTo>
                      <a:pt x="4286" y="2745"/>
                    </a:lnTo>
                    <a:lnTo>
                      <a:pt x="4295" y="2553"/>
                    </a:lnTo>
                    <a:lnTo>
                      <a:pt x="4304" y="2610"/>
                    </a:lnTo>
                    <a:lnTo>
                      <a:pt x="4314" y="2700"/>
                    </a:lnTo>
                    <a:lnTo>
                      <a:pt x="4323" y="2700"/>
                    </a:lnTo>
                    <a:lnTo>
                      <a:pt x="4351" y="2653"/>
                    </a:lnTo>
                    <a:lnTo>
                      <a:pt x="4360" y="2931"/>
                    </a:lnTo>
                    <a:lnTo>
                      <a:pt x="4369" y="2950"/>
                    </a:lnTo>
                    <a:lnTo>
                      <a:pt x="4379" y="2875"/>
                    </a:lnTo>
                    <a:lnTo>
                      <a:pt x="4388" y="2886"/>
                    </a:lnTo>
                    <a:lnTo>
                      <a:pt x="4416" y="2849"/>
                    </a:lnTo>
                    <a:lnTo>
                      <a:pt x="4425" y="2849"/>
                    </a:lnTo>
                    <a:lnTo>
                      <a:pt x="4434" y="2846"/>
                    </a:lnTo>
                    <a:lnTo>
                      <a:pt x="4443" y="2827"/>
                    </a:lnTo>
                    <a:lnTo>
                      <a:pt x="4453" y="2886"/>
                    </a:lnTo>
                    <a:lnTo>
                      <a:pt x="4481" y="2662"/>
                    </a:lnTo>
                    <a:lnTo>
                      <a:pt x="4490" y="2792"/>
                    </a:lnTo>
                    <a:lnTo>
                      <a:pt x="4499" y="2792"/>
                    </a:lnTo>
                    <a:lnTo>
                      <a:pt x="4508" y="2823"/>
                    </a:lnTo>
                    <a:lnTo>
                      <a:pt x="4518" y="2879"/>
                    </a:lnTo>
                    <a:lnTo>
                      <a:pt x="4546" y="2790"/>
                    </a:lnTo>
                    <a:lnTo>
                      <a:pt x="4555" y="2792"/>
                    </a:lnTo>
                    <a:lnTo>
                      <a:pt x="4564" y="2842"/>
                    </a:lnTo>
                    <a:lnTo>
                      <a:pt x="4573" y="2674"/>
                    </a:lnTo>
                    <a:lnTo>
                      <a:pt x="4583" y="2272"/>
                    </a:lnTo>
                    <a:lnTo>
                      <a:pt x="4610" y="2419"/>
                    </a:lnTo>
                    <a:lnTo>
                      <a:pt x="4620" y="2471"/>
                    </a:lnTo>
                    <a:lnTo>
                      <a:pt x="4629" y="1783"/>
                    </a:lnTo>
                    <a:lnTo>
                      <a:pt x="4638" y="1611"/>
                    </a:lnTo>
                    <a:lnTo>
                      <a:pt x="4648" y="1566"/>
                    </a:lnTo>
                    <a:lnTo>
                      <a:pt x="4675" y="1438"/>
                    </a:lnTo>
                    <a:lnTo>
                      <a:pt x="4685" y="1311"/>
                    </a:lnTo>
                    <a:lnTo>
                      <a:pt x="4694" y="1523"/>
                    </a:lnTo>
                    <a:lnTo>
                      <a:pt x="4703" y="1963"/>
                    </a:lnTo>
                    <a:lnTo>
                      <a:pt x="4712" y="2256"/>
                    </a:lnTo>
                    <a:lnTo>
                      <a:pt x="4740" y="2256"/>
                    </a:lnTo>
                    <a:lnTo>
                      <a:pt x="4750" y="1216"/>
                    </a:lnTo>
                    <a:lnTo>
                      <a:pt x="4759" y="1741"/>
                    </a:lnTo>
                    <a:lnTo>
                      <a:pt x="4768" y="2194"/>
                    </a:lnTo>
                    <a:lnTo>
                      <a:pt x="4777" y="2242"/>
                    </a:lnTo>
                    <a:lnTo>
                      <a:pt x="4805" y="1691"/>
                    </a:lnTo>
                    <a:lnTo>
                      <a:pt x="4815" y="1528"/>
                    </a:lnTo>
                    <a:lnTo>
                      <a:pt x="4824" y="1420"/>
                    </a:lnTo>
                    <a:lnTo>
                      <a:pt x="4833" y="1290"/>
                    </a:lnTo>
                    <a:lnTo>
                      <a:pt x="4842" y="1344"/>
                    </a:lnTo>
                    <a:lnTo>
                      <a:pt x="4870" y="673"/>
                    </a:lnTo>
                    <a:lnTo>
                      <a:pt x="4879" y="0"/>
                    </a:lnTo>
                    <a:lnTo>
                      <a:pt x="4889" y="555"/>
                    </a:lnTo>
                    <a:lnTo>
                      <a:pt x="4898" y="1868"/>
                    </a:lnTo>
                    <a:lnTo>
                      <a:pt x="4907" y="1549"/>
                    </a:lnTo>
                    <a:lnTo>
                      <a:pt x="4935" y="1412"/>
                    </a:lnTo>
                    <a:lnTo>
                      <a:pt x="4944" y="1682"/>
                    </a:lnTo>
                    <a:lnTo>
                      <a:pt x="4954" y="1958"/>
                    </a:lnTo>
                    <a:lnTo>
                      <a:pt x="4963" y="1873"/>
                    </a:lnTo>
                    <a:lnTo>
                      <a:pt x="4972" y="1871"/>
                    </a:lnTo>
                    <a:lnTo>
                      <a:pt x="5000" y="1934"/>
                    </a:lnTo>
                    <a:lnTo>
                      <a:pt x="5009" y="1750"/>
                    </a:lnTo>
                    <a:lnTo>
                      <a:pt x="5019" y="1894"/>
                    </a:lnTo>
                    <a:lnTo>
                      <a:pt x="5028" y="2546"/>
                    </a:lnTo>
                    <a:lnTo>
                      <a:pt x="5037" y="2534"/>
                    </a:lnTo>
                    <a:lnTo>
                      <a:pt x="5065" y="254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84240" y="3547080"/>
                <a:ext cx="7383240" cy="1440"/>
              </a:xfrm>
              <a:custGeom>
                <a:avLst/>
                <a:gdLst/>
                <a:ahLst/>
                <a:rect l="l" t="t" r="r" b="b"/>
                <a:pathLst>
                  <a:path w="5065" h="0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3" y="0"/>
                    </a:lnTo>
                    <a:lnTo>
                      <a:pt x="93" y="0"/>
                    </a:lnTo>
                    <a:lnTo>
                      <a:pt x="102" y="0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48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95" y="0"/>
                    </a:lnTo>
                    <a:lnTo>
                      <a:pt x="204" y="0"/>
                    </a:lnTo>
                    <a:lnTo>
                      <a:pt x="213" y="0"/>
                    </a:lnTo>
                    <a:lnTo>
                      <a:pt x="223" y="0"/>
                    </a:lnTo>
                    <a:lnTo>
                      <a:pt x="232" y="0"/>
                    </a:lnTo>
                    <a:lnTo>
                      <a:pt x="260" y="0"/>
                    </a:lnTo>
                    <a:lnTo>
                      <a:pt x="269" y="0"/>
                    </a:lnTo>
                    <a:lnTo>
                      <a:pt x="278" y="0"/>
                    </a:lnTo>
                    <a:lnTo>
                      <a:pt x="288" y="0"/>
                    </a:lnTo>
                    <a:lnTo>
                      <a:pt x="297" y="0"/>
                    </a:lnTo>
                    <a:lnTo>
                      <a:pt x="325" y="0"/>
                    </a:lnTo>
                    <a:lnTo>
                      <a:pt x="334" y="0"/>
                    </a:lnTo>
                    <a:lnTo>
                      <a:pt x="343" y="0"/>
                    </a:lnTo>
                    <a:lnTo>
                      <a:pt x="353" y="0"/>
                    </a:lnTo>
                    <a:lnTo>
                      <a:pt x="362" y="0"/>
                    </a:lnTo>
                    <a:lnTo>
                      <a:pt x="390" y="0"/>
                    </a:lnTo>
                    <a:lnTo>
                      <a:pt x="399" y="0"/>
                    </a:lnTo>
                    <a:lnTo>
                      <a:pt x="408" y="0"/>
                    </a:lnTo>
                    <a:lnTo>
                      <a:pt x="417" y="0"/>
                    </a:lnTo>
                    <a:lnTo>
                      <a:pt x="427" y="0"/>
                    </a:lnTo>
                    <a:lnTo>
                      <a:pt x="455" y="0"/>
                    </a:lnTo>
                    <a:lnTo>
                      <a:pt x="464" y="0"/>
                    </a:lnTo>
                    <a:lnTo>
                      <a:pt x="473" y="0"/>
                    </a:lnTo>
                    <a:lnTo>
                      <a:pt x="482" y="0"/>
                    </a:lnTo>
                    <a:lnTo>
                      <a:pt x="492" y="0"/>
                    </a:lnTo>
                    <a:lnTo>
                      <a:pt x="519" y="0"/>
                    </a:lnTo>
                    <a:lnTo>
                      <a:pt x="529" y="0"/>
                    </a:lnTo>
                    <a:lnTo>
                      <a:pt x="538" y="0"/>
                    </a:lnTo>
                    <a:lnTo>
                      <a:pt x="547" y="0"/>
                    </a:lnTo>
                    <a:lnTo>
                      <a:pt x="557" y="0"/>
                    </a:lnTo>
                    <a:lnTo>
                      <a:pt x="584" y="0"/>
                    </a:lnTo>
                    <a:lnTo>
                      <a:pt x="594" y="0"/>
                    </a:lnTo>
                    <a:lnTo>
                      <a:pt x="603" y="0"/>
                    </a:lnTo>
                    <a:lnTo>
                      <a:pt x="612" y="0"/>
                    </a:lnTo>
                    <a:lnTo>
                      <a:pt x="622" y="0"/>
                    </a:lnTo>
                    <a:lnTo>
                      <a:pt x="649" y="0"/>
                    </a:lnTo>
                    <a:lnTo>
                      <a:pt x="659" y="0"/>
                    </a:lnTo>
                    <a:lnTo>
                      <a:pt x="668" y="0"/>
                    </a:lnTo>
                    <a:lnTo>
                      <a:pt x="677" y="0"/>
                    </a:lnTo>
                    <a:lnTo>
                      <a:pt x="686" y="0"/>
                    </a:lnTo>
                    <a:lnTo>
                      <a:pt x="714" y="0"/>
                    </a:lnTo>
                    <a:lnTo>
                      <a:pt x="724" y="0"/>
                    </a:lnTo>
                    <a:lnTo>
                      <a:pt x="733" y="0"/>
                    </a:lnTo>
                    <a:lnTo>
                      <a:pt x="742" y="0"/>
                    </a:lnTo>
                    <a:lnTo>
                      <a:pt x="751" y="0"/>
                    </a:lnTo>
                    <a:lnTo>
                      <a:pt x="779" y="0"/>
                    </a:lnTo>
                    <a:lnTo>
                      <a:pt x="789" y="0"/>
                    </a:lnTo>
                    <a:lnTo>
                      <a:pt x="798" y="0"/>
                    </a:lnTo>
                    <a:lnTo>
                      <a:pt x="807" y="0"/>
                    </a:lnTo>
                    <a:lnTo>
                      <a:pt x="816" y="0"/>
                    </a:lnTo>
                    <a:lnTo>
                      <a:pt x="844" y="0"/>
                    </a:lnTo>
                    <a:lnTo>
                      <a:pt x="853" y="0"/>
                    </a:lnTo>
                    <a:lnTo>
                      <a:pt x="863" y="0"/>
                    </a:lnTo>
                    <a:lnTo>
                      <a:pt x="872" y="0"/>
                    </a:lnTo>
                    <a:lnTo>
                      <a:pt x="881" y="0"/>
                    </a:lnTo>
                    <a:lnTo>
                      <a:pt x="909" y="0"/>
                    </a:lnTo>
                    <a:lnTo>
                      <a:pt x="918" y="0"/>
                    </a:lnTo>
                    <a:lnTo>
                      <a:pt x="928" y="0"/>
                    </a:lnTo>
                    <a:lnTo>
                      <a:pt x="937" y="0"/>
                    </a:lnTo>
                    <a:lnTo>
                      <a:pt x="946" y="0"/>
                    </a:lnTo>
                    <a:lnTo>
                      <a:pt x="974" y="0"/>
                    </a:lnTo>
                    <a:lnTo>
                      <a:pt x="983" y="0"/>
                    </a:lnTo>
                    <a:lnTo>
                      <a:pt x="993" y="0"/>
                    </a:lnTo>
                    <a:lnTo>
                      <a:pt x="1002" y="0"/>
                    </a:lnTo>
                    <a:lnTo>
                      <a:pt x="1011" y="0"/>
                    </a:lnTo>
                    <a:lnTo>
                      <a:pt x="1039" y="0"/>
                    </a:lnTo>
                    <a:lnTo>
                      <a:pt x="1048" y="0"/>
                    </a:lnTo>
                    <a:lnTo>
                      <a:pt x="1058" y="0"/>
                    </a:lnTo>
                    <a:lnTo>
                      <a:pt x="1067" y="0"/>
                    </a:lnTo>
                    <a:lnTo>
                      <a:pt x="1076" y="0"/>
                    </a:lnTo>
                    <a:lnTo>
                      <a:pt x="1104" y="0"/>
                    </a:lnTo>
                    <a:lnTo>
                      <a:pt x="1113" y="0"/>
                    </a:lnTo>
                    <a:lnTo>
                      <a:pt x="1122" y="0"/>
                    </a:lnTo>
                    <a:lnTo>
                      <a:pt x="1132" y="0"/>
                    </a:lnTo>
                    <a:lnTo>
                      <a:pt x="1141" y="0"/>
                    </a:lnTo>
                    <a:lnTo>
                      <a:pt x="1169" y="0"/>
                    </a:lnTo>
                    <a:lnTo>
                      <a:pt x="1178" y="0"/>
                    </a:lnTo>
                    <a:lnTo>
                      <a:pt x="1187" y="0"/>
                    </a:lnTo>
                    <a:lnTo>
                      <a:pt x="1197" y="0"/>
                    </a:lnTo>
                    <a:lnTo>
                      <a:pt x="1206" y="0"/>
                    </a:lnTo>
                    <a:lnTo>
                      <a:pt x="1234" y="0"/>
                    </a:lnTo>
                    <a:lnTo>
                      <a:pt x="1243" y="0"/>
                    </a:lnTo>
                    <a:lnTo>
                      <a:pt x="1252" y="0"/>
                    </a:lnTo>
                    <a:lnTo>
                      <a:pt x="1262" y="0"/>
                    </a:lnTo>
                    <a:lnTo>
                      <a:pt x="1271" y="0"/>
                    </a:lnTo>
                    <a:lnTo>
                      <a:pt x="1299" y="0"/>
                    </a:lnTo>
                    <a:lnTo>
                      <a:pt x="1308" y="0"/>
                    </a:lnTo>
                    <a:lnTo>
                      <a:pt x="1317" y="0"/>
                    </a:lnTo>
                    <a:lnTo>
                      <a:pt x="1327" y="0"/>
                    </a:lnTo>
                    <a:lnTo>
                      <a:pt x="1336" y="0"/>
                    </a:lnTo>
                    <a:lnTo>
                      <a:pt x="1364" y="0"/>
                    </a:lnTo>
                    <a:lnTo>
                      <a:pt x="1373" y="0"/>
                    </a:lnTo>
                    <a:lnTo>
                      <a:pt x="1382" y="0"/>
                    </a:lnTo>
                    <a:lnTo>
                      <a:pt x="1391" y="0"/>
                    </a:lnTo>
                    <a:lnTo>
                      <a:pt x="1401" y="0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56" y="0"/>
                    </a:lnTo>
                    <a:lnTo>
                      <a:pt x="1466" y="0"/>
                    </a:lnTo>
                    <a:lnTo>
                      <a:pt x="1494" y="0"/>
                    </a:lnTo>
                    <a:lnTo>
                      <a:pt x="1503" y="0"/>
                    </a:lnTo>
                    <a:lnTo>
                      <a:pt x="1512" y="0"/>
                    </a:lnTo>
                    <a:lnTo>
                      <a:pt x="1521" y="0"/>
                    </a:lnTo>
                    <a:lnTo>
                      <a:pt x="1531" y="0"/>
                    </a:lnTo>
                    <a:lnTo>
                      <a:pt x="1558" y="0"/>
                    </a:lnTo>
                    <a:lnTo>
                      <a:pt x="1568" y="0"/>
                    </a:lnTo>
                    <a:lnTo>
                      <a:pt x="1577" y="0"/>
                    </a:lnTo>
                    <a:lnTo>
                      <a:pt x="1586" y="0"/>
                    </a:lnTo>
                    <a:lnTo>
                      <a:pt x="1596" y="0"/>
                    </a:lnTo>
                    <a:lnTo>
                      <a:pt x="1623" y="0"/>
                    </a:lnTo>
                    <a:lnTo>
                      <a:pt x="1633" y="0"/>
                    </a:lnTo>
                    <a:lnTo>
                      <a:pt x="1642" y="0"/>
                    </a:lnTo>
                    <a:lnTo>
                      <a:pt x="1651" y="0"/>
                    </a:lnTo>
                    <a:lnTo>
                      <a:pt x="1661" y="0"/>
                    </a:lnTo>
                    <a:lnTo>
                      <a:pt x="1688" y="0"/>
                    </a:lnTo>
                    <a:lnTo>
                      <a:pt x="1698" y="0"/>
                    </a:lnTo>
                    <a:lnTo>
                      <a:pt x="1707" y="0"/>
                    </a:lnTo>
                    <a:lnTo>
                      <a:pt x="1716" y="0"/>
                    </a:lnTo>
                    <a:lnTo>
                      <a:pt x="1725" y="0"/>
                    </a:lnTo>
                    <a:lnTo>
                      <a:pt x="1753" y="0"/>
                    </a:lnTo>
                    <a:lnTo>
                      <a:pt x="1763" y="0"/>
                    </a:lnTo>
                    <a:lnTo>
                      <a:pt x="1772" y="0"/>
                    </a:lnTo>
                    <a:lnTo>
                      <a:pt x="1781" y="0"/>
                    </a:lnTo>
                    <a:lnTo>
                      <a:pt x="1790" y="0"/>
                    </a:lnTo>
                    <a:lnTo>
                      <a:pt x="1818" y="0"/>
                    </a:lnTo>
                    <a:lnTo>
                      <a:pt x="1827" y="0"/>
                    </a:lnTo>
                    <a:lnTo>
                      <a:pt x="1837" y="0"/>
                    </a:lnTo>
                    <a:lnTo>
                      <a:pt x="1846" y="0"/>
                    </a:lnTo>
                    <a:lnTo>
                      <a:pt x="1855" y="0"/>
                    </a:lnTo>
                    <a:lnTo>
                      <a:pt x="1883" y="0"/>
                    </a:lnTo>
                    <a:lnTo>
                      <a:pt x="1892" y="0"/>
                    </a:lnTo>
                    <a:lnTo>
                      <a:pt x="1902" y="0"/>
                    </a:lnTo>
                    <a:lnTo>
                      <a:pt x="1911" y="0"/>
                    </a:lnTo>
                    <a:lnTo>
                      <a:pt x="1920" y="0"/>
                    </a:lnTo>
                    <a:lnTo>
                      <a:pt x="1948" y="0"/>
                    </a:lnTo>
                    <a:lnTo>
                      <a:pt x="1957" y="0"/>
                    </a:lnTo>
                    <a:lnTo>
                      <a:pt x="1967" y="0"/>
                    </a:lnTo>
                    <a:lnTo>
                      <a:pt x="1976" y="0"/>
                    </a:lnTo>
                    <a:lnTo>
                      <a:pt x="1985" y="0"/>
                    </a:lnTo>
                    <a:lnTo>
                      <a:pt x="2013" y="0"/>
                    </a:lnTo>
                    <a:lnTo>
                      <a:pt x="2022" y="0"/>
                    </a:lnTo>
                    <a:lnTo>
                      <a:pt x="2032" y="0"/>
                    </a:lnTo>
                    <a:lnTo>
                      <a:pt x="2041" y="0"/>
                    </a:lnTo>
                    <a:lnTo>
                      <a:pt x="2050" y="0"/>
                    </a:lnTo>
                    <a:lnTo>
                      <a:pt x="2078" y="0"/>
                    </a:lnTo>
                    <a:lnTo>
                      <a:pt x="2087" y="0"/>
                    </a:lnTo>
                    <a:lnTo>
                      <a:pt x="2097" y="0"/>
                    </a:lnTo>
                    <a:lnTo>
                      <a:pt x="2106" y="0"/>
                    </a:lnTo>
                    <a:lnTo>
                      <a:pt x="2115" y="0"/>
                    </a:lnTo>
                    <a:lnTo>
                      <a:pt x="2143" y="0"/>
                    </a:lnTo>
                    <a:lnTo>
                      <a:pt x="2152" y="0"/>
                    </a:lnTo>
                    <a:lnTo>
                      <a:pt x="2161" y="0"/>
                    </a:lnTo>
                    <a:lnTo>
                      <a:pt x="2171" y="0"/>
                    </a:lnTo>
                    <a:lnTo>
                      <a:pt x="2180" y="0"/>
                    </a:lnTo>
                    <a:lnTo>
                      <a:pt x="2208" y="0"/>
                    </a:lnTo>
                    <a:lnTo>
                      <a:pt x="2217" y="0"/>
                    </a:lnTo>
                    <a:lnTo>
                      <a:pt x="2226" y="0"/>
                    </a:lnTo>
                    <a:lnTo>
                      <a:pt x="2236" y="0"/>
                    </a:lnTo>
                    <a:lnTo>
                      <a:pt x="2245" y="0"/>
                    </a:lnTo>
                    <a:lnTo>
                      <a:pt x="2273" y="0"/>
                    </a:lnTo>
                    <a:lnTo>
                      <a:pt x="2282" y="0"/>
                    </a:lnTo>
                    <a:lnTo>
                      <a:pt x="2291" y="0"/>
                    </a:lnTo>
                    <a:lnTo>
                      <a:pt x="2301" y="0"/>
                    </a:lnTo>
                    <a:lnTo>
                      <a:pt x="2310" y="0"/>
                    </a:lnTo>
                    <a:lnTo>
                      <a:pt x="2338" y="0"/>
                    </a:lnTo>
                    <a:lnTo>
                      <a:pt x="2347" y="0"/>
                    </a:lnTo>
                    <a:lnTo>
                      <a:pt x="2356" y="0"/>
                    </a:lnTo>
                    <a:lnTo>
                      <a:pt x="2366" y="0"/>
                    </a:lnTo>
                    <a:lnTo>
                      <a:pt x="2375" y="0"/>
                    </a:lnTo>
                    <a:lnTo>
                      <a:pt x="2403" y="0"/>
                    </a:lnTo>
                    <a:lnTo>
                      <a:pt x="2412" y="0"/>
                    </a:lnTo>
                    <a:lnTo>
                      <a:pt x="2421" y="0"/>
                    </a:lnTo>
                    <a:lnTo>
                      <a:pt x="2430" y="0"/>
                    </a:lnTo>
                    <a:lnTo>
                      <a:pt x="2440" y="0"/>
                    </a:lnTo>
                    <a:lnTo>
                      <a:pt x="2468" y="0"/>
                    </a:lnTo>
                    <a:lnTo>
                      <a:pt x="2477" y="0"/>
                    </a:lnTo>
                    <a:lnTo>
                      <a:pt x="2486" y="0"/>
                    </a:lnTo>
                    <a:lnTo>
                      <a:pt x="2495" y="0"/>
                    </a:lnTo>
                    <a:lnTo>
                      <a:pt x="2505" y="0"/>
                    </a:lnTo>
                    <a:lnTo>
                      <a:pt x="2533" y="0"/>
                    </a:lnTo>
                    <a:lnTo>
                      <a:pt x="2542" y="0"/>
                    </a:lnTo>
                    <a:lnTo>
                      <a:pt x="2551" y="0"/>
                    </a:lnTo>
                    <a:lnTo>
                      <a:pt x="2560" y="0"/>
                    </a:lnTo>
                    <a:lnTo>
                      <a:pt x="2570" y="0"/>
                    </a:lnTo>
                    <a:lnTo>
                      <a:pt x="2597" y="0"/>
                    </a:lnTo>
                    <a:lnTo>
                      <a:pt x="2607" y="0"/>
                    </a:lnTo>
                    <a:lnTo>
                      <a:pt x="2616" y="0"/>
                    </a:lnTo>
                    <a:lnTo>
                      <a:pt x="2625" y="0"/>
                    </a:lnTo>
                    <a:lnTo>
                      <a:pt x="2635" y="0"/>
                    </a:lnTo>
                    <a:lnTo>
                      <a:pt x="2662" y="0"/>
                    </a:lnTo>
                    <a:lnTo>
                      <a:pt x="2672" y="0"/>
                    </a:lnTo>
                    <a:lnTo>
                      <a:pt x="2681" y="0"/>
                    </a:lnTo>
                    <a:lnTo>
                      <a:pt x="2690" y="0"/>
                    </a:lnTo>
                    <a:lnTo>
                      <a:pt x="2699" y="0"/>
                    </a:lnTo>
                    <a:lnTo>
                      <a:pt x="2727" y="0"/>
                    </a:lnTo>
                    <a:lnTo>
                      <a:pt x="2737" y="0"/>
                    </a:lnTo>
                    <a:lnTo>
                      <a:pt x="2746" y="0"/>
                    </a:lnTo>
                    <a:lnTo>
                      <a:pt x="2755" y="0"/>
                    </a:lnTo>
                    <a:lnTo>
                      <a:pt x="2764" y="0"/>
                    </a:lnTo>
                    <a:lnTo>
                      <a:pt x="2792" y="0"/>
                    </a:lnTo>
                    <a:lnTo>
                      <a:pt x="2802" y="0"/>
                    </a:lnTo>
                    <a:lnTo>
                      <a:pt x="2811" y="0"/>
                    </a:lnTo>
                    <a:lnTo>
                      <a:pt x="2820" y="0"/>
                    </a:lnTo>
                    <a:lnTo>
                      <a:pt x="2829" y="0"/>
                    </a:lnTo>
                    <a:lnTo>
                      <a:pt x="2857" y="0"/>
                    </a:lnTo>
                    <a:lnTo>
                      <a:pt x="2866" y="0"/>
                    </a:lnTo>
                    <a:lnTo>
                      <a:pt x="2876" y="0"/>
                    </a:lnTo>
                    <a:lnTo>
                      <a:pt x="2885" y="0"/>
                    </a:lnTo>
                    <a:lnTo>
                      <a:pt x="2894" y="0"/>
                    </a:lnTo>
                    <a:lnTo>
                      <a:pt x="2922" y="0"/>
                    </a:lnTo>
                    <a:lnTo>
                      <a:pt x="2931" y="0"/>
                    </a:lnTo>
                    <a:lnTo>
                      <a:pt x="2941" y="0"/>
                    </a:lnTo>
                    <a:lnTo>
                      <a:pt x="2950" y="0"/>
                    </a:lnTo>
                    <a:lnTo>
                      <a:pt x="2959" y="0"/>
                    </a:lnTo>
                    <a:lnTo>
                      <a:pt x="2987" y="0"/>
                    </a:lnTo>
                    <a:lnTo>
                      <a:pt x="2996" y="0"/>
                    </a:lnTo>
                    <a:lnTo>
                      <a:pt x="3006" y="0"/>
                    </a:lnTo>
                    <a:lnTo>
                      <a:pt x="3015" y="0"/>
                    </a:lnTo>
                    <a:lnTo>
                      <a:pt x="3024" y="0"/>
                    </a:lnTo>
                    <a:lnTo>
                      <a:pt x="3052" y="0"/>
                    </a:lnTo>
                    <a:lnTo>
                      <a:pt x="3061" y="0"/>
                    </a:lnTo>
                    <a:lnTo>
                      <a:pt x="3071" y="0"/>
                    </a:lnTo>
                    <a:lnTo>
                      <a:pt x="3080" y="0"/>
                    </a:lnTo>
                    <a:lnTo>
                      <a:pt x="3089" y="0"/>
                    </a:lnTo>
                    <a:lnTo>
                      <a:pt x="3117" y="0"/>
                    </a:lnTo>
                    <a:lnTo>
                      <a:pt x="3126" y="0"/>
                    </a:lnTo>
                    <a:lnTo>
                      <a:pt x="3135" y="0"/>
                    </a:lnTo>
                    <a:lnTo>
                      <a:pt x="3145" y="0"/>
                    </a:lnTo>
                    <a:lnTo>
                      <a:pt x="3154" y="0"/>
                    </a:lnTo>
                    <a:lnTo>
                      <a:pt x="3182" y="0"/>
                    </a:lnTo>
                    <a:lnTo>
                      <a:pt x="3191" y="0"/>
                    </a:lnTo>
                    <a:lnTo>
                      <a:pt x="3200" y="0"/>
                    </a:lnTo>
                    <a:lnTo>
                      <a:pt x="3210" y="0"/>
                    </a:lnTo>
                    <a:lnTo>
                      <a:pt x="3219" y="0"/>
                    </a:lnTo>
                    <a:lnTo>
                      <a:pt x="3247" y="0"/>
                    </a:lnTo>
                    <a:lnTo>
                      <a:pt x="3256" y="0"/>
                    </a:lnTo>
                    <a:lnTo>
                      <a:pt x="3265" y="0"/>
                    </a:lnTo>
                    <a:lnTo>
                      <a:pt x="3275" y="0"/>
                    </a:lnTo>
                    <a:lnTo>
                      <a:pt x="3284" y="0"/>
                    </a:lnTo>
                    <a:lnTo>
                      <a:pt x="3312" y="0"/>
                    </a:lnTo>
                    <a:lnTo>
                      <a:pt x="3321" y="0"/>
                    </a:lnTo>
                    <a:lnTo>
                      <a:pt x="3330" y="0"/>
                    </a:lnTo>
                    <a:lnTo>
                      <a:pt x="3340" y="0"/>
                    </a:lnTo>
                    <a:lnTo>
                      <a:pt x="3349" y="0"/>
                    </a:lnTo>
                    <a:lnTo>
                      <a:pt x="3377" y="0"/>
                    </a:lnTo>
                    <a:lnTo>
                      <a:pt x="3386" y="0"/>
                    </a:lnTo>
                    <a:lnTo>
                      <a:pt x="3395" y="0"/>
                    </a:lnTo>
                    <a:lnTo>
                      <a:pt x="3404" y="0"/>
                    </a:lnTo>
                    <a:lnTo>
                      <a:pt x="3414" y="0"/>
                    </a:lnTo>
                    <a:lnTo>
                      <a:pt x="3442" y="0"/>
                    </a:lnTo>
                    <a:lnTo>
                      <a:pt x="3451" y="0"/>
                    </a:lnTo>
                    <a:lnTo>
                      <a:pt x="3460" y="0"/>
                    </a:lnTo>
                    <a:lnTo>
                      <a:pt x="3469" y="0"/>
                    </a:lnTo>
                    <a:lnTo>
                      <a:pt x="3479" y="0"/>
                    </a:lnTo>
                    <a:lnTo>
                      <a:pt x="3507" y="0"/>
                    </a:lnTo>
                    <a:lnTo>
                      <a:pt x="3516" y="0"/>
                    </a:lnTo>
                    <a:lnTo>
                      <a:pt x="3525" y="0"/>
                    </a:lnTo>
                    <a:lnTo>
                      <a:pt x="3534" y="0"/>
                    </a:lnTo>
                    <a:lnTo>
                      <a:pt x="3544" y="0"/>
                    </a:lnTo>
                    <a:lnTo>
                      <a:pt x="3571" y="0"/>
                    </a:lnTo>
                    <a:lnTo>
                      <a:pt x="3581" y="0"/>
                    </a:lnTo>
                    <a:lnTo>
                      <a:pt x="3590" y="0"/>
                    </a:lnTo>
                    <a:lnTo>
                      <a:pt x="3599" y="0"/>
                    </a:lnTo>
                    <a:lnTo>
                      <a:pt x="3609" y="0"/>
                    </a:lnTo>
                    <a:lnTo>
                      <a:pt x="3636" y="0"/>
                    </a:lnTo>
                    <a:lnTo>
                      <a:pt x="3646" y="0"/>
                    </a:lnTo>
                    <a:lnTo>
                      <a:pt x="3655" y="0"/>
                    </a:lnTo>
                    <a:lnTo>
                      <a:pt x="3664" y="0"/>
                    </a:lnTo>
                    <a:lnTo>
                      <a:pt x="3674" y="0"/>
                    </a:lnTo>
                    <a:lnTo>
                      <a:pt x="3701" y="0"/>
                    </a:lnTo>
                    <a:lnTo>
                      <a:pt x="3711" y="0"/>
                    </a:lnTo>
                    <a:lnTo>
                      <a:pt x="3720" y="0"/>
                    </a:lnTo>
                    <a:lnTo>
                      <a:pt x="3729" y="0"/>
                    </a:lnTo>
                    <a:lnTo>
                      <a:pt x="3738" y="0"/>
                    </a:lnTo>
                    <a:lnTo>
                      <a:pt x="3766" y="0"/>
                    </a:lnTo>
                    <a:lnTo>
                      <a:pt x="3776" y="0"/>
                    </a:lnTo>
                    <a:lnTo>
                      <a:pt x="3785" y="0"/>
                    </a:lnTo>
                    <a:lnTo>
                      <a:pt x="3794" y="0"/>
                    </a:lnTo>
                    <a:lnTo>
                      <a:pt x="3803" y="0"/>
                    </a:lnTo>
                    <a:lnTo>
                      <a:pt x="3831" y="0"/>
                    </a:lnTo>
                    <a:lnTo>
                      <a:pt x="3840" y="0"/>
                    </a:lnTo>
                    <a:lnTo>
                      <a:pt x="3850" y="0"/>
                    </a:lnTo>
                    <a:lnTo>
                      <a:pt x="3859" y="0"/>
                    </a:lnTo>
                    <a:lnTo>
                      <a:pt x="3868" y="0"/>
                    </a:lnTo>
                    <a:lnTo>
                      <a:pt x="3896" y="0"/>
                    </a:lnTo>
                    <a:lnTo>
                      <a:pt x="3905" y="0"/>
                    </a:lnTo>
                    <a:lnTo>
                      <a:pt x="3915" y="0"/>
                    </a:lnTo>
                    <a:lnTo>
                      <a:pt x="3924" y="0"/>
                    </a:lnTo>
                    <a:lnTo>
                      <a:pt x="3933" y="0"/>
                    </a:lnTo>
                    <a:lnTo>
                      <a:pt x="3961" y="0"/>
                    </a:lnTo>
                    <a:lnTo>
                      <a:pt x="3970" y="0"/>
                    </a:lnTo>
                    <a:lnTo>
                      <a:pt x="3980" y="0"/>
                    </a:lnTo>
                    <a:lnTo>
                      <a:pt x="3989" y="0"/>
                    </a:lnTo>
                    <a:lnTo>
                      <a:pt x="3998" y="0"/>
                    </a:lnTo>
                    <a:lnTo>
                      <a:pt x="4026" y="0"/>
                    </a:lnTo>
                    <a:lnTo>
                      <a:pt x="4035" y="0"/>
                    </a:lnTo>
                    <a:lnTo>
                      <a:pt x="4045" y="0"/>
                    </a:lnTo>
                    <a:lnTo>
                      <a:pt x="4054" y="0"/>
                    </a:lnTo>
                    <a:lnTo>
                      <a:pt x="4063" y="0"/>
                    </a:lnTo>
                    <a:lnTo>
                      <a:pt x="4091" y="0"/>
                    </a:lnTo>
                    <a:lnTo>
                      <a:pt x="4100" y="0"/>
                    </a:lnTo>
                    <a:lnTo>
                      <a:pt x="4110" y="0"/>
                    </a:lnTo>
                    <a:lnTo>
                      <a:pt x="4119" y="0"/>
                    </a:lnTo>
                    <a:lnTo>
                      <a:pt x="4128" y="0"/>
                    </a:lnTo>
                    <a:lnTo>
                      <a:pt x="4156" y="0"/>
                    </a:lnTo>
                    <a:lnTo>
                      <a:pt x="4165" y="0"/>
                    </a:lnTo>
                    <a:lnTo>
                      <a:pt x="4174" y="0"/>
                    </a:lnTo>
                    <a:lnTo>
                      <a:pt x="4184" y="0"/>
                    </a:lnTo>
                    <a:lnTo>
                      <a:pt x="4193" y="0"/>
                    </a:lnTo>
                    <a:lnTo>
                      <a:pt x="4221" y="0"/>
                    </a:lnTo>
                    <a:lnTo>
                      <a:pt x="4230" y="0"/>
                    </a:lnTo>
                    <a:lnTo>
                      <a:pt x="4239" y="0"/>
                    </a:lnTo>
                    <a:lnTo>
                      <a:pt x="4249" y="0"/>
                    </a:lnTo>
                    <a:lnTo>
                      <a:pt x="4258" y="0"/>
                    </a:lnTo>
                    <a:lnTo>
                      <a:pt x="4286" y="0"/>
                    </a:lnTo>
                    <a:lnTo>
                      <a:pt x="4295" y="0"/>
                    </a:lnTo>
                    <a:lnTo>
                      <a:pt x="4304" y="0"/>
                    </a:lnTo>
                    <a:lnTo>
                      <a:pt x="4314" y="0"/>
                    </a:lnTo>
                    <a:lnTo>
                      <a:pt x="4323" y="0"/>
                    </a:lnTo>
                    <a:lnTo>
                      <a:pt x="4351" y="0"/>
                    </a:lnTo>
                    <a:lnTo>
                      <a:pt x="4360" y="0"/>
                    </a:lnTo>
                    <a:lnTo>
                      <a:pt x="4369" y="0"/>
                    </a:lnTo>
                    <a:lnTo>
                      <a:pt x="4379" y="0"/>
                    </a:lnTo>
                    <a:lnTo>
                      <a:pt x="4388" y="0"/>
                    </a:lnTo>
                    <a:lnTo>
                      <a:pt x="4416" y="0"/>
                    </a:lnTo>
                    <a:lnTo>
                      <a:pt x="4425" y="0"/>
                    </a:lnTo>
                    <a:lnTo>
                      <a:pt x="4434" y="0"/>
                    </a:lnTo>
                    <a:lnTo>
                      <a:pt x="4443" y="0"/>
                    </a:lnTo>
                    <a:lnTo>
                      <a:pt x="4453" y="0"/>
                    </a:lnTo>
                    <a:lnTo>
                      <a:pt x="4481" y="0"/>
                    </a:lnTo>
                    <a:lnTo>
                      <a:pt x="4490" y="0"/>
                    </a:lnTo>
                    <a:lnTo>
                      <a:pt x="4499" y="0"/>
                    </a:lnTo>
                    <a:lnTo>
                      <a:pt x="4508" y="0"/>
                    </a:lnTo>
                    <a:lnTo>
                      <a:pt x="4518" y="0"/>
                    </a:lnTo>
                    <a:lnTo>
                      <a:pt x="4546" y="0"/>
                    </a:lnTo>
                    <a:lnTo>
                      <a:pt x="4555" y="0"/>
                    </a:lnTo>
                    <a:lnTo>
                      <a:pt x="4564" y="0"/>
                    </a:lnTo>
                    <a:lnTo>
                      <a:pt x="4573" y="0"/>
                    </a:lnTo>
                    <a:lnTo>
                      <a:pt x="4583" y="0"/>
                    </a:lnTo>
                    <a:lnTo>
                      <a:pt x="4610" y="0"/>
                    </a:lnTo>
                    <a:lnTo>
                      <a:pt x="4620" y="0"/>
                    </a:lnTo>
                    <a:lnTo>
                      <a:pt x="4629" y="0"/>
                    </a:lnTo>
                    <a:lnTo>
                      <a:pt x="4638" y="0"/>
                    </a:lnTo>
                    <a:lnTo>
                      <a:pt x="4648" y="0"/>
                    </a:lnTo>
                    <a:lnTo>
                      <a:pt x="4675" y="0"/>
                    </a:lnTo>
                    <a:lnTo>
                      <a:pt x="4685" y="0"/>
                    </a:lnTo>
                    <a:lnTo>
                      <a:pt x="4694" y="0"/>
                    </a:lnTo>
                    <a:lnTo>
                      <a:pt x="4703" y="0"/>
                    </a:lnTo>
                    <a:lnTo>
                      <a:pt x="4712" y="0"/>
                    </a:lnTo>
                    <a:lnTo>
                      <a:pt x="4740" y="0"/>
                    </a:lnTo>
                    <a:lnTo>
                      <a:pt x="4750" y="0"/>
                    </a:lnTo>
                    <a:lnTo>
                      <a:pt x="4759" y="0"/>
                    </a:lnTo>
                    <a:lnTo>
                      <a:pt x="4768" y="0"/>
                    </a:lnTo>
                    <a:lnTo>
                      <a:pt x="4777" y="0"/>
                    </a:lnTo>
                    <a:lnTo>
                      <a:pt x="4805" y="0"/>
                    </a:lnTo>
                    <a:lnTo>
                      <a:pt x="4815" y="0"/>
                    </a:lnTo>
                    <a:lnTo>
                      <a:pt x="4824" y="0"/>
                    </a:lnTo>
                    <a:lnTo>
                      <a:pt x="4833" y="0"/>
                    </a:lnTo>
                    <a:lnTo>
                      <a:pt x="4842" y="0"/>
                    </a:lnTo>
                    <a:lnTo>
                      <a:pt x="4870" y="0"/>
                    </a:lnTo>
                    <a:lnTo>
                      <a:pt x="4879" y="0"/>
                    </a:lnTo>
                    <a:lnTo>
                      <a:pt x="4889" y="0"/>
                    </a:lnTo>
                    <a:lnTo>
                      <a:pt x="4898" y="0"/>
                    </a:lnTo>
                    <a:lnTo>
                      <a:pt x="4907" y="0"/>
                    </a:lnTo>
                    <a:lnTo>
                      <a:pt x="4935" y="0"/>
                    </a:lnTo>
                    <a:lnTo>
                      <a:pt x="4944" y="0"/>
                    </a:lnTo>
                    <a:lnTo>
                      <a:pt x="4954" y="0"/>
                    </a:lnTo>
                    <a:lnTo>
                      <a:pt x="4963" y="0"/>
                    </a:lnTo>
                    <a:lnTo>
                      <a:pt x="4972" y="0"/>
                    </a:lnTo>
                    <a:lnTo>
                      <a:pt x="5000" y="0"/>
                    </a:lnTo>
                    <a:lnTo>
                      <a:pt x="5009" y="0"/>
                    </a:lnTo>
                    <a:lnTo>
                      <a:pt x="5019" y="0"/>
                    </a:lnTo>
                    <a:lnTo>
                      <a:pt x="5028" y="0"/>
                    </a:lnTo>
                    <a:lnTo>
                      <a:pt x="5037" y="0"/>
                    </a:lnTo>
                    <a:lnTo>
                      <a:pt x="5065" y="0"/>
                    </a:lnTo>
                  </a:path>
                </a:pathLst>
              </a:custGeom>
              <a:noFill/>
              <a:ln w="237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9520" y="54532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9520" y="4998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9520" y="4542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9520" y="40896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520" y="3633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1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9520" y="317916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9520" y="272448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9520" y="226980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391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419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1308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20520" y="5680440"/>
                <a:ext cx="41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Oc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74760" y="5680440"/>
                <a:ext cx="232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0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977520" y="56804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Ab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50120" y="5680440"/>
                <a:ext cx="32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Lucida Sans Unicode"/>
                  </a:rPr>
                  <a:t>J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8101080" y="2206800"/>
              <a:ext cx="0" cy="35272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03120" y="1268280"/>
            <a:ext cx="88408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Times New Roman"/>
              </a:rPr>
              <a:t>Volatilidad Implícita de Opciones de S&amp;P 500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enero 2005 - julio 2006, porcentaje anualizado, valores dia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idades respecto del dólar estadouniden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e enero 2004=100, valores diar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920" y="1989000"/>
            <a:ext cx="8494560" cy="4063320"/>
            <a:chOff x="304920" y="1989000"/>
            <a:chExt cx="8494560" cy="4063320"/>
          </a:xfrm>
        </p:grpSpPr>
        <p:sp>
          <p:nvSpPr>
            <p:cNvPr id="373" name=""/>
            <p:cNvSpPr/>
            <p:nvPr/>
          </p:nvSpPr>
          <p:spPr>
            <a:xfrm>
              <a:off x="957240" y="3297240"/>
              <a:ext cx="7356600" cy="1074600"/>
            </a:xfrm>
            <a:custGeom>
              <a:avLst/>
              <a:gdLst/>
              <a:ahLst/>
              <a:rect l="l" t="t" r="r" b="b"/>
              <a:pathLst>
                <a:path w="746" h="115">
                  <a:moveTo>
                    <a:pt x="0" y="92"/>
                  </a:moveTo>
                  <a:lnTo>
                    <a:pt x="1" y="75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11" y="72"/>
                  </a:lnTo>
                  <a:lnTo>
                    <a:pt x="12" y="84"/>
                  </a:lnTo>
                  <a:lnTo>
                    <a:pt x="14" y="83"/>
                  </a:lnTo>
                  <a:lnTo>
                    <a:pt x="15" y="72"/>
                  </a:lnTo>
                  <a:lnTo>
                    <a:pt x="19" y="70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3" y="71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0" y="75"/>
                  </a:lnTo>
                  <a:lnTo>
                    <a:pt x="31" y="84"/>
                  </a:lnTo>
                  <a:lnTo>
                    <a:pt x="33" y="84"/>
                  </a:lnTo>
                  <a:lnTo>
                    <a:pt x="34" y="81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1" y="83"/>
                  </a:lnTo>
                  <a:lnTo>
                    <a:pt x="42" y="77"/>
                  </a:lnTo>
                  <a:lnTo>
                    <a:pt x="44" y="74"/>
                  </a:lnTo>
                  <a:lnTo>
                    <a:pt x="48" y="66"/>
                  </a:lnTo>
                  <a:lnTo>
                    <a:pt x="49" y="68"/>
                  </a:lnTo>
                  <a:lnTo>
                    <a:pt x="50" y="72"/>
                  </a:lnTo>
                  <a:lnTo>
                    <a:pt x="52" y="83"/>
                  </a:lnTo>
                  <a:lnTo>
                    <a:pt x="53" y="87"/>
                  </a:lnTo>
                  <a:lnTo>
                    <a:pt x="57" y="89"/>
                  </a:lnTo>
                  <a:lnTo>
                    <a:pt x="59" y="90"/>
                  </a:lnTo>
                  <a:lnTo>
                    <a:pt x="60" y="86"/>
                  </a:lnTo>
                  <a:lnTo>
                    <a:pt x="61" y="92"/>
                  </a:lnTo>
                  <a:lnTo>
                    <a:pt x="63" y="94"/>
                  </a:lnTo>
                  <a:lnTo>
                    <a:pt x="67" y="95"/>
                  </a:lnTo>
                  <a:lnTo>
                    <a:pt x="68" y="101"/>
                  </a:lnTo>
                  <a:lnTo>
                    <a:pt x="70" y="88"/>
                  </a:lnTo>
                  <a:lnTo>
                    <a:pt x="71" y="90"/>
                  </a:lnTo>
                  <a:lnTo>
                    <a:pt x="72" y="91"/>
                  </a:lnTo>
                  <a:lnTo>
                    <a:pt x="76" y="97"/>
                  </a:lnTo>
                  <a:lnTo>
                    <a:pt x="78" y="93"/>
                  </a:lnTo>
                  <a:lnTo>
                    <a:pt x="79" y="91"/>
                  </a:lnTo>
                  <a:lnTo>
                    <a:pt x="80" y="90"/>
                  </a:lnTo>
                  <a:lnTo>
                    <a:pt x="82" y="100"/>
                  </a:lnTo>
                  <a:lnTo>
                    <a:pt x="86" y="102"/>
                  </a:lnTo>
                  <a:lnTo>
                    <a:pt x="87" y="112"/>
                  </a:lnTo>
                  <a:lnTo>
                    <a:pt x="89" y="111"/>
                  </a:lnTo>
                  <a:lnTo>
                    <a:pt x="90" y="110"/>
                  </a:lnTo>
                  <a:lnTo>
                    <a:pt x="91" y="111"/>
                  </a:lnTo>
                  <a:lnTo>
                    <a:pt x="95" y="107"/>
                  </a:lnTo>
                  <a:lnTo>
                    <a:pt x="97" y="110"/>
                  </a:lnTo>
                  <a:lnTo>
                    <a:pt x="98" y="114"/>
                  </a:lnTo>
                  <a:lnTo>
                    <a:pt x="100" y="114"/>
                  </a:lnTo>
                  <a:lnTo>
                    <a:pt x="101" y="115"/>
                  </a:lnTo>
                  <a:lnTo>
                    <a:pt x="105" y="104"/>
                  </a:lnTo>
                  <a:lnTo>
                    <a:pt x="106" y="102"/>
                  </a:lnTo>
                  <a:lnTo>
                    <a:pt x="108" y="89"/>
                  </a:lnTo>
                  <a:lnTo>
                    <a:pt x="109" y="87"/>
                  </a:lnTo>
                  <a:lnTo>
                    <a:pt x="110" y="86"/>
                  </a:lnTo>
                  <a:lnTo>
                    <a:pt x="115" y="81"/>
                  </a:lnTo>
                  <a:lnTo>
                    <a:pt x="116" y="85"/>
                  </a:lnTo>
                  <a:lnTo>
                    <a:pt x="117" y="82"/>
                  </a:lnTo>
                  <a:lnTo>
                    <a:pt x="119" y="87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5" y="82"/>
                  </a:lnTo>
                  <a:lnTo>
                    <a:pt x="127" y="80"/>
                  </a:lnTo>
                  <a:lnTo>
                    <a:pt x="128" y="81"/>
                  </a:lnTo>
                  <a:lnTo>
                    <a:pt x="130" y="84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6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43" y="77"/>
                  </a:lnTo>
                  <a:lnTo>
                    <a:pt x="145" y="85"/>
                  </a:lnTo>
                  <a:lnTo>
                    <a:pt x="146" y="87"/>
                  </a:lnTo>
                  <a:lnTo>
                    <a:pt x="147" y="88"/>
                  </a:lnTo>
                  <a:lnTo>
                    <a:pt x="149" y="94"/>
                  </a:lnTo>
                  <a:lnTo>
                    <a:pt x="153" y="92"/>
                  </a:lnTo>
                  <a:lnTo>
                    <a:pt x="154" y="86"/>
                  </a:lnTo>
                  <a:lnTo>
                    <a:pt x="155" y="82"/>
                  </a:lnTo>
                  <a:lnTo>
                    <a:pt x="157" y="86"/>
                  </a:lnTo>
                  <a:lnTo>
                    <a:pt x="158" y="87"/>
                  </a:lnTo>
                  <a:lnTo>
                    <a:pt x="162" y="87"/>
                  </a:lnTo>
                  <a:lnTo>
                    <a:pt x="164" y="83"/>
                  </a:lnTo>
                  <a:lnTo>
                    <a:pt x="165" y="92"/>
                  </a:lnTo>
                  <a:lnTo>
                    <a:pt x="166" y="92"/>
                  </a:lnTo>
                  <a:lnTo>
                    <a:pt x="168" y="90"/>
                  </a:lnTo>
                  <a:lnTo>
                    <a:pt x="172" y="88"/>
                  </a:lnTo>
                  <a:lnTo>
                    <a:pt x="173" y="92"/>
                  </a:lnTo>
                  <a:lnTo>
                    <a:pt x="175" y="86"/>
                  </a:lnTo>
                  <a:lnTo>
                    <a:pt x="176" y="76"/>
                  </a:lnTo>
                  <a:lnTo>
                    <a:pt x="177" y="66"/>
                  </a:lnTo>
                  <a:lnTo>
                    <a:pt x="181" y="59"/>
                  </a:lnTo>
                  <a:lnTo>
                    <a:pt x="183" y="61"/>
                  </a:lnTo>
                  <a:lnTo>
                    <a:pt x="184" y="69"/>
                  </a:lnTo>
                  <a:lnTo>
                    <a:pt x="185" y="66"/>
                  </a:lnTo>
                  <a:lnTo>
                    <a:pt x="187" y="62"/>
                  </a:lnTo>
                  <a:lnTo>
                    <a:pt x="191" y="67"/>
                  </a:lnTo>
                  <a:lnTo>
                    <a:pt x="192" y="69"/>
                  </a:lnTo>
                  <a:lnTo>
                    <a:pt x="194" y="68"/>
                  </a:lnTo>
                  <a:lnTo>
                    <a:pt x="195" y="63"/>
                  </a:lnTo>
                  <a:lnTo>
                    <a:pt x="196" y="72"/>
                  </a:lnTo>
                  <a:lnTo>
                    <a:pt x="200" y="68"/>
                  </a:lnTo>
                  <a:lnTo>
                    <a:pt x="202" y="63"/>
                  </a:lnTo>
                  <a:lnTo>
                    <a:pt x="203" y="58"/>
                  </a:lnTo>
                  <a:lnTo>
                    <a:pt x="205" y="62"/>
                  </a:lnTo>
                  <a:lnTo>
                    <a:pt x="206" y="63"/>
                  </a:lnTo>
                  <a:lnTo>
                    <a:pt x="210" y="73"/>
                  </a:lnTo>
                  <a:lnTo>
                    <a:pt x="211" y="77"/>
                  </a:lnTo>
                  <a:lnTo>
                    <a:pt x="213" y="72"/>
                  </a:lnTo>
                  <a:lnTo>
                    <a:pt x="214" y="72"/>
                  </a:lnTo>
                  <a:lnTo>
                    <a:pt x="215" y="67"/>
                  </a:lnTo>
                  <a:lnTo>
                    <a:pt x="220" y="66"/>
                  </a:lnTo>
                  <a:lnTo>
                    <a:pt x="221" y="68"/>
                  </a:lnTo>
                  <a:lnTo>
                    <a:pt x="222" y="79"/>
                  </a:lnTo>
                  <a:lnTo>
                    <a:pt x="224" y="82"/>
                  </a:lnTo>
                  <a:lnTo>
                    <a:pt x="225" y="87"/>
                  </a:lnTo>
                  <a:lnTo>
                    <a:pt x="229" y="83"/>
                  </a:lnTo>
                  <a:lnTo>
                    <a:pt x="230" y="88"/>
                  </a:lnTo>
                  <a:lnTo>
                    <a:pt x="232" y="86"/>
                  </a:lnTo>
                  <a:lnTo>
                    <a:pt x="233" y="78"/>
                  </a:lnTo>
                  <a:lnTo>
                    <a:pt x="235" y="76"/>
                  </a:lnTo>
                  <a:lnTo>
                    <a:pt x="239" y="78"/>
                  </a:lnTo>
                  <a:lnTo>
                    <a:pt x="240" y="70"/>
                  </a:lnTo>
                  <a:lnTo>
                    <a:pt x="241" y="71"/>
                  </a:lnTo>
                  <a:lnTo>
                    <a:pt x="243" y="71"/>
                  </a:lnTo>
                  <a:lnTo>
                    <a:pt x="244" y="54"/>
                  </a:lnTo>
                  <a:lnTo>
                    <a:pt x="248" y="51"/>
                  </a:lnTo>
                  <a:lnTo>
                    <a:pt x="250" y="44"/>
                  </a:lnTo>
                  <a:lnTo>
                    <a:pt x="251" y="43"/>
                  </a:lnTo>
                  <a:lnTo>
                    <a:pt x="252" y="46"/>
                  </a:lnTo>
                  <a:lnTo>
                    <a:pt x="254" y="49"/>
                  </a:lnTo>
                  <a:lnTo>
                    <a:pt x="258" y="55"/>
                  </a:lnTo>
                  <a:lnTo>
                    <a:pt x="259" y="69"/>
                  </a:lnTo>
                  <a:lnTo>
                    <a:pt x="260" y="57"/>
                  </a:lnTo>
                  <a:lnTo>
                    <a:pt x="262" y="58"/>
                  </a:lnTo>
                  <a:lnTo>
                    <a:pt x="263" y="53"/>
                  </a:lnTo>
                  <a:lnTo>
                    <a:pt x="267" y="59"/>
                  </a:lnTo>
                  <a:lnTo>
                    <a:pt x="269" y="54"/>
                  </a:lnTo>
                  <a:lnTo>
                    <a:pt x="270" y="58"/>
                  </a:lnTo>
                  <a:lnTo>
                    <a:pt x="271" y="69"/>
                  </a:lnTo>
                  <a:lnTo>
                    <a:pt x="273" y="67"/>
                  </a:lnTo>
                  <a:lnTo>
                    <a:pt x="277" y="66"/>
                  </a:lnTo>
                  <a:lnTo>
                    <a:pt x="278" y="59"/>
                  </a:lnTo>
                  <a:lnTo>
                    <a:pt x="280" y="55"/>
                  </a:lnTo>
                  <a:lnTo>
                    <a:pt x="281" y="61"/>
                  </a:lnTo>
                  <a:lnTo>
                    <a:pt x="282" y="60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89" y="75"/>
                  </a:lnTo>
                  <a:lnTo>
                    <a:pt x="290" y="76"/>
                  </a:lnTo>
                  <a:lnTo>
                    <a:pt x="292" y="72"/>
                  </a:lnTo>
                  <a:lnTo>
                    <a:pt x="296" y="72"/>
                  </a:lnTo>
                  <a:lnTo>
                    <a:pt x="297" y="72"/>
                  </a:lnTo>
                  <a:lnTo>
                    <a:pt x="299" y="76"/>
                  </a:lnTo>
                  <a:lnTo>
                    <a:pt x="300" y="88"/>
                  </a:lnTo>
                  <a:lnTo>
                    <a:pt x="301" y="89"/>
                  </a:lnTo>
                  <a:lnTo>
                    <a:pt x="305" y="86"/>
                  </a:lnTo>
                  <a:lnTo>
                    <a:pt x="307" y="86"/>
                  </a:lnTo>
                  <a:lnTo>
                    <a:pt x="308" y="75"/>
                  </a:lnTo>
                  <a:lnTo>
                    <a:pt x="310" y="67"/>
                  </a:lnTo>
                  <a:lnTo>
                    <a:pt x="311" y="68"/>
                  </a:lnTo>
                  <a:lnTo>
                    <a:pt x="315" y="73"/>
                  </a:lnTo>
                  <a:lnTo>
                    <a:pt x="316" y="76"/>
                  </a:lnTo>
                  <a:lnTo>
                    <a:pt x="318" y="78"/>
                  </a:lnTo>
                  <a:lnTo>
                    <a:pt x="319" y="79"/>
                  </a:lnTo>
                  <a:lnTo>
                    <a:pt x="320" y="74"/>
                  </a:lnTo>
                  <a:lnTo>
                    <a:pt x="325" y="72"/>
                  </a:lnTo>
                  <a:lnTo>
                    <a:pt x="326" y="70"/>
                  </a:lnTo>
                  <a:lnTo>
                    <a:pt x="327" y="78"/>
                  </a:lnTo>
                  <a:lnTo>
                    <a:pt x="329" y="87"/>
                  </a:lnTo>
                  <a:lnTo>
                    <a:pt x="330" y="87"/>
                  </a:lnTo>
                  <a:lnTo>
                    <a:pt x="334" y="89"/>
                  </a:lnTo>
                  <a:lnTo>
                    <a:pt x="335" y="90"/>
                  </a:lnTo>
                  <a:lnTo>
                    <a:pt x="337" y="86"/>
                  </a:lnTo>
                  <a:lnTo>
                    <a:pt x="338" y="92"/>
                  </a:lnTo>
                  <a:lnTo>
                    <a:pt x="340" y="96"/>
                  </a:lnTo>
                  <a:lnTo>
                    <a:pt x="344" y="87"/>
                  </a:lnTo>
                  <a:lnTo>
                    <a:pt x="345" y="89"/>
                  </a:lnTo>
                  <a:lnTo>
                    <a:pt x="346" y="94"/>
                  </a:lnTo>
                  <a:lnTo>
                    <a:pt x="348" y="89"/>
                  </a:lnTo>
                  <a:lnTo>
                    <a:pt x="349" y="90"/>
                  </a:lnTo>
                  <a:lnTo>
                    <a:pt x="353" y="91"/>
                  </a:lnTo>
                  <a:lnTo>
                    <a:pt x="355" y="88"/>
                  </a:lnTo>
                  <a:lnTo>
                    <a:pt x="356" y="93"/>
                  </a:lnTo>
                  <a:lnTo>
                    <a:pt x="357" y="84"/>
                  </a:lnTo>
                  <a:lnTo>
                    <a:pt x="359" y="79"/>
                  </a:lnTo>
                  <a:lnTo>
                    <a:pt x="363" y="78"/>
                  </a:lnTo>
                  <a:lnTo>
                    <a:pt x="364" y="72"/>
                  </a:lnTo>
                  <a:lnTo>
                    <a:pt x="365" y="79"/>
                  </a:lnTo>
                  <a:lnTo>
                    <a:pt x="367" y="82"/>
                  </a:lnTo>
                  <a:lnTo>
                    <a:pt x="368" y="85"/>
                  </a:lnTo>
                  <a:lnTo>
                    <a:pt x="372" y="85"/>
                  </a:lnTo>
                  <a:lnTo>
                    <a:pt x="374" y="86"/>
                  </a:lnTo>
                  <a:lnTo>
                    <a:pt x="375" y="78"/>
                  </a:lnTo>
                  <a:lnTo>
                    <a:pt x="376" y="82"/>
                  </a:lnTo>
                  <a:lnTo>
                    <a:pt x="378" y="82"/>
                  </a:lnTo>
                  <a:lnTo>
                    <a:pt x="382" y="84"/>
                  </a:lnTo>
                  <a:lnTo>
                    <a:pt x="383" y="77"/>
                  </a:lnTo>
                  <a:lnTo>
                    <a:pt x="385" y="83"/>
                  </a:lnTo>
                  <a:lnTo>
                    <a:pt x="386" y="75"/>
                  </a:lnTo>
                  <a:lnTo>
                    <a:pt x="387" y="76"/>
                  </a:lnTo>
                  <a:lnTo>
                    <a:pt x="391" y="77"/>
                  </a:lnTo>
                  <a:lnTo>
                    <a:pt x="393" y="76"/>
                  </a:lnTo>
                  <a:lnTo>
                    <a:pt x="394" y="80"/>
                  </a:lnTo>
                  <a:lnTo>
                    <a:pt x="396" y="82"/>
                  </a:lnTo>
                  <a:lnTo>
                    <a:pt x="397" y="76"/>
                  </a:lnTo>
                  <a:lnTo>
                    <a:pt x="401" y="80"/>
                  </a:lnTo>
                  <a:lnTo>
                    <a:pt x="402" y="86"/>
                  </a:lnTo>
                  <a:lnTo>
                    <a:pt x="404" y="85"/>
                  </a:lnTo>
                  <a:lnTo>
                    <a:pt x="405" y="88"/>
                  </a:lnTo>
                  <a:lnTo>
                    <a:pt x="406" y="81"/>
                  </a:lnTo>
                  <a:lnTo>
                    <a:pt x="411" y="78"/>
                  </a:lnTo>
                  <a:lnTo>
                    <a:pt x="412" y="76"/>
                  </a:lnTo>
                  <a:lnTo>
                    <a:pt x="413" y="72"/>
                  </a:lnTo>
                  <a:lnTo>
                    <a:pt x="415" y="67"/>
                  </a:lnTo>
                  <a:lnTo>
                    <a:pt x="416" y="60"/>
                  </a:lnTo>
                  <a:lnTo>
                    <a:pt x="420" y="57"/>
                  </a:lnTo>
                  <a:lnTo>
                    <a:pt x="421" y="61"/>
                  </a:lnTo>
                  <a:lnTo>
                    <a:pt x="423" y="63"/>
                  </a:lnTo>
                  <a:lnTo>
                    <a:pt x="424" y="58"/>
                  </a:lnTo>
                  <a:lnTo>
                    <a:pt x="426" y="60"/>
                  </a:lnTo>
                  <a:lnTo>
                    <a:pt x="430" y="52"/>
                  </a:lnTo>
                  <a:lnTo>
                    <a:pt x="431" y="59"/>
                  </a:lnTo>
                  <a:lnTo>
                    <a:pt x="432" y="57"/>
                  </a:lnTo>
                  <a:lnTo>
                    <a:pt x="434" y="62"/>
                  </a:lnTo>
                  <a:lnTo>
                    <a:pt x="435" y="61"/>
                  </a:lnTo>
                  <a:lnTo>
                    <a:pt x="439" y="65"/>
                  </a:lnTo>
                  <a:lnTo>
                    <a:pt x="441" y="70"/>
                  </a:lnTo>
                  <a:lnTo>
                    <a:pt x="442" y="72"/>
                  </a:lnTo>
                  <a:lnTo>
                    <a:pt x="443" y="73"/>
                  </a:lnTo>
                  <a:lnTo>
                    <a:pt x="445" y="73"/>
                  </a:lnTo>
                  <a:lnTo>
                    <a:pt x="449" y="81"/>
                  </a:lnTo>
                  <a:lnTo>
                    <a:pt x="450" y="76"/>
                  </a:lnTo>
                  <a:lnTo>
                    <a:pt x="451" y="78"/>
                  </a:lnTo>
                  <a:lnTo>
                    <a:pt x="453" y="81"/>
                  </a:lnTo>
                  <a:lnTo>
                    <a:pt x="454" y="89"/>
                  </a:lnTo>
                  <a:lnTo>
                    <a:pt x="458" y="95"/>
                  </a:lnTo>
                  <a:lnTo>
                    <a:pt x="460" y="96"/>
                  </a:lnTo>
                  <a:lnTo>
                    <a:pt x="461" y="84"/>
                  </a:lnTo>
                  <a:lnTo>
                    <a:pt x="462" y="86"/>
                  </a:lnTo>
                  <a:lnTo>
                    <a:pt x="464" y="87"/>
                  </a:lnTo>
                  <a:lnTo>
                    <a:pt x="468" y="95"/>
                  </a:lnTo>
                  <a:lnTo>
                    <a:pt x="469" y="93"/>
                  </a:lnTo>
                  <a:lnTo>
                    <a:pt x="471" y="93"/>
                  </a:lnTo>
                  <a:lnTo>
                    <a:pt x="472" y="81"/>
                  </a:lnTo>
                  <a:lnTo>
                    <a:pt x="473" y="77"/>
                  </a:lnTo>
                  <a:lnTo>
                    <a:pt x="477" y="71"/>
                  </a:lnTo>
                  <a:lnTo>
                    <a:pt x="479" y="63"/>
                  </a:lnTo>
                  <a:lnTo>
                    <a:pt x="480" y="63"/>
                  </a:lnTo>
                  <a:lnTo>
                    <a:pt x="481" y="59"/>
                  </a:lnTo>
                  <a:lnTo>
                    <a:pt x="483" y="58"/>
                  </a:lnTo>
                  <a:lnTo>
                    <a:pt x="487" y="59"/>
                  </a:lnTo>
                  <a:lnTo>
                    <a:pt x="488" y="52"/>
                  </a:lnTo>
                  <a:lnTo>
                    <a:pt x="490" y="62"/>
                  </a:lnTo>
                  <a:lnTo>
                    <a:pt x="491" y="64"/>
                  </a:lnTo>
                  <a:lnTo>
                    <a:pt x="492" y="67"/>
                  </a:lnTo>
                  <a:lnTo>
                    <a:pt x="496" y="65"/>
                  </a:lnTo>
                  <a:lnTo>
                    <a:pt x="498" y="73"/>
                  </a:lnTo>
                  <a:lnTo>
                    <a:pt x="499" y="80"/>
                  </a:lnTo>
                  <a:lnTo>
                    <a:pt x="501" y="76"/>
                  </a:lnTo>
                  <a:lnTo>
                    <a:pt x="502" y="81"/>
                  </a:lnTo>
                  <a:lnTo>
                    <a:pt x="506" y="81"/>
                  </a:lnTo>
                  <a:lnTo>
                    <a:pt x="507" y="79"/>
                  </a:lnTo>
                  <a:lnTo>
                    <a:pt x="509" y="86"/>
                  </a:lnTo>
                  <a:lnTo>
                    <a:pt x="510" y="81"/>
                  </a:lnTo>
                  <a:lnTo>
                    <a:pt x="511" y="86"/>
                  </a:lnTo>
                  <a:lnTo>
                    <a:pt x="516" y="85"/>
                  </a:lnTo>
                  <a:lnTo>
                    <a:pt x="517" y="80"/>
                  </a:lnTo>
                  <a:lnTo>
                    <a:pt x="518" y="73"/>
                  </a:lnTo>
                  <a:lnTo>
                    <a:pt x="520" y="71"/>
                  </a:lnTo>
                  <a:lnTo>
                    <a:pt x="521" y="75"/>
                  </a:lnTo>
                  <a:lnTo>
                    <a:pt x="525" y="81"/>
                  </a:lnTo>
                  <a:lnTo>
                    <a:pt x="526" y="79"/>
                  </a:lnTo>
                  <a:lnTo>
                    <a:pt x="528" y="82"/>
                  </a:lnTo>
                  <a:lnTo>
                    <a:pt x="529" y="79"/>
                  </a:lnTo>
                  <a:lnTo>
                    <a:pt x="531" y="78"/>
                  </a:lnTo>
                  <a:lnTo>
                    <a:pt x="535" y="79"/>
                  </a:lnTo>
                  <a:lnTo>
                    <a:pt x="536" y="89"/>
                  </a:lnTo>
                  <a:lnTo>
                    <a:pt x="537" y="83"/>
                  </a:lnTo>
                  <a:lnTo>
                    <a:pt x="539" y="85"/>
                  </a:lnTo>
                  <a:lnTo>
                    <a:pt x="540" y="82"/>
                  </a:lnTo>
                  <a:lnTo>
                    <a:pt x="544" y="74"/>
                  </a:lnTo>
                  <a:lnTo>
                    <a:pt x="546" y="70"/>
                  </a:lnTo>
                  <a:lnTo>
                    <a:pt x="547" y="68"/>
                  </a:lnTo>
                  <a:lnTo>
                    <a:pt x="548" y="73"/>
                  </a:lnTo>
                  <a:lnTo>
                    <a:pt x="550" y="69"/>
                  </a:lnTo>
                  <a:lnTo>
                    <a:pt x="554" y="66"/>
                  </a:lnTo>
                  <a:lnTo>
                    <a:pt x="555" y="71"/>
                  </a:lnTo>
                  <a:lnTo>
                    <a:pt x="556" y="66"/>
                  </a:lnTo>
                  <a:lnTo>
                    <a:pt x="558" y="64"/>
                  </a:lnTo>
                  <a:lnTo>
                    <a:pt x="559" y="65"/>
                  </a:lnTo>
                  <a:lnTo>
                    <a:pt x="563" y="67"/>
                  </a:lnTo>
                  <a:lnTo>
                    <a:pt x="565" y="62"/>
                  </a:lnTo>
                  <a:lnTo>
                    <a:pt x="566" y="59"/>
                  </a:lnTo>
                  <a:lnTo>
                    <a:pt x="567" y="60"/>
                  </a:lnTo>
                  <a:lnTo>
                    <a:pt x="569" y="63"/>
                  </a:lnTo>
                  <a:lnTo>
                    <a:pt x="573" y="62"/>
                  </a:lnTo>
                  <a:lnTo>
                    <a:pt x="574" y="67"/>
                  </a:lnTo>
                  <a:lnTo>
                    <a:pt x="576" y="70"/>
                  </a:lnTo>
                  <a:lnTo>
                    <a:pt x="577" y="75"/>
                  </a:lnTo>
                  <a:lnTo>
                    <a:pt x="578" y="71"/>
                  </a:lnTo>
                  <a:lnTo>
                    <a:pt x="582" y="63"/>
                  </a:lnTo>
                  <a:lnTo>
                    <a:pt x="584" y="51"/>
                  </a:lnTo>
                  <a:lnTo>
                    <a:pt x="585" y="51"/>
                  </a:lnTo>
                  <a:lnTo>
                    <a:pt x="586" y="47"/>
                  </a:lnTo>
                  <a:lnTo>
                    <a:pt x="588" y="43"/>
                  </a:lnTo>
                  <a:lnTo>
                    <a:pt x="592" y="44"/>
                  </a:lnTo>
                  <a:lnTo>
                    <a:pt x="593" y="47"/>
                  </a:lnTo>
                  <a:lnTo>
                    <a:pt x="595" y="51"/>
                  </a:lnTo>
                  <a:lnTo>
                    <a:pt x="596" y="47"/>
                  </a:lnTo>
                  <a:lnTo>
                    <a:pt x="597" y="37"/>
                  </a:lnTo>
                  <a:lnTo>
                    <a:pt x="601" y="26"/>
                  </a:lnTo>
                  <a:lnTo>
                    <a:pt x="603" y="22"/>
                  </a:lnTo>
                  <a:lnTo>
                    <a:pt x="604" y="24"/>
                  </a:lnTo>
                  <a:lnTo>
                    <a:pt x="606" y="21"/>
                  </a:lnTo>
                  <a:lnTo>
                    <a:pt x="607" y="7"/>
                  </a:lnTo>
                  <a:lnTo>
                    <a:pt x="611" y="3"/>
                  </a:lnTo>
                  <a:lnTo>
                    <a:pt x="612" y="0"/>
                  </a:lnTo>
                  <a:lnTo>
                    <a:pt x="614" y="2"/>
                  </a:lnTo>
                  <a:lnTo>
                    <a:pt x="615" y="15"/>
                  </a:lnTo>
                  <a:lnTo>
                    <a:pt x="616" y="16"/>
                  </a:lnTo>
                  <a:lnTo>
                    <a:pt x="621" y="10"/>
                  </a:lnTo>
                  <a:lnTo>
                    <a:pt x="622" y="15"/>
                  </a:lnTo>
                  <a:lnTo>
                    <a:pt x="623" y="24"/>
                  </a:lnTo>
                  <a:lnTo>
                    <a:pt x="625" y="27"/>
                  </a:lnTo>
                  <a:lnTo>
                    <a:pt x="626" y="21"/>
                  </a:lnTo>
                  <a:lnTo>
                    <a:pt x="630" y="25"/>
                  </a:lnTo>
                  <a:lnTo>
                    <a:pt x="631" y="29"/>
                  </a:lnTo>
                  <a:lnTo>
                    <a:pt x="633" y="31"/>
                  </a:lnTo>
                  <a:lnTo>
                    <a:pt x="634" y="29"/>
                  </a:lnTo>
                  <a:lnTo>
                    <a:pt x="636" y="28"/>
                  </a:lnTo>
                  <a:lnTo>
                    <a:pt x="640" y="39"/>
                  </a:lnTo>
                  <a:lnTo>
                    <a:pt x="641" y="46"/>
                  </a:lnTo>
                  <a:lnTo>
                    <a:pt x="642" y="53"/>
                  </a:lnTo>
                  <a:lnTo>
                    <a:pt x="644" y="43"/>
                  </a:lnTo>
                  <a:lnTo>
                    <a:pt x="645" y="50"/>
                  </a:lnTo>
                  <a:lnTo>
                    <a:pt x="649" y="47"/>
                  </a:lnTo>
                  <a:lnTo>
                    <a:pt x="651" y="48"/>
                  </a:lnTo>
                  <a:lnTo>
                    <a:pt x="652" y="58"/>
                  </a:lnTo>
                  <a:lnTo>
                    <a:pt x="653" y="61"/>
                  </a:lnTo>
                  <a:lnTo>
                    <a:pt x="655" y="67"/>
                  </a:lnTo>
                  <a:lnTo>
                    <a:pt x="659" y="67"/>
                  </a:lnTo>
                  <a:lnTo>
                    <a:pt x="660" y="73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78"/>
                  </a:lnTo>
                  <a:lnTo>
                    <a:pt x="668" y="70"/>
                  </a:lnTo>
                  <a:lnTo>
                    <a:pt x="670" y="75"/>
                  </a:lnTo>
                  <a:lnTo>
                    <a:pt x="671" y="72"/>
                  </a:lnTo>
                  <a:lnTo>
                    <a:pt x="672" y="74"/>
                  </a:lnTo>
                  <a:lnTo>
                    <a:pt x="674" y="69"/>
                  </a:lnTo>
                  <a:lnTo>
                    <a:pt x="678" y="57"/>
                  </a:lnTo>
                  <a:lnTo>
                    <a:pt x="679" y="67"/>
                  </a:lnTo>
                  <a:lnTo>
                    <a:pt x="681" y="57"/>
                  </a:lnTo>
                  <a:lnTo>
                    <a:pt x="682" y="59"/>
                  </a:lnTo>
                  <a:lnTo>
                    <a:pt x="683" y="55"/>
                  </a:lnTo>
                  <a:lnTo>
                    <a:pt x="687" y="55"/>
                  </a:lnTo>
                  <a:lnTo>
                    <a:pt x="689" y="53"/>
                  </a:lnTo>
                  <a:lnTo>
                    <a:pt x="690" y="59"/>
                  </a:lnTo>
                  <a:lnTo>
                    <a:pt x="691" y="72"/>
                  </a:lnTo>
                  <a:lnTo>
                    <a:pt x="693" y="67"/>
                  </a:lnTo>
                  <a:lnTo>
                    <a:pt x="697" y="67"/>
                  </a:lnTo>
                  <a:lnTo>
                    <a:pt x="698" y="75"/>
                  </a:lnTo>
                  <a:lnTo>
                    <a:pt x="700" y="66"/>
                  </a:lnTo>
                  <a:lnTo>
                    <a:pt x="701" y="59"/>
                  </a:lnTo>
                  <a:lnTo>
                    <a:pt x="702" y="63"/>
                  </a:lnTo>
                  <a:lnTo>
                    <a:pt x="706" y="60"/>
                  </a:lnTo>
                  <a:lnTo>
                    <a:pt x="708" y="52"/>
                  </a:lnTo>
                  <a:lnTo>
                    <a:pt x="709" y="51"/>
                  </a:lnTo>
                  <a:lnTo>
                    <a:pt x="711" y="48"/>
                  </a:lnTo>
                  <a:lnTo>
                    <a:pt x="712" y="62"/>
                  </a:lnTo>
                  <a:lnTo>
                    <a:pt x="716" y="60"/>
                  </a:lnTo>
                  <a:lnTo>
                    <a:pt x="717" y="46"/>
                  </a:lnTo>
                  <a:lnTo>
                    <a:pt x="719" y="46"/>
                  </a:lnTo>
                  <a:lnTo>
                    <a:pt x="720" y="51"/>
                  </a:lnTo>
                  <a:lnTo>
                    <a:pt x="721" y="42"/>
                  </a:lnTo>
                  <a:lnTo>
                    <a:pt x="726" y="41"/>
                  </a:lnTo>
                  <a:lnTo>
                    <a:pt x="727" y="44"/>
                  </a:lnTo>
                  <a:lnTo>
                    <a:pt x="728" y="49"/>
                  </a:lnTo>
                  <a:lnTo>
                    <a:pt x="730" y="35"/>
                  </a:lnTo>
                  <a:lnTo>
                    <a:pt x="731" y="32"/>
                  </a:lnTo>
                  <a:lnTo>
                    <a:pt x="735" y="30"/>
                  </a:lnTo>
                  <a:lnTo>
                    <a:pt x="736" y="31"/>
                  </a:lnTo>
                  <a:lnTo>
                    <a:pt x="738" y="23"/>
                  </a:lnTo>
                  <a:lnTo>
                    <a:pt x="739" y="37"/>
                  </a:lnTo>
                  <a:lnTo>
                    <a:pt x="741" y="40"/>
                  </a:lnTo>
                  <a:lnTo>
                    <a:pt x="745" y="40"/>
                  </a:lnTo>
                  <a:lnTo>
                    <a:pt x="746" y="45"/>
                  </a:lnTo>
                </a:path>
              </a:pathLst>
            </a:custGeom>
            <a:noFill/>
            <a:ln w="30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04920" y="5808600"/>
              <a:ext cx="8494560" cy="243720"/>
              <a:chOff x="304920" y="5808600"/>
              <a:chExt cx="8494560" cy="243720"/>
            </a:xfrm>
          </p:grpSpPr>
          <p:sp>
            <p:nvSpPr>
              <p:cNvPr id="375" name=""/>
              <p:cNvSpPr/>
              <p:nvPr/>
            </p:nvSpPr>
            <p:spPr>
              <a:xfrm>
                <a:off x="6796080" y="5808600"/>
                <a:ext cx="200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América Latina 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5440" y="5808600"/>
                <a:ext cx="101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Zona E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67560" y="5808600"/>
                <a:ext cx="735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Japón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1680" y="5808600"/>
                <a:ext cx="3338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Lucida Sans Unicode"/>
                    <a:ea typeface="ＭＳ Ｐゴシック"/>
                  </a:rPr>
                  <a:t>Exportadores Commodities 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920" y="5880240"/>
                <a:ext cx="277560" cy="0"/>
              </a:xfrm>
              <a:prstGeom prst="line">
                <a:avLst/>
              </a:prstGeom>
              <a:ln w="33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17640" y="5880240"/>
                <a:ext cx="277920" cy="0"/>
              </a:xfrm>
              <a:prstGeom prst="line">
                <a:avLst/>
              </a:prstGeom>
              <a:ln w="334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06640" y="5883120"/>
                <a:ext cx="279360" cy="0"/>
              </a:xfrm>
              <a:prstGeom prst="line">
                <a:avLst/>
              </a:prstGeom>
              <a:ln w="33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6360" y="5900760"/>
                <a:ext cx="279360" cy="0"/>
              </a:xfrm>
              <a:prstGeom prst="line">
                <a:avLst/>
              </a:prstGeom>
              <a:ln w="334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957240" y="419400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57240" y="3147840"/>
              <a:ext cx="735660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57240" y="2111400"/>
              <a:ext cx="735660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57240" y="5230800"/>
              <a:ext cx="735660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9572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17008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39264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2600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6908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1920" y="5230440"/>
              <a:ext cx="144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04120" y="5230440"/>
              <a:ext cx="1800" cy="666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57240" y="2241720"/>
              <a:ext cx="7356600" cy="1858680"/>
            </a:xfrm>
            <a:custGeom>
              <a:avLst/>
              <a:gdLst/>
              <a:ahLst/>
              <a:rect l="l" t="t" r="r" b="b"/>
              <a:pathLst>
                <a:path w="746" h="199">
                  <a:moveTo>
                    <a:pt x="0" y="191"/>
                  </a:moveTo>
                  <a:lnTo>
                    <a:pt x="1" y="173"/>
                  </a:lnTo>
                  <a:lnTo>
                    <a:pt x="3" y="177"/>
                  </a:lnTo>
                  <a:lnTo>
                    <a:pt x="4" y="168"/>
                  </a:lnTo>
                  <a:lnTo>
                    <a:pt x="5" y="171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2" y="195"/>
                  </a:lnTo>
                  <a:lnTo>
                    <a:pt x="14" y="196"/>
                  </a:lnTo>
                  <a:lnTo>
                    <a:pt x="15" y="199"/>
                  </a:lnTo>
                  <a:lnTo>
                    <a:pt x="19" y="198"/>
                  </a:lnTo>
                  <a:lnTo>
                    <a:pt x="20" y="197"/>
                  </a:lnTo>
                  <a:lnTo>
                    <a:pt x="22" y="191"/>
                  </a:lnTo>
                  <a:lnTo>
                    <a:pt x="23" y="185"/>
                  </a:lnTo>
                  <a:lnTo>
                    <a:pt x="25" y="192"/>
                  </a:lnTo>
                  <a:lnTo>
                    <a:pt x="29" y="193"/>
                  </a:lnTo>
                  <a:lnTo>
                    <a:pt x="30" y="178"/>
                  </a:lnTo>
                  <a:lnTo>
                    <a:pt x="31" y="188"/>
                  </a:lnTo>
                  <a:lnTo>
                    <a:pt x="33" y="192"/>
                  </a:lnTo>
                  <a:lnTo>
                    <a:pt x="34" y="186"/>
                  </a:lnTo>
                  <a:lnTo>
                    <a:pt x="38" y="182"/>
                  </a:lnTo>
                  <a:lnTo>
                    <a:pt x="40" y="182"/>
                  </a:lnTo>
                  <a:lnTo>
                    <a:pt x="41" y="183"/>
                  </a:lnTo>
                  <a:lnTo>
                    <a:pt x="42" y="174"/>
                  </a:lnTo>
                  <a:lnTo>
                    <a:pt x="44" y="178"/>
                  </a:lnTo>
                  <a:lnTo>
                    <a:pt x="48" y="170"/>
                  </a:lnTo>
                  <a:lnTo>
                    <a:pt x="49" y="159"/>
                  </a:lnTo>
                  <a:lnTo>
                    <a:pt x="50" y="162"/>
                  </a:lnTo>
                  <a:lnTo>
                    <a:pt x="52" y="159"/>
                  </a:lnTo>
                  <a:lnTo>
                    <a:pt x="53" y="161"/>
                  </a:lnTo>
                  <a:lnTo>
                    <a:pt x="57" y="167"/>
                  </a:lnTo>
                  <a:lnTo>
                    <a:pt x="59" y="17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68" y="178"/>
                  </a:lnTo>
                  <a:lnTo>
                    <a:pt x="70" y="170"/>
                  </a:lnTo>
                  <a:lnTo>
                    <a:pt x="71" y="164"/>
                  </a:lnTo>
                  <a:lnTo>
                    <a:pt x="72" y="166"/>
                  </a:lnTo>
                  <a:lnTo>
                    <a:pt x="76" y="172"/>
                  </a:lnTo>
                  <a:lnTo>
                    <a:pt x="78" y="175"/>
                  </a:lnTo>
                  <a:lnTo>
                    <a:pt x="79" y="171"/>
                  </a:lnTo>
                  <a:lnTo>
                    <a:pt x="80" y="165"/>
                  </a:lnTo>
                  <a:lnTo>
                    <a:pt x="82" y="170"/>
                  </a:lnTo>
                  <a:lnTo>
                    <a:pt x="86" y="166"/>
                  </a:lnTo>
                  <a:lnTo>
                    <a:pt x="87" y="172"/>
                  </a:lnTo>
                  <a:lnTo>
                    <a:pt x="89" y="179"/>
                  </a:lnTo>
                  <a:lnTo>
                    <a:pt x="90" y="177"/>
                  </a:lnTo>
                  <a:lnTo>
                    <a:pt x="91" y="179"/>
                  </a:lnTo>
                  <a:lnTo>
                    <a:pt x="95" y="170"/>
                  </a:lnTo>
                  <a:lnTo>
                    <a:pt x="97" y="173"/>
                  </a:lnTo>
                  <a:lnTo>
                    <a:pt x="98" y="177"/>
                  </a:lnTo>
                  <a:lnTo>
                    <a:pt x="100" y="173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06" y="162"/>
                  </a:lnTo>
                  <a:lnTo>
                    <a:pt x="108" y="158"/>
                  </a:lnTo>
                  <a:lnTo>
                    <a:pt x="109" y="154"/>
                  </a:lnTo>
                  <a:lnTo>
                    <a:pt x="110" y="154"/>
                  </a:lnTo>
                  <a:lnTo>
                    <a:pt x="115" y="145"/>
                  </a:lnTo>
                  <a:lnTo>
                    <a:pt x="116" y="141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0" y="141"/>
                  </a:lnTo>
                  <a:lnTo>
                    <a:pt x="124" y="134"/>
                  </a:lnTo>
                  <a:lnTo>
                    <a:pt x="125" y="135"/>
                  </a:lnTo>
                  <a:lnTo>
                    <a:pt x="127" y="130"/>
                  </a:lnTo>
                  <a:lnTo>
                    <a:pt x="128" y="130"/>
                  </a:lnTo>
                  <a:lnTo>
                    <a:pt x="130" y="134"/>
                  </a:lnTo>
                  <a:lnTo>
                    <a:pt x="134" y="138"/>
                  </a:lnTo>
                  <a:lnTo>
                    <a:pt x="135" y="139"/>
                  </a:lnTo>
                  <a:lnTo>
                    <a:pt x="136" y="144"/>
                  </a:lnTo>
                  <a:lnTo>
                    <a:pt x="138" y="135"/>
                  </a:lnTo>
                  <a:lnTo>
                    <a:pt x="139" y="139"/>
                  </a:lnTo>
                  <a:lnTo>
                    <a:pt x="143" y="142"/>
                  </a:lnTo>
                  <a:lnTo>
                    <a:pt x="145" y="150"/>
                  </a:lnTo>
                  <a:lnTo>
                    <a:pt x="146" y="149"/>
                  </a:lnTo>
                  <a:lnTo>
                    <a:pt x="147" y="148"/>
                  </a:lnTo>
                  <a:lnTo>
                    <a:pt x="149" y="158"/>
                  </a:lnTo>
                  <a:lnTo>
                    <a:pt x="153" y="161"/>
                  </a:lnTo>
                  <a:lnTo>
                    <a:pt x="154" y="157"/>
                  </a:lnTo>
                  <a:lnTo>
                    <a:pt x="155" y="159"/>
                  </a:lnTo>
                  <a:lnTo>
                    <a:pt x="157" y="156"/>
                  </a:lnTo>
                  <a:lnTo>
                    <a:pt x="158" y="171"/>
                  </a:lnTo>
                  <a:lnTo>
                    <a:pt x="162" y="168"/>
                  </a:lnTo>
                  <a:lnTo>
                    <a:pt x="164" y="167"/>
                  </a:lnTo>
                  <a:lnTo>
                    <a:pt x="165" y="173"/>
                  </a:lnTo>
                  <a:lnTo>
                    <a:pt x="166" y="174"/>
                  </a:lnTo>
                  <a:lnTo>
                    <a:pt x="168" y="168"/>
                  </a:lnTo>
                  <a:lnTo>
                    <a:pt x="172" y="162"/>
                  </a:lnTo>
                  <a:lnTo>
                    <a:pt x="173" y="162"/>
                  </a:lnTo>
                  <a:lnTo>
                    <a:pt x="175" y="160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81" y="150"/>
                  </a:lnTo>
                  <a:lnTo>
                    <a:pt x="183" y="142"/>
                  </a:lnTo>
                  <a:lnTo>
                    <a:pt x="184" y="147"/>
                  </a:lnTo>
                  <a:lnTo>
                    <a:pt x="185" y="141"/>
                  </a:lnTo>
                  <a:lnTo>
                    <a:pt x="187" y="135"/>
                  </a:lnTo>
                  <a:lnTo>
                    <a:pt x="191" y="140"/>
                  </a:lnTo>
                  <a:lnTo>
                    <a:pt x="192" y="141"/>
                  </a:lnTo>
                  <a:lnTo>
                    <a:pt x="194" y="140"/>
                  </a:lnTo>
                  <a:lnTo>
                    <a:pt x="195" y="137"/>
                  </a:lnTo>
                  <a:lnTo>
                    <a:pt x="196" y="138"/>
                  </a:lnTo>
                  <a:lnTo>
                    <a:pt x="200" y="137"/>
                  </a:lnTo>
                  <a:lnTo>
                    <a:pt x="202" y="131"/>
                  </a:lnTo>
                  <a:lnTo>
                    <a:pt x="203" y="129"/>
                  </a:lnTo>
                  <a:lnTo>
                    <a:pt x="205" y="134"/>
                  </a:lnTo>
                  <a:lnTo>
                    <a:pt x="206" y="140"/>
                  </a:lnTo>
                  <a:lnTo>
                    <a:pt x="210" y="148"/>
                  </a:lnTo>
                  <a:lnTo>
                    <a:pt x="211" y="151"/>
                  </a:lnTo>
                  <a:lnTo>
                    <a:pt x="213" y="144"/>
                  </a:lnTo>
                  <a:lnTo>
                    <a:pt x="214" y="143"/>
                  </a:lnTo>
                  <a:lnTo>
                    <a:pt x="215" y="130"/>
                  </a:lnTo>
                  <a:lnTo>
                    <a:pt x="220" y="120"/>
                  </a:lnTo>
                  <a:lnTo>
                    <a:pt x="221" y="121"/>
                  </a:lnTo>
                  <a:lnTo>
                    <a:pt x="222" y="124"/>
                  </a:lnTo>
                  <a:lnTo>
                    <a:pt x="224" y="127"/>
                  </a:lnTo>
                  <a:lnTo>
                    <a:pt x="225" y="131"/>
                  </a:lnTo>
                  <a:lnTo>
                    <a:pt x="229" y="124"/>
                  </a:lnTo>
                  <a:lnTo>
                    <a:pt x="230" y="135"/>
                  </a:lnTo>
                  <a:lnTo>
                    <a:pt x="232" y="128"/>
                  </a:lnTo>
                  <a:lnTo>
                    <a:pt x="233" y="127"/>
                  </a:lnTo>
                  <a:lnTo>
                    <a:pt x="235" y="126"/>
                  </a:lnTo>
                  <a:lnTo>
                    <a:pt x="239" y="124"/>
                  </a:lnTo>
                  <a:lnTo>
                    <a:pt x="240" y="116"/>
                  </a:lnTo>
                  <a:lnTo>
                    <a:pt x="241" y="111"/>
                  </a:lnTo>
                  <a:lnTo>
                    <a:pt x="243" y="106"/>
                  </a:lnTo>
                  <a:lnTo>
                    <a:pt x="244" y="97"/>
                  </a:lnTo>
                  <a:lnTo>
                    <a:pt x="248" y="99"/>
                  </a:lnTo>
                  <a:lnTo>
                    <a:pt x="250" y="98"/>
                  </a:lnTo>
                  <a:lnTo>
                    <a:pt x="251" y="93"/>
                  </a:lnTo>
                  <a:lnTo>
                    <a:pt x="252" y="94"/>
                  </a:lnTo>
                  <a:lnTo>
                    <a:pt x="254" y="93"/>
                  </a:lnTo>
                  <a:lnTo>
                    <a:pt x="258" y="97"/>
                  </a:lnTo>
                  <a:lnTo>
                    <a:pt x="259" y="108"/>
                  </a:lnTo>
                  <a:lnTo>
                    <a:pt x="260" y="96"/>
                  </a:lnTo>
                  <a:lnTo>
                    <a:pt x="262" y="91"/>
                  </a:lnTo>
                  <a:lnTo>
                    <a:pt x="263" y="93"/>
                  </a:lnTo>
                  <a:lnTo>
                    <a:pt x="267" y="95"/>
                  </a:lnTo>
                  <a:lnTo>
                    <a:pt x="269" y="88"/>
                  </a:lnTo>
                  <a:lnTo>
                    <a:pt x="270" y="86"/>
                  </a:lnTo>
                  <a:lnTo>
                    <a:pt x="271" y="113"/>
                  </a:lnTo>
                  <a:lnTo>
                    <a:pt x="273" y="102"/>
                  </a:lnTo>
                  <a:lnTo>
                    <a:pt x="277" y="100"/>
                  </a:lnTo>
                  <a:lnTo>
                    <a:pt x="278" y="89"/>
                  </a:lnTo>
                  <a:lnTo>
                    <a:pt x="280" y="90"/>
                  </a:lnTo>
                  <a:lnTo>
                    <a:pt x="281" y="94"/>
                  </a:lnTo>
                  <a:lnTo>
                    <a:pt x="282" y="90"/>
                  </a:lnTo>
                  <a:lnTo>
                    <a:pt x="286" y="92"/>
                  </a:lnTo>
                  <a:lnTo>
                    <a:pt x="288" y="100"/>
                  </a:lnTo>
                  <a:lnTo>
                    <a:pt x="289" y="105"/>
                  </a:lnTo>
                  <a:lnTo>
                    <a:pt x="290" y="103"/>
                  </a:lnTo>
                  <a:lnTo>
                    <a:pt x="292" y="96"/>
                  </a:lnTo>
                  <a:lnTo>
                    <a:pt x="296" y="93"/>
                  </a:lnTo>
                  <a:lnTo>
                    <a:pt x="297" y="96"/>
                  </a:lnTo>
                  <a:lnTo>
                    <a:pt x="299" y="109"/>
                  </a:lnTo>
                  <a:lnTo>
                    <a:pt x="300" y="119"/>
                  </a:lnTo>
                  <a:lnTo>
                    <a:pt x="301" y="122"/>
                  </a:lnTo>
                  <a:lnTo>
                    <a:pt x="305" y="124"/>
                  </a:lnTo>
                  <a:lnTo>
                    <a:pt x="307" y="121"/>
                  </a:lnTo>
                  <a:lnTo>
                    <a:pt x="308" y="117"/>
                  </a:lnTo>
                  <a:lnTo>
                    <a:pt x="310" y="110"/>
                  </a:lnTo>
                  <a:lnTo>
                    <a:pt x="311" y="111"/>
                  </a:lnTo>
                  <a:lnTo>
                    <a:pt x="315" y="118"/>
                  </a:lnTo>
                  <a:lnTo>
                    <a:pt x="316" y="117"/>
                  </a:lnTo>
                  <a:lnTo>
                    <a:pt x="318" y="114"/>
                  </a:lnTo>
                  <a:lnTo>
                    <a:pt x="319" y="115"/>
                  </a:lnTo>
                  <a:lnTo>
                    <a:pt x="320" y="114"/>
                  </a:lnTo>
                  <a:lnTo>
                    <a:pt x="325" y="109"/>
                  </a:lnTo>
                  <a:lnTo>
                    <a:pt x="326" y="103"/>
                  </a:lnTo>
                  <a:lnTo>
                    <a:pt x="327" y="110"/>
                  </a:lnTo>
                  <a:lnTo>
                    <a:pt x="329" y="118"/>
                  </a:lnTo>
                  <a:lnTo>
                    <a:pt x="330" y="118"/>
                  </a:lnTo>
                  <a:lnTo>
                    <a:pt x="334" y="125"/>
                  </a:lnTo>
                  <a:lnTo>
                    <a:pt x="335" y="119"/>
                  </a:lnTo>
                  <a:lnTo>
                    <a:pt x="337" y="115"/>
                  </a:lnTo>
                  <a:lnTo>
                    <a:pt x="338" y="110"/>
                  </a:lnTo>
                  <a:lnTo>
                    <a:pt x="340" y="119"/>
                  </a:lnTo>
                  <a:lnTo>
                    <a:pt x="344" y="112"/>
                  </a:lnTo>
                  <a:lnTo>
                    <a:pt x="345" y="109"/>
                  </a:lnTo>
                  <a:lnTo>
                    <a:pt x="346" y="112"/>
                  </a:lnTo>
                  <a:lnTo>
                    <a:pt x="348" y="109"/>
                  </a:lnTo>
                  <a:lnTo>
                    <a:pt x="349" y="102"/>
                  </a:lnTo>
                  <a:lnTo>
                    <a:pt x="353" y="100"/>
                  </a:lnTo>
                  <a:lnTo>
                    <a:pt x="355" y="95"/>
                  </a:lnTo>
                  <a:lnTo>
                    <a:pt x="356" y="102"/>
                  </a:lnTo>
                  <a:lnTo>
                    <a:pt x="357" y="98"/>
                  </a:lnTo>
                  <a:lnTo>
                    <a:pt x="359" y="90"/>
                  </a:lnTo>
                  <a:lnTo>
                    <a:pt x="363" y="93"/>
                  </a:lnTo>
                  <a:lnTo>
                    <a:pt x="364" y="81"/>
                  </a:lnTo>
                  <a:lnTo>
                    <a:pt x="365" y="83"/>
                  </a:lnTo>
                  <a:lnTo>
                    <a:pt x="367" y="84"/>
                  </a:lnTo>
                  <a:lnTo>
                    <a:pt x="368" y="79"/>
                  </a:lnTo>
                  <a:lnTo>
                    <a:pt x="372" y="73"/>
                  </a:lnTo>
                  <a:lnTo>
                    <a:pt x="374" y="72"/>
                  </a:lnTo>
                  <a:lnTo>
                    <a:pt x="375" y="74"/>
                  </a:lnTo>
                  <a:lnTo>
                    <a:pt x="376" y="81"/>
                  </a:lnTo>
                  <a:lnTo>
                    <a:pt x="378" y="76"/>
                  </a:lnTo>
                  <a:lnTo>
                    <a:pt x="382" y="73"/>
                  </a:lnTo>
                  <a:lnTo>
                    <a:pt x="383" y="68"/>
                  </a:lnTo>
                  <a:lnTo>
                    <a:pt x="385" y="70"/>
                  </a:lnTo>
                  <a:lnTo>
                    <a:pt x="386" y="69"/>
                  </a:lnTo>
                  <a:lnTo>
                    <a:pt x="387" y="73"/>
                  </a:lnTo>
                  <a:lnTo>
                    <a:pt x="391" y="64"/>
                  </a:lnTo>
                  <a:lnTo>
                    <a:pt x="393" y="56"/>
                  </a:lnTo>
                  <a:lnTo>
                    <a:pt x="394" y="59"/>
                  </a:lnTo>
                  <a:lnTo>
                    <a:pt x="396" y="60"/>
                  </a:lnTo>
                  <a:lnTo>
                    <a:pt x="397" y="54"/>
                  </a:lnTo>
                  <a:lnTo>
                    <a:pt x="401" y="59"/>
                  </a:lnTo>
                  <a:lnTo>
                    <a:pt x="402" y="63"/>
                  </a:lnTo>
                  <a:lnTo>
                    <a:pt x="404" y="55"/>
                  </a:lnTo>
                  <a:lnTo>
                    <a:pt x="405" y="59"/>
                  </a:lnTo>
                  <a:lnTo>
                    <a:pt x="406" y="57"/>
                  </a:lnTo>
                  <a:lnTo>
                    <a:pt x="411" y="49"/>
                  </a:lnTo>
                  <a:lnTo>
                    <a:pt x="412" y="45"/>
                  </a:lnTo>
                  <a:lnTo>
                    <a:pt x="413" y="44"/>
                  </a:lnTo>
                  <a:lnTo>
                    <a:pt x="415" y="40"/>
                  </a:lnTo>
                  <a:lnTo>
                    <a:pt x="416" y="29"/>
                  </a:lnTo>
                  <a:lnTo>
                    <a:pt x="420" y="36"/>
                  </a:lnTo>
                  <a:lnTo>
                    <a:pt x="421" y="40"/>
                  </a:lnTo>
                  <a:lnTo>
                    <a:pt x="423" y="37"/>
                  </a:lnTo>
                  <a:lnTo>
                    <a:pt x="424" y="30"/>
                  </a:lnTo>
                  <a:lnTo>
                    <a:pt x="426" y="32"/>
                  </a:lnTo>
                  <a:lnTo>
                    <a:pt x="430" y="24"/>
                  </a:lnTo>
                  <a:lnTo>
                    <a:pt x="431" y="23"/>
                  </a:lnTo>
                  <a:lnTo>
                    <a:pt x="432" y="20"/>
                  </a:lnTo>
                  <a:lnTo>
                    <a:pt x="434" y="24"/>
                  </a:lnTo>
                  <a:lnTo>
                    <a:pt x="435" y="21"/>
                  </a:lnTo>
                  <a:lnTo>
                    <a:pt x="439" y="21"/>
                  </a:lnTo>
                  <a:lnTo>
                    <a:pt x="441" y="24"/>
                  </a:lnTo>
                  <a:lnTo>
                    <a:pt x="442" y="24"/>
                  </a:lnTo>
                  <a:lnTo>
                    <a:pt x="443" y="22"/>
                  </a:lnTo>
                  <a:lnTo>
                    <a:pt x="445" y="15"/>
                  </a:lnTo>
                  <a:lnTo>
                    <a:pt x="449" y="24"/>
                  </a:lnTo>
                  <a:lnTo>
                    <a:pt x="450" y="15"/>
                  </a:lnTo>
                  <a:lnTo>
                    <a:pt x="451" y="13"/>
                  </a:lnTo>
                  <a:lnTo>
                    <a:pt x="453" y="5"/>
                  </a:lnTo>
                  <a:lnTo>
                    <a:pt x="454" y="5"/>
                  </a:lnTo>
                  <a:lnTo>
                    <a:pt x="458" y="3"/>
                  </a:lnTo>
                  <a:lnTo>
                    <a:pt x="460" y="2"/>
                  </a:lnTo>
                  <a:lnTo>
                    <a:pt x="461" y="0"/>
                  </a:lnTo>
                  <a:lnTo>
                    <a:pt x="462" y="8"/>
                  </a:lnTo>
                  <a:lnTo>
                    <a:pt x="464" y="4"/>
                  </a:lnTo>
                  <a:lnTo>
                    <a:pt x="468" y="14"/>
                  </a:lnTo>
                  <a:lnTo>
                    <a:pt x="469" y="12"/>
                  </a:lnTo>
                  <a:lnTo>
                    <a:pt x="471" y="39"/>
                  </a:lnTo>
                  <a:lnTo>
                    <a:pt x="472" y="51"/>
                  </a:lnTo>
                  <a:lnTo>
                    <a:pt x="473" y="56"/>
                  </a:lnTo>
                  <a:lnTo>
                    <a:pt x="477" y="52"/>
                  </a:lnTo>
                  <a:lnTo>
                    <a:pt x="479" y="40"/>
                  </a:lnTo>
                  <a:lnTo>
                    <a:pt x="480" y="38"/>
                  </a:lnTo>
                  <a:lnTo>
                    <a:pt x="481" y="46"/>
                  </a:lnTo>
                  <a:lnTo>
                    <a:pt x="483" y="50"/>
                  </a:lnTo>
                  <a:lnTo>
                    <a:pt x="487" y="50"/>
                  </a:lnTo>
                  <a:lnTo>
                    <a:pt x="488" y="38"/>
                  </a:lnTo>
                  <a:lnTo>
                    <a:pt x="490" y="33"/>
                  </a:lnTo>
                  <a:lnTo>
                    <a:pt x="491" y="34"/>
                  </a:lnTo>
                  <a:lnTo>
                    <a:pt x="492" y="35"/>
                  </a:lnTo>
                  <a:lnTo>
                    <a:pt x="496" y="33"/>
                  </a:lnTo>
                  <a:lnTo>
                    <a:pt x="498" y="51"/>
                  </a:lnTo>
                  <a:lnTo>
                    <a:pt x="499" y="52"/>
                  </a:lnTo>
                  <a:lnTo>
                    <a:pt x="501" y="54"/>
                  </a:lnTo>
                  <a:lnTo>
                    <a:pt x="502" y="69"/>
                  </a:lnTo>
                  <a:lnTo>
                    <a:pt x="506" y="69"/>
                  </a:lnTo>
                  <a:lnTo>
                    <a:pt x="507" y="71"/>
                  </a:lnTo>
                  <a:lnTo>
                    <a:pt x="509" y="72"/>
                  </a:lnTo>
                  <a:lnTo>
                    <a:pt x="510" y="70"/>
                  </a:lnTo>
                  <a:lnTo>
                    <a:pt x="511" y="72"/>
                  </a:lnTo>
                  <a:lnTo>
                    <a:pt x="516" y="64"/>
                  </a:lnTo>
                  <a:lnTo>
                    <a:pt x="517" y="59"/>
                  </a:lnTo>
                  <a:lnTo>
                    <a:pt x="518" y="61"/>
                  </a:lnTo>
                  <a:lnTo>
                    <a:pt x="520" y="59"/>
                  </a:lnTo>
                  <a:lnTo>
                    <a:pt x="521" y="61"/>
                  </a:lnTo>
                  <a:lnTo>
                    <a:pt x="525" y="70"/>
                  </a:lnTo>
                  <a:lnTo>
                    <a:pt x="526" y="67"/>
                  </a:lnTo>
                  <a:lnTo>
                    <a:pt x="528" y="55"/>
                  </a:lnTo>
                  <a:lnTo>
                    <a:pt x="529" y="49"/>
                  </a:lnTo>
                  <a:lnTo>
                    <a:pt x="531" y="39"/>
                  </a:lnTo>
                  <a:lnTo>
                    <a:pt x="535" y="36"/>
                  </a:lnTo>
                  <a:lnTo>
                    <a:pt x="536" y="41"/>
                  </a:lnTo>
                  <a:lnTo>
                    <a:pt x="537" y="32"/>
                  </a:lnTo>
                  <a:lnTo>
                    <a:pt x="539" y="26"/>
                  </a:lnTo>
                  <a:lnTo>
                    <a:pt x="540" y="22"/>
                  </a:lnTo>
                  <a:lnTo>
                    <a:pt x="544" y="21"/>
                  </a:lnTo>
                  <a:lnTo>
                    <a:pt x="546" y="33"/>
                  </a:lnTo>
                  <a:lnTo>
                    <a:pt x="547" y="27"/>
                  </a:lnTo>
                  <a:lnTo>
                    <a:pt x="548" y="23"/>
                  </a:lnTo>
                  <a:lnTo>
                    <a:pt x="550" y="34"/>
                  </a:lnTo>
                  <a:lnTo>
                    <a:pt x="554" y="35"/>
                  </a:lnTo>
                  <a:lnTo>
                    <a:pt x="555" y="38"/>
                  </a:lnTo>
                  <a:lnTo>
                    <a:pt x="556" y="33"/>
                  </a:lnTo>
                  <a:lnTo>
                    <a:pt x="558" y="37"/>
                  </a:lnTo>
                  <a:lnTo>
                    <a:pt x="559" y="32"/>
                  </a:lnTo>
                  <a:lnTo>
                    <a:pt x="563" y="29"/>
                  </a:lnTo>
                  <a:lnTo>
                    <a:pt x="565" y="25"/>
                  </a:lnTo>
                  <a:lnTo>
                    <a:pt x="566" y="27"/>
                  </a:lnTo>
                  <a:lnTo>
                    <a:pt x="567" y="41"/>
                  </a:lnTo>
                  <a:lnTo>
                    <a:pt x="569" y="44"/>
                  </a:lnTo>
                  <a:lnTo>
                    <a:pt x="573" y="52"/>
                  </a:lnTo>
                  <a:lnTo>
                    <a:pt x="574" y="56"/>
                  </a:lnTo>
                  <a:lnTo>
                    <a:pt x="576" y="52"/>
                  </a:lnTo>
                  <a:lnTo>
                    <a:pt x="577" y="54"/>
                  </a:lnTo>
                  <a:lnTo>
                    <a:pt x="578" y="49"/>
                  </a:lnTo>
                  <a:lnTo>
                    <a:pt x="582" y="37"/>
                  </a:lnTo>
                  <a:lnTo>
                    <a:pt x="584" y="34"/>
                  </a:lnTo>
                  <a:lnTo>
                    <a:pt x="585" y="34"/>
                  </a:lnTo>
                  <a:lnTo>
                    <a:pt x="586" y="30"/>
                  </a:lnTo>
                  <a:lnTo>
                    <a:pt x="588" y="22"/>
                  </a:lnTo>
                  <a:lnTo>
                    <a:pt x="592" y="25"/>
                  </a:lnTo>
                  <a:lnTo>
                    <a:pt x="593" y="36"/>
                  </a:lnTo>
                  <a:lnTo>
                    <a:pt x="595" y="39"/>
                  </a:lnTo>
                  <a:lnTo>
                    <a:pt x="596" y="45"/>
                  </a:lnTo>
                  <a:lnTo>
                    <a:pt x="597" y="54"/>
                  </a:lnTo>
                  <a:lnTo>
                    <a:pt x="601" y="49"/>
                  </a:lnTo>
                  <a:lnTo>
                    <a:pt x="603" y="40"/>
                  </a:lnTo>
                  <a:lnTo>
                    <a:pt x="604" y="42"/>
                  </a:lnTo>
                  <a:lnTo>
                    <a:pt x="606" y="34"/>
                  </a:lnTo>
                  <a:lnTo>
                    <a:pt x="607" y="38"/>
                  </a:lnTo>
                  <a:lnTo>
                    <a:pt x="611" y="45"/>
                  </a:lnTo>
                  <a:lnTo>
                    <a:pt x="612" y="33"/>
                  </a:lnTo>
                  <a:lnTo>
                    <a:pt x="614" y="34"/>
                  </a:lnTo>
                  <a:lnTo>
                    <a:pt x="615" y="39"/>
                  </a:lnTo>
                  <a:lnTo>
                    <a:pt x="616" y="35"/>
                  </a:lnTo>
                  <a:lnTo>
                    <a:pt x="621" y="36"/>
                  </a:lnTo>
                  <a:lnTo>
                    <a:pt x="622" y="37"/>
                  </a:lnTo>
                  <a:lnTo>
                    <a:pt x="623" y="38"/>
                  </a:lnTo>
                  <a:lnTo>
                    <a:pt x="625" y="35"/>
                  </a:lnTo>
                  <a:lnTo>
                    <a:pt x="626" y="29"/>
                  </a:lnTo>
                  <a:lnTo>
                    <a:pt x="630" y="29"/>
                  </a:lnTo>
                  <a:lnTo>
                    <a:pt x="631" y="29"/>
                  </a:lnTo>
                  <a:lnTo>
                    <a:pt x="633" y="26"/>
                  </a:lnTo>
                  <a:lnTo>
                    <a:pt x="634" y="26"/>
                  </a:lnTo>
                  <a:lnTo>
                    <a:pt x="636" y="25"/>
                  </a:lnTo>
                  <a:lnTo>
                    <a:pt x="640" y="34"/>
                  </a:lnTo>
                  <a:lnTo>
                    <a:pt x="641" y="41"/>
                  </a:lnTo>
                  <a:lnTo>
                    <a:pt x="642" y="40"/>
                  </a:lnTo>
                  <a:lnTo>
                    <a:pt x="644" y="37"/>
                  </a:lnTo>
                  <a:lnTo>
                    <a:pt x="645" y="47"/>
                  </a:lnTo>
                  <a:lnTo>
                    <a:pt x="649" y="67"/>
                  </a:lnTo>
                  <a:lnTo>
                    <a:pt x="651" y="65"/>
                  </a:lnTo>
                  <a:lnTo>
                    <a:pt x="652" y="66"/>
                  </a:lnTo>
                  <a:lnTo>
                    <a:pt x="653" y="73"/>
                  </a:lnTo>
                  <a:lnTo>
                    <a:pt x="655" y="76"/>
                  </a:lnTo>
                  <a:lnTo>
                    <a:pt x="659" y="81"/>
                  </a:lnTo>
                  <a:lnTo>
                    <a:pt x="660" y="81"/>
                  </a:lnTo>
                  <a:lnTo>
                    <a:pt x="661" y="78"/>
                  </a:lnTo>
                  <a:lnTo>
                    <a:pt x="663" y="78"/>
                  </a:lnTo>
                  <a:lnTo>
                    <a:pt x="664" y="89"/>
                  </a:lnTo>
                  <a:lnTo>
                    <a:pt x="668" y="99"/>
                  </a:lnTo>
                  <a:lnTo>
                    <a:pt x="670" y="105"/>
                  </a:lnTo>
                  <a:lnTo>
                    <a:pt x="671" y="111"/>
                  </a:lnTo>
                  <a:lnTo>
                    <a:pt x="672" y="108"/>
                  </a:lnTo>
                  <a:lnTo>
                    <a:pt x="674" y="116"/>
                  </a:lnTo>
                  <a:lnTo>
                    <a:pt x="678" y="111"/>
                  </a:lnTo>
                  <a:lnTo>
                    <a:pt x="679" y="118"/>
                  </a:lnTo>
                  <a:lnTo>
                    <a:pt x="681" y="106"/>
                  </a:lnTo>
                  <a:lnTo>
                    <a:pt x="682" y="107"/>
                  </a:lnTo>
                  <a:lnTo>
                    <a:pt x="683" y="98"/>
                  </a:lnTo>
                  <a:lnTo>
                    <a:pt x="687" y="100"/>
                  </a:lnTo>
                  <a:lnTo>
                    <a:pt x="689" y="95"/>
                  </a:lnTo>
                  <a:lnTo>
                    <a:pt x="690" y="85"/>
                  </a:lnTo>
                  <a:lnTo>
                    <a:pt x="691" y="97"/>
                  </a:lnTo>
                  <a:lnTo>
                    <a:pt x="693" y="88"/>
                  </a:lnTo>
                  <a:lnTo>
                    <a:pt x="697" y="90"/>
                  </a:lnTo>
                  <a:lnTo>
                    <a:pt x="698" y="93"/>
                  </a:lnTo>
                  <a:lnTo>
                    <a:pt x="700" y="88"/>
                  </a:lnTo>
                  <a:lnTo>
                    <a:pt x="701" y="88"/>
                  </a:lnTo>
                  <a:lnTo>
                    <a:pt x="702" y="98"/>
                  </a:lnTo>
                  <a:lnTo>
                    <a:pt x="706" y="92"/>
                  </a:lnTo>
                  <a:lnTo>
                    <a:pt x="708" y="81"/>
                  </a:lnTo>
                  <a:lnTo>
                    <a:pt x="709" y="79"/>
                  </a:lnTo>
                  <a:lnTo>
                    <a:pt x="711" y="72"/>
                  </a:lnTo>
                  <a:lnTo>
                    <a:pt x="712" y="74"/>
                  </a:lnTo>
                  <a:lnTo>
                    <a:pt x="716" y="70"/>
                  </a:lnTo>
                  <a:lnTo>
                    <a:pt x="717" y="59"/>
                  </a:lnTo>
                  <a:lnTo>
                    <a:pt x="719" y="63"/>
                  </a:lnTo>
                  <a:lnTo>
                    <a:pt x="720" y="66"/>
                  </a:lnTo>
                  <a:lnTo>
                    <a:pt x="721" y="62"/>
                  </a:lnTo>
                  <a:lnTo>
                    <a:pt x="726" y="58"/>
                  </a:lnTo>
                  <a:lnTo>
                    <a:pt x="727" y="64"/>
                  </a:lnTo>
                  <a:lnTo>
                    <a:pt x="728" y="65"/>
                  </a:lnTo>
                  <a:lnTo>
                    <a:pt x="730" y="52"/>
                  </a:lnTo>
                  <a:lnTo>
                    <a:pt x="731" y="47"/>
                  </a:lnTo>
                  <a:lnTo>
                    <a:pt x="735" y="50"/>
                  </a:lnTo>
                  <a:lnTo>
                    <a:pt x="736" y="50"/>
                  </a:lnTo>
                  <a:lnTo>
                    <a:pt x="738" y="48"/>
                  </a:lnTo>
                  <a:lnTo>
                    <a:pt x="739" y="62"/>
                  </a:lnTo>
                  <a:lnTo>
                    <a:pt x="741" y="70"/>
                  </a:lnTo>
                  <a:lnTo>
                    <a:pt x="745" y="67"/>
                  </a:lnTo>
                  <a:lnTo>
                    <a:pt x="746" y="67"/>
                  </a:lnTo>
                </a:path>
              </a:pathLst>
            </a:custGeom>
            <a:noFill/>
            <a:ln w="30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57240" y="3708360"/>
              <a:ext cx="7356600" cy="1327320"/>
            </a:xfrm>
            <a:custGeom>
              <a:avLst/>
              <a:gdLst/>
              <a:ahLst/>
              <a:rect l="l" t="t" r="r" b="b"/>
              <a:pathLst>
                <a:path w="746" h="142">
                  <a:moveTo>
                    <a:pt x="0" y="16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7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9" y="12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5"/>
                  </a:lnTo>
                  <a:lnTo>
                    <a:pt x="25" y="13"/>
                  </a:lnTo>
                  <a:lnTo>
                    <a:pt x="29" y="15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15"/>
                  </a:lnTo>
                  <a:lnTo>
                    <a:pt x="34" y="21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4" y="31"/>
                  </a:lnTo>
                  <a:lnTo>
                    <a:pt x="48" y="30"/>
                  </a:lnTo>
                  <a:lnTo>
                    <a:pt x="49" y="26"/>
                  </a:lnTo>
                  <a:lnTo>
                    <a:pt x="50" y="33"/>
                  </a:lnTo>
                  <a:lnTo>
                    <a:pt x="52" y="31"/>
                  </a:lnTo>
                  <a:lnTo>
                    <a:pt x="53" y="34"/>
                  </a:lnTo>
                  <a:lnTo>
                    <a:pt x="57" y="39"/>
                  </a:lnTo>
                  <a:lnTo>
                    <a:pt x="59" y="37"/>
                  </a:lnTo>
                  <a:lnTo>
                    <a:pt x="60" y="40"/>
                  </a:lnTo>
                  <a:lnTo>
                    <a:pt x="61" y="44"/>
                  </a:lnTo>
                  <a:lnTo>
                    <a:pt x="63" y="42"/>
                  </a:lnTo>
                  <a:lnTo>
                    <a:pt x="67" y="41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1" y="27"/>
                  </a:lnTo>
                  <a:lnTo>
                    <a:pt x="72" y="31"/>
                  </a:lnTo>
                  <a:lnTo>
                    <a:pt x="76" y="37"/>
                  </a:lnTo>
                  <a:lnTo>
                    <a:pt x="78" y="27"/>
                  </a:lnTo>
                  <a:lnTo>
                    <a:pt x="79" y="25"/>
                  </a:lnTo>
                  <a:lnTo>
                    <a:pt x="80" y="16"/>
                  </a:lnTo>
                  <a:lnTo>
                    <a:pt x="82" y="25"/>
                  </a:lnTo>
                  <a:lnTo>
                    <a:pt x="86" y="21"/>
                  </a:lnTo>
                  <a:lnTo>
                    <a:pt x="87" y="20"/>
                  </a:lnTo>
                  <a:lnTo>
                    <a:pt x="89" y="15"/>
                  </a:lnTo>
                  <a:lnTo>
                    <a:pt x="90" y="15"/>
                  </a:lnTo>
                  <a:lnTo>
                    <a:pt x="91" y="14"/>
                  </a:lnTo>
                  <a:lnTo>
                    <a:pt x="95" y="6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9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06" y="4"/>
                  </a:lnTo>
                  <a:lnTo>
                    <a:pt x="108" y="1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5" y="4"/>
                  </a:lnTo>
                  <a:lnTo>
                    <a:pt x="116" y="10"/>
                  </a:lnTo>
                  <a:lnTo>
                    <a:pt x="117" y="16"/>
                  </a:lnTo>
                  <a:lnTo>
                    <a:pt x="119" y="18"/>
                  </a:lnTo>
                  <a:lnTo>
                    <a:pt x="120" y="21"/>
                  </a:lnTo>
                  <a:lnTo>
                    <a:pt x="124" y="23"/>
                  </a:lnTo>
                  <a:lnTo>
                    <a:pt x="125" y="24"/>
                  </a:lnTo>
                  <a:lnTo>
                    <a:pt x="127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4" y="40"/>
                  </a:lnTo>
                  <a:lnTo>
                    <a:pt x="135" y="44"/>
                  </a:lnTo>
                  <a:lnTo>
                    <a:pt x="136" y="46"/>
                  </a:lnTo>
                  <a:lnTo>
                    <a:pt x="138" y="38"/>
                  </a:lnTo>
                  <a:lnTo>
                    <a:pt x="139" y="33"/>
                  </a:lnTo>
                  <a:lnTo>
                    <a:pt x="143" y="34"/>
                  </a:lnTo>
                  <a:lnTo>
                    <a:pt x="145" y="42"/>
                  </a:lnTo>
                  <a:lnTo>
                    <a:pt x="146" y="44"/>
                  </a:lnTo>
                  <a:lnTo>
                    <a:pt x="147" y="48"/>
                  </a:lnTo>
                  <a:lnTo>
                    <a:pt x="149" y="49"/>
                  </a:lnTo>
                  <a:lnTo>
                    <a:pt x="153" y="52"/>
                  </a:lnTo>
                  <a:lnTo>
                    <a:pt x="154" y="48"/>
                  </a:lnTo>
                  <a:lnTo>
                    <a:pt x="155" y="52"/>
                  </a:lnTo>
                  <a:lnTo>
                    <a:pt x="157" y="44"/>
                  </a:lnTo>
                  <a:lnTo>
                    <a:pt x="158" y="50"/>
                  </a:lnTo>
                  <a:lnTo>
                    <a:pt x="162" y="54"/>
                  </a:lnTo>
                  <a:lnTo>
                    <a:pt x="164" y="60"/>
                  </a:lnTo>
                  <a:lnTo>
                    <a:pt x="165" y="66"/>
                  </a:lnTo>
                  <a:lnTo>
                    <a:pt x="166" y="68"/>
                  </a:lnTo>
                  <a:lnTo>
                    <a:pt x="168" y="68"/>
                  </a:lnTo>
                  <a:lnTo>
                    <a:pt x="172" y="69"/>
                  </a:lnTo>
                  <a:lnTo>
                    <a:pt x="173" y="63"/>
                  </a:lnTo>
                  <a:lnTo>
                    <a:pt x="175" y="67"/>
                  </a:lnTo>
                  <a:lnTo>
                    <a:pt x="176" y="63"/>
                  </a:lnTo>
                  <a:lnTo>
                    <a:pt x="177" y="62"/>
                  </a:lnTo>
                  <a:lnTo>
                    <a:pt x="181" y="63"/>
                  </a:lnTo>
                  <a:lnTo>
                    <a:pt x="183" y="62"/>
                  </a:lnTo>
                  <a:lnTo>
                    <a:pt x="184" y="69"/>
                  </a:lnTo>
                  <a:lnTo>
                    <a:pt x="185" y="70"/>
                  </a:lnTo>
                  <a:lnTo>
                    <a:pt x="187" y="70"/>
                  </a:lnTo>
                  <a:lnTo>
                    <a:pt x="191" y="73"/>
                  </a:lnTo>
                  <a:lnTo>
                    <a:pt x="192" y="73"/>
                  </a:lnTo>
                  <a:lnTo>
                    <a:pt x="194" y="77"/>
                  </a:lnTo>
                  <a:lnTo>
                    <a:pt x="195" y="76"/>
                  </a:lnTo>
                  <a:lnTo>
                    <a:pt x="196" y="83"/>
                  </a:lnTo>
                  <a:lnTo>
                    <a:pt x="200" y="87"/>
                  </a:lnTo>
                  <a:lnTo>
                    <a:pt x="202" y="79"/>
                  </a:lnTo>
                  <a:lnTo>
                    <a:pt x="203" y="71"/>
                  </a:lnTo>
                  <a:lnTo>
                    <a:pt x="205" y="79"/>
                  </a:lnTo>
                  <a:lnTo>
                    <a:pt x="206" y="75"/>
                  </a:lnTo>
                  <a:lnTo>
                    <a:pt x="210" y="69"/>
                  </a:lnTo>
                  <a:lnTo>
                    <a:pt x="211" y="68"/>
                  </a:lnTo>
                  <a:lnTo>
                    <a:pt x="213" y="68"/>
                  </a:lnTo>
                  <a:lnTo>
                    <a:pt x="214" y="61"/>
                  </a:lnTo>
                  <a:lnTo>
                    <a:pt x="215" y="66"/>
                  </a:lnTo>
                  <a:lnTo>
                    <a:pt x="220" y="73"/>
                  </a:lnTo>
                  <a:lnTo>
                    <a:pt x="221" y="76"/>
                  </a:lnTo>
                  <a:lnTo>
                    <a:pt x="222" y="79"/>
                  </a:lnTo>
                  <a:lnTo>
                    <a:pt x="224" y="83"/>
                  </a:lnTo>
                  <a:lnTo>
                    <a:pt x="225" y="86"/>
                  </a:lnTo>
                  <a:lnTo>
                    <a:pt x="229" y="85"/>
                  </a:lnTo>
                  <a:lnTo>
                    <a:pt x="230" y="91"/>
                  </a:lnTo>
                  <a:lnTo>
                    <a:pt x="232" y="89"/>
                  </a:lnTo>
                  <a:lnTo>
                    <a:pt x="233" y="83"/>
                  </a:lnTo>
                  <a:lnTo>
                    <a:pt x="235" y="88"/>
                  </a:lnTo>
                  <a:lnTo>
                    <a:pt x="239" y="87"/>
                  </a:lnTo>
                  <a:lnTo>
                    <a:pt x="240" y="88"/>
                  </a:lnTo>
                  <a:lnTo>
                    <a:pt x="241" y="93"/>
                  </a:lnTo>
                  <a:lnTo>
                    <a:pt x="243" y="97"/>
                  </a:lnTo>
                  <a:lnTo>
                    <a:pt x="244" y="93"/>
                  </a:lnTo>
                  <a:lnTo>
                    <a:pt x="248" y="91"/>
                  </a:lnTo>
                  <a:lnTo>
                    <a:pt x="250" y="88"/>
                  </a:lnTo>
                  <a:lnTo>
                    <a:pt x="251" y="85"/>
                  </a:lnTo>
                  <a:lnTo>
                    <a:pt x="252" y="88"/>
                  </a:lnTo>
                  <a:lnTo>
                    <a:pt x="254" y="90"/>
                  </a:lnTo>
                  <a:lnTo>
                    <a:pt x="258" y="99"/>
                  </a:lnTo>
                  <a:lnTo>
                    <a:pt x="259" y="98"/>
                  </a:lnTo>
                  <a:lnTo>
                    <a:pt x="260" y="97"/>
                  </a:lnTo>
                  <a:lnTo>
                    <a:pt x="262" y="101"/>
                  </a:lnTo>
                  <a:lnTo>
                    <a:pt x="263" y="102"/>
                  </a:lnTo>
                  <a:lnTo>
                    <a:pt x="267" y="103"/>
                  </a:lnTo>
                  <a:lnTo>
                    <a:pt x="269" y="102"/>
                  </a:lnTo>
                  <a:lnTo>
                    <a:pt x="270" y="102"/>
                  </a:lnTo>
                  <a:lnTo>
                    <a:pt x="271" y="100"/>
                  </a:lnTo>
                  <a:lnTo>
                    <a:pt x="273" y="91"/>
                  </a:lnTo>
                  <a:lnTo>
                    <a:pt x="277" y="72"/>
                  </a:lnTo>
                  <a:lnTo>
                    <a:pt x="278" y="84"/>
                  </a:lnTo>
                  <a:lnTo>
                    <a:pt x="280" y="83"/>
                  </a:lnTo>
                  <a:lnTo>
                    <a:pt x="281" y="91"/>
                  </a:lnTo>
                  <a:lnTo>
                    <a:pt x="282" y="97"/>
                  </a:lnTo>
                  <a:lnTo>
                    <a:pt x="286" y="99"/>
                  </a:lnTo>
                  <a:lnTo>
                    <a:pt x="288" y="104"/>
                  </a:lnTo>
                  <a:lnTo>
                    <a:pt x="289" y="110"/>
                  </a:lnTo>
                  <a:lnTo>
                    <a:pt x="290" y="113"/>
                  </a:lnTo>
                  <a:lnTo>
                    <a:pt x="292" y="110"/>
                  </a:lnTo>
                  <a:lnTo>
                    <a:pt x="296" y="106"/>
                  </a:lnTo>
                  <a:lnTo>
                    <a:pt x="297" y="114"/>
                  </a:lnTo>
                  <a:lnTo>
                    <a:pt x="299" y="117"/>
                  </a:lnTo>
                  <a:lnTo>
                    <a:pt x="300" y="101"/>
                  </a:lnTo>
                  <a:lnTo>
                    <a:pt x="301" y="98"/>
                  </a:lnTo>
                  <a:lnTo>
                    <a:pt x="305" y="107"/>
                  </a:lnTo>
                  <a:lnTo>
                    <a:pt x="307" y="104"/>
                  </a:lnTo>
                  <a:lnTo>
                    <a:pt x="308" y="101"/>
                  </a:lnTo>
                  <a:lnTo>
                    <a:pt x="310" y="90"/>
                  </a:lnTo>
                  <a:lnTo>
                    <a:pt x="311" y="78"/>
                  </a:lnTo>
                  <a:lnTo>
                    <a:pt x="315" y="93"/>
                  </a:lnTo>
                  <a:lnTo>
                    <a:pt x="316" y="84"/>
                  </a:lnTo>
                  <a:lnTo>
                    <a:pt x="318" y="72"/>
                  </a:lnTo>
                  <a:lnTo>
                    <a:pt x="319" y="86"/>
                  </a:lnTo>
                  <a:lnTo>
                    <a:pt x="320" y="83"/>
                  </a:lnTo>
                  <a:lnTo>
                    <a:pt x="325" y="86"/>
                  </a:lnTo>
                  <a:lnTo>
                    <a:pt x="326" y="88"/>
                  </a:lnTo>
                  <a:lnTo>
                    <a:pt x="327" y="95"/>
                  </a:lnTo>
                  <a:lnTo>
                    <a:pt x="329" y="96"/>
                  </a:lnTo>
                  <a:lnTo>
                    <a:pt x="330" y="104"/>
                  </a:lnTo>
                  <a:lnTo>
                    <a:pt x="334" y="103"/>
                  </a:lnTo>
                  <a:lnTo>
                    <a:pt x="335" y="104"/>
                  </a:lnTo>
                  <a:lnTo>
                    <a:pt x="337" y="103"/>
                  </a:lnTo>
                  <a:lnTo>
                    <a:pt x="338" y="104"/>
                  </a:lnTo>
                  <a:lnTo>
                    <a:pt x="340" y="107"/>
                  </a:lnTo>
                  <a:lnTo>
                    <a:pt x="344" y="104"/>
                  </a:lnTo>
                  <a:lnTo>
                    <a:pt x="345" y="98"/>
                  </a:lnTo>
                  <a:lnTo>
                    <a:pt x="346" y="100"/>
                  </a:lnTo>
                  <a:lnTo>
                    <a:pt x="348" y="104"/>
                  </a:lnTo>
                  <a:lnTo>
                    <a:pt x="349" y="103"/>
                  </a:lnTo>
                  <a:lnTo>
                    <a:pt x="353" y="105"/>
                  </a:lnTo>
                  <a:lnTo>
                    <a:pt x="355" y="104"/>
                  </a:lnTo>
                  <a:lnTo>
                    <a:pt x="356" y="109"/>
                  </a:lnTo>
                  <a:lnTo>
                    <a:pt x="357" y="108"/>
                  </a:lnTo>
                  <a:lnTo>
                    <a:pt x="359" y="110"/>
                  </a:lnTo>
                  <a:lnTo>
                    <a:pt x="363" y="112"/>
                  </a:lnTo>
                  <a:lnTo>
                    <a:pt x="364" y="109"/>
                  </a:lnTo>
                  <a:lnTo>
                    <a:pt x="365" y="116"/>
                  </a:lnTo>
                  <a:lnTo>
                    <a:pt x="367" y="121"/>
                  </a:lnTo>
                  <a:lnTo>
                    <a:pt x="368" y="120"/>
                  </a:lnTo>
                  <a:lnTo>
                    <a:pt x="372" y="120"/>
                  </a:lnTo>
                  <a:lnTo>
                    <a:pt x="374" y="115"/>
                  </a:lnTo>
                  <a:lnTo>
                    <a:pt x="375" y="114"/>
                  </a:lnTo>
                  <a:lnTo>
                    <a:pt x="376" y="104"/>
                  </a:lnTo>
                  <a:lnTo>
                    <a:pt x="378" y="113"/>
                  </a:lnTo>
                  <a:lnTo>
                    <a:pt x="382" y="115"/>
                  </a:lnTo>
                  <a:lnTo>
                    <a:pt x="383" y="115"/>
                  </a:lnTo>
                  <a:lnTo>
                    <a:pt x="385" y="106"/>
                  </a:lnTo>
                  <a:lnTo>
                    <a:pt x="386" y="101"/>
                  </a:lnTo>
                  <a:lnTo>
                    <a:pt x="387" y="108"/>
                  </a:lnTo>
                  <a:lnTo>
                    <a:pt x="391" y="112"/>
                  </a:lnTo>
                  <a:lnTo>
                    <a:pt x="393" y="110"/>
                  </a:lnTo>
                  <a:lnTo>
                    <a:pt x="394" y="111"/>
                  </a:lnTo>
                  <a:lnTo>
                    <a:pt x="396" y="106"/>
                  </a:lnTo>
                  <a:lnTo>
                    <a:pt x="397" y="104"/>
                  </a:lnTo>
                  <a:lnTo>
                    <a:pt x="401" y="105"/>
                  </a:lnTo>
                  <a:lnTo>
                    <a:pt x="402" y="103"/>
                  </a:lnTo>
                  <a:lnTo>
                    <a:pt x="404" y="97"/>
                  </a:lnTo>
                  <a:lnTo>
                    <a:pt x="405" y="96"/>
                  </a:lnTo>
                  <a:lnTo>
                    <a:pt x="406" y="103"/>
                  </a:lnTo>
                  <a:lnTo>
                    <a:pt x="411" y="108"/>
                  </a:lnTo>
                  <a:lnTo>
                    <a:pt x="412" y="111"/>
                  </a:lnTo>
                  <a:lnTo>
                    <a:pt x="413" y="112"/>
                  </a:lnTo>
                  <a:lnTo>
                    <a:pt x="415" y="115"/>
                  </a:lnTo>
                  <a:lnTo>
                    <a:pt x="416" y="118"/>
                  </a:lnTo>
                  <a:lnTo>
                    <a:pt x="420" y="121"/>
                  </a:lnTo>
                  <a:lnTo>
                    <a:pt x="421" y="124"/>
                  </a:lnTo>
                  <a:lnTo>
                    <a:pt x="423" y="127"/>
                  </a:lnTo>
                  <a:lnTo>
                    <a:pt x="424" y="131"/>
                  </a:lnTo>
                  <a:lnTo>
                    <a:pt x="426" y="132"/>
                  </a:lnTo>
                  <a:lnTo>
                    <a:pt x="430" y="123"/>
                  </a:lnTo>
                  <a:lnTo>
                    <a:pt x="431" y="125"/>
                  </a:lnTo>
                  <a:lnTo>
                    <a:pt x="432" y="126"/>
                  </a:lnTo>
                  <a:lnTo>
                    <a:pt x="434" y="128"/>
                  </a:lnTo>
                  <a:lnTo>
                    <a:pt x="435" y="122"/>
                  </a:lnTo>
                  <a:lnTo>
                    <a:pt x="439" y="124"/>
                  </a:lnTo>
                  <a:lnTo>
                    <a:pt x="441" y="119"/>
                  </a:lnTo>
                  <a:lnTo>
                    <a:pt x="442" y="121"/>
                  </a:lnTo>
                  <a:lnTo>
                    <a:pt x="443" y="120"/>
                  </a:lnTo>
                  <a:lnTo>
                    <a:pt x="445" y="121"/>
                  </a:lnTo>
                  <a:lnTo>
                    <a:pt x="449" y="128"/>
                  </a:lnTo>
                  <a:lnTo>
                    <a:pt x="450" y="130"/>
                  </a:lnTo>
                  <a:lnTo>
                    <a:pt x="451" y="129"/>
                  </a:lnTo>
                  <a:lnTo>
                    <a:pt x="453" y="126"/>
                  </a:lnTo>
                  <a:lnTo>
                    <a:pt x="454" y="130"/>
                  </a:lnTo>
                  <a:lnTo>
                    <a:pt x="458" y="132"/>
                  </a:lnTo>
                  <a:lnTo>
                    <a:pt x="460" y="137"/>
                  </a:lnTo>
                  <a:lnTo>
                    <a:pt x="461" y="132"/>
                  </a:lnTo>
                  <a:lnTo>
                    <a:pt x="462" y="125"/>
                  </a:lnTo>
                  <a:lnTo>
                    <a:pt x="464" y="115"/>
                  </a:lnTo>
                  <a:lnTo>
                    <a:pt x="468" y="114"/>
                  </a:lnTo>
                  <a:lnTo>
                    <a:pt x="469" y="115"/>
                  </a:lnTo>
                  <a:lnTo>
                    <a:pt x="471" y="109"/>
                  </a:lnTo>
                  <a:lnTo>
                    <a:pt x="472" y="101"/>
                  </a:lnTo>
                  <a:lnTo>
                    <a:pt x="473" y="94"/>
                  </a:lnTo>
                  <a:lnTo>
                    <a:pt x="477" y="88"/>
                  </a:lnTo>
                  <a:lnTo>
                    <a:pt x="479" y="95"/>
                  </a:lnTo>
                  <a:lnTo>
                    <a:pt x="480" y="105"/>
                  </a:lnTo>
                  <a:lnTo>
                    <a:pt x="481" y="98"/>
                  </a:lnTo>
                  <a:lnTo>
                    <a:pt x="483" y="101"/>
                  </a:lnTo>
                  <a:lnTo>
                    <a:pt x="487" y="97"/>
                  </a:lnTo>
                  <a:lnTo>
                    <a:pt x="488" y="94"/>
                  </a:lnTo>
                  <a:lnTo>
                    <a:pt x="490" y="93"/>
                  </a:lnTo>
                  <a:lnTo>
                    <a:pt x="491" y="100"/>
                  </a:lnTo>
                  <a:lnTo>
                    <a:pt x="492" y="99"/>
                  </a:lnTo>
                  <a:lnTo>
                    <a:pt x="496" y="99"/>
                  </a:lnTo>
                  <a:lnTo>
                    <a:pt x="498" y="99"/>
                  </a:lnTo>
                  <a:lnTo>
                    <a:pt x="499" y="109"/>
                  </a:lnTo>
                  <a:lnTo>
                    <a:pt x="501" y="106"/>
                  </a:lnTo>
                  <a:lnTo>
                    <a:pt x="502" y="108"/>
                  </a:lnTo>
                  <a:lnTo>
                    <a:pt x="506" y="113"/>
                  </a:lnTo>
                  <a:lnTo>
                    <a:pt x="507" y="110"/>
                  </a:lnTo>
                  <a:lnTo>
                    <a:pt x="509" y="108"/>
                  </a:lnTo>
                  <a:lnTo>
                    <a:pt x="510" y="110"/>
                  </a:lnTo>
                  <a:lnTo>
                    <a:pt x="511" y="111"/>
                  </a:lnTo>
                  <a:lnTo>
                    <a:pt x="516" y="112"/>
                  </a:lnTo>
                  <a:lnTo>
                    <a:pt x="517" y="103"/>
                  </a:lnTo>
                  <a:lnTo>
                    <a:pt x="518" y="101"/>
                  </a:lnTo>
                  <a:lnTo>
                    <a:pt x="520" y="109"/>
                  </a:lnTo>
                  <a:lnTo>
                    <a:pt x="521" y="110"/>
                  </a:lnTo>
                  <a:lnTo>
                    <a:pt x="525" y="114"/>
                  </a:lnTo>
                  <a:lnTo>
                    <a:pt x="526" y="119"/>
                  </a:lnTo>
                  <a:lnTo>
                    <a:pt x="528" y="117"/>
                  </a:lnTo>
                  <a:lnTo>
                    <a:pt x="529" y="120"/>
                  </a:lnTo>
                  <a:lnTo>
                    <a:pt x="531" y="125"/>
                  </a:lnTo>
                  <a:lnTo>
                    <a:pt x="535" y="124"/>
                  </a:lnTo>
                  <a:lnTo>
                    <a:pt x="536" y="124"/>
                  </a:lnTo>
                  <a:lnTo>
                    <a:pt x="537" y="121"/>
                  </a:lnTo>
                  <a:lnTo>
                    <a:pt x="539" y="119"/>
                  </a:lnTo>
                  <a:lnTo>
                    <a:pt x="540" y="123"/>
                  </a:lnTo>
                  <a:lnTo>
                    <a:pt x="544" y="130"/>
                  </a:lnTo>
                  <a:lnTo>
                    <a:pt x="546" y="124"/>
                  </a:lnTo>
                  <a:lnTo>
                    <a:pt x="547" y="125"/>
                  </a:lnTo>
                  <a:lnTo>
                    <a:pt x="548" y="130"/>
                  </a:lnTo>
                  <a:lnTo>
                    <a:pt x="550" y="131"/>
                  </a:lnTo>
                  <a:lnTo>
                    <a:pt x="554" y="130"/>
                  </a:lnTo>
                  <a:lnTo>
                    <a:pt x="555" y="134"/>
                  </a:lnTo>
                  <a:lnTo>
                    <a:pt x="556" y="134"/>
                  </a:lnTo>
                  <a:lnTo>
                    <a:pt x="558" y="141"/>
                  </a:lnTo>
                  <a:lnTo>
                    <a:pt x="559" y="142"/>
                  </a:lnTo>
                  <a:lnTo>
                    <a:pt x="563" y="142"/>
                  </a:lnTo>
                  <a:lnTo>
                    <a:pt x="565" y="132"/>
                  </a:lnTo>
                  <a:lnTo>
                    <a:pt x="566" y="137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73" y="136"/>
                  </a:lnTo>
                  <a:lnTo>
                    <a:pt x="574" y="140"/>
                  </a:lnTo>
                  <a:lnTo>
                    <a:pt x="576" y="142"/>
                  </a:lnTo>
                  <a:lnTo>
                    <a:pt x="577" y="142"/>
                  </a:lnTo>
                  <a:lnTo>
                    <a:pt x="578" y="138"/>
                  </a:lnTo>
                  <a:lnTo>
                    <a:pt x="582" y="127"/>
                  </a:lnTo>
                  <a:lnTo>
                    <a:pt x="584" y="128"/>
                  </a:lnTo>
                  <a:lnTo>
                    <a:pt x="585" y="119"/>
                  </a:lnTo>
                  <a:lnTo>
                    <a:pt x="586" y="123"/>
                  </a:lnTo>
                  <a:lnTo>
                    <a:pt x="588" y="128"/>
                  </a:lnTo>
                  <a:lnTo>
                    <a:pt x="592" y="128"/>
                  </a:lnTo>
                  <a:lnTo>
                    <a:pt x="593" y="132"/>
                  </a:lnTo>
                  <a:lnTo>
                    <a:pt x="595" y="135"/>
                  </a:lnTo>
                  <a:lnTo>
                    <a:pt x="596" y="135"/>
                  </a:lnTo>
                  <a:lnTo>
                    <a:pt x="597" y="132"/>
                  </a:lnTo>
                  <a:lnTo>
                    <a:pt x="601" y="124"/>
                  </a:lnTo>
                  <a:lnTo>
                    <a:pt x="603" y="117"/>
                  </a:lnTo>
                  <a:lnTo>
                    <a:pt x="604" y="120"/>
                  </a:lnTo>
                  <a:lnTo>
                    <a:pt x="606" y="116"/>
                  </a:lnTo>
                  <a:lnTo>
                    <a:pt x="607" y="119"/>
                  </a:lnTo>
                  <a:lnTo>
                    <a:pt x="611" y="112"/>
                  </a:lnTo>
                  <a:lnTo>
                    <a:pt x="612" y="98"/>
                  </a:lnTo>
                  <a:lnTo>
                    <a:pt x="614" y="106"/>
                  </a:lnTo>
                  <a:lnTo>
                    <a:pt x="615" y="112"/>
                  </a:lnTo>
                  <a:lnTo>
                    <a:pt x="616" y="118"/>
                  </a:lnTo>
                  <a:lnTo>
                    <a:pt x="621" y="123"/>
                  </a:lnTo>
                  <a:lnTo>
                    <a:pt x="622" y="121"/>
                  </a:lnTo>
                  <a:lnTo>
                    <a:pt x="623" y="118"/>
                  </a:lnTo>
                  <a:lnTo>
                    <a:pt x="625" y="117"/>
                  </a:lnTo>
                  <a:lnTo>
                    <a:pt x="626" y="112"/>
                  </a:lnTo>
                  <a:lnTo>
                    <a:pt x="630" y="113"/>
                  </a:lnTo>
                  <a:lnTo>
                    <a:pt x="631" y="120"/>
                  </a:lnTo>
                  <a:lnTo>
                    <a:pt x="633" y="119"/>
                  </a:lnTo>
                  <a:lnTo>
                    <a:pt x="634" y="116"/>
                  </a:lnTo>
                  <a:lnTo>
                    <a:pt x="636" y="117"/>
                  </a:lnTo>
                  <a:lnTo>
                    <a:pt x="640" y="119"/>
                  </a:lnTo>
                  <a:lnTo>
                    <a:pt x="641" y="127"/>
                  </a:lnTo>
                  <a:lnTo>
                    <a:pt x="642" y="126"/>
                  </a:lnTo>
                  <a:lnTo>
                    <a:pt x="644" y="123"/>
                  </a:lnTo>
                  <a:lnTo>
                    <a:pt x="645" y="122"/>
                  </a:lnTo>
                  <a:lnTo>
                    <a:pt x="649" y="123"/>
                  </a:lnTo>
                  <a:lnTo>
                    <a:pt x="651" y="118"/>
                  </a:lnTo>
                  <a:lnTo>
                    <a:pt x="652" y="121"/>
                  </a:lnTo>
                  <a:lnTo>
                    <a:pt x="653" y="125"/>
                  </a:lnTo>
                  <a:lnTo>
                    <a:pt x="655" y="129"/>
                  </a:lnTo>
                  <a:lnTo>
                    <a:pt x="659" y="130"/>
                  </a:lnTo>
                  <a:lnTo>
                    <a:pt x="660" y="136"/>
                  </a:lnTo>
                  <a:lnTo>
                    <a:pt x="661" y="134"/>
                  </a:lnTo>
                  <a:lnTo>
                    <a:pt x="663" y="135"/>
                  </a:lnTo>
                  <a:lnTo>
                    <a:pt x="664" y="139"/>
                  </a:lnTo>
                  <a:lnTo>
                    <a:pt x="668" y="136"/>
                  </a:lnTo>
                  <a:lnTo>
                    <a:pt x="670" y="141"/>
                  </a:lnTo>
                  <a:lnTo>
                    <a:pt x="671" y="139"/>
                  </a:lnTo>
                  <a:lnTo>
                    <a:pt x="672" y="134"/>
                  </a:lnTo>
                  <a:lnTo>
                    <a:pt x="674" y="118"/>
                  </a:lnTo>
                  <a:lnTo>
                    <a:pt x="678" y="112"/>
                  </a:lnTo>
                  <a:lnTo>
                    <a:pt x="679" y="121"/>
                  </a:lnTo>
                  <a:lnTo>
                    <a:pt x="681" y="101"/>
                  </a:lnTo>
                  <a:lnTo>
                    <a:pt x="682" y="108"/>
                  </a:lnTo>
                  <a:lnTo>
                    <a:pt x="683" y="101"/>
                  </a:lnTo>
                  <a:lnTo>
                    <a:pt x="687" y="81"/>
                  </a:lnTo>
                  <a:lnTo>
                    <a:pt x="689" y="68"/>
                  </a:lnTo>
                  <a:lnTo>
                    <a:pt x="690" y="76"/>
                  </a:lnTo>
                  <a:lnTo>
                    <a:pt x="691" y="88"/>
                  </a:lnTo>
                  <a:lnTo>
                    <a:pt x="693" y="96"/>
                  </a:lnTo>
                  <a:lnTo>
                    <a:pt x="697" y="84"/>
                  </a:lnTo>
                  <a:lnTo>
                    <a:pt x="698" y="76"/>
                  </a:lnTo>
                  <a:lnTo>
                    <a:pt x="700" y="76"/>
                  </a:lnTo>
                  <a:lnTo>
                    <a:pt x="701" y="91"/>
                  </a:lnTo>
                  <a:lnTo>
                    <a:pt x="702" y="83"/>
                  </a:lnTo>
                  <a:lnTo>
                    <a:pt x="706" y="84"/>
                  </a:lnTo>
                  <a:lnTo>
                    <a:pt x="708" y="88"/>
                  </a:lnTo>
                  <a:lnTo>
                    <a:pt x="709" y="84"/>
                  </a:lnTo>
                  <a:lnTo>
                    <a:pt x="711" y="81"/>
                  </a:lnTo>
                  <a:lnTo>
                    <a:pt x="712" y="82"/>
                  </a:lnTo>
                  <a:lnTo>
                    <a:pt x="716" y="75"/>
                  </a:lnTo>
                  <a:lnTo>
                    <a:pt x="717" y="69"/>
                  </a:lnTo>
                  <a:lnTo>
                    <a:pt x="719" y="76"/>
                  </a:lnTo>
                  <a:lnTo>
                    <a:pt x="720" y="81"/>
                  </a:lnTo>
                  <a:lnTo>
                    <a:pt x="721" y="83"/>
                  </a:lnTo>
                  <a:lnTo>
                    <a:pt x="726" y="78"/>
                  </a:lnTo>
                  <a:lnTo>
                    <a:pt x="727" y="84"/>
                  </a:lnTo>
                  <a:lnTo>
                    <a:pt x="728" y="88"/>
                  </a:lnTo>
                  <a:lnTo>
                    <a:pt x="730" y="83"/>
                  </a:lnTo>
                  <a:lnTo>
                    <a:pt x="731" y="86"/>
                  </a:lnTo>
                  <a:lnTo>
                    <a:pt x="735" y="82"/>
                  </a:lnTo>
                  <a:lnTo>
                    <a:pt x="736" y="83"/>
                  </a:lnTo>
                  <a:lnTo>
                    <a:pt x="738" y="87"/>
                  </a:lnTo>
                  <a:lnTo>
                    <a:pt x="739" y="99"/>
                  </a:lnTo>
                  <a:lnTo>
                    <a:pt x="741" y="101"/>
                  </a:lnTo>
                  <a:lnTo>
                    <a:pt x="745" y="109"/>
                  </a:lnTo>
                  <a:lnTo>
                    <a:pt x="746" y="109"/>
                  </a:lnTo>
                </a:path>
              </a:pathLst>
            </a:custGeom>
            <a:noFill/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58240" y="2111400"/>
              <a:ext cx="1440" cy="31194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40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6400" y="4071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00" y="3025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4000" y="1989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968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6884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856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22240" y="5419800"/>
              <a:ext cx="41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O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79720" y="5419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80680" y="5419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Ab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150040" y="5419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57240" y="2840040"/>
              <a:ext cx="7356600" cy="1494000"/>
            </a:xfrm>
            <a:custGeom>
              <a:avLst/>
              <a:gdLst/>
              <a:ahLst/>
              <a:rect l="l" t="t" r="r" b="b"/>
              <a:pathLst>
                <a:path w="746" h="160">
                  <a:moveTo>
                    <a:pt x="0" y="160"/>
                  </a:moveTo>
                  <a:lnTo>
                    <a:pt x="1" y="146"/>
                  </a:lnTo>
                  <a:lnTo>
                    <a:pt x="3" y="144"/>
                  </a:lnTo>
                  <a:lnTo>
                    <a:pt x="4" y="137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1" y="132"/>
                  </a:lnTo>
                  <a:lnTo>
                    <a:pt x="12" y="144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9" y="129"/>
                  </a:lnTo>
                  <a:lnTo>
                    <a:pt x="20" y="125"/>
                  </a:lnTo>
                  <a:lnTo>
                    <a:pt x="22" y="124"/>
                  </a:lnTo>
                  <a:lnTo>
                    <a:pt x="23" y="120"/>
                  </a:lnTo>
                  <a:lnTo>
                    <a:pt x="25" y="126"/>
                  </a:lnTo>
                  <a:lnTo>
                    <a:pt x="29" y="128"/>
                  </a:lnTo>
                  <a:lnTo>
                    <a:pt x="30" y="121"/>
                  </a:lnTo>
                  <a:lnTo>
                    <a:pt x="31" y="129"/>
                  </a:lnTo>
                  <a:lnTo>
                    <a:pt x="33" y="127"/>
                  </a:lnTo>
                  <a:lnTo>
                    <a:pt x="34" y="126"/>
                  </a:lnTo>
                  <a:lnTo>
                    <a:pt x="38" y="126"/>
                  </a:lnTo>
                  <a:lnTo>
                    <a:pt x="40" y="127"/>
                  </a:lnTo>
                  <a:lnTo>
                    <a:pt x="41" y="125"/>
                  </a:lnTo>
                  <a:lnTo>
                    <a:pt x="42" y="121"/>
                  </a:lnTo>
                  <a:lnTo>
                    <a:pt x="44" y="112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7"/>
                  </a:lnTo>
                  <a:lnTo>
                    <a:pt x="52" y="112"/>
                  </a:lnTo>
                  <a:lnTo>
                    <a:pt x="53" y="112"/>
                  </a:lnTo>
                  <a:lnTo>
                    <a:pt x="57" y="121"/>
                  </a:lnTo>
                  <a:lnTo>
                    <a:pt x="59" y="125"/>
                  </a:lnTo>
                  <a:lnTo>
                    <a:pt x="60" y="125"/>
                  </a:lnTo>
                  <a:lnTo>
                    <a:pt x="61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8" y="144"/>
                  </a:lnTo>
                  <a:lnTo>
                    <a:pt x="70" y="141"/>
                  </a:lnTo>
                  <a:lnTo>
                    <a:pt x="71" y="139"/>
                  </a:lnTo>
                  <a:lnTo>
                    <a:pt x="72" y="143"/>
                  </a:lnTo>
                  <a:lnTo>
                    <a:pt x="76" y="142"/>
                  </a:lnTo>
                  <a:lnTo>
                    <a:pt x="78" y="138"/>
                  </a:lnTo>
                  <a:lnTo>
                    <a:pt x="79" y="135"/>
                  </a:lnTo>
                  <a:lnTo>
                    <a:pt x="80" y="132"/>
                  </a:lnTo>
                  <a:lnTo>
                    <a:pt x="82" y="142"/>
                  </a:lnTo>
                  <a:lnTo>
                    <a:pt x="86" y="141"/>
                  </a:lnTo>
                  <a:lnTo>
                    <a:pt x="87" y="151"/>
                  </a:lnTo>
                  <a:lnTo>
                    <a:pt x="89" y="155"/>
                  </a:lnTo>
                  <a:lnTo>
                    <a:pt x="90" y="157"/>
                  </a:lnTo>
                  <a:lnTo>
                    <a:pt x="91" y="160"/>
                  </a:lnTo>
                  <a:lnTo>
                    <a:pt x="95" y="153"/>
                  </a:lnTo>
                  <a:lnTo>
                    <a:pt x="97" y="148"/>
                  </a:lnTo>
                  <a:lnTo>
                    <a:pt x="98" y="157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105" y="136"/>
                  </a:lnTo>
                  <a:lnTo>
                    <a:pt x="106" y="130"/>
                  </a:lnTo>
                  <a:lnTo>
                    <a:pt x="108" y="122"/>
                  </a:lnTo>
                  <a:lnTo>
                    <a:pt x="109" y="118"/>
                  </a:lnTo>
                  <a:lnTo>
                    <a:pt x="110" y="120"/>
                  </a:lnTo>
                  <a:lnTo>
                    <a:pt x="115" y="115"/>
                  </a:lnTo>
                  <a:lnTo>
                    <a:pt x="116" y="117"/>
                  </a:lnTo>
                  <a:lnTo>
                    <a:pt x="117" y="116"/>
                  </a:lnTo>
                  <a:lnTo>
                    <a:pt x="119" y="120"/>
                  </a:lnTo>
                  <a:lnTo>
                    <a:pt x="120" y="116"/>
                  </a:lnTo>
                  <a:lnTo>
                    <a:pt x="124" y="110"/>
                  </a:lnTo>
                  <a:lnTo>
                    <a:pt x="125" y="112"/>
                  </a:lnTo>
                  <a:lnTo>
                    <a:pt x="127" y="112"/>
                  </a:lnTo>
                  <a:lnTo>
                    <a:pt x="128" y="111"/>
                  </a:lnTo>
                  <a:lnTo>
                    <a:pt x="130" y="117"/>
                  </a:lnTo>
                  <a:lnTo>
                    <a:pt x="134" y="121"/>
                  </a:lnTo>
                  <a:lnTo>
                    <a:pt x="135" y="117"/>
                  </a:lnTo>
                  <a:lnTo>
                    <a:pt x="136" y="116"/>
                  </a:lnTo>
                  <a:lnTo>
                    <a:pt x="138" y="107"/>
                  </a:lnTo>
                  <a:lnTo>
                    <a:pt x="139" y="117"/>
                  </a:lnTo>
                  <a:lnTo>
                    <a:pt x="143" y="125"/>
                  </a:lnTo>
                  <a:lnTo>
                    <a:pt x="145" y="128"/>
                  </a:lnTo>
                  <a:lnTo>
                    <a:pt x="146" y="130"/>
                  </a:lnTo>
                  <a:lnTo>
                    <a:pt x="147" y="127"/>
                  </a:lnTo>
                  <a:lnTo>
                    <a:pt x="149" y="128"/>
                  </a:lnTo>
                  <a:lnTo>
                    <a:pt x="153" y="124"/>
                  </a:lnTo>
                  <a:lnTo>
                    <a:pt x="154" y="122"/>
                  </a:lnTo>
                  <a:lnTo>
                    <a:pt x="155" y="117"/>
                  </a:lnTo>
                  <a:lnTo>
                    <a:pt x="157" y="114"/>
                  </a:lnTo>
                  <a:lnTo>
                    <a:pt x="158" y="112"/>
                  </a:lnTo>
                  <a:lnTo>
                    <a:pt x="162" y="112"/>
                  </a:lnTo>
                  <a:lnTo>
                    <a:pt x="164" y="112"/>
                  </a:lnTo>
                  <a:lnTo>
                    <a:pt x="165" y="119"/>
                  </a:lnTo>
                  <a:lnTo>
                    <a:pt x="166" y="120"/>
                  </a:lnTo>
                  <a:lnTo>
                    <a:pt x="168" y="108"/>
                  </a:lnTo>
                  <a:lnTo>
                    <a:pt x="172" y="110"/>
                  </a:lnTo>
                  <a:lnTo>
                    <a:pt x="173" y="113"/>
                  </a:lnTo>
                  <a:lnTo>
                    <a:pt x="175" y="108"/>
                  </a:lnTo>
                  <a:lnTo>
                    <a:pt x="176" y="97"/>
                  </a:lnTo>
                  <a:lnTo>
                    <a:pt x="177" y="9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4" y="96"/>
                  </a:lnTo>
                  <a:lnTo>
                    <a:pt x="185" y="93"/>
                  </a:lnTo>
                  <a:lnTo>
                    <a:pt x="187" y="85"/>
                  </a:lnTo>
                  <a:lnTo>
                    <a:pt x="191" y="87"/>
                  </a:lnTo>
                  <a:lnTo>
                    <a:pt x="192" y="87"/>
                  </a:lnTo>
                  <a:lnTo>
                    <a:pt x="194" y="89"/>
                  </a:lnTo>
                  <a:lnTo>
                    <a:pt x="195" y="81"/>
                  </a:lnTo>
                  <a:lnTo>
                    <a:pt x="196" y="87"/>
                  </a:lnTo>
                  <a:lnTo>
                    <a:pt x="200" y="78"/>
                  </a:lnTo>
                  <a:lnTo>
                    <a:pt x="202" y="62"/>
                  </a:lnTo>
                  <a:lnTo>
                    <a:pt x="203" y="50"/>
                  </a:lnTo>
                  <a:lnTo>
                    <a:pt x="205" y="59"/>
                  </a:lnTo>
                  <a:lnTo>
                    <a:pt x="206" y="56"/>
                  </a:lnTo>
                  <a:lnTo>
                    <a:pt x="210" y="58"/>
                  </a:lnTo>
                  <a:lnTo>
                    <a:pt x="211" y="60"/>
                  </a:lnTo>
                  <a:lnTo>
                    <a:pt x="213" y="56"/>
                  </a:lnTo>
                  <a:lnTo>
                    <a:pt x="214" y="55"/>
                  </a:lnTo>
                  <a:lnTo>
                    <a:pt x="215" y="45"/>
                  </a:lnTo>
                  <a:lnTo>
                    <a:pt x="220" y="44"/>
                  </a:lnTo>
                  <a:lnTo>
                    <a:pt x="221" y="36"/>
                  </a:lnTo>
                  <a:lnTo>
                    <a:pt x="222" y="44"/>
                  </a:lnTo>
                  <a:lnTo>
                    <a:pt x="224" y="44"/>
                  </a:lnTo>
                  <a:lnTo>
                    <a:pt x="225" y="60"/>
                  </a:lnTo>
                  <a:lnTo>
                    <a:pt x="229" y="48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3" y="37"/>
                  </a:lnTo>
                  <a:lnTo>
                    <a:pt x="235" y="42"/>
                  </a:lnTo>
                  <a:lnTo>
                    <a:pt x="239" y="49"/>
                  </a:lnTo>
                  <a:lnTo>
                    <a:pt x="240" y="38"/>
                  </a:lnTo>
                  <a:lnTo>
                    <a:pt x="241" y="40"/>
                  </a:lnTo>
                  <a:lnTo>
                    <a:pt x="243" y="44"/>
                  </a:lnTo>
                  <a:lnTo>
                    <a:pt x="244" y="29"/>
                  </a:lnTo>
                  <a:lnTo>
                    <a:pt x="248" y="24"/>
                  </a:lnTo>
                  <a:lnTo>
                    <a:pt x="250" y="25"/>
                  </a:lnTo>
                  <a:lnTo>
                    <a:pt x="251" y="26"/>
                  </a:lnTo>
                  <a:lnTo>
                    <a:pt x="252" y="28"/>
                  </a:lnTo>
                  <a:lnTo>
                    <a:pt x="254" y="30"/>
                  </a:lnTo>
                  <a:lnTo>
                    <a:pt x="258" y="40"/>
                  </a:lnTo>
                  <a:lnTo>
                    <a:pt x="259" y="56"/>
                  </a:lnTo>
                  <a:lnTo>
                    <a:pt x="260" y="42"/>
                  </a:lnTo>
                  <a:lnTo>
                    <a:pt x="262" y="41"/>
                  </a:lnTo>
                  <a:lnTo>
                    <a:pt x="263" y="37"/>
                  </a:lnTo>
                  <a:lnTo>
                    <a:pt x="267" y="38"/>
                  </a:lnTo>
                  <a:lnTo>
                    <a:pt x="269" y="36"/>
                  </a:lnTo>
                  <a:lnTo>
                    <a:pt x="270" y="47"/>
                  </a:lnTo>
                  <a:lnTo>
                    <a:pt x="271" y="50"/>
                  </a:lnTo>
                  <a:lnTo>
                    <a:pt x="273" y="39"/>
                  </a:lnTo>
                  <a:lnTo>
                    <a:pt x="277" y="39"/>
                  </a:lnTo>
                  <a:lnTo>
                    <a:pt x="278" y="35"/>
                  </a:lnTo>
                  <a:lnTo>
                    <a:pt x="280" y="40"/>
                  </a:lnTo>
                  <a:lnTo>
                    <a:pt x="281" y="47"/>
                  </a:lnTo>
                  <a:lnTo>
                    <a:pt x="282" y="45"/>
                  </a:lnTo>
                  <a:lnTo>
                    <a:pt x="286" y="51"/>
                  </a:lnTo>
                  <a:lnTo>
                    <a:pt x="288" y="51"/>
                  </a:lnTo>
                  <a:lnTo>
                    <a:pt x="289" y="65"/>
                  </a:lnTo>
                  <a:lnTo>
                    <a:pt x="290" y="69"/>
                  </a:lnTo>
                  <a:lnTo>
                    <a:pt x="292" y="67"/>
                  </a:lnTo>
                  <a:lnTo>
                    <a:pt x="296" y="66"/>
                  </a:lnTo>
                  <a:lnTo>
                    <a:pt x="297" y="68"/>
                  </a:lnTo>
                  <a:lnTo>
                    <a:pt x="299" y="69"/>
                  </a:lnTo>
                  <a:lnTo>
                    <a:pt x="300" y="77"/>
                  </a:lnTo>
                  <a:lnTo>
                    <a:pt x="301" y="75"/>
                  </a:lnTo>
                  <a:lnTo>
                    <a:pt x="305" y="68"/>
                  </a:lnTo>
                  <a:lnTo>
                    <a:pt x="307" y="68"/>
                  </a:lnTo>
                  <a:lnTo>
                    <a:pt x="308" y="59"/>
                  </a:lnTo>
                  <a:lnTo>
                    <a:pt x="310" y="50"/>
                  </a:lnTo>
                  <a:lnTo>
                    <a:pt x="311" y="48"/>
                  </a:lnTo>
                  <a:lnTo>
                    <a:pt x="315" y="55"/>
                  </a:lnTo>
                  <a:lnTo>
                    <a:pt x="316" y="56"/>
                  </a:lnTo>
                  <a:lnTo>
                    <a:pt x="318" y="59"/>
                  </a:lnTo>
                  <a:lnTo>
                    <a:pt x="319" y="62"/>
                  </a:lnTo>
                  <a:lnTo>
                    <a:pt x="320" y="61"/>
                  </a:lnTo>
                  <a:lnTo>
                    <a:pt x="325" y="56"/>
                  </a:lnTo>
                  <a:lnTo>
                    <a:pt x="326" y="54"/>
                  </a:lnTo>
                  <a:lnTo>
                    <a:pt x="327" y="66"/>
                  </a:lnTo>
                  <a:lnTo>
                    <a:pt x="329" y="80"/>
                  </a:lnTo>
                  <a:lnTo>
                    <a:pt x="330" y="83"/>
                  </a:lnTo>
                  <a:lnTo>
                    <a:pt x="334" y="84"/>
                  </a:lnTo>
                  <a:lnTo>
                    <a:pt x="335" y="77"/>
                  </a:lnTo>
                  <a:lnTo>
                    <a:pt x="337" y="72"/>
                  </a:lnTo>
                  <a:lnTo>
                    <a:pt x="338" y="71"/>
                  </a:lnTo>
                  <a:lnTo>
                    <a:pt x="340" y="72"/>
                  </a:lnTo>
                  <a:lnTo>
                    <a:pt x="344" y="60"/>
                  </a:lnTo>
                  <a:lnTo>
                    <a:pt x="345" y="59"/>
                  </a:lnTo>
                  <a:lnTo>
                    <a:pt x="346" y="60"/>
                  </a:lnTo>
                  <a:lnTo>
                    <a:pt x="348" y="55"/>
                  </a:lnTo>
                  <a:lnTo>
                    <a:pt x="349" y="56"/>
                  </a:lnTo>
                  <a:lnTo>
                    <a:pt x="353" y="47"/>
                  </a:lnTo>
                  <a:lnTo>
                    <a:pt x="355" y="44"/>
                  </a:lnTo>
                  <a:lnTo>
                    <a:pt x="356" y="54"/>
                  </a:lnTo>
                  <a:lnTo>
                    <a:pt x="357" y="48"/>
                  </a:lnTo>
                  <a:lnTo>
                    <a:pt x="359" y="37"/>
                  </a:lnTo>
                  <a:lnTo>
                    <a:pt x="363" y="40"/>
                  </a:lnTo>
                  <a:lnTo>
                    <a:pt x="364" y="34"/>
                  </a:lnTo>
                  <a:lnTo>
                    <a:pt x="365" y="37"/>
                  </a:lnTo>
                  <a:lnTo>
                    <a:pt x="367" y="36"/>
                  </a:lnTo>
                  <a:lnTo>
                    <a:pt x="368" y="36"/>
                  </a:lnTo>
                  <a:lnTo>
                    <a:pt x="372" y="25"/>
                  </a:lnTo>
                  <a:lnTo>
                    <a:pt x="374" y="25"/>
                  </a:lnTo>
                  <a:lnTo>
                    <a:pt x="375" y="31"/>
                  </a:lnTo>
                  <a:lnTo>
                    <a:pt x="376" y="50"/>
                  </a:lnTo>
                  <a:lnTo>
                    <a:pt x="378" y="46"/>
                  </a:lnTo>
                  <a:lnTo>
                    <a:pt x="382" y="40"/>
                  </a:lnTo>
                  <a:lnTo>
                    <a:pt x="383" y="32"/>
                  </a:lnTo>
                  <a:lnTo>
                    <a:pt x="385" y="35"/>
                  </a:lnTo>
                  <a:lnTo>
                    <a:pt x="386" y="36"/>
                  </a:lnTo>
                  <a:lnTo>
                    <a:pt x="387" y="40"/>
                  </a:lnTo>
                  <a:lnTo>
                    <a:pt x="391" y="36"/>
                  </a:lnTo>
                  <a:lnTo>
                    <a:pt x="393" y="29"/>
                  </a:lnTo>
                  <a:lnTo>
                    <a:pt x="394" y="32"/>
                  </a:lnTo>
                  <a:lnTo>
                    <a:pt x="396" y="35"/>
                  </a:lnTo>
                  <a:lnTo>
                    <a:pt x="397" y="29"/>
                  </a:lnTo>
                  <a:lnTo>
                    <a:pt x="401" y="32"/>
                  </a:lnTo>
                  <a:lnTo>
                    <a:pt x="402" y="43"/>
                  </a:lnTo>
                  <a:lnTo>
                    <a:pt x="404" y="40"/>
                  </a:lnTo>
                  <a:lnTo>
                    <a:pt x="405" y="47"/>
                  </a:lnTo>
                  <a:lnTo>
                    <a:pt x="406" y="40"/>
                  </a:lnTo>
                  <a:lnTo>
                    <a:pt x="411" y="32"/>
                  </a:lnTo>
                  <a:lnTo>
                    <a:pt x="412" y="35"/>
                  </a:lnTo>
                  <a:lnTo>
                    <a:pt x="413" y="40"/>
                  </a:lnTo>
                  <a:lnTo>
                    <a:pt x="415" y="28"/>
                  </a:lnTo>
                  <a:lnTo>
                    <a:pt x="416" y="15"/>
                  </a:lnTo>
                  <a:lnTo>
                    <a:pt x="420" y="14"/>
                  </a:lnTo>
                  <a:lnTo>
                    <a:pt x="421" y="11"/>
                  </a:lnTo>
                  <a:lnTo>
                    <a:pt x="423" y="10"/>
                  </a:lnTo>
                  <a:lnTo>
                    <a:pt x="424" y="2"/>
                  </a:lnTo>
                  <a:lnTo>
                    <a:pt x="426" y="7"/>
                  </a:lnTo>
                  <a:lnTo>
                    <a:pt x="430" y="2"/>
                  </a:lnTo>
                  <a:lnTo>
                    <a:pt x="431" y="5"/>
                  </a:lnTo>
                  <a:lnTo>
                    <a:pt x="432" y="0"/>
                  </a:lnTo>
                  <a:lnTo>
                    <a:pt x="434" y="8"/>
                  </a:lnTo>
                  <a:lnTo>
                    <a:pt x="435" y="11"/>
                  </a:lnTo>
                  <a:lnTo>
                    <a:pt x="439" y="6"/>
                  </a:lnTo>
                  <a:lnTo>
                    <a:pt x="441" y="15"/>
                  </a:lnTo>
                  <a:lnTo>
                    <a:pt x="442" y="16"/>
                  </a:lnTo>
                  <a:lnTo>
                    <a:pt x="443" y="12"/>
                  </a:lnTo>
                  <a:lnTo>
                    <a:pt x="445" y="6"/>
                  </a:lnTo>
                  <a:lnTo>
                    <a:pt x="449" y="18"/>
                  </a:lnTo>
                  <a:lnTo>
                    <a:pt x="450" y="11"/>
                  </a:lnTo>
                  <a:lnTo>
                    <a:pt x="451" y="12"/>
                  </a:lnTo>
                  <a:lnTo>
                    <a:pt x="453" y="7"/>
                  </a:lnTo>
                  <a:lnTo>
                    <a:pt x="454" y="5"/>
                  </a:lnTo>
                  <a:lnTo>
                    <a:pt x="458" y="12"/>
                  </a:lnTo>
                  <a:lnTo>
                    <a:pt x="460" y="11"/>
                  </a:lnTo>
                  <a:lnTo>
                    <a:pt x="461" y="6"/>
                  </a:lnTo>
                  <a:lnTo>
                    <a:pt x="462" y="15"/>
                  </a:lnTo>
                  <a:lnTo>
                    <a:pt x="464" y="14"/>
                  </a:lnTo>
                  <a:lnTo>
                    <a:pt x="468" y="29"/>
                  </a:lnTo>
                  <a:lnTo>
                    <a:pt x="469" y="28"/>
                  </a:lnTo>
                  <a:lnTo>
                    <a:pt x="471" y="33"/>
                  </a:lnTo>
                  <a:lnTo>
                    <a:pt x="472" y="31"/>
                  </a:lnTo>
                  <a:lnTo>
                    <a:pt x="473" y="34"/>
                  </a:lnTo>
                  <a:lnTo>
                    <a:pt x="477" y="34"/>
                  </a:lnTo>
                  <a:lnTo>
                    <a:pt x="479" y="19"/>
                  </a:lnTo>
                  <a:lnTo>
                    <a:pt x="480" y="17"/>
                  </a:lnTo>
                  <a:lnTo>
                    <a:pt x="481" y="20"/>
                  </a:lnTo>
                  <a:lnTo>
                    <a:pt x="483" y="20"/>
                  </a:lnTo>
                  <a:lnTo>
                    <a:pt x="487" y="18"/>
                  </a:lnTo>
                  <a:lnTo>
                    <a:pt x="488" y="16"/>
                  </a:lnTo>
                  <a:lnTo>
                    <a:pt x="490" y="17"/>
                  </a:lnTo>
                  <a:lnTo>
                    <a:pt x="491" y="17"/>
                  </a:lnTo>
                  <a:lnTo>
                    <a:pt x="492" y="18"/>
                  </a:lnTo>
                  <a:lnTo>
                    <a:pt x="496" y="15"/>
                  </a:lnTo>
                  <a:lnTo>
                    <a:pt x="498" y="35"/>
                  </a:lnTo>
                  <a:lnTo>
                    <a:pt x="499" y="45"/>
                  </a:lnTo>
                  <a:lnTo>
                    <a:pt x="501" y="44"/>
                  </a:lnTo>
                  <a:lnTo>
                    <a:pt x="502" y="48"/>
                  </a:lnTo>
                  <a:lnTo>
                    <a:pt x="506" y="42"/>
                  </a:lnTo>
                  <a:lnTo>
                    <a:pt x="507" y="39"/>
                  </a:lnTo>
                  <a:lnTo>
                    <a:pt x="509" y="45"/>
                  </a:lnTo>
                  <a:lnTo>
                    <a:pt x="510" y="37"/>
                  </a:lnTo>
                  <a:lnTo>
                    <a:pt x="511" y="47"/>
                  </a:lnTo>
                  <a:lnTo>
                    <a:pt x="516" y="45"/>
                  </a:lnTo>
                  <a:lnTo>
                    <a:pt x="517" y="43"/>
                  </a:lnTo>
                  <a:lnTo>
                    <a:pt x="518" y="44"/>
                  </a:lnTo>
                  <a:lnTo>
                    <a:pt x="520" y="43"/>
                  </a:lnTo>
                  <a:lnTo>
                    <a:pt x="521" y="46"/>
                  </a:lnTo>
                  <a:lnTo>
                    <a:pt x="525" y="62"/>
                  </a:lnTo>
                  <a:lnTo>
                    <a:pt x="526" y="60"/>
                  </a:lnTo>
                  <a:lnTo>
                    <a:pt x="528" y="56"/>
                  </a:lnTo>
                  <a:lnTo>
                    <a:pt x="529" y="53"/>
                  </a:lnTo>
                  <a:lnTo>
                    <a:pt x="531" y="42"/>
                  </a:lnTo>
                  <a:lnTo>
                    <a:pt x="535" y="42"/>
                  </a:lnTo>
                  <a:lnTo>
                    <a:pt x="536" y="48"/>
                  </a:lnTo>
                  <a:lnTo>
                    <a:pt x="537" y="39"/>
                  </a:lnTo>
                  <a:lnTo>
                    <a:pt x="539" y="42"/>
                  </a:lnTo>
                  <a:lnTo>
                    <a:pt x="540" y="35"/>
                  </a:lnTo>
                  <a:lnTo>
                    <a:pt x="544" y="30"/>
                  </a:lnTo>
                  <a:lnTo>
                    <a:pt x="546" y="31"/>
                  </a:lnTo>
                  <a:lnTo>
                    <a:pt x="547" y="29"/>
                  </a:lnTo>
                  <a:lnTo>
                    <a:pt x="548" y="31"/>
                  </a:lnTo>
                  <a:lnTo>
                    <a:pt x="550" y="24"/>
                  </a:lnTo>
                  <a:lnTo>
                    <a:pt x="554" y="23"/>
                  </a:lnTo>
                  <a:lnTo>
                    <a:pt x="555" y="25"/>
                  </a:lnTo>
                  <a:lnTo>
                    <a:pt x="556" y="22"/>
                  </a:lnTo>
                  <a:lnTo>
                    <a:pt x="558" y="24"/>
                  </a:lnTo>
                  <a:lnTo>
                    <a:pt x="559" y="27"/>
                  </a:lnTo>
                  <a:lnTo>
                    <a:pt x="563" y="27"/>
                  </a:lnTo>
                  <a:lnTo>
                    <a:pt x="565" y="24"/>
                  </a:lnTo>
                  <a:lnTo>
                    <a:pt x="566" y="25"/>
                  </a:lnTo>
                  <a:lnTo>
                    <a:pt x="567" y="25"/>
                  </a:lnTo>
                  <a:lnTo>
                    <a:pt x="569" y="21"/>
                  </a:lnTo>
                  <a:lnTo>
                    <a:pt x="573" y="18"/>
                  </a:lnTo>
                  <a:lnTo>
                    <a:pt x="574" y="25"/>
                  </a:lnTo>
                  <a:lnTo>
                    <a:pt x="576" y="26"/>
                  </a:lnTo>
                  <a:lnTo>
                    <a:pt x="577" y="37"/>
                  </a:lnTo>
                  <a:lnTo>
                    <a:pt x="578" y="38"/>
                  </a:lnTo>
                  <a:lnTo>
                    <a:pt x="582" y="35"/>
                  </a:lnTo>
                  <a:lnTo>
                    <a:pt x="584" y="22"/>
                  </a:lnTo>
                  <a:lnTo>
                    <a:pt x="585" y="26"/>
                  </a:lnTo>
                  <a:lnTo>
                    <a:pt x="586" y="24"/>
                  </a:lnTo>
                  <a:lnTo>
                    <a:pt x="588" y="24"/>
                  </a:lnTo>
                  <a:lnTo>
                    <a:pt x="592" y="30"/>
                  </a:lnTo>
                  <a:lnTo>
                    <a:pt x="593" y="34"/>
                  </a:lnTo>
                  <a:lnTo>
                    <a:pt x="595" y="40"/>
                  </a:lnTo>
                  <a:lnTo>
                    <a:pt x="596" y="51"/>
                  </a:lnTo>
                  <a:lnTo>
                    <a:pt x="597" y="51"/>
                  </a:lnTo>
                  <a:lnTo>
                    <a:pt x="601" y="49"/>
                  </a:lnTo>
                  <a:lnTo>
                    <a:pt x="603" y="42"/>
                  </a:lnTo>
                  <a:lnTo>
                    <a:pt x="604" y="41"/>
                  </a:lnTo>
                  <a:lnTo>
                    <a:pt x="606" y="31"/>
                  </a:lnTo>
                  <a:lnTo>
                    <a:pt x="607" y="37"/>
                  </a:lnTo>
                  <a:lnTo>
                    <a:pt x="611" y="35"/>
                  </a:lnTo>
                  <a:lnTo>
                    <a:pt x="612" y="33"/>
                  </a:lnTo>
                  <a:lnTo>
                    <a:pt x="614" y="35"/>
                  </a:lnTo>
                  <a:lnTo>
                    <a:pt x="615" y="49"/>
                  </a:lnTo>
                  <a:lnTo>
                    <a:pt x="616" y="45"/>
                  </a:lnTo>
                  <a:lnTo>
                    <a:pt x="621" y="47"/>
                  </a:lnTo>
                  <a:lnTo>
                    <a:pt x="622" y="58"/>
                  </a:lnTo>
                  <a:lnTo>
                    <a:pt x="623" y="61"/>
                  </a:lnTo>
                  <a:lnTo>
                    <a:pt x="625" y="55"/>
                  </a:lnTo>
                  <a:lnTo>
                    <a:pt x="626" y="42"/>
                  </a:lnTo>
                  <a:lnTo>
                    <a:pt x="630" y="44"/>
                  </a:lnTo>
                  <a:lnTo>
                    <a:pt x="631" y="47"/>
                  </a:lnTo>
                  <a:lnTo>
                    <a:pt x="633" y="43"/>
                  </a:lnTo>
                  <a:lnTo>
                    <a:pt x="634" y="44"/>
                  </a:lnTo>
                  <a:lnTo>
                    <a:pt x="636" y="44"/>
                  </a:lnTo>
                  <a:lnTo>
                    <a:pt x="640" y="57"/>
                  </a:lnTo>
                  <a:lnTo>
                    <a:pt x="641" y="66"/>
                  </a:lnTo>
                  <a:lnTo>
                    <a:pt x="642" y="69"/>
                  </a:lnTo>
                  <a:lnTo>
                    <a:pt x="644" y="63"/>
                  </a:lnTo>
                  <a:lnTo>
                    <a:pt x="645" y="65"/>
                  </a:lnTo>
                  <a:lnTo>
                    <a:pt x="649" y="70"/>
                  </a:lnTo>
                  <a:lnTo>
                    <a:pt x="651" y="74"/>
                  </a:lnTo>
                  <a:lnTo>
                    <a:pt x="652" y="76"/>
                  </a:lnTo>
                  <a:lnTo>
                    <a:pt x="653" y="83"/>
                  </a:lnTo>
                  <a:lnTo>
                    <a:pt x="655" y="92"/>
                  </a:lnTo>
                  <a:lnTo>
                    <a:pt x="659" y="88"/>
                  </a:lnTo>
                  <a:lnTo>
                    <a:pt x="660" y="90"/>
                  </a:lnTo>
                  <a:lnTo>
                    <a:pt x="661" y="92"/>
                  </a:lnTo>
                  <a:lnTo>
                    <a:pt x="663" y="97"/>
                  </a:lnTo>
                  <a:lnTo>
                    <a:pt x="664" y="100"/>
                  </a:lnTo>
                  <a:lnTo>
                    <a:pt x="668" y="99"/>
                  </a:lnTo>
                  <a:lnTo>
                    <a:pt x="670" y="103"/>
                  </a:lnTo>
                  <a:lnTo>
                    <a:pt x="671" y="105"/>
                  </a:lnTo>
                  <a:lnTo>
                    <a:pt x="672" y="109"/>
                  </a:lnTo>
                  <a:lnTo>
                    <a:pt x="674" y="117"/>
                  </a:lnTo>
                  <a:lnTo>
                    <a:pt x="678" y="106"/>
                  </a:lnTo>
                  <a:lnTo>
                    <a:pt x="679" y="111"/>
                  </a:lnTo>
                  <a:lnTo>
                    <a:pt x="681" y="101"/>
                  </a:lnTo>
                  <a:lnTo>
                    <a:pt x="682" y="110"/>
                  </a:lnTo>
                  <a:lnTo>
                    <a:pt x="683" y="104"/>
                  </a:lnTo>
                  <a:lnTo>
                    <a:pt x="687" y="112"/>
                  </a:lnTo>
                  <a:lnTo>
                    <a:pt x="689" y="108"/>
                  </a:lnTo>
                  <a:lnTo>
                    <a:pt x="690" y="102"/>
                  </a:lnTo>
                  <a:lnTo>
                    <a:pt x="691" y="106"/>
                  </a:lnTo>
                  <a:lnTo>
                    <a:pt x="693" y="101"/>
                  </a:lnTo>
                  <a:lnTo>
                    <a:pt x="697" y="102"/>
                  </a:lnTo>
                  <a:lnTo>
                    <a:pt x="698" y="112"/>
                  </a:lnTo>
                  <a:lnTo>
                    <a:pt x="700" y="107"/>
                  </a:lnTo>
                  <a:lnTo>
                    <a:pt x="701" y="107"/>
                  </a:lnTo>
                  <a:lnTo>
                    <a:pt x="702" y="116"/>
                  </a:lnTo>
                  <a:lnTo>
                    <a:pt x="706" y="115"/>
                  </a:lnTo>
                  <a:lnTo>
                    <a:pt x="708" y="109"/>
                  </a:lnTo>
                  <a:lnTo>
                    <a:pt x="709" y="105"/>
                  </a:lnTo>
                  <a:lnTo>
                    <a:pt x="711" y="93"/>
                  </a:lnTo>
                  <a:lnTo>
                    <a:pt x="712" y="92"/>
                  </a:lnTo>
                  <a:lnTo>
                    <a:pt x="716" y="88"/>
                  </a:lnTo>
                  <a:lnTo>
                    <a:pt x="717" y="83"/>
                  </a:lnTo>
                  <a:lnTo>
                    <a:pt x="719" y="88"/>
                  </a:lnTo>
                  <a:lnTo>
                    <a:pt x="720" y="92"/>
                  </a:lnTo>
                  <a:lnTo>
                    <a:pt x="721" y="93"/>
                  </a:lnTo>
                  <a:lnTo>
                    <a:pt x="726" y="87"/>
                  </a:lnTo>
                  <a:lnTo>
                    <a:pt x="727" y="87"/>
                  </a:lnTo>
                  <a:lnTo>
                    <a:pt x="728" y="94"/>
                  </a:lnTo>
                  <a:lnTo>
                    <a:pt x="730" y="87"/>
                  </a:lnTo>
                  <a:lnTo>
                    <a:pt x="731" y="81"/>
                  </a:lnTo>
                  <a:lnTo>
                    <a:pt x="735" y="87"/>
                  </a:lnTo>
                  <a:lnTo>
                    <a:pt x="736" y="87"/>
                  </a:lnTo>
                  <a:lnTo>
                    <a:pt x="738" y="85"/>
                  </a:lnTo>
                  <a:lnTo>
                    <a:pt x="739" y="94"/>
                  </a:lnTo>
                  <a:lnTo>
                    <a:pt x="741" y="105"/>
                  </a:lnTo>
                  <a:lnTo>
                    <a:pt x="745" y="106"/>
                  </a:lnTo>
                  <a:lnTo>
                    <a:pt x="746" y="107"/>
                  </a:lnTo>
                </a:path>
              </a:pathLst>
            </a:custGeom>
            <a:noFill/>
            <a:ln w="30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558360" y="2133720"/>
            <a:ext cx="7836480" cy="3886920"/>
            <a:chOff x="558360" y="2133720"/>
            <a:chExt cx="7836480" cy="3886920"/>
          </a:xfrm>
        </p:grpSpPr>
        <p:sp>
          <p:nvSpPr>
            <p:cNvPr id="410" name=""/>
            <p:cNvSpPr/>
            <p:nvPr/>
          </p:nvSpPr>
          <p:spPr>
            <a:xfrm>
              <a:off x="1214280" y="5854680"/>
              <a:ext cx="26856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0240" y="5776920"/>
              <a:ext cx="103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High Y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42160" y="5854680"/>
              <a:ext cx="270000" cy="1440"/>
            </a:xfrm>
            <a:prstGeom prst="line">
              <a:avLst/>
            </a:prstGeom>
            <a:ln w="33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1800" y="5776920"/>
              <a:ext cx="89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Spread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2920" y="47959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42920" y="4290840"/>
              <a:ext cx="6915240" cy="18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42920" y="37767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2920" y="326232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42920" y="275760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42920" y="2243160"/>
              <a:ext cx="691524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42920" y="5310360"/>
              <a:ext cx="69152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104292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1920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80700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173560" y="5310360"/>
              <a:ext cx="180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7072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937640" y="5310360"/>
              <a:ext cx="1440" cy="56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2920" y="2585880"/>
              <a:ext cx="6915240" cy="2219400"/>
            </a:xfrm>
            <a:custGeom>
              <a:avLst/>
              <a:gdLst/>
              <a:ahLst/>
              <a:rect l="l" t="t" r="r" b="b"/>
              <a:pathLst>
                <a:path w="673" h="233">
                  <a:moveTo>
                    <a:pt x="0" y="41"/>
                  </a:moveTo>
                  <a:lnTo>
                    <a:pt x="2" y="52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4" y="64"/>
                  </a:lnTo>
                  <a:lnTo>
                    <a:pt x="5" y="50"/>
                  </a:lnTo>
                  <a:lnTo>
                    <a:pt x="7" y="51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1"/>
                  </a:lnTo>
                  <a:lnTo>
                    <a:pt x="15" y="60"/>
                  </a:lnTo>
                  <a:lnTo>
                    <a:pt x="15" y="68"/>
                  </a:lnTo>
                  <a:lnTo>
                    <a:pt x="18" y="70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0" y="61"/>
                  </a:lnTo>
                  <a:lnTo>
                    <a:pt x="21" y="50"/>
                  </a:lnTo>
                  <a:lnTo>
                    <a:pt x="23" y="50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5" y="35"/>
                  </a:lnTo>
                  <a:lnTo>
                    <a:pt x="26" y="23"/>
                  </a:lnTo>
                  <a:lnTo>
                    <a:pt x="28" y="27"/>
                  </a:lnTo>
                  <a:lnTo>
                    <a:pt x="29" y="32"/>
                  </a:lnTo>
                  <a:lnTo>
                    <a:pt x="29" y="28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3"/>
                  </a:lnTo>
                  <a:lnTo>
                    <a:pt x="36" y="38"/>
                  </a:lnTo>
                  <a:lnTo>
                    <a:pt x="38" y="2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4" y="39"/>
                  </a:lnTo>
                  <a:lnTo>
                    <a:pt x="45" y="39"/>
                  </a:lnTo>
                  <a:lnTo>
                    <a:pt x="46" y="33"/>
                  </a:lnTo>
                  <a:lnTo>
                    <a:pt x="46" y="23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50" y="18"/>
                  </a:lnTo>
                  <a:lnTo>
                    <a:pt x="51" y="13"/>
                  </a:lnTo>
                  <a:lnTo>
                    <a:pt x="51" y="19"/>
                  </a:lnTo>
                  <a:lnTo>
                    <a:pt x="54" y="17"/>
                  </a:lnTo>
                  <a:lnTo>
                    <a:pt x="54" y="7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2"/>
                  </a:lnTo>
                  <a:lnTo>
                    <a:pt x="59" y="4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61" y="3"/>
                  </a:lnTo>
                  <a:lnTo>
                    <a:pt x="62" y="11"/>
                  </a:lnTo>
                  <a:lnTo>
                    <a:pt x="64" y="19"/>
                  </a:lnTo>
                  <a:lnTo>
                    <a:pt x="65" y="20"/>
                  </a:lnTo>
                  <a:lnTo>
                    <a:pt x="65" y="17"/>
                  </a:lnTo>
                  <a:lnTo>
                    <a:pt x="66" y="27"/>
                  </a:lnTo>
                  <a:lnTo>
                    <a:pt x="67" y="44"/>
                  </a:lnTo>
                  <a:lnTo>
                    <a:pt x="69" y="49"/>
                  </a:lnTo>
                  <a:lnTo>
                    <a:pt x="70" y="45"/>
                  </a:lnTo>
                  <a:lnTo>
                    <a:pt x="71" y="51"/>
                  </a:lnTo>
                  <a:lnTo>
                    <a:pt x="71" y="56"/>
                  </a:lnTo>
                  <a:lnTo>
                    <a:pt x="72" y="58"/>
                  </a:lnTo>
                  <a:lnTo>
                    <a:pt x="74" y="60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1"/>
                  </a:lnTo>
                  <a:lnTo>
                    <a:pt x="79" y="63"/>
                  </a:lnTo>
                  <a:lnTo>
                    <a:pt x="80" y="78"/>
                  </a:lnTo>
                  <a:lnTo>
                    <a:pt x="81" y="73"/>
                  </a:lnTo>
                  <a:lnTo>
                    <a:pt x="82" y="71"/>
                  </a:lnTo>
                  <a:lnTo>
                    <a:pt x="82" y="81"/>
                  </a:lnTo>
                  <a:lnTo>
                    <a:pt x="85" y="81"/>
                  </a:lnTo>
                  <a:lnTo>
                    <a:pt x="85" y="76"/>
                  </a:lnTo>
                  <a:lnTo>
                    <a:pt x="86" y="84"/>
                  </a:lnTo>
                  <a:lnTo>
                    <a:pt x="87" y="81"/>
                  </a:lnTo>
                  <a:lnTo>
                    <a:pt x="88" y="79"/>
                  </a:lnTo>
                  <a:lnTo>
                    <a:pt x="90" y="75"/>
                  </a:lnTo>
                  <a:lnTo>
                    <a:pt x="90" y="72"/>
                  </a:lnTo>
                  <a:lnTo>
                    <a:pt x="91" y="70"/>
                  </a:lnTo>
                  <a:lnTo>
                    <a:pt x="92" y="65"/>
                  </a:lnTo>
                  <a:lnTo>
                    <a:pt x="93" y="72"/>
                  </a:lnTo>
                  <a:lnTo>
                    <a:pt x="95" y="52"/>
                  </a:lnTo>
                  <a:lnTo>
                    <a:pt x="96" y="48"/>
                  </a:lnTo>
                  <a:lnTo>
                    <a:pt x="96" y="44"/>
                  </a:lnTo>
                  <a:lnTo>
                    <a:pt x="97" y="41"/>
                  </a:lnTo>
                  <a:lnTo>
                    <a:pt x="98" y="27"/>
                  </a:lnTo>
                  <a:lnTo>
                    <a:pt x="100" y="18"/>
                  </a:lnTo>
                  <a:lnTo>
                    <a:pt x="101" y="26"/>
                  </a:lnTo>
                  <a:lnTo>
                    <a:pt x="102" y="39"/>
                  </a:lnTo>
                  <a:lnTo>
                    <a:pt x="102" y="29"/>
                  </a:lnTo>
                  <a:lnTo>
                    <a:pt x="103" y="36"/>
                  </a:lnTo>
                  <a:lnTo>
                    <a:pt x="105" y="38"/>
                  </a:lnTo>
                  <a:lnTo>
                    <a:pt x="106" y="40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45"/>
                  </a:lnTo>
                  <a:lnTo>
                    <a:pt x="110" y="48"/>
                  </a:lnTo>
                  <a:lnTo>
                    <a:pt x="111" y="51"/>
                  </a:lnTo>
                  <a:lnTo>
                    <a:pt x="112" y="56"/>
                  </a:lnTo>
                  <a:lnTo>
                    <a:pt x="113" y="50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8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1" y="64"/>
                  </a:lnTo>
                  <a:lnTo>
                    <a:pt x="122" y="72"/>
                  </a:lnTo>
                  <a:lnTo>
                    <a:pt x="123" y="70"/>
                  </a:lnTo>
                  <a:lnTo>
                    <a:pt x="124" y="73"/>
                  </a:lnTo>
                  <a:lnTo>
                    <a:pt x="126" y="72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8" y="74"/>
                  </a:lnTo>
                  <a:lnTo>
                    <a:pt x="129" y="75"/>
                  </a:lnTo>
                  <a:lnTo>
                    <a:pt x="131" y="86"/>
                  </a:lnTo>
                  <a:lnTo>
                    <a:pt x="132" y="81"/>
                  </a:lnTo>
                  <a:lnTo>
                    <a:pt x="132" y="70"/>
                  </a:lnTo>
                  <a:lnTo>
                    <a:pt x="133" y="69"/>
                  </a:lnTo>
                  <a:lnTo>
                    <a:pt x="134" y="60"/>
                  </a:lnTo>
                  <a:lnTo>
                    <a:pt x="136" y="63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3" y="79"/>
                  </a:lnTo>
                  <a:lnTo>
                    <a:pt x="143" y="82"/>
                  </a:lnTo>
                  <a:lnTo>
                    <a:pt x="144" y="72"/>
                  </a:lnTo>
                  <a:lnTo>
                    <a:pt x="146" y="75"/>
                  </a:lnTo>
                  <a:lnTo>
                    <a:pt x="147" y="78"/>
                  </a:lnTo>
                  <a:lnTo>
                    <a:pt x="148" y="88"/>
                  </a:lnTo>
                  <a:lnTo>
                    <a:pt x="149" y="84"/>
                  </a:lnTo>
                  <a:lnTo>
                    <a:pt x="149" y="80"/>
                  </a:lnTo>
                  <a:lnTo>
                    <a:pt x="152" y="81"/>
                  </a:lnTo>
                  <a:lnTo>
                    <a:pt x="152" y="83"/>
                  </a:lnTo>
                  <a:lnTo>
                    <a:pt x="153" y="77"/>
                  </a:lnTo>
                  <a:lnTo>
                    <a:pt x="154" y="81"/>
                  </a:lnTo>
                  <a:lnTo>
                    <a:pt x="154" y="76"/>
                  </a:lnTo>
                  <a:lnTo>
                    <a:pt x="157" y="73"/>
                  </a:lnTo>
                  <a:lnTo>
                    <a:pt x="157" y="72"/>
                  </a:lnTo>
                  <a:lnTo>
                    <a:pt x="158" y="70"/>
                  </a:lnTo>
                  <a:lnTo>
                    <a:pt x="159" y="68"/>
                  </a:lnTo>
                  <a:lnTo>
                    <a:pt x="160" y="52"/>
                  </a:lnTo>
                  <a:lnTo>
                    <a:pt x="162" y="56"/>
                  </a:lnTo>
                  <a:lnTo>
                    <a:pt x="163" y="63"/>
                  </a:lnTo>
                  <a:lnTo>
                    <a:pt x="163" y="59"/>
                  </a:lnTo>
                  <a:lnTo>
                    <a:pt x="164" y="57"/>
                  </a:lnTo>
                  <a:lnTo>
                    <a:pt x="165" y="56"/>
                  </a:lnTo>
                  <a:lnTo>
                    <a:pt x="167" y="56"/>
                  </a:lnTo>
                  <a:lnTo>
                    <a:pt x="168" y="52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70" y="62"/>
                  </a:lnTo>
                  <a:lnTo>
                    <a:pt x="172" y="66"/>
                  </a:lnTo>
                  <a:lnTo>
                    <a:pt x="173" y="67"/>
                  </a:lnTo>
                  <a:lnTo>
                    <a:pt x="174" y="71"/>
                  </a:lnTo>
                  <a:lnTo>
                    <a:pt x="174" y="71"/>
                  </a:lnTo>
                  <a:lnTo>
                    <a:pt x="175" y="72"/>
                  </a:lnTo>
                  <a:lnTo>
                    <a:pt x="177" y="68"/>
                  </a:lnTo>
                  <a:lnTo>
                    <a:pt x="178" y="66"/>
                  </a:lnTo>
                  <a:lnTo>
                    <a:pt x="179" y="67"/>
                  </a:lnTo>
                  <a:lnTo>
                    <a:pt x="179" y="74"/>
                  </a:lnTo>
                  <a:lnTo>
                    <a:pt x="180" y="85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77"/>
                  </a:lnTo>
                  <a:lnTo>
                    <a:pt x="185" y="83"/>
                  </a:lnTo>
                  <a:lnTo>
                    <a:pt x="185" y="85"/>
                  </a:lnTo>
                  <a:lnTo>
                    <a:pt x="188" y="87"/>
                  </a:lnTo>
                  <a:lnTo>
                    <a:pt x="188" y="90"/>
                  </a:lnTo>
                  <a:lnTo>
                    <a:pt x="189" y="89"/>
                  </a:lnTo>
                  <a:lnTo>
                    <a:pt x="190" y="81"/>
                  </a:lnTo>
                  <a:lnTo>
                    <a:pt x="190" y="89"/>
                  </a:lnTo>
                  <a:lnTo>
                    <a:pt x="193" y="82"/>
                  </a:lnTo>
                  <a:lnTo>
                    <a:pt x="193" y="83"/>
                  </a:lnTo>
                  <a:lnTo>
                    <a:pt x="194" y="81"/>
                  </a:lnTo>
                  <a:lnTo>
                    <a:pt x="195" y="89"/>
                  </a:lnTo>
                  <a:lnTo>
                    <a:pt x="196" y="90"/>
                  </a:lnTo>
                  <a:lnTo>
                    <a:pt x="198" y="87"/>
                  </a:lnTo>
                  <a:lnTo>
                    <a:pt x="199" y="86"/>
                  </a:lnTo>
                  <a:lnTo>
                    <a:pt x="199" y="93"/>
                  </a:lnTo>
                  <a:lnTo>
                    <a:pt x="200" y="93"/>
                  </a:lnTo>
                  <a:lnTo>
                    <a:pt x="201" y="99"/>
                  </a:lnTo>
                  <a:lnTo>
                    <a:pt x="203" y="98"/>
                  </a:lnTo>
                  <a:lnTo>
                    <a:pt x="204" y="100"/>
                  </a:lnTo>
                  <a:lnTo>
                    <a:pt x="204" y="104"/>
                  </a:lnTo>
                  <a:lnTo>
                    <a:pt x="205" y="108"/>
                  </a:lnTo>
                  <a:lnTo>
                    <a:pt x="206" y="100"/>
                  </a:lnTo>
                  <a:lnTo>
                    <a:pt x="208" y="99"/>
                  </a:lnTo>
                  <a:lnTo>
                    <a:pt x="209" y="98"/>
                  </a:lnTo>
                  <a:lnTo>
                    <a:pt x="210" y="96"/>
                  </a:lnTo>
                  <a:lnTo>
                    <a:pt x="210" y="94"/>
                  </a:lnTo>
                  <a:lnTo>
                    <a:pt x="211" y="100"/>
                  </a:lnTo>
                  <a:lnTo>
                    <a:pt x="213" y="97"/>
                  </a:lnTo>
                  <a:lnTo>
                    <a:pt x="214" y="97"/>
                  </a:lnTo>
                  <a:lnTo>
                    <a:pt x="215" y="91"/>
                  </a:lnTo>
                  <a:lnTo>
                    <a:pt x="216" y="96"/>
                  </a:lnTo>
                  <a:lnTo>
                    <a:pt x="216" y="96"/>
                  </a:lnTo>
                  <a:lnTo>
                    <a:pt x="218" y="95"/>
                  </a:lnTo>
                  <a:lnTo>
                    <a:pt x="219" y="103"/>
                  </a:lnTo>
                  <a:lnTo>
                    <a:pt x="220" y="111"/>
                  </a:lnTo>
                  <a:lnTo>
                    <a:pt x="221" y="113"/>
                  </a:lnTo>
                  <a:lnTo>
                    <a:pt x="221" y="117"/>
                  </a:lnTo>
                  <a:lnTo>
                    <a:pt x="224" y="128"/>
                  </a:lnTo>
                  <a:lnTo>
                    <a:pt x="224" y="130"/>
                  </a:lnTo>
                  <a:lnTo>
                    <a:pt x="225" y="134"/>
                  </a:lnTo>
                  <a:lnTo>
                    <a:pt x="226" y="141"/>
                  </a:lnTo>
                  <a:lnTo>
                    <a:pt x="227" y="153"/>
                  </a:lnTo>
                  <a:lnTo>
                    <a:pt x="229" y="155"/>
                  </a:lnTo>
                  <a:lnTo>
                    <a:pt x="229" y="155"/>
                  </a:lnTo>
                  <a:lnTo>
                    <a:pt x="230" y="155"/>
                  </a:lnTo>
                  <a:lnTo>
                    <a:pt x="231" y="154"/>
                  </a:lnTo>
                  <a:lnTo>
                    <a:pt x="232" y="152"/>
                  </a:lnTo>
                  <a:lnTo>
                    <a:pt x="234" y="154"/>
                  </a:lnTo>
                  <a:lnTo>
                    <a:pt x="235" y="157"/>
                  </a:lnTo>
                  <a:lnTo>
                    <a:pt x="235" y="152"/>
                  </a:lnTo>
                  <a:lnTo>
                    <a:pt x="236" y="158"/>
                  </a:lnTo>
                  <a:lnTo>
                    <a:pt x="237" y="165"/>
                  </a:lnTo>
                  <a:lnTo>
                    <a:pt x="239" y="164"/>
                  </a:lnTo>
                  <a:lnTo>
                    <a:pt x="240" y="169"/>
                  </a:lnTo>
                  <a:lnTo>
                    <a:pt x="241" y="174"/>
                  </a:lnTo>
                  <a:lnTo>
                    <a:pt x="241" y="175"/>
                  </a:lnTo>
                  <a:lnTo>
                    <a:pt x="242" y="176"/>
                  </a:lnTo>
                  <a:lnTo>
                    <a:pt x="244" y="178"/>
                  </a:lnTo>
                  <a:lnTo>
                    <a:pt x="245" y="172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7" y="167"/>
                  </a:lnTo>
                  <a:lnTo>
                    <a:pt x="249" y="167"/>
                  </a:lnTo>
                  <a:lnTo>
                    <a:pt x="250" y="170"/>
                  </a:lnTo>
                  <a:lnTo>
                    <a:pt x="251" y="167"/>
                  </a:lnTo>
                  <a:lnTo>
                    <a:pt x="252" y="172"/>
                  </a:lnTo>
                  <a:lnTo>
                    <a:pt x="252" y="172"/>
                  </a:lnTo>
                  <a:lnTo>
                    <a:pt x="254" y="174"/>
                  </a:lnTo>
                  <a:lnTo>
                    <a:pt x="255" y="173"/>
                  </a:lnTo>
                  <a:lnTo>
                    <a:pt x="256" y="172"/>
                  </a:lnTo>
                  <a:lnTo>
                    <a:pt x="257" y="180"/>
                  </a:lnTo>
                  <a:lnTo>
                    <a:pt x="257" y="180"/>
                  </a:lnTo>
                  <a:lnTo>
                    <a:pt x="260" y="179"/>
                  </a:lnTo>
                  <a:lnTo>
                    <a:pt x="260" y="179"/>
                  </a:lnTo>
                  <a:lnTo>
                    <a:pt x="261" y="179"/>
                  </a:lnTo>
                  <a:lnTo>
                    <a:pt x="262" y="181"/>
                  </a:lnTo>
                  <a:lnTo>
                    <a:pt x="263" y="183"/>
                  </a:lnTo>
                  <a:lnTo>
                    <a:pt x="265" y="185"/>
                  </a:lnTo>
                  <a:lnTo>
                    <a:pt x="266" y="187"/>
                  </a:lnTo>
                  <a:lnTo>
                    <a:pt x="266" y="190"/>
                  </a:lnTo>
                  <a:lnTo>
                    <a:pt x="267" y="186"/>
                  </a:lnTo>
                  <a:lnTo>
                    <a:pt x="268" y="185"/>
                  </a:lnTo>
                  <a:lnTo>
                    <a:pt x="270" y="188"/>
                  </a:lnTo>
                  <a:lnTo>
                    <a:pt x="271" y="200"/>
                  </a:lnTo>
                  <a:lnTo>
                    <a:pt x="271" y="194"/>
                  </a:lnTo>
                  <a:lnTo>
                    <a:pt x="272" y="188"/>
                  </a:lnTo>
                  <a:lnTo>
                    <a:pt x="273" y="189"/>
                  </a:lnTo>
                  <a:lnTo>
                    <a:pt x="275" y="187"/>
                  </a:lnTo>
                  <a:lnTo>
                    <a:pt x="276" y="180"/>
                  </a:lnTo>
                  <a:lnTo>
                    <a:pt x="277" y="178"/>
                  </a:lnTo>
                  <a:lnTo>
                    <a:pt x="277" y="175"/>
                  </a:lnTo>
                  <a:lnTo>
                    <a:pt x="278" y="177"/>
                  </a:lnTo>
                  <a:lnTo>
                    <a:pt x="280" y="175"/>
                  </a:lnTo>
                  <a:lnTo>
                    <a:pt x="281" y="173"/>
                  </a:lnTo>
                  <a:lnTo>
                    <a:pt x="282" y="175"/>
                  </a:lnTo>
                  <a:lnTo>
                    <a:pt x="282" y="166"/>
                  </a:lnTo>
                  <a:lnTo>
                    <a:pt x="283" y="162"/>
                  </a:lnTo>
                  <a:lnTo>
                    <a:pt x="285" y="164"/>
                  </a:lnTo>
                  <a:lnTo>
                    <a:pt x="286" y="171"/>
                  </a:lnTo>
                  <a:lnTo>
                    <a:pt x="287" y="173"/>
                  </a:lnTo>
                  <a:lnTo>
                    <a:pt x="288" y="178"/>
                  </a:lnTo>
                  <a:lnTo>
                    <a:pt x="288" y="174"/>
                  </a:lnTo>
                  <a:lnTo>
                    <a:pt x="291" y="177"/>
                  </a:lnTo>
                  <a:lnTo>
                    <a:pt x="291" y="178"/>
                  </a:lnTo>
                  <a:lnTo>
                    <a:pt x="292" y="184"/>
                  </a:lnTo>
                  <a:lnTo>
                    <a:pt x="293" y="190"/>
                  </a:lnTo>
                  <a:lnTo>
                    <a:pt x="293" y="187"/>
                  </a:lnTo>
                  <a:lnTo>
                    <a:pt x="296" y="188"/>
                  </a:lnTo>
                  <a:lnTo>
                    <a:pt x="296" y="190"/>
                  </a:lnTo>
                  <a:lnTo>
                    <a:pt x="297" y="182"/>
                  </a:lnTo>
                  <a:lnTo>
                    <a:pt x="298" y="189"/>
                  </a:lnTo>
                  <a:lnTo>
                    <a:pt x="299" y="192"/>
                  </a:lnTo>
                  <a:lnTo>
                    <a:pt x="301" y="195"/>
                  </a:lnTo>
                  <a:lnTo>
                    <a:pt x="302" y="196"/>
                  </a:lnTo>
                  <a:lnTo>
                    <a:pt x="302" y="204"/>
                  </a:lnTo>
                  <a:lnTo>
                    <a:pt x="303" y="202"/>
                  </a:lnTo>
                  <a:lnTo>
                    <a:pt x="304" y="208"/>
                  </a:lnTo>
                  <a:lnTo>
                    <a:pt x="306" y="209"/>
                  </a:lnTo>
                  <a:lnTo>
                    <a:pt x="307" y="209"/>
                  </a:lnTo>
                  <a:lnTo>
                    <a:pt x="307" y="208"/>
                  </a:lnTo>
                  <a:lnTo>
                    <a:pt x="308" y="213"/>
                  </a:lnTo>
                  <a:lnTo>
                    <a:pt x="309" y="216"/>
                  </a:lnTo>
                  <a:lnTo>
                    <a:pt x="311" y="223"/>
                  </a:lnTo>
                  <a:lnTo>
                    <a:pt x="312" y="221"/>
                  </a:lnTo>
                  <a:lnTo>
                    <a:pt x="313" y="219"/>
                  </a:lnTo>
                  <a:lnTo>
                    <a:pt x="313" y="222"/>
                  </a:lnTo>
                  <a:lnTo>
                    <a:pt x="314" y="219"/>
                  </a:lnTo>
                  <a:lnTo>
                    <a:pt x="316" y="224"/>
                  </a:lnTo>
                  <a:lnTo>
                    <a:pt x="317" y="229"/>
                  </a:lnTo>
                  <a:lnTo>
                    <a:pt x="318" y="232"/>
                  </a:lnTo>
                  <a:lnTo>
                    <a:pt x="318" y="229"/>
                  </a:lnTo>
                  <a:lnTo>
                    <a:pt x="319" y="233"/>
                  </a:lnTo>
                  <a:lnTo>
                    <a:pt x="321" y="227"/>
                  </a:lnTo>
                  <a:lnTo>
                    <a:pt x="322" y="228"/>
                  </a:lnTo>
                  <a:lnTo>
                    <a:pt x="323" y="212"/>
                  </a:lnTo>
                  <a:lnTo>
                    <a:pt x="324" y="202"/>
                  </a:lnTo>
                  <a:lnTo>
                    <a:pt x="324" y="206"/>
                  </a:lnTo>
                  <a:lnTo>
                    <a:pt x="327" y="195"/>
                  </a:lnTo>
                  <a:lnTo>
                    <a:pt x="327" y="197"/>
                  </a:lnTo>
                  <a:lnTo>
                    <a:pt x="328" y="184"/>
                  </a:lnTo>
                  <a:lnTo>
                    <a:pt x="329" y="186"/>
                  </a:lnTo>
                  <a:lnTo>
                    <a:pt x="330" y="185"/>
                  </a:lnTo>
                  <a:lnTo>
                    <a:pt x="332" y="184"/>
                  </a:lnTo>
                  <a:lnTo>
                    <a:pt x="332" y="172"/>
                  </a:lnTo>
                  <a:lnTo>
                    <a:pt x="333" y="164"/>
                  </a:lnTo>
                  <a:lnTo>
                    <a:pt x="334" y="155"/>
                  </a:lnTo>
                  <a:lnTo>
                    <a:pt x="335" y="151"/>
                  </a:lnTo>
                  <a:lnTo>
                    <a:pt x="337" y="146"/>
                  </a:lnTo>
                  <a:lnTo>
                    <a:pt x="338" y="152"/>
                  </a:lnTo>
                  <a:lnTo>
                    <a:pt x="338" y="157"/>
                  </a:lnTo>
                  <a:lnTo>
                    <a:pt x="339" y="165"/>
                  </a:lnTo>
                  <a:lnTo>
                    <a:pt x="340" y="163"/>
                  </a:lnTo>
                  <a:lnTo>
                    <a:pt x="342" y="155"/>
                  </a:lnTo>
                  <a:lnTo>
                    <a:pt x="343" y="146"/>
                  </a:lnTo>
                  <a:lnTo>
                    <a:pt x="343" y="142"/>
                  </a:lnTo>
                  <a:lnTo>
                    <a:pt x="344" y="126"/>
                  </a:lnTo>
                  <a:lnTo>
                    <a:pt x="345" y="108"/>
                  </a:lnTo>
                  <a:lnTo>
                    <a:pt x="347" y="105"/>
                  </a:lnTo>
                  <a:lnTo>
                    <a:pt x="348" y="99"/>
                  </a:lnTo>
                  <a:lnTo>
                    <a:pt x="349" y="105"/>
                  </a:lnTo>
                  <a:lnTo>
                    <a:pt x="349" y="120"/>
                  </a:lnTo>
                  <a:lnTo>
                    <a:pt x="350" y="117"/>
                  </a:lnTo>
                  <a:lnTo>
                    <a:pt x="352" y="116"/>
                  </a:lnTo>
                  <a:lnTo>
                    <a:pt x="353" y="112"/>
                  </a:lnTo>
                  <a:lnTo>
                    <a:pt x="354" y="99"/>
                  </a:lnTo>
                  <a:lnTo>
                    <a:pt x="355" y="87"/>
                  </a:lnTo>
                  <a:lnTo>
                    <a:pt x="355" y="87"/>
                  </a:lnTo>
                  <a:lnTo>
                    <a:pt x="357" y="87"/>
                  </a:lnTo>
                  <a:lnTo>
                    <a:pt x="358" y="85"/>
                  </a:lnTo>
                  <a:lnTo>
                    <a:pt x="359" y="91"/>
                  </a:lnTo>
                  <a:lnTo>
                    <a:pt x="360" y="87"/>
                  </a:lnTo>
                  <a:lnTo>
                    <a:pt x="360" y="95"/>
                  </a:lnTo>
                  <a:lnTo>
                    <a:pt x="363" y="97"/>
                  </a:lnTo>
                  <a:lnTo>
                    <a:pt x="363" y="89"/>
                  </a:lnTo>
                  <a:lnTo>
                    <a:pt x="364" y="80"/>
                  </a:lnTo>
                  <a:lnTo>
                    <a:pt x="365" y="74"/>
                  </a:lnTo>
                  <a:lnTo>
                    <a:pt x="366" y="62"/>
                  </a:lnTo>
                  <a:lnTo>
                    <a:pt x="368" y="52"/>
                  </a:lnTo>
                  <a:lnTo>
                    <a:pt x="368" y="42"/>
                  </a:lnTo>
                  <a:lnTo>
                    <a:pt x="369" y="44"/>
                  </a:lnTo>
                  <a:lnTo>
                    <a:pt x="370" y="57"/>
                  </a:lnTo>
                  <a:lnTo>
                    <a:pt x="371" y="64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4" y="82"/>
                  </a:lnTo>
                  <a:lnTo>
                    <a:pt x="375" y="90"/>
                  </a:lnTo>
                  <a:lnTo>
                    <a:pt x="376" y="95"/>
                  </a:lnTo>
                  <a:lnTo>
                    <a:pt x="378" y="95"/>
                  </a:lnTo>
                  <a:lnTo>
                    <a:pt x="379" y="95"/>
                  </a:lnTo>
                  <a:lnTo>
                    <a:pt x="380" y="92"/>
                  </a:lnTo>
                  <a:lnTo>
                    <a:pt x="380" y="104"/>
                  </a:lnTo>
                  <a:lnTo>
                    <a:pt x="381" y="116"/>
                  </a:lnTo>
                  <a:lnTo>
                    <a:pt x="383" y="108"/>
                  </a:lnTo>
                  <a:lnTo>
                    <a:pt x="384" y="105"/>
                  </a:lnTo>
                  <a:lnTo>
                    <a:pt x="385" y="107"/>
                  </a:lnTo>
                  <a:lnTo>
                    <a:pt x="385" y="104"/>
                  </a:lnTo>
                  <a:lnTo>
                    <a:pt x="386" y="114"/>
                  </a:lnTo>
                  <a:lnTo>
                    <a:pt x="388" y="116"/>
                  </a:lnTo>
                  <a:lnTo>
                    <a:pt x="389" y="120"/>
                  </a:lnTo>
                  <a:lnTo>
                    <a:pt x="390" y="124"/>
                  </a:lnTo>
                  <a:lnTo>
                    <a:pt x="391" y="116"/>
                  </a:lnTo>
                  <a:lnTo>
                    <a:pt x="391" y="120"/>
                  </a:lnTo>
                  <a:lnTo>
                    <a:pt x="394" y="119"/>
                  </a:lnTo>
                  <a:lnTo>
                    <a:pt x="394" y="117"/>
                  </a:lnTo>
                  <a:lnTo>
                    <a:pt x="395" y="110"/>
                  </a:lnTo>
                  <a:lnTo>
                    <a:pt x="396" y="111"/>
                  </a:lnTo>
                  <a:lnTo>
                    <a:pt x="396" y="106"/>
                  </a:lnTo>
                  <a:lnTo>
                    <a:pt x="399" y="103"/>
                  </a:lnTo>
                  <a:lnTo>
                    <a:pt x="399" y="112"/>
                  </a:lnTo>
                  <a:lnTo>
                    <a:pt x="400" y="116"/>
                  </a:lnTo>
                  <a:lnTo>
                    <a:pt x="401" y="114"/>
                  </a:lnTo>
                  <a:lnTo>
                    <a:pt x="402" y="128"/>
                  </a:lnTo>
                  <a:lnTo>
                    <a:pt x="404" y="129"/>
                  </a:lnTo>
                  <a:lnTo>
                    <a:pt x="405" y="131"/>
                  </a:lnTo>
                  <a:lnTo>
                    <a:pt x="405" y="128"/>
                  </a:lnTo>
                  <a:lnTo>
                    <a:pt x="406" y="125"/>
                  </a:lnTo>
                  <a:lnTo>
                    <a:pt x="407" y="134"/>
                  </a:lnTo>
                  <a:lnTo>
                    <a:pt x="409" y="140"/>
                  </a:lnTo>
                  <a:lnTo>
                    <a:pt x="410" y="147"/>
                  </a:lnTo>
                  <a:lnTo>
                    <a:pt x="410" y="151"/>
                  </a:lnTo>
                  <a:lnTo>
                    <a:pt x="411" y="155"/>
                  </a:lnTo>
                  <a:lnTo>
                    <a:pt x="412" y="157"/>
                  </a:lnTo>
                  <a:lnTo>
                    <a:pt x="414" y="160"/>
                  </a:lnTo>
                  <a:lnTo>
                    <a:pt x="415" y="158"/>
                  </a:lnTo>
                  <a:lnTo>
                    <a:pt x="416" y="155"/>
                  </a:lnTo>
                  <a:lnTo>
                    <a:pt x="416" y="162"/>
                  </a:lnTo>
                  <a:lnTo>
                    <a:pt x="417" y="159"/>
                  </a:lnTo>
                  <a:lnTo>
                    <a:pt x="419" y="161"/>
                  </a:lnTo>
                  <a:lnTo>
                    <a:pt x="420" y="161"/>
                  </a:lnTo>
                  <a:lnTo>
                    <a:pt x="421" y="166"/>
                  </a:lnTo>
                  <a:lnTo>
                    <a:pt x="421" y="163"/>
                  </a:lnTo>
                  <a:lnTo>
                    <a:pt x="422" y="172"/>
                  </a:lnTo>
                  <a:lnTo>
                    <a:pt x="424" y="173"/>
                  </a:lnTo>
                  <a:lnTo>
                    <a:pt x="425" y="173"/>
                  </a:lnTo>
                  <a:lnTo>
                    <a:pt x="426" y="170"/>
                  </a:lnTo>
                  <a:lnTo>
                    <a:pt x="427" y="171"/>
                  </a:lnTo>
                  <a:lnTo>
                    <a:pt x="427" y="174"/>
                  </a:lnTo>
                  <a:lnTo>
                    <a:pt x="430" y="173"/>
                  </a:lnTo>
                  <a:lnTo>
                    <a:pt x="430" y="171"/>
                  </a:lnTo>
                  <a:lnTo>
                    <a:pt x="431" y="172"/>
                  </a:lnTo>
                  <a:lnTo>
                    <a:pt x="432" y="168"/>
                  </a:lnTo>
                  <a:lnTo>
                    <a:pt x="432" y="164"/>
                  </a:lnTo>
                  <a:lnTo>
                    <a:pt x="435" y="166"/>
                  </a:lnTo>
                  <a:lnTo>
                    <a:pt x="435" y="160"/>
                  </a:lnTo>
                  <a:lnTo>
                    <a:pt x="436" y="164"/>
                  </a:lnTo>
                  <a:lnTo>
                    <a:pt x="437" y="160"/>
                  </a:lnTo>
                  <a:lnTo>
                    <a:pt x="438" y="163"/>
                  </a:lnTo>
                  <a:lnTo>
                    <a:pt x="440" y="163"/>
                  </a:lnTo>
                  <a:lnTo>
                    <a:pt x="441" y="161"/>
                  </a:lnTo>
                  <a:lnTo>
                    <a:pt x="441" y="162"/>
                  </a:lnTo>
                  <a:lnTo>
                    <a:pt x="442" y="162"/>
                  </a:lnTo>
                  <a:lnTo>
                    <a:pt x="443" y="166"/>
                  </a:lnTo>
                  <a:lnTo>
                    <a:pt x="445" y="164"/>
                  </a:lnTo>
                  <a:lnTo>
                    <a:pt x="446" y="155"/>
                  </a:lnTo>
                  <a:lnTo>
                    <a:pt x="446" y="143"/>
                  </a:lnTo>
                  <a:lnTo>
                    <a:pt x="447" y="137"/>
                  </a:lnTo>
                  <a:lnTo>
                    <a:pt x="448" y="138"/>
                  </a:lnTo>
                  <a:lnTo>
                    <a:pt x="450" y="140"/>
                  </a:lnTo>
                  <a:lnTo>
                    <a:pt x="451" y="143"/>
                  </a:lnTo>
                  <a:lnTo>
                    <a:pt x="452" y="146"/>
                  </a:lnTo>
                  <a:lnTo>
                    <a:pt x="452" y="148"/>
                  </a:lnTo>
                  <a:lnTo>
                    <a:pt x="453" y="147"/>
                  </a:lnTo>
                  <a:lnTo>
                    <a:pt x="455" y="151"/>
                  </a:lnTo>
                  <a:lnTo>
                    <a:pt x="456" y="147"/>
                  </a:lnTo>
                  <a:lnTo>
                    <a:pt x="457" y="148"/>
                  </a:lnTo>
                  <a:lnTo>
                    <a:pt x="457" y="152"/>
                  </a:lnTo>
                  <a:lnTo>
                    <a:pt x="458" y="153"/>
                  </a:lnTo>
                  <a:lnTo>
                    <a:pt x="460" y="144"/>
                  </a:lnTo>
                  <a:lnTo>
                    <a:pt x="461" y="141"/>
                  </a:lnTo>
                  <a:lnTo>
                    <a:pt x="462" y="130"/>
                  </a:lnTo>
                  <a:lnTo>
                    <a:pt x="463" y="122"/>
                  </a:lnTo>
                  <a:lnTo>
                    <a:pt x="463" y="133"/>
                  </a:lnTo>
                  <a:lnTo>
                    <a:pt x="466" y="140"/>
                  </a:lnTo>
                  <a:lnTo>
                    <a:pt x="466" y="138"/>
                  </a:lnTo>
                  <a:lnTo>
                    <a:pt x="467" y="135"/>
                  </a:lnTo>
                  <a:lnTo>
                    <a:pt x="468" y="138"/>
                  </a:lnTo>
                  <a:lnTo>
                    <a:pt x="469" y="140"/>
                  </a:lnTo>
                  <a:lnTo>
                    <a:pt x="471" y="146"/>
                  </a:lnTo>
                  <a:lnTo>
                    <a:pt x="471" y="144"/>
                  </a:lnTo>
                  <a:lnTo>
                    <a:pt x="472" y="138"/>
                  </a:lnTo>
                  <a:lnTo>
                    <a:pt x="473" y="135"/>
                  </a:lnTo>
                  <a:lnTo>
                    <a:pt x="474" y="130"/>
                  </a:lnTo>
                  <a:lnTo>
                    <a:pt x="476" y="128"/>
                  </a:lnTo>
                  <a:lnTo>
                    <a:pt x="477" y="125"/>
                  </a:lnTo>
                  <a:lnTo>
                    <a:pt x="477" y="120"/>
                  </a:lnTo>
                  <a:lnTo>
                    <a:pt x="478" y="113"/>
                  </a:lnTo>
                  <a:lnTo>
                    <a:pt x="479" y="118"/>
                  </a:lnTo>
                  <a:lnTo>
                    <a:pt x="481" y="126"/>
                  </a:lnTo>
                  <a:lnTo>
                    <a:pt x="482" y="129"/>
                  </a:lnTo>
                  <a:lnTo>
                    <a:pt x="483" y="127"/>
                  </a:lnTo>
                  <a:lnTo>
                    <a:pt x="483" y="127"/>
                  </a:lnTo>
                  <a:lnTo>
                    <a:pt x="484" y="126"/>
                  </a:lnTo>
                  <a:lnTo>
                    <a:pt x="486" y="131"/>
                  </a:lnTo>
                  <a:lnTo>
                    <a:pt x="487" y="139"/>
                  </a:lnTo>
                  <a:lnTo>
                    <a:pt x="488" y="137"/>
                  </a:lnTo>
                  <a:lnTo>
                    <a:pt x="488" y="129"/>
                  </a:lnTo>
                  <a:lnTo>
                    <a:pt x="489" y="130"/>
                  </a:lnTo>
                  <a:lnTo>
                    <a:pt x="491" y="130"/>
                  </a:lnTo>
                  <a:lnTo>
                    <a:pt x="492" y="133"/>
                  </a:lnTo>
                  <a:lnTo>
                    <a:pt x="493" y="136"/>
                  </a:lnTo>
                  <a:lnTo>
                    <a:pt x="494" y="142"/>
                  </a:lnTo>
                  <a:lnTo>
                    <a:pt x="494" y="144"/>
                  </a:lnTo>
                  <a:lnTo>
                    <a:pt x="496" y="140"/>
                  </a:lnTo>
                  <a:lnTo>
                    <a:pt x="497" y="135"/>
                  </a:lnTo>
                  <a:lnTo>
                    <a:pt x="498" y="141"/>
                  </a:lnTo>
                  <a:lnTo>
                    <a:pt x="499" y="134"/>
                  </a:lnTo>
                  <a:lnTo>
                    <a:pt x="499" y="134"/>
                  </a:lnTo>
                  <a:lnTo>
                    <a:pt x="502" y="133"/>
                  </a:lnTo>
                  <a:lnTo>
                    <a:pt x="502" y="130"/>
                  </a:lnTo>
                  <a:lnTo>
                    <a:pt x="503" y="120"/>
                  </a:lnTo>
                  <a:lnTo>
                    <a:pt x="504" y="115"/>
                  </a:lnTo>
                  <a:lnTo>
                    <a:pt x="505" y="124"/>
                  </a:lnTo>
                  <a:lnTo>
                    <a:pt x="507" y="121"/>
                  </a:lnTo>
                  <a:lnTo>
                    <a:pt x="508" y="116"/>
                  </a:lnTo>
                  <a:lnTo>
                    <a:pt x="508" y="121"/>
                  </a:lnTo>
                  <a:lnTo>
                    <a:pt x="509" y="119"/>
                  </a:lnTo>
                  <a:lnTo>
                    <a:pt x="510" y="117"/>
                  </a:lnTo>
                  <a:lnTo>
                    <a:pt x="512" y="118"/>
                  </a:lnTo>
                  <a:lnTo>
                    <a:pt x="513" y="128"/>
                  </a:lnTo>
                  <a:lnTo>
                    <a:pt x="513" y="136"/>
                  </a:lnTo>
                  <a:lnTo>
                    <a:pt x="514" y="140"/>
                  </a:lnTo>
                  <a:lnTo>
                    <a:pt x="515" y="140"/>
                  </a:lnTo>
                  <a:lnTo>
                    <a:pt x="517" y="141"/>
                  </a:lnTo>
                  <a:lnTo>
                    <a:pt x="518" y="134"/>
                  </a:lnTo>
                  <a:lnTo>
                    <a:pt x="519" y="137"/>
                  </a:lnTo>
                  <a:lnTo>
                    <a:pt x="519" y="131"/>
                  </a:lnTo>
                  <a:lnTo>
                    <a:pt x="520" y="137"/>
                  </a:lnTo>
                  <a:lnTo>
                    <a:pt x="522" y="140"/>
                  </a:lnTo>
                  <a:lnTo>
                    <a:pt x="523" y="135"/>
                  </a:lnTo>
                  <a:lnTo>
                    <a:pt x="524" y="130"/>
                  </a:lnTo>
                  <a:lnTo>
                    <a:pt x="524" y="131"/>
                  </a:lnTo>
                  <a:lnTo>
                    <a:pt x="525" y="131"/>
                  </a:lnTo>
                  <a:lnTo>
                    <a:pt x="527" y="131"/>
                  </a:lnTo>
                  <a:lnTo>
                    <a:pt x="528" y="132"/>
                  </a:lnTo>
                  <a:lnTo>
                    <a:pt x="529" y="145"/>
                  </a:lnTo>
                  <a:lnTo>
                    <a:pt x="530" y="140"/>
                  </a:lnTo>
                  <a:lnTo>
                    <a:pt x="530" y="136"/>
                  </a:lnTo>
                  <a:lnTo>
                    <a:pt x="533" y="135"/>
                  </a:lnTo>
                  <a:lnTo>
                    <a:pt x="533" y="134"/>
                  </a:lnTo>
                  <a:lnTo>
                    <a:pt x="534" y="138"/>
                  </a:lnTo>
                  <a:lnTo>
                    <a:pt x="535" y="138"/>
                  </a:lnTo>
                  <a:lnTo>
                    <a:pt x="535" y="141"/>
                  </a:lnTo>
                  <a:lnTo>
                    <a:pt x="538" y="141"/>
                  </a:lnTo>
                  <a:lnTo>
                    <a:pt x="538" y="140"/>
                  </a:lnTo>
                  <a:lnTo>
                    <a:pt x="539" y="140"/>
                  </a:lnTo>
                  <a:lnTo>
                    <a:pt x="540" y="146"/>
                  </a:lnTo>
                  <a:lnTo>
                    <a:pt x="541" y="153"/>
                  </a:lnTo>
                  <a:lnTo>
                    <a:pt x="543" y="155"/>
                  </a:lnTo>
                  <a:lnTo>
                    <a:pt x="544" y="158"/>
                  </a:lnTo>
                  <a:lnTo>
                    <a:pt x="544" y="159"/>
                  </a:lnTo>
                  <a:lnTo>
                    <a:pt x="545" y="152"/>
                  </a:lnTo>
                  <a:lnTo>
                    <a:pt x="546" y="145"/>
                  </a:lnTo>
                  <a:lnTo>
                    <a:pt x="548" y="144"/>
                  </a:lnTo>
                  <a:lnTo>
                    <a:pt x="549" y="142"/>
                  </a:lnTo>
                  <a:lnTo>
                    <a:pt x="549" y="140"/>
                  </a:lnTo>
                  <a:lnTo>
                    <a:pt x="550" y="146"/>
                  </a:lnTo>
                  <a:lnTo>
                    <a:pt x="551" y="139"/>
                  </a:lnTo>
                  <a:lnTo>
                    <a:pt x="553" y="139"/>
                  </a:lnTo>
                  <a:lnTo>
                    <a:pt x="554" y="143"/>
                  </a:lnTo>
                  <a:lnTo>
                    <a:pt x="555" y="153"/>
                  </a:lnTo>
                  <a:lnTo>
                    <a:pt x="555" y="155"/>
                  </a:lnTo>
                  <a:lnTo>
                    <a:pt x="556" y="158"/>
                  </a:lnTo>
                  <a:lnTo>
                    <a:pt x="558" y="160"/>
                  </a:lnTo>
                  <a:lnTo>
                    <a:pt x="559" y="161"/>
                  </a:lnTo>
                  <a:lnTo>
                    <a:pt x="560" y="167"/>
                  </a:lnTo>
                  <a:lnTo>
                    <a:pt x="560" y="167"/>
                  </a:lnTo>
                  <a:lnTo>
                    <a:pt x="561" y="163"/>
                  </a:lnTo>
                  <a:lnTo>
                    <a:pt x="563" y="164"/>
                  </a:lnTo>
                  <a:lnTo>
                    <a:pt x="564" y="166"/>
                  </a:lnTo>
                  <a:lnTo>
                    <a:pt x="565" y="167"/>
                  </a:lnTo>
                  <a:lnTo>
                    <a:pt x="566" y="166"/>
                  </a:lnTo>
                  <a:lnTo>
                    <a:pt x="566" y="169"/>
                  </a:lnTo>
                  <a:lnTo>
                    <a:pt x="569" y="167"/>
                  </a:lnTo>
                  <a:lnTo>
                    <a:pt x="569" y="169"/>
                  </a:lnTo>
                  <a:lnTo>
                    <a:pt x="570" y="171"/>
                  </a:lnTo>
                  <a:lnTo>
                    <a:pt x="571" y="172"/>
                  </a:lnTo>
                  <a:lnTo>
                    <a:pt x="571" y="170"/>
                  </a:lnTo>
                  <a:lnTo>
                    <a:pt x="574" y="172"/>
                  </a:lnTo>
                  <a:lnTo>
                    <a:pt x="574" y="174"/>
                  </a:lnTo>
                  <a:lnTo>
                    <a:pt x="575" y="174"/>
                  </a:lnTo>
                  <a:lnTo>
                    <a:pt x="576" y="178"/>
                  </a:lnTo>
                  <a:lnTo>
                    <a:pt x="577" y="180"/>
                  </a:lnTo>
                  <a:lnTo>
                    <a:pt x="579" y="180"/>
                  </a:lnTo>
                  <a:lnTo>
                    <a:pt x="580" y="177"/>
                  </a:lnTo>
                  <a:lnTo>
                    <a:pt x="580" y="178"/>
                  </a:lnTo>
                  <a:lnTo>
                    <a:pt x="581" y="179"/>
                  </a:lnTo>
                  <a:lnTo>
                    <a:pt x="582" y="181"/>
                  </a:lnTo>
                  <a:lnTo>
                    <a:pt x="584" y="184"/>
                  </a:lnTo>
                  <a:lnTo>
                    <a:pt x="585" y="180"/>
                  </a:lnTo>
                  <a:lnTo>
                    <a:pt x="585" y="178"/>
                  </a:lnTo>
                  <a:lnTo>
                    <a:pt x="586" y="177"/>
                  </a:lnTo>
                  <a:lnTo>
                    <a:pt x="587" y="180"/>
                  </a:lnTo>
                  <a:lnTo>
                    <a:pt x="589" y="180"/>
                  </a:lnTo>
                  <a:lnTo>
                    <a:pt x="590" y="174"/>
                  </a:lnTo>
                  <a:lnTo>
                    <a:pt x="591" y="179"/>
                  </a:lnTo>
                  <a:lnTo>
                    <a:pt x="591" y="174"/>
                  </a:lnTo>
                  <a:lnTo>
                    <a:pt x="592" y="176"/>
                  </a:lnTo>
                  <a:lnTo>
                    <a:pt x="594" y="177"/>
                  </a:lnTo>
                  <a:lnTo>
                    <a:pt x="595" y="186"/>
                  </a:lnTo>
                  <a:lnTo>
                    <a:pt x="596" y="187"/>
                  </a:lnTo>
                  <a:lnTo>
                    <a:pt x="597" y="190"/>
                  </a:lnTo>
                  <a:lnTo>
                    <a:pt x="597" y="185"/>
                  </a:lnTo>
                  <a:lnTo>
                    <a:pt x="599" y="189"/>
                  </a:lnTo>
                  <a:lnTo>
                    <a:pt x="600" y="192"/>
                  </a:lnTo>
                  <a:lnTo>
                    <a:pt x="601" y="196"/>
                  </a:lnTo>
                  <a:lnTo>
                    <a:pt x="602" y="197"/>
                  </a:lnTo>
                  <a:lnTo>
                    <a:pt x="602" y="196"/>
                  </a:lnTo>
                  <a:lnTo>
                    <a:pt x="605" y="198"/>
                  </a:lnTo>
                  <a:lnTo>
                    <a:pt x="605" y="197"/>
                  </a:lnTo>
                  <a:lnTo>
                    <a:pt x="606" y="196"/>
                  </a:lnTo>
                  <a:lnTo>
                    <a:pt x="607" y="197"/>
                  </a:lnTo>
                  <a:lnTo>
                    <a:pt x="608" y="202"/>
                  </a:lnTo>
                  <a:lnTo>
                    <a:pt x="610" y="199"/>
                  </a:lnTo>
                  <a:lnTo>
                    <a:pt x="610" y="198"/>
                  </a:lnTo>
                  <a:lnTo>
                    <a:pt x="611" y="202"/>
                  </a:lnTo>
                  <a:lnTo>
                    <a:pt x="612" y="204"/>
                  </a:lnTo>
                  <a:lnTo>
                    <a:pt x="613" y="202"/>
                  </a:lnTo>
                  <a:lnTo>
                    <a:pt x="615" y="200"/>
                  </a:lnTo>
                  <a:lnTo>
                    <a:pt x="616" y="196"/>
                  </a:lnTo>
                  <a:lnTo>
                    <a:pt x="616" y="201"/>
                  </a:lnTo>
                  <a:lnTo>
                    <a:pt x="617" y="204"/>
                  </a:lnTo>
                  <a:lnTo>
                    <a:pt x="618" y="204"/>
                  </a:lnTo>
                  <a:lnTo>
                    <a:pt x="620" y="202"/>
                  </a:lnTo>
                  <a:lnTo>
                    <a:pt x="621" y="211"/>
                  </a:lnTo>
                  <a:lnTo>
                    <a:pt x="622" y="212"/>
                  </a:lnTo>
                  <a:lnTo>
                    <a:pt x="622" y="208"/>
                  </a:lnTo>
                  <a:lnTo>
                    <a:pt x="623" y="207"/>
                  </a:lnTo>
                  <a:lnTo>
                    <a:pt x="625" y="216"/>
                  </a:lnTo>
                  <a:lnTo>
                    <a:pt x="626" y="215"/>
                  </a:lnTo>
                  <a:lnTo>
                    <a:pt x="627" y="218"/>
                  </a:lnTo>
                  <a:lnTo>
                    <a:pt x="627" y="220"/>
                  </a:lnTo>
                  <a:lnTo>
                    <a:pt x="628" y="216"/>
                  </a:lnTo>
                  <a:lnTo>
                    <a:pt x="630" y="219"/>
                  </a:lnTo>
                  <a:lnTo>
                    <a:pt x="631" y="220"/>
                  </a:lnTo>
                  <a:lnTo>
                    <a:pt x="632" y="221"/>
                  </a:lnTo>
                  <a:lnTo>
                    <a:pt x="633" y="222"/>
                  </a:lnTo>
                  <a:lnTo>
                    <a:pt x="633" y="221"/>
                  </a:lnTo>
                  <a:lnTo>
                    <a:pt x="635" y="215"/>
                  </a:lnTo>
                  <a:lnTo>
                    <a:pt x="636" y="207"/>
                  </a:lnTo>
                  <a:lnTo>
                    <a:pt x="637" y="205"/>
                  </a:lnTo>
                  <a:lnTo>
                    <a:pt x="638" y="196"/>
                  </a:lnTo>
                  <a:lnTo>
                    <a:pt x="638" y="199"/>
                  </a:lnTo>
                  <a:lnTo>
                    <a:pt x="641" y="192"/>
                  </a:lnTo>
                  <a:lnTo>
                    <a:pt x="641" y="192"/>
                  </a:lnTo>
                  <a:lnTo>
                    <a:pt x="642" y="187"/>
                  </a:lnTo>
                  <a:lnTo>
                    <a:pt x="643" y="190"/>
                  </a:lnTo>
                  <a:lnTo>
                    <a:pt x="644" y="190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47" y="197"/>
                  </a:lnTo>
                  <a:lnTo>
                    <a:pt x="648" y="194"/>
                  </a:lnTo>
                  <a:lnTo>
                    <a:pt x="649" y="185"/>
                  </a:lnTo>
                  <a:lnTo>
                    <a:pt x="651" y="188"/>
                  </a:lnTo>
                  <a:lnTo>
                    <a:pt x="652" y="183"/>
                  </a:lnTo>
                  <a:lnTo>
                    <a:pt x="652" y="184"/>
                  </a:lnTo>
                  <a:lnTo>
                    <a:pt x="653" y="180"/>
                  </a:lnTo>
                  <a:lnTo>
                    <a:pt x="654" y="178"/>
                  </a:lnTo>
                  <a:lnTo>
                    <a:pt x="656" y="179"/>
                  </a:lnTo>
                  <a:lnTo>
                    <a:pt x="657" y="172"/>
                  </a:lnTo>
                  <a:lnTo>
                    <a:pt x="658" y="174"/>
                  </a:lnTo>
                  <a:lnTo>
                    <a:pt x="658" y="174"/>
                  </a:lnTo>
                  <a:lnTo>
                    <a:pt x="659" y="177"/>
                  </a:lnTo>
                  <a:lnTo>
                    <a:pt x="661" y="177"/>
                  </a:lnTo>
                  <a:lnTo>
                    <a:pt x="662" y="173"/>
                  </a:lnTo>
                  <a:lnTo>
                    <a:pt x="663" y="167"/>
                  </a:lnTo>
                  <a:lnTo>
                    <a:pt x="663" y="171"/>
                  </a:lnTo>
                  <a:lnTo>
                    <a:pt x="664" y="170"/>
                  </a:lnTo>
                  <a:lnTo>
                    <a:pt x="666" y="169"/>
                  </a:lnTo>
                  <a:lnTo>
                    <a:pt x="667" y="166"/>
                  </a:lnTo>
                  <a:lnTo>
                    <a:pt x="668" y="169"/>
                  </a:lnTo>
                  <a:lnTo>
                    <a:pt x="669" y="167"/>
                  </a:lnTo>
                  <a:lnTo>
                    <a:pt x="669" y="170"/>
                  </a:lnTo>
                  <a:lnTo>
                    <a:pt x="672" y="171"/>
                  </a:lnTo>
                  <a:lnTo>
                    <a:pt x="672" y="174"/>
                  </a:lnTo>
                  <a:lnTo>
                    <a:pt x="673" y="176"/>
                  </a:lnTo>
                </a:path>
              </a:pathLst>
            </a:custGeom>
            <a:noFill/>
            <a:ln w="270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2640" y="2243160"/>
              <a:ext cx="4680" cy="308592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2920" y="3529080"/>
              <a:ext cx="6915240" cy="1076400"/>
            </a:xfrm>
            <a:custGeom>
              <a:avLst/>
              <a:gdLst/>
              <a:ahLst/>
              <a:rect l="l" t="t" r="r" b="b"/>
              <a:pathLst>
                <a:path w="673" h="113">
                  <a:moveTo>
                    <a:pt x="0" y="21"/>
                  </a:moveTo>
                  <a:lnTo>
                    <a:pt x="2" y="39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5" y="33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3" y="29"/>
                  </a:lnTo>
                  <a:lnTo>
                    <a:pt x="13" y="38"/>
                  </a:lnTo>
                  <a:lnTo>
                    <a:pt x="14" y="32"/>
                  </a:lnTo>
                  <a:lnTo>
                    <a:pt x="15" y="26"/>
                  </a:lnTo>
                  <a:lnTo>
                    <a:pt x="15" y="16"/>
                  </a:lnTo>
                  <a:lnTo>
                    <a:pt x="18" y="37"/>
                  </a:lnTo>
                  <a:lnTo>
                    <a:pt x="18" y="20"/>
                  </a:lnTo>
                  <a:lnTo>
                    <a:pt x="19" y="21"/>
                  </a:lnTo>
                  <a:lnTo>
                    <a:pt x="20" y="25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4" y="19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6" y="28"/>
                  </a:lnTo>
                  <a:lnTo>
                    <a:pt x="28" y="20"/>
                  </a:lnTo>
                  <a:lnTo>
                    <a:pt x="29" y="23"/>
                  </a:lnTo>
                  <a:lnTo>
                    <a:pt x="29" y="33"/>
                  </a:lnTo>
                  <a:lnTo>
                    <a:pt x="30" y="20"/>
                  </a:lnTo>
                  <a:lnTo>
                    <a:pt x="31" y="29"/>
                  </a:lnTo>
                  <a:lnTo>
                    <a:pt x="33" y="29"/>
                  </a:lnTo>
                  <a:lnTo>
                    <a:pt x="34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6" y="34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4" y="45"/>
                  </a:lnTo>
                  <a:lnTo>
                    <a:pt x="45" y="53"/>
                  </a:lnTo>
                  <a:lnTo>
                    <a:pt x="46" y="52"/>
                  </a:lnTo>
                  <a:lnTo>
                    <a:pt x="46" y="48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50" y="59"/>
                  </a:lnTo>
                  <a:lnTo>
                    <a:pt x="51" y="54"/>
                  </a:lnTo>
                  <a:lnTo>
                    <a:pt x="51" y="53"/>
                  </a:lnTo>
                  <a:lnTo>
                    <a:pt x="54" y="65"/>
                  </a:lnTo>
                  <a:lnTo>
                    <a:pt x="54" y="62"/>
                  </a:lnTo>
                  <a:lnTo>
                    <a:pt x="55" y="53"/>
                  </a:lnTo>
                  <a:lnTo>
                    <a:pt x="56" y="62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1" y="53"/>
                  </a:lnTo>
                  <a:lnTo>
                    <a:pt x="62" y="49"/>
                  </a:lnTo>
                  <a:lnTo>
                    <a:pt x="64" y="55"/>
                  </a:lnTo>
                  <a:lnTo>
                    <a:pt x="65" y="59"/>
                  </a:lnTo>
                  <a:lnTo>
                    <a:pt x="65" y="61"/>
                  </a:lnTo>
                  <a:lnTo>
                    <a:pt x="66" y="51"/>
                  </a:lnTo>
                  <a:lnTo>
                    <a:pt x="67" y="51"/>
                  </a:lnTo>
                  <a:lnTo>
                    <a:pt x="69" y="66"/>
                  </a:lnTo>
                  <a:lnTo>
                    <a:pt x="70" y="63"/>
                  </a:lnTo>
                  <a:lnTo>
                    <a:pt x="71" y="47"/>
                  </a:lnTo>
                  <a:lnTo>
                    <a:pt x="71" y="44"/>
                  </a:lnTo>
                  <a:lnTo>
                    <a:pt x="72" y="49"/>
                  </a:lnTo>
                  <a:lnTo>
                    <a:pt x="74" y="54"/>
                  </a:lnTo>
                  <a:lnTo>
                    <a:pt x="75" y="58"/>
                  </a:lnTo>
                  <a:lnTo>
                    <a:pt x="76" y="65"/>
                  </a:lnTo>
                  <a:lnTo>
                    <a:pt x="76" y="63"/>
                  </a:lnTo>
                  <a:lnTo>
                    <a:pt x="77" y="61"/>
                  </a:lnTo>
                  <a:lnTo>
                    <a:pt x="79" y="61"/>
                  </a:lnTo>
                  <a:lnTo>
                    <a:pt x="80" y="66"/>
                  </a:lnTo>
                  <a:lnTo>
                    <a:pt x="81" y="81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5" y="81"/>
                  </a:lnTo>
                  <a:lnTo>
                    <a:pt x="85" y="74"/>
                  </a:lnTo>
                  <a:lnTo>
                    <a:pt x="86" y="65"/>
                  </a:lnTo>
                  <a:lnTo>
                    <a:pt x="87" y="70"/>
                  </a:lnTo>
                  <a:lnTo>
                    <a:pt x="88" y="65"/>
                  </a:lnTo>
                  <a:lnTo>
                    <a:pt x="90" y="58"/>
                  </a:lnTo>
                  <a:lnTo>
                    <a:pt x="90" y="60"/>
                  </a:lnTo>
                  <a:lnTo>
                    <a:pt x="91" y="65"/>
                  </a:lnTo>
                  <a:lnTo>
                    <a:pt x="92" y="57"/>
                  </a:lnTo>
                  <a:lnTo>
                    <a:pt x="93" y="72"/>
                  </a:lnTo>
                  <a:lnTo>
                    <a:pt x="95" y="78"/>
                  </a:lnTo>
                  <a:lnTo>
                    <a:pt x="96" y="63"/>
                  </a:lnTo>
                  <a:lnTo>
                    <a:pt x="96" y="56"/>
                  </a:lnTo>
                  <a:lnTo>
                    <a:pt x="97" y="57"/>
                  </a:lnTo>
                  <a:lnTo>
                    <a:pt x="98" y="68"/>
                  </a:lnTo>
                  <a:lnTo>
                    <a:pt x="100" y="45"/>
                  </a:lnTo>
                  <a:lnTo>
                    <a:pt x="101" y="42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3" y="49"/>
                  </a:lnTo>
                  <a:lnTo>
                    <a:pt x="105" y="55"/>
                  </a:lnTo>
                  <a:lnTo>
                    <a:pt x="106" y="52"/>
                  </a:lnTo>
                  <a:lnTo>
                    <a:pt x="107" y="56"/>
                  </a:lnTo>
                  <a:lnTo>
                    <a:pt x="107" y="47"/>
                  </a:lnTo>
                  <a:lnTo>
                    <a:pt x="108" y="53"/>
                  </a:lnTo>
                  <a:lnTo>
                    <a:pt x="110" y="54"/>
                  </a:lnTo>
                  <a:lnTo>
                    <a:pt x="111" y="60"/>
                  </a:lnTo>
                  <a:lnTo>
                    <a:pt x="112" y="62"/>
                  </a:lnTo>
                  <a:lnTo>
                    <a:pt x="113" y="67"/>
                  </a:lnTo>
                  <a:lnTo>
                    <a:pt x="113" y="59"/>
                  </a:lnTo>
                  <a:lnTo>
                    <a:pt x="115" y="64"/>
                  </a:lnTo>
                  <a:lnTo>
                    <a:pt x="116" y="51"/>
                  </a:lnTo>
                  <a:lnTo>
                    <a:pt x="117" y="53"/>
                  </a:lnTo>
                  <a:lnTo>
                    <a:pt x="118" y="56"/>
                  </a:lnTo>
                  <a:lnTo>
                    <a:pt x="118" y="50"/>
                  </a:lnTo>
                  <a:lnTo>
                    <a:pt x="121" y="52"/>
                  </a:lnTo>
                  <a:lnTo>
                    <a:pt x="121" y="55"/>
                  </a:lnTo>
                  <a:lnTo>
                    <a:pt x="122" y="51"/>
                  </a:lnTo>
                  <a:lnTo>
                    <a:pt x="123" y="50"/>
                  </a:lnTo>
                  <a:lnTo>
                    <a:pt x="124" y="44"/>
                  </a:lnTo>
                  <a:lnTo>
                    <a:pt x="126" y="52"/>
                  </a:lnTo>
                  <a:lnTo>
                    <a:pt x="127" y="50"/>
                  </a:lnTo>
                  <a:lnTo>
                    <a:pt x="127" y="55"/>
                  </a:lnTo>
                  <a:lnTo>
                    <a:pt x="128" y="52"/>
                  </a:lnTo>
                  <a:lnTo>
                    <a:pt x="129" y="48"/>
                  </a:lnTo>
                  <a:lnTo>
                    <a:pt x="131" y="54"/>
                  </a:lnTo>
                  <a:lnTo>
                    <a:pt x="132" y="60"/>
                  </a:lnTo>
                  <a:lnTo>
                    <a:pt x="132" y="53"/>
                  </a:lnTo>
                  <a:lnTo>
                    <a:pt x="133" y="40"/>
                  </a:lnTo>
                  <a:lnTo>
                    <a:pt x="134" y="42"/>
                  </a:lnTo>
                  <a:lnTo>
                    <a:pt x="136" y="42"/>
                  </a:lnTo>
                  <a:lnTo>
                    <a:pt x="137" y="40"/>
                  </a:lnTo>
                  <a:lnTo>
                    <a:pt x="138" y="53"/>
                  </a:lnTo>
                  <a:lnTo>
                    <a:pt x="138" y="51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2" y="50"/>
                  </a:lnTo>
                  <a:lnTo>
                    <a:pt x="143" y="51"/>
                  </a:lnTo>
                  <a:lnTo>
                    <a:pt x="143" y="49"/>
                  </a:lnTo>
                  <a:lnTo>
                    <a:pt x="144" y="47"/>
                  </a:lnTo>
                  <a:lnTo>
                    <a:pt x="146" y="24"/>
                  </a:lnTo>
                  <a:lnTo>
                    <a:pt x="147" y="32"/>
                  </a:lnTo>
                  <a:lnTo>
                    <a:pt x="148" y="41"/>
                  </a:lnTo>
                  <a:lnTo>
                    <a:pt x="149" y="28"/>
                  </a:lnTo>
                  <a:lnTo>
                    <a:pt x="149" y="26"/>
                  </a:lnTo>
                  <a:lnTo>
                    <a:pt x="152" y="27"/>
                  </a:lnTo>
                  <a:lnTo>
                    <a:pt x="152" y="33"/>
                  </a:lnTo>
                  <a:lnTo>
                    <a:pt x="153" y="49"/>
                  </a:lnTo>
                  <a:lnTo>
                    <a:pt x="154" y="45"/>
                  </a:lnTo>
                  <a:lnTo>
                    <a:pt x="154" y="42"/>
                  </a:lnTo>
                  <a:lnTo>
                    <a:pt x="157" y="36"/>
                  </a:lnTo>
                  <a:lnTo>
                    <a:pt x="157" y="41"/>
                  </a:lnTo>
                  <a:lnTo>
                    <a:pt x="158" y="43"/>
                  </a:lnTo>
                  <a:lnTo>
                    <a:pt x="159" y="41"/>
                  </a:lnTo>
                  <a:lnTo>
                    <a:pt x="160" y="39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52"/>
                  </a:lnTo>
                  <a:lnTo>
                    <a:pt x="164" y="41"/>
                  </a:lnTo>
                  <a:lnTo>
                    <a:pt x="165" y="53"/>
                  </a:lnTo>
                  <a:lnTo>
                    <a:pt x="167" y="45"/>
                  </a:lnTo>
                  <a:lnTo>
                    <a:pt x="168" y="50"/>
                  </a:lnTo>
                  <a:lnTo>
                    <a:pt x="168" y="46"/>
                  </a:lnTo>
                  <a:lnTo>
                    <a:pt x="169" y="44"/>
                  </a:lnTo>
                  <a:lnTo>
                    <a:pt x="170" y="41"/>
                  </a:lnTo>
                  <a:lnTo>
                    <a:pt x="172" y="45"/>
                  </a:lnTo>
                  <a:lnTo>
                    <a:pt x="173" y="48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0"/>
                  </a:lnTo>
                  <a:lnTo>
                    <a:pt x="177" y="45"/>
                  </a:lnTo>
                  <a:lnTo>
                    <a:pt x="178" y="35"/>
                  </a:lnTo>
                  <a:lnTo>
                    <a:pt x="179" y="37"/>
                  </a:lnTo>
                  <a:lnTo>
                    <a:pt x="179" y="38"/>
                  </a:lnTo>
                  <a:lnTo>
                    <a:pt x="180" y="39"/>
                  </a:lnTo>
                  <a:lnTo>
                    <a:pt x="182" y="44"/>
                  </a:lnTo>
                  <a:lnTo>
                    <a:pt x="183" y="50"/>
                  </a:lnTo>
                  <a:lnTo>
                    <a:pt x="184" y="41"/>
                  </a:lnTo>
                  <a:lnTo>
                    <a:pt x="185" y="35"/>
                  </a:lnTo>
                  <a:lnTo>
                    <a:pt x="185" y="43"/>
                  </a:lnTo>
                  <a:lnTo>
                    <a:pt x="188" y="36"/>
                  </a:lnTo>
                  <a:lnTo>
                    <a:pt x="188" y="38"/>
                  </a:lnTo>
                  <a:lnTo>
                    <a:pt x="189" y="41"/>
                  </a:lnTo>
                  <a:lnTo>
                    <a:pt x="190" y="37"/>
                  </a:lnTo>
                  <a:lnTo>
                    <a:pt x="190" y="32"/>
                  </a:lnTo>
                  <a:lnTo>
                    <a:pt x="193" y="36"/>
                  </a:lnTo>
                  <a:lnTo>
                    <a:pt x="193" y="33"/>
                  </a:lnTo>
                  <a:lnTo>
                    <a:pt x="194" y="36"/>
                  </a:lnTo>
                  <a:lnTo>
                    <a:pt x="195" y="37"/>
                  </a:lnTo>
                  <a:lnTo>
                    <a:pt x="196" y="35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2"/>
                  </a:lnTo>
                  <a:lnTo>
                    <a:pt x="200" y="44"/>
                  </a:lnTo>
                  <a:lnTo>
                    <a:pt x="201" y="41"/>
                  </a:lnTo>
                  <a:lnTo>
                    <a:pt x="203" y="41"/>
                  </a:lnTo>
                  <a:lnTo>
                    <a:pt x="204" y="35"/>
                  </a:lnTo>
                  <a:lnTo>
                    <a:pt x="204" y="41"/>
                  </a:lnTo>
                  <a:lnTo>
                    <a:pt x="205" y="47"/>
                  </a:lnTo>
                  <a:lnTo>
                    <a:pt x="206" y="35"/>
                  </a:lnTo>
                  <a:lnTo>
                    <a:pt x="208" y="28"/>
                  </a:lnTo>
                  <a:lnTo>
                    <a:pt x="209" y="28"/>
                  </a:lnTo>
                  <a:lnTo>
                    <a:pt x="210" y="32"/>
                  </a:lnTo>
                  <a:lnTo>
                    <a:pt x="210" y="28"/>
                  </a:lnTo>
                  <a:lnTo>
                    <a:pt x="211" y="26"/>
                  </a:lnTo>
                  <a:lnTo>
                    <a:pt x="213" y="32"/>
                  </a:lnTo>
                  <a:lnTo>
                    <a:pt x="214" y="30"/>
                  </a:lnTo>
                  <a:lnTo>
                    <a:pt x="215" y="32"/>
                  </a:lnTo>
                  <a:lnTo>
                    <a:pt x="216" y="27"/>
                  </a:lnTo>
                  <a:lnTo>
                    <a:pt x="216" y="28"/>
                  </a:lnTo>
                  <a:lnTo>
                    <a:pt x="218" y="35"/>
                  </a:lnTo>
                  <a:lnTo>
                    <a:pt x="219" y="35"/>
                  </a:lnTo>
                  <a:lnTo>
                    <a:pt x="220" y="44"/>
                  </a:lnTo>
                  <a:lnTo>
                    <a:pt x="221" y="47"/>
                  </a:lnTo>
                  <a:lnTo>
                    <a:pt x="221" y="34"/>
                  </a:lnTo>
                  <a:lnTo>
                    <a:pt x="224" y="32"/>
                  </a:lnTo>
                  <a:lnTo>
                    <a:pt x="224" y="42"/>
                  </a:lnTo>
                  <a:lnTo>
                    <a:pt x="225" y="35"/>
                  </a:lnTo>
                  <a:lnTo>
                    <a:pt x="226" y="37"/>
                  </a:lnTo>
                  <a:lnTo>
                    <a:pt x="227" y="42"/>
                  </a:lnTo>
                  <a:lnTo>
                    <a:pt x="229" y="52"/>
                  </a:lnTo>
                  <a:lnTo>
                    <a:pt x="229" y="49"/>
                  </a:lnTo>
                  <a:lnTo>
                    <a:pt x="230" y="46"/>
                  </a:lnTo>
                  <a:lnTo>
                    <a:pt x="231" y="52"/>
                  </a:lnTo>
                  <a:lnTo>
                    <a:pt x="232" y="52"/>
                  </a:lnTo>
                  <a:lnTo>
                    <a:pt x="234" y="47"/>
                  </a:lnTo>
                  <a:lnTo>
                    <a:pt x="235" y="52"/>
                  </a:lnTo>
                  <a:lnTo>
                    <a:pt x="235" y="55"/>
                  </a:lnTo>
                  <a:lnTo>
                    <a:pt x="236" y="45"/>
                  </a:lnTo>
                  <a:lnTo>
                    <a:pt x="237" y="50"/>
                  </a:lnTo>
                  <a:lnTo>
                    <a:pt x="239" y="62"/>
                  </a:lnTo>
                  <a:lnTo>
                    <a:pt x="240" y="59"/>
                  </a:lnTo>
                  <a:lnTo>
                    <a:pt x="241" y="63"/>
                  </a:lnTo>
                  <a:lnTo>
                    <a:pt x="241" y="63"/>
                  </a:lnTo>
                  <a:lnTo>
                    <a:pt x="242" y="62"/>
                  </a:lnTo>
                  <a:lnTo>
                    <a:pt x="244" y="59"/>
                  </a:lnTo>
                  <a:lnTo>
                    <a:pt x="245" y="57"/>
                  </a:lnTo>
                  <a:lnTo>
                    <a:pt x="246" y="61"/>
                  </a:lnTo>
                  <a:lnTo>
                    <a:pt x="246" y="55"/>
                  </a:lnTo>
                  <a:lnTo>
                    <a:pt x="247" y="59"/>
                  </a:lnTo>
                  <a:lnTo>
                    <a:pt x="249" y="51"/>
                  </a:lnTo>
                  <a:lnTo>
                    <a:pt x="250" y="55"/>
                  </a:lnTo>
                  <a:lnTo>
                    <a:pt x="251" y="58"/>
                  </a:lnTo>
                  <a:lnTo>
                    <a:pt x="252" y="50"/>
                  </a:lnTo>
                  <a:lnTo>
                    <a:pt x="252" y="60"/>
                  </a:lnTo>
                  <a:lnTo>
                    <a:pt x="254" y="55"/>
                  </a:lnTo>
                  <a:lnTo>
                    <a:pt x="255" y="60"/>
                  </a:lnTo>
                  <a:lnTo>
                    <a:pt x="256" y="58"/>
                  </a:lnTo>
                  <a:lnTo>
                    <a:pt x="257" y="55"/>
                  </a:lnTo>
                  <a:lnTo>
                    <a:pt x="257" y="57"/>
                  </a:lnTo>
                  <a:lnTo>
                    <a:pt x="260" y="54"/>
                  </a:lnTo>
                  <a:lnTo>
                    <a:pt x="260" y="62"/>
                  </a:lnTo>
                  <a:lnTo>
                    <a:pt x="261" y="56"/>
                  </a:lnTo>
                  <a:lnTo>
                    <a:pt x="262" y="57"/>
                  </a:lnTo>
                  <a:lnTo>
                    <a:pt x="263" y="57"/>
                  </a:lnTo>
                  <a:lnTo>
                    <a:pt x="265" y="65"/>
                  </a:lnTo>
                  <a:lnTo>
                    <a:pt x="266" y="68"/>
                  </a:lnTo>
                  <a:lnTo>
                    <a:pt x="266" y="66"/>
                  </a:lnTo>
                  <a:lnTo>
                    <a:pt x="267" y="60"/>
                  </a:lnTo>
                  <a:lnTo>
                    <a:pt x="268" y="60"/>
                  </a:lnTo>
                  <a:lnTo>
                    <a:pt x="270" y="59"/>
                  </a:lnTo>
                  <a:lnTo>
                    <a:pt x="271" y="63"/>
                  </a:lnTo>
                  <a:lnTo>
                    <a:pt x="271" y="71"/>
                  </a:lnTo>
                  <a:lnTo>
                    <a:pt x="272" y="64"/>
                  </a:lnTo>
                  <a:lnTo>
                    <a:pt x="273" y="58"/>
                  </a:lnTo>
                  <a:lnTo>
                    <a:pt x="275" y="62"/>
                  </a:lnTo>
                  <a:lnTo>
                    <a:pt x="276" y="66"/>
                  </a:lnTo>
                  <a:lnTo>
                    <a:pt x="277" y="70"/>
                  </a:lnTo>
                  <a:lnTo>
                    <a:pt x="277" y="65"/>
                  </a:lnTo>
                  <a:lnTo>
                    <a:pt x="278" y="66"/>
                  </a:lnTo>
                  <a:lnTo>
                    <a:pt x="280" y="70"/>
                  </a:lnTo>
                  <a:lnTo>
                    <a:pt x="281" y="70"/>
                  </a:lnTo>
                  <a:lnTo>
                    <a:pt x="282" y="72"/>
                  </a:lnTo>
                  <a:lnTo>
                    <a:pt x="282" y="69"/>
                  </a:lnTo>
                  <a:lnTo>
                    <a:pt x="283" y="67"/>
                  </a:lnTo>
                  <a:lnTo>
                    <a:pt x="285" y="67"/>
                  </a:lnTo>
                  <a:lnTo>
                    <a:pt x="286" y="73"/>
                  </a:lnTo>
                  <a:lnTo>
                    <a:pt x="287" y="82"/>
                  </a:lnTo>
                  <a:lnTo>
                    <a:pt x="288" y="77"/>
                  </a:lnTo>
                  <a:lnTo>
                    <a:pt x="288" y="79"/>
                  </a:lnTo>
                  <a:lnTo>
                    <a:pt x="291" y="77"/>
                  </a:lnTo>
                  <a:lnTo>
                    <a:pt x="291" y="82"/>
                  </a:lnTo>
                  <a:lnTo>
                    <a:pt x="292" y="86"/>
                  </a:lnTo>
                  <a:lnTo>
                    <a:pt x="293" y="84"/>
                  </a:lnTo>
                  <a:lnTo>
                    <a:pt x="293" y="87"/>
                  </a:lnTo>
                  <a:lnTo>
                    <a:pt x="296" y="82"/>
                  </a:lnTo>
                  <a:lnTo>
                    <a:pt x="296" y="81"/>
                  </a:lnTo>
                  <a:lnTo>
                    <a:pt x="297" y="87"/>
                  </a:lnTo>
                  <a:lnTo>
                    <a:pt x="298" y="83"/>
                  </a:lnTo>
                  <a:lnTo>
                    <a:pt x="299" y="101"/>
                  </a:lnTo>
                  <a:lnTo>
                    <a:pt x="301" y="100"/>
                  </a:lnTo>
                  <a:lnTo>
                    <a:pt x="302" y="99"/>
                  </a:lnTo>
                  <a:lnTo>
                    <a:pt x="302" y="100"/>
                  </a:lnTo>
                  <a:lnTo>
                    <a:pt x="303" y="99"/>
                  </a:lnTo>
                  <a:lnTo>
                    <a:pt x="304" y="104"/>
                  </a:lnTo>
                  <a:lnTo>
                    <a:pt x="306" y="105"/>
                  </a:lnTo>
                  <a:lnTo>
                    <a:pt x="307" y="98"/>
                  </a:lnTo>
                  <a:lnTo>
                    <a:pt x="307" y="105"/>
                  </a:lnTo>
                  <a:lnTo>
                    <a:pt x="308" y="101"/>
                  </a:lnTo>
                  <a:lnTo>
                    <a:pt x="309" y="103"/>
                  </a:lnTo>
                  <a:lnTo>
                    <a:pt x="311" y="99"/>
                  </a:lnTo>
                  <a:lnTo>
                    <a:pt x="312" y="111"/>
                  </a:lnTo>
                  <a:lnTo>
                    <a:pt x="313" y="103"/>
                  </a:lnTo>
                  <a:lnTo>
                    <a:pt x="313" y="105"/>
                  </a:lnTo>
                  <a:lnTo>
                    <a:pt x="314" y="104"/>
                  </a:lnTo>
                  <a:lnTo>
                    <a:pt x="316" y="100"/>
                  </a:lnTo>
                  <a:lnTo>
                    <a:pt x="317" y="106"/>
                  </a:lnTo>
                  <a:lnTo>
                    <a:pt x="318" y="113"/>
                  </a:lnTo>
                  <a:lnTo>
                    <a:pt x="318" y="112"/>
                  </a:lnTo>
                  <a:lnTo>
                    <a:pt x="319" y="111"/>
                  </a:lnTo>
                  <a:lnTo>
                    <a:pt x="321" y="111"/>
                  </a:lnTo>
                  <a:lnTo>
                    <a:pt x="322" y="105"/>
                  </a:lnTo>
                  <a:lnTo>
                    <a:pt x="323" y="109"/>
                  </a:lnTo>
                  <a:lnTo>
                    <a:pt x="324" y="99"/>
                  </a:lnTo>
                  <a:lnTo>
                    <a:pt x="324" y="96"/>
                  </a:lnTo>
                  <a:lnTo>
                    <a:pt x="327" y="102"/>
                  </a:lnTo>
                  <a:lnTo>
                    <a:pt x="327" y="102"/>
                  </a:lnTo>
                  <a:lnTo>
                    <a:pt x="328" y="113"/>
                  </a:lnTo>
                  <a:lnTo>
                    <a:pt x="329" y="90"/>
                  </a:lnTo>
                  <a:lnTo>
                    <a:pt x="330" y="89"/>
                  </a:lnTo>
                  <a:lnTo>
                    <a:pt x="332" y="100"/>
                  </a:lnTo>
                  <a:lnTo>
                    <a:pt x="332" y="99"/>
                  </a:lnTo>
                  <a:lnTo>
                    <a:pt x="333" y="95"/>
                  </a:lnTo>
                  <a:lnTo>
                    <a:pt x="334" y="87"/>
                  </a:lnTo>
                  <a:lnTo>
                    <a:pt x="335" y="74"/>
                  </a:lnTo>
                  <a:lnTo>
                    <a:pt x="337" y="80"/>
                  </a:lnTo>
                  <a:lnTo>
                    <a:pt x="338" y="89"/>
                  </a:lnTo>
                  <a:lnTo>
                    <a:pt x="338" y="89"/>
                  </a:lnTo>
                  <a:lnTo>
                    <a:pt x="339" y="82"/>
                  </a:lnTo>
                  <a:lnTo>
                    <a:pt x="340" y="94"/>
                  </a:lnTo>
                  <a:lnTo>
                    <a:pt x="342" y="89"/>
                  </a:lnTo>
                  <a:lnTo>
                    <a:pt x="343" y="83"/>
                  </a:lnTo>
                  <a:lnTo>
                    <a:pt x="343" y="76"/>
                  </a:lnTo>
                  <a:lnTo>
                    <a:pt x="344" y="77"/>
                  </a:lnTo>
                  <a:lnTo>
                    <a:pt x="345" y="65"/>
                  </a:lnTo>
                  <a:lnTo>
                    <a:pt x="347" y="64"/>
                  </a:lnTo>
                  <a:lnTo>
                    <a:pt x="348" y="74"/>
                  </a:lnTo>
                  <a:lnTo>
                    <a:pt x="349" y="71"/>
                  </a:lnTo>
                  <a:lnTo>
                    <a:pt x="349" y="68"/>
                  </a:lnTo>
                  <a:lnTo>
                    <a:pt x="350" y="83"/>
                  </a:lnTo>
                  <a:lnTo>
                    <a:pt x="352" y="84"/>
                  </a:lnTo>
                  <a:lnTo>
                    <a:pt x="353" y="83"/>
                  </a:lnTo>
                  <a:lnTo>
                    <a:pt x="354" y="82"/>
                  </a:lnTo>
                  <a:lnTo>
                    <a:pt x="355" y="81"/>
                  </a:lnTo>
                  <a:lnTo>
                    <a:pt x="355" y="68"/>
                  </a:lnTo>
                  <a:lnTo>
                    <a:pt x="357" y="75"/>
                  </a:lnTo>
                  <a:lnTo>
                    <a:pt x="358" y="71"/>
                  </a:lnTo>
                  <a:lnTo>
                    <a:pt x="359" y="68"/>
                  </a:lnTo>
                  <a:lnTo>
                    <a:pt x="360" y="58"/>
                  </a:lnTo>
                  <a:lnTo>
                    <a:pt x="360" y="52"/>
                  </a:lnTo>
                  <a:lnTo>
                    <a:pt x="363" y="64"/>
                  </a:lnTo>
                  <a:lnTo>
                    <a:pt x="363" y="61"/>
                  </a:lnTo>
                  <a:lnTo>
                    <a:pt x="364" y="59"/>
                  </a:lnTo>
                  <a:lnTo>
                    <a:pt x="365" y="63"/>
                  </a:lnTo>
                  <a:lnTo>
                    <a:pt x="366" y="64"/>
                  </a:lnTo>
                  <a:lnTo>
                    <a:pt x="368" y="61"/>
                  </a:lnTo>
                  <a:lnTo>
                    <a:pt x="368" y="63"/>
                  </a:lnTo>
                  <a:lnTo>
                    <a:pt x="369" y="61"/>
                  </a:lnTo>
                  <a:lnTo>
                    <a:pt x="370" y="60"/>
                  </a:lnTo>
                  <a:lnTo>
                    <a:pt x="371" y="63"/>
                  </a:lnTo>
                  <a:lnTo>
                    <a:pt x="373" y="61"/>
                  </a:lnTo>
                  <a:lnTo>
                    <a:pt x="374" y="54"/>
                  </a:lnTo>
                  <a:lnTo>
                    <a:pt x="374" y="54"/>
                  </a:lnTo>
                  <a:lnTo>
                    <a:pt x="375" y="59"/>
                  </a:lnTo>
                  <a:lnTo>
                    <a:pt x="376" y="57"/>
                  </a:lnTo>
                  <a:lnTo>
                    <a:pt x="378" y="56"/>
                  </a:lnTo>
                  <a:lnTo>
                    <a:pt x="379" y="54"/>
                  </a:lnTo>
                  <a:lnTo>
                    <a:pt x="380" y="49"/>
                  </a:lnTo>
                  <a:lnTo>
                    <a:pt x="380" y="47"/>
                  </a:lnTo>
                  <a:lnTo>
                    <a:pt x="381" y="59"/>
                  </a:lnTo>
                  <a:lnTo>
                    <a:pt x="383" y="72"/>
                  </a:lnTo>
                  <a:lnTo>
                    <a:pt x="384" y="61"/>
                  </a:lnTo>
                  <a:lnTo>
                    <a:pt x="385" y="76"/>
                  </a:lnTo>
                  <a:lnTo>
                    <a:pt x="385" y="74"/>
                  </a:lnTo>
                  <a:lnTo>
                    <a:pt x="386" y="70"/>
                  </a:lnTo>
                  <a:lnTo>
                    <a:pt x="388" y="75"/>
                  </a:lnTo>
                  <a:lnTo>
                    <a:pt x="389" y="73"/>
                  </a:lnTo>
                  <a:lnTo>
                    <a:pt x="390" y="71"/>
                  </a:lnTo>
                  <a:lnTo>
                    <a:pt x="391" y="71"/>
                  </a:lnTo>
                  <a:lnTo>
                    <a:pt x="391" y="63"/>
                  </a:lnTo>
                  <a:lnTo>
                    <a:pt x="394" y="66"/>
                  </a:lnTo>
                  <a:lnTo>
                    <a:pt x="394" y="66"/>
                  </a:lnTo>
                  <a:lnTo>
                    <a:pt x="395" y="63"/>
                  </a:lnTo>
                  <a:lnTo>
                    <a:pt x="396" y="60"/>
                  </a:lnTo>
                  <a:lnTo>
                    <a:pt x="396" y="53"/>
                  </a:lnTo>
                  <a:lnTo>
                    <a:pt x="399" y="45"/>
                  </a:lnTo>
                  <a:lnTo>
                    <a:pt x="399" y="43"/>
                  </a:lnTo>
                  <a:lnTo>
                    <a:pt x="400" y="48"/>
                  </a:lnTo>
                  <a:lnTo>
                    <a:pt x="401" y="47"/>
                  </a:lnTo>
                  <a:lnTo>
                    <a:pt x="402" y="45"/>
                  </a:lnTo>
                  <a:lnTo>
                    <a:pt x="404" y="44"/>
                  </a:lnTo>
                  <a:lnTo>
                    <a:pt x="405" y="74"/>
                  </a:lnTo>
                  <a:lnTo>
                    <a:pt x="405" y="65"/>
                  </a:lnTo>
                  <a:lnTo>
                    <a:pt x="406" y="58"/>
                  </a:lnTo>
                  <a:lnTo>
                    <a:pt x="407" y="58"/>
                  </a:lnTo>
                  <a:lnTo>
                    <a:pt x="409" y="59"/>
                  </a:lnTo>
                  <a:lnTo>
                    <a:pt x="410" y="54"/>
                  </a:lnTo>
                  <a:lnTo>
                    <a:pt x="410" y="58"/>
                  </a:lnTo>
                  <a:lnTo>
                    <a:pt x="411" y="55"/>
                  </a:lnTo>
                  <a:lnTo>
                    <a:pt x="412" y="56"/>
                  </a:lnTo>
                  <a:lnTo>
                    <a:pt x="414" y="58"/>
                  </a:lnTo>
                  <a:lnTo>
                    <a:pt x="415" y="59"/>
                  </a:lnTo>
                  <a:lnTo>
                    <a:pt x="416" y="54"/>
                  </a:lnTo>
                  <a:lnTo>
                    <a:pt x="416" y="53"/>
                  </a:lnTo>
                  <a:lnTo>
                    <a:pt x="417" y="50"/>
                  </a:lnTo>
                  <a:lnTo>
                    <a:pt x="419" y="44"/>
                  </a:lnTo>
                  <a:lnTo>
                    <a:pt x="420" y="43"/>
                  </a:lnTo>
                  <a:lnTo>
                    <a:pt x="421" y="43"/>
                  </a:lnTo>
                  <a:lnTo>
                    <a:pt x="421" y="51"/>
                  </a:lnTo>
                  <a:lnTo>
                    <a:pt x="422" y="56"/>
                  </a:lnTo>
                  <a:lnTo>
                    <a:pt x="424" y="61"/>
                  </a:lnTo>
                  <a:lnTo>
                    <a:pt x="425" y="63"/>
                  </a:lnTo>
                  <a:lnTo>
                    <a:pt x="426" y="65"/>
                  </a:lnTo>
                  <a:lnTo>
                    <a:pt x="427" y="60"/>
                  </a:lnTo>
                  <a:lnTo>
                    <a:pt x="427" y="63"/>
                  </a:lnTo>
                  <a:lnTo>
                    <a:pt x="430" y="70"/>
                  </a:lnTo>
                  <a:lnTo>
                    <a:pt x="430" y="77"/>
                  </a:lnTo>
                  <a:lnTo>
                    <a:pt x="431" y="72"/>
                  </a:lnTo>
                  <a:lnTo>
                    <a:pt x="432" y="78"/>
                  </a:lnTo>
                  <a:lnTo>
                    <a:pt x="432" y="68"/>
                  </a:lnTo>
                  <a:lnTo>
                    <a:pt x="435" y="72"/>
                  </a:lnTo>
                  <a:lnTo>
                    <a:pt x="435" y="79"/>
                  </a:lnTo>
                  <a:lnTo>
                    <a:pt x="436" y="79"/>
                  </a:lnTo>
                  <a:lnTo>
                    <a:pt x="437" y="83"/>
                  </a:lnTo>
                  <a:lnTo>
                    <a:pt x="438" y="73"/>
                  </a:lnTo>
                  <a:lnTo>
                    <a:pt x="440" y="70"/>
                  </a:lnTo>
                  <a:lnTo>
                    <a:pt x="441" y="70"/>
                  </a:lnTo>
                  <a:lnTo>
                    <a:pt x="441" y="65"/>
                  </a:lnTo>
                  <a:lnTo>
                    <a:pt x="442" y="66"/>
                  </a:lnTo>
                  <a:lnTo>
                    <a:pt x="443" y="63"/>
                  </a:lnTo>
                  <a:lnTo>
                    <a:pt x="445" y="65"/>
                  </a:lnTo>
                  <a:lnTo>
                    <a:pt x="446" y="62"/>
                  </a:lnTo>
                  <a:lnTo>
                    <a:pt x="446" y="57"/>
                  </a:lnTo>
                  <a:lnTo>
                    <a:pt x="447" y="55"/>
                  </a:lnTo>
                  <a:lnTo>
                    <a:pt x="448" y="57"/>
                  </a:lnTo>
                  <a:lnTo>
                    <a:pt x="450" y="56"/>
                  </a:lnTo>
                  <a:lnTo>
                    <a:pt x="451" y="59"/>
                  </a:lnTo>
                  <a:lnTo>
                    <a:pt x="452" y="62"/>
                  </a:lnTo>
                  <a:lnTo>
                    <a:pt x="452" y="58"/>
                  </a:lnTo>
                  <a:lnTo>
                    <a:pt x="453" y="50"/>
                  </a:lnTo>
                  <a:lnTo>
                    <a:pt x="455" y="49"/>
                  </a:lnTo>
                  <a:lnTo>
                    <a:pt x="456" y="48"/>
                  </a:lnTo>
                  <a:lnTo>
                    <a:pt x="457" y="47"/>
                  </a:lnTo>
                  <a:lnTo>
                    <a:pt x="457" y="50"/>
                  </a:lnTo>
                  <a:lnTo>
                    <a:pt x="458" y="51"/>
                  </a:lnTo>
                  <a:lnTo>
                    <a:pt x="460" y="55"/>
                  </a:lnTo>
                  <a:lnTo>
                    <a:pt x="461" y="46"/>
                  </a:lnTo>
                  <a:lnTo>
                    <a:pt x="462" y="50"/>
                  </a:lnTo>
                  <a:lnTo>
                    <a:pt x="463" y="47"/>
                  </a:lnTo>
                  <a:lnTo>
                    <a:pt x="463" y="51"/>
                  </a:lnTo>
                  <a:lnTo>
                    <a:pt x="466" y="53"/>
                  </a:lnTo>
                  <a:lnTo>
                    <a:pt x="466" y="56"/>
                  </a:lnTo>
                  <a:lnTo>
                    <a:pt x="467" y="61"/>
                  </a:lnTo>
                  <a:lnTo>
                    <a:pt x="468" y="61"/>
                  </a:lnTo>
                  <a:lnTo>
                    <a:pt x="469" y="66"/>
                  </a:lnTo>
                  <a:lnTo>
                    <a:pt x="471" y="60"/>
                  </a:lnTo>
                  <a:lnTo>
                    <a:pt x="471" y="55"/>
                  </a:lnTo>
                  <a:lnTo>
                    <a:pt x="472" y="56"/>
                  </a:lnTo>
                  <a:lnTo>
                    <a:pt x="473" y="52"/>
                  </a:lnTo>
                  <a:lnTo>
                    <a:pt x="474" y="58"/>
                  </a:lnTo>
                  <a:lnTo>
                    <a:pt x="476" y="51"/>
                  </a:lnTo>
                  <a:lnTo>
                    <a:pt x="477" y="51"/>
                  </a:lnTo>
                  <a:lnTo>
                    <a:pt x="477" y="54"/>
                  </a:lnTo>
                  <a:lnTo>
                    <a:pt x="478" y="50"/>
                  </a:lnTo>
                  <a:lnTo>
                    <a:pt x="479" y="47"/>
                  </a:lnTo>
                  <a:lnTo>
                    <a:pt x="481" y="47"/>
                  </a:lnTo>
                  <a:lnTo>
                    <a:pt x="482" y="48"/>
                  </a:lnTo>
                  <a:lnTo>
                    <a:pt x="483" y="47"/>
                  </a:lnTo>
                  <a:lnTo>
                    <a:pt x="483" y="48"/>
                  </a:lnTo>
                  <a:lnTo>
                    <a:pt x="484" y="42"/>
                  </a:lnTo>
                  <a:lnTo>
                    <a:pt x="486" y="44"/>
                  </a:lnTo>
                  <a:lnTo>
                    <a:pt x="487" y="47"/>
                  </a:lnTo>
                  <a:lnTo>
                    <a:pt x="488" y="48"/>
                  </a:lnTo>
                  <a:lnTo>
                    <a:pt x="488" y="39"/>
                  </a:lnTo>
                  <a:lnTo>
                    <a:pt x="489" y="37"/>
                  </a:lnTo>
                  <a:lnTo>
                    <a:pt x="491" y="41"/>
                  </a:lnTo>
                  <a:lnTo>
                    <a:pt x="492" y="38"/>
                  </a:lnTo>
                  <a:lnTo>
                    <a:pt x="493" y="42"/>
                  </a:lnTo>
                  <a:lnTo>
                    <a:pt x="494" y="43"/>
                  </a:lnTo>
                  <a:lnTo>
                    <a:pt x="494" y="45"/>
                  </a:lnTo>
                  <a:lnTo>
                    <a:pt x="496" y="46"/>
                  </a:lnTo>
                  <a:lnTo>
                    <a:pt x="497" y="42"/>
                  </a:lnTo>
                  <a:lnTo>
                    <a:pt x="498" y="41"/>
                  </a:lnTo>
                  <a:lnTo>
                    <a:pt x="499" y="45"/>
                  </a:lnTo>
                  <a:lnTo>
                    <a:pt x="499" y="40"/>
                  </a:lnTo>
                  <a:lnTo>
                    <a:pt x="502" y="31"/>
                  </a:lnTo>
                  <a:lnTo>
                    <a:pt x="502" y="48"/>
                  </a:lnTo>
                  <a:lnTo>
                    <a:pt x="503" y="43"/>
                  </a:lnTo>
                  <a:lnTo>
                    <a:pt x="504" y="35"/>
                  </a:lnTo>
                  <a:lnTo>
                    <a:pt x="505" y="34"/>
                  </a:lnTo>
                  <a:lnTo>
                    <a:pt x="507" y="32"/>
                  </a:lnTo>
                  <a:lnTo>
                    <a:pt x="508" y="30"/>
                  </a:lnTo>
                  <a:lnTo>
                    <a:pt x="508" y="32"/>
                  </a:lnTo>
                  <a:lnTo>
                    <a:pt x="509" y="29"/>
                  </a:lnTo>
                  <a:lnTo>
                    <a:pt x="510" y="26"/>
                  </a:lnTo>
                  <a:lnTo>
                    <a:pt x="512" y="28"/>
                  </a:lnTo>
                  <a:lnTo>
                    <a:pt x="513" y="27"/>
                  </a:lnTo>
                  <a:lnTo>
                    <a:pt x="513" y="30"/>
                  </a:lnTo>
                  <a:lnTo>
                    <a:pt x="514" y="30"/>
                  </a:lnTo>
                  <a:lnTo>
                    <a:pt x="515" y="29"/>
                  </a:lnTo>
                  <a:lnTo>
                    <a:pt x="517" y="32"/>
                  </a:lnTo>
                  <a:lnTo>
                    <a:pt x="518" y="33"/>
                  </a:lnTo>
                  <a:lnTo>
                    <a:pt x="519" y="34"/>
                  </a:lnTo>
                  <a:lnTo>
                    <a:pt x="519" y="32"/>
                  </a:lnTo>
                  <a:lnTo>
                    <a:pt x="520" y="33"/>
                  </a:lnTo>
                  <a:lnTo>
                    <a:pt x="522" y="30"/>
                  </a:lnTo>
                  <a:lnTo>
                    <a:pt x="523" y="33"/>
                  </a:lnTo>
                  <a:lnTo>
                    <a:pt x="524" y="30"/>
                  </a:lnTo>
                  <a:lnTo>
                    <a:pt x="524" y="32"/>
                  </a:lnTo>
                  <a:lnTo>
                    <a:pt x="525" y="31"/>
                  </a:lnTo>
                  <a:lnTo>
                    <a:pt x="527" y="34"/>
                  </a:lnTo>
                  <a:lnTo>
                    <a:pt x="528" y="31"/>
                  </a:lnTo>
                  <a:lnTo>
                    <a:pt x="529" y="36"/>
                  </a:lnTo>
                  <a:lnTo>
                    <a:pt x="530" y="39"/>
                  </a:lnTo>
                  <a:lnTo>
                    <a:pt x="530" y="40"/>
                  </a:lnTo>
                  <a:lnTo>
                    <a:pt x="533" y="40"/>
                  </a:lnTo>
                  <a:lnTo>
                    <a:pt x="533" y="40"/>
                  </a:lnTo>
                  <a:lnTo>
                    <a:pt x="534" y="38"/>
                  </a:lnTo>
                  <a:lnTo>
                    <a:pt x="535" y="40"/>
                  </a:lnTo>
                  <a:lnTo>
                    <a:pt x="535" y="44"/>
                  </a:lnTo>
                  <a:lnTo>
                    <a:pt x="538" y="44"/>
                  </a:lnTo>
                  <a:lnTo>
                    <a:pt x="538" y="41"/>
                  </a:lnTo>
                  <a:lnTo>
                    <a:pt x="539" y="37"/>
                  </a:lnTo>
                  <a:lnTo>
                    <a:pt x="540" y="37"/>
                  </a:lnTo>
                  <a:lnTo>
                    <a:pt x="541" y="38"/>
                  </a:lnTo>
                  <a:lnTo>
                    <a:pt x="543" y="40"/>
                  </a:lnTo>
                  <a:lnTo>
                    <a:pt x="544" y="34"/>
                  </a:lnTo>
                  <a:lnTo>
                    <a:pt x="544" y="37"/>
                  </a:lnTo>
                  <a:lnTo>
                    <a:pt x="545" y="31"/>
                  </a:lnTo>
                  <a:lnTo>
                    <a:pt x="546" y="31"/>
                  </a:lnTo>
                  <a:lnTo>
                    <a:pt x="548" y="31"/>
                  </a:lnTo>
                  <a:lnTo>
                    <a:pt x="549" y="26"/>
                  </a:lnTo>
                  <a:lnTo>
                    <a:pt x="549" y="26"/>
                  </a:lnTo>
                  <a:lnTo>
                    <a:pt x="550" y="20"/>
                  </a:lnTo>
                  <a:lnTo>
                    <a:pt x="551" y="22"/>
                  </a:lnTo>
                  <a:lnTo>
                    <a:pt x="553" y="33"/>
                  </a:lnTo>
                  <a:lnTo>
                    <a:pt x="554" y="33"/>
                  </a:lnTo>
                  <a:lnTo>
                    <a:pt x="555" y="35"/>
                  </a:lnTo>
                  <a:lnTo>
                    <a:pt x="555" y="39"/>
                  </a:lnTo>
                  <a:lnTo>
                    <a:pt x="556" y="35"/>
                  </a:lnTo>
                  <a:lnTo>
                    <a:pt x="558" y="35"/>
                  </a:lnTo>
                  <a:lnTo>
                    <a:pt x="559" y="36"/>
                  </a:lnTo>
                  <a:lnTo>
                    <a:pt x="560" y="35"/>
                  </a:lnTo>
                  <a:lnTo>
                    <a:pt x="560" y="38"/>
                  </a:lnTo>
                  <a:lnTo>
                    <a:pt x="561" y="45"/>
                  </a:lnTo>
                  <a:lnTo>
                    <a:pt x="563" y="39"/>
                  </a:lnTo>
                  <a:lnTo>
                    <a:pt x="564" y="41"/>
                  </a:lnTo>
                  <a:lnTo>
                    <a:pt x="565" y="47"/>
                  </a:lnTo>
                  <a:lnTo>
                    <a:pt x="566" y="55"/>
                  </a:lnTo>
                  <a:lnTo>
                    <a:pt x="566" y="46"/>
                  </a:lnTo>
                  <a:lnTo>
                    <a:pt x="569" y="50"/>
                  </a:lnTo>
                  <a:lnTo>
                    <a:pt x="569" y="40"/>
                  </a:lnTo>
                  <a:lnTo>
                    <a:pt x="570" y="41"/>
                  </a:lnTo>
                  <a:lnTo>
                    <a:pt x="571" y="39"/>
                  </a:lnTo>
                  <a:lnTo>
                    <a:pt x="571" y="38"/>
                  </a:lnTo>
                  <a:lnTo>
                    <a:pt x="574" y="38"/>
                  </a:lnTo>
                  <a:lnTo>
                    <a:pt x="574" y="39"/>
                  </a:lnTo>
                  <a:lnTo>
                    <a:pt x="575" y="38"/>
                  </a:lnTo>
                  <a:lnTo>
                    <a:pt x="576" y="40"/>
                  </a:lnTo>
                  <a:lnTo>
                    <a:pt x="577" y="42"/>
                  </a:lnTo>
                  <a:lnTo>
                    <a:pt x="579" y="44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1" y="45"/>
                  </a:lnTo>
                  <a:lnTo>
                    <a:pt x="582" y="28"/>
                  </a:lnTo>
                  <a:lnTo>
                    <a:pt x="584" y="25"/>
                  </a:lnTo>
                  <a:lnTo>
                    <a:pt x="585" y="27"/>
                  </a:lnTo>
                  <a:lnTo>
                    <a:pt x="585" y="15"/>
                  </a:lnTo>
                  <a:lnTo>
                    <a:pt x="586" y="15"/>
                  </a:lnTo>
                  <a:lnTo>
                    <a:pt x="587" y="11"/>
                  </a:lnTo>
                  <a:lnTo>
                    <a:pt x="589" y="19"/>
                  </a:lnTo>
                  <a:lnTo>
                    <a:pt x="590" y="17"/>
                  </a:lnTo>
                  <a:lnTo>
                    <a:pt x="591" y="16"/>
                  </a:lnTo>
                  <a:lnTo>
                    <a:pt x="591" y="17"/>
                  </a:lnTo>
                  <a:lnTo>
                    <a:pt x="592" y="13"/>
                  </a:lnTo>
                  <a:lnTo>
                    <a:pt x="594" y="14"/>
                  </a:lnTo>
                  <a:lnTo>
                    <a:pt x="595" y="15"/>
                  </a:lnTo>
                  <a:lnTo>
                    <a:pt x="596" y="18"/>
                  </a:lnTo>
                  <a:lnTo>
                    <a:pt x="597" y="13"/>
                  </a:lnTo>
                  <a:lnTo>
                    <a:pt x="597" y="16"/>
                  </a:lnTo>
                  <a:lnTo>
                    <a:pt x="599" y="9"/>
                  </a:lnTo>
                  <a:lnTo>
                    <a:pt x="600" y="10"/>
                  </a:lnTo>
                  <a:lnTo>
                    <a:pt x="601" y="17"/>
                  </a:lnTo>
                  <a:lnTo>
                    <a:pt x="602" y="8"/>
                  </a:lnTo>
                  <a:lnTo>
                    <a:pt x="602" y="15"/>
                  </a:lnTo>
                  <a:lnTo>
                    <a:pt x="605" y="12"/>
                  </a:lnTo>
                  <a:lnTo>
                    <a:pt x="605" y="11"/>
                  </a:lnTo>
                  <a:lnTo>
                    <a:pt x="606" y="10"/>
                  </a:lnTo>
                  <a:lnTo>
                    <a:pt x="607" y="10"/>
                  </a:lnTo>
                  <a:lnTo>
                    <a:pt x="608" y="10"/>
                  </a:lnTo>
                  <a:lnTo>
                    <a:pt x="610" y="14"/>
                  </a:lnTo>
                  <a:lnTo>
                    <a:pt x="610" y="3"/>
                  </a:lnTo>
                  <a:lnTo>
                    <a:pt x="611" y="0"/>
                  </a:lnTo>
                  <a:lnTo>
                    <a:pt x="612" y="7"/>
                  </a:lnTo>
                  <a:lnTo>
                    <a:pt x="613" y="7"/>
                  </a:lnTo>
                  <a:lnTo>
                    <a:pt x="615" y="10"/>
                  </a:lnTo>
                  <a:lnTo>
                    <a:pt x="616" y="1"/>
                  </a:lnTo>
                  <a:lnTo>
                    <a:pt x="616" y="3"/>
                  </a:lnTo>
                  <a:lnTo>
                    <a:pt x="617" y="1"/>
                  </a:lnTo>
                  <a:lnTo>
                    <a:pt x="618" y="5"/>
                  </a:lnTo>
                  <a:lnTo>
                    <a:pt x="620" y="0"/>
                  </a:lnTo>
                  <a:lnTo>
                    <a:pt x="621" y="1"/>
                  </a:lnTo>
                  <a:lnTo>
                    <a:pt x="622" y="4"/>
                  </a:lnTo>
                  <a:lnTo>
                    <a:pt x="622" y="12"/>
                  </a:lnTo>
                  <a:lnTo>
                    <a:pt x="623" y="4"/>
                  </a:lnTo>
                  <a:lnTo>
                    <a:pt x="625" y="3"/>
                  </a:lnTo>
                  <a:lnTo>
                    <a:pt x="626" y="14"/>
                  </a:lnTo>
                  <a:lnTo>
                    <a:pt x="627" y="5"/>
                  </a:lnTo>
                  <a:lnTo>
                    <a:pt x="627" y="7"/>
                  </a:lnTo>
                  <a:lnTo>
                    <a:pt x="628" y="9"/>
                  </a:lnTo>
                  <a:lnTo>
                    <a:pt x="630" y="3"/>
                  </a:lnTo>
                  <a:lnTo>
                    <a:pt x="631" y="9"/>
                  </a:lnTo>
                  <a:lnTo>
                    <a:pt x="632" y="9"/>
                  </a:lnTo>
                  <a:lnTo>
                    <a:pt x="633" y="8"/>
                  </a:lnTo>
                  <a:lnTo>
                    <a:pt x="633" y="8"/>
                  </a:lnTo>
                  <a:lnTo>
                    <a:pt x="635" y="14"/>
                  </a:lnTo>
                  <a:lnTo>
                    <a:pt x="636" y="13"/>
                  </a:lnTo>
                  <a:lnTo>
                    <a:pt x="637" y="11"/>
                  </a:lnTo>
                  <a:lnTo>
                    <a:pt x="638" y="10"/>
                  </a:lnTo>
                  <a:lnTo>
                    <a:pt x="638" y="13"/>
                  </a:lnTo>
                  <a:lnTo>
                    <a:pt x="641" y="21"/>
                  </a:lnTo>
                  <a:lnTo>
                    <a:pt x="641" y="22"/>
                  </a:lnTo>
                  <a:lnTo>
                    <a:pt x="642" y="12"/>
                  </a:lnTo>
                  <a:lnTo>
                    <a:pt x="643" y="17"/>
                  </a:lnTo>
                  <a:lnTo>
                    <a:pt x="644" y="18"/>
                  </a:lnTo>
                  <a:lnTo>
                    <a:pt x="646" y="17"/>
                  </a:lnTo>
                  <a:lnTo>
                    <a:pt x="647" y="20"/>
                  </a:lnTo>
                  <a:lnTo>
                    <a:pt x="647" y="23"/>
                  </a:lnTo>
                  <a:lnTo>
                    <a:pt x="648" y="29"/>
                  </a:lnTo>
                  <a:lnTo>
                    <a:pt x="649" y="21"/>
                  </a:lnTo>
                  <a:lnTo>
                    <a:pt x="651" y="19"/>
                  </a:lnTo>
                  <a:lnTo>
                    <a:pt x="652" y="26"/>
                  </a:lnTo>
                  <a:lnTo>
                    <a:pt x="652" y="20"/>
                  </a:lnTo>
                  <a:lnTo>
                    <a:pt x="653" y="18"/>
                  </a:lnTo>
                  <a:lnTo>
                    <a:pt x="654" y="17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8" y="18"/>
                  </a:lnTo>
                  <a:lnTo>
                    <a:pt x="658" y="24"/>
                  </a:lnTo>
                  <a:lnTo>
                    <a:pt x="659" y="14"/>
                  </a:lnTo>
                  <a:lnTo>
                    <a:pt x="661" y="17"/>
                  </a:lnTo>
                  <a:lnTo>
                    <a:pt x="662" y="16"/>
                  </a:lnTo>
                  <a:lnTo>
                    <a:pt x="663" y="17"/>
                  </a:lnTo>
                  <a:lnTo>
                    <a:pt x="663" y="16"/>
                  </a:lnTo>
                  <a:lnTo>
                    <a:pt x="664" y="18"/>
                  </a:lnTo>
                  <a:lnTo>
                    <a:pt x="666" y="15"/>
                  </a:lnTo>
                  <a:lnTo>
                    <a:pt x="667" y="11"/>
                  </a:lnTo>
                  <a:lnTo>
                    <a:pt x="668" y="14"/>
                  </a:lnTo>
                  <a:lnTo>
                    <a:pt x="669" y="16"/>
                  </a:lnTo>
                  <a:lnTo>
                    <a:pt x="669" y="6"/>
                  </a:lnTo>
                  <a:lnTo>
                    <a:pt x="672" y="4"/>
                  </a:lnTo>
                  <a:lnTo>
                    <a:pt x="672" y="4"/>
                  </a:lnTo>
                  <a:lnTo>
                    <a:pt x="673" y="13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360" y="5200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360" y="4686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8360" y="4181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8360" y="36669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8360" y="3152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8360" y="26478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8360" y="21337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6328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65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076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948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14840" y="54626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560" y="546264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40240" y="52052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40240" y="46911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0240" y="4186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40240" y="3672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0240" y="31575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46720" y="26528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46720" y="21384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s por riesgo economías desarrolladas 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14000" y="2119320"/>
            <a:ext cx="8337960" cy="3733200"/>
            <a:chOff x="414000" y="2119320"/>
            <a:chExt cx="8337960" cy="3733200"/>
          </a:xfrm>
        </p:grpSpPr>
        <p:sp>
          <p:nvSpPr>
            <p:cNvPr id="452" name=""/>
            <p:cNvSpPr/>
            <p:nvPr/>
          </p:nvSpPr>
          <p:spPr>
            <a:xfrm>
              <a:off x="936720" y="4927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36720" y="438300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36720" y="383868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6720" y="3292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36720" y="2747880"/>
              <a:ext cx="7296120" cy="18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6720" y="2203560"/>
              <a:ext cx="7296120" cy="14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6720" y="5472000"/>
              <a:ext cx="7296120" cy="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9367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89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85776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302080" y="5472000"/>
              <a:ext cx="180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77232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8217000" y="5472000"/>
              <a:ext cx="1440" cy="4464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36720" y="2278080"/>
              <a:ext cx="7296120" cy="2709720"/>
            </a:xfrm>
            <a:custGeom>
              <a:avLst/>
              <a:gdLst/>
              <a:ahLst/>
              <a:rect l="l" t="t" r="r" b="b"/>
              <a:pathLst>
                <a:path w="4787" h="2491">
                  <a:moveTo>
                    <a:pt x="0" y="842"/>
                  </a:moveTo>
                  <a:lnTo>
                    <a:pt x="5" y="907"/>
                  </a:lnTo>
                  <a:lnTo>
                    <a:pt x="21" y="907"/>
                  </a:lnTo>
                  <a:lnTo>
                    <a:pt x="26" y="997"/>
                  </a:lnTo>
                  <a:lnTo>
                    <a:pt x="31" y="1038"/>
                  </a:lnTo>
                  <a:lnTo>
                    <a:pt x="37" y="1073"/>
                  </a:lnTo>
                  <a:lnTo>
                    <a:pt x="42" y="1058"/>
                  </a:lnTo>
                  <a:lnTo>
                    <a:pt x="58" y="1063"/>
                  </a:lnTo>
                  <a:lnTo>
                    <a:pt x="63" y="992"/>
                  </a:lnTo>
                  <a:lnTo>
                    <a:pt x="68" y="942"/>
                  </a:lnTo>
                  <a:lnTo>
                    <a:pt x="73" y="967"/>
                  </a:lnTo>
                  <a:lnTo>
                    <a:pt x="79" y="932"/>
                  </a:lnTo>
                  <a:lnTo>
                    <a:pt x="94" y="932"/>
                  </a:lnTo>
                  <a:lnTo>
                    <a:pt x="100" y="932"/>
                  </a:lnTo>
                  <a:lnTo>
                    <a:pt x="105" y="957"/>
                  </a:lnTo>
                  <a:lnTo>
                    <a:pt x="110" y="932"/>
                  </a:lnTo>
                  <a:lnTo>
                    <a:pt x="115" y="947"/>
                  </a:lnTo>
                  <a:lnTo>
                    <a:pt x="131" y="947"/>
                  </a:lnTo>
                  <a:lnTo>
                    <a:pt x="136" y="957"/>
                  </a:lnTo>
                  <a:lnTo>
                    <a:pt x="141" y="917"/>
                  </a:lnTo>
                  <a:lnTo>
                    <a:pt x="147" y="792"/>
                  </a:lnTo>
                  <a:lnTo>
                    <a:pt x="152" y="777"/>
                  </a:lnTo>
                  <a:lnTo>
                    <a:pt x="168" y="692"/>
                  </a:lnTo>
                  <a:lnTo>
                    <a:pt x="173" y="737"/>
                  </a:lnTo>
                  <a:lnTo>
                    <a:pt x="178" y="712"/>
                  </a:lnTo>
                  <a:lnTo>
                    <a:pt x="183" y="657"/>
                  </a:lnTo>
                  <a:lnTo>
                    <a:pt x="189" y="667"/>
                  </a:lnTo>
                  <a:lnTo>
                    <a:pt x="204" y="722"/>
                  </a:lnTo>
                  <a:lnTo>
                    <a:pt x="209" y="707"/>
                  </a:lnTo>
                  <a:lnTo>
                    <a:pt x="215" y="752"/>
                  </a:lnTo>
                  <a:lnTo>
                    <a:pt x="220" y="777"/>
                  </a:lnTo>
                  <a:lnTo>
                    <a:pt x="225" y="752"/>
                  </a:lnTo>
                  <a:lnTo>
                    <a:pt x="241" y="752"/>
                  </a:lnTo>
                  <a:lnTo>
                    <a:pt x="246" y="717"/>
                  </a:lnTo>
                  <a:lnTo>
                    <a:pt x="251" y="677"/>
                  </a:lnTo>
                  <a:lnTo>
                    <a:pt x="257" y="612"/>
                  </a:lnTo>
                  <a:lnTo>
                    <a:pt x="262" y="612"/>
                  </a:lnTo>
                  <a:lnTo>
                    <a:pt x="278" y="627"/>
                  </a:lnTo>
                  <a:lnTo>
                    <a:pt x="283" y="647"/>
                  </a:lnTo>
                  <a:lnTo>
                    <a:pt x="288" y="597"/>
                  </a:lnTo>
                  <a:lnTo>
                    <a:pt x="293" y="637"/>
                  </a:lnTo>
                  <a:lnTo>
                    <a:pt x="299" y="662"/>
                  </a:lnTo>
                  <a:lnTo>
                    <a:pt x="314" y="707"/>
                  </a:lnTo>
                  <a:lnTo>
                    <a:pt x="319" y="697"/>
                  </a:lnTo>
                  <a:lnTo>
                    <a:pt x="325" y="742"/>
                  </a:lnTo>
                  <a:lnTo>
                    <a:pt x="330" y="747"/>
                  </a:lnTo>
                  <a:lnTo>
                    <a:pt x="335" y="737"/>
                  </a:lnTo>
                  <a:lnTo>
                    <a:pt x="351" y="782"/>
                  </a:lnTo>
                  <a:lnTo>
                    <a:pt x="356" y="772"/>
                  </a:lnTo>
                  <a:lnTo>
                    <a:pt x="361" y="772"/>
                  </a:lnTo>
                  <a:lnTo>
                    <a:pt x="367" y="712"/>
                  </a:lnTo>
                  <a:lnTo>
                    <a:pt x="372" y="712"/>
                  </a:lnTo>
                  <a:lnTo>
                    <a:pt x="388" y="732"/>
                  </a:lnTo>
                  <a:lnTo>
                    <a:pt x="393" y="707"/>
                  </a:lnTo>
                  <a:lnTo>
                    <a:pt x="398" y="732"/>
                  </a:lnTo>
                  <a:lnTo>
                    <a:pt x="403" y="757"/>
                  </a:lnTo>
                  <a:lnTo>
                    <a:pt x="409" y="812"/>
                  </a:lnTo>
                  <a:lnTo>
                    <a:pt x="424" y="757"/>
                  </a:lnTo>
                  <a:lnTo>
                    <a:pt x="429" y="767"/>
                  </a:lnTo>
                  <a:lnTo>
                    <a:pt x="435" y="727"/>
                  </a:lnTo>
                  <a:lnTo>
                    <a:pt x="440" y="747"/>
                  </a:lnTo>
                  <a:lnTo>
                    <a:pt x="445" y="772"/>
                  </a:lnTo>
                  <a:lnTo>
                    <a:pt x="461" y="752"/>
                  </a:lnTo>
                  <a:lnTo>
                    <a:pt x="466" y="802"/>
                  </a:lnTo>
                  <a:lnTo>
                    <a:pt x="471" y="777"/>
                  </a:lnTo>
                  <a:lnTo>
                    <a:pt x="477" y="827"/>
                  </a:lnTo>
                  <a:lnTo>
                    <a:pt x="482" y="817"/>
                  </a:lnTo>
                  <a:lnTo>
                    <a:pt x="498" y="822"/>
                  </a:lnTo>
                  <a:lnTo>
                    <a:pt x="503" y="882"/>
                  </a:lnTo>
                  <a:lnTo>
                    <a:pt x="508" y="862"/>
                  </a:lnTo>
                  <a:lnTo>
                    <a:pt x="513" y="862"/>
                  </a:lnTo>
                  <a:lnTo>
                    <a:pt x="519" y="862"/>
                  </a:lnTo>
                  <a:lnTo>
                    <a:pt x="534" y="877"/>
                  </a:lnTo>
                  <a:lnTo>
                    <a:pt x="539" y="897"/>
                  </a:lnTo>
                  <a:lnTo>
                    <a:pt x="545" y="842"/>
                  </a:lnTo>
                  <a:lnTo>
                    <a:pt x="550" y="717"/>
                  </a:lnTo>
                  <a:lnTo>
                    <a:pt x="555" y="747"/>
                  </a:lnTo>
                  <a:lnTo>
                    <a:pt x="571" y="742"/>
                  </a:lnTo>
                  <a:lnTo>
                    <a:pt x="576" y="712"/>
                  </a:lnTo>
                  <a:lnTo>
                    <a:pt x="581" y="647"/>
                  </a:lnTo>
                  <a:lnTo>
                    <a:pt x="587" y="687"/>
                  </a:lnTo>
                  <a:lnTo>
                    <a:pt x="592" y="732"/>
                  </a:lnTo>
                  <a:lnTo>
                    <a:pt x="608" y="727"/>
                  </a:lnTo>
                  <a:lnTo>
                    <a:pt x="613" y="637"/>
                  </a:lnTo>
                  <a:lnTo>
                    <a:pt x="618" y="501"/>
                  </a:lnTo>
                  <a:lnTo>
                    <a:pt x="623" y="456"/>
                  </a:lnTo>
                  <a:lnTo>
                    <a:pt x="628" y="491"/>
                  </a:lnTo>
                  <a:lnTo>
                    <a:pt x="644" y="366"/>
                  </a:lnTo>
                  <a:lnTo>
                    <a:pt x="649" y="416"/>
                  </a:lnTo>
                  <a:lnTo>
                    <a:pt x="655" y="421"/>
                  </a:lnTo>
                  <a:lnTo>
                    <a:pt x="660" y="246"/>
                  </a:lnTo>
                  <a:lnTo>
                    <a:pt x="665" y="171"/>
                  </a:lnTo>
                  <a:lnTo>
                    <a:pt x="681" y="0"/>
                  </a:lnTo>
                  <a:lnTo>
                    <a:pt x="686" y="161"/>
                  </a:lnTo>
                  <a:lnTo>
                    <a:pt x="691" y="135"/>
                  </a:lnTo>
                  <a:lnTo>
                    <a:pt x="697" y="196"/>
                  </a:lnTo>
                  <a:lnTo>
                    <a:pt x="702" y="366"/>
                  </a:lnTo>
                  <a:lnTo>
                    <a:pt x="718" y="346"/>
                  </a:lnTo>
                  <a:lnTo>
                    <a:pt x="723" y="381"/>
                  </a:lnTo>
                  <a:lnTo>
                    <a:pt x="728" y="391"/>
                  </a:lnTo>
                  <a:lnTo>
                    <a:pt x="733" y="236"/>
                  </a:lnTo>
                  <a:lnTo>
                    <a:pt x="738" y="266"/>
                  </a:lnTo>
                  <a:lnTo>
                    <a:pt x="754" y="301"/>
                  </a:lnTo>
                  <a:lnTo>
                    <a:pt x="759" y="371"/>
                  </a:lnTo>
                  <a:lnTo>
                    <a:pt x="765" y="321"/>
                  </a:lnTo>
                  <a:lnTo>
                    <a:pt x="770" y="336"/>
                  </a:lnTo>
                  <a:lnTo>
                    <a:pt x="775" y="361"/>
                  </a:lnTo>
                  <a:lnTo>
                    <a:pt x="791" y="361"/>
                  </a:lnTo>
                  <a:lnTo>
                    <a:pt x="796" y="351"/>
                  </a:lnTo>
                  <a:lnTo>
                    <a:pt x="801" y="406"/>
                  </a:lnTo>
                  <a:lnTo>
                    <a:pt x="807" y="361"/>
                  </a:lnTo>
                  <a:lnTo>
                    <a:pt x="812" y="441"/>
                  </a:lnTo>
                  <a:lnTo>
                    <a:pt x="828" y="521"/>
                  </a:lnTo>
                  <a:lnTo>
                    <a:pt x="833" y="491"/>
                  </a:lnTo>
                  <a:lnTo>
                    <a:pt x="838" y="461"/>
                  </a:lnTo>
                  <a:lnTo>
                    <a:pt x="843" y="416"/>
                  </a:lnTo>
                  <a:lnTo>
                    <a:pt x="848" y="416"/>
                  </a:lnTo>
                  <a:lnTo>
                    <a:pt x="864" y="356"/>
                  </a:lnTo>
                  <a:lnTo>
                    <a:pt x="869" y="381"/>
                  </a:lnTo>
                  <a:lnTo>
                    <a:pt x="875" y="421"/>
                  </a:lnTo>
                  <a:lnTo>
                    <a:pt x="880" y="451"/>
                  </a:lnTo>
                  <a:lnTo>
                    <a:pt x="885" y="441"/>
                  </a:lnTo>
                  <a:lnTo>
                    <a:pt x="901" y="466"/>
                  </a:lnTo>
                  <a:lnTo>
                    <a:pt x="906" y="461"/>
                  </a:lnTo>
                  <a:lnTo>
                    <a:pt x="911" y="486"/>
                  </a:lnTo>
                  <a:lnTo>
                    <a:pt x="917" y="486"/>
                  </a:lnTo>
                  <a:lnTo>
                    <a:pt x="922" y="441"/>
                  </a:lnTo>
                  <a:lnTo>
                    <a:pt x="937" y="436"/>
                  </a:lnTo>
                  <a:lnTo>
                    <a:pt x="943" y="441"/>
                  </a:lnTo>
                  <a:lnTo>
                    <a:pt x="948" y="431"/>
                  </a:lnTo>
                  <a:lnTo>
                    <a:pt x="953" y="436"/>
                  </a:lnTo>
                  <a:lnTo>
                    <a:pt x="958" y="496"/>
                  </a:lnTo>
                  <a:lnTo>
                    <a:pt x="974" y="496"/>
                  </a:lnTo>
                  <a:lnTo>
                    <a:pt x="979" y="511"/>
                  </a:lnTo>
                  <a:lnTo>
                    <a:pt x="985" y="486"/>
                  </a:lnTo>
                  <a:lnTo>
                    <a:pt x="990" y="451"/>
                  </a:lnTo>
                  <a:lnTo>
                    <a:pt x="995" y="481"/>
                  </a:lnTo>
                  <a:lnTo>
                    <a:pt x="1011" y="501"/>
                  </a:lnTo>
                  <a:lnTo>
                    <a:pt x="1016" y="526"/>
                  </a:lnTo>
                  <a:lnTo>
                    <a:pt x="1021" y="556"/>
                  </a:lnTo>
                  <a:lnTo>
                    <a:pt x="1027" y="577"/>
                  </a:lnTo>
                  <a:lnTo>
                    <a:pt x="1032" y="632"/>
                  </a:lnTo>
                  <a:lnTo>
                    <a:pt x="1047" y="632"/>
                  </a:lnTo>
                  <a:lnTo>
                    <a:pt x="1053" y="637"/>
                  </a:lnTo>
                  <a:lnTo>
                    <a:pt x="1058" y="587"/>
                  </a:lnTo>
                  <a:lnTo>
                    <a:pt x="1063" y="587"/>
                  </a:lnTo>
                  <a:lnTo>
                    <a:pt x="1068" y="592"/>
                  </a:lnTo>
                  <a:lnTo>
                    <a:pt x="1084" y="551"/>
                  </a:lnTo>
                  <a:lnTo>
                    <a:pt x="1089" y="556"/>
                  </a:lnTo>
                  <a:lnTo>
                    <a:pt x="1095" y="592"/>
                  </a:lnTo>
                  <a:lnTo>
                    <a:pt x="1100" y="642"/>
                  </a:lnTo>
                  <a:lnTo>
                    <a:pt x="1105" y="652"/>
                  </a:lnTo>
                  <a:lnTo>
                    <a:pt x="1121" y="632"/>
                  </a:lnTo>
                  <a:lnTo>
                    <a:pt x="1126" y="647"/>
                  </a:lnTo>
                  <a:lnTo>
                    <a:pt x="1131" y="652"/>
                  </a:lnTo>
                  <a:lnTo>
                    <a:pt x="1137" y="637"/>
                  </a:lnTo>
                  <a:lnTo>
                    <a:pt x="1142" y="647"/>
                  </a:lnTo>
                  <a:lnTo>
                    <a:pt x="1157" y="672"/>
                  </a:lnTo>
                  <a:lnTo>
                    <a:pt x="1163" y="687"/>
                  </a:lnTo>
                  <a:lnTo>
                    <a:pt x="1168" y="672"/>
                  </a:lnTo>
                  <a:lnTo>
                    <a:pt x="1173" y="687"/>
                  </a:lnTo>
                  <a:lnTo>
                    <a:pt x="1178" y="722"/>
                  </a:lnTo>
                  <a:lnTo>
                    <a:pt x="1194" y="722"/>
                  </a:lnTo>
                  <a:lnTo>
                    <a:pt x="1199" y="742"/>
                  </a:lnTo>
                  <a:lnTo>
                    <a:pt x="1205" y="757"/>
                  </a:lnTo>
                  <a:lnTo>
                    <a:pt x="1210" y="757"/>
                  </a:lnTo>
                  <a:lnTo>
                    <a:pt x="1215" y="822"/>
                  </a:lnTo>
                  <a:lnTo>
                    <a:pt x="1231" y="837"/>
                  </a:lnTo>
                  <a:lnTo>
                    <a:pt x="1236" y="862"/>
                  </a:lnTo>
                  <a:lnTo>
                    <a:pt x="1241" y="847"/>
                  </a:lnTo>
                  <a:lnTo>
                    <a:pt x="1247" y="812"/>
                  </a:lnTo>
                  <a:lnTo>
                    <a:pt x="1252" y="837"/>
                  </a:lnTo>
                  <a:lnTo>
                    <a:pt x="1267" y="867"/>
                  </a:lnTo>
                  <a:lnTo>
                    <a:pt x="1273" y="842"/>
                  </a:lnTo>
                  <a:lnTo>
                    <a:pt x="1278" y="842"/>
                  </a:lnTo>
                  <a:lnTo>
                    <a:pt x="1283" y="847"/>
                  </a:lnTo>
                  <a:lnTo>
                    <a:pt x="1288" y="882"/>
                  </a:lnTo>
                  <a:lnTo>
                    <a:pt x="1304" y="882"/>
                  </a:lnTo>
                  <a:lnTo>
                    <a:pt x="1309" y="907"/>
                  </a:lnTo>
                  <a:lnTo>
                    <a:pt x="1315" y="897"/>
                  </a:lnTo>
                  <a:lnTo>
                    <a:pt x="1320" y="902"/>
                  </a:lnTo>
                  <a:lnTo>
                    <a:pt x="1325" y="897"/>
                  </a:lnTo>
                  <a:lnTo>
                    <a:pt x="1341" y="877"/>
                  </a:lnTo>
                  <a:lnTo>
                    <a:pt x="1346" y="892"/>
                  </a:lnTo>
                  <a:lnTo>
                    <a:pt x="1351" y="932"/>
                  </a:lnTo>
                  <a:lnTo>
                    <a:pt x="1356" y="962"/>
                  </a:lnTo>
                  <a:lnTo>
                    <a:pt x="1362" y="1013"/>
                  </a:lnTo>
                  <a:lnTo>
                    <a:pt x="1377" y="1038"/>
                  </a:lnTo>
                  <a:lnTo>
                    <a:pt x="1383" y="1023"/>
                  </a:lnTo>
                  <a:lnTo>
                    <a:pt x="1388" y="1013"/>
                  </a:lnTo>
                  <a:lnTo>
                    <a:pt x="1393" y="982"/>
                  </a:lnTo>
                  <a:lnTo>
                    <a:pt x="1398" y="957"/>
                  </a:lnTo>
                  <a:lnTo>
                    <a:pt x="1414" y="927"/>
                  </a:lnTo>
                  <a:lnTo>
                    <a:pt x="1419" y="937"/>
                  </a:lnTo>
                  <a:lnTo>
                    <a:pt x="1425" y="962"/>
                  </a:lnTo>
                  <a:lnTo>
                    <a:pt x="1430" y="972"/>
                  </a:lnTo>
                  <a:lnTo>
                    <a:pt x="1435" y="997"/>
                  </a:lnTo>
                  <a:lnTo>
                    <a:pt x="1451" y="1058"/>
                  </a:lnTo>
                  <a:lnTo>
                    <a:pt x="1456" y="1073"/>
                  </a:lnTo>
                  <a:lnTo>
                    <a:pt x="1461" y="1063"/>
                  </a:lnTo>
                  <a:lnTo>
                    <a:pt x="1466" y="1053"/>
                  </a:lnTo>
                  <a:lnTo>
                    <a:pt x="1472" y="1088"/>
                  </a:lnTo>
                  <a:lnTo>
                    <a:pt x="1487" y="1088"/>
                  </a:lnTo>
                  <a:lnTo>
                    <a:pt x="1493" y="1103"/>
                  </a:lnTo>
                  <a:lnTo>
                    <a:pt x="1498" y="1058"/>
                  </a:lnTo>
                  <a:lnTo>
                    <a:pt x="1503" y="972"/>
                  </a:lnTo>
                  <a:lnTo>
                    <a:pt x="1508" y="1018"/>
                  </a:lnTo>
                  <a:lnTo>
                    <a:pt x="1524" y="1013"/>
                  </a:lnTo>
                  <a:lnTo>
                    <a:pt x="1529" y="962"/>
                  </a:lnTo>
                  <a:lnTo>
                    <a:pt x="1535" y="937"/>
                  </a:lnTo>
                  <a:lnTo>
                    <a:pt x="1540" y="957"/>
                  </a:lnTo>
                  <a:lnTo>
                    <a:pt x="1545" y="952"/>
                  </a:lnTo>
                  <a:lnTo>
                    <a:pt x="1561" y="892"/>
                  </a:lnTo>
                  <a:lnTo>
                    <a:pt x="1566" y="912"/>
                  </a:lnTo>
                  <a:lnTo>
                    <a:pt x="1571" y="982"/>
                  </a:lnTo>
                  <a:lnTo>
                    <a:pt x="1576" y="987"/>
                  </a:lnTo>
                  <a:lnTo>
                    <a:pt x="1582" y="1028"/>
                  </a:lnTo>
                  <a:lnTo>
                    <a:pt x="1597" y="1068"/>
                  </a:lnTo>
                  <a:lnTo>
                    <a:pt x="1603" y="1093"/>
                  </a:lnTo>
                  <a:lnTo>
                    <a:pt x="1608" y="1093"/>
                  </a:lnTo>
                  <a:lnTo>
                    <a:pt x="1613" y="1128"/>
                  </a:lnTo>
                  <a:lnTo>
                    <a:pt x="1618" y="1133"/>
                  </a:lnTo>
                  <a:lnTo>
                    <a:pt x="1634" y="1128"/>
                  </a:lnTo>
                  <a:lnTo>
                    <a:pt x="1639" y="1118"/>
                  </a:lnTo>
                  <a:lnTo>
                    <a:pt x="1645" y="1143"/>
                  </a:lnTo>
                  <a:lnTo>
                    <a:pt x="1650" y="1143"/>
                  </a:lnTo>
                  <a:lnTo>
                    <a:pt x="1655" y="1173"/>
                  </a:lnTo>
                  <a:lnTo>
                    <a:pt x="1671" y="1188"/>
                  </a:lnTo>
                  <a:lnTo>
                    <a:pt x="1676" y="1183"/>
                  </a:lnTo>
                  <a:lnTo>
                    <a:pt x="1681" y="1198"/>
                  </a:lnTo>
                  <a:lnTo>
                    <a:pt x="1686" y="1198"/>
                  </a:lnTo>
                  <a:lnTo>
                    <a:pt x="1692" y="1193"/>
                  </a:lnTo>
                  <a:lnTo>
                    <a:pt x="1707" y="1188"/>
                  </a:lnTo>
                  <a:lnTo>
                    <a:pt x="1713" y="1208"/>
                  </a:lnTo>
                  <a:lnTo>
                    <a:pt x="1718" y="1238"/>
                  </a:lnTo>
                  <a:lnTo>
                    <a:pt x="1723" y="1238"/>
                  </a:lnTo>
                  <a:lnTo>
                    <a:pt x="1728" y="1253"/>
                  </a:lnTo>
                  <a:lnTo>
                    <a:pt x="1744" y="1233"/>
                  </a:lnTo>
                  <a:lnTo>
                    <a:pt x="1749" y="1268"/>
                  </a:lnTo>
                  <a:lnTo>
                    <a:pt x="1755" y="1288"/>
                  </a:lnTo>
                  <a:lnTo>
                    <a:pt x="1760" y="1273"/>
                  </a:lnTo>
                  <a:lnTo>
                    <a:pt x="1765" y="1253"/>
                  </a:lnTo>
                  <a:lnTo>
                    <a:pt x="1781" y="1258"/>
                  </a:lnTo>
                  <a:lnTo>
                    <a:pt x="1786" y="1268"/>
                  </a:lnTo>
                  <a:lnTo>
                    <a:pt x="1791" y="1233"/>
                  </a:lnTo>
                  <a:lnTo>
                    <a:pt x="1796" y="1233"/>
                  </a:lnTo>
                  <a:lnTo>
                    <a:pt x="1802" y="1243"/>
                  </a:lnTo>
                  <a:lnTo>
                    <a:pt x="1817" y="1253"/>
                  </a:lnTo>
                  <a:lnTo>
                    <a:pt x="1823" y="1258"/>
                  </a:lnTo>
                  <a:lnTo>
                    <a:pt x="1828" y="1293"/>
                  </a:lnTo>
                  <a:lnTo>
                    <a:pt x="1833" y="1318"/>
                  </a:lnTo>
                  <a:lnTo>
                    <a:pt x="1838" y="1348"/>
                  </a:lnTo>
                  <a:lnTo>
                    <a:pt x="1854" y="1368"/>
                  </a:lnTo>
                  <a:lnTo>
                    <a:pt x="1859" y="1363"/>
                  </a:lnTo>
                  <a:lnTo>
                    <a:pt x="1865" y="1373"/>
                  </a:lnTo>
                  <a:lnTo>
                    <a:pt x="1870" y="1373"/>
                  </a:lnTo>
                  <a:lnTo>
                    <a:pt x="1875" y="1373"/>
                  </a:lnTo>
                  <a:lnTo>
                    <a:pt x="1891" y="1418"/>
                  </a:lnTo>
                  <a:lnTo>
                    <a:pt x="1896" y="1393"/>
                  </a:lnTo>
                  <a:lnTo>
                    <a:pt x="1901" y="1398"/>
                  </a:lnTo>
                  <a:lnTo>
                    <a:pt x="1906" y="1388"/>
                  </a:lnTo>
                  <a:lnTo>
                    <a:pt x="1912" y="1358"/>
                  </a:lnTo>
                  <a:lnTo>
                    <a:pt x="1927" y="1348"/>
                  </a:lnTo>
                  <a:lnTo>
                    <a:pt x="1933" y="1318"/>
                  </a:lnTo>
                  <a:lnTo>
                    <a:pt x="1938" y="1258"/>
                  </a:lnTo>
                  <a:lnTo>
                    <a:pt x="1943" y="1238"/>
                  </a:lnTo>
                  <a:lnTo>
                    <a:pt x="1948" y="1253"/>
                  </a:lnTo>
                  <a:lnTo>
                    <a:pt x="1964" y="1208"/>
                  </a:lnTo>
                  <a:lnTo>
                    <a:pt x="1969" y="1208"/>
                  </a:lnTo>
                  <a:lnTo>
                    <a:pt x="1975" y="1253"/>
                  </a:lnTo>
                  <a:lnTo>
                    <a:pt x="1980" y="1238"/>
                  </a:lnTo>
                  <a:lnTo>
                    <a:pt x="1985" y="1208"/>
                  </a:lnTo>
                  <a:lnTo>
                    <a:pt x="2001" y="1208"/>
                  </a:lnTo>
                  <a:lnTo>
                    <a:pt x="2006" y="1173"/>
                  </a:lnTo>
                  <a:lnTo>
                    <a:pt x="2011" y="1173"/>
                  </a:lnTo>
                  <a:lnTo>
                    <a:pt x="2016" y="1183"/>
                  </a:lnTo>
                  <a:lnTo>
                    <a:pt x="2022" y="1208"/>
                  </a:lnTo>
                  <a:lnTo>
                    <a:pt x="2037" y="1218"/>
                  </a:lnTo>
                  <a:lnTo>
                    <a:pt x="2043" y="1253"/>
                  </a:lnTo>
                  <a:lnTo>
                    <a:pt x="2048" y="1268"/>
                  </a:lnTo>
                  <a:lnTo>
                    <a:pt x="2053" y="1263"/>
                  </a:lnTo>
                  <a:lnTo>
                    <a:pt x="2058" y="1238"/>
                  </a:lnTo>
                  <a:lnTo>
                    <a:pt x="2074" y="1263"/>
                  </a:lnTo>
                  <a:lnTo>
                    <a:pt x="2079" y="1243"/>
                  </a:lnTo>
                  <a:lnTo>
                    <a:pt x="2084" y="1233"/>
                  </a:lnTo>
                  <a:lnTo>
                    <a:pt x="2090" y="1248"/>
                  </a:lnTo>
                  <a:lnTo>
                    <a:pt x="2095" y="1278"/>
                  </a:lnTo>
                  <a:lnTo>
                    <a:pt x="2111" y="1298"/>
                  </a:lnTo>
                  <a:lnTo>
                    <a:pt x="2116" y="1288"/>
                  </a:lnTo>
                  <a:lnTo>
                    <a:pt x="2121" y="1273"/>
                  </a:lnTo>
                  <a:lnTo>
                    <a:pt x="2126" y="1288"/>
                  </a:lnTo>
                  <a:lnTo>
                    <a:pt x="2132" y="1308"/>
                  </a:lnTo>
                  <a:lnTo>
                    <a:pt x="2147" y="1308"/>
                  </a:lnTo>
                  <a:lnTo>
                    <a:pt x="2153" y="1303"/>
                  </a:lnTo>
                  <a:lnTo>
                    <a:pt x="2158" y="1318"/>
                  </a:lnTo>
                  <a:lnTo>
                    <a:pt x="2163" y="1348"/>
                  </a:lnTo>
                  <a:lnTo>
                    <a:pt x="2168" y="1353"/>
                  </a:lnTo>
                  <a:lnTo>
                    <a:pt x="2184" y="1353"/>
                  </a:lnTo>
                  <a:lnTo>
                    <a:pt x="2189" y="1333"/>
                  </a:lnTo>
                  <a:lnTo>
                    <a:pt x="2194" y="1333"/>
                  </a:lnTo>
                  <a:lnTo>
                    <a:pt x="2200" y="1358"/>
                  </a:lnTo>
                  <a:lnTo>
                    <a:pt x="2205" y="1358"/>
                  </a:lnTo>
                  <a:lnTo>
                    <a:pt x="2221" y="1368"/>
                  </a:lnTo>
                  <a:lnTo>
                    <a:pt x="2226" y="1363"/>
                  </a:lnTo>
                  <a:lnTo>
                    <a:pt x="2231" y="1378"/>
                  </a:lnTo>
                  <a:lnTo>
                    <a:pt x="2236" y="1388"/>
                  </a:lnTo>
                  <a:lnTo>
                    <a:pt x="2242" y="1408"/>
                  </a:lnTo>
                  <a:lnTo>
                    <a:pt x="2257" y="1434"/>
                  </a:lnTo>
                  <a:lnTo>
                    <a:pt x="2263" y="1444"/>
                  </a:lnTo>
                  <a:lnTo>
                    <a:pt x="2268" y="1423"/>
                  </a:lnTo>
                  <a:lnTo>
                    <a:pt x="2273" y="1403"/>
                  </a:lnTo>
                  <a:lnTo>
                    <a:pt x="2278" y="1393"/>
                  </a:lnTo>
                  <a:lnTo>
                    <a:pt x="2294" y="1333"/>
                  </a:lnTo>
                  <a:lnTo>
                    <a:pt x="2299" y="1288"/>
                  </a:lnTo>
                  <a:lnTo>
                    <a:pt x="2304" y="1238"/>
                  </a:lnTo>
                  <a:lnTo>
                    <a:pt x="2310" y="1258"/>
                  </a:lnTo>
                  <a:lnTo>
                    <a:pt x="2315" y="1258"/>
                  </a:lnTo>
                  <a:lnTo>
                    <a:pt x="2331" y="1223"/>
                  </a:lnTo>
                  <a:lnTo>
                    <a:pt x="2336" y="1193"/>
                  </a:lnTo>
                  <a:lnTo>
                    <a:pt x="2341" y="1123"/>
                  </a:lnTo>
                  <a:lnTo>
                    <a:pt x="2346" y="1073"/>
                  </a:lnTo>
                  <a:lnTo>
                    <a:pt x="2352" y="1073"/>
                  </a:lnTo>
                  <a:lnTo>
                    <a:pt x="2367" y="1058"/>
                  </a:lnTo>
                  <a:lnTo>
                    <a:pt x="2373" y="1078"/>
                  </a:lnTo>
                  <a:lnTo>
                    <a:pt x="2378" y="1118"/>
                  </a:lnTo>
                  <a:lnTo>
                    <a:pt x="2383" y="1138"/>
                  </a:lnTo>
                  <a:lnTo>
                    <a:pt x="2388" y="1138"/>
                  </a:lnTo>
                  <a:lnTo>
                    <a:pt x="2404" y="1083"/>
                  </a:lnTo>
                  <a:lnTo>
                    <a:pt x="2409" y="1108"/>
                  </a:lnTo>
                  <a:lnTo>
                    <a:pt x="2414" y="1153"/>
                  </a:lnTo>
                  <a:lnTo>
                    <a:pt x="2420" y="1158"/>
                  </a:lnTo>
                  <a:lnTo>
                    <a:pt x="2425" y="1173"/>
                  </a:lnTo>
                  <a:lnTo>
                    <a:pt x="2441" y="1163"/>
                  </a:lnTo>
                  <a:lnTo>
                    <a:pt x="2446" y="1178"/>
                  </a:lnTo>
                  <a:lnTo>
                    <a:pt x="2451" y="1193"/>
                  </a:lnTo>
                  <a:lnTo>
                    <a:pt x="2456" y="1113"/>
                  </a:lnTo>
                  <a:lnTo>
                    <a:pt x="2462" y="1002"/>
                  </a:lnTo>
                  <a:lnTo>
                    <a:pt x="2477" y="1013"/>
                  </a:lnTo>
                  <a:lnTo>
                    <a:pt x="2483" y="1063"/>
                  </a:lnTo>
                  <a:lnTo>
                    <a:pt x="2488" y="1053"/>
                  </a:lnTo>
                  <a:lnTo>
                    <a:pt x="2493" y="1128"/>
                  </a:lnTo>
                  <a:lnTo>
                    <a:pt x="2498" y="1103"/>
                  </a:lnTo>
                  <a:lnTo>
                    <a:pt x="2514" y="1103"/>
                  </a:lnTo>
                  <a:lnTo>
                    <a:pt x="2519" y="1113"/>
                  </a:lnTo>
                  <a:lnTo>
                    <a:pt x="2524" y="1098"/>
                  </a:lnTo>
                  <a:lnTo>
                    <a:pt x="2530" y="1038"/>
                  </a:lnTo>
                  <a:lnTo>
                    <a:pt x="2535" y="1068"/>
                  </a:lnTo>
                  <a:lnTo>
                    <a:pt x="2551" y="1068"/>
                  </a:lnTo>
                  <a:lnTo>
                    <a:pt x="2556" y="1108"/>
                  </a:lnTo>
                  <a:lnTo>
                    <a:pt x="2561" y="1153"/>
                  </a:lnTo>
                  <a:lnTo>
                    <a:pt x="2566" y="1143"/>
                  </a:lnTo>
                  <a:lnTo>
                    <a:pt x="2572" y="1178"/>
                  </a:lnTo>
                  <a:lnTo>
                    <a:pt x="2587" y="1188"/>
                  </a:lnTo>
                  <a:lnTo>
                    <a:pt x="2593" y="1128"/>
                  </a:lnTo>
                  <a:lnTo>
                    <a:pt x="2598" y="1108"/>
                  </a:lnTo>
                  <a:lnTo>
                    <a:pt x="2603" y="1108"/>
                  </a:lnTo>
                  <a:lnTo>
                    <a:pt x="2608" y="1078"/>
                  </a:lnTo>
                  <a:lnTo>
                    <a:pt x="2624" y="1073"/>
                  </a:lnTo>
                  <a:lnTo>
                    <a:pt x="2629" y="1038"/>
                  </a:lnTo>
                  <a:lnTo>
                    <a:pt x="2634" y="1068"/>
                  </a:lnTo>
                  <a:lnTo>
                    <a:pt x="2640" y="1098"/>
                  </a:lnTo>
                  <a:lnTo>
                    <a:pt x="2645" y="1118"/>
                  </a:lnTo>
                  <a:lnTo>
                    <a:pt x="2661" y="1123"/>
                  </a:lnTo>
                  <a:lnTo>
                    <a:pt x="2666" y="1103"/>
                  </a:lnTo>
                  <a:lnTo>
                    <a:pt x="2671" y="1158"/>
                  </a:lnTo>
                  <a:lnTo>
                    <a:pt x="2676" y="1178"/>
                  </a:lnTo>
                  <a:lnTo>
                    <a:pt x="2682" y="1183"/>
                  </a:lnTo>
                  <a:lnTo>
                    <a:pt x="2697" y="1183"/>
                  </a:lnTo>
                  <a:lnTo>
                    <a:pt x="2703" y="1193"/>
                  </a:lnTo>
                  <a:lnTo>
                    <a:pt x="2708" y="1163"/>
                  </a:lnTo>
                  <a:lnTo>
                    <a:pt x="2713" y="1193"/>
                  </a:lnTo>
                  <a:lnTo>
                    <a:pt x="2718" y="1203"/>
                  </a:lnTo>
                  <a:lnTo>
                    <a:pt x="2734" y="1158"/>
                  </a:lnTo>
                  <a:lnTo>
                    <a:pt x="2739" y="1128"/>
                  </a:lnTo>
                  <a:lnTo>
                    <a:pt x="2744" y="1128"/>
                  </a:lnTo>
                  <a:lnTo>
                    <a:pt x="2750" y="1123"/>
                  </a:lnTo>
                  <a:lnTo>
                    <a:pt x="2755" y="1183"/>
                  </a:lnTo>
                  <a:lnTo>
                    <a:pt x="2771" y="1624"/>
                  </a:lnTo>
                  <a:lnTo>
                    <a:pt x="2776" y="1644"/>
                  </a:lnTo>
                  <a:lnTo>
                    <a:pt x="2781" y="1644"/>
                  </a:lnTo>
                  <a:lnTo>
                    <a:pt x="2786" y="1654"/>
                  </a:lnTo>
                  <a:lnTo>
                    <a:pt x="2792" y="1669"/>
                  </a:lnTo>
                  <a:lnTo>
                    <a:pt x="2807" y="1679"/>
                  </a:lnTo>
                  <a:lnTo>
                    <a:pt x="2812" y="1669"/>
                  </a:lnTo>
                  <a:lnTo>
                    <a:pt x="2818" y="1644"/>
                  </a:lnTo>
                  <a:lnTo>
                    <a:pt x="2823" y="1624"/>
                  </a:lnTo>
                  <a:lnTo>
                    <a:pt x="2828" y="1614"/>
                  </a:lnTo>
                  <a:lnTo>
                    <a:pt x="2844" y="1604"/>
                  </a:lnTo>
                  <a:lnTo>
                    <a:pt x="2849" y="1639"/>
                  </a:lnTo>
                  <a:lnTo>
                    <a:pt x="2854" y="1659"/>
                  </a:lnTo>
                  <a:lnTo>
                    <a:pt x="2860" y="1749"/>
                  </a:lnTo>
                  <a:lnTo>
                    <a:pt x="2865" y="1784"/>
                  </a:lnTo>
                  <a:lnTo>
                    <a:pt x="2881" y="1784"/>
                  </a:lnTo>
                  <a:lnTo>
                    <a:pt x="2886" y="1784"/>
                  </a:lnTo>
                  <a:lnTo>
                    <a:pt x="2891" y="1764"/>
                  </a:lnTo>
                  <a:lnTo>
                    <a:pt x="2896" y="1764"/>
                  </a:lnTo>
                  <a:lnTo>
                    <a:pt x="2902" y="1804"/>
                  </a:lnTo>
                  <a:lnTo>
                    <a:pt x="2917" y="1799"/>
                  </a:lnTo>
                  <a:lnTo>
                    <a:pt x="2922" y="1839"/>
                  </a:lnTo>
                  <a:lnTo>
                    <a:pt x="2928" y="1844"/>
                  </a:lnTo>
                  <a:lnTo>
                    <a:pt x="2933" y="1849"/>
                  </a:lnTo>
                  <a:lnTo>
                    <a:pt x="2938" y="1844"/>
                  </a:lnTo>
                  <a:lnTo>
                    <a:pt x="2954" y="1849"/>
                  </a:lnTo>
                  <a:lnTo>
                    <a:pt x="2959" y="1829"/>
                  </a:lnTo>
                  <a:lnTo>
                    <a:pt x="2964" y="1829"/>
                  </a:lnTo>
                  <a:lnTo>
                    <a:pt x="2970" y="1849"/>
                  </a:lnTo>
                  <a:lnTo>
                    <a:pt x="2975" y="1814"/>
                  </a:lnTo>
                  <a:lnTo>
                    <a:pt x="2991" y="1799"/>
                  </a:lnTo>
                  <a:lnTo>
                    <a:pt x="2996" y="1794"/>
                  </a:lnTo>
                  <a:lnTo>
                    <a:pt x="3001" y="1819"/>
                  </a:lnTo>
                  <a:lnTo>
                    <a:pt x="3006" y="1834"/>
                  </a:lnTo>
                  <a:lnTo>
                    <a:pt x="3012" y="1854"/>
                  </a:lnTo>
                  <a:lnTo>
                    <a:pt x="3027" y="1870"/>
                  </a:lnTo>
                  <a:lnTo>
                    <a:pt x="3032" y="1895"/>
                  </a:lnTo>
                  <a:lnTo>
                    <a:pt x="3038" y="1900"/>
                  </a:lnTo>
                  <a:lnTo>
                    <a:pt x="3043" y="1910"/>
                  </a:lnTo>
                  <a:lnTo>
                    <a:pt x="3048" y="1930"/>
                  </a:lnTo>
                  <a:lnTo>
                    <a:pt x="3064" y="1910"/>
                  </a:lnTo>
                  <a:lnTo>
                    <a:pt x="3069" y="1925"/>
                  </a:lnTo>
                  <a:lnTo>
                    <a:pt x="3074" y="1940"/>
                  </a:lnTo>
                  <a:lnTo>
                    <a:pt x="3080" y="1895"/>
                  </a:lnTo>
                  <a:lnTo>
                    <a:pt x="3085" y="1859"/>
                  </a:lnTo>
                  <a:lnTo>
                    <a:pt x="3101" y="1890"/>
                  </a:lnTo>
                  <a:lnTo>
                    <a:pt x="3106" y="1875"/>
                  </a:lnTo>
                  <a:lnTo>
                    <a:pt x="3111" y="1885"/>
                  </a:lnTo>
                  <a:lnTo>
                    <a:pt x="3116" y="1865"/>
                  </a:lnTo>
                  <a:lnTo>
                    <a:pt x="3122" y="1829"/>
                  </a:lnTo>
                  <a:lnTo>
                    <a:pt x="3137" y="1854"/>
                  </a:lnTo>
                  <a:lnTo>
                    <a:pt x="3142" y="1839"/>
                  </a:lnTo>
                  <a:lnTo>
                    <a:pt x="3148" y="1819"/>
                  </a:lnTo>
                  <a:lnTo>
                    <a:pt x="3153" y="1829"/>
                  </a:lnTo>
                  <a:lnTo>
                    <a:pt x="3158" y="1839"/>
                  </a:lnTo>
                  <a:lnTo>
                    <a:pt x="3174" y="1844"/>
                  </a:lnTo>
                  <a:lnTo>
                    <a:pt x="3179" y="1824"/>
                  </a:lnTo>
                  <a:lnTo>
                    <a:pt x="3184" y="1834"/>
                  </a:lnTo>
                  <a:lnTo>
                    <a:pt x="3190" y="1854"/>
                  </a:lnTo>
                  <a:lnTo>
                    <a:pt x="3195" y="1880"/>
                  </a:lnTo>
                  <a:lnTo>
                    <a:pt x="3211" y="1880"/>
                  </a:lnTo>
                  <a:lnTo>
                    <a:pt x="3216" y="1900"/>
                  </a:lnTo>
                  <a:lnTo>
                    <a:pt x="3221" y="1910"/>
                  </a:lnTo>
                  <a:lnTo>
                    <a:pt x="3226" y="1940"/>
                  </a:lnTo>
                  <a:lnTo>
                    <a:pt x="3231" y="1945"/>
                  </a:lnTo>
                  <a:lnTo>
                    <a:pt x="3247" y="1960"/>
                  </a:lnTo>
                  <a:lnTo>
                    <a:pt x="3252" y="1945"/>
                  </a:lnTo>
                  <a:lnTo>
                    <a:pt x="3258" y="1965"/>
                  </a:lnTo>
                  <a:lnTo>
                    <a:pt x="3263" y="2000"/>
                  </a:lnTo>
                  <a:lnTo>
                    <a:pt x="3268" y="2020"/>
                  </a:lnTo>
                  <a:lnTo>
                    <a:pt x="3284" y="2035"/>
                  </a:lnTo>
                  <a:lnTo>
                    <a:pt x="3289" y="2025"/>
                  </a:lnTo>
                  <a:lnTo>
                    <a:pt x="3294" y="2035"/>
                  </a:lnTo>
                  <a:lnTo>
                    <a:pt x="3300" y="2020"/>
                  </a:lnTo>
                  <a:lnTo>
                    <a:pt x="3305" y="2040"/>
                  </a:lnTo>
                  <a:lnTo>
                    <a:pt x="3321" y="2060"/>
                  </a:lnTo>
                  <a:lnTo>
                    <a:pt x="3326" y="2055"/>
                  </a:lnTo>
                  <a:lnTo>
                    <a:pt x="3331" y="2050"/>
                  </a:lnTo>
                  <a:lnTo>
                    <a:pt x="3336" y="2090"/>
                  </a:lnTo>
                  <a:lnTo>
                    <a:pt x="3341" y="2100"/>
                  </a:lnTo>
                  <a:lnTo>
                    <a:pt x="3357" y="2120"/>
                  </a:lnTo>
                  <a:lnTo>
                    <a:pt x="3362" y="2075"/>
                  </a:lnTo>
                  <a:lnTo>
                    <a:pt x="3368" y="2040"/>
                  </a:lnTo>
                  <a:lnTo>
                    <a:pt x="3373" y="1955"/>
                  </a:lnTo>
                  <a:lnTo>
                    <a:pt x="3378" y="2000"/>
                  </a:lnTo>
                  <a:lnTo>
                    <a:pt x="3394" y="2000"/>
                  </a:lnTo>
                  <a:lnTo>
                    <a:pt x="3399" y="1990"/>
                  </a:lnTo>
                  <a:lnTo>
                    <a:pt x="3404" y="1935"/>
                  </a:lnTo>
                  <a:lnTo>
                    <a:pt x="3410" y="1915"/>
                  </a:lnTo>
                  <a:lnTo>
                    <a:pt x="3415" y="1910"/>
                  </a:lnTo>
                  <a:lnTo>
                    <a:pt x="3431" y="1950"/>
                  </a:lnTo>
                  <a:lnTo>
                    <a:pt x="3436" y="1970"/>
                  </a:lnTo>
                  <a:lnTo>
                    <a:pt x="3441" y="1965"/>
                  </a:lnTo>
                  <a:lnTo>
                    <a:pt x="3446" y="1960"/>
                  </a:lnTo>
                  <a:lnTo>
                    <a:pt x="3451" y="1930"/>
                  </a:lnTo>
                  <a:lnTo>
                    <a:pt x="3467" y="1965"/>
                  </a:lnTo>
                  <a:lnTo>
                    <a:pt x="3472" y="2015"/>
                  </a:lnTo>
                  <a:lnTo>
                    <a:pt x="3478" y="2030"/>
                  </a:lnTo>
                  <a:lnTo>
                    <a:pt x="3483" y="2005"/>
                  </a:lnTo>
                  <a:lnTo>
                    <a:pt x="3488" y="2030"/>
                  </a:lnTo>
                  <a:lnTo>
                    <a:pt x="3504" y="2065"/>
                  </a:lnTo>
                  <a:lnTo>
                    <a:pt x="3509" y="2075"/>
                  </a:lnTo>
                  <a:lnTo>
                    <a:pt x="3514" y="2085"/>
                  </a:lnTo>
                  <a:lnTo>
                    <a:pt x="3520" y="2080"/>
                  </a:lnTo>
                  <a:lnTo>
                    <a:pt x="3525" y="2070"/>
                  </a:lnTo>
                  <a:lnTo>
                    <a:pt x="3540" y="2080"/>
                  </a:lnTo>
                  <a:lnTo>
                    <a:pt x="3546" y="2065"/>
                  </a:lnTo>
                  <a:lnTo>
                    <a:pt x="3551" y="2095"/>
                  </a:lnTo>
                  <a:lnTo>
                    <a:pt x="3556" y="2075"/>
                  </a:lnTo>
                  <a:lnTo>
                    <a:pt x="3561" y="2075"/>
                  </a:lnTo>
                  <a:lnTo>
                    <a:pt x="3577" y="2080"/>
                  </a:lnTo>
                  <a:lnTo>
                    <a:pt x="3582" y="2080"/>
                  </a:lnTo>
                  <a:lnTo>
                    <a:pt x="3588" y="2080"/>
                  </a:lnTo>
                  <a:lnTo>
                    <a:pt x="3593" y="2090"/>
                  </a:lnTo>
                  <a:lnTo>
                    <a:pt x="3598" y="2095"/>
                  </a:lnTo>
                  <a:lnTo>
                    <a:pt x="3614" y="2100"/>
                  </a:lnTo>
                  <a:lnTo>
                    <a:pt x="3619" y="2100"/>
                  </a:lnTo>
                  <a:lnTo>
                    <a:pt x="3624" y="2125"/>
                  </a:lnTo>
                  <a:lnTo>
                    <a:pt x="3630" y="2125"/>
                  </a:lnTo>
                  <a:lnTo>
                    <a:pt x="3635" y="2120"/>
                  </a:lnTo>
                  <a:lnTo>
                    <a:pt x="3650" y="2095"/>
                  </a:lnTo>
                  <a:lnTo>
                    <a:pt x="3656" y="2100"/>
                  </a:lnTo>
                  <a:lnTo>
                    <a:pt x="3661" y="2065"/>
                  </a:lnTo>
                  <a:lnTo>
                    <a:pt x="3666" y="2090"/>
                  </a:lnTo>
                  <a:lnTo>
                    <a:pt x="3671" y="2100"/>
                  </a:lnTo>
                  <a:lnTo>
                    <a:pt x="3687" y="2100"/>
                  </a:lnTo>
                  <a:lnTo>
                    <a:pt x="3692" y="2105"/>
                  </a:lnTo>
                  <a:lnTo>
                    <a:pt x="3698" y="2100"/>
                  </a:lnTo>
                  <a:lnTo>
                    <a:pt x="3703" y="2070"/>
                  </a:lnTo>
                  <a:lnTo>
                    <a:pt x="3708" y="2095"/>
                  </a:lnTo>
                  <a:lnTo>
                    <a:pt x="3724" y="2095"/>
                  </a:lnTo>
                  <a:lnTo>
                    <a:pt x="3729" y="2105"/>
                  </a:lnTo>
                  <a:lnTo>
                    <a:pt x="3734" y="2095"/>
                  </a:lnTo>
                  <a:lnTo>
                    <a:pt x="3740" y="2090"/>
                  </a:lnTo>
                  <a:lnTo>
                    <a:pt x="3745" y="2075"/>
                  </a:lnTo>
                  <a:lnTo>
                    <a:pt x="3760" y="2075"/>
                  </a:lnTo>
                  <a:lnTo>
                    <a:pt x="3766" y="2080"/>
                  </a:lnTo>
                  <a:lnTo>
                    <a:pt x="3771" y="2105"/>
                  </a:lnTo>
                  <a:lnTo>
                    <a:pt x="3776" y="2105"/>
                  </a:lnTo>
                  <a:lnTo>
                    <a:pt x="3781" y="2085"/>
                  </a:lnTo>
                  <a:lnTo>
                    <a:pt x="3797" y="2085"/>
                  </a:lnTo>
                  <a:lnTo>
                    <a:pt x="3802" y="2095"/>
                  </a:lnTo>
                  <a:lnTo>
                    <a:pt x="3808" y="2085"/>
                  </a:lnTo>
                  <a:lnTo>
                    <a:pt x="3813" y="2095"/>
                  </a:lnTo>
                  <a:lnTo>
                    <a:pt x="3818" y="2075"/>
                  </a:lnTo>
                  <a:lnTo>
                    <a:pt x="3834" y="2075"/>
                  </a:lnTo>
                  <a:lnTo>
                    <a:pt x="3839" y="2110"/>
                  </a:lnTo>
                  <a:lnTo>
                    <a:pt x="3844" y="2135"/>
                  </a:lnTo>
                  <a:lnTo>
                    <a:pt x="3850" y="2130"/>
                  </a:lnTo>
                  <a:lnTo>
                    <a:pt x="3855" y="2165"/>
                  </a:lnTo>
                  <a:lnTo>
                    <a:pt x="3870" y="2165"/>
                  </a:lnTo>
                  <a:lnTo>
                    <a:pt x="3876" y="2170"/>
                  </a:lnTo>
                  <a:lnTo>
                    <a:pt x="3881" y="2190"/>
                  </a:lnTo>
                  <a:lnTo>
                    <a:pt x="3886" y="2160"/>
                  </a:lnTo>
                  <a:lnTo>
                    <a:pt x="3891" y="2150"/>
                  </a:lnTo>
                  <a:lnTo>
                    <a:pt x="3907" y="2150"/>
                  </a:lnTo>
                  <a:lnTo>
                    <a:pt x="3912" y="2145"/>
                  </a:lnTo>
                  <a:lnTo>
                    <a:pt x="3918" y="2160"/>
                  </a:lnTo>
                  <a:lnTo>
                    <a:pt x="3923" y="2200"/>
                  </a:lnTo>
                  <a:lnTo>
                    <a:pt x="3928" y="2205"/>
                  </a:lnTo>
                  <a:lnTo>
                    <a:pt x="3944" y="2210"/>
                  </a:lnTo>
                  <a:lnTo>
                    <a:pt x="3949" y="2230"/>
                  </a:lnTo>
                  <a:lnTo>
                    <a:pt x="3954" y="2250"/>
                  </a:lnTo>
                  <a:lnTo>
                    <a:pt x="3959" y="2270"/>
                  </a:lnTo>
                  <a:lnTo>
                    <a:pt x="3965" y="2285"/>
                  </a:lnTo>
                  <a:lnTo>
                    <a:pt x="3980" y="2285"/>
                  </a:lnTo>
                  <a:lnTo>
                    <a:pt x="3986" y="2270"/>
                  </a:lnTo>
                  <a:lnTo>
                    <a:pt x="3991" y="2285"/>
                  </a:lnTo>
                  <a:lnTo>
                    <a:pt x="3996" y="2285"/>
                  </a:lnTo>
                  <a:lnTo>
                    <a:pt x="4001" y="2285"/>
                  </a:lnTo>
                  <a:lnTo>
                    <a:pt x="4017" y="2301"/>
                  </a:lnTo>
                  <a:lnTo>
                    <a:pt x="4022" y="2290"/>
                  </a:lnTo>
                  <a:lnTo>
                    <a:pt x="4028" y="2301"/>
                  </a:lnTo>
                  <a:lnTo>
                    <a:pt x="4033" y="2306"/>
                  </a:lnTo>
                  <a:lnTo>
                    <a:pt x="4038" y="2376"/>
                  </a:lnTo>
                  <a:lnTo>
                    <a:pt x="4054" y="2371"/>
                  </a:lnTo>
                  <a:lnTo>
                    <a:pt x="4059" y="2381"/>
                  </a:lnTo>
                  <a:lnTo>
                    <a:pt x="4064" y="2366"/>
                  </a:lnTo>
                  <a:lnTo>
                    <a:pt x="4069" y="2371"/>
                  </a:lnTo>
                  <a:lnTo>
                    <a:pt x="4075" y="2361"/>
                  </a:lnTo>
                  <a:lnTo>
                    <a:pt x="4090" y="2361"/>
                  </a:lnTo>
                  <a:lnTo>
                    <a:pt x="4096" y="2366"/>
                  </a:lnTo>
                  <a:lnTo>
                    <a:pt x="4101" y="2361"/>
                  </a:lnTo>
                  <a:lnTo>
                    <a:pt x="4106" y="2401"/>
                  </a:lnTo>
                  <a:lnTo>
                    <a:pt x="4111" y="2411"/>
                  </a:lnTo>
                  <a:lnTo>
                    <a:pt x="4127" y="2446"/>
                  </a:lnTo>
                  <a:lnTo>
                    <a:pt x="4132" y="2416"/>
                  </a:lnTo>
                  <a:lnTo>
                    <a:pt x="4138" y="2431"/>
                  </a:lnTo>
                  <a:lnTo>
                    <a:pt x="4143" y="2436"/>
                  </a:lnTo>
                  <a:lnTo>
                    <a:pt x="4148" y="2436"/>
                  </a:lnTo>
                  <a:lnTo>
                    <a:pt x="4164" y="2411"/>
                  </a:lnTo>
                  <a:lnTo>
                    <a:pt x="4169" y="2361"/>
                  </a:lnTo>
                  <a:lnTo>
                    <a:pt x="4174" y="2341"/>
                  </a:lnTo>
                  <a:lnTo>
                    <a:pt x="4179" y="2346"/>
                  </a:lnTo>
                  <a:lnTo>
                    <a:pt x="4185" y="2381"/>
                  </a:lnTo>
                  <a:lnTo>
                    <a:pt x="4200" y="2381"/>
                  </a:lnTo>
                  <a:lnTo>
                    <a:pt x="4206" y="2366"/>
                  </a:lnTo>
                  <a:lnTo>
                    <a:pt x="4211" y="2391"/>
                  </a:lnTo>
                  <a:lnTo>
                    <a:pt x="4216" y="2386"/>
                  </a:lnTo>
                  <a:lnTo>
                    <a:pt x="4221" y="2386"/>
                  </a:lnTo>
                  <a:lnTo>
                    <a:pt x="4237" y="2371"/>
                  </a:lnTo>
                  <a:lnTo>
                    <a:pt x="4242" y="2361"/>
                  </a:lnTo>
                  <a:lnTo>
                    <a:pt x="4248" y="2361"/>
                  </a:lnTo>
                  <a:lnTo>
                    <a:pt x="4253" y="2361"/>
                  </a:lnTo>
                  <a:lnTo>
                    <a:pt x="4258" y="2341"/>
                  </a:lnTo>
                  <a:lnTo>
                    <a:pt x="4274" y="2341"/>
                  </a:lnTo>
                  <a:lnTo>
                    <a:pt x="4279" y="2356"/>
                  </a:lnTo>
                  <a:lnTo>
                    <a:pt x="4284" y="2371"/>
                  </a:lnTo>
                  <a:lnTo>
                    <a:pt x="4289" y="2381"/>
                  </a:lnTo>
                  <a:lnTo>
                    <a:pt x="4295" y="2396"/>
                  </a:lnTo>
                  <a:lnTo>
                    <a:pt x="4310" y="2391"/>
                  </a:lnTo>
                  <a:lnTo>
                    <a:pt x="4316" y="2391"/>
                  </a:lnTo>
                  <a:lnTo>
                    <a:pt x="4321" y="2366"/>
                  </a:lnTo>
                  <a:lnTo>
                    <a:pt x="4326" y="2366"/>
                  </a:lnTo>
                  <a:lnTo>
                    <a:pt x="4331" y="2356"/>
                  </a:lnTo>
                  <a:lnTo>
                    <a:pt x="4347" y="2356"/>
                  </a:lnTo>
                  <a:lnTo>
                    <a:pt x="4352" y="2346"/>
                  </a:lnTo>
                  <a:lnTo>
                    <a:pt x="4358" y="2366"/>
                  </a:lnTo>
                  <a:lnTo>
                    <a:pt x="4363" y="2376"/>
                  </a:lnTo>
                  <a:lnTo>
                    <a:pt x="4368" y="2376"/>
                  </a:lnTo>
                  <a:lnTo>
                    <a:pt x="4384" y="2366"/>
                  </a:lnTo>
                  <a:lnTo>
                    <a:pt x="4389" y="2396"/>
                  </a:lnTo>
                  <a:lnTo>
                    <a:pt x="4394" y="2431"/>
                  </a:lnTo>
                  <a:lnTo>
                    <a:pt x="4399" y="2436"/>
                  </a:lnTo>
                  <a:lnTo>
                    <a:pt x="4405" y="2431"/>
                  </a:lnTo>
                  <a:lnTo>
                    <a:pt x="4420" y="2421"/>
                  </a:lnTo>
                  <a:lnTo>
                    <a:pt x="4426" y="2441"/>
                  </a:lnTo>
                  <a:lnTo>
                    <a:pt x="4431" y="2451"/>
                  </a:lnTo>
                  <a:lnTo>
                    <a:pt x="4436" y="2461"/>
                  </a:lnTo>
                  <a:lnTo>
                    <a:pt x="4441" y="2466"/>
                  </a:lnTo>
                  <a:lnTo>
                    <a:pt x="4457" y="2491"/>
                  </a:lnTo>
                  <a:lnTo>
                    <a:pt x="4462" y="2486"/>
                  </a:lnTo>
                  <a:lnTo>
                    <a:pt x="4468" y="2486"/>
                  </a:lnTo>
                  <a:lnTo>
                    <a:pt x="4473" y="2486"/>
                  </a:lnTo>
                  <a:lnTo>
                    <a:pt x="4478" y="2476"/>
                  </a:lnTo>
                  <a:lnTo>
                    <a:pt x="4494" y="2476"/>
                  </a:lnTo>
                  <a:lnTo>
                    <a:pt x="4499" y="2471"/>
                  </a:lnTo>
                  <a:lnTo>
                    <a:pt x="4504" y="2486"/>
                  </a:lnTo>
                  <a:lnTo>
                    <a:pt x="4509" y="2471"/>
                  </a:lnTo>
                  <a:lnTo>
                    <a:pt x="4515" y="2431"/>
                  </a:lnTo>
                  <a:lnTo>
                    <a:pt x="4530" y="2366"/>
                  </a:lnTo>
                  <a:lnTo>
                    <a:pt x="4536" y="2391"/>
                  </a:lnTo>
                  <a:lnTo>
                    <a:pt x="4541" y="2346"/>
                  </a:lnTo>
                  <a:lnTo>
                    <a:pt x="4546" y="2331"/>
                  </a:lnTo>
                  <a:lnTo>
                    <a:pt x="4551" y="2311"/>
                  </a:lnTo>
                  <a:lnTo>
                    <a:pt x="4567" y="2250"/>
                  </a:lnTo>
                  <a:lnTo>
                    <a:pt x="4572" y="2275"/>
                  </a:lnTo>
                  <a:lnTo>
                    <a:pt x="4578" y="2220"/>
                  </a:lnTo>
                  <a:lnTo>
                    <a:pt x="4583" y="2290"/>
                  </a:lnTo>
                  <a:lnTo>
                    <a:pt x="4588" y="2296"/>
                  </a:lnTo>
                  <a:lnTo>
                    <a:pt x="4604" y="2296"/>
                  </a:lnTo>
                  <a:lnTo>
                    <a:pt x="4609" y="2270"/>
                  </a:lnTo>
                  <a:lnTo>
                    <a:pt x="4614" y="2285"/>
                  </a:lnTo>
                  <a:lnTo>
                    <a:pt x="4619" y="2316"/>
                  </a:lnTo>
                  <a:lnTo>
                    <a:pt x="4625" y="2270"/>
                  </a:lnTo>
                  <a:lnTo>
                    <a:pt x="4640" y="2301"/>
                  </a:lnTo>
                  <a:lnTo>
                    <a:pt x="4646" y="2275"/>
                  </a:lnTo>
                  <a:lnTo>
                    <a:pt x="4651" y="2290"/>
                  </a:lnTo>
                  <a:lnTo>
                    <a:pt x="4656" y="2255"/>
                  </a:lnTo>
                  <a:lnTo>
                    <a:pt x="4661" y="2270"/>
                  </a:lnTo>
                  <a:lnTo>
                    <a:pt x="4677" y="2255"/>
                  </a:lnTo>
                  <a:lnTo>
                    <a:pt x="4682" y="2210"/>
                  </a:lnTo>
                  <a:lnTo>
                    <a:pt x="4687" y="2245"/>
                  </a:lnTo>
                  <a:lnTo>
                    <a:pt x="4693" y="2290"/>
                  </a:lnTo>
                  <a:lnTo>
                    <a:pt x="4698" y="2280"/>
                  </a:lnTo>
                  <a:lnTo>
                    <a:pt x="4714" y="2285"/>
                  </a:lnTo>
                  <a:lnTo>
                    <a:pt x="4719" y="2285"/>
                  </a:lnTo>
                  <a:lnTo>
                    <a:pt x="4724" y="2270"/>
                  </a:lnTo>
                  <a:lnTo>
                    <a:pt x="4729" y="2260"/>
                  </a:lnTo>
                  <a:lnTo>
                    <a:pt x="4735" y="2255"/>
                  </a:lnTo>
                  <a:lnTo>
                    <a:pt x="4750" y="2240"/>
                  </a:lnTo>
                  <a:lnTo>
                    <a:pt x="4756" y="2205"/>
                  </a:lnTo>
                  <a:lnTo>
                    <a:pt x="4761" y="2245"/>
                  </a:lnTo>
                  <a:lnTo>
                    <a:pt x="4766" y="2260"/>
                  </a:lnTo>
                  <a:lnTo>
                    <a:pt x="4771" y="2280"/>
                  </a:lnTo>
                  <a:lnTo>
                    <a:pt x="4787" y="2316"/>
                  </a:lnTo>
                </a:path>
              </a:pathLst>
            </a:custGeom>
            <a:noFill/>
            <a:ln w="270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36720" y="4334040"/>
              <a:ext cx="7296120" cy="811080"/>
            </a:xfrm>
            <a:custGeom>
              <a:avLst/>
              <a:gdLst/>
              <a:ahLst/>
              <a:rect l="l" t="t" r="r" b="b"/>
              <a:pathLst>
                <a:path w="4787" h="746">
                  <a:moveTo>
                    <a:pt x="0" y="496"/>
                  </a:moveTo>
                  <a:lnTo>
                    <a:pt x="5" y="526"/>
                  </a:lnTo>
                  <a:lnTo>
                    <a:pt x="21" y="526"/>
                  </a:lnTo>
                  <a:lnTo>
                    <a:pt x="26" y="521"/>
                  </a:lnTo>
                  <a:lnTo>
                    <a:pt x="31" y="521"/>
                  </a:lnTo>
                  <a:lnTo>
                    <a:pt x="37" y="511"/>
                  </a:lnTo>
                  <a:lnTo>
                    <a:pt x="42" y="481"/>
                  </a:lnTo>
                  <a:lnTo>
                    <a:pt x="58" y="486"/>
                  </a:lnTo>
                  <a:lnTo>
                    <a:pt x="63" y="496"/>
                  </a:lnTo>
                  <a:lnTo>
                    <a:pt x="68" y="466"/>
                  </a:lnTo>
                  <a:lnTo>
                    <a:pt x="73" y="456"/>
                  </a:lnTo>
                  <a:lnTo>
                    <a:pt x="79" y="451"/>
                  </a:lnTo>
                  <a:lnTo>
                    <a:pt x="94" y="451"/>
                  </a:lnTo>
                  <a:lnTo>
                    <a:pt x="100" y="436"/>
                  </a:lnTo>
                  <a:lnTo>
                    <a:pt x="105" y="416"/>
                  </a:lnTo>
                  <a:lnTo>
                    <a:pt x="110" y="411"/>
                  </a:lnTo>
                  <a:lnTo>
                    <a:pt x="115" y="436"/>
                  </a:lnTo>
                  <a:lnTo>
                    <a:pt x="131" y="431"/>
                  </a:lnTo>
                  <a:lnTo>
                    <a:pt x="136" y="421"/>
                  </a:lnTo>
                  <a:lnTo>
                    <a:pt x="141" y="441"/>
                  </a:lnTo>
                  <a:lnTo>
                    <a:pt x="147" y="406"/>
                  </a:lnTo>
                  <a:lnTo>
                    <a:pt x="152" y="390"/>
                  </a:lnTo>
                  <a:lnTo>
                    <a:pt x="168" y="370"/>
                  </a:lnTo>
                  <a:lnTo>
                    <a:pt x="173" y="360"/>
                  </a:lnTo>
                  <a:lnTo>
                    <a:pt x="178" y="380"/>
                  </a:lnTo>
                  <a:lnTo>
                    <a:pt x="183" y="355"/>
                  </a:lnTo>
                  <a:lnTo>
                    <a:pt x="189" y="345"/>
                  </a:lnTo>
                  <a:lnTo>
                    <a:pt x="204" y="345"/>
                  </a:lnTo>
                  <a:lnTo>
                    <a:pt x="209" y="370"/>
                  </a:lnTo>
                  <a:lnTo>
                    <a:pt x="215" y="355"/>
                  </a:lnTo>
                  <a:lnTo>
                    <a:pt x="220" y="375"/>
                  </a:lnTo>
                  <a:lnTo>
                    <a:pt x="225" y="355"/>
                  </a:lnTo>
                  <a:lnTo>
                    <a:pt x="241" y="355"/>
                  </a:lnTo>
                  <a:lnTo>
                    <a:pt x="246" y="335"/>
                  </a:lnTo>
                  <a:lnTo>
                    <a:pt x="251" y="345"/>
                  </a:lnTo>
                  <a:lnTo>
                    <a:pt x="257" y="335"/>
                  </a:lnTo>
                  <a:lnTo>
                    <a:pt x="262" y="340"/>
                  </a:lnTo>
                  <a:lnTo>
                    <a:pt x="278" y="355"/>
                  </a:lnTo>
                  <a:lnTo>
                    <a:pt x="283" y="345"/>
                  </a:lnTo>
                  <a:lnTo>
                    <a:pt x="288" y="340"/>
                  </a:lnTo>
                  <a:lnTo>
                    <a:pt x="293" y="340"/>
                  </a:lnTo>
                  <a:lnTo>
                    <a:pt x="299" y="335"/>
                  </a:lnTo>
                  <a:lnTo>
                    <a:pt x="314" y="340"/>
                  </a:lnTo>
                  <a:lnTo>
                    <a:pt x="319" y="350"/>
                  </a:lnTo>
                  <a:lnTo>
                    <a:pt x="325" y="360"/>
                  </a:lnTo>
                  <a:lnTo>
                    <a:pt x="330" y="375"/>
                  </a:lnTo>
                  <a:lnTo>
                    <a:pt x="335" y="360"/>
                  </a:lnTo>
                  <a:lnTo>
                    <a:pt x="351" y="345"/>
                  </a:lnTo>
                  <a:lnTo>
                    <a:pt x="356" y="320"/>
                  </a:lnTo>
                  <a:lnTo>
                    <a:pt x="361" y="320"/>
                  </a:lnTo>
                  <a:lnTo>
                    <a:pt x="367" y="300"/>
                  </a:lnTo>
                  <a:lnTo>
                    <a:pt x="372" y="295"/>
                  </a:lnTo>
                  <a:lnTo>
                    <a:pt x="388" y="310"/>
                  </a:lnTo>
                  <a:lnTo>
                    <a:pt x="393" y="295"/>
                  </a:lnTo>
                  <a:lnTo>
                    <a:pt x="398" y="305"/>
                  </a:lnTo>
                  <a:lnTo>
                    <a:pt x="403" y="325"/>
                  </a:lnTo>
                  <a:lnTo>
                    <a:pt x="409" y="330"/>
                  </a:lnTo>
                  <a:lnTo>
                    <a:pt x="424" y="305"/>
                  </a:lnTo>
                  <a:lnTo>
                    <a:pt x="429" y="305"/>
                  </a:lnTo>
                  <a:lnTo>
                    <a:pt x="435" y="305"/>
                  </a:lnTo>
                  <a:lnTo>
                    <a:pt x="440" y="305"/>
                  </a:lnTo>
                  <a:lnTo>
                    <a:pt x="445" y="330"/>
                  </a:lnTo>
                  <a:lnTo>
                    <a:pt x="461" y="350"/>
                  </a:lnTo>
                  <a:lnTo>
                    <a:pt x="466" y="370"/>
                  </a:lnTo>
                  <a:lnTo>
                    <a:pt x="471" y="375"/>
                  </a:lnTo>
                  <a:lnTo>
                    <a:pt x="477" y="400"/>
                  </a:lnTo>
                  <a:lnTo>
                    <a:pt x="482" y="416"/>
                  </a:lnTo>
                  <a:lnTo>
                    <a:pt x="498" y="421"/>
                  </a:lnTo>
                  <a:lnTo>
                    <a:pt x="503" y="416"/>
                  </a:lnTo>
                  <a:lnTo>
                    <a:pt x="508" y="416"/>
                  </a:lnTo>
                  <a:lnTo>
                    <a:pt x="513" y="421"/>
                  </a:lnTo>
                  <a:lnTo>
                    <a:pt x="519" y="421"/>
                  </a:lnTo>
                  <a:lnTo>
                    <a:pt x="534" y="431"/>
                  </a:lnTo>
                  <a:lnTo>
                    <a:pt x="539" y="481"/>
                  </a:lnTo>
                  <a:lnTo>
                    <a:pt x="545" y="491"/>
                  </a:lnTo>
                  <a:lnTo>
                    <a:pt x="550" y="461"/>
                  </a:lnTo>
                  <a:lnTo>
                    <a:pt x="555" y="446"/>
                  </a:lnTo>
                  <a:lnTo>
                    <a:pt x="571" y="471"/>
                  </a:lnTo>
                  <a:lnTo>
                    <a:pt x="576" y="471"/>
                  </a:lnTo>
                  <a:lnTo>
                    <a:pt x="581" y="456"/>
                  </a:lnTo>
                  <a:lnTo>
                    <a:pt x="587" y="466"/>
                  </a:lnTo>
                  <a:lnTo>
                    <a:pt x="592" y="491"/>
                  </a:lnTo>
                  <a:lnTo>
                    <a:pt x="608" y="486"/>
                  </a:lnTo>
                  <a:lnTo>
                    <a:pt x="613" y="466"/>
                  </a:lnTo>
                  <a:lnTo>
                    <a:pt x="618" y="441"/>
                  </a:lnTo>
                  <a:lnTo>
                    <a:pt x="623" y="431"/>
                  </a:lnTo>
                  <a:lnTo>
                    <a:pt x="628" y="180"/>
                  </a:lnTo>
                  <a:lnTo>
                    <a:pt x="644" y="175"/>
                  </a:lnTo>
                  <a:lnTo>
                    <a:pt x="649" y="155"/>
                  </a:lnTo>
                  <a:lnTo>
                    <a:pt x="655" y="150"/>
                  </a:lnTo>
                  <a:lnTo>
                    <a:pt x="660" y="95"/>
                  </a:lnTo>
                  <a:lnTo>
                    <a:pt x="665" y="65"/>
                  </a:lnTo>
                  <a:lnTo>
                    <a:pt x="681" y="35"/>
                  </a:lnTo>
                  <a:lnTo>
                    <a:pt x="686" y="80"/>
                  </a:lnTo>
                  <a:lnTo>
                    <a:pt x="691" y="75"/>
                  </a:lnTo>
                  <a:lnTo>
                    <a:pt x="697" y="70"/>
                  </a:lnTo>
                  <a:lnTo>
                    <a:pt x="702" y="50"/>
                  </a:lnTo>
                  <a:lnTo>
                    <a:pt x="718" y="40"/>
                  </a:lnTo>
                  <a:lnTo>
                    <a:pt x="723" y="110"/>
                  </a:lnTo>
                  <a:lnTo>
                    <a:pt x="728" y="130"/>
                  </a:lnTo>
                  <a:lnTo>
                    <a:pt x="733" y="80"/>
                  </a:lnTo>
                  <a:lnTo>
                    <a:pt x="738" y="90"/>
                  </a:lnTo>
                  <a:lnTo>
                    <a:pt x="754" y="85"/>
                  </a:lnTo>
                  <a:lnTo>
                    <a:pt x="759" y="105"/>
                  </a:lnTo>
                  <a:lnTo>
                    <a:pt x="765" y="100"/>
                  </a:lnTo>
                  <a:lnTo>
                    <a:pt x="770" y="90"/>
                  </a:lnTo>
                  <a:lnTo>
                    <a:pt x="775" y="55"/>
                  </a:lnTo>
                  <a:lnTo>
                    <a:pt x="791" y="55"/>
                  </a:lnTo>
                  <a:lnTo>
                    <a:pt x="796" y="70"/>
                  </a:lnTo>
                  <a:lnTo>
                    <a:pt x="801" y="75"/>
                  </a:lnTo>
                  <a:lnTo>
                    <a:pt x="807" y="80"/>
                  </a:lnTo>
                  <a:lnTo>
                    <a:pt x="812" y="110"/>
                  </a:lnTo>
                  <a:lnTo>
                    <a:pt x="828" y="135"/>
                  </a:lnTo>
                  <a:lnTo>
                    <a:pt x="833" y="130"/>
                  </a:lnTo>
                  <a:lnTo>
                    <a:pt x="838" y="155"/>
                  </a:lnTo>
                  <a:lnTo>
                    <a:pt x="843" y="130"/>
                  </a:lnTo>
                  <a:lnTo>
                    <a:pt x="848" y="130"/>
                  </a:lnTo>
                  <a:lnTo>
                    <a:pt x="864" y="135"/>
                  </a:lnTo>
                  <a:lnTo>
                    <a:pt x="869" y="90"/>
                  </a:lnTo>
                  <a:lnTo>
                    <a:pt x="875" y="100"/>
                  </a:lnTo>
                  <a:lnTo>
                    <a:pt x="880" y="85"/>
                  </a:lnTo>
                  <a:lnTo>
                    <a:pt x="885" y="85"/>
                  </a:lnTo>
                  <a:lnTo>
                    <a:pt x="901" y="95"/>
                  </a:lnTo>
                  <a:lnTo>
                    <a:pt x="906" y="95"/>
                  </a:lnTo>
                  <a:lnTo>
                    <a:pt x="911" y="105"/>
                  </a:lnTo>
                  <a:lnTo>
                    <a:pt x="917" y="110"/>
                  </a:lnTo>
                  <a:lnTo>
                    <a:pt x="922" y="100"/>
                  </a:lnTo>
                  <a:lnTo>
                    <a:pt x="937" y="125"/>
                  </a:lnTo>
                  <a:lnTo>
                    <a:pt x="943" y="100"/>
                  </a:lnTo>
                  <a:lnTo>
                    <a:pt x="948" y="100"/>
                  </a:lnTo>
                  <a:lnTo>
                    <a:pt x="953" y="95"/>
                  </a:lnTo>
                  <a:lnTo>
                    <a:pt x="958" y="105"/>
                  </a:lnTo>
                  <a:lnTo>
                    <a:pt x="974" y="105"/>
                  </a:lnTo>
                  <a:lnTo>
                    <a:pt x="979" y="115"/>
                  </a:lnTo>
                  <a:lnTo>
                    <a:pt x="985" y="105"/>
                  </a:lnTo>
                  <a:lnTo>
                    <a:pt x="990" y="95"/>
                  </a:lnTo>
                  <a:lnTo>
                    <a:pt x="995" y="85"/>
                  </a:lnTo>
                  <a:lnTo>
                    <a:pt x="1011" y="95"/>
                  </a:lnTo>
                  <a:lnTo>
                    <a:pt x="1016" y="115"/>
                  </a:lnTo>
                  <a:lnTo>
                    <a:pt x="1021" y="125"/>
                  </a:lnTo>
                  <a:lnTo>
                    <a:pt x="1027" y="125"/>
                  </a:lnTo>
                  <a:lnTo>
                    <a:pt x="1032" y="140"/>
                  </a:lnTo>
                  <a:lnTo>
                    <a:pt x="1047" y="165"/>
                  </a:lnTo>
                  <a:lnTo>
                    <a:pt x="1053" y="175"/>
                  </a:lnTo>
                  <a:lnTo>
                    <a:pt x="1058" y="160"/>
                  </a:lnTo>
                  <a:lnTo>
                    <a:pt x="1063" y="150"/>
                  </a:lnTo>
                  <a:lnTo>
                    <a:pt x="1068" y="160"/>
                  </a:lnTo>
                  <a:lnTo>
                    <a:pt x="1084" y="175"/>
                  </a:lnTo>
                  <a:lnTo>
                    <a:pt x="1089" y="175"/>
                  </a:lnTo>
                  <a:lnTo>
                    <a:pt x="1095" y="185"/>
                  </a:lnTo>
                  <a:lnTo>
                    <a:pt x="1100" y="185"/>
                  </a:lnTo>
                  <a:lnTo>
                    <a:pt x="1105" y="160"/>
                  </a:lnTo>
                  <a:lnTo>
                    <a:pt x="1121" y="155"/>
                  </a:lnTo>
                  <a:lnTo>
                    <a:pt x="1126" y="155"/>
                  </a:lnTo>
                  <a:lnTo>
                    <a:pt x="1131" y="160"/>
                  </a:lnTo>
                  <a:lnTo>
                    <a:pt x="1137" y="165"/>
                  </a:lnTo>
                  <a:lnTo>
                    <a:pt x="1142" y="135"/>
                  </a:lnTo>
                  <a:lnTo>
                    <a:pt x="1157" y="145"/>
                  </a:lnTo>
                  <a:lnTo>
                    <a:pt x="1163" y="150"/>
                  </a:lnTo>
                  <a:lnTo>
                    <a:pt x="1168" y="160"/>
                  </a:lnTo>
                  <a:lnTo>
                    <a:pt x="1173" y="155"/>
                  </a:lnTo>
                  <a:lnTo>
                    <a:pt x="1178" y="150"/>
                  </a:lnTo>
                  <a:lnTo>
                    <a:pt x="1194" y="170"/>
                  </a:lnTo>
                  <a:lnTo>
                    <a:pt x="1199" y="155"/>
                  </a:lnTo>
                  <a:lnTo>
                    <a:pt x="1205" y="170"/>
                  </a:lnTo>
                  <a:lnTo>
                    <a:pt x="1210" y="155"/>
                  </a:lnTo>
                  <a:lnTo>
                    <a:pt x="1215" y="165"/>
                  </a:lnTo>
                  <a:lnTo>
                    <a:pt x="1231" y="180"/>
                  </a:lnTo>
                  <a:lnTo>
                    <a:pt x="1236" y="170"/>
                  </a:lnTo>
                  <a:lnTo>
                    <a:pt x="1241" y="165"/>
                  </a:lnTo>
                  <a:lnTo>
                    <a:pt x="1247" y="165"/>
                  </a:lnTo>
                  <a:lnTo>
                    <a:pt x="1252" y="165"/>
                  </a:lnTo>
                  <a:lnTo>
                    <a:pt x="1267" y="165"/>
                  </a:lnTo>
                  <a:lnTo>
                    <a:pt x="1273" y="175"/>
                  </a:lnTo>
                  <a:lnTo>
                    <a:pt x="1278" y="165"/>
                  </a:lnTo>
                  <a:lnTo>
                    <a:pt x="1283" y="160"/>
                  </a:lnTo>
                  <a:lnTo>
                    <a:pt x="1288" y="170"/>
                  </a:lnTo>
                  <a:lnTo>
                    <a:pt x="1304" y="170"/>
                  </a:lnTo>
                  <a:lnTo>
                    <a:pt x="1309" y="160"/>
                  </a:lnTo>
                  <a:lnTo>
                    <a:pt x="1315" y="155"/>
                  </a:lnTo>
                  <a:lnTo>
                    <a:pt x="1320" y="190"/>
                  </a:lnTo>
                  <a:lnTo>
                    <a:pt x="1325" y="175"/>
                  </a:lnTo>
                  <a:lnTo>
                    <a:pt x="1341" y="170"/>
                  </a:lnTo>
                  <a:lnTo>
                    <a:pt x="1346" y="165"/>
                  </a:lnTo>
                  <a:lnTo>
                    <a:pt x="1351" y="185"/>
                  </a:lnTo>
                  <a:lnTo>
                    <a:pt x="1356" y="160"/>
                  </a:lnTo>
                  <a:lnTo>
                    <a:pt x="1362" y="175"/>
                  </a:lnTo>
                  <a:lnTo>
                    <a:pt x="1377" y="150"/>
                  </a:lnTo>
                  <a:lnTo>
                    <a:pt x="1383" y="140"/>
                  </a:lnTo>
                  <a:lnTo>
                    <a:pt x="1388" y="140"/>
                  </a:lnTo>
                  <a:lnTo>
                    <a:pt x="1393" y="155"/>
                  </a:lnTo>
                  <a:lnTo>
                    <a:pt x="1398" y="145"/>
                  </a:lnTo>
                  <a:lnTo>
                    <a:pt x="1414" y="130"/>
                  </a:lnTo>
                  <a:lnTo>
                    <a:pt x="1419" y="130"/>
                  </a:lnTo>
                  <a:lnTo>
                    <a:pt x="1425" y="160"/>
                  </a:lnTo>
                  <a:lnTo>
                    <a:pt x="1430" y="115"/>
                  </a:lnTo>
                  <a:lnTo>
                    <a:pt x="1435" y="135"/>
                  </a:lnTo>
                  <a:lnTo>
                    <a:pt x="1451" y="155"/>
                  </a:lnTo>
                  <a:lnTo>
                    <a:pt x="1456" y="160"/>
                  </a:lnTo>
                  <a:lnTo>
                    <a:pt x="1461" y="165"/>
                  </a:lnTo>
                  <a:lnTo>
                    <a:pt x="1466" y="160"/>
                  </a:lnTo>
                  <a:lnTo>
                    <a:pt x="1472" y="145"/>
                  </a:lnTo>
                  <a:lnTo>
                    <a:pt x="1487" y="145"/>
                  </a:lnTo>
                  <a:lnTo>
                    <a:pt x="1493" y="130"/>
                  </a:lnTo>
                  <a:lnTo>
                    <a:pt x="1498" y="110"/>
                  </a:lnTo>
                  <a:lnTo>
                    <a:pt x="1503" y="90"/>
                  </a:lnTo>
                  <a:lnTo>
                    <a:pt x="1508" y="80"/>
                  </a:lnTo>
                  <a:lnTo>
                    <a:pt x="1524" y="70"/>
                  </a:lnTo>
                  <a:lnTo>
                    <a:pt x="1529" y="60"/>
                  </a:lnTo>
                  <a:lnTo>
                    <a:pt x="1535" y="40"/>
                  </a:lnTo>
                  <a:lnTo>
                    <a:pt x="1540" y="55"/>
                  </a:lnTo>
                  <a:lnTo>
                    <a:pt x="1545" y="50"/>
                  </a:lnTo>
                  <a:lnTo>
                    <a:pt x="1561" y="0"/>
                  </a:lnTo>
                  <a:lnTo>
                    <a:pt x="1566" y="25"/>
                  </a:lnTo>
                  <a:lnTo>
                    <a:pt x="1571" y="40"/>
                  </a:lnTo>
                  <a:lnTo>
                    <a:pt x="1576" y="35"/>
                  </a:lnTo>
                  <a:lnTo>
                    <a:pt x="1582" y="65"/>
                  </a:lnTo>
                  <a:lnTo>
                    <a:pt x="1597" y="85"/>
                  </a:lnTo>
                  <a:lnTo>
                    <a:pt x="1603" y="100"/>
                  </a:lnTo>
                  <a:lnTo>
                    <a:pt x="1608" y="110"/>
                  </a:lnTo>
                  <a:lnTo>
                    <a:pt x="1613" y="110"/>
                  </a:lnTo>
                  <a:lnTo>
                    <a:pt x="1618" y="135"/>
                  </a:lnTo>
                  <a:lnTo>
                    <a:pt x="1634" y="130"/>
                  </a:lnTo>
                  <a:lnTo>
                    <a:pt x="1639" y="120"/>
                  </a:lnTo>
                  <a:lnTo>
                    <a:pt x="1645" y="140"/>
                  </a:lnTo>
                  <a:lnTo>
                    <a:pt x="1650" y="140"/>
                  </a:lnTo>
                  <a:lnTo>
                    <a:pt x="1655" y="115"/>
                  </a:lnTo>
                  <a:lnTo>
                    <a:pt x="1671" y="135"/>
                  </a:lnTo>
                  <a:lnTo>
                    <a:pt x="1676" y="160"/>
                  </a:lnTo>
                  <a:lnTo>
                    <a:pt x="1681" y="145"/>
                  </a:lnTo>
                  <a:lnTo>
                    <a:pt x="1686" y="150"/>
                  </a:lnTo>
                  <a:lnTo>
                    <a:pt x="1692" y="155"/>
                  </a:lnTo>
                  <a:lnTo>
                    <a:pt x="1707" y="140"/>
                  </a:lnTo>
                  <a:lnTo>
                    <a:pt x="1713" y="150"/>
                  </a:lnTo>
                  <a:lnTo>
                    <a:pt x="1718" y="155"/>
                  </a:lnTo>
                  <a:lnTo>
                    <a:pt x="1723" y="155"/>
                  </a:lnTo>
                  <a:lnTo>
                    <a:pt x="1728" y="170"/>
                  </a:lnTo>
                  <a:lnTo>
                    <a:pt x="1744" y="160"/>
                  </a:lnTo>
                  <a:lnTo>
                    <a:pt x="1749" y="165"/>
                  </a:lnTo>
                  <a:lnTo>
                    <a:pt x="1755" y="170"/>
                  </a:lnTo>
                  <a:lnTo>
                    <a:pt x="1760" y="205"/>
                  </a:lnTo>
                  <a:lnTo>
                    <a:pt x="1765" y="180"/>
                  </a:lnTo>
                  <a:lnTo>
                    <a:pt x="1781" y="165"/>
                  </a:lnTo>
                  <a:lnTo>
                    <a:pt x="1786" y="185"/>
                  </a:lnTo>
                  <a:lnTo>
                    <a:pt x="1791" y="170"/>
                  </a:lnTo>
                  <a:lnTo>
                    <a:pt x="1796" y="170"/>
                  </a:lnTo>
                  <a:lnTo>
                    <a:pt x="1802" y="165"/>
                  </a:lnTo>
                  <a:lnTo>
                    <a:pt x="1817" y="160"/>
                  </a:lnTo>
                  <a:lnTo>
                    <a:pt x="1823" y="160"/>
                  </a:lnTo>
                  <a:lnTo>
                    <a:pt x="1828" y="170"/>
                  </a:lnTo>
                  <a:lnTo>
                    <a:pt x="1833" y="185"/>
                  </a:lnTo>
                  <a:lnTo>
                    <a:pt x="1838" y="185"/>
                  </a:lnTo>
                  <a:lnTo>
                    <a:pt x="1854" y="190"/>
                  </a:lnTo>
                  <a:lnTo>
                    <a:pt x="1859" y="180"/>
                  </a:lnTo>
                  <a:lnTo>
                    <a:pt x="1865" y="195"/>
                  </a:lnTo>
                  <a:lnTo>
                    <a:pt x="1870" y="200"/>
                  </a:lnTo>
                  <a:lnTo>
                    <a:pt x="1875" y="200"/>
                  </a:lnTo>
                  <a:lnTo>
                    <a:pt x="1891" y="220"/>
                  </a:lnTo>
                  <a:lnTo>
                    <a:pt x="1896" y="210"/>
                  </a:lnTo>
                  <a:lnTo>
                    <a:pt x="1901" y="210"/>
                  </a:lnTo>
                  <a:lnTo>
                    <a:pt x="1906" y="205"/>
                  </a:lnTo>
                  <a:lnTo>
                    <a:pt x="1912" y="215"/>
                  </a:lnTo>
                  <a:lnTo>
                    <a:pt x="1927" y="215"/>
                  </a:lnTo>
                  <a:lnTo>
                    <a:pt x="1933" y="240"/>
                  </a:lnTo>
                  <a:lnTo>
                    <a:pt x="1938" y="245"/>
                  </a:lnTo>
                  <a:lnTo>
                    <a:pt x="1943" y="230"/>
                  </a:lnTo>
                  <a:lnTo>
                    <a:pt x="1948" y="240"/>
                  </a:lnTo>
                  <a:lnTo>
                    <a:pt x="1964" y="245"/>
                  </a:lnTo>
                  <a:lnTo>
                    <a:pt x="1969" y="245"/>
                  </a:lnTo>
                  <a:lnTo>
                    <a:pt x="1975" y="245"/>
                  </a:lnTo>
                  <a:lnTo>
                    <a:pt x="1980" y="240"/>
                  </a:lnTo>
                  <a:lnTo>
                    <a:pt x="1985" y="240"/>
                  </a:lnTo>
                  <a:lnTo>
                    <a:pt x="2001" y="240"/>
                  </a:lnTo>
                  <a:lnTo>
                    <a:pt x="2006" y="235"/>
                  </a:lnTo>
                  <a:lnTo>
                    <a:pt x="2011" y="245"/>
                  </a:lnTo>
                  <a:lnTo>
                    <a:pt x="2016" y="230"/>
                  </a:lnTo>
                  <a:lnTo>
                    <a:pt x="2022" y="215"/>
                  </a:lnTo>
                  <a:lnTo>
                    <a:pt x="2037" y="225"/>
                  </a:lnTo>
                  <a:lnTo>
                    <a:pt x="2043" y="260"/>
                  </a:lnTo>
                  <a:lnTo>
                    <a:pt x="2048" y="275"/>
                  </a:lnTo>
                  <a:lnTo>
                    <a:pt x="2053" y="290"/>
                  </a:lnTo>
                  <a:lnTo>
                    <a:pt x="2058" y="275"/>
                  </a:lnTo>
                  <a:lnTo>
                    <a:pt x="2074" y="260"/>
                  </a:lnTo>
                  <a:lnTo>
                    <a:pt x="2079" y="265"/>
                  </a:lnTo>
                  <a:lnTo>
                    <a:pt x="2084" y="285"/>
                  </a:lnTo>
                  <a:lnTo>
                    <a:pt x="2090" y="295"/>
                  </a:lnTo>
                  <a:lnTo>
                    <a:pt x="2095" y="320"/>
                  </a:lnTo>
                  <a:lnTo>
                    <a:pt x="2111" y="310"/>
                  </a:lnTo>
                  <a:lnTo>
                    <a:pt x="2116" y="310"/>
                  </a:lnTo>
                  <a:lnTo>
                    <a:pt x="2121" y="295"/>
                  </a:lnTo>
                  <a:lnTo>
                    <a:pt x="2126" y="310"/>
                  </a:lnTo>
                  <a:lnTo>
                    <a:pt x="2132" y="320"/>
                  </a:lnTo>
                  <a:lnTo>
                    <a:pt x="2147" y="310"/>
                  </a:lnTo>
                  <a:lnTo>
                    <a:pt x="2153" y="310"/>
                  </a:lnTo>
                  <a:lnTo>
                    <a:pt x="2158" y="305"/>
                  </a:lnTo>
                  <a:lnTo>
                    <a:pt x="2163" y="335"/>
                  </a:lnTo>
                  <a:lnTo>
                    <a:pt x="2168" y="340"/>
                  </a:lnTo>
                  <a:lnTo>
                    <a:pt x="2184" y="340"/>
                  </a:lnTo>
                  <a:lnTo>
                    <a:pt x="2189" y="335"/>
                  </a:lnTo>
                  <a:lnTo>
                    <a:pt x="2194" y="330"/>
                  </a:lnTo>
                  <a:lnTo>
                    <a:pt x="2200" y="340"/>
                  </a:lnTo>
                  <a:lnTo>
                    <a:pt x="2205" y="340"/>
                  </a:lnTo>
                  <a:lnTo>
                    <a:pt x="2221" y="240"/>
                  </a:lnTo>
                  <a:lnTo>
                    <a:pt x="2226" y="250"/>
                  </a:lnTo>
                  <a:lnTo>
                    <a:pt x="2231" y="255"/>
                  </a:lnTo>
                  <a:lnTo>
                    <a:pt x="2236" y="270"/>
                  </a:lnTo>
                  <a:lnTo>
                    <a:pt x="2242" y="255"/>
                  </a:lnTo>
                  <a:lnTo>
                    <a:pt x="2257" y="275"/>
                  </a:lnTo>
                  <a:lnTo>
                    <a:pt x="2263" y="305"/>
                  </a:lnTo>
                  <a:lnTo>
                    <a:pt x="2268" y="320"/>
                  </a:lnTo>
                  <a:lnTo>
                    <a:pt x="2273" y="300"/>
                  </a:lnTo>
                  <a:lnTo>
                    <a:pt x="2278" y="320"/>
                  </a:lnTo>
                  <a:lnTo>
                    <a:pt x="2294" y="275"/>
                  </a:lnTo>
                  <a:lnTo>
                    <a:pt x="2299" y="240"/>
                  </a:lnTo>
                  <a:lnTo>
                    <a:pt x="2304" y="220"/>
                  </a:lnTo>
                  <a:lnTo>
                    <a:pt x="2310" y="215"/>
                  </a:lnTo>
                  <a:lnTo>
                    <a:pt x="2315" y="215"/>
                  </a:lnTo>
                  <a:lnTo>
                    <a:pt x="2331" y="200"/>
                  </a:lnTo>
                  <a:lnTo>
                    <a:pt x="2336" y="185"/>
                  </a:lnTo>
                  <a:lnTo>
                    <a:pt x="2341" y="135"/>
                  </a:lnTo>
                  <a:lnTo>
                    <a:pt x="2346" y="105"/>
                  </a:lnTo>
                  <a:lnTo>
                    <a:pt x="2352" y="105"/>
                  </a:lnTo>
                  <a:lnTo>
                    <a:pt x="2367" y="115"/>
                  </a:lnTo>
                  <a:lnTo>
                    <a:pt x="2373" y="140"/>
                  </a:lnTo>
                  <a:lnTo>
                    <a:pt x="2378" y="170"/>
                  </a:lnTo>
                  <a:lnTo>
                    <a:pt x="2383" y="170"/>
                  </a:lnTo>
                  <a:lnTo>
                    <a:pt x="2388" y="160"/>
                  </a:lnTo>
                  <a:lnTo>
                    <a:pt x="2404" y="135"/>
                  </a:lnTo>
                  <a:lnTo>
                    <a:pt x="2409" y="145"/>
                  </a:lnTo>
                  <a:lnTo>
                    <a:pt x="2414" y="165"/>
                  </a:lnTo>
                  <a:lnTo>
                    <a:pt x="2420" y="170"/>
                  </a:lnTo>
                  <a:lnTo>
                    <a:pt x="2425" y="170"/>
                  </a:lnTo>
                  <a:lnTo>
                    <a:pt x="2441" y="155"/>
                  </a:lnTo>
                  <a:lnTo>
                    <a:pt x="2446" y="155"/>
                  </a:lnTo>
                  <a:lnTo>
                    <a:pt x="2451" y="145"/>
                  </a:lnTo>
                  <a:lnTo>
                    <a:pt x="2456" y="110"/>
                  </a:lnTo>
                  <a:lnTo>
                    <a:pt x="2462" y="50"/>
                  </a:lnTo>
                  <a:lnTo>
                    <a:pt x="2477" y="45"/>
                  </a:lnTo>
                  <a:lnTo>
                    <a:pt x="2483" y="65"/>
                  </a:lnTo>
                  <a:lnTo>
                    <a:pt x="2488" y="85"/>
                  </a:lnTo>
                  <a:lnTo>
                    <a:pt x="2493" y="130"/>
                  </a:lnTo>
                  <a:lnTo>
                    <a:pt x="2498" y="115"/>
                  </a:lnTo>
                  <a:lnTo>
                    <a:pt x="2514" y="110"/>
                  </a:lnTo>
                  <a:lnTo>
                    <a:pt x="2519" y="100"/>
                  </a:lnTo>
                  <a:lnTo>
                    <a:pt x="2524" y="100"/>
                  </a:lnTo>
                  <a:lnTo>
                    <a:pt x="2530" y="75"/>
                  </a:lnTo>
                  <a:lnTo>
                    <a:pt x="2535" y="85"/>
                  </a:lnTo>
                  <a:lnTo>
                    <a:pt x="2551" y="85"/>
                  </a:lnTo>
                  <a:lnTo>
                    <a:pt x="2556" y="95"/>
                  </a:lnTo>
                  <a:lnTo>
                    <a:pt x="2561" y="115"/>
                  </a:lnTo>
                  <a:lnTo>
                    <a:pt x="2566" y="130"/>
                  </a:lnTo>
                  <a:lnTo>
                    <a:pt x="2572" y="145"/>
                  </a:lnTo>
                  <a:lnTo>
                    <a:pt x="2587" y="140"/>
                  </a:lnTo>
                  <a:lnTo>
                    <a:pt x="2593" y="130"/>
                  </a:lnTo>
                  <a:lnTo>
                    <a:pt x="2598" y="105"/>
                  </a:lnTo>
                  <a:lnTo>
                    <a:pt x="2603" y="105"/>
                  </a:lnTo>
                  <a:lnTo>
                    <a:pt x="2608" y="75"/>
                  </a:lnTo>
                  <a:lnTo>
                    <a:pt x="2624" y="70"/>
                  </a:lnTo>
                  <a:lnTo>
                    <a:pt x="2629" y="45"/>
                  </a:lnTo>
                  <a:lnTo>
                    <a:pt x="2634" y="50"/>
                  </a:lnTo>
                  <a:lnTo>
                    <a:pt x="2640" y="70"/>
                  </a:lnTo>
                  <a:lnTo>
                    <a:pt x="2645" y="105"/>
                  </a:lnTo>
                  <a:lnTo>
                    <a:pt x="2661" y="105"/>
                  </a:lnTo>
                  <a:lnTo>
                    <a:pt x="2666" y="95"/>
                  </a:lnTo>
                  <a:lnTo>
                    <a:pt x="2671" y="140"/>
                  </a:lnTo>
                  <a:lnTo>
                    <a:pt x="2676" y="145"/>
                  </a:lnTo>
                  <a:lnTo>
                    <a:pt x="2682" y="155"/>
                  </a:lnTo>
                  <a:lnTo>
                    <a:pt x="2697" y="155"/>
                  </a:lnTo>
                  <a:lnTo>
                    <a:pt x="2703" y="95"/>
                  </a:lnTo>
                  <a:lnTo>
                    <a:pt x="2708" y="95"/>
                  </a:lnTo>
                  <a:lnTo>
                    <a:pt x="2713" y="110"/>
                  </a:lnTo>
                  <a:lnTo>
                    <a:pt x="2718" y="130"/>
                  </a:lnTo>
                  <a:lnTo>
                    <a:pt x="2734" y="110"/>
                  </a:lnTo>
                  <a:lnTo>
                    <a:pt x="2739" y="80"/>
                  </a:lnTo>
                  <a:lnTo>
                    <a:pt x="2744" y="55"/>
                  </a:lnTo>
                  <a:lnTo>
                    <a:pt x="2750" y="50"/>
                  </a:lnTo>
                  <a:lnTo>
                    <a:pt x="2755" y="65"/>
                  </a:lnTo>
                  <a:lnTo>
                    <a:pt x="2771" y="75"/>
                  </a:lnTo>
                  <a:lnTo>
                    <a:pt x="2776" y="100"/>
                  </a:lnTo>
                  <a:lnTo>
                    <a:pt x="2781" y="110"/>
                  </a:lnTo>
                  <a:lnTo>
                    <a:pt x="2786" y="110"/>
                  </a:lnTo>
                  <a:lnTo>
                    <a:pt x="2792" y="120"/>
                  </a:lnTo>
                  <a:lnTo>
                    <a:pt x="2807" y="110"/>
                  </a:lnTo>
                  <a:lnTo>
                    <a:pt x="2812" y="105"/>
                  </a:lnTo>
                  <a:lnTo>
                    <a:pt x="2818" y="90"/>
                  </a:lnTo>
                  <a:lnTo>
                    <a:pt x="2823" y="90"/>
                  </a:lnTo>
                  <a:lnTo>
                    <a:pt x="2828" y="85"/>
                  </a:lnTo>
                  <a:lnTo>
                    <a:pt x="2844" y="75"/>
                  </a:lnTo>
                  <a:lnTo>
                    <a:pt x="2849" y="105"/>
                  </a:lnTo>
                  <a:lnTo>
                    <a:pt x="2854" y="95"/>
                  </a:lnTo>
                  <a:lnTo>
                    <a:pt x="2860" y="75"/>
                  </a:lnTo>
                  <a:lnTo>
                    <a:pt x="2865" y="55"/>
                  </a:lnTo>
                  <a:lnTo>
                    <a:pt x="2881" y="55"/>
                  </a:lnTo>
                  <a:lnTo>
                    <a:pt x="2886" y="80"/>
                  </a:lnTo>
                  <a:lnTo>
                    <a:pt x="2891" y="60"/>
                  </a:lnTo>
                  <a:lnTo>
                    <a:pt x="2896" y="5"/>
                  </a:lnTo>
                  <a:lnTo>
                    <a:pt x="2902" y="35"/>
                  </a:lnTo>
                  <a:lnTo>
                    <a:pt x="2917" y="30"/>
                  </a:lnTo>
                  <a:lnTo>
                    <a:pt x="2922" y="90"/>
                  </a:lnTo>
                  <a:lnTo>
                    <a:pt x="2928" y="90"/>
                  </a:lnTo>
                  <a:lnTo>
                    <a:pt x="2933" y="115"/>
                  </a:lnTo>
                  <a:lnTo>
                    <a:pt x="2938" y="125"/>
                  </a:lnTo>
                  <a:lnTo>
                    <a:pt x="2954" y="145"/>
                  </a:lnTo>
                  <a:lnTo>
                    <a:pt x="2959" y="125"/>
                  </a:lnTo>
                  <a:lnTo>
                    <a:pt x="2964" y="125"/>
                  </a:lnTo>
                  <a:lnTo>
                    <a:pt x="2970" y="145"/>
                  </a:lnTo>
                  <a:lnTo>
                    <a:pt x="2975" y="125"/>
                  </a:lnTo>
                  <a:lnTo>
                    <a:pt x="2991" y="135"/>
                  </a:lnTo>
                  <a:lnTo>
                    <a:pt x="2996" y="125"/>
                  </a:lnTo>
                  <a:lnTo>
                    <a:pt x="3001" y="135"/>
                  </a:lnTo>
                  <a:lnTo>
                    <a:pt x="3006" y="130"/>
                  </a:lnTo>
                  <a:lnTo>
                    <a:pt x="3012" y="155"/>
                  </a:lnTo>
                  <a:lnTo>
                    <a:pt x="3027" y="155"/>
                  </a:lnTo>
                  <a:lnTo>
                    <a:pt x="3032" y="170"/>
                  </a:lnTo>
                  <a:lnTo>
                    <a:pt x="3038" y="180"/>
                  </a:lnTo>
                  <a:lnTo>
                    <a:pt x="3043" y="180"/>
                  </a:lnTo>
                  <a:lnTo>
                    <a:pt x="3048" y="195"/>
                  </a:lnTo>
                  <a:lnTo>
                    <a:pt x="3064" y="185"/>
                  </a:lnTo>
                  <a:lnTo>
                    <a:pt x="3069" y="180"/>
                  </a:lnTo>
                  <a:lnTo>
                    <a:pt x="3074" y="210"/>
                  </a:lnTo>
                  <a:lnTo>
                    <a:pt x="3080" y="175"/>
                  </a:lnTo>
                  <a:lnTo>
                    <a:pt x="3085" y="160"/>
                  </a:lnTo>
                  <a:lnTo>
                    <a:pt x="3101" y="170"/>
                  </a:lnTo>
                  <a:lnTo>
                    <a:pt x="3106" y="165"/>
                  </a:lnTo>
                  <a:lnTo>
                    <a:pt x="3111" y="170"/>
                  </a:lnTo>
                  <a:lnTo>
                    <a:pt x="3116" y="155"/>
                  </a:lnTo>
                  <a:lnTo>
                    <a:pt x="3122" y="155"/>
                  </a:lnTo>
                  <a:lnTo>
                    <a:pt x="3137" y="160"/>
                  </a:lnTo>
                  <a:lnTo>
                    <a:pt x="3142" y="155"/>
                  </a:lnTo>
                  <a:lnTo>
                    <a:pt x="3148" y="140"/>
                  </a:lnTo>
                  <a:lnTo>
                    <a:pt x="3153" y="135"/>
                  </a:lnTo>
                  <a:lnTo>
                    <a:pt x="3158" y="150"/>
                  </a:lnTo>
                  <a:lnTo>
                    <a:pt x="3174" y="140"/>
                  </a:lnTo>
                  <a:lnTo>
                    <a:pt x="3179" y="100"/>
                  </a:lnTo>
                  <a:lnTo>
                    <a:pt x="3184" y="140"/>
                  </a:lnTo>
                  <a:lnTo>
                    <a:pt x="3190" y="145"/>
                  </a:lnTo>
                  <a:lnTo>
                    <a:pt x="3195" y="145"/>
                  </a:lnTo>
                  <a:lnTo>
                    <a:pt x="3211" y="145"/>
                  </a:lnTo>
                  <a:lnTo>
                    <a:pt x="3216" y="140"/>
                  </a:lnTo>
                  <a:lnTo>
                    <a:pt x="3221" y="165"/>
                  </a:lnTo>
                  <a:lnTo>
                    <a:pt x="3226" y="175"/>
                  </a:lnTo>
                  <a:lnTo>
                    <a:pt x="3231" y="185"/>
                  </a:lnTo>
                  <a:lnTo>
                    <a:pt x="3247" y="195"/>
                  </a:lnTo>
                  <a:lnTo>
                    <a:pt x="3252" y="195"/>
                  </a:lnTo>
                  <a:lnTo>
                    <a:pt x="3258" y="215"/>
                  </a:lnTo>
                  <a:lnTo>
                    <a:pt x="3263" y="235"/>
                  </a:lnTo>
                  <a:lnTo>
                    <a:pt x="3268" y="245"/>
                  </a:lnTo>
                  <a:lnTo>
                    <a:pt x="3284" y="225"/>
                  </a:lnTo>
                  <a:lnTo>
                    <a:pt x="3289" y="235"/>
                  </a:lnTo>
                  <a:lnTo>
                    <a:pt x="3294" y="230"/>
                  </a:lnTo>
                  <a:lnTo>
                    <a:pt x="3300" y="220"/>
                  </a:lnTo>
                  <a:lnTo>
                    <a:pt x="3305" y="235"/>
                  </a:lnTo>
                  <a:lnTo>
                    <a:pt x="3321" y="255"/>
                  </a:lnTo>
                  <a:lnTo>
                    <a:pt x="3326" y="265"/>
                  </a:lnTo>
                  <a:lnTo>
                    <a:pt x="3331" y="265"/>
                  </a:lnTo>
                  <a:lnTo>
                    <a:pt x="3336" y="275"/>
                  </a:lnTo>
                  <a:lnTo>
                    <a:pt x="3341" y="280"/>
                  </a:lnTo>
                  <a:lnTo>
                    <a:pt x="3357" y="285"/>
                  </a:lnTo>
                  <a:lnTo>
                    <a:pt x="3362" y="260"/>
                  </a:lnTo>
                  <a:lnTo>
                    <a:pt x="3368" y="250"/>
                  </a:lnTo>
                  <a:lnTo>
                    <a:pt x="3373" y="220"/>
                  </a:lnTo>
                  <a:lnTo>
                    <a:pt x="3378" y="240"/>
                  </a:lnTo>
                  <a:lnTo>
                    <a:pt x="3394" y="240"/>
                  </a:lnTo>
                  <a:lnTo>
                    <a:pt x="3399" y="255"/>
                  </a:lnTo>
                  <a:lnTo>
                    <a:pt x="3404" y="240"/>
                  </a:lnTo>
                  <a:lnTo>
                    <a:pt x="3410" y="230"/>
                  </a:lnTo>
                  <a:lnTo>
                    <a:pt x="3415" y="230"/>
                  </a:lnTo>
                  <a:lnTo>
                    <a:pt x="3431" y="255"/>
                  </a:lnTo>
                  <a:lnTo>
                    <a:pt x="3436" y="275"/>
                  </a:lnTo>
                  <a:lnTo>
                    <a:pt x="3441" y="265"/>
                  </a:lnTo>
                  <a:lnTo>
                    <a:pt x="3446" y="270"/>
                  </a:lnTo>
                  <a:lnTo>
                    <a:pt x="3451" y="240"/>
                  </a:lnTo>
                  <a:lnTo>
                    <a:pt x="3467" y="260"/>
                  </a:lnTo>
                  <a:lnTo>
                    <a:pt x="3472" y="280"/>
                  </a:lnTo>
                  <a:lnTo>
                    <a:pt x="3478" y="300"/>
                  </a:lnTo>
                  <a:lnTo>
                    <a:pt x="3483" y="285"/>
                  </a:lnTo>
                  <a:lnTo>
                    <a:pt x="3488" y="300"/>
                  </a:lnTo>
                  <a:lnTo>
                    <a:pt x="3504" y="310"/>
                  </a:lnTo>
                  <a:lnTo>
                    <a:pt x="3509" y="325"/>
                  </a:lnTo>
                  <a:lnTo>
                    <a:pt x="3514" y="340"/>
                  </a:lnTo>
                  <a:lnTo>
                    <a:pt x="3520" y="340"/>
                  </a:lnTo>
                  <a:lnTo>
                    <a:pt x="3525" y="330"/>
                  </a:lnTo>
                  <a:lnTo>
                    <a:pt x="3540" y="315"/>
                  </a:lnTo>
                  <a:lnTo>
                    <a:pt x="3546" y="325"/>
                  </a:lnTo>
                  <a:lnTo>
                    <a:pt x="3551" y="350"/>
                  </a:lnTo>
                  <a:lnTo>
                    <a:pt x="3556" y="335"/>
                  </a:lnTo>
                  <a:lnTo>
                    <a:pt x="3561" y="335"/>
                  </a:lnTo>
                  <a:lnTo>
                    <a:pt x="3577" y="380"/>
                  </a:lnTo>
                  <a:lnTo>
                    <a:pt x="3582" y="370"/>
                  </a:lnTo>
                  <a:lnTo>
                    <a:pt x="3588" y="385"/>
                  </a:lnTo>
                  <a:lnTo>
                    <a:pt x="3593" y="400"/>
                  </a:lnTo>
                  <a:lnTo>
                    <a:pt x="3598" y="411"/>
                  </a:lnTo>
                  <a:lnTo>
                    <a:pt x="3614" y="390"/>
                  </a:lnTo>
                  <a:lnTo>
                    <a:pt x="3619" y="400"/>
                  </a:lnTo>
                  <a:lnTo>
                    <a:pt x="3624" y="426"/>
                  </a:lnTo>
                  <a:lnTo>
                    <a:pt x="3630" y="426"/>
                  </a:lnTo>
                  <a:lnTo>
                    <a:pt x="3635" y="451"/>
                  </a:lnTo>
                  <a:lnTo>
                    <a:pt x="3650" y="436"/>
                  </a:lnTo>
                  <a:lnTo>
                    <a:pt x="3656" y="461"/>
                  </a:lnTo>
                  <a:lnTo>
                    <a:pt x="3661" y="461"/>
                  </a:lnTo>
                  <a:lnTo>
                    <a:pt x="3666" y="461"/>
                  </a:lnTo>
                  <a:lnTo>
                    <a:pt x="3671" y="451"/>
                  </a:lnTo>
                  <a:lnTo>
                    <a:pt x="3687" y="451"/>
                  </a:lnTo>
                  <a:lnTo>
                    <a:pt x="3692" y="436"/>
                  </a:lnTo>
                  <a:lnTo>
                    <a:pt x="3698" y="436"/>
                  </a:lnTo>
                  <a:lnTo>
                    <a:pt x="3703" y="411"/>
                  </a:lnTo>
                  <a:lnTo>
                    <a:pt x="3708" y="431"/>
                  </a:lnTo>
                  <a:lnTo>
                    <a:pt x="3724" y="441"/>
                  </a:lnTo>
                  <a:lnTo>
                    <a:pt x="3729" y="456"/>
                  </a:lnTo>
                  <a:lnTo>
                    <a:pt x="3734" y="446"/>
                  </a:lnTo>
                  <a:lnTo>
                    <a:pt x="3740" y="451"/>
                  </a:lnTo>
                  <a:lnTo>
                    <a:pt x="3745" y="446"/>
                  </a:lnTo>
                  <a:lnTo>
                    <a:pt x="3760" y="446"/>
                  </a:lnTo>
                  <a:lnTo>
                    <a:pt x="3766" y="456"/>
                  </a:lnTo>
                  <a:lnTo>
                    <a:pt x="3771" y="466"/>
                  </a:lnTo>
                  <a:lnTo>
                    <a:pt x="3776" y="461"/>
                  </a:lnTo>
                  <a:lnTo>
                    <a:pt x="3781" y="451"/>
                  </a:lnTo>
                  <a:lnTo>
                    <a:pt x="3797" y="451"/>
                  </a:lnTo>
                  <a:lnTo>
                    <a:pt x="3802" y="451"/>
                  </a:lnTo>
                  <a:lnTo>
                    <a:pt x="3808" y="461"/>
                  </a:lnTo>
                  <a:lnTo>
                    <a:pt x="3813" y="481"/>
                  </a:lnTo>
                  <a:lnTo>
                    <a:pt x="3818" y="466"/>
                  </a:lnTo>
                  <a:lnTo>
                    <a:pt x="3834" y="466"/>
                  </a:lnTo>
                  <a:lnTo>
                    <a:pt x="3839" y="481"/>
                  </a:lnTo>
                  <a:lnTo>
                    <a:pt x="3844" y="501"/>
                  </a:lnTo>
                  <a:lnTo>
                    <a:pt x="3850" y="491"/>
                  </a:lnTo>
                  <a:lnTo>
                    <a:pt x="3855" y="501"/>
                  </a:lnTo>
                  <a:lnTo>
                    <a:pt x="3870" y="506"/>
                  </a:lnTo>
                  <a:lnTo>
                    <a:pt x="3876" y="511"/>
                  </a:lnTo>
                  <a:lnTo>
                    <a:pt x="3881" y="526"/>
                  </a:lnTo>
                  <a:lnTo>
                    <a:pt x="3886" y="496"/>
                  </a:lnTo>
                  <a:lnTo>
                    <a:pt x="3891" y="476"/>
                  </a:lnTo>
                  <a:lnTo>
                    <a:pt x="3907" y="476"/>
                  </a:lnTo>
                  <a:lnTo>
                    <a:pt x="3912" y="461"/>
                  </a:lnTo>
                  <a:lnTo>
                    <a:pt x="3918" y="461"/>
                  </a:lnTo>
                  <a:lnTo>
                    <a:pt x="3923" y="486"/>
                  </a:lnTo>
                  <a:lnTo>
                    <a:pt x="3928" y="476"/>
                  </a:lnTo>
                  <a:lnTo>
                    <a:pt x="3944" y="476"/>
                  </a:lnTo>
                  <a:lnTo>
                    <a:pt x="3949" y="496"/>
                  </a:lnTo>
                  <a:lnTo>
                    <a:pt x="3954" y="521"/>
                  </a:lnTo>
                  <a:lnTo>
                    <a:pt x="3959" y="536"/>
                  </a:lnTo>
                  <a:lnTo>
                    <a:pt x="3965" y="531"/>
                  </a:lnTo>
                  <a:lnTo>
                    <a:pt x="3980" y="541"/>
                  </a:lnTo>
                  <a:lnTo>
                    <a:pt x="3986" y="501"/>
                  </a:lnTo>
                  <a:lnTo>
                    <a:pt x="3991" y="511"/>
                  </a:lnTo>
                  <a:lnTo>
                    <a:pt x="3996" y="511"/>
                  </a:lnTo>
                  <a:lnTo>
                    <a:pt x="4001" y="506"/>
                  </a:lnTo>
                  <a:lnTo>
                    <a:pt x="4017" y="516"/>
                  </a:lnTo>
                  <a:lnTo>
                    <a:pt x="4022" y="526"/>
                  </a:lnTo>
                  <a:lnTo>
                    <a:pt x="4028" y="526"/>
                  </a:lnTo>
                  <a:lnTo>
                    <a:pt x="4033" y="526"/>
                  </a:lnTo>
                  <a:lnTo>
                    <a:pt x="4038" y="561"/>
                  </a:lnTo>
                  <a:lnTo>
                    <a:pt x="4054" y="566"/>
                  </a:lnTo>
                  <a:lnTo>
                    <a:pt x="4059" y="571"/>
                  </a:lnTo>
                  <a:lnTo>
                    <a:pt x="4064" y="561"/>
                  </a:lnTo>
                  <a:lnTo>
                    <a:pt x="4069" y="556"/>
                  </a:lnTo>
                  <a:lnTo>
                    <a:pt x="4075" y="551"/>
                  </a:lnTo>
                  <a:lnTo>
                    <a:pt x="4090" y="551"/>
                  </a:lnTo>
                  <a:lnTo>
                    <a:pt x="4096" y="551"/>
                  </a:lnTo>
                  <a:lnTo>
                    <a:pt x="4101" y="546"/>
                  </a:lnTo>
                  <a:lnTo>
                    <a:pt x="4106" y="566"/>
                  </a:lnTo>
                  <a:lnTo>
                    <a:pt x="4111" y="546"/>
                  </a:lnTo>
                  <a:lnTo>
                    <a:pt x="4127" y="566"/>
                  </a:lnTo>
                  <a:lnTo>
                    <a:pt x="4132" y="566"/>
                  </a:lnTo>
                  <a:lnTo>
                    <a:pt x="4138" y="571"/>
                  </a:lnTo>
                  <a:lnTo>
                    <a:pt x="4143" y="581"/>
                  </a:lnTo>
                  <a:lnTo>
                    <a:pt x="4148" y="596"/>
                  </a:lnTo>
                  <a:lnTo>
                    <a:pt x="4164" y="601"/>
                  </a:lnTo>
                  <a:lnTo>
                    <a:pt x="4169" y="571"/>
                  </a:lnTo>
                  <a:lnTo>
                    <a:pt x="4174" y="571"/>
                  </a:lnTo>
                  <a:lnTo>
                    <a:pt x="4179" y="581"/>
                  </a:lnTo>
                  <a:lnTo>
                    <a:pt x="4185" y="591"/>
                  </a:lnTo>
                  <a:lnTo>
                    <a:pt x="4200" y="591"/>
                  </a:lnTo>
                  <a:lnTo>
                    <a:pt x="4206" y="576"/>
                  </a:lnTo>
                  <a:lnTo>
                    <a:pt x="4211" y="591"/>
                  </a:lnTo>
                  <a:lnTo>
                    <a:pt x="4216" y="591"/>
                  </a:lnTo>
                  <a:lnTo>
                    <a:pt x="4221" y="601"/>
                  </a:lnTo>
                  <a:lnTo>
                    <a:pt x="4237" y="596"/>
                  </a:lnTo>
                  <a:lnTo>
                    <a:pt x="4242" y="611"/>
                  </a:lnTo>
                  <a:lnTo>
                    <a:pt x="4248" y="601"/>
                  </a:lnTo>
                  <a:lnTo>
                    <a:pt x="4253" y="621"/>
                  </a:lnTo>
                  <a:lnTo>
                    <a:pt x="4258" y="601"/>
                  </a:lnTo>
                  <a:lnTo>
                    <a:pt x="4274" y="606"/>
                  </a:lnTo>
                  <a:lnTo>
                    <a:pt x="4279" y="621"/>
                  </a:lnTo>
                  <a:lnTo>
                    <a:pt x="4284" y="626"/>
                  </a:lnTo>
                  <a:lnTo>
                    <a:pt x="4289" y="641"/>
                  </a:lnTo>
                  <a:lnTo>
                    <a:pt x="4295" y="641"/>
                  </a:lnTo>
                  <a:lnTo>
                    <a:pt x="4310" y="651"/>
                  </a:lnTo>
                  <a:lnTo>
                    <a:pt x="4316" y="646"/>
                  </a:lnTo>
                  <a:lnTo>
                    <a:pt x="4321" y="641"/>
                  </a:lnTo>
                  <a:lnTo>
                    <a:pt x="4326" y="651"/>
                  </a:lnTo>
                  <a:lnTo>
                    <a:pt x="4331" y="671"/>
                  </a:lnTo>
                  <a:lnTo>
                    <a:pt x="4347" y="661"/>
                  </a:lnTo>
                  <a:lnTo>
                    <a:pt x="4352" y="656"/>
                  </a:lnTo>
                  <a:lnTo>
                    <a:pt x="4358" y="671"/>
                  </a:lnTo>
                  <a:lnTo>
                    <a:pt x="4363" y="681"/>
                  </a:lnTo>
                  <a:lnTo>
                    <a:pt x="4368" y="681"/>
                  </a:lnTo>
                  <a:lnTo>
                    <a:pt x="4384" y="666"/>
                  </a:lnTo>
                  <a:lnTo>
                    <a:pt x="4389" y="681"/>
                  </a:lnTo>
                  <a:lnTo>
                    <a:pt x="4394" y="701"/>
                  </a:lnTo>
                  <a:lnTo>
                    <a:pt x="4399" y="706"/>
                  </a:lnTo>
                  <a:lnTo>
                    <a:pt x="4405" y="696"/>
                  </a:lnTo>
                  <a:lnTo>
                    <a:pt x="4420" y="691"/>
                  </a:lnTo>
                  <a:lnTo>
                    <a:pt x="4426" y="711"/>
                  </a:lnTo>
                  <a:lnTo>
                    <a:pt x="4431" y="721"/>
                  </a:lnTo>
                  <a:lnTo>
                    <a:pt x="4436" y="716"/>
                  </a:lnTo>
                  <a:lnTo>
                    <a:pt x="4441" y="701"/>
                  </a:lnTo>
                  <a:lnTo>
                    <a:pt x="4457" y="726"/>
                  </a:lnTo>
                  <a:lnTo>
                    <a:pt x="4462" y="716"/>
                  </a:lnTo>
                  <a:lnTo>
                    <a:pt x="4468" y="731"/>
                  </a:lnTo>
                  <a:lnTo>
                    <a:pt x="4473" y="741"/>
                  </a:lnTo>
                  <a:lnTo>
                    <a:pt x="4478" y="731"/>
                  </a:lnTo>
                  <a:lnTo>
                    <a:pt x="4494" y="746"/>
                  </a:lnTo>
                  <a:lnTo>
                    <a:pt x="4499" y="746"/>
                  </a:lnTo>
                  <a:lnTo>
                    <a:pt x="4504" y="741"/>
                  </a:lnTo>
                  <a:lnTo>
                    <a:pt x="4509" y="746"/>
                  </a:lnTo>
                  <a:lnTo>
                    <a:pt x="4515" y="736"/>
                  </a:lnTo>
                  <a:lnTo>
                    <a:pt x="4530" y="706"/>
                  </a:lnTo>
                  <a:lnTo>
                    <a:pt x="4536" y="706"/>
                  </a:lnTo>
                  <a:lnTo>
                    <a:pt x="4541" y="701"/>
                  </a:lnTo>
                  <a:lnTo>
                    <a:pt x="4546" y="681"/>
                  </a:lnTo>
                  <a:lnTo>
                    <a:pt x="4551" y="666"/>
                  </a:lnTo>
                  <a:lnTo>
                    <a:pt x="4567" y="611"/>
                  </a:lnTo>
                  <a:lnTo>
                    <a:pt x="4572" y="631"/>
                  </a:lnTo>
                  <a:lnTo>
                    <a:pt x="4578" y="571"/>
                  </a:lnTo>
                  <a:lnTo>
                    <a:pt x="4583" y="601"/>
                  </a:lnTo>
                  <a:lnTo>
                    <a:pt x="4588" y="616"/>
                  </a:lnTo>
                  <a:lnTo>
                    <a:pt x="4604" y="616"/>
                  </a:lnTo>
                  <a:lnTo>
                    <a:pt x="4609" y="611"/>
                  </a:lnTo>
                  <a:lnTo>
                    <a:pt x="4614" y="626"/>
                  </a:lnTo>
                  <a:lnTo>
                    <a:pt x="4619" y="621"/>
                  </a:lnTo>
                  <a:lnTo>
                    <a:pt x="4625" y="586"/>
                  </a:lnTo>
                  <a:lnTo>
                    <a:pt x="4640" y="586"/>
                  </a:lnTo>
                  <a:lnTo>
                    <a:pt x="4646" y="566"/>
                  </a:lnTo>
                  <a:lnTo>
                    <a:pt x="4651" y="566"/>
                  </a:lnTo>
                  <a:lnTo>
                    <a:pt x="4656" y="536"/>
                  </a:lnTo>
                  <a:lnTo>
                    <a:pt x="4661" y="541"/>
                  </a:lnTo>
                  <a:lnTo>
                    <a:pt x="4677" y="541"/>
                  </a:lnTo>
                  <a:lnTo>
                    <a:pt x="4682" y="501"/>
                  </a:lnTo>
                  <a:lnTo>
                    <a:pt x="4687" y="526"/>
                  </a:lnTo>
                  <a:lnTo>
                    <a:pt x="4693" y="551"/>
                  </a:lnTo>
                  <a:lnTo>
                    <a:pt x="4698" y="556"/>
                  </a:lnTo>
                  <a:lnTo>
                    <a:pt x="4714" y="561"/>
                  </a:lnTo>
                  <a:lnTo>
                    <a:pt x="4719" y="561"/>
                  </a:lnTo>
                  <a:lnTo>
                    <a:pt x="4724" y="556"/>
                  </a:lnTo>
                  <a:lnTo>
                    <a:pt x="4729" y="566"/>
                  </a:lnTo>
                  <a:lnTo>
                    <a:pt x="4735" y="556"/>
                  </a:lnTo>
                  <a:lnTo>
                    <a:pt x="4750" y="531"/>
                  </a:lnTo>
                  <a:lnTo>
                    <a:pt x="4756" y="516"/>
                  </a:lnTo>
                  <a:lnTo>
                    <a:pt x="4761" y="536"/>
                  </a:lnTo>
                  <a:lnTo>
                    <a:pt x="4766" y="536"/>
                  </a:lnTo>
                  <a:lnTo>
                    <a:pt x="4771" y="566"/>
                  </a:lnTo>
                  <a:lnTo>
                    <a:pt x="4787" y="571"/>
                  </a:lnTo>
                </a:path>
              </a:pathLst>
            </a:custGeom>
            <a:noFill/>
            <a:ln w="270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36720" y="3952800"/>
              <a:ext cx="7296120" cy="1411200"/>
            </a:xfrm>
            <a:custGeom>
              <a:avLst/>
              <a:gdLst/>
              <a:ahLst/>
              <a:rect l="l" t="t" r="r" b="b"/>
              <a:pathLst>
                <a:path w="4787" h="1298">
                  <a:moveTo>
                    <a:pt x="0" y="636"/>
                  </a:moveTo>
                  <a:lnTo>
                    <a:pt x="5" y="706"/>
                  </a:lnTo>
                  <a:lnTo>
                    <a:pt x="21" y="706"/>
                  </a:lnTo>
                  <a:lnTo>
                    <a:pt x="26" y="716"/>
                  </a:lnTo>
                  <a:lnTo>
                    <a:pt x="31" y="716"/>
                  </a:lnTo>
                  <a:lnTo>
                    <a:pt x="37" y="746"/>
                  </a:lnTo>
                  <a:lnTo>
                    <a:pt x="42" y="731"/>
                  </a:lnTo>
                  <a:lnTo>
                    <a:pt x="58" y="751"/>
                  </a:lnTo>
                  <a:lnTo>
                    <a:pt x="63" y="706"/>
                  </a:lnTo>
                  <a:lnTo>
                    <a:pt x="68" y="661"/>
                  </a:lnTo>
                  <a:lnTo>
                    <a:pt x="73" y="671"/>
                  </a:lnTo>
                  <a:lnTo>
                    <a:pt x="79" y="676"/>
                  </a:lnTo>
                  <a:lnTo>
                    <a:pt x="94" y="676"/>
                  </a:lnTo>
                  <a:lnTo>
                    <a:pt x="100" y="701"/>
                  </a:lnTo>
                  <a:lnTo>
                    <a:pt x="105" y="681"/>
                  </a:lnTo>
                  <a:lnTo>
                    <a:pt x="110" y="671"/>
                  </a:lnTo>
                  <a:lnTo>
                    <a:pt x="115" y="716"/>
                  </a:lnTo>
                  <a:lnTo>
                    <a:pt x="131" y="711"/>
                  </a:lnTo>
                  <a:lnTo>
                    <a:pt x="136" y="681"/>
                  </a:lnTo>
                  <a:lnTo>
                    <a:pt x="141" y="711"/>
                  </a:lnTo>
                  <a:lnTo>
                    <a:pt x="147" y="581"/>
                  </a:lnTo>
                  <a:lnTo>
                    <a:pt x="152" y="611"/>
                  </a:lnTo>
                  <a:lnTo>
                    <a:pt x="168" y="581"/>
                  </a:lnTo>
                  <a:lnTo>
                    <a:pt x="173" y="596"/>
                  </a:lnTo>
                  <a:lnTo>
                    <a:pt x="178" y="626"/>
                  </a:lnTo>
                  <a:lnTo>
                    <a:pt x="183" y="621"/>
                  </a:lnTo>
                  <a:lnTo>
                    <a:pt x="189" y="556"/>
                  </a:lnTo>
                  <a:lnTo>
                    <a:pt x="204" y="576"/>
                  </a:lnTo>
                  <a:lnTo>
                    <a:pt x="209" y="581"/>
                  </a:lnTo>
                  <a:lnTo>
                    <a:pt x="215" y="576"/>
                  </a:lnTo>
                  <a:lnTo>
                    <a:pt x="220" y="641"/>
                  </a:lnTo>
                  <a:lnTo>
                    <a:pt x="225" y="636"/>
                  </a:lnTo>
                  <a:lnTo>
                    <a:pt x="241" y="636"/>
                  </a:lnTo>
                  <a:lnTo>
                    <a:pt x="246" y="631"/>
                  </a:lnTo>
                  <a:lnTo>
                    <a:pt x="251" y="616"/>
                  </a:lnTo>
                  <a:lnTo>
                    <a:pt x="257" y="596"/>
                  </a:lnTo>
                  <a:lnTo>
                    <a:pt x="262" y="591"/>
                  </a:lnTo>
                  <a:lnTo>
                    <a:pt x="278" y="591"/>
                  </a:lnTo>
                  <a:lnTo>
                    <a:pt x="283" y="591"/>
                  </a:lnTo>
                  <a:lnTo>
                    <a:pt x="288" y="591"/>
                  </a:lnTo>
                  <a:lnTo>
                    <a:pt x="293" y="581"/>
                  </a:lnTo>
                  <a:lnTo>
                    <a:pt x="299" y="571"/>
                  </a:lnTo>
                  <a:lnTo>
                    <a:pt x="314" y="591"/>
                  </a:lnTo>
                  <a:lnTo>
                    <a:pt x="319" y="601"/>
                  </a:lnTo>
                  <a:lnTo>
                    <a:pt x="325" y="586"/>
                  </a:lnTo>
                  <a:lnTo>
                    <a:pt x="330" y="581"/>
                  </a:lnTo>
                  <a:lnTo>
                    <a:pt x="335" y="566"/>
                  </a:lnTo>
                  <a:lnTo>
                    <a:pt x="351" y="586"/>
                  </a:lnTo>
                  <a:lnTo>
                    <a:pt x="356" y="576"/>
                  </a:lnTo>
                  <a:lnTo>
                    <a:pt x="361" y="576"/>
                  </a:lnTo>
                  <a:lnTo>
                    <a:pt x="367" y="556"/>
                  </a:lnTo>
                  <a:lnTo>
                    <a:pt x="372" y="576"/>
                  </a:lnTo>
                  <a:lnTo>
                    <a:pt x="388" y="581"/>
                  </a:lnTo>
                  <a:lnTo>
                    <a:pt x="393" y="536"/>
                  </a:lnTo>
                  <a:lnTo>
                    <a:pt x="398" y="531"/>
                  </a:lnTo>
                  <a:lnTo>
                    <a:pt x="403" y="561"/>
                  </a:lnTo>
                  <a:lnTo>
                    <a:pt x="409" y="596"/>
                  </a:lnTo>
                  <a:lnTo>
                    <a:pt x="424" y="576"/>
                  </a:lnTo>
                  <a:lnTo>
                    <a:pt x="429" y="566"/>
                  </a:lnTo>
                  <a:lnTo>
                    <a:pt x="435" y="571"/>
                  </a:lnTo>
                  <a:lnTo>
                    <a:pt x="440" y="576"/>
                  </a:lnTo>
                  <a:lnTo>
                    <a:pt x="445" y="611"/>
                  </a:lnTo>
                  <a:lnTo>
                    <a:pt x="461" y="621"/>
                  </a:lnTo>
                  <a:lnTo>
                    <a:pt x="466" y="641"/>
                  </a:lnTo>
                  <a:lnTo>
                    <a:pt x="471" y="616"/>
                  </a:lnTo>
                  <a:lnTo>
                    <a:pt x="477" y="641"/>
                  </a:lnTo>
                  <a:lnTo>
                    <a:pt x="482" y="671"/>
                  </a:lnTo>
                  <a:lnTo>
                    <a:pt x="498" y="676"/>
                  </a:lnTo>
                  <a:lnTo>
                    <a:pt x="503" y="666"/>
                  </a:lnTo>
                  <a:lnTo>
                    <a:pt x="508" y="681"/>
                  </a:lnTo>
                  <a:lnTo>
                    <a:pt x="513" y="666"/>
                  </a:lnTo>
                  <a:lnTo>
                    <a:pt x="519" y="666"/>
                  </a:lnTo>
                  <a:lnTo>
                    <a:pt x="534" y="676"/>
                  </a:lnTo>
                  <a:lnTo>
                    <a:pt x="539" y="691"/>
                  </a:lnTo>
                  <a:lnTo>
                    <a:pt x="545" y="671"/>
                  </a:lnTo>
                  <a:lnTo>
                    <a:pt x="550" y="626"/>
                  </a:lnTo>
                  <a:lnTo>
                    <a:pt x="555" y="631"/>
                  </a:lnTo>
                  <a:lnTo>
                    <a:pt x="571" y="661"/>
                  </a:lnTo>
                  <a:lnTo>
                    <a:pt x="576" y="636"/>
                  </a:lnTo>
                  <a:lnTo>
                    <a:pt x="581" y="566"/>
                  </a:lnTo>
                  <a:lnTo>
                    <a:pt x="587" y="536"/>
                  </a:lnTo>
                  <a:lnTo>
                    <a:pt x="592" y="581"/>
                  </a:lnTo>
                  <a:lnTo>
                    <a:pt x="608" y="561"/>
                  </a:lnTo>
                  <a:lnTo>
                    <a:pt x="613" y="496"/>
                  </a:lnTo>
                  <a:lnTo>
                    <a:pt x="618" y="411"/>
                  </a:lnTo>
                  <a:lnTo>
                    <a:pt x="623" y="356"/>
                  </a:lnTo>
                  <a:lnTo>
                    <a:pt x="628" y="406"/>
                  </a:lnTo>
                  <a:lnTo>
                    <a:pt x="644" y="341"/>
                  </a:lnTo>
                  <a:lnTo>
                    <a:pt x="649" y="336"/>
                  </a:lnTo>
                  <a:lnTo>
                    <a:pt x="655" y="361"/>
                  </a:lnTo>
                  <a:lnTo>
                    <a:pt x="660" y="215"/>
                  </a:lnTo>
                  <a:lnTo>
                    <a:pt x="665" y="75"/>
                  </a:lnTo>
                  <a:lnTo>
                    <a:pt x="681" y="0"/>
                  </a:lnTo>
                  <a:lnTo>
                    <a:pt x="686" y="125"/>
                  </a:lnTo>
                  <a:lnTo>
                    <a:pt x="691" y="145"/>
                  </a:lnTo>
                  <a:lnTo>
                    <a:pt x="697" y="135"/>
                  </a:lnTo>
                  <a:lnTo>
                    <a:pt x="702" y="175"/>
                  </a:lnTo>
                  <a:lnTo>
                    <a:pt x="718" y="195"/>
                  </a:lnTo>
                  <a:lnTo>
                    <a:pt x="723" y="220"/>
                  </a:lnTo>
                  <a:lnTo>
                    <a:pt x="728" y="265"/>
                  </a:lnTo>
                  <a:lnTo>
                    <a:pt x="733" y="205"/>
                  </a:lnTo>
                  <a:lnTo>
                    <a:pt x="738" y="275"/>
                  </a:lnTo>
                  <a:lnTo>
                    <a:pt x="754" y="280"/>
                  </a:lnTo>
                  <a:lnTo>
                    <a:pt x="759" y="290"/>
                  </a:lnTo>
                  <a:lnTo>
                    <a:pt x="765" y="295"/>
                  </a:lnTo>
                  <a:lnTo>
                    <a:pt x="770" y="250"/>
                  </a:lnTo>
                  <a:lnTo>
                    <a:pt x="775" y="260"/>
                  </a:lnTo>
                  <a:lnTo>
                    <a:pt x="791" y="260"/>
                  </a:lnTo>
                  <a:lnTo>
                    <a:pt x="796" y="235"/>
                  </a:lnTo>
                  <a:lnTo>
                    <a:pt x="801" y="265"/>
                  </a:lnTo>
                  <a:lnTo>
                    <a:pt x="807" y="275"/>
                  </a:lnTo>
                  <a:lnTo>
                    <a:pt x="812" y="315"/>
                  </a:lnTo>
                  <a:lnTo>
                    <a:pt x="828" y="371"/>
                  </a:lnTo>
                  <a:lnTo>
                    <a:pt x="833" y="356"/>
                  </a:lnTo>
                  <a:lnTo>
                    <a:pt x="838" y="346"/>
                  </a:lnTo>
                  <a:lnTo>
                    <a:pt x="843" y="331"/>
                  </a:lnTo>
                  <a:lnTo>
                    <a:pt x="848" y="331"/>
                  </a:lnTo>
                  <a:lnTo>
                    <a:pt x="864" y="290"/>
                  </a:lnTo>
                  <a:lnTo>
                    <a:pt x="869" y="280"/>
                  </a:lnTo>
                  <a:lnTo>
                    <a:pt x="875" y="315"/>
                  </a:lnTo>
                  <a:lnTo>
                    <a:pt x="880" y="326"/>
                  </a:lnTo>
                  <a:lnTo>
                    <a:pt x="885" y="381"/>
                  </a:lnTo>
                  <a:lnTo>
                    <a:pt x="901" y="396"/>
                  </a:lnTo>
                  <a:lnTo>
                    <a:pt x="906" y="396"/>
                  </a:lnTo>
                  <a:lnTo>
                    <a:pt x="911" y="391"/>
                  </a:lnTo>
                  <a:lnTo>
                    <a:pt x="917" y="371"/>
                  </a:lnTo>
                  <a:lnTo>
                    <a:pt x="922" y="285"/>
                  </a:lnTo>
                  <a:lnTo>
                    <a:pt x="937" y="305"/>
                  </a:lnTo>
                  <a:lnTo>
                    <a:pt x="943" y="305"/>
                  </a:lnTo>
                  <a:lnTo>
                    <a:pt x="948" y="285"/>
                  </a:lnTo>
                  <a:lnTo>
                    <a:pt x="953" y="275"/>
                  </a:lnTo>
                  <a:lnTo>
                    <a:pt x="958" y="326"/>
                  </a:lnTo>
                  <a:lnTo>
                    <a:pt x="974" y="326"/>
                  </a:lnTo>
                  <a:lnTo>
                    <a:pt x="979" y="331"/>
                  </a:lnTo>
                  <a:lnTo>
                    <a:pt x="985" y="300"/>
                  </a:lnTo>
                  <a:lnTo>
                    <a:pt x="990" y="240"/>
                  </a:lnTo>
                  <a:lnTo>
                    <a:pt x="995" y="270"/>
                  </a:lnTo>
                  <a:lnTo>
                    <a:pt x="1011" y="295"/>
                  </a:lnTo>
                  <a:lnTo>
                    <a:pt x="1016" y="336"/>
                  </a:lnTo>
                  <a:lnTo>
                    <a:pt x="1021" y="371"/>
                  </a:lnTo>
                  <a:lnTo>
                    <a:pt x="1027" y="401"/>
                  </a:lnTo>
                  <a:lnTo>
                    <a:pt x="1032" y="411"/>
                  </a:lnTo>
                  <a:lnTo>
                    <a:pt x="1047" y="416"/>
                  </a:lnTo>
                  <a:lnTo>
                    <a:pt x="1053" y="411"/>
                  </a:lnTo>
                  <a:lnTo>
                    <a:pt x="1058" y="336"/>
                  </a:lnTo>
                  <a:lnTo>
                    <a:pt x="1063" y="336"/>
                  </a:lnTo>
                  <a:lnTo>
                    <a:pt x="1068" y="331"/>
                  </a:lnTo>
                  <a:lnTo>
                    <a:pt x="1084" y="285"/>
                  </a:lnTo>
                  <a:lnTo>
                    <a:pt x="1089" y="285"/>
                  </a:lnTo>
                  <a:lnTo>
                    <a:pt x="1095" y="270"/>
                  </a:lnTo>
                  <a:lnTo>
                    <a:pt x="1100" y="341"/>
                  </a:lnTo>
                  <a:lnTo>
                    <a:pt x="1105" y="336"/>
                  </a:lnTo>
                  <a:lnTo>
                    <a:pt x="1121" y="336"/>
                  </a:lnTo>
                  <a:lnTo>
                    <a:pt x="1126" y="326"/>
                  </a:lnTo>
                  <a:lnTo>
                    <a:pt x="1131" y="336"/>
                  </a:lnTo>
                  <a:lnTo>
                    <a:pt x="1137" y="356"/>
                  </a:lnTo>
                  <a:lnTo>
                    <a:pt x="1142" y="351"/>
                  </a:lnTo>
                  <a:lnTo>
                    <a:pt x="1157" y="381"/>
                  </a:lnTo>
                  <a:lnTo>
                    <a:pt x="1163" y="416"/>
                  </a:lnTo>
                  <a:lnTo>
                    <a:pt x="1168" y="376"/>
                  </a:lnTo>
                  <a:lnTo>
                    <a:pt x="1173" y="381"/>
                  </a:lnTo>
                  <a:lnTo>
                    <a:pt x="1178" y="391"/>
                  </a:lnTo>
                  <a:lnTo>
                    <a:pt x="1194" y="426"/>
                  </a:lnTo>
                  <a:lnTo>
                    <a:pt x="1199" y="431"/>
                  </a:lnTo>
                  <a:lnTo>
                    <a:pt x="1205" y="436"/>
                  </a:lnTo>
                  <a:lnTo>
                    <a:pt x="1210" y="406"/>
                  </a:lnTo>
                  <a:lnTo>
                    <a:pt x="1215" y="426"/>
                  </a:lnTo>
                  <a:lnTo>
                    <a:pt x="1231" y="441"/>
                  </a:lnTo>
                  <a:lnTo>
                    <a:pt x="1236" y="476"/>
                  </a:lnTo>
                  <a:lnTo>
                    <a:pt x="1241" y="486"/>
                  </a:lnTo>
                  <a:lnTo>
                    <a:pt x="1247" y="471"/>
                  </a:lnTo>
                  <a:lnTo>
                    <a:pt x="1252" y="471"/>
                  </a:lnTo>
                  <a:lnTo>
                    <a:pt x="1267" y="461"/>
                  </a:lnTo>
                  <a:lnTo>
                    <a:pt x="1273" y="451"/>
                  </a:lnTo>
                  <a:lnTo>
                    <a:pt x="1278" y="431"/>
                  </a:lnTo>
                  <a:lnTo>
                    <a:pt x="1283" y="441"/>
                  </a:lnTo>
                  <a:lnTo>
                    <a:pt x="1288" y="466"/>
                  </a:lnTo>
                  <a:lnTo>
                    <a:pt x="1304" y="466"/>
                  </a:lnTo>
                  <a:lnTo>
                    <a:pt x="1309" y="501"/>
                  </a:lnTo>
                  <a:lnTo>
                    <a:pt x="1315" y="481"/>
                  </a:lnTo>
                  <a:lnTo>
                    <a:pt x="1320" y="511"/>
                  </a:lnTo>
                  <a:lnTo>
                    <a:pt x="1325" y="496"/>
                  </a:lnTo>
                  <a:lnTo>
                    <a:pt x="1341" y="486"/>
                  </a:lnTo>
                  <a:lnTo>
                    <a:pt x="1346" y="486"/>
                  </a:lnTo>
                  <a:lnTo>
                    <a:pt x="1351" y="521"/>
                  </a:lnTo>
                  <a:lnTo>
                    <a:pt x="1356" y="486"/>
                  </a:lnTo>
                  <a:lnTo>
                    <a:pt x="1362" y="486"/>
                  </a:lnTo>
                  <a:lnTo>
                    <a:pt x="1377" y="456"/>
                  </a:lnTo>
                  <a:lnTo>
                    <a:pt x="1383" y="466"/>
                  </a:lnTo>
                  <a:lnTo>
                    <a:pt x="1388" y="471"/>
                  </a:lnTo>
                  <a:lnTo>
                    <a:pt x="1393" y="526"/>
                  </a:lnTo>
                  <a:lnTo>
                    <a:pt x="1398" y="461"/>
                  </a:lnTo>
                  <a:lnTo>
                    <a:pt x="1414" y="441"/>
                  </a:lnTo>
                  <a:lnTo>
                    <a:pt x="1419" y="436"/>
                  </a:lnTo>
                  <a:lnTo>
                    <a:pt x="1425" y="461"/>
                  </a:lnTo>
                  <a:lnTo>
                    <a:pt x="1430" y="471"/>
                  </a:lnTo>
                  <a:lnTo>
                    <a:pt x="1435" y="491"/>
                  </a:lnTo>
                  <a:lnTo>
                    <a:pt x="1451" y="496"/>
                  </a:lnTo>
                  <a:lnTo>
                    <a:pt x="1456" y="516"/>
                  </a:lnTo>
                  <a:lnTo>
                    <a:pt x="1461" y="566"/>
                  </a:lnTo>
                  <a:lnTo>
                    <a:pt x="1466" y="576"/>
                  </a:lnTo>
                  <a:lnTo>
                    <a:pt x="1472" y="611"/>
                  </a:lnTo>
                  <a:lnTo>
                    <a:pt x="1487" y="611"/>
                  </a:lnTo>
                  <a:lnTo>
                    <a:pt x="1493" y="601"/>
                  </a:lnTo>
                  <a:lnTo>
                    <a:pt x="1498" y="581"/>
                  </a:lnTo>
                  <a:lnTo>
                    <a:pt x="1503" y="546"/>
                  </a:lnTo>
                  <a:lnTo>
                    <a:pt x="1508" y="556"/>
                  </a:lnTo>
                  <a:lnTo>
                    <a:pt x="1524" y="566"/>
                  </a:lnTo>
                  <a:lnTo>
                    <a:pt x="1529" y="561"/>
                  </a:lnTo>
                  <a:lnTo>
                    <a:pt x="1535" y="536"/>
                  </a:lnTo>
                  <a:lnTo>
                    <a:pt x="1540" y="571"/>
                  </a:lnTo>
                  <a:lnTo>
                    <a:pt x="1545" y="586"/>
                  </a:lnTo>
                  <a:lnTo>
                    <a:pt x="1561" y="566"/>
                  </a:lnTo>
                  <a:lnTo>
                    <a:pt x="1566" y="571"/>
                  </a:lnTo>
                  <a:lnTo>
                    <a:pt x="1571" y="631"/>
                  </a:lnTo>
                  <a:lnTo>
                    <a:pt x="1576" y="601"/>
                  </a:lnTo>
                  <a:lnTo>
                    <a:pt x="1582" y="581"/>
                  </a:lnTo>
                  <a:lnTo>
                    <a:pt x="1597" y="621"/>
                  </a:lnTo>
                  <a:lnTo>
                    <a:pt x="1603" y="621"/>
                  </a:lnTo>
                  <a:lnTo>
                    <a:pt x="1608" y="626"/>
                  </a:lnTo>
                  <a:lnTo>
                    <a:pt x="1613" y="676"/>
                  </a:lnTo>
                  <a:lnTo>
                    <a:pt x="1618" y="696"/>
                  </a:lnTo>
                  <a:lnTo>
                    <a:pt x="1634" y="696"/>
                  </a:lnTo>
                  <a:lnTo>
                    <a:pt x="1639" y="701"/>
                  </a:lnTo>
                  <a:lnTo>
                    <a:pt x="1645" y="701"/>
                  </a:lnTo>
                  <a:lnTo>
                    <a:pt x="1650" y="701"/>
                  </a:lnTo>
                  <a:lnTo>
                    <a:pt x="1655" y="721"/>
                  </a:lnTo>
                  <a:lnTo>
                    <a:pt x="1671" y="726"/>
                  </a:lnTo>
                  <a:lnTo>
                    <a:pt x="1676" y="726"/>
                  </a:lnTo>
                  <a:lnTo>
                    <a:pt x="1681" y="721"/>
                  </a:lnTo>
                  <a:lnTo>
                    <a:pt x="1686" y="762"/>
                  </a:lnTo>
                  <a:lnTo>
                    <a:pt x="1692" y="767"/>
                  </a:lnTo>
                  <a:lnTo>
                    <a:pt x="1707" y="751"/>
                  </a:lnTo>
                  <a:lnTo>
                    <a:pt x="1713" y="757"/>
                  </a:lnTo>
                  <a:lnTo>
                    <a:pt x="1718" y="757"/>
                  </a:lnTo>
                  <a:lnTo>
                    <a:pt x="1723" y="757"/>
                  </a:lnTo>
                  <a:lnTo>
                    <a:pt x="1728" y="731"/>
                  </a:lnTo>
                  <a:lnTo>
                    <a:pt x="1744" y="711"/>
                  </a:lnTo>
                  <a:lnTo>
                    <a:pt x="1749" y="696"/>
                  </a:lnTo>
                  <a:lnTo>
                    <a:pt x="1755" y="736"/>
                  </a:lnTo>
                  <a:lnTo>
                    <a:pt x="1760" y="757"/>
                  </a:lnTo>
                  <a:lnTo>
                    <a:pt x="1765" y="741"/>
                  </a:lnTo>
                  <a:lnTo>
                    <a:pt x="1781" y="772"/>
                  </a:lnTo>
                  <a:lnTo>
                    <a:pt x="1786" y="772"/>
                  </a:lnTo>
                  <a:lnTo>
                    <a:pt x="1791" y="736"/>
                  </a:lnTo>
                  <a:lnTo>
                    <a:pt x="1796" y="736"/>
                  </a:lnTo>
                  <a:lnTo>
                    <a:pt x="1802" y="706"/>
                  </a:lnTo>
                  <a:lnTo>
                    <a:pt x="1817" y="731"/>
                  </a:lnTo>
                  <a:lnTo>
                    <a:pt x="1823" y="736"/>
                  </a:lnTo>
                  <a:lnTo>
                    <a:pt x="1828" y="762"/>
                  </a:lnTo>
                  <a:lnTo>
                    <a:pt x="1833" y="802"/>
                  </a:lnTo>
                  <a:lnTo>
                    <a:pt x="1838" y="797"/>
                  </a:lnTo>
                  <a:lnTo>
                    <a:pt x="1854" y="797"/>
                  </a:lnTo>
                  <a:lnTo>
                    <a:pt x="1859" y="797"/>
                  </a:lnTo>
                  <a:lnTo>
                    <a:pt x="1865" y="817"/>
                  </a:lnTo>
                  <a:lnTo>
                    <a:pt x="1870" y="822"/>
                  </a:lnTo>
                  <a:lnTo>
                    <a:pt x="1875" y="822"/>
                  </a:lnTo>
                  <a:lnTo>
                    <a:pt x="1891" y="867"/>
                  </a:lnTo>
                  <a:lnTo>
                    <a:pt x="1896" y="847"/>
                  </a:lnTo>
                  <a:lnTo>
                    <a:pt x="1901" y="837"/>
                  </a:lnTo>
                  <a:lnTo>
                    <a:pt x="1906" y="827"/>
                  </a:lnTo>
                  <a:lnTo>
                    <a:pt x="1912" y="812"/>
                  </a:lnTo>
                  <a:lnTo>
                    <a:pt x="1927" y="807"/>
                  </a:lnTo>
                  <a:lnTo>
                    <a:pt x="1933" y="837"/>
                  </a:lnTo>
                  <a:lnTo>
                    <a:pt x="1938" y="787"/>
                  </a:lnTo>
                  <a:lnTo>
                    <a:pt x="1943" y="767"/>
                  </a:lnTo>
                  <a:lnTo>
                    <a:pt x="1948" y="792"/>
                  </a:lnTo>
                  <a:lnTo>
                    <a:pt x="1964" y="782"/>
                  </a:lnTo>
                  <a:lnTo>
                    <a:pt x="1969" y="767"/>
                  </a:lnTo>
                  <a:lnTo>
                    <a:pt x="1975" y="797"/>
                  </a:lnTo>
                  <a:lnTo>
                    <a:pt x="1980" y="807"/>
                  </a:lnTo>
                  <a:lnTo>
                    <a:pt x="1985" y="792"/>
                  </a:lnTo>
                  <a:lnTo>
                    <a:pt x="2001" y="792"/>
                  </a:lnTo>
                  <a:lnTo>
                    <a:pt x="2006" y="751"/>
                  </a:lnTo>
                  <a:lnTo>
                    <a:pt x="2011" y="757"/>
                  </a:lnTo>
                  <a:lnTo>
                    <a:pt x="2016" y="746"/>
                  </a:lnTo>
                  <a:lnTo>
                    <a:pt x="2022" y="767"/>
                  </a:lnTo>
                  <a:lnTo>
                    <a:pt x="2037" y="787"/>
                  </a:lnTo>
                  <a:lnTo>
                    <a:pt x="2043" y="822"/>
                  </a:lnTo>
                  <a:lnTo>
                    <a:pt x="2048" y="832"/>
                  </a:lnTo>
                  <a:lnTo>
                    <a:pt x="2053" y="827"/>
                  </a:lnTo>
                  <a:lnTo>
                    <a:pt x="2058" y="822"/>
                  </a:lnTo>
                  <a:lnTo>
                    <a:pt x="2074" y="832"/>
                  </a:lnTo>
                  <a:lnTo>
                    <a:pt x="2079" y="842"/>
                  </a:lnTo>
                  <a:lnTo>
                    <a:pt x="2084" y="837"/>
                  </a:lnTo>
                  <a:lnTo>
                    <a:pt x="2090" y="867"/>
                  </a:lnTo>
                  <a:lnTo>
                    <a:pt x="2095" y="867"/>
                  </a:lnTo>
                  <a:lnTo>
                    <a:pt x="2111" y="877"/>
                  </a:lnTo>
                  <a:lnTo>
                    <a:pt x="2116" y="892"/>
                  </a:lnTo>
                  <a:lnTo>
                    <a:pt x="2121" y="867"/>
                  </a:lnTo>
                  <a:lnTo>
                    <a:pt x="2126" y="892"/>
                  </a:lnTo>
                  <a:lnTo>
                    <a:pt x="2132" y="902"/>
                  </a:lnTo>
                  <a:lnTo>
                    <a:pt x="2147" y="887"/>
                  </a:lnTo>
                  <a:lnTo>
                    <a:pt x="2153" y="902"/>
                  </a:lnTo>
                  <a:lnTo>
                    <a:pt x="2158" y="902"/>
                  </a:lnTo>
                  <a:lnTo>
                    <a:pt x="2163" y="917"/>
                  </a:lnTo>
                  <a:lnTo>
                    <a:pt x="2168" y="927"/>
                  </a:lnTo>
                  <a:lnTo>
                    <a:pt x="2184" y="927"/>
                  </a:lnTo>
                  <a:lnTo>
                    <a:pt x="2189" y="912"/>
                  </a:lnTo>
                  <a:lnTo>
                    <a:pt x="2194" y="922"/>
                  </a:lnTo>
                  <a:lnTo>
                    <a:pt x="2200" y="937"/>
                  </a:lnTo>
                  <a:lnTo>
                    <a:pt x="2205" y="942"/>
                  </a:lnTo>
                  <a:lnTo>
                    <a:pt x="2221" y="972"/>
                  </a:lnTo>
                  <a:lnTo>
                    <a:pt x="2226" y="957"/>
                  </a:lnTo>
                  <a:lnTo>
                    <a:pt x="2231" y="947"/>
                  </a:lnTo>
                  <a:lnTo>
                    <a:pt x="2236" y="952"/>
                  </a:lnTo>
                  <a:lnTo>
                    <a:pt x="2242" y="957"/>
                  </a:lnTo>
                  <a:lnTo>
                    <a:pt x="2257" y="987"/>
                  </a:lnTo>
                  <a:lnTo>
                    <a:pt x="2263" y="992"/>
                  </a:lnTo>
                  <a:lnTo>
                    <a:pt x="2268" y="997"/>
                  </a:lnTo>
                  <a:lnTo>
                    <a:pt x="2273" y="932"/>
                  </a:lnTo>
                  <a:lnTo>
                    <a:pt x="2278" y="957"/>
                  </a:lnTo>
                  <a:lnTo>
                    <a:pt x="2294" y="892"/>
                  </a:lnTo>
                  <a:lnTo>
                    <a:pt x="2299" y="882"/>
                  </a:lnTo>
                  <a:lnTo>
                    <a:pt x="2304" y="867"/>
                  </a:lnTo>
                  <a:lnTo>
                    <a:pt x="2310" y="862"/>
                  </a:lnTo>
                  <a:lnTo>
                    <a:pt x="2315" y="867"/>
                  </a:lnTo>
                  <a:lnTo>
                    <a:pt x="2331" y="837"/>
                  </a:lnTo>
                  <a:lnTo>
                    <a:pt x="2336" y="857"/>
                  </a:lnTo>
                  <a:lnTo>
                    <a:pt x="2341" y="792"/>
                  </a:lnTo>
                  <a:lnTo>
                    <a:pt x="2346" y="782"/>
                  </a:lnTo>
                  <a:lnTo>
                    <a:pt x="2352" y="782"/>
                  </a:lnTo>
                  <a:lnTo>
                    <a:pt x="2367" y="787"/>
                  </a:lnTo>
                  <a:lnTo>
                    <a:pt x="2373" y="762"/>
                  </a:lnTo>
                  <a:lnTo>
                    <a:pt x="2378" y="777"/>
                  </a:lnTo>
                  <a:lnTo>
                    <a:pt x="2383" y="782"/>
                  </a:lnTo>
                  <a:lnTo>
                    <a:pt x="2388" y="767"/>
                  </a:lnTo>
                  <a:lnTo>
                    <a:pt x="2404" y="736"/>
                  </a:lnTo>
                  <a:lnTo>
                    <a:pt x="2409" y="767"/>
                  </a:lnTo>
                  <a:lnTo>
                    <a:pt x="2414" y="832"/>
                  </a:lnTo>
                  <a:lnTo>
                    <a:pt x="2420" y="847"/>
                  </a:lnTo>
                  <a:lnTo>
                    <a:pt x="2425" y="842"/>
                  </a:lnTo>
                  <a:lnTo>
                    <a:pt x="2441" y="827"/>
                  </a:lnTo>
                  <a:lnTo>
                    <a:pt x="2446" y="812"/>
                  </a:lnTo>
                  <a:lnTo>
                    <a:pt x="2451" y="847"/>
                  </a:lnTo>
                  <a:lnTo>
                    <a:pt x="2456" y="787"/>
                  </a:lnTo>
                  <a:lnTo>
                    <a:pt x="2462" y="726"/>
                  </a:lnTo>
                  <a:lnTo>
                    <a:pt x="2477" y="716"/>
                  </a:lnTo>
                  <a:lnTo>
                    <a:pt x="2483" y="736"/>
                  </a:lnTo>
                  <a:lnTo>
                    <a:pt x="2488" y="746"/>
                  </a:lnTo>
                  <a:lnTo>
                    <a:pt x="2493" y="827"/>
                  </a:lnTo>
                  <a:lnTo>
                    <a:pt x="2498" y="797"/>
                  </a:lnTo>
                  <a:lnTo>
                    <a:pt x="2514" y="797"/>
                  </a:lnTo>
                  <a:lnTo>
                    <a:pt x="2519" y="797"/>
                  </a:lnTo>
                  <a:lnTo>
                    <a:pt x="2524" y="792"/>
                  </a:lnTo>
                  <a:lnTo>
                    <a:pt x="2530" y="751"/>
                  </a:lnTo>
                  <a:lnTo>
                    <a:pt x="2535" y="772"/>
                  </a:lnTo>
                  <a:lnTo>
                    <a:pt x="2551" y="762"/>
                  </a:lnTo>
                  <a:lnTo>
                    <a:pt x="2556" y="802"/>
                  </a:lnTo>
                  <a:lnTo>
                    <a:pt x="2561" y="837"/>
                  </a:lnTo>
                  <a:lnTo>
                    <a:pt x="2566" y="832"/>
                  </a:lnTo>
                  <a:lnTo>
                    <a:pt x="2572" y="867"/>
                  </a:lnTo>
                  <a:lnTo>
                    <a:pt x="2587" y="877"/>
                  </a:lnTo>
                  <a:lnTo>
                    <a:pt x="2593" y="832"/>
                  </a:lnTo>
                  <a:lnTo>
                    <a:pt x="2598" y="812"/>
                  </a:lnTo>
                  <a:lnTo>
                    <a:pt x="2603" y="812"/>
                  </a:lnTo>
                  <a:lnTo>
                    <a:pt x="2608" y="797"/>
                  </a:lnTo>
                  <a:lnTo>
                    <a:pt x="2624" y="797"/>
                  </a:lnTo>
                  <a:lnTo>
                    <a:pt x="2629" y="787"/>
                  </a:lnTo>
                  <a:lnTo>
                    <a:pt x="2634" y="792"/>
                  </a:lnTo>
                  <a:lnTo>
                    <a:pt x="2640" y="827"/>
                  </a:lnTo>
                  <a:lnTo>
                    <a:pt x="2645" y="837"/>
                  </a:lnTo>
                  <a:lnTo>
                    <a:pt x="2661" y="817"/>
                  </a:lnTo>
                  <a:lnTo>
                    <a:pt x="2666" y="812"/>
                  </a:lnTo>
                  <a:lnTo>
                    <a:pt x="2671" y="847"/>
                  </a:lnTo>
                  <a:lnTo>
                    <a:pt x="2676" y="852"/>
                  </a:lnTo>
                  <a:lnTo>
                    <a:pt x="2682" y="862"/>
                  </a:lnTo>
                  <a:lnTo>
                    <a:pt x="2697" y="862"/>
                  </a:lnTo>
                  <a:lnTo>
                    <a:pt x="2703" y="862"/>
                  </a:lnTo>
                  <a:lnTo>
                    <a:pt x="2708" y="862"/>
                  </a:lnTo>
                  <a:lnTo>
                    <a:pt x="2713" y="907"/>
                  </a:lnTo>
                  <a:lnTo>
                    <a:pt x="2718" y="937"/>
                  </a:lnTo>
                  <a:lnTo>
                    <a:pt x="2734" y="877"/>
                  </a:lnTo>
                  <a:lnTo>
                    <a:pt x="2739" y="872"/>
                  </a:lnTo>
                  <a:lnTo>
                    <a:pt x="2744" y="887"/>
                  </a:lnTo>
                  <a:lnTo>
                    <a:pt x="2750" y="877"/>
                  </a:lnTo>
                  <a:lnTo>
                    <a:pt x="2755" y="912"/>
                  </a:lnTo>
                  <a:lnTo>
                    <a:pt x="2771" y="907"/>
                  </a:lnTo>
                  <a:lnTo>
                    <a:pt x="2776" y="917"/>
                  </a:lnTo>
                  <a:lnTo>
                    <a:pt x="2781" y="907"/>
                  </a:lnTo>
                  <a:lnTo>
                    <a:pt x="2786" y="897"/>
                  </a:lnTo>
                  <a:lnTo>
                    <a:pt x="2792" y="917"/>
                  </a:lnTo>
                  <a:lnTo>
                    <a:pt x="2807" y="927"/>
                  </a:lnTo>
                  <a:lnTo>
                    <a:pt x="2812" y="912"/>
                  </a:lnTo>
                  <a:lnTo>
                    <a:pt x="2818" y="892"/>
                  </a:lnTo>
                  <a:lnTo>
                    <a:pt x="2823" y="912"/>
                  </a:lnTo>
                  <a:lnTo>
                    <a:pt x="2828" y="892"/>
                  </a:lnTo>
                  <a:lnTo>
                    <a:pt x="2844" y="897"/>
                  </a:lnTo>
                  <a:lnTo>
                    <a:pt x="2849" y="912"/>
                  </a:lnTo>
                  <a:lnTo>
                    <a:pt x="2854" y="932"/>
                  </a:lnTo>
                  <a:lnTo>
                    <a:pt x="2860" y="912"/>
                  </a:lnTo>
                  <a:lnTo>
                    <a:pt x="2865" y="942"/>
                  </a:lnTo>
                  <a:lnTo>
                    <a:pt x="2881" y="942"/>
                  </a:lnTo>
                  <a:lnTo>
                    <a:pt x="2886" y="947"/>
                  </a:lnTo>
                  <a:lnTo>
                    <a:pt x="2891" y="932"/>
                  </a:lnTo>
                  <a:lnTo>
                    <a:pt x="2896" y="917"/>
                  </a:lnTo>
                  <a:lnTo>
                    <a:pt x="2902" y="957"/>
                  </a:lnTo>
                  <a:lnTo>
                    <a:pt x="2917" y="927"/>
                  </a:lnTo>
                  <a:lnTo>
                    <a:pt x="2922" y="972"/>
                  </a:lnTo>
                  <a:lnTo>
                    <a:pt x="2928" y="977"/>
                  </a:lnTo>
                  <a:lnTo>
                    <a:pt x="2933" y="987"/>
                  </a:lnTo>
                  <a:lnTo>
                    <a:pt x="2938" y="972"/>
                  </a:lnTo>
                  <a:lnTo>
                    <a:pt x="2954" y="997"/>
                  </a:lnTo>
                  <a:lnTo>
                    <a:pt x="2959" y="962"/>
                  </a:lnTo>
                  <a:lnTo>
                    <a:pt x="2964" y="952"/>
                  </a:lnTo>
                  <a:lnTo>
                    <a:pt x="2970" y="997"/>
                  </a:lnTo>
                  <a:lnTo>
                    <a:pt x="2975" y="982"/>
                  </a:lnTo>
                  <a:lnTo>
                    <a:pt x="2991" y="992"/>
                  </a:lnTo>
                  <a:lnTo>
                    <a:pt x="2996" y="977"/>
                  </a:lnTo>
                  <a:lnTo>
                    <a:pt x="3001" y="997"/>
                  </a:lnTo>
                  <a:lnTo>
                    <a:pt x="3006" y="987"/>
                  </a:lnTo>
                  <a:lnTo>
                    <a:pt x="3012" y="1032"/>
                  </a:lnTo>
                  <a:lnTo>
                    <a:pt x="3027" y="1032"/>
                  </a:lnTo>
                  <a:lnTo>
                    <a:pt x="3032" y="1047"/>
                  </a:lnTo>
                  <a:lnTo>
                    <a:pt x="3038" y="1047"/>
                  </a:lnTo>
                  <a:lnTo>
                    <a:pt x="3043" y="1062"/>
                  </a:lnTo>
                  <a:lnTo>
                    <a:pt x="3048" y="1082"/>
                  </a:lnTo>
                  <a:lnTo>
                    <a:pt x="3064" y="1077"/>
                  </a:lnTo>
                  <a:lnTo>
                    <a:pt x="3069" y="1037"/>
                  </a:lnTo>
                  <a:lnTo>
                    <a:pt x="3074" y="1087"/>
                  </a:lnTo>
                  <a:lnTo>
                    <a:pt x="3080" y="1027"/>
                  </a:lnTo>
                  <a:lnTo>
                    <a:pt x="3085" y="1017"/>
                  </a:lnTo>
                  <a:lnTo>
                    <a:pt x="3101" y="1042"/>
                  </a:lnTo>
                  <a:lnTo>
                    <a:pt x="3106" y="1037"/>
                  </a:lnTo>
                  <a:lnTo>
                    <a:pt x="3111" y="1037"/>
                  </a:lnTo>
                  <a:lnTo>
                    <a:pt x="3116" y="1022"/>
                  </a:lnTo>
                  <a:lnTo>
                    <a:pt x="3122" y="1007"/>
                  </a:lnTo>
                  <a:lnTo>
                    <a:pt x="3137" y="1007"/>
                  </a:lnTo>
                  <a:lnTo>
                    <a:pt x="3142" y="1017"/>
                  </a:lnTo>
                  <a:lnTo>
                    <a:pt x="3148" y="1007"/>
                  </a:lnTo>
                  <a:lnTo>
                    <a:pt x="3153" y="997"/>
                  </a:lnTo>
                  <a:lnTo>
                    <a:pt x="3158" y="1027"/>
                  </a:lnTo>
                  <a:lnTo>
                    <a:pt x="3174" y="1017"/>
                  </a:lnTo>
                  <a:lnTo>
                    <a:pt x="3179" y="1002"/>
                  </a:lnTo>
                  <a:lnTo>
                    <a:pt x="3184" y="1017"/>
                  </a:lnTo>
                  <a:lnTo>
                    <a:pt x="3190" y="1037"/>
                  </a:lnTo>
                  <a:lnTo>
                    <a:pt x="3195" y="1047"/>
                  </a:lnTo>
                  <a:lnTo>
                    <a:pt x="3211" y="1047"/>
                  </a:lnTo>
                  <a:lnTo>
                    <a:pt x="3216" y="1062"/>
                  </a:lnTo>
                  <a:lnTo>
                    <a:pt x="3221" y="1077"/>
                  </a:lnTo>
                  <a:lnTo>
                    <a:pt x="3226" y="1112"/>
                  </a:lnTo>
                  <a:lnTo>
                    <a:pt x="3231" y="1107"/>
                  </a:lnTo>
                  <a:lnTo>
                    <a:pt x="3247" y="1117"/>
                  </a:lnTo>
                  <a:lnTo>
                    <a:pt x="3252" y="1112"/>
                  </a:lnTo>
                  <a:lnTo>
                    <a:pt x="3258" y="1127"/>
                  </a:lnTo>
                  <a:lnTo>
                    <a:pt x="3263" y="1142"/>
                  </a:lnTo>
                  <a:lnTo>
                    <a:pt x="3268" y="1157"/>
                  </a:lnTo>
                  <a:lnTo>
                    <a:pt x="3284" y="1147"/>
                  </a:lnTo>
                  <a:lnTo>
                    <a:pt x="3289" y="1137"/>
                  </a:lnTo>
                  <a:lnTo>
                    <a:pt x="3294" y="1147"/>
                  </a:lnTo>
                  <a:lnTo>
                    <a:pt x="3300" y="1147"/>
                  </a:lnTo>
                  <a:lnTo>
                    <a:pt x="3305" y="1162"/>
                  </a:lnTo>
                  <a:lnTo>
                    <a:pt x="3321" y="1188"/>
                  </a:lnTo>
                  <a:lnTo>
                    <a:pt x="3326" y="1193"/>
                  </a:lnTo>
                  <a:lnTo>
                    <a:pt x="3331" y="1188"/>
                  </a:lnTo>
                  <a:lnTo>
                    <a:pt x="3336" y="1208"/>
                  </a:lnTo>
                  <a:lnTo>
                    <a:pt x="3341" y="1218"/>
                  </a:lnTo>
                  <a:lnTo>
                    <a:pt x="3357" y="1238"/>
                  </a:lnTo>
                  <a:lnTo>
                    <a:pt x="3362" y="1238"/>
                  </a:lnTo>
                  <a:lnTo>
                    <a:pt x="3368" y="1213"/>
                  </a:lnTo>
                  <a:lnTo>
                    <a:pt x="3373" y="1142"/>
                  </a:lnTo>
                  <a:lnTo>
                    <a:pt x="3378" y="1167"/>
                  </a:lnTo>
                  <a:lnTo>
                    <a:pt x="3394" y="1167"/>
                  </a:lnTo>
                  <a:lnTo>
                    <a:pt x="3399" y="1177"/>
                  </a:lnTo>
                  <a:lnTo>
                    <a:pt x="3404" y="1137"/>
                  </a:lnTo>
                  <a:lnTo>
                    <a:pt x="3410" y="1097"/>
                  </a:lnTo>
                  <a:lnTo>
                    <a:pt x="3415" y="1082"/>
                  </a:lnTo>
                  <a:lnTo>
                    <a:pt x="3431" y="1107"/>
                  </a:lnTo>
                  <a:lnTo>
                    <a:pt x="3436" y="1132"/>
                  </a:lnTo>
                  <a:lnTo>
                    <a:pt x="3441" y="1112"/>
                  </a:lnTo>
                  <a:lnTo>
                    <a:pt x="3446" y="1087"/>
                  </a:lnTo>
                  <a:lnTo>
                    <a:pt x="3451" y="1062"/>
                  </a:lnTo>
                  <a:lnTo>
                    <a:pt x="3467" y="1097"/>
                  </a:lnTo>
                  <a:lnTo>
                    <a:pt x="3472" y="1142"/>
                  </a:lnTo>
                  <a:lnTo>
                    <a:pt x="3478" y="1142"/>
                  </a:lnTo>
                  <a:lnTo>
                    <a:pt x="3483" y="1112"/>
                  </a:lnTo>
                  <a:lnTo>
                    <a:pt x="3488" y="1127"/>
                  </a:lnTo>
                  <a:lnTo>
                    <a:pt x="3504" y="1142"/>
                  </a:lnTo>
                  <a:lnTo>
                    <a:pt x="3509" y="1157"/>
                  </a:lnTo>
                  <a:lnTo>
                    <a:pt x="3514" y="1152"/>
                  </a:lnTo>
                  <a:lnTo>
                    <a:pt x="3520" y="1152"/>
                  </a:lnTo>
                  <a:lnTo>
                    <a:pt x="3525" y="1132"/>
                  </a:lnTo>
                  <a:lnTo>
                    <a:pt x="3540" y="1127"/>
                  </a:lnTo>
                  <a:lnTo>
                    <a:pt x="3546" y="1132"/>
                  </a:lnTo>
                  <a:lnTo>
                    <a:pt x="3551" y="1147"/>
                  </a:lnTo>
                  <a:lnTo>
                    <a:pt x="3556" y="1112"/>
                  </a:lnTo>
                  <a:lnTo>
                    <a:pt x="3561" y="1112"/>
                  </a:lnTo>
                  <a:lnTo>
                    <a:pt x="3577" y="1152"/>
                  </a:lnTo>
                  <a:lnTo>
                    <a:pt x="3582" y="1147"/>
                  </a:lnTo>
                  <a:lnTo>
                    <a:pt x="3588" y="1142"/>
                  </a:lnTo>
                  <a:lnTo>
                    <a:pt x="3593" y="1147"/>
                  </a:lnTo>
                  <a:lnTo>
                    <a:pt x="3598" y="1152"/>
                  </a:lnTo>
                  <a:lnTo>
                    <a:pt x="3614" y="1147"/>
                  </a:lnTo>
                  <a:lnTo>
                    <a:pt x="3619" y="1142"/>
                  </a:lnTo>
                  <a:lnTo>
                    <a:pt x="3624" y="1172"/>
                  </a:lnTo>
                  <a:lnTo>
                    <a:pt x="3630" y="1172"/>
                  </a:lnTo>
                  <a:lnTo>
                    <a:pt x="3635" y="1188"/>
                  </a:lnTo>
                  <a:lnTo>
                    <a:pt x="3650" y="1177"/>
                  </a:lnTo>
                  <a:lnTo>
                    <a:pt x="3656" y="1188"/>
                  </a:lnTo>
                  <a:lnTo>
                    <a:pt x="3661" y="1162"/>
                  </a:lnTo>
                  <a:lnTo>
                    <a:pt x="3666" y="1167"/>
                  </a:lnTo>
                  <a:lnTo>
                    <a:pt x="3671" y="1177"/>
                  </a:lnTo>
                  <a:lnTo>
                    <a:pt x="3687" y="1182"/>
                  </a:lnTo>
                  <a:lnTo>
                    <a:pt x="3692" y="1177"/>
                  </a:lnTo>
                  <a:lnTo>
                    <a:pt x="3698" y="1182"/>
                  </a:lnTo>
                  <a:lnTo>
                    <a:pt x="3703" y="1147"/>
                  </a:lnTo>
                  <a:lnTo>
                    <a:pt x="3708" y="1162"/>
                  </a:lnTo>
                  <a:lnTo>
                    <a:pt x="3724" y="1172"/>
                  </a:lnTo>
                  <a:lnTo>
                    <a:pt x="3729" y="1162"/>
                  </a:lnTo>
                  <a:lnTo>
                    <a:pt x="3734" y="1167"/>
                  </a:lnTo>
                  <a:lnTo>
                    <a:pt x="3740" y="1152"/>
                  </a:lnTo>
                  <a:lnTo>
                    <a:pt x="3745" y="1152"/>
                  </a:lnTo>
                  <a:lnTo>
                    <a:pt x="3760" y="1147"/>
                  </a:lnTo>
                  <a:lnTo>
                    <a:pt x="3766" y="1157"/>
                  </a:lnTo>
                  <a:lnTo>
                    <a:pt x="3771" y="1162"/>
                  </a:lnTo>
                  <a:lnTo>
                    <a:pt x="3776" y="1177"/>
                  </a:lnTo>
                  <a:lnTo>
                    <a:pt x="3781" y="1152"/>
                  </a:lnTo>
                  <a:lnTo>
                    <a:pt x="3797" y="1152"/>
                  </a:lnTo>
                  <a:lnTo>
                    <a:pt x="3802" y="1147"/>
                  </a:lnTo>
                  <a:lnTo>
                    <a:pt x="3808" y="1152"/>
                  </a:lnTo>
                  <a:lnTo>
                    <a:pt x="3813" y="1167"/>
                  </a:lnTo>
                  <a:lnTo>
                    <a:pt x="3818" y="1147"/>
                  </a:lnTo>
                  <a:lnTo>
                    <a:pt x="3834" y="1147"/>
                  </a:lnTo>
                  <a:lnTo>
                    <a:pt x="3839" y="1167"/>
                  </a:lnTo>
                  <a:lnTo>
                    <a:pt x="3844" y="1193"/>
                  </a:lnTo>
                  <a:lnTo>
                    <a:pt x="3850" y="1182"/>
                  </a:lnTo>
                  <a:lnTo>
                    <a:pt x="3855" y="1193"/>
                  </a:lnTo>
                  <a:lnTo>
                    <a:pt x="3870" y="1193"/>
                  </a:lnTo>
                  <a:lnTo>
                    <a:pt x="3876" y="1172"/>
                  </a:lnTo>
                  <a:lnTo>
                    <a:pt x="3881" y="1198"/>
                  </a:lnTo>
                  <a:lnTo>
                    <a:pt x="3886" y="1162"/>
                  </a:lnTo>
                  <a:lnTo>
                    <a:pt x="3891" y="1137"/>
                  </a:lnTo>
                  <a:lnTo>
                    <a:pt x="3907" y="1137"/>
                  </a:lnTo>
                  <a:lnTo>
                    <a:pt x="3912" y="1137"/>
                  </a:lnTo>
                  <a:lnTo>
                    <a:pt x="3918" y="1152"/>
                  </a:lnTo>
                  <a:lnTo>
                    <a:pt x="3923" y="1167"/>
                  </a:lnTo>
                  <a:lnTo>
                    <a:pt x="3928" y="1177"/>
                  </a:lnTo>
                  <a:lnTo>
                    <a:pt x="3944" y="1172"/>
                  </a:lnTo>
                  <a:lnTo>
                    <a:pt x="3949" y="1198"/>
                  </a:lnTo>
                  <a:lnTo>
                    <a:pt x="3954" y="1218"/>
                  </a:lnTo>
                  <a:lnTo>
                    <a:pt x="3959" y="1213"/>
                  </a:lnTo>
                  <a:lnTo>
                    <a:pt x="3965" y="1213"/>
                  </a:lnTo>
                  <a:lnTo>
                    <a:pt x="3980" y="1198"/>
                  </a:lnTo>
                  <a:lnTo>
                    <a:pt x="3986" y="1193"/>
                  </a:lnTo>
                  <a:lnTo>
                    <a:pt x="3991" y="1198"/>
                  </a:lnTo>
                  <a:lnTo>
                    <a:pt x="3996" y="1203"/>
                  </a:lnTo>
                  <a:lnTo>
                    <a:pt x="4001" y="1182"/>
                  </a:lnTo>
                  <a:lnTo>
                    <a:pt x="4017" y="1198"/>
                  </a:lnTo>
                  <a:lnTo>
                    <a:pt x="4022" y="1203"/>
                  </a:lnTo>
                  <a:lnTo>
                    <a:pt x="4028" y="1208"/>
                  </a:lnTo>
                  <a:lnTo>
                    <a:pt x="4033" y="1193"/>
                  </a:lnTo>
                  <a:lnTo>
                    <a:pt x="4038" y="1228"/>
                  </a:lnTo>
                  <a:lnTo>
                    <a:pt x="4054" y="1228"/>
                  </a:lnTo>
                  <a:lnTo>
                    <a:pt x="4059" y="1243"/>
                  </a:lnTo>
                  <a:lnTo>
                    <a:pt x="4064" y="1243"/>
                  </a:lnTo>
                  <a:lnTo>
                    <a:pt x="4069" y="1238"/>
                  </a:lnTo>
                  <a:lnTo>
                    <a:pt x="4075" y="1233"/>
                  </a:lnTo>
                  <a:lnTo>
                    <a:pt x="4090" y="1233"/>
                  </a:lnTo>
                  <a:lnTo>
                    <a:pt x="4096" y="1238"/>
                  </a:lnTo>
                  <a:lnTo>
                    <a:pt x="4101" y="1218"/>
                  </a:lnTo>
                  <a:lnTo>
                    <a:pt x="4106" y="1253"/>
                  </a:lnTo>
                  <a:lnTo>
                    <a:pt x="4111" y="1268"/>
                  </a:lnTo>
                  <a:lnTo>
                    <a:pt x="4127" y="1288"/>
                  </a:lnTo>
                  <a:lnTo>
                    <a:pt x="4132" y="1253"/>
                  </a:lnTo>
                  <a:lnTo>
                    <a:pt x="4138" y="1278"/>
                  </a:lnTo>
                  <a:lnTo>
                    <a:pt x="4143" y="1283"/>
                  </a:lnTo>
                  <a:lnTo>
                    <a:pt x="4148" y="1268"/>
                  </a:lnTo>
                  <a:lnTo>
                    <a:pt x="4164" y="1263"/>
                  </a:lnTo>
                  <a:lnTo>
                    <a:pt x="4169" y="1228"/>
                  </a:lnTo>
                  <a:lnTo>
                    <a:pt x="4174" y="1208"/>
                  </a:lnTo>
                  <a:lnTo>
                    <a:pt x="4179" y="1213"/>
                  </a:lnTo>
                  <a:lnTo>
                    <a:pt x="4185" y="1223"/>
                  </a:lnTo>
                  <a:lnTo>
                    <a:pt x="4200" y="1228"/>
                  </a:lnTo>
                  <a:lnTo>
                    <a:pt x="4206" y="1208"/>
                  </a:lnTo>
                  <a:lnTo>
                    <a:pt x="4211" y="1223"/>
                  </a:lnTo>
                  <a:lnTo>
                    <a:pt x="4216" y="1223"/>
                  </a:lnTo>
                  <a:lnTo>
                    <a:pt x="4221" y="1228"/>
                  </a:lnTo>
                  <a:lnTo>
                    <a:pt x="4237" y="1223"/>
                  </a:lnTo>
                  <a:lnTo>
                    <a:pt x="4242" y="1233"/>
                  </a:lnTo>
                  <a:lnTo>
                    <a:pt x="4248" y="1223"/>
                  </a:lnTo>
                  <a:lnTo>
                    <a:pt x="4253" y="1233"/>
                  </a:lnTo>
                  <a:lnTo>
                    <a:pt x="4258" y="1213"/>
                  </a:lnTo>
                  <a:lnTo>
                    <a:pt x="4274" y="1213"/>
                  </a:lnTo>
                  <a:lnTo>
                    <a:pt x="4279" y="1223"/>
                  </a:lnTo>
                  <a:lnTo>
                    <a:pt x="4284" y="1218"/>
                  </a:lnTo>
                  <a:lnTo>
                    <a:pt x="4289" y="1233"/>
                  </a:lnTo>
                  <a:lnTo>
                    <a:pt x="4295" y="1238"/>
                  </a:lnTo>
                  <a:lnTo>
                    <a:pt x="4310" y="1238"/>
                  </a:lnTo>
                  <a:lnTo>
                    <a:pt x="4316" y="1238"/>
                  </a:lnTo>
                  <a:lnTo>
                    <a:pt x="4321" y="1223"/>
                  </a:lnTo>
                  <a:lnTo>
                    <a:pt x="4326" y="1218"/>
                  </a:lnTo>
                  <a:lnTo>
                    <a:pt x="4331" y="1223"/>
                  </a:lnTo>
                  <a:lnTo>
                    <a:pt x="4347" y="1208"/>
                  </a:lnTo>
                  <a:lnTo>
                    <a:pt x="4352" y="1198"/>
                  </a:lnTo>
                  <a:lnTo>
                    <a:pt x="4358" y="1218"/>
                  </a:lnTo>
                  <a:lnTo>
                    <a:pt x="4363" y="1223"/>
                  </a:lnTo>
                  <a:lnTo>
                    <a:pt x="4368" y="1223"/>
                  </a:lnTo>
                  <a:lnTo>
                    <a:pt x="4384" y="1203"/>
                  </a:lnTo>
                  <a:lnTo>
                    <a:pt x="4389" y="1213"/>
                  </a:lnTo>
                  <a:lnTo>
                    <a:pt x="4394" y="1253"/>
                  </a:lnTo>
                  <a:lnTo>
                    <a:pt x="4399" y="1268"/>
                  </a:lnTo>
                  <a:lnTo>
                    <a:pt x="4405" y="1258"/>
                  </a:lnTo>
                  <a:lnTo>
                    <a:pt x="4420" y="1258"/>
                  </a:lnTo>
                  <a:lnTo>
                    <a:pt x="4426" y="1268"/>
                  </a:lnTo>
                  <a:lnTo>
                    <a:pt x="4431" y="1263"/>
                  </a:lnTo>
                  <a:lnTo>
                    <a:pt x="4436" y="1273"/>
                  </a:lnTo>
                  <a:lnTo>
                    <a:pt x="4441" y="1268"/>
                  </a:lnTo>
                  <a:lnTo>
                    <a:pt x="4457" y="1298"/>
                  </a:lnTo>
                  <a:lnTo>
                    <a:pt x="4462" y="1268"/>
                  </a:lnTo>
                  <a:lnTo>
                    <a:pt x="4468" y="1278"/>
                  </a:lnTo>
                  <a:lnTo>
                    <a:pt x="4473" y="1273"/>
                  </a:lnTo>
                  <a:lnTo>
                    <a:pt x="4478" y="1258"/>
                  </a:lnTo>
                  <a:lnTo>
                    <a:pt x="4494" y="1258"/>
                  </a:lnTo>
                  <a:lnTo>
                    <a:pt x="4499" y="1248"/>
                  </a:lnTo>
                  <a:lnTo>
                    <a:pt x="4504" y="1253"/>
                  </a:lnTo>
                  <a:lnTo>
                    <a:pt x="4509" y="1238"/>
                  </a:lnTo>
                  <a:lnTo>
                    <a:pt x="4515" y="1213"/>
                  </a:lnTo>
                  <a:lnTo>
                    <a:pt x="4530" y="1162"/>
                  </a:lnTo>
                  <a:lnTo>
                    <a:pt x="4536" y="1177"/>
                  </a:lnTo>
                  <a:lnTo>
                    <a:pt x="4541" y="1162"/>
                  </a:lnTo>
                  <a:lnTo>
                    <a:pt x="4546" y="1142"/>
                  </a:lnTo>
                  <a:lnTo>
                    <a:pt x="4551" y="1132"/>
                  </a:lnTo>
                  <a:lnTo>
                    <a:pt x="4567" y="1082"/>
                  </a:lnTo>
                  <a:lnTo>
                    <a:pt x="4572" y="1122"/>
                  </a:lnTo>
                  <a:lnTo>
                    <a:pt x="4578" y="1087"/>
                  </a:lnTo>
                  <a:lnTo>
                    <a:pt x="4583" y="1117"/>
                  </a:lnTo>
                  <a:lnTo>
                    <a:pt x="4588" y="1117"/>
                  </a:lnTo>
                  <a:lnTo>
                    <a:pt x="4604" y="1117"/>
                  </a:lnTo>
                  <a:lnTo>
                    <a:pt x="4609" y="1112"/>
                  </a:lnTo>
                  <a:lnTo>
                    <a:pt x="4614" y="1117"/>
                  </a:lnTo>
                  <a:lnTo>
                    <a:pt x="4619" y="1122"/>
                  </a:lnTo>
                  <a:lnTo>
                    <a:pt x="4625" y="1072"/>
                  </a:lnTo>
                  <a:lnTo>
                    <a:pt x="4640" y="1092"/>
                  </a:lnTo>
                  <a:lnTo>
                    <a:pt x="4646" y="1062"/>
                  </a:lnTo>
                  <a:lnTo>
                    <a:pt x="4651" y="1087"/>
                  </a:lnTo>
                  <a:lnTo>
                    <a:pt x="4656" y="1057"/>
                  </a:lnTo>
                  <a:lnTo>
                    <a:pt x="4661" y="1057"/>
                  </a:lnTo>
                  <a:lnTo>
                    <a:pt x="4677" y="1052"/>
                  </a:lnTo>
                  <a:lnTo>
                    <a:pt x="4682" y="1012"/>
                  </a:lnTo>
                  <a:lnTo>
                    <a:pt x="4687" y="1052"/>
                  </a:lnTo>
                  <a:lnTo>
                    <a:pt x="4693" y="1062"/>
                  </a:lnTo>
                  <a:lnTo>
                    <a:pt x="4698" y="1052"/>
                  </a:lnTo>
                  <a:lnTo>
                    <a:pt x="4714" y="1077"/>
                  </a:lnTo>
                  <a:lnTo>
                    <a:pt x="4719" y="1052"/>
                  </a:lnTo>
                  <a:lnTo>
                    <a:pt x="4724" y="1017"/>
                  </a:lnTo>
                  <a:lnTo>
                    <a:pt x="4729" y="1012"/>
                  </a:lnTo>
                  <a:lnTo>
                    <a:pt x="4735" y="967"/>
                  </a:lnTo>
                  <a:lnTo>
                    <a:pt x="4750" y="937"/>
                  </a:lnTo>
                  <a:lnTo>
                    <a:pt x="4756" y="922"/>
                  </a:lnTo>
                  <a:lnTo>
                    <a:pt x="4761" y="957"/>
                  </a:lnTo>
                  <a:lnTo>
                    <a:pt x="4766" y="967"/>
                  </a:lnTo>
                  <a:lnTo>
                    <a:pt x="4771" y="992"/>
                  </a:lnTo>
                  <a:lnTo>
                    <a:pt x="4787" y="1027"/>
                  </a:lnTo>
                </a:path>
              </a:pathLst>
            </a:custGeom>
            <a:noFill/>
            <a:ln w="270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88480" y="2203560"/>
              <a:ext cx="6120" cy="32684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36720" y="2394000"/>
              <a:ext cx="7296120" cy="1662120"/>
            </a:xfrm>
            <a:custGeom>
              <a:avLst/>
              <a:gdLst/>
              <a:ahLst/>
              <a:rect l="l" t="t" r="r" b="b"/>
              <a:pathLst>
                <a:path w="4787" h="1529">
                  <a:moveTo>
                    <a:pt x="0" y="577"/>
                  </a:moveTo>
                  <a:lnTo>
                    <a:pt x="5" y="602"/>
                  </a:lnTo>
                  <a:lnTo>
                    <a:pt x="21" y="602"/>
                  </a:lnTo>
                  <a:lnTo>
                    <a:pt x="26" y="677"/>
                  </a:lnTo>
                  <a:lnTo>
                    <a:pt x="31" y="702"/>
                  </a:lnTo>
                  <a:lnTo>
                    <a:pt x="37" y="702"/>
                  </a:lnTo>
                  <a:lnTo>
                    <a:pt x="42" y="752"/>
                  </a:lnTo>
                  <a:lnTo>
                    <a:pt x="58" y="727"/>
                  </a:lnTo>
                  <a:lnTo>
                    <a:pt x="63" y="677"/>
                  </a:lnTo>
                  <a:lnTo>
                    <a:pt x="68" y="652"/>
                  </a:lnTo>
                  <a:lnTo>
                    <a:pt x="73" y="702"/>
                  </a:lnTo>
                  <a:lnTo>
                    <a:pt x="79" y="627"/>
                  </a:lnTo>
                  <a:lnTo>
                    <a:pt x="94" y="627"/>
                  </a:lnTo>
                  <a:lnTo>
                    <a:pt x="100" y="602"/>
                  </a:lnTo>
                  <a:lnTo>
                    <a:pt x="105" y="577"/>
                  </a:lnTo>
                  <a:lnTo>
                    <a:pt x="110" y="527"/>
                  </a:lnTo>
                  <a:lnTo>
                    <a:pt x="115" y="552"/>
                  </a:lnTo>
                  <a:lnTo>
                    <a:pt x="131" y="502"/>
                  </a:lnTo>
                  <a:lnTo>
                    <a:pt x="136" y="552"/>
                  </a:lnTo>
                  <a:lnTo>
                    <a:pt x="141" y="577"/>
                  </a:lnTo>
                  <a:lnTo>
                    <a:pt x="147" y="527"/>
                  </a:lnTo>
                  <a:lnTo>
                    <a:pt x="152" y="477"/>
                  </a:lnTo>
                  <a:lnTo>
                    <a:pt x="168" y="401"/>
                  </a:lnTo>
                  <a:lnTo>
                    <a:pt x="173" y="426"/>
                  </a:lnTo>
                  <a:lnTo>
                    <a:pt x="178" y="401"/>
                  </a:lnTo>
                  <a:lnTo>
                    <a:pt x="183" y="502"/>
                  </a:lnTo>
                  <a:lnTo>
                    <a:pt x="189" y="426"/>
                  </a:lnTo>
                  <a:lnTo>
                    <a:pt x="204" y="477"/>
                  </a:lnTo>
                  <a:lnTo>
                    <a:pt x="209" y="451"/>
                  </a:lnTo>
                  <a:lnTo>
                    <a:pt x="215" y="527"/>
                  </a:lnTo>
                  <a:lnTo>
                    <a:pt x="220" y="577"/>
                  </a:lnTo>
                  <a:lnTo>
                    <a:pt x="225" y="627"/>
                  </a:lnTo>
                  <a:lnTo>
                    <a:pt x="241" y="627"/>
                  </a:lnTo>
                  <a:lnTo>
                    <a:pt x="246" y="502"/>
                  </a:lnTo>
                  <a:lnTo>
                    <a:pt x="251" y="527"/>
                  </a:lnTo>
                  <a:lnTo>
                    <a:pt x="257" y="502"/>
                  </a:lnTo>
                  <a:lnTo>
                    <a:pt x="262" y="527"/>
                  </a:lnTo>
                  <a:lnTo>
                    <a:pt x="278" y="502"/>
                  </a:lnTo>
                  <a:lnTo>
                    <a:pt x="283" y="527"/>
                  </a:lnTo>
                  <a:lnTo>
                    <a:pt x="288" y="552"/>
                  </a:lnTo>
                  <a:lnTo>
                    <a:pt x="293" y="577"/>
                  </a:lnTo>
                  <a:lnTo>
                    <a:pt x="299" y="627"/>
                  </a:lnTo>
                  <a:lnTo>
                    <a:pt x="314" y="602"/>
                  </a:lnTo>
                  <a:lnTo>
                    <a:pt x="319" y="577"/>
                  </a:lnTo>
                  <a:lnTo>
                    <a:pt x="325" y="577"/>
                  </a:lnTo>
                  <a:lnTo>
                    <a:pt x="330" y="577"/>
                  </a:lnTo>
                  <a:lnTo>
                    <a:pt x="335" y="527"/>
                  </a:lnTo>
                  <a:lnTo>
                    <a:pt x="351" y="552"/>
                  </a:lnTo>
                  <a:lnTo>
                    <a:pt x="356" y="552"/>
                  </a:lnTo>
                  <a:lnTo>
                    <a:pt x="361" y="552"/>
                  </a:lnTo>
                  <a:lnTo>
                    <a:pt x="367" y="627"/>
                  </a:lnTo>
                  <a:lnTo>
                    <a:pt x="372" y="376"/>
                  </a:lnTo>
                  <a:lnTo>
                    <a:pt x="388" y="376"/>
                  </a:lnTo>
                  <a:lnTo>
                    <a:pt x="393" y="401"/>
                  </a:lnTo>
                  <a:lnTo>
                    <a:pt x="398" y="401"/>
                  </a:lnTo>
                  <a:lnTo>
                    <a:pt x="403" y="426"/>
                  </a:lnTo>
                  <a:lnTo>
                    <a:pt x="409" y="426"/>
                  </a:lnTo>
                  <a:lnTo>
                    <a:pt x="424" y="426"/>
                  </a:lnTo>
                  <a:lnTo>
                    <a:pt x="429" y="502"/>
                  </a:lnTo>
                  <a:lnTo>
                    <a:pt x="435" y="477"/>
                  </a:lnTo>
                  <a:lnTo>
                    <a:pt x="440" y="527"/>
                  </a:lnTo>
                  <a:lnTo>
                    <a:pt x="445" y="552"/>
                  </a:lnTo>
                  <a:lnTo>
                    <a:pt x="461" y="577"/>
                  </a:lnTo>
                  <a:lnTo>
                    <a:pt x="466" y="602"/>
                  </a:lnTo>
                  <a:lnTo>
                    <a:pt x="471" y="552"/>
                  </a:lnTo>
                  <a:lnTo>
                    <a:pt x="477" y="502"/>
                  </a:lnTo>
                  <a:lnTo>
                    <a:pt x="482" y="552"/>
                  </a:lnTo>
                  <a:lnTo>
                    <a:pt x="498" y="552"/>
                  </a:lnTo>
                  <a:lnTo>
                    <a:pt x="503" y="552"/>
                  </a:lnTo>
                  <a:lnTo>
                    <a:pt x="508" y="627"/>
                  </a:lnTo>
                  <a:lnTo>
                    <a:pt x="513" y="627"/>
                  </a:lnTo>
                  <a:lnTo>
                    <a:pt x="519" y="627"/>
                  </a:lnTo>
                  <a:lnTo>
                    <a:pt x="534" y="627"/>
                  </a:lnTo>
                  <a:lnTo>
                    <a:pt x="539" y="752"/>
                  </a:lnTo>
                  <a:lnTo>
                    <a:pt x="545" y="802"/>
                  </a:lnTo>
                  <a:lnTo>
                    <a:pt x="550" y="852"/>
                  </a:lnTo>
                  <a:lnTo>
                    <a:pt x="555" y="802"/>
                  </a:lnTo>
                  <a:lnTo>
                    <a:pt x="571" y="777"/>
                  </a:lnTo>
                  <a:lnTo>
                    <a:pt x="576" y="802"/>
                  </a:lnTo>
                  <a:lnTo>
                    <a:pt x="581" y="777"/>
                  </a:lnTo>
                  <a:lnTo>
                    <a:pt x="587" y="752"/>
                  </a:lnTo>
                  <a:lnTo>
                    <a:pt x="592" y="752"/>
                  </a:lnTo>
                  <a:lnTo>
                    <a:pt x="608" y="752"/>
                  </a:lnTo>
                  <a:lnTo>
                    <a:pt x="613" y="727"/>
                  </a:lnTo>
                  <a:lnTo>
                    <a:pt x="618" y="727"/>
                  </a:lnTo>
                  <a:lnTo>
                    <a:pt x="623" y="502"/>
                  </a:lnTo>
                  <a:lnTo>
                    <a:pt x="628" y="527"/>
                  </a:lnTo>
                  <a:lnTo>
                    <a:pt x="644" y="477"/>
                  </a:lnTo>
                  <a:lnTo>
                    <a:pt x="649" y="326"/>
                  </a:lnTo>
                  <a:lnTo>
                    <a:pt x="655" y="401"/>
                  </a:lnTo>
                  <a:lnTo>
                    <a:pt x="660" y="0"/>
                  </a:lnTo>
                  <a:lnTo>
                    <a:pt x="665" y="126"/>
                  </a:lnTo>
                  <a:lnTo>
                    <a:pt x="681" y="51"/>
                  </a:lnTo>
                  <a:lnTo>
                    <a:pt x="686" y="276"/>
                  </a:lnTo>
                  <a:lnTo>
                    <a:pt x="691" y="326"/>
                  </a:lnTo>
                  <a:lnTo>
                    <a:pt x="697" y="351"/>
                  </a:lnTo>
                  <a:lnTo>
                    <a:pt x="702" y="426"/>
                  </a:lnTo>
                  <a:lnTo>
                    <a:pt x="718" y="426"/>
                  </a:lnTo>
                  <a:lnTo>
                    <a:pt x="723" y="451"/>
                  </a:lnTo>
                  <a:lnTo>
                    <a:pt x="728" y="502"/>
                  </a:lnTo>
                  <a:lnTo>
                    <a:pt x="733" y="502"/>
                  </a:lnTo>
                  <a:lnTo>
                    <a:pt x="738" y="502"/>
                  </a:lnTo>
                  <a:lnTo>
                    <a:pt x="754" y="552"/>
                  </a:lnTo>
                  <a:lnTo>
                    <a:pt x="759" y="527"/>
                  </a:lnTo>
                  <a:lnTo>
                    <a:pt x="765" y="527"/>
                  </a:lnTo>
                  <a:lnTo>
                    <a:pt x="770" y="502"/>
                  </a:lnTo>
                  <a:lnTo>
                    <a:pt x="775" y="527"/>
                  </a:lnTo>
                  <a:lnTo>
                    <a:pt x="791" y="527"/>
                  </a:lnTo>
                  <a:lnTo>
                    <a:pt x="796" y="552"/>
                  </a:lnTo>
                  <a:lnTo>
                    <a:pt x="801" y="552"/>
                  </a:lnTo>
                  <a:lnTo>
                    <a:pt x="807" y="577"/>
                  </a:lnTo>
                  <a:lnTo>
                    <a:pt x="812" y="652"/>
                  </a:lnTo>
                  <a:lnTo>
                    <a:pt x="828" y="652"/>
                  </a:lnTo>
                  <a:lnTo>
                    <a:pt x="833" y="627"/>
                  </a:lnTo>
                  <a:lnTo>
                    <a:pt x="838" y="677"/>
                  </a:lnTo>
                  <a:lnTo>
                    <a:pt x="843" y="677"/>
                  </a:lnTo>
                  <a:lnTo>
                    <a:pt x="848" y="677"/>
                  </a:lnTo>
                  <a:lnTo>
                    <a:pt x="864" y="677"/>
                  </a:lnTo>
                  <a:lnTo>
                    <a:pt x="869" y="652"/>
                  </a:lnTo>
                  <a:lnTo>
                    <a:pt x="875" y="727"/>
                  </a:lnTo>
                  <a:lnTo>
                    <a:pt x="880" y="752"/>
                  </a:lnTo>
                  <a:lnTo>
                    <a:pt x="885" y="752"/>
                  </a:lnTo>
                  <a:lnTo>
                    <a:pt x="901" y="752"/>
                  </a:lnTo>
                  <a:lnTo>
                    <a:pt x="906" y="727"/>
                  </a:lnTo>
                  <a:lnTo>
                    <a:pt x="911" y="702"/>
                  </a:lnTo>
                  <a:lnTo>
                    <a:pt x="917" y="702"/>
                  </a:lnTo>
                  <a:lnTo>
                    <a:pt x="922" y="702"/>
                  </a:lnTo>
                  <a:lnTo>
                    <a:pt x="937" y="702"/>
                  </a:lnTo>
                  <a:lnTo>
                    <a:pt x="943" y="677"/>
                  </a:lnTo>
                  <a:lnTo>
                    <a:pt x="948" y="752"/>
                  </a:lnTo>
                  <a:lnTo>
                    <a:pt x="953" y="702"/>
                  </a:lnTo>
                  <a:lnTo>
                    <a:pt x="958" y="652"/>
                  </a:lnTo>
                  <a:lnTo>
                    <a:pt x="974" y="652"/>
                  </a:lnTo>
                  <a:lnTo>
                    <a:pt x="979" y="652"/>
                  </a:lnTo>
                  <a:lnTo>
                    <a:pt x="985" y="677"/>
                  </a:lnTo>
                  <a:lnTo>
                    <a:pt x="990" y="677"/>
                  </a:lnTo>
                  <a:lnTo>
                    <a:pt x="995" y="702"/>
                  </a:lnTo>
                  <a:lnTo>
                    <a:pt x="1011" y="702"/>
                  </a:lnTo>
                  <a:lnTo>
                    <a:pt x="1016" y="702"/>
                  </a:lnTo>
                  <a:lnTo>
                    <a:pt x="1021" y="727"/>
                  </a:lnTo>
                  <a:lnTo>
                    <a:pt x="1027" y="702"/>
                  </a:lnTo>
                  <a:lnTo>
                    <a:pt x="1032" y="702"/>
                  </a:lnTo>
                  <a:lnTo>
                    <a:pt x="1047" y="702"/>
                  </a:lnTo>
                  <a:lnTo>
                    <a:pt x="1053" y="727"/>
                  </a:lnTo>
                  <a:lnTo>
                    <a:pt x="1058" y="727"/>
                  </a:lnTo>
                  <a:lnTo>
                    <a:pt x="1063" y="702"/>
                  </a:lnTo>
                  <a:lnTo>
                    <a:pt x="1068" y="727"/>
                  </a:lnTo>
                  <a:lnTo>
                    <a:pt x="1084" y="727"/>
                  </a:lnTo>
                  <a:lnTo>
                    <a:pt x="1089" y="677"/>
                  </a:lnTo>
                  <a:lnTo>
                    <a:pt x="1095" y="677"/>
                  </a:lnTo>
                  <a:lnTo>
                    <a:pt x="1100" y="777"/>
                  </a:lnTo>
                  <a:lnTo>
                    <a:pt x="1105" y="827"/>
                  </a:lnTo>
                  <a:lnTo>
                    <a:pt x="1121" y="827"/>
                  </a:lnTo>
                  <a:lnTo>
                    <a:pt x="1126" y="852"/>
                  </a:lnTo>
                  <a:lnTo>
                    <a:pt x="1131" y="903"/>
                  </a:lnTo>
                  <a:lnTo>
                    <a:pt x="1137" y="903"/>
                  </a:lnTo>
                  <a:lnTo>
                    <a:pt x="1142" y="827"/>
                  </a:lnTo>
                  <a:lnTo>
                    <a:pt x="1157" y="852"/>
                  </a:lnTo>
                  <a:lnTo>
                    <a:pt x="1163" y="852"/>
                  </a:lnTo>
                  <a:lnTo>
                    <a:pt x="1168" y="928"/>
                  </a:lnTo>
                  <a:lnTo>
                    <a:pt x="1173" y="953"/>
                  </a:lnTo>
                  <a:lnTo>
                    <a:pt x="1178" y="1003"/>
                  </a:lnTo>
                  <a:lnTo>
                    <a:pt x="1194" y="1028"/>
                  </a:lnTo>
                  <a:lnTo>
                    <a:pt x="1199" y="1053"/>
                  </a:lnTo>
                  <a:lnTo>
                    <a:pt x="1205" y="1128"/>
                  </a:lnTo>
                  <a:lnTo>
                    <a:pt x="1210" y="1103"/>
                  </a:lnTo>
                  <a:lnTo>
                    <a:pt x="1215" y="1128"/>
                  </a:lnTo>
                  <a:lnTo>
                    <a:pt x="1231" y="1103"/>
                  </a:lnTo>
                  <a:lnTo>
                    <a:pt x="1236" y="1078"/>
                  </a:lnTo>
                  <a:lnTo>
                    <a:pt x="1241" y="1078"/>
                  </a:lnTo>
                  <a:lnTo>
                    <a:pt x="1247" y="1053"/>
                  </a:lnTo>
                  <a:lnTo>
                    <a:pt x="1252" y="1103"/>
                  </a:lnTo>
                  <a:lnTo>
                    <a:pt x="1267" y="1078"/>
                  </a:lnTo>
                  <a:lnTo>
                    <a:pt x="1273" y="1078"/>
                  </a:lnTo>
                  <a:lnTo>
                    <a:pt x="1278" y="1078"/>
                  </a:lnTo>
                  <a:lnTo>
                    <a:pt x="1283" y="1053"/>
                  </a:lnTo>
                  <a:lnTo>
                    <a:pt x="1288" y="1053"/>
                  </a:lnTo>
                  <a:lnTo>
                    <a:pt x="1304" y="1053"/>
                  </a:lnTo>
                  <a:lnTo>
                    <a:pt x="1309" y="1053"/>
                  </a:lnTo>
                  <a:lnTo>
                    <a:pt x="1315" y="1078"/>
                  </a:lnTo>
                  <a:lnTo>
                    <a:pt x="1320" y="1078"/>
                  </a:lnTo>
                  <a:lnTo>
                    <a:pt x="1325" y="1053"/>
                  </a:lnTo>
                  <a:lnTo>
                    <a:pt x="1341" y="1028"/>
                  </a:lnTo>
                  <a:lnTo>
                    <a:pt x="1346" y="1028"/>
                  </a:lnTo>
                  <a:lnTo>
                    <a:pt x="1351" y="1028"/>
                  </a:lnTo>
                  <a:lnTo>
                    <a:pt x="1356" y="1028"/>
                  </a:lnTo>
                  <a:lnTo>
                    <a:pt x="1362" y="1028"/>
                  </a:lnTo>
                  <a:lnTo>
                    <a:pt x="1377" y="1028"/>
                  </a:lnTo>
                  <a:lnTo>
                    <a:pt x="1383" y="1028"/>
                  </a:lnTo>
                  <a:lnTo>
                    <a:pt x="1388" y="1053"/>
                  </a:lnTo>
                  <a:lnTo>
                    <a:pt x="1393" y="1053"/>
                  </a:lnTo>
                  <a:lnTo>
                    <a:pt x="1398" y="1028"/>
                  </a:lnTo>
                  <a:lnTo>
                    <a:pt x="1414" y="953"/>
                  </a:lnTo>
                  <a:lnTo>
                    <a:pt x="1419" y="953"/>
                  </a:lnTo>
                  <a:lnTo>
                    <a:pt x="1425" y="903"/>
                  </a:lnTo>
                  <a:lnTo>
                    <a:pt x="1430" y="877"/>
                  </a:lnTo>
                  <a:lnTo>
                    <a:pt x="1435" y="877"/>
                  </a:lnTo>
                  <a:lnTo>
                    <a:pt x="1451" y="877"/>
                  </a:lnTo>
                  <a:lnTo>
                    <a:pt x="1456" y="903"/>
                  </a:lnTo>
                  <a:lnTo>
                    <a:pt x="1461" y="903"/>
                  </a:lnTo>
                  <a:lnTo>
                    <a:pt x="1466" y="903"/>
                  </a:lnTo>
                  <a:lnTo>
                    <a:pt x="1472" y="928"/>
                  </a:lnTo>
                  <a:lnTo>
                    <a:pt x="1487" y="928"/>
                  </a:lnTo>
                  <a:lnTo>
                    <a:pt x="1493" y="978"/>
                  </a:lnTo>
                  <a:lnTo>
                    <a:pt x="1498" y="978"/>
                  </a:lnTo>
                  <a:lnTo>
                    <a:pt x="1503" y="928"/>
                  </a:lnTo>
                  <a:lnTo>
                    <a:pt x="1508" y="903"/>
                  </a:lnTo>
                  <a:lnTo>
                    <a:pt x="1524" y="903"/>
                  </a:lnTo>
                  <a:lnTo>
                    <a:pt x="1529" y="903"/>
                  </a:lnTo>
                  <a:lnTo>
                    <a:pt x="1535" y="852"/>
                  </a:lnTo>
                  <a:lnTo>
                    <a:pt x="1540" y="877"/>
                  </a:lnTo>
                  <a:lnTo>
                    <a:pt x="1545" y="852"/>
                  </a:lnTo>
                  <a:lnTo>
                    <a:pt x="1561" y="852"/>
                  </a:lnTo>
                  <a:lnTo>
                    <a:pt x="1566" y="802"/>
                  </a:lnTo>
                  <a:lnTo>
                    <a:pt x="1571" y="802"/>
                  </a:lnTo>
                  <a:lnTo>
                    <a:pt x="1576" y="827"/>
                  </a:lnTo>
                  <a:lnTo>
                    <a:pt x="1582" y="802"/>
                  </a:lnTo>
                  <a:lnTo>
                    <a:pt x="1597" y="827"/>
                  </a:lnTo>
                  <a:lnTo>
                    <a:pt x="1603" y="802"/>
                  </a:lnTo>
                  <a:lnTo>
                    <a:pt x="1608" y="877"/>
                  </a:lnTo>
                  <a:lnTo>
                    <a:pt x="1613" y="903"/>
                  </a:lnTo>
                  <a:lnTo>
                    <a:pt x="1618" y="903"/>
                  </a:lnTo>
                  <a:lnTo>
                    <a:pt x="1634" y="978"/>
                  </a:lnTo>
                  <a:lnTo>
                    <a:pt x="1639" y="978"/>
                  </a:lnTo>
                  <a:lnTo>
                    <a:pt x="1645" y="1053"/>
                  </a:lnTo>
                  <a:lnTo>
                    <a:pt x="1650" y="1053"/>
                  </a:lnTo>
                  <a:lnTo>
                    <a:pt x="1655" y="1028"/>
                  </a:lnTo>
                  <a:lnTo>
                    <a:pt x="1671" y="1028"/>
                  </a:lnTo>
                  <a:lnTo>
                    <a:pt x="1676" y="1078"/>
                  </a:lnTo>
                  <a:lnTo>
                    <a:pt x="1681" y="1078"/>
                  </a:lnTo>
                  <a:lnTo>
                    <a:pt x="1686" y="1103"/>
                  </a:lnTo>
                  <a:lnTo>
                    <a:pt x="1692" y="1078"/>
                  </a:lnTo>
                  <a:lnTo>
                    <a:pt x="1707" y="1078"/>
                  </a:lnTo>
                  <a:lnTo>
                    <a:pt x="1713" y="1103"/>
                  </a:lnTo>
                  <a:lnTo>
                    <a:pt x="1718" y="1128"/>
                  </a:lnTo>
                  <a:lnTo>
                    <a:pt x="1723" y="1128"/>
                  </a:lnTo>
                  <a:lnTo>
                    <a:pt x="1728" y="1128"/>
                  </a:lnTo>
                  <a:lnTo>
                    <a:pt x="1744" y="1103"/>
                  </a:lnTo>
                  <a:lnTo>
                    <a:pt x="1749" y="1003"/>
                  </a:lnTo>
                  <a:lnTo>
                    <a:pt x="1755" y="1078"/>
                  </a:lnTo>
                  <a:lnTo>
                    <a:pt x="1760" y="1103"/>
                  </a:lnTo>
                  <a:lnTo>
                    <a:pt x="1765" y="1103"/>
                  </a:lnTo>
                  <a:lnTo>
                    <a:pt x="1781" y="1103"/>
                  </a:lnTo>
                  <a:lnTo>
                    <a:pt x="1786" y="1128"/>
                  </a:lnTo>
                  <a:lnTo>
                    <a:pt x="1791" y="1128"/>
                  </a:lnTo>
                  <a:lnTo>
                    <a:pt x="1796" y="1128"/>
                  </a:lnTo>
                  <a:lnTo>
                    <a:pt x="1802" y="1103"/>
                  </a:lnTo>
                  <a:lnTo>
                    <a:pt x="1817" y="1128"/>
                  </a:lnTo>
                  <a:lnTo>
                    <a:pt x="1823" y="1128"/>
                  </a:lnTo>
                  <a:lnTo>
                    <a:pt x="1828" y="1153"/>
                  </a:lnTo>
                  <a:lnTo>
                    <a:pt x="1833" y="1128"/>
                  </a:lnTo>
                  <a:lnTo>
                    <a:pt x="1838" y="1178"/>
                  </a:lnTo>
                  <a:lnTo>
                    <a:pt x="1854" y="1153"/>
                  </a:lnTo>
                  <a:lnTo>
                    <a:pt x="1859" y="1153"/>
                  </a:lnTo>
                  <a:lnTo>
                    <a:pt x="1865" y="1153"/>
                  </a:lnTo>
                  <a:lnTo>
                    <a:pt x="1870" y="1128"/>
                  </a:lnTo>
                  <a:lnTo>
                    <a:pt x="1875" y="1128"/>
                  </a:lnTo>
                  <a:lnTo>
                    <a:pt x="1891" y="1153"/>
                  </a:lnTo>
                  <a:lnTo>
                    <a:pt x="1896" y="1103"/>
                  </a:lnTo>
                  <a:lnTo>
                    <a:pt x="1901" y="1153"/>
                  </a:lnTo>
                  <a:lnTo>
                    <a:pt x="1906" y="1228"/>
                  </a:lnTo>
                  <a:lnTo>
                    <a:pt x="1912" y="1228"/>
                  </a:lnTo>
                  <a:lnTo>
                    <a:pt x="1927" y="1303"/>
                  </a:lnTo>
                  <a:lnTo>
                    <a:pt x="1933" y="1278"/>
                  </a:lnTo>
                  <a:lnTo>
                    <a:pt x="1938" y="1253"/>
                  </a:lnTo>
                  <a:lnTo>
                    <a:pt x="1943" y="1253"/>
                  </a:lnTo>
                  <a:lnTo>
                    <a:pt x="1948" y="1278"/>
                  </a:lnTo>
                  <a:lnTo>
                    <a:pt x="1964" y="1278"/>
                  </a:lnTo>
                  <a:lnTo>
                    <a:pt x="1969" y="1278"/>
                  </a:lnTo>
                  <a:lnTo>
                    <a:pt x="1975" y="1278"/>
                  </a:lnTo>
                  <a:lnTo>
                    <a:pt x="1980" y="1253"/>
                  </a:lnTo>
                  <a:lnTo>
                    <a:pt x="1985" y="1278"/>
                  </a:lnTo>
                  <a:lnTo>
                    <a:pt x="2001" y="1278"/>
                  </a:lnTo>
                  <a:lnTo>
                    <a:pt x="2006" y="1278"/>
                  </a:lnTo>
                  <a:lnTo>
                    <a:pt x="2011" y="1253"/>
                  </a:lnTo>
                  <a:lnTo>
                    <a:pt x="2016" y="1178"/>
                  </a:lnTo>
                  <a:lnTo>
                    <a:pt x="2022" y="1103"/>
                  </a:lnTo>
                  <a:lnTo>
                    <a:pt x="2037" y="1228"/>
                  </a:lnTo>
                  <a:lnTo>
                    <a:pt x="2043" y="1253"/>
                  </a:lnTo>
                  <a:lnTo>
                    <a:pt x="2048" y="1303"/>
                  </a:lnTo>
                  <a:lnTo>
                    <a:pt x="2053" y="1303"/>
                  </a:lnTo>
                  <a:lnTo>
                    <a:pt x="2058" y="1329"/>
                  </a:lnTo>
                  <a:lnTo>
                    <a:pt x="2074" y="1329"/>
                  </a:lnTo>
                  <a:lnTo>
                    <a:pt x="2079" y="1329"/>
                  </a:lnTo>
                  <a:lnTo>
                    <a:pt x="2084" y="1278"/>
                  </a:lnTo>
                  <a:lnTo>
                    <a:pt x="2090" y="1278"/>
                  </a:lnTo>
                  <a:lnTo>
                    <a:pt x="2095" y="1303"/>
                  </a:lnTo>
                  <a:lnTo>
                    <a:pt x="2111" y="1278"/>
                  </a:lnTo>
                  <a:lnTo>
                    <a:pt x="2116" y="1329"/>
                  </a:lnTo>
                  <a:lnTo>
                    <a:pt x="2121" y="1303"/>
                  </a:lnTo>
                  <a:lnTo>
                    <a:pt x="2126" y="1303"/>
                  </a:lnTo>
                  <a:lnTo>
                    <a:pt x="2132" y="1253"/>
                  </a:lnTo>
                  <a:lnTo>
                    <a:pt x="2147" y="1354"/>
                  </a:lnTo>
                  <a:lnTo>
                    <a:pt x="2153" y="1379"/>
                  </a:lnTo>
                  <a:lnTo>
                    <a:pt x="2158" y="1379"/>
                  </a:lnTo>
                  <a:lnTo>
                    <a:pt x="2163" y="1329"/>
                  </a:lnTo>
                  <a:lnTo>
                    <a:pt x="2168" y="1303"/>
                  </a:lnTo>
                  <a:lnTo>
                    <a:pt x="2184" y="1303"/>
                  </a:lnTo>
                  <a:lnTo>
                    <a:pt x="2189" y="1278"/>
                  </a:lnTo>
                  <a:lnTo>
                    <a:pt x="2194" y="1278"/>
                  </a:lnTo>
                  <a:lnTo>
                    <a:pt x="2200" y="1303"/>
                  </a:lnTo>
                  <a:lnTo>
                    <a:pt x="2205" y="1354"/>
                  </a:lnTo>
                  <a:lnTo>
                    <a:pt x="2221" y="1354"/>
                  </a:lnTo>
                  <a:lnTo>
                    <a:pt x="2226" y="1329"/>
                  </a:lnTo>
                  <a:lnTo>
                    <a:pt x="2231" y="1329"/>
                  </a:lnTo>
                  <a:lnTo>
                    <a:pt x="2236" y="1329"/>
                  </a:lnTo>
                  <a:lnTo>
                    <a:pt x="2242" y="1329"/>
                  </a:lnTo>
                  <a:lnTo>
                    <a:pt x="2257" y="1404"/>
                  </a:lnTo>
                  <a:lnTo>
                    <a:pt x="2263" y="1404"/>
                  </a:lnTo>
                  <a:lnTo>
                    <a:pt x="2268" y="1354"/>
                  </a:lnTo>
                  <a:lnTo>
                    <a:pt x="2273" y="1379"/>
                  </a:lnTo>
                  <a:lnTo>
                    <a:pt x="2278" y="1329"/>
                  </a:lnTo>
                  <a:lnTo>
                    <a:pt x="2294" y="1303"/>
                  </a:lnTo>
                  <a:lnTo>
                    <a:pt x="2299" y="1253"/>
                  </a:lnTo>
                  <a:lnTo>
                    <a:pt x="2304" y="1128"/>
                  </a:lnTo>
                  <a:lnTo>
                    <a:pt x="2310" y="1103"/>
                  </a:lnTo>
                  <a:lnTo>
                    <a:pt x="2315" y="1078"/>
                  </a:lnTo>
                  <a:lnTo>
                    <a:pt x="2331" y="1078"/>
                  </a:lnTo>
                  <a:lnTo>
                    <a:pt x="2336" y="1078"/>
                  </a:lnTo>
                  <a:lnTo>
                    <a:pt x="2341" y="953"/>
                  </a:lnTo>
                  <a:lnTo>
                    <a:pt x="2346" y="953"/>
                  </a:lnTo>
                  <a:lnTo>
                    <a:pt x="2352" y="953"/>
                  </a:lnTo>
                  <a:lnTo>
                    <a:pt x="2367" y="953"/>
                  </a:lnTo>
                  <a:lnTo>
                    <a:pt x="2373" y="1028"/>
                  </a:lnTo>
                  <a:lnTo>
                    <a:pt x="2378" y="1053"/>
                  </a:lnTo>
                  <a:lnTo>
                    <a:pt x="2383" y="1053"/>
                  </a:lnTo>
                  <a:lnTo>
                    <a:pt x="2388" y="1078"/>
                  </a:lnTo>
                  <a:lnTo>
                    <a:pt x="2404" y="1053"/>
                  </a:lnTo>
                  <a:lnTo>
                    <a:pt x="2409" y="1053"/>
                  </a:lnTo>
                  <a:lnTo>
                    <a:pt x="2414" y="1053"/>
                  </a:lnTo>
                  <a:lnTo>
                    <a:pt x="2420" y="1078"/>
                  </a:lnTo>
                  <a:lnTo>
                    <a:pt x="2425" y="1128"/>
                  </a:lnTo>
                  <a:lnTo>
                    <a:pt x="2441" y="1103"/>
                  </a:lnTo>
                  <a:lnTo>
                    <a:pt x="2446" y="1128"/>
                  </a:lnTo>
                  <a:lnTo>
                    <a:pt x="2451" y="1128"/>
                  </a:lnTo>
                  <a:lnTo>
                    <a:pt x="2456" y="1078"/>
                  </a:lnTo>
                  <a:lnTo>
                    <a:pt x="2462" y="1078"/>
                  </a:lnTo>
                  <a:lnTo>
                    <a:pt x="2477" y="1003"/>
                  </a:lnTo>
                  <a:lnTo>
                    <a:pt x="2483" y="1003"/>
                  </a:lnTo>
                  <a:lnTo>
                    <a:pt x="2488" y="1028"/>
                  </a:lnTo>
                  <a:lnTo>
                    <a:pt x="2493" y="1053"/>
                  </a:lnTo>
                  <a:lnTo>
                    <a:pt x="2498" y="1053"/>
                  </a:lnTo>
                  <a:lnTo>
                    <a:pt x="2514" y="1078"/>
                  </a:lnTo>
                  <a:lnTo>
                    <a:pt x="2519" y="1053"/>
                  </a:lnTo>
                  <a:lnTo>
                    <a:pt x="2524" y="1053"/>
                  </a:lnTo>
                  <a:lnTo>
                    <a:pt x="2530" y="1053"/>
                  </a:lnTo>
                  <a:lnTo>
                    <a:pt x="2535" y="1028"/>
                  </a:lnTo>
                  <a:lnTo>
                    <a:pt x="2551" y="1003"/>
                  </a:lnTo>
                  <a:lnTo>
                    <a:pt x="2556" y="1028"/>
                  </a:lnTo>
                  <a:lnTo>
                    <a:pt x="2561" y="1028"/>
                  </a:lnTo>
                  <a:lnTo>
                    <a:pt x="2566" y="1028"/>
                  </a:lnTo>
                  <a:lnTo>
                    <a:pt x="2572" y="1103"/>
                  </a:lnTo>
                  <a:lnTo>
                    <a:pt x="2587" y="1153"/>
                  </a:lnTo>
                  <a:lnTo>
                    <a:pt x="2593" y="1153"/>
                  </a:lnTo>
                  <a:lnTo>
                    <a:pt x="2598" y="1103"/>
                  </a:lnTo>
                  <a:lnTo>
                    <a:pt x="2603" y="1128"/>
                  </a:lnTo>
                  <a:lnTo>
                    <a:pt x="2608" y="1078"/>
                  </a:lnTo>
                  <a:lnTo>
                    <a:pt x="2624" y="1028"/>
                  </a:lnTo>
                  <a:lnTo>
                    <a:pt x="2629" y="978"/>
                  </a:lnTo>
                  <a:lnTo>
                    <a:pt x="2634" y="978"/>
                  </a:lnTo>
                  <a:lnTo>
                    <a:pt x="2640" y="1028"/>
                  </a:lnTo>
                  <a:lnTo>
                    <a:pt x="2645" y="1003"/>
                  </a:lnTo>
                  <a:lnTo>
                    <a:pt x="2661" y="1053"/>
                  </a:lnTo>
                  <a:lnTo>
                    <a:pt x="2666" y="1103"/>
                  </a:lnTo>
                  <a:lnTo>
                    <a:pt x="2671" y="1078"/>
                  </a:lnTo>
                  <a:lnTo>
                    <a:pt x="2676" y="1103"/>
                  </a:lnTo>
                  <a:lnTo>
                    <a:pt x="2682" y="1103"/>
                  </a:lnTo>
                  <a:lnTo>
                    <a:pt x="2697" y="1103"/>
                  </a:lnTo>
                  <a:lnTo>
                    <a:pt x="2703" y="1128"/>
                  </a:lnTo>
                  <a:lnTo>
                    <a:pt x="2708" y="1153"/>
                  </a:lnTo>
                  <a:lnTo>
                    <a:pt x="2713" y="1178"/>
                  </a:lnTo>
                  <a:lnTo>
                    <a:pt x="2718" y="1178"/>
                  </a:lnTo>
                  <a:lnTo>
                    <a:pt x="2734" y="1228"/>
                  </a:lnTo>
                  <a:lnTo>
                    <a:pt x="2739" y="1203"/>
                  </a:lnTo>
                  <a:lnTo>
                    <a:pt x="2744" y="1153"/>
                  </a:lnTo>
                  <a:lnTo>
                    <a:pt x="2750" y="1178"/>
                  </a:lnTo>
                  <a:lnTo>
                    <a:pt x="2755" y="1178"/>
                  </a:lnTo>
                  <a:lnTo>
                    <a:pt x="2771" y="1128"/>
                  </a:lnTo>
                  <a:lnTo>
                    <a:pt x="2776" y="1128"/>
                  </a:lnTo>
                  <a:lnTo>
                    <a:pt x="2781" y="1128"/>
                  </a:lnTo>
                  <a:lnTo>
                    <a:pt x="2786" y="1103"/>
                  </a:lnTo>
                  <a:lnTo>
                    <a:pt x="2792" y="1153"/>
                  </a:lnTo>
                  <a:lnTo>
                    <a:pt x="2807" y="1153"/>
                  </a:lnTo>
                  <a:lnTo>
                    <a:pt x="2812" y="1178"/>
                  </a:lnTo>
                  <a:lnTo>
                    <a:pt x="2818" y="1228"/>
                  </a:lnTo>
                  <a:lnTo>
                    <a:pt x="2823" y="1203"/>
                  </a:lnTo>
                  <a:lnTo>
                    <a:pt x="2828" y="1178"/>
                  </a:lnTo>
                  <a:lnTo>
                    <a:pt x="2844" y="1178"/>
                  </a:lnTo>
                  <a:lnTo>
                    <a:pt x="2849" y="1228"/>
                  </a:lnTo>
                  <a:lnTo>
                    <a:pt x="2854" y="1278"/>
                  </a:lnTo>
                  <a:lnTo>
                    <a:pt x="2860" y="1329"/>
                  </a:lnTo>
                  <a:lnTo>
                    <a:pt x="2865" y="1203"/>
                  </a:lnTo>
                  <a:lnTo>
                    <a:pt x="2881" y="1203"/>
                  </a:lnTo>
                  <a:lnTo>
                    <a:pt x="2886" y="1303"/>
                  </a:lnTo>
                  <a:lnTo>
                    <a:pt x="2891" y="1278"/>
                  </a:lnTo>
                  <a:lnTo>
                    <a:pt x="2896" y="1278"/>
                  </a:lnTo>
                  <a:lnTo>
                    <a:pt x="2902" y="1303"/>
                  </a:lnTo>
                  <a:lnTo>
                    <a:pt x="2917" y="1329"/>
                  </a:lnTo>
                  <a:lnTo>
                    <a:pt x="2922" y="1329"/>
                  </a:lnTo>
                  <a:lnTo>
                    <a:pt x="2928" y="1354"/>
                  </a:lnTo>
                  <a:lnTo>
                    <a:pt x="2933" y="1354"/>
                  </a:lnTo>
                  <a:lnTo>
                    <a:pt x="2938" y="1379"/>
                  </a:lnTo>
                  <a:lnTo>
                    <a:pt x="2954" y="1379"/>
                  </a:lnTo>
                  <a:lnTo>
                    <a:pt x="2959" y="1379"/>
                  </a:lnTo>
                  <a:lnTo>
                    <a:pt x="2964" y="1379"/>
                  </a:lnTo>
                  <a:lnTo>
                    <a:pt x="2970" y="1379"/>
                  </a:lnTo>
                  <a:lnTo>
                    <a:pt x="2975" y="1404"/>
                  </a:lnTo>
                  <a:lnTo>
                    <a:pt x="2991" y="1404"/>
                  </a:lnTo>
                  <a:lnTo>
                    <a:pt x="2996" y="1404"/>
                  </a:lnTo>
                  <a:lnTo>
                    <a:pt x="3001" y="1404"/>
                  </a:lnTo>
                  <a:lnTo>
                    <a:pt x="3006" y="1404"/>
                  </a:lnTo>
                  <a:lnTo>
                    <a:pt x="3012" y="1429"/>
                  </a:lnTo>
                  <a:lnTo>
                    <a:pt x="3027" y="1404"/>
                  </a:lnTo>
                  <a:lnTo>
                    <a:pt x="3032" y="1404"/>
                  </a:lnTo>
                  <a:lnTo>
                    <a:pt x="3038" y="1404"/>
                  </a:lnTo>
                  <a:lnTo>
                    <a:pt x="3043" y="1404"/>
                  </a:lnTo>
                  <a:lnTo>
                    <a:pt x="3048" y="1429"/>
                  </a:lnTo>
                  <a:lnTo>
                    <a:pt x="3064" y="1429"/>
                  </a:lnTo>
                  <a:lnTo>
                    <a:pt x="3069" y="1454"/>
                  </a:lnTo>
                  <a:lnTo>
                    <a:pt x="3074" y="1529"/>
                  </a:lnTo>
                  <a:lnTo>
                    <a:pt x="3080" y="1454"/>
                  </a:lnTo>
                  <a:lnTo>
                    <a:pt x="3085" y="1479"/>
                  </a:lnTo>
                  <a:lnTo>
                    <a:pt x="3101" y="1479"/>
                  </a:lnTo>
                  <a:lnTo>
                    <a:pt x="3106" y="1479"/>
                  </a:lnTo>
                  <a:lnTo>
                    <a:pt x="3111" y="1479"/>
                  </a:lnTo>
                  <a:lnTo>
                    <a:pt x="3116" y="1479"/>
                  </a:lnTo>
                  <a:lnTo>
                    <a:pt x="3122" y="1454"/>
                  </a:lnTo>
                  <a:lnTo>
                    <a:pt x="3137" y="1429"/>
                  </a:lnTo>
                  <a:lnTo>
                    <a:pt x="3142" y="1454"/>
                  </a:lnTo>
                  <a:lnTo>
                    <a:pt x="3148" y="1454"/>
                  </a:lnTo>
                  <a:lnTo>
                    <a:pt x="3153" y="1504"/>
                  </a:lnTo>
                  <a:lnTo>
                    <a:pt x="3158" y="1529"/>
                  </a:lnTo>
                  <a:lnTo>
                    <a:pt x="3174" y="1529"/>
                  </a:lnTo>
                  <a:lnTo>
                    <a:pt x="3179" y="1379"/>
                  </a:lnTo>
                  <a:lnTo>
                    <a:pt x="3184" y="1454"/>
                  </a:lnTo>
                  <a:lnTo>
                    <a:pt x="3190" y="1379"/>
                  </a:lnTo>
                  <a:lnTo>
                    <a:pt x="3195" y="1379"/>
                  </a:lnTo>
                  <a:lnTo>
                    <a:pt x="3211" y="1379"/>
                  </a:lnTo>
                  <a:lnTo>
                    <a:pt x="3216" y="1404"/>
                  </a:lnTo>
                  <a:lnTo>
                    <a:pt x="3221" y="1354"/>
                  </a:lnTo>
                  <a:lnTo>
                    <a:pt x="3226" y="1429"/>
                  </a:lnTo>
                  <a:lnTo>
                    <a:pt x="3231" y="1429"/>
                  </a:lnTo>
                  <a:lnTo>
                    <a:pt x="3247" y="1429"/>
                  </a:lnTo>
                  <a:lnTo>
                    <a:pt x="3252" y="1454"/>
                  </a:lnTo>
                  <a:lnTo>
                    <a:pt x="3258" y="1454"/>
                  </a:lnTo>
                  <a:lnTo>
                    <a:pt x="3263" y="1404"/>
                  </a:lnTo>
                  <a:lnTo>
                    <a:pt x="3268" y="1504"/>
                  </a:lnTo>
                  <a:lnTo>
                    <a:pt x="3284" y="1429"/>
                  </a:lnTo>
                  <a:lnTo>
                    <a:pt x="3289" y="1429"/>
                  </a:lnTo>
                  <a:lnTo>
                    <a:pt x="3294" y="1454"/>
                  </a:lnTo>
                  <a:lnTo>
                    <a:pt x="3300" y="1429"/>
                  </a:lnTo>
                  <a:lnTo>
                    <a:pt x="3305" y="1429"/>
                  </a:lnTo>
                  <a:lnTo>
                    <a:pt x="3321" y="1404"/>
                  </a:lnTo>
                  <a:lnTo>
                    <a:pt x="3326" y="1454"/>
                  </a:lnTo>
                  <a:lnTo>
                    <a:pt x="3331" y="1454"/>
                  </a:lnTo>
                  <a:lnTo>
                    <a:pt x="3336" y="1429"/>
                  </a:lnTo>
                  <a:lnTo>
                    <a:pt x="3341" y="1454"/>
                  </a:lnTo>
                  <a:lnTo>
                    <a:pt x="3357" y="1454"/>
                  </a:lnTo>
                  <a:lnTo>
                    <a:pt x="3362" y="1429"/>
                  </a:lnTo>
                  <a:lnTo>
                    <a:pt x="3368" y="1454"/>
                  </a:lnTo>
                  <a:lnTo>
                    <a:pt x="3373" y="1379"/>
                  </a:lnTo>
                  <a:lnTo>
                    <a:pt x="3378" y="1329"/>
                  </a:lnTo>
                  <a:lnTo>
                    <a:pt x="3394" y="1329"/>
                  </a:lnTo>
                  <a:lnTo>
                    <a:pt x="3399" y="1329"/>
                  </a:lnTo>
                  <a:lnTo>
                    <a:pt x="3404" y="1329"/>
                  </a:lnTo>
                  <a:lnTo>
                    <a:pt x="3410" y="1354"/>
                  </a:lnTo>
                  <a:lnTo>
                    <a:pt x="3415" y="1278"/>
                  </a:lnTo>
                  <a:lnTo>
                    <a:pt x="3431" y="1253"/>
                  </a:lnTo>
                  <a:lnTo>
                    <a:pt x="3436" y="1253"/>
                  </a:lnTo>
                  <a:lnTo>
                    <a:pt x="3441" y="1278"/>
                  </a:lnTo>
                  <a:lnTo>
                    <a:pt x="3446" y="1303"/>
                  </a:lnTo>
                  <a:lnTo>
                    <a:pt x="3451" y="1303"/>
                  </a:lnTo>
                  <a:lnTo>
                    <a:pt x="3467" y="1303"/>
                  </a:lnTo>
                  <a:lnTo>
                    <a:pt x="3472" y="1253"/>
                  </a:lnTo>
                  <a:lnTo>
                    <a:pt x="3478" y="1278"/>
                  </a:lnTo>
                  <a:lnTo>
                    <a:pt x="3483" y="1303"/>
                  </a:lnTo>
                  <a:lnTo>
                    <a:pt x="3488" y="1303"/>
                  </a:lnTo>
                  <a:lnTo>
                    <a:pt x="3504" y="978"/>
                  </a:lnTo>
                  <a:lnTo>
                    <a:pt x="3509" y="1003"/>
                  </a:lnTo>
                  <a:lnTo>
                    <a:pt x="3514" y="978"/>
                  </a:lnTo>
                  <a:lnTo>
                    <a:pt x="3520" y="978"/>
                  </a:lnTo>
                  <a:lnTo>
                    <a:pt x="3525" y="978"/>
                  </a:lnTo>
                  <a:lnTo>
                    <a:pt x="3540" y="978"/>
                  </a:lnTo>
                  <a:lnTo>
                    <a:pt x="3546" y="978"/>
                  </a:lnTo>
                  <a:lnTo>
                    <a:pt x="3551" y="953"/>
                  </a:lnTo>
                  <a:lnTo>
                    <a:pt x="3556" y="953"/>
                  </a:lnTo>
                  <a:lnTo>
                    <a:pt x="3561" y="953"/>
                  </a:lnTo>
                  <a:lnTo>
                    <a:pt x="3577" y="978"/>
                  </a:lnTo>
                  <a:lnTo>
                    <a:pt x="3582" y="978"/>
                  </a:lnTo>
                  <a:lnTo>
                    <a:pt x="3588" y="1003"/>
                  </a:lnTo>
                  <a:lnTo>
                    <a:pt x="3593" y="953"/>
                  </a:lnTo>
                  <a:lnTo>
                    <a:pt x="3598" y="978"/>
                  </a:lnTo>
                  <a:lnTo>
                    <a:pt x="3614" y="978"/>
                  </a:lnTo>
                  <a:lnTo>
                    <a:pt x="3619" y="953"/>
                  </a:lnTo>
                  <a:lnTo>
                    <a:pt x="3624" y="928"/>
                  </a:lnTo>
                  <a:lnTo>
                    <a:pt x="3630" y="928"/>
                  </a:lnTo>
                  <a:lnTo>
                    <a:pt x="3635" y="978"/>
                  </a:lnTo>
                  <a:lnTo>
                    <a:pt x="3650" y="953"/>
                  </a:lnTo>
                  <a:lnTo>
                    <a:pt x="3656" y="978"/>
                  </a:lnTo>
                  <a:lnTo>
                    <a:pt x="3661" y="978"/>
                  </a:lnTo>
                  <a:lnTo>
                    <a:pt x="3666" y="953"/>
                  </a:lnTo>
                  <a:lnTo>
                    <a:pt x="3671" y="928"/>
                  </a:lnTo>
                  <a:lnTo>
                    <a:pt x="3687" y="928"/>
                  </a:lnTo>
                  <a:lnTo>
                    <a:pt x="3692" y="953"/>
                  </a:lnTo>
                  <a:lnTo>
                    <a:pt x="3698" y="953"/>
                  </a:lnTo>
                  <a:lnTo>
                    <a:pt x="3703" y="953"/>
                  </a:lnTo>
                  <a:lnTo>
                    <a:pt x="3708" y="928"/>
                  </a:lnTo>
                  <a:lnTo>
                    <a:pt x="3724" y="903"/>
                  </a:lnTo>
                  <a:lnTo>
                    <a:pt x="3729" y="953"/>
                  </a:lnTo>
                  <a:lnTo>
                    <a:pt x="3734" y="903"/>
                  </a:lnTo>
                  <a:lnTo>
                    <a:pt x="3740" y="928"/>
                  </a:lnTo>
                  <a:lnTo>
                    <a:pt x="3745" y="877"/>
                  </a:lnTo>
                  <a:lnTo>
                    <a:pt x="3760" y="903"/>
                  </a:lnTo>
                  <a:lnTo>
                    <a:pt x="3766" y="852"/>
                  </a:lnTo>
                  <a:lnTo>
                    <a:pt x="3771" y="852"/>
                  </a:lnTo>
                  <a:lnTo>
                    <a:pt x="3776" y="877"/>
                  </a:lnTo>
                  <a:lnTo>
                    <a:pt x="3781" y="852"/>
                  </a:lnTo>
                  <a:lnTo>
                    <a:pt x="3797" y="852"/>
                  </a:lnTo>
                  <a:lnTo>
                    <a:pt x="3802" y="903"/>
                  </a:lnTo>
                  <a:lnTo>
                    <a:pt x="3808" y="877"/>
                  </a:lnTo>
                  <a:lnTo>
                    <a:pt x="3813" y="877"/>
                  </a:lnTo>
                  <a:lnTo>
                    <a:pt x="3818" y="827"/>
                  </a:lnTo>
                  <a:lnTo>
                    <a:pt x="3834" y="827"/>
                  </a:lnTo>
                  <a:lnTo>
                    <a:pt x="3839" y="852"/>
                  </a:lnTo>
                  <a:lnTo>
                    <a:pt x="3844" y="903"/>
                  </a:lnTo>
                  <a:lnTo>
                    <a:pt x="3850" y="877"/>
                  </a:lnTo>
                  <a:lnTo>
                    <a:pt x="3855" y="903"/>
                  </a:lnTo>
                  <a:lnTo>
                    <a:pt x="3870" y="877"/>
                  </a:lnTo>
                  <a:lnTo>
                    <a:pt x="3876" y="877"/>
                  </a:lnTo>
                  <a:lnTo>
                    <a:pt x="3881" y="903"/>
                  </a:lnTo>
                  <a:lnTo>
                    <a:pt x="3886" y="877"/>
                  </a:lnTo>
                  <a:lnTo>
                    <a:pt x="3891" y="877"/>
                  </a:lnTo>
                  <a:lnTo>
                    <a:pt x="3907" y="877"/>
                  </a:lnTo>
                  <a:lnTo>
                    <a:pt x="3912" y="877"/>
                  </a:lnTo>
                  <a:lnTo>
                    <a:pt x="3918" y="877"/>
                  </a:lnTo>
                  <a:lnTo>
                    <a:pt x="3923" y="928"/>
                  </a:lnTo>
                  <a:lnTo>
                    <a:pt x="3928" y="928"/>
                  </a:lnTo>
                  <a:lnTo>
                    <a:pt x="3944" y="928"/>
                  </a:lnTo>
                  <a:lnTo>
                    <a:pt x="3949" y="978"/>
                  </a:lnTo>
                  <a:lnTo>
                    <a:pt x="3954" y="978"/>
                  </a:lnTo>
                  <a:lnTo>
                    <a:pt x="3959" y="1003"/>
                  </a:lnTo>
                  <a:lnTo>
                    <a:pt x="3965" y="978"/>
                  </a:lnTo>
                  <a:lnTo>
                    <a:pt x="3980" y="1003"/>
                  </a:lnTo>
                  <a:lnTo>
                    <a:pt x="3986" y="1003"/>
                  </a:lnTo>
                  <a:lnTo>
                    <a:pt x="3991" y="978"/>
                  </a:lnTo>
                  <a:lnTo>
                    <a:pt x="3996" y="1003"/>
                  </a:lnTo>
                  <a:lnTo>
                    <a:pt x="4001" y="1053"/>
                  </a:lnTo>
                  <a:lnTo>
                    <a:pt x="4017" y="1053"/>
                  </a:lnTo>
                  <a:lnTo>
                    <a:pt x="4022" y="1053"/>
                  </a:lnTo>
                  <a:lnTo>
                    <a:pt x="4028" y="1053"/>
                  </a:lnTo>
                  <a:lnTo>
                    <a:pt x="4033" y="1028"/>
                  </a:lnTo>
                  <a:lnTo>
                    <a:pt x="4038" y="1028"/>
                  </a:lnTo>
                  <a:lnTo>
                    <a:pt x="4054" y="1028"/>
                  </a:lnTo>
                  <a:lnTo>
                    <a:pt x="4059" y="1028"/>
                  </a:lnTo>
                  <a:lnTo>
                    <a:pt x="4064" y="1053"/>
                  </a:lnTo>
                  <a:lnTo>
                    <a:pt x="4069" y="1053"/>
                  </a:lnTo>
                  <a:lnTo>
                    <a:pt x="4075" y="1053"/>
                  </a:lnTo>
                  <a:lnTo>
                    <a:pt x="4090" y="1053"/>
                  </a:lnTo>
                  <a:lnTo>
                    <a:pt x="4096" y="1053"/>
                  </a:lnTo>
                  <a:lnTo>
                    <a:pt x="4101" y="1078"/>
                  </a:lnTo>
                  <a:lnTo>
                    <a:pt x="4106" y="1103"/>
                  </a:lnTo>
                  <a:lnTo>
                    <a:pt x="4111" y="1128"/>
                  </a:lnTo>
                  <a:lnTo>
                    <a:pt x="4127" y="1153"/>
                  </a:lnTo>
                  <a:lnTo>
                    <a:pt x="4132" y="1128"/>
                  </a:lnTo>
                  <a:lnTo>
                    <a:pt x="4138" y="1153"/>
                  </a:lnTo>
                  <a:lnTo>
                    <a:pt x="4143" y="1128"/>
                  </a:lnTo>
                  <a:lnTo>
                    <a:pt x="4148" y="1128"/>
                  </a:lnTo>
                  <a:lnTo>
                    <a:pt x="4164" y="1128"/>
                  </a:lnTo>
                  <a:lnTo>
                    <a:pt x="4169" y="1078"/>
                  </a:lnTo>
                  <a:lnTo>
                    <a:pt x="4174" y="1028"/>
                  </a:lnTo>
                  <a:lnTo>
                    <a:pt x="4179" y="1028"/>
                  </a:lnTo>
                  <a:lnTo>
                    <a:pt x="4185" y="1028"/>
                  </a:lnTo>
                  <a:lnTo>
                    <a:pt x="4200" y="1028"/>
                  </a:lnTo>
                  <a:lnTo>
                    <a:pt x="4206" y="1028"/>
                  </a:lnTo>
                  <a:lnTo>
                    <a:pt x="4211" y="1028"/>
                  </a:lnTo>
                  <a:lnTo>
                    <a:pt x="4216" y="1028"/>
                  </a:lnTo>
                  <a:lnTo>
                    <a:pt x="4221" y="1028"/>
                  </a:lnTo>
                  <a:lnTo>
                    <a:pt x="4237" y="1028"/>
                  </a:lnTo>
                  <a:lnTo>
                    <a:pt x="4242" y="1028"/>
                  </a:lnTo>
                  <a:lnTo>
                    <a:pt x="4248" y="1028"/>
                  </a:lnTo>
                  <a:lnTo>
                    <a:pt x="4253" y="1053"/>
                  </a:lnTo>
                  <a:lnTo>
                    <a:pt x="4258" y="1028"/>
                  </a:lnTo>
                  <a:lnTo>
                    <a:pt x="4274" y="1028"/>
                  </a:lnTo>
                  <a:lnTo>
                    <a:pt x="4279" y="1028"/>
                  </a:lnTo>
                  <a:lnTo>
                    <a:pt x="4284" y="1028"/>
                  </a:lnTo>
                  <a:lnTo>
                    <a:pt x="4289" y="1028"/>
                  </a:lnTo>
                  <a:lnTo>
                    <a:pt x="4295" y="1003"/>
                  </a:lnTo>
                  <a:lnTo>
                    <a:pt x="4310" y="1028"/>
                  </a:lnTo>
                  <a:lnTo>
                    <a:pt x="4316" y="1028"/>
                  </a:lnTo>
                  <a:lnTo>
                    <a:pt x="4321" y="1003"/>
                  </a:lnTo>
                  <a:lnTo>
                    <a:pt x="4326" y="928"/>
                  </a:lnTo>
                  <a:lnTo>
                    <a:pt x="4331" y="928"/>
                  </a:lnTo>
                  <a:lnTo>
                    <a:pt x="4347" y="903"/>
                  </a:lnTo>
                  <a:lnTo>
                    <a:pt x="4352" y="903"/>
                  </a:lnTo>
                  <a:lnTo>
                    <a:pt x="4358" y="903"/>
                  </a:lnTo>
                  <a:lnTo>
                    <a:pt x="4363" y="852"/>
                  </a:lnTo>
                  <a:lnTo>
                    <a:pt x="4368" y="852"/>
                  </a:lnTo>
                  <a:lnTo>
                    <a:pt x="4384" y="852"/>
                  </a:lnTo>
                  <a:lnTo>
                    <a:pt x="4389" y="852"/>
                  </a:lnTo>
                  <a:lnTo>
                    <a:pt x="4394" y="852"/>
                  </a:lnTo>
                  <a:lnTo>
                    <a:pt x="4399" y="877"/>
                  </a:lnTo>
                  <a:lnTo>
                    <a:pt x="4405" y="877"/>
                  </a:lnTo>
                  <a:lnTo>
                    <a:pt x="4420" y="877"/>
                  </a:lnTo>
                  <a:lnTo>
                    <a:pt x="4426" y="877"/>
                  </a:lnTo>
                  <a:lnTo>
                    <a:pt x="4431" y="877"/>
                  </a:lnTo>
                  <a:lnTo>
                    <a:pt x="4436" y="877"/>
                  </a:lnTo>
                  <a:lnTo>
                    <a:pt x="4441" y="877"/>
                  </a:lnTo>
                  <a:lnTo>
                    <a:pt x="4457" y="877"/>
                  </a:lnTo>
                  <a:lnTo>
                    <a:pt x="4462" y="877"/>
                  </a:lnTo>
                  <a:lnTo>
                    <a:pt x="4468" y="903"/>
                  </a:lnTo>
                  <a:lnTo>
                    <a:pt x="4473" y="903"/>
                  </a:lnTo>
                  <a:lnTo>
                    <a:pt x="4478" y="953"/>
                  </a:lnTo>
                  <a:lnTo>
                    <a:pt x="4494" y="953"/>
                  </a:lnTo>
                  <a:lnTo>
                    <a:pt x="4499" y="978"/>
                  </a:lnTo>
                  <a:lnTo>
                    <a:pt x="4504" y="1003"/>
                  </a:lnTo>
                  <a:lnTo>
                    <a:pt x="4509" y="1003"/>
                  </a:lnTo>
                  <a:lnTo>
                    <a:pt x="4515" y="978"/>
                  </a:lnTo>
                  <a:lnTo>
                    <a:pt x="4530" y="953"/>
                  </a:lnTo>
                  <a:lnTo>
                    <a:pt x="4536" y="1003"/>
                  </a:lnTo>
                  <a:lnTo>
                    <a:pt x="4541" y="928"/>
                  </a:lnTo>
                  <a:lnTo>
                    <a:pt x="4546" y="903"/>
                  </a:lnTo>
                  <a:lnTo>
                    <a:pt x="4551" y="877"/>
                  </a:lnTo>
                  <a:lnTo>
                    <a:pt x="4567" y="827"/>
                  </a:lnTo>
                  <a:lnTo>
                    <a:pt x="4572" y="903"/>
                  </a:lnTo>
                  <a:lnTo>
                    <a:pt x="4578" y="877"/>
                  </a:lnTo>
                  <a:lnTo>
                    <a:pt x="4583" y="777"/>
                  </a:lnTo>
                  <a:lnTo>
                    <a:pt x="4588" y="752"/>
                  </a:lnTo>
                  <a:lnTo>
                    <a:pt x="4604" y="752"/>
                  </a:lnTo>
                  <a:lnTo>
                    <a:pt x="4609" y="777"/>
                  </a:lnTo>
                  <a:lnTo>
                    <a:pt x="4614" y="702"/>
                  </a:lnTo>
                  <a:lnTo>
                    <a:pt x="4619" y="702"/>
                  </a:lnTo>
                  <a:lnTo>
                    <a:pt x="4625" y="702"/>
                  </a:lnTo>
                  <a:lnTo>
                    <a:pt x="4640" y="777"/>
                  </a:lnTo>
                  <a:lnTo>
                    <a:pt x="4646" y="777"/>
                  </a:lnTo>
                  <a:lnTo>
                    <a:pt x="4651" y="777"/>
                  </a:lnTo>
                  <a:lnTo>
                    <a:pt x="4656" y="752"/>
                  </a:lnTo>
                  <a:lnTo>
                    <a:pt x="4661" y="752"/>
                  </a:lnTo>
                  <a:lnTo>
                    <a:pt x="4677" y="827"/>
                  </a:lnTo>
                  <a:lnTo>
                    <a:pt x="4682" y="727"/>
                  </a:lnTo>
                  <a:lnTo>
                    <a:pt x="4687" y="777"/>
                  </a:lnTo>
                  <a:lnTo>
                    <a:pt x="4693" y="777"/>
                  </a:lnTo>
                  <a:lnTo>
                    <a:pt x="4698" y="777"/>
                  </a:lnTo>
                  <a:lnTo>
                    <a:pt x="4714" y="802"/>
                  </a:lnTo>
                  <a:lnTo>
                    <a:pt x="4719" y="827"/>
                  </a:lnTo>
                  <a:lnTo>
                    <a:pt x="4724" y="802"/>
                  </a:lnTo>
                  <a:lnTo>
                    <a:pt x="4729" y="802"/>
                  </a:lnTo>
                  <a:lnTo>
                    <a:pt x="4735" y="802"/>
                  </a:lnTo>
                  <a:lnTo>
                    <a:pt x="4750" y="752"/>
                  </a:lnTo>
                  <a:lnTo>
                    <a:pt x="4756" y="752"/>
                  </a:lnTo>
                  <a:lnTo>
                    <a:pt x="4761" y="777"/>
                  </a:lnTo>
                  <a:lnTo>
                    <a:pt x="4766" y="727"/>
                  </a:lnTo>
                  <a:lnTo>
                    <a:pt x="4771" y="752"/>
                  </a:lnTo>
                  <a:lnTo>
                    <a:pt x="4787" y="752"/>
                  </a:lnTo>
                </a:path>
              </a:pathLst>
            </a:custGeom>
            <a:noFill/>
            <a:ln w="26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4000" y="53895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000" y="48448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4000" y="42991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000" y="37544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000" y="32097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00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400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7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76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6044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9864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7356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13200" y="5608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88120" y="5608800"/>
              <a:ext cx="32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Ju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90880" y="53895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97720" y="4844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97720" y="4299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97720" y="3754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97720" y="3209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3840" y="266400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03840" y="211932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Lucida Sans Unicode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840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remio por riesgo economías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(enero 2004 - julio 2006, puntos bases, valores di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6-08-28T13:54:14Z</dcterms:modified>
  <cp:revision>16</cp:revision>
  <dc:subject/>
  <dc:title>Sin título de diapositiva</dc:title>
</cp:coreProperties>
</file>