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LATIGO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ción a riesgo e incertidumb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s Concep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iesg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formación de naturaleza aleatórea, las probabilidades de ocurrencia de eventos son conoc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certidumb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probabilidades de ocurrencia de un evento no son bien cuantific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ente básica de Incertidumb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formación incompleta inexacta, sesgada, falsa o contradic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60240" y="744840"/>
            <a:ext cx="5566680" cy="3171240"/>
            <a:chOff x="1560240" y="744840"/>
            <a:chExt cx="5566680" cy="3171240"/>
          </a:xfrm>
        </p:grpSpPr>
        <p:grpSp>
          <p:nvGrpSpPr>
            <p:cNvPr id="127" name=""/>
            <p:cNvGrpSpPr/>
            <p:nvPr/>
          </p:nvGrpSpPr>
          <p:grpSpPr>
            <a:xfrm>
              <a:off x="2651040" y="1704960"/>
              <a:ext cx="2782800" cy="1914480"/>
              <a:chOff x="2651040" y="1704960"/>
              <a:chExt cx="2782800" cy="1914480"/>
            </a:xfrm>
          </p:grpSpPr>
          <p:sp>
            <p:nvSpPr>
              <p:cNvPr id="128" name=""/>
              <p:cNvSpPr/>
              <p:nvPr/>
            </p:nvSpPr>
            <p:spPr>
              <a:xfrm>
                <a:off x="2651040" y="1704960"/>
                <a:ext cx="0" cy="190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57520" y="3619440"/>
                <a:ext cx="2776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476680" y="3494160"/>
              <a:ext cx="18792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77360" y="1482840"/>
              <a:ext cx="89028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robabil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86200" y="1795320"/>
              <a:ext cx="0" cy="1908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43320" y="1482840"/>
              <a:ext cx="202716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stribución de probabilidade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l VA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9280" y="3654360"/>
              <a:ext cx="268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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200320" y="744840"/>
              <a:ext cx="3326760" cy="2806560"/>
              <a:chOff x="2200320" y="744840"/>
              <a:chExt cx="3326760" cy="2806560"/>
            </a:xfrm>
          </p:grpSpPr>
          <p:sp>
            <p:nvSpPr>
              <p:cNvPr id="136" name=""/>
              <p:cNvSpPr/>
              <p:nvPr/>
            </p:nvSpPr>
            <p:spPr>
              <a:xfrm>
                <a:off x="2200320" y="744840"/>
                <a:ext cx="1450440" cy="27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076640" y="744840"/>
                <a:ext cx="1450440" cy="27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57600" y="1881360"/>
                <a:ext cx="420840" cy="233280"/>
              </a:xfrm>
              <a:custGeom>
                <a:avLst/>
                <a:gdLst/>
                <a:ahLst/>
                <a:rect l="l" t="t" r="r" b="b"/>
                <a:pathLst>
                  <a:path w="265" h="147">
                    <a:moveTo>
                      <a:pt x="0" y="144"/>
                    </a:moveTo>
                    <a:lnTo>
                      <a:pt x="0" y="134"/>
                    </a:lnTo>
                    <a:lnTo>
                      <a:pt x="0" y="127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5" y="96"/>
                    </a:lnTo>
                    <a:lnTo>
                      <a:pt x="7" y="89"/>
                    </a:lnTo>
                    <a:lnTo>
                      <a:pt x="10" y="81"/>
                    </a:lnTo>
                    <a:lnTo>
                      <a:pt x="12" y="74"/>
                    </a:lnTo>
                    <a:lnTo>
                      <a:pt x="17" y="67"/>
                    </a:lnTo>
                    <a:lnTo>
                      <a:pt x="24" y="62"/>
                    </a:lnTo>
                    <a:lnTo>
                      <a:pt x="31" y="55"/>
                    </a:lnTo>
                    <a:lnTo>
                      <a:pt x="36" y="48"/>
                    </a:lnTo>
                    <a:lnTo>
                      <a:pt x="43" y="43"/>
                    </a:lnTo>
                    <a:lnTo>
                      <a:pt x="48" y="36"/>
                    </a:lnTo>
                    <a:lnTo>
                      <a:pt x="55" y="31"/>
                    </a:lnTo>
                    <a:lnTo>
                      <a:pt x="62" y="26"/>
                    </a:lnTo>
                    <a:lnTo>
                      <a:pt x="70" y="22"/>
                    </a:lnTo>
                    <a:lnTo>
                      <a:pt x="77" y="17"/>
                    </a:lnTo>
                    <a:lnTo>
                      <a:pt x="84" y="14"/>
                    </a:lnTo>
                    <a:lnTo>
                      <a:pt x="91" y="10"/>
                    </a:lnTo>
                    <a:lnTo>
                      <a:pt x="98" y="7"/>
                    </a:lnTo>
                    <a:lnTo>
                      <a:pt x="106" y="5"/>
                    </a:lnTo>
                    <a:lnTo>
                      <a:pt x="113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42" y="2"/>
                    </a:lnTo>
                    <a:lnTo>
                      <a:pt x="149" y="2"/>
                    </a:lnTo>
                    <a:lnTo>
                      <a:pt x="156" y="2"/>
                    </a:lnTo>
                    <a:lnTo>
                      <a:pt x="166" y="5"/>
                    </a:lnTo>
                    <a:lnTo>
                      <a:pt x="173" y="5"/>
                    </a:lnTo>
                    <a:lnTo>
                      <a:pt x="180" y="7"/>
                    </a:lnTo>
                    <a:lnTo>
                      <a:pt x="187" y="10"/>
                    </a:lnTo>
                    <a:lnTo>
                      <a:pt x="194" y="12"/>
                    </a:lnTo>
                    <a:lnTo>
                      <a:pt x="199" y="19"/>
                    </a:lnTo>
                    <a:lnTo>
                      <a:pt x="206" y="22"/>
                    </a:lnTo>
                    <a:lnTo>
                      <a:pt x="211" y="29"/>
                    </a:lnTo>
                    <a:lnTo>
                      <a:pt x="218" y="34"/>
                    </a:lnTo>
                    <a:lnTo>
                      <a:pt x="221" y="41"/>
                    </a:lnTo>
                    <a:lnTo>
                      <a:pt x="226" y="48"/>
                    </a:lnTo>
                    <a:lnTo>
                      <a:pt x="233" y="53"/>
                    </a:lnTo>
                    <a:lnTo>
                      <a:pt x="235" y="60"/>
                    </a:lnTo>
                    <a:lnTo>
                      <a:pt x="242" y="67"/>
                    </a:lnTo>
                    <a:lnTo>
                      <a:pt x="250" y="74"/>
                    </a:lnTo>
                    <a:lnTo>
                      <a:pt x="252" y="81"/>
                    </a:lnTo>
                    <a:lnTo>
                      <a:pt x="257" y="89"/>
                    </a:lnTo>
                    <a:lnTo>
                      <a:pt x="257" y="96"/>
                    </a:lnTo>
                    <a:lnTo>
                      <a:pt x="262" y="103"/>
                    </a:lnTo>
                    <a:lnTo>
                      <a:pt x="262" y="110"/>
                    </a:lnTo>
                    <a:lnTo>
                      <a:pt x="264" y="117"/>
                    </a:lnTo>
                    <a:lnTo>
                      <a:pt x="264" y="124"/>
                    </a:lnTo>
                    <a:lnTo>
                      <a:pt x="264" y="132"/>
                    </a:lnTo>
                    <a:lnTo>
                      <a:pt x="264" y="139"/>
                    </a:lnTo>
                    <a:lnTo>
                      <a:pt x="262" y="14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459600" y="3116160"/>
                <a:ext cx="2581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5440" rIns="55440" tIns="27000" bIns="27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100" spc="-1" strike="noStrike" baseline="-25000">
                    <a:solidFill>
                      <a:srgbClr val="ffffff"/>
                    </a:solidFill>
                    <a:latin typeface="Symbol"/>
                    <a:ea typeface="Symbol"/>
                  </a:rPr>
                  <a:t>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52960" y="3390840"/>
                <a:ext cx="626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762440" y="2440080"/>
              <a:ext cx="2364480" cy="99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11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11001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60240" y="2347920"/>
              <a:ext cx="2457360" cy="117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1"/>
                  </a:moveTo>
                  <a:arcTo wR="10800" hR="10800" stAng="-9284" swAng="5413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1"/>
                  </a:moveTo>
                  <a:arcTo wR="10800" hR="10800" stAng="-9284" swAng="541373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11480" y="2814480"/>
              <a:ext cx="752760" cy="131760"/>
            </a:xfrm>
            <a:custGeom>
              <a:avLst/>
              <a:gdLst/>
              <a:ahLst/>
              <a:rect l="l" t="t" r="r" b="b"/>
              <a:pathLst>
                <a:path w="474" h="83">
                  <a:moveTo>
                    <a:pt x="7" y="75"/>
                  </a:moveTo>
                  <a:lnTo>
                    <a:pt x="0" y="82"/>
                  </a:lnTo>
                  <a:lnTo>
                    <a:pt x="7" y="77"/>
                  </a:lnTo>
                  <a:lnTo>
                    <a:pt x="14" y="72"/>
                  </a:lnTo>
                  <a:lnTo>
                    <a:pt x="22" y="65"/>
                  </a:lnTo>
                  <a:lnTo>
                    <a:pt x="29" y="60"/>
                  </a:lnTo>
                  <a:lnTo>
                    <a:pt x="36" y="58"/>
                  </a:lnTo>
                  <a:lnTo>
                    <a:pt x="43" y="55"/>
                  </a:lnTo>
                  <a:lnTo>
                    <a:pt x="50" y="53"/>
                  </a:lnTo>
                  <a:lnTo>
                    <a:pt x="58" y="51"/>
                  </a:lnTo>
                  <a:lnTo>
                    <a:pt x="65" y="51"/>
                  </a:lnTo>
                  <a:lnTo>
                    <a:pt x="72" y="46"/>
                  </a:lnTo>
                  <a:lnTo>
                    <a:pt x="79" y="41"/>
                  </a:lnTo>
                  <a:lnTo>
                    <a:pt x="86" y="39"/>
                  </a:lnTo>
                  <a:lnTo>
                    <a:pt x="94" y="36"/>
                  </a:lnTo>
                  <a:lnTo>
                    <a:pt x="101" y="31"/>
                  </a:lnTo>
                  <a:lnTo>
                    <a:pt x="108" y="29"/>
                  </a:lnTo>
                  <a:lnTo>
                    <a:pt x="115" y="27"/>
                  </a:lnTo>
                  <a:lnTo>
                    <a:pt x="122" y="22"/>
                  </a:lnTo>
                  <a:lnTo>
                    <a:pt x="130" y="19"/>
                  </a:lnTo>
                  <a:lnTo>
                    <a:pt x="137" y="17"/>
                  </a:lnTo>
                  <a:lnTo>
                    <a:pt x="144" y="12"/>
                  </a:lnTo>
                  <a:lnTo>
                    <a:pt x="151" y="10"/>
                  </a:lnTo>
                  <a:lnTo>
                    <a:pt x="158" y="7"/>
                  </a:lnTo>
                  <a:lnTo>
                    <a:pt x="166" y="7"/>
                  </a:lnTo>
                  <a:lnTo>
                    <a:pt x="173" y="5"/>
                  </a:lnTo>
                  <a:lnTo>
                    <a:pt x="180" y="2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35" y="0"/>
                  </a:lnTo>
                  <a:lnTo>
                    <a:pt x="243" y="0"/>
                  </a:lnTo>
                  <a:lnTo>
                    <a:pt x="250" y="0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2"/>
                  </a:lnTo>
                  <a:lnTo>
                    <a:pt x="286" y="2"/>
                  </a:lnTo>
                  <a:lnTo>
                    <a:pt x="293" y="2"/>
                  </a:lnTo>
                  <a:lnTo>
                    <a:pt x="300" y="5"/>
                  </a:lnTo>
                  <a:lnTo>
                    <a:pt x="307" y="5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29" y="7"/>
                  </a:lnTo>
                  <a:lnTo>
                    <a:pt x="336" y="7"/>
                  </a:lnTo>
                  <a:lnTo>
                    <a:pt x="343" y="10"/>
                  </a:lnTo>
                  <a:lnTo>
                    <a:pt x="351" y="12"/>
                  </a:lnTo>
                  <a:lnTo>
                    <a:pt x="358" y="14"/>
                  </a:lnTo>
                  <a:lnTo>
                    <a:pt x="365" y="17"/>
                  </a:lnTo>
                  <a:lnTo>
                    <a:pt x="372" y="19"/>
                  </a:lnTo>
                  <a:lnTo>
                    <a:pt x="379" y="22"/>
                  </a:lnTo>
                  <a:lnTo>
                    <a:pt x="389" y="24"/>
                  </a:lnTo>
                  <a:lnTo>
                    <a:pt x="396" y="31"/>
                  </a:lnTo>
                  <a:lnTo>
                    <a:pt x="403" y="34"/>
                  </a:lnTo>
                  <a:lnTo>
                    <a:pt x="411" y="36"/>
                  </a:lnTo>
                  <a:lnTo>
                    <a:pt x="418" y="43"/>
                  </a:lnTo>
                  <a:lnTo>
                    <a:pt x="425" y="48"/>
                  </a:lnTo>
                  <a:lnTo>
                    <a:pt x="432" y="53"/>
                  </a:lnTo>
                  <a:lnTo>
                    <a:pt x="437" y="60"/>
                  </a:lnTo>
                  <a:lnTo>
                    <a:pt x="444" y="63"/>
                  </a:lnTo>
                  <a:lnTo>
                    <a:pt x="451" y="65"/>
                  </a:lnTo>
                  <a:lnTo>
                    <a:pt x="459" y="70"/>
                  </a:lnTo>
                  <a:lnTo>
                    <a:pt x="466" y="75"/>
                  </a:lnTo>
                  <a:lnTo>
                    <a:pt x="473" y="8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89480" y="1795320"/>
              <a:ext cx="0" cy="1908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34320" y="3614760"/>
              <a:ext cx="2595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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95960" y="3390840"/>
              <a:ext cx="1037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89720" y="3166920"/>
              <a:ext cx="250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1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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600200" y="4294080"/>
            <a:ext cx="1974960" cy="520920"/>
            <a:chOff x="1600200" y="4294080"/>
            <a:chExt cx="1974960" cy="520920"/>
          </a:xfrm>
        </p:grpSpPr>
        <p:sp>
          <p:nvSpPr>
            <p:cNvPr id="149" name=""/>
            <p:cNvSpPr/>
            <p:nvPr/>
          </p:nvSpPr>
          <p:spPr>
            <a:xfrm>
              <a:off x="1600200" y="4294080"/>
              <a:ext cx="501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85520" y="4294080"/>
              <a:ext cx="48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4280" y="439740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9760" y="4454640"/>
              <a:ext cx="365400" cy="360360"/>
            </a:xfrm>
            <a:prstGeom prst="rightArrow">
              <a:avLst>
                <a:gd name="adj1" fmla="val 50000"/>
                <a:gd name="adj2" fmla="val 50704"/>
              </a:avLst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585080" y="4894200"/>
            <a:ext cx="1990080" cy="505080"/>
            <a:chOff x="1585080" y="4894200"/>
            <a:chExt cx="1990080" cy="505080"/>
          </a:xfrm>
        </p:grpSpPr>
        <p:sp>
          <p:nvSpPr>
            <p:cNvPr id="154" name=""/>
            <p:cNvSpPr/>
            <p:nvPr/>
          </p:nvSpPr>
          <p:spPr>
            <a:xfrm>
              <a:off x="1585080" y="4894200"/>
              <a:ext cx="492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8320" y="4894200"/>
              <a:ext cx="475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94920" y="497844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6880" y="5035680"/>
              <a:ext cx="368280" cy="291960"/>
            </a:xfrm>
            <a:prstGeom prst="rightArrow">
              <a:avLst>
                <a:gd name="adj1" fmla="val 50000"/>
                <a:gd name="adj2" fmla="val 63076"/>
              </a:avLst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781800" y="4368960"/>
            <a:ext cx="311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rsión B es más Riesg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89000" y="4978440"/>
            <a:ext cx="309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rsión B es más Ren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decisión depende del “comportamiento” del inversor frente al riesg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e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Como se define el comportamiento de un inversionista ante el ries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emos al inversionista a la siguiente pregunta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¿ Por cuanto dinero estaría dispuesto a vender el boleto de la siguiente  loterí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 % de probabilidad de ganar $ 1.000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 % de probabilidad de ganar $    500.00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valor esperado (E) de la lotería 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 = 0,5 * 1.000.000 + 0,5 * 500.000 = 750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para el precio (E’) que esta dispuesto a vender se cu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’&lt; E               Adverso al rie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’ = E               Neutro a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’ &gt; E               Amante de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9680" y="297828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9680" y="343548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9680" y="3892680"/>
            <a:ext cx="444240" cy="215640"/>
          </a:xfrm>
          <a:prstGeom prst="rightArrow">
            <a:avLst>
              <a:gd name="adj1" fmla="val 50000"/>
              <a:gd name="adj2" fmla="val 103015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7040" y="4886280"/>
            <a:ext cx="8337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ntario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i todos los agentes económicos son adversos a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2 Análisis de Sensibilidad y de Escen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de Sensi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rsión evaluada en una situación 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determinan las variables mas significativas que afectan los indicadores de rentabilidad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cios de v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cios de insu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os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o de cap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lúmenes de v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eficientes tecnológ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r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2 Análisis de Sensibilidad y de Escen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de Sensi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busca evaluar la sensibilidad de los indicadores de rentabilidad ante variaciones de las variables significativas  más inciert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82560" y="3587760"/>
            <a:ext cx="5954760" cy="2730600"/>
            <a:chOff x="1582560" y="3587760"/>
            <a:chExt cx="5954760" cy="2730600"/>
          </a:xfrm>
        </p:grpSpPr>
        <p:sp>
          <p:nvSpPr>
            <p:cNvPr id="175" name=""/>
            <p:cNvSpPr/>
            <p:nvPr/>
          </p:nvSpPr>
          <p:spPr>
            <a:xfrm>
              <a:off x="1606680" y="3587760"/>
              <a:ext cx="5930640" cy="2730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6680" y="4191120"/>
              <a:ext cx="5930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61040" y="3781440"/>
              <a:ext cx="60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82560" y="4390920"/>
              <a:ext cx="296424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ituación B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ecio Venta* (1 - x%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ecio Insumos * (1 + y%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entas *(1 - z%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stos Operación * (1 + W%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.  .   .  . 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3587760"/>
              <a:ext cx="0" cy="273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27440" y="3705120"/>
              <a:ext cx="234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∆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AN/VAN)/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∆X/X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2 Análisis de Sensibilidad y de Escen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de Sensi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 el impacto de una variable riesgosa en el VAN es importante, entonces el proyecto es RIESGO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nivel de riesgo se determina en la medida que el VAN se hace negativo para valores probables de la vari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este caso, se debe hacer una evaluación costo-beneficio de la pertinencia de comprar certidumbre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2 Análisis de Sensibilidad: ejemplo Victoria - Vilcú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26920" y="1916280"/>
          <a:ext cx="7632720" cy="446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63272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2 Análisis de Sensibilidad y de Escenari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álisis de Sensi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ntaj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ácil Apl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ácil de Ent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ventaj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ólo permite analizar variaciones de un parámetro a la ve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utiliza información como las distribuciones de probabilidad del parámetro a sensibi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entrega distribución de probabilidades de los indicadores de rentabilidad VAN y T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2 Análisis de Sensibilidad y de Escenari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 Escen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técnica permite solventar el problema de unidimensionalidad del análisis de sensibilidad, definiendo escenarios para las distintas variables riesgosas que afectan la inver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da escenario está determinado por los valores que supuestamente tomarían las variables riesgosas en es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bitualmente se definen tres escenarios : optimista, medio y pesimis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entes de Riesgo e Incertidumbre en Inver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o de fuentes de información poco conf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námica de los merc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rores de interpretación de da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rores en la manipulación de in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2 Análisis de Sensibilidad y de Escenari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 Escen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ejemp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cenario optimis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ecio producto sube un 2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ecio de los insumos se mantien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ventas crecen en un 1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escenarios deben ser definidos por la alta gerencia de la empres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es una actividad netamente interfun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3 Ajuste simple en la tasa de descu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rtamiento del Inversionist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una inversión mas riesgosa se le exige una mayor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 lo tanto se espera recibir un premio por asumir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forma de incorporar el riego es castigar la tasa de descuento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34280" y="4886280"/>
            <a:ext cx="256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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52720" y="5486400"/>
            <a:ext cx="4494600" cy="1003320"/>
            <a:chOff x="252720" y="5486400"/>
            <a:chExt cx="4494600" cy="1003320"/>
          </a:xfrm>
        </p:grpSpPr>
        <p:sp>
          <p:nvSpPr>
            <p:cNvPr id="196" name=""/>
            <p:cNvSpPr/>
            <p:nvPr/>
          </p:nvSpPr>
          <p:spPr>
            <a:xfrm>
              <a:off x="252720" y="5486400"/>
              <a:ext cx="704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</a:t>
              </a: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200" y="5790960"/>
              <a:ext cx="307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5280" y="6095880"/>
              <a:ext cx="291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6000" y="5546520"/>
              <a:ext cx="3991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= Tasa de descuento que incorpora riesg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= Tasa de descuento libre de riesgo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= Premio por asumir el riesg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492880" y="4578480"/>
            <a:ext cx="295884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3 Ajuste simple en la tasa de descu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07920" y="1606680"/>
            <a:ext cx="1919520" cy="930240"/>
            <a:chOff x="907920" y="1606680"/>
            <a:chExt cx="1919520" cy="930240"/>
          </a:xfrm>
        </p:grpSpPr>
        <p:sp>
          <p:nvSpPr>
            <p:cNvPr id="203" name=""/>
            <p:cNvSpPr/>
            <p:nvPr/>
          </p:nvSpPr>
          <p:spPr>
            <a:xfrm>
              <a:off x="999720" y="1866960"/>
              <a:ext cx="129636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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7920" y="1606680"/>
              <a:ext cx="1919520" cy="930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378080" y="3282840"/>
            <a:ext cx="6616440" cy="234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8080" y="3962520"/>
            <a:ext cx="661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3282840"/>
            <a:ext cx="0" cy="234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3282840"/>
            <a:ext cx="0" cy="234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3282840"/>
            <a:ext cx="0" cy="234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29920" y="3454560"/>
            <a:ext cx="1822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vel de 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08040" y="4292640"/>
            <a:ext cx="8460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052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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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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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834520" y="1486080"/>
            <a:ext cx="2523960" cy="1432800"/>
            <a:chOff x="5834520" y="1486080"/>
            <a:chExt cx="2523960" cy="1432800"/>
          </a:xfrm>
        </p:grpSpPr>
        <p:sp>
          <p:nvSpPr>
            <p:cNvPr id="214" name=""/>
            <p:cNvSpPr/>
            <p:nvPr/>
          </p:nvSpPr>
          <p:spPr>
            <a:xfrm>
              <a:off x="7311960" y="1503360"/>
              <a:ext cx="393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3280" y="1486080"/>
              <a:ext cx="38520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5834520" y="1554120"/>
              <a:ext cx="2388600" cy="1364760"/>
              <a:chOff x="5834520" y="1554120"/>
              <a:chExt cx="2388600" cy="1364760"/>
            </a:xfrm>
          </p:grpSpPr>
          <p:sp>
            <p:nvSpPr>
              <p:cNvPr id="217" name=""/>
              <p:cNvSpPr/>
              <p:nvPr/>
            </p:nvSpPr>
            <p:spPr>
              <a:xfrm>
                <a:off x="6026040" y="2111400"/>
                <a:ext cx="0" cy="39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34440" y="1785960"/>
                <a:ext cx="0" cy="388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211960" y="1735200"/>
                <a:ext cx="0" cy="43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34520" y="2720880"/>
                <a:ext cx="4431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10.000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09800" y="1554120"/>
                <a:ext cx="3852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imes New Roman"/>
                  </a:rPr>
                  <a:t>4500 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26040" y="2133720"/>
                <a:ext cx="2197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611760" y="1735200"/>
                <a:ext cx="0" cy="43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3879000" y="3438360"/>
            <a:ext cx="39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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27880" y="3438360"/>
            <a:ext cx="29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5300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95520" y="3454560"/>
            <a:ext cx="73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53200" y="4314960"/>
            <a:ext cx="7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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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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3 Ajuste simple en la tasa de descu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as del Méto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fija arbitrari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e utiliza información valiosa como la distribución de probabilidades de los flujos futu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riesgo aumenta a medida que pasa el tiempo, cosa que no siempre es cier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89400" y="2311560"/>
            <a:ext cx="35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imitaciones del modelo probabilístic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endimiento de probabil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icil formulación matemá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elación de las relaciones entre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elación de la relaciones entre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mposibilidad de llegar a una solución ana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lución : Simulación Comput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simulación permite la evaluación de un gran número de escenarios generados aleatoriamente, de acuerdo a las distribuciones de probabilidades de las variables riesgosas  y de las relaciones de interdependencia entre ell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obtiene distribuciones de probabilidad de los criterios de evaluación seleccionad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85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ribuciones de Probabilidad mas usada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ifor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iang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nom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45920" indent="-182880">
              <a:spcBef>
                <a:spcPts val="499"/>
              </a:spcBef>
              <a:buClr>
                <a:srgbClr val="ffffff"/>
              </a:buClr>
              <a:buFont typeface="Times New Roman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d hoc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11440" y="3429000"/>
            <a:ext cx="2502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30960" y="4419720"/>
            <a:ext cx="2502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54640" y="2209680"/>
            <a:ext cx="2502000" cy="381240"/>
            <a:chOff x="6254640" y="2209680"/>
            <a:chExt cx="2502000" cy="381240"/>
          </a:xfrm>
        </p:grpSpPr>
        <p:sp>
          <p:nvSpPr>
            <p:cNvPr id="241" name=""/>
            <p:cNvSpPr/>
            <p:nvPr/>
          </p:nvSpPr>
          <p:spPr>
            <a:xfrm>
              <a:off x="6254640" y="2590920"/>
              <a:ext cx="2502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0" y="2216160"/>
              <a:ext cx="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64480" y="2209680"/>
              <a:ext cx="1358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9600" y="2216160"/>
              <a:ext cx="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H="1">
            <a:off x="4032360" y="2749680"/>
            <a:ext cx="622080" cy="672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54440" y="2749680"/>
            <a:ext cx="596880" cy="672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510000"/>
            <a:ext cx="2032200" cy="801720"/>
          </a:xfrm>
          <a:custGeom>
            <a:avLst/>
            <a:gdLst/>
            <a:ahLst/>
            <a:rect l="l" t="t" r="r" b="b"/>
            <a:pathLst>
              <a:path w="1280" h="505">
                <a:moveTo>
                  <a:pt x="0" y="477"/>
                </a:moveTo>
                <a:lnTo>
                  <a:pt x="27" y="468"/>
                </a:lnTo>
                <a:lnTo>
                  <a:pt x="63" y="468"/>
                </a:lnTo>
                <a:lnTo>
                  <a:pt x="113" y="468"/>
                </a:lnTo>
                <a:lnTo>
                  <a:pt x="142" y="460"/>
                </a:lnTo>
                <a:lnTo>
                  <a:pt x="171" y="453"/>
                </a:lnTo>
                <a:lnTo>
                  <a:pt x="199" y="453"/>
                </a:lnTo>
                <a:lnTo>
                  <a:pt x="221" y="439"/>
                </a:lnTo>
                <a:lnTo>
                  <a:pt x="243" y="424"/>
                </a:lnTo>
                <a:lnTo>
                  <a:pt x="271" y="410"/>
                </a:lnTo>
                <a:lnTo>
                  <a:pt x="300" y="381"/>
                </a:lnTo>
                <a:lnTo>
                  <a:pt x="329" y="345"/>
                </a:lnTo>
                <a:lnTo>
                  <a:pt x="343" y="288"/>
                </a:lnTo>
                <a:lnTo>
                  <a:pt x="365" y="259"/>
                </a:lnTo>
                <a:lnTo>
                  <a:pt x="372" y="201"/>
                </a:lnTo>
                <a:lnTo>
                  <a:pt x="394" y="172"/>
                </a:lnTo>
                <a:lnTo>
                  <a:pt x="401" y="136"/>
                </a:lnTo>
                <a:lnTo>
                  <a:pt x="415" y="108"/>
                </a:lnTo>
                <a:lnTo>
                  <a:pt x="430" y="86"/>
                </a:lnTo>
                <a:lnTo>
                  <a:pt x="437" y="64"/>
                </a:lnTo>
                <a:lnTo>
                  <a:pt x="451" y="36"/>
                </a:lnTo>
                <a:lnTo>
                  <a:pt x="473" y="14"/>
                </a:lnTo>
                <a:lnTo>
                  <a:pt x="495" y="7"/>
                </a:lnTo>
                <a:lnTo>
                  <a:pt x="523" y="0"/>
                </a:lnTo>
                <a:lnTo>
                  <a:pt x="545" y="0"/>
                </a:lnTo>
                <a:lnTo>
                  <a:pt x="567" y="7"/>
                </a:lnTo>
                <a:lnTo>
                  <a:pt x="617" y="21"/>
                </a:lnTo>
                <a:lnTo>
                  <a:pt x="646" y="28"/>
                </a:lnTo>
                <a:lnTo>
                  <a:pt x="675" y="50"/>
                </a:lnTo>
                <a:lnTo>
                  <a:pt x="703" y="72"/>
                </a:lnTo>
                <a:lnTo>
                  <a:pt x="732" y="93"/>
                </a:lnTo>
                <a:lnTo>
                  <a:pt x="739" y="115"/>
                </a:lnTo>
                <a:lnTo>
                  <a:pt x="761" y="129"/>
                </a:lnTo>
                <a:lnTo>
                  <a:pt x="768" y="151"/>
                </a:lnTo>
                <a:lnTo>
                  <a:pt x="783" y="180"/>
                </a:lnTo>
                <a:lnTo>
                  <a:pt x="797" y="208"/>
                </a:lnTo>
                <a:lnTo>
                  <a:pt x="811" y="230"/>
                </a:lnTo>
                <a:lnTo>
                  <a:pt x="826" y="252"/>
                </a:lnTo>
                <a:lnTo>
                  <a:pt x="833" y="280"/>
                </a:lnTo>
                <a:lnTo>
                  <a:pt x="855" y="302"/>
                </a:lnTo>
                <a:lnTo>
                  <a:pt x="855" y="324"/>
                </a:lnTo>
                <a:lnTo>
                  <a:pt x="876" y="352"/>
                </a:lnTo>
                <a:lnTo>
                  <a:pt x="891" y="374"/>
                </a:lnTo>
                <a:lnTo>
                  <a:pt x="905" y="396"/>
                </a:lnTo>
                <a:lnTo>
                  <a:pt x="927" y="410"/>
                </a:lnTo>
                <a:lnTo>
                  <a:pt x="941" y="432"/>
                </a:lnTo>
                <a:lnTo>
                  <a:pt x="963" y="446"/>
                </a:lnTo>
                <a:lnTo>
                  <a:pt x="991" y="460"/>
                </a:lnTo>
                <a:lnTo>
                  <a:pt x="1013" y="475"/>
                </a:lnTo>
                <a:lnTo>
                  <a:pt x="1035" y="482"/>
                </a:lnTo>
                <a:lnTo>
                  <a:pt x="1063" y="489"/>
                </a:lnTo>
                <a:lnTo>
                  <a:pt x="1085" y="489"/>
                </a:lnTo>
                <a:lnTo>
                  <a:pt x="1107" y="496"/>
                </a:lnTo>
                <a:lnTo>
                  <a:pt x="1135" y="504"/>
                </a:lnTo>
                <a:lnTo>
                  <a:pt x="1157" y="504"/>
                </a:lnTo>
                <a:lnTo>
                  <a:pt x="1179" y="504"/>
                </a:lnTo>
                <a:lnTo>
                  <a:pt x="1207" y="504"/>
                </a:lnTo>
                <a:lnTo>
                  <a:pt x="1229" y="504"/>
                </a:lnTo>
                <a:lnTo>
                  <a:pt x="1251" y="504"/>
                </a:lnTo>
                <a:lnTo>
                  <a:pt x="1279" y="50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359160" y="4718160"/>
            <a:ext cx="520560" cy="31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9160" y="5035680"/>
            <a:ext cx="520560" cy="29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47400" y="4521240"/>
            <a:ext cx="39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47040" y="5130720"/>
            <a:ext cx="4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330960" y="4959360"/>
            <a:ext cx="2502000" cy="1365120"/>
            <a:chOff x="6330960" y="4959360"/>
            <a:chExt cx="2502000" cy="1365120"/>
          </a:xfrm>
        </p:grpSpPr>
        <p:sp>
          <p:nvSpPr>
            <p:cNvPr id="253" name=""/>
            <p:cNvSpPr/>
            <p:nvPr/>
          </p:nvSpPr>
          <p:spPr>
            <a:xfrm>
              <a:off x="6330960" y="6324480"/>
              <a:ext cx="2502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416560"/>
              <a:ext cx="6336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5880" y="5492880"/>
              <a:ext cx="139680" cy="825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88160" y="5950080"/>
              <a:ext cx="291960" cy="368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93080" y="5721480"/>
              <a:ext cx="215640" cy="596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21680" y="5416560"/>
              <a:ext cx="29196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26240" y="4959360"/>
              <a:ext cx="63720" cy="1359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02560" y="6026040"/>
              <a:ext cx="749160" cy="292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imient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82840" y="3740040"/>
            <a:ext cx="120672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73960" y="3740040"/>
            <a:ext cx="12826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50960" y="2139840"/>
            <a:ext cx="1796760" cy="1401480"/>
            <a:chOff x="750960" y="2139840"/>
            <a:chExt cx="1796760" cy="1401480"/>
          </a:xfrm>
        </p:grpSpPr>
        <p:sp>
          <p:nvSpPr>
            <p:cNvPr id="266" name=""/>
            <p:cNvSpPr/>
            <p:nvPr/>
          </p:nvSpPr>
          <p:spPr>
            <a:xfrm>
              <a:off x="768240" y="2139840"/>
              <a:ext cx="1739880" cy="1282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0960" y="2174760"/>
              <a:ext cx="179676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atos de entrada 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 Tasa descuen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 Tasa Impositiv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 Definición Probabilístic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 variables riesgos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 Relación entre variab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206880" y="2292480"/>
            <a:ext cx="1206360" cy="977760"/>
            <a:chOff x="3206880" y="2292480"/>
            <a:chExt cx="1206360" cy="977760"/>
          </a:xfrm>
        </p:grpSpPr>
        <p:sp>
          <p:nvSpPr>
            <p:cNvPr id="269" name=""/>
            <p:cNvSpPr/>
            <p:nvPr/>
          </p:nvSpPr>
          <p:spPr>
            <a:xfrm>
              <a:off x="3206880" y="2292480"/>
              <a:ext cx="1206360" cy="977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0800" y="2479680"/>
              <a:ext cx="10411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Generador de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variable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leatoria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415320" y="4003560"/>
            <a:ext cx="836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lo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ió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037320" y="5187960"/>
            <a:ext cx="1699200" cy="1036440"/>
            <a:chOff x="3037320" y="5187960"/>
            <a:chExt cx="1699200" cy="1036440"/>
          </a:xfrm>
        </p:grpSpPr>
        <p:sp>
          <p:nvSpPr>
            <p:cNvPr id="273" name=""/>
            <p:cNvSpPr/>
            <p:nvPr/>
          </p:nvSpPr>
          <p:spPr>
            <a:xfrm>
              <a:off x="3054240" y="5187960"/>
              <a:ext cx="1587600" cy="977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37320" y="5222880"/>
              <a:ext cx="169920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riterios de Evaluación 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- VA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- TI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- Pay-Ba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- ...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340240" y="3740040"/>
            <a:ext cx="1219680" cy="978120"/>
            <a:chOff x="5340240" y="3740040"/>
            <a:chExt cx="1219680" cy="978120"/>
          </a:xfrm>
        </p:grpSpPr>
        <p:sp>
          <p:nvSpPr>
            <p:cNvPr id="276" name=""/>
            <p:cNvSpPr/>
            <p:nvPr/>
          </p:nvSpPr>
          <p:spPr>
            <a:xfrm>
              <a:off x="5340240" y="3740040"/>
              <a:ext cx="1206720" cy="978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97120" y="3851280"/>
              <a:ext cx="1162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stribución de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robabilidade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l criterio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leccionado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454520" y="3851280"/>
            <a:ext cx="1400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álisis estadístic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la distribu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los criterios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aluació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21080" y="2743200"/>
            <a:ext cx="672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9880" y="32828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809880" y="47178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02160" y="426708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426708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4 Simul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2120" y="1450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ad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640080" indent="-127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ción de Probabilidades del 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64280" y="7473960"/>
            <a:ext cx="63360" cy="189216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225440" y="2490840"/>
            <a:ext cx="6540480" cy="4178160"/>
            <a:chOff x="1225440" y="2490840"/>
            <a:chExt cx="6540480" cy="4178160"/>
          </a:xfrm>
        </p:grpSpPr>
        <p:sp>
          <p:nvSpPr>
            <p:cNvPr id="288" name=""/>
            <p:cNvSpPr/>
            <p:nvPr/>
          </p:nvSpPr>
          <p:spPr>
            <a:xfrm>
              <a:off x="1225440" y="2490840"/>
              <a:ext cx="6540480" cy="4178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35280" y="6224400"/>
              <a:ext cx="63360" cy="444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11240" y="5919840"/>
              <a:ext cx="6372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7560" y="5767200"/>
              <a:ext cx="6336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63880" y="5081400"/>
              <a:ext cx="63360" cy="1587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39840" y="5691240"/>
              <a:ext cx="63720" cy="977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16160" y="5462640"/>
              <a:ext cx="63360" cy="12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92480" y="5157720"/>
              <a:ext cx="63360" cy="1511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68440" y="5386320"/>
              <a:ext cx="63720" cy="1282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44760" y="5310000"/>
              <a:ext cx="63360" cy="1359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21080" y="5538600"/>
              <a:ext cx="63360" cy="1130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97040" y="5234040"/>
              <a:ext cx="63720" cy="1434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73360" y="5234040"/>
              <a:ext cx="63360" cy="1434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9680" y="5157720"/>
              <a:ext cx="63360" cy="1511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25640" y="5462640"/>
              <a:ext cx="63720" cy="12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01960" y="5157720"/>
              <a:ext cx="63360" cy="1511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78280" y="5005440"/>
              <a:ext cx="63360" cy="1663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54240" y="4776840"/>
              <a:ext cx="6372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30560" y="4929120"/>
              <a:ext cx="63360" cy="1739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82840" y="5157720"/>
              <a:ext cx="63720" cy="1511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06880" y="477684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35480" y="477684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11440" y="4700520"/>
              <a:ext cx="63720" cy="196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87760" y="5462640"/>
              <a:ext cx="63360" cy="12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64080" y="477684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40040" y="4776840"/>
              <a:ext cx="6372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6360" y="4319640"/>
              <a:ext cx="63360" cy="2349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92680" y="477684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68640" y="3862440"/>
              <a:ext cx="63720" cy="2806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44960" y="4014720"/>
              <a:ext cx="63360" cy="2654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21280" y="2643120"/>
              <a:ext cx="63360" cy="4025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97240" y="3633840"/>
              <a:ext cx="63720" cy="3035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73560" y="3176640"/>
              <a:ext cx="63360" cy="3492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49880" y="4243320"/>
              <a:ext cx="63360" cy="242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25840" y="4014720"/>
              <a:ext cx="63720" cy="2654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02160" y="477684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8480" y="4243320"/>
              <a:ext cx="63360" cy="242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54440" y="5157720"/>
              <a:ext cx="63720" cy="1511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30760" y="4700520"/>
              <a:ext cx="63360" cy="196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07080" y="4548240"/>
              <a:ext cx="63360" cy="2120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83040" y="4776840"/>
              <a:ext cx="6372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59360" y="4471920"/>
              <a:ext cx="63360" cy="2197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35680" y="477684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11640" y="4624200"/>
              <a:ext cx="63720" cy="2044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7960" y="4395600"/>
              <a:ext cx="63360" cy="2273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40240" y="4700520"/>
              <a:ext cx="63720" cy="196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64280" y="4319640"/>
              <a:ext cx="63360" cy="2349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6560" y="477684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92880" y="4929120"/>
              <a:ext cx="63360" cy="1739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68840" y="4471920"/>
              <a:ext cx="63720" cy="2197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45160" y="477684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21480" y="5234040"/>
              <a:ext cx="63360" cy="1434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97440" y="4624200"/>
              <a:ext cx="63720" cy="2044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73760" y="4395600"/>
              <a:ext cx="63360" cy="2273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50080" y="5462640"/>
              <a:ext cx="63360" cy="12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26040" y="4548240"/>
              <a:ext cx="63720" cy="2120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02360" y="5234040"/>
              <a:ext cx="63360" cy="1434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78680" y="4776840"/>
              <a:ext cx="63360" cy="189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54640" y="5005440"/>
              <a:ext cx="63720" cy="1663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30960" y="5462640"/>
              <a:ext cx="63360" cy="120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7280" y="5005440"/>
              <a:ext cx="63360" cy="1663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3240" y="5234040"/>
              <a:ext cx="63720" cy="1434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9560" y="5538600"/>
              <a:ext cx="63360" cy="1130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35880" y="5843520"/>
              <a:ext cx="63360" cy="825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88160" y="6224400"/>
              <a:ext cx="63360" cy="444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64480" y="5691240"/>
              <a:ext cx="63360" cy="977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40440" y="5843520"/>
              <a:ext cx="63720" cy="825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16760" y="6224400"/>
              <a:ext cx="63360" cy="444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59160" y="4852800"/>
              <a:ext cx="63360" cy="1816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11840" y="5843520"/>
              <a:ext cx="63720" cy="825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39640" y="9889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pongamos que la variable aleatoria de un proyecto es la cantidad de clientes en un año. Y que la distribución que sigue esta variable es una uniforme entre 400 y 1.000 [clientes/año]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sideremos además que el proyecto tiene un horizonte de 3 años donde cada flujo es caracterizado como sigu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- 2000 y F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= 10 * 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6000 con i=1,2,3, donde 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la cantidad de clientes en el año i. El costo de oportunidad del dinero es 1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ejemplo se ilustra en las siguientes págin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imero se realizaron 1000 iteraciones aleatorias para el VPN. Calculando además el valor esperado del VPN y su desvi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segundo lugar se calculó y se representó gráficamente la distribución de frecuencias del VPN, que, en la medida que crece el número de iteraciones tiende a la verdadera función de distribución de probabilidades del VP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inalmente se graficó la evolución del valor esperado y la desviación Standard del VPN a medida que aumenta el número de itera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24440" y="4435560"/>
            <a:ext cx="18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entes de Riesgo e Incertidumbre en Inver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co conocimiento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stos y m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os de insu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nologí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abla de Iteraciones Aleatorias del VP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24440" y="4435560"/>
            <a:ext cx="18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11280" y="1415880"/>
          <a:ext cx="7848360" cy="544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5880"/>
                    <a:ext cx="784836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tribución de Frecu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l 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¿Cuál es la probabilidad que el VPN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este proyecto sea negativ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bemos sumar las probabilidades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rangos que incluyen VPNs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ega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partir de la tabla, esta probabilidad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36,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24440" y="4435560"/>
            <a:ext cx="18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133640" y="905040"/>
          <a:ext cx="3678120" cy="56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905040"/>
                    <a:ext cx="3678120" cy="56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24440" y="4435560"/>
            <a:ext cx="18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755640" y="1295280"/>
          <a:ext cx="7615080" cy="54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95280"/>
                    <a:ext cx="761508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24440" y="4435560"/>
            <a:ext cx="18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042920" y="692280"/>
          <a:ext cx="7697880" cy="61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7697880" cy="61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990720" y="1812960"/>
            <a:ext cx="7727760" cy="37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99"/>
              </a:spcBef>
              <a:spcAft>
                <a:spcPts val="15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diversificación de Markowitz se preocupa del grado de covarianza entre las rentabilidades de los activos componentes de un portafol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599"/>
              </a:spcBef>
              <a:spcAft>
                <a:spcPts val="15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idea central es combinar en un portafolio, activos que no estén perfectamente correlacionados, con el propósito de disminuir el riesgo sin sacrificar rentabi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ertidumbre y carteras -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67080" y="3911760"/>
            <a:ext cx="314892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67080" y="3533760"/>
            <a:ext cx="5739480" cy="20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760" swAng="5392858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760" swAng="539285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2217600"/>
            <a:ext cx="0" cy="37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84440" y="6019920"/>
            <a:ext cx="4557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63200" y="377496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37760" y="324180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94760" y="499428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16520" y="520704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118240" y="4216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6680" y="3530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61240" y="436896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400" y="2387520"/>
            <a:ext cx="148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pe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66000" y="612144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671120" y="4572000"/>
            <a:ext cx="14590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4579920"/>
            <a:ext cx="0" cy="14335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671120" y="3886200"/>
            <a:ext cx="14526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37800" y="1647720"/>
            <a:ext cx="4662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onjunto factible está representado por la cur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-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37440" y="2409840"/>
            <a:ext cx="4752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onjunto eficiente está representado por la cur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-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38280" y="4427640"/>
            <a:ext cx="0" cy="1585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63200" y="377496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31640" y="3073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58280" y="415620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44080" y="430848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17400" y="3835440"/>
            <a:ext cx="40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44080" y="3622680"/>
            <a:ext cx="38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599840" y="3276720"/>
            <a:ext cx="21337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33520" y="2057400"/>
                <a:ext cx="74674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limLow>
                          <m:e>
                            <m:limUpp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/>
                                </m:nary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=1</m:t>
                            </m:r>
                          </m:lim>
                        </m:limLow>
                        <m:s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limLow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i</m:t>
                            </m:r>
                          </m:lim>
                        </m:limLow>
                        <m:limLow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lim>
                        </m:limLow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762120" y="1523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varianza del portafoli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3809880"/>
            <a:ext cx="731520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acción de riqueza invertida en cada alternativa, 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/N,  donde N es el número de inver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: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 = VAR (r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23880" y="2293920"/>
            <a:ext cx="0" cy="35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31800" y="5867280"/>
            <a:ext cx="554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52680" y="711360"/>
            <a:ext cx="8939880" cy="40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519200" y="4724280"/>
            <a:ext cx="43545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1720" y="193032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38000" y="5969160"/>
            <a:ext cx="2179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úmero de A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el Portafol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70640" y="2943360"/>
            <a:ext cx="363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diversificable (no sistemátic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14920" y="5076720"/>
            <a:ext cx="2397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no diversific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sistemátic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976400" y="3284640"/>
            <a:ext cx="1611360" cy="10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89400" y="4884840"/>
            <a:ext cx="366840" cy="36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176440" y="5265720"/>
            <a:ext cx="392040" cy="442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29200" y="4732200"/>
            <a:ext cx="0" cy="11289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27760" cy="192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bemos que la relación más típica entre riesgo y rentabilidad es lin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o significa que la rentabilidad de un activo se “explica” en función de la cantidad de riesgo que tie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términos más form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95480" y="4048200"/>
                <a:ext cx="3794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291960" y="5105520"/>
            <a:ext cx="1152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11280" y="5181480"/>
            <a:ext cx="920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asa lib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 ries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46200" y="4503600"/>
            <a:ext cx="443160" cy="13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903400" y="4491000"/>
            <a:ext cx="519120" cy="163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78320" y="5181480"/>
            <a:ext cx="1077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mi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ies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08200" y="5181480"/>
            <a:ext cx="109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ies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stemá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846000" y="4491000"/>
            <a:ext cx="366840" cy="62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913040" y="4491000"/>
            <a:ext cx="61920" cy="696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890800" y="4719240"/>
            <a:ext cx="163440" cy="468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17800" y="4656240"/>
            <a:ext cx="366840" cy="21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199040" y="4643280"/>
            <a:ext cx="519120" cy="23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262400" y="4948200"/>
            <a:ext cx="239760" cy="31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27760" cy="16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expresión anterior formalmente se deriva de imponer que la pendiente de la LMC es igual a la derivada de la frontera eficiente en el punto 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v(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/Var(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presenta la cantidad de riesgo y se denomina riesgo sistemá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finición sabemos que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 = Cov(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/Var(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= Var(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/ Var(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=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76160" y="5291280"/>
            <a:ext cx="5649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ctivo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meno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volátil o sensible que el “mercado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752040" y="4224240"/>
            <a:ext cx="7193520" cy="1536840"/>
            <a:chOff x="752040" y="4224240"/>
            <a:chExt cx="7193520" cy="1536840"/>
          </a:xfrm>
        </p:grpSpPr>
        <p:sp>
          <p:nvSpPr>
            <p:cNvPr id="442" name=""/>
            <p:cNvSpPr/>
            <p:nvPr/>
          </p:nvSpPr>
          <p:spPr>
            <a:xfrm>
              <a:off x="752040" y="4224240"/>
              <a:ext cx="8154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s-ES_tradnl" sz="22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</a:rPr>
                <a:t> &gt; 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2040" y="5290920"/>
              <a:ext cx="8154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s-ES_tradnl" sz="22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</a:rPr>
                <a:t> &lt; 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76520" y="4224240"/>
              <a:ext cx="5369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activo 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más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volátil o sensible que el “mercado”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35280" y="4297320"/>
              <a:ext cx="520560" cy="216000"/>
            </a:xfrm>
            <a:prstGeom prst="rightArrow">
              <a:avLst>
                <a:gd name="adj1" fmla="val 50000"/>
                <a:gd name="adj2" fmla="val 120533"/>
              </a:avLst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35280" y="5364000"/>
              <a:ext cx="520560" cy="216000"/>
            </a:xfrm>
            <a:prstGeom prst="rightArrow">
              <a:avLst>
                <a:gd name="adj1" fmla="val 50000"/>
                <a:gd name="adj2" fmla="val 120533"/>
              </a:avLst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foques para la incorporación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 Análisis individual de una inver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1 Análisis probabilís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2 Análisis de Sensibilidad y de Escen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3 Ajuste simple en la tasa de descu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4 Simu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Análisis de portafol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1 Diversificación y en modelo CA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Análisis de Decisiones Secuenciales y                Arboles de Dec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Para qué sirve el mode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49520" y="2066760"/>
            <a:ext cx="778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ásicamente, para determinar el costo de capital (empresa, división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yecto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838080" y="3286080"/>
                <a:ext cx="26035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520200" y="4800600"/>
            <a:ext cx="1589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culado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uerdo a CAP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42440" y="4038480"/>
            <a:ext cx="1865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nominador refle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iesgo sistemá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42440" y="2971800"/>
            <a:ext cx="1895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umerador refle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iesgo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sistemá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608120" y="4109760"/>
            <a:ext cx="1281240" cy="772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271680" y="3284640"/>
            <a:ext cx="1611360" cy="214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3348000" y="4033800"/>
            <a:ext cx="1535040" cy="239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plicando el mod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sa libre de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-17352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ndidatos: Papeles del Banco Central de Chile (PRC’s van desde 2 a 20 añ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ntabilidad esperada de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imer problema: Portafolio de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l es el portafolio de merca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óricamente representa el valor de mercado de todos los activos de la economía (debidamente ponderado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ndidatos para 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: índices bursátiles (IPSA, IGPA), índices sectoriales, PIB, consumo agregado r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imación de Be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beta de una compa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ñía es típicamente estimado a través de una regresión con datos histór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L estim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ó el beta para Hewlett Packard a partir de 60 observaciones de retornos de su acción y 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amp;P500 y obtuv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754360" y="4179960"/>
                <a:ext cx="27828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1434600" y="5272200"/>
            <a:ext cx="56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.81 significa alto riesgo. Claramente mayor a 1.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costo de capital promedio ponderado (WACC) asume que la estructura de capital es replic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289240" y="3840120"/>
                <a:ext cx="41194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1355400" y="5464080"/>
            <a:ext cx="1353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n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b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ac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31200" y="5464080"/>
            <a:ext cx="113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s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l ca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346120" y="2492280"/>
            <a:ext cx="1353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n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b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a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71080" y="2492280"/>
            <a:ext cx="989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u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26840" y="5464080"/>
            <a:ext cx="12268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s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a deu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19000" y="2492280"/>
            <a:ext cx="1109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sa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989000" y="4414320"/>
            <a:ext cx="443160" cy="1078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360600" y="4566960"/>
            <a:ext cx="138240" cy="92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4567320" y="4490640"/>
            <a:ext cx="87120" cy="100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51120" y="3436920"/>
            <a:ext cx="290520" cy="519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110120" y="3132000"/>
            <a:ext cx="163440" cy="824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405040" y="3132000"/>
            <a:ext cx="468360" cy="824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esgo y Rent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27760" cy="246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nto el CAPM como el WACC “aproximan” el costo de capital para efectos de valo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a aproximación más exacta consiste en valorar cada componente del flujo de caja de acuerdo a su propio costo de capi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spcAft>
                <a:spcPts val="751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o se conoce como valoración por componentes o valor presente neto ajust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1960" y="4772160"/>
                <a:ext cx="8213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se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ectos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inanciamiento</m:t>
                                </m:r>
                              </m:sub>
                            </m:sSub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1511280" y="5791320"/>
            <a:ext cx="1519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aloración c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ursos prop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522520" y="5176800"/>
            <a:ext cx="290520" cy="62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70680" y="5638680"/>
            <a:ext cx="2481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misión de acciones/ADR’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cudo tribut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misión de bon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réditos banc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5862240" y="5100120"/>
            <a:ext cx="87480" cy="468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 Análisis individual de una Invers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1 Análisis probabilístico de una invers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forma de Interpretar e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 variabilidad de los flujos de caja, que implica la variabilidad del 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hora los flujos de caja son variables Aleato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2640" y="5029200"/>
            <a:ext cx="532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50356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4425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0356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4425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50356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349880"/>
            <a:ext cx="0" cy="672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425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425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50356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11640" y="573264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9560" y="56944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97640" y="40942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49720" y="401796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15600" y="56944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26440" y="40942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40640" y="394164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31160" y="561816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10080" y="455148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5720" y="43228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3640" y="4094280"/>
            <a:ext cx="332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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viación estándar del flujo de caja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Valor esperado del flujo de caja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(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or Esperado de la Invers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(VAN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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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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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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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00" y="1427040"/>
            <a:ext cx="78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16360" y="5181480"/>
            <a:ext cx="59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18080" y="5160960"/>
            <a:ext cx="81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54440" y="51814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54640" y="51814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8960" y="5160960"/>
            <a:ext cx="90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39160" y="5160960"/>
            <a:ext cx="90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viación estándar de una Inversió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so 1: Flujos de caja independi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so 2 : Flujos de caja perfectamente   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correlacio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v(F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, F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 = 1 = Coeficiente de corre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so 3: Flujos de caja imperfectamente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rrelacion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000" y="1427040"/>
            <a:ext cx="78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8440" y="4267080"/>
            <a:ext cx="1130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95800" y="4251240"/>
            <a:ext cx="1039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demos obtener el comportamiento probabilístico del rendimiento económ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362320" y="2825640"/>
            <a:ext cx="4641840" cy="3194280"/>
            <a:chOff x="2362320" y="2825640"/>
            <a:chExt cx="4641840" cy="3194280"/>
          </a:xfrm>
        </p:grpSpPr>
        <p:sp>
          <p:nvSpPr>
            <p:cNvPr id="87" name=""/>
            <p:cNvSpPr/>
            <p:nvPr/>
          </p:nvSpPr>
          <p:spPr>
            <a:xfrm>
              <a:off x="2362320" y="2825640"/>
              <a:ext cx="0" cy="318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68440" y="6019920"/>
              <a:ext cx="4635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7071480" y="5816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34120" y="2463840"/>
            <a:ext cx="148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2978280"/>
            <a:ext cx="0" cy="3187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08680" y="2463840"/>
            <a:ext cx="338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ción de probabil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 V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46200" y="6083280"/>
            <a:ext cx="32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606680" y="1225800"/>
            <a:ext cx="5550840" cy="4602960"/>
            <a:chOff x="1606680" y="1225800"/>
            <a:chExt cx="5550840" cy="4602960"/>
          </a:xfrm>
        </p:grpSpPr>
        <p:sp>
          <p:nvSpPr>
            <p:cNvPr id="95" name=""/>
            <p:cNvSpPr/>
            <p:nvPr/>
          </p:nvSpPr>
          <p:spPr>
            <a:xfrm>
              <a:off x="160668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3220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38480" y="3124080"/>
              <a:ext cx="700200" cy="389160"/>
            </a:xfrm>
            <a:custGeom>
              <a:avLst/>
              <a:gdLst/>
              <a:ahLst/>
              <a:rect l="l" t="t" r="r" b="b"/>
              <a:pathLst>
                <a:path w="441" h="245">
                  <a:moveTo>
                    <a:pt x="0" y="240"/>
                  </a:moveTo>
                  <a:lnTo>
                    <a:pt x="0" y="224"/>
                  </a:lnTo>
                  <a:lnTo>
                    <a:pt x="0" y="212"/>
                  </a:lnTo>
                  <a:lnTo>
                    <a:pt x="4" y="200"/>
                  </a:lnTo>
                  <a:lnTo>
                    <a:pt x="4" y="188"/>
                  </a:lnTo>
                  <a:lnTo>
                    <a:pt x="4" y="176"/>
                  </a:lnTo>
                  <a:lnTo>
                    <a:pt x="8" y="160"/>
                  </a:lnTo>
                  <a:lnTo>
                    <a:pt x="12" y="148"/>
                  </a:lnTo>
                  <a:lnTo>
                    <a:pt x="16" y="136"/>
                  </a:lnTo>
                  <a:lnTo>
                    <a:pt x="20" y="124"/>
                  </a:lnTo>
                  <a:lnTo>
                    <a:pt x="28" y="112"/>
                  </a:lnTo>
                  <a:lnTo>
                    <a:pt x="40" y="104"/>
                  </a:lnTo>
                  <a:lnTo>
                    <a:pt x="52" y="92"/>
                  </a:lnTo>
                  <a:lnTo>
                    <a:pt x="60" y="80"/>
                  </a:lnTo>
                  <a:lnTo>
                    <a:pt x="72" y="72"/>
                  </a:lnTo>
                  <a:lnTo>
                    <a:pt x="80" y="60"/>
                  </a:lnTo>
                  <a:lnTo>
                    <a:pt x="92" y="52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8"/>
                  </a:lnTo>
                  <a:lnTo>
                    <a:pt x="140" y="24"/>
                  </a:lnTo>
                  <a:lnTo>
                    <a:pt x="152" y="16"/>
                  </a:lnTo>
                  <a:lnTo>
                    <a:pt x="164" y="12"/>
                  </a:lnTo>
                  <a:lnTo>
                    <a:pt x="176" y="8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6" y="4"/>
                  </a:lnTo>
                  <a:lnTo>
                    <a:pt x="248" y="4"/>
                  </a:lnTo>
                  <a:lnTo>
                    <a:pt x="260" y="4"/>
                  </a:lnTo>
                  <a:lnTo>
                    <a:pt x="276" y="8"/>
                  </a:lnTo>
                  <a:lnTo>
                    <a:pt x="288" y="8"/>
                  </a:lnTo>
                  <a:lnTo>
                    <a:pt x="300" y="12"/>
                  </a:lnTo>
                  <a:lnTo>
                    <a:pt x="312" y="16"/>
                  </a:lnTo>
                  <a:lnTo>
                    <a:pt x="324" y="20"/>
                  </a:lnTo>
                  <a:lnTo>
                    <a:pt x="332" y="32"/>
                  </a:lnTo>
                  <a:lnTo>
                    <a:pt x="344" y="36"/>
                  </a:lnTo>
                  <a:lnTo>
                    <a:pt x="352" y="48"/>
                  </a:lnTo>
                  <a:lnTo>
                    <a:pt x="364" y="56"/>
                  </a:lnTo>
                  <a:lnTo>
                    <a:pt x="368" y="68"/>
                  </a:lnTo>
                  <a:lnTo>
                    <a:pt x="376" y="80"/>
                  </a:lnTo>
                  <a:lnTo>
                    <a:pt x="388" y="88"/>
                  </a:lnTo>
                  <a:lnTo>
                    <a:pt x="392" y="100"/>
                  </a:lnTo>
                  <a:lnTo>
                    <a:pt x="404" y="112"/>
                  </a:lnTo>
                  <a:lnTo>
                    <a:pt x="416" y="124"/>
                  </a:lnTo>
                  <a:lnTo>
                    <a:pt x="420" y="136"/>
                  </a:lnTo>
                  <a:lnTo>
                    <a:pt x="428" y="148"/>
                  </a:lnTo>
                  <a:lnTo>
                    <a:pt x="428" y="160"/>
                  </a:lnTo>
                  <a:lnTo>
                    <a:pt x="436" y="172"/>
                  </a:lnTo>
                  <a:lnTo>
                    <a:pt x="436" y="184"/>
                  </a:lnTo>
                  <a:lnTo>
                    <a:pt x="440" y="196"/>
                  </a:lnTo>
                  <a:lnTo>
                    <a:pt x="440" y="208"/>
                  </a:lnTo>
                  <a:lnTo>
                    <a:pt x="440" y="220"/>
                  </a:lnTo>
                  <a:lnTo>
                    <a:pt x="440" y="232"/>
                  </a:lnTo>
                  <a:lnTo>
                    <a:pt x="436" y="2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34280" y="5191200"/>
              <a:ext cx="265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59160" y="5638680"/>
              <a:ext cx="1054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1.1 Análisis probabilístico de una Invers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 Que inversión elegir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362320" y="2825640"/>
            <a:ext cx="4641840" cy="3194280"/>
            <a:chOff x="2362320" y="2825640"/>
            <a:chExt cx="4641840" cy="3194280"/>
          </a:xfrm>
        </p:grpSpPr>
        <p:sp>
          <p:nvSpPr>
            <p:cNvPr id="103" name=""/>
            <p:cNvSpPr/>
            <p:nvPr/>
          </p:nvSpPr>
          <p:spPr>
            <a:xfrm>
              <a:off x="2362320" y="2825640"/>
              <a:ext cx="0" cy="318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68440" y="6019920"/>
              <a:ext cx="4635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071480" y="5816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34120" y="2463840"/>
            <a:ext cx="148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978280"/>
            <a:ext cx="0" cy="3187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08680" y="2463840"/>
            <a:ext cx="338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ción de probabil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 V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49440" y="6083280"/>
            <a:ext cx="440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06680" y="1225800"/>
            <a:ext cx="5550840" cy="4677840"/>
            <a:chOff x="1606680" y="1225800"/>
            <a:chExt cx="5550840" cy="4677840"/>
          </a:xfrm>
        </p:grpSpPr>
        <p:sp>
          <p:nvSpPr>
            <p:cNvPr id="111" name=""/>
            <p:cNvSpPr/>
            <p:nvPr/>
          </p:nvSpPr>
          <p:spPr>
            <a:xfrm>
              <a:off x="160668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3220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3124080"/>
              <a:ext cx="700200" cy="389160"/>
            </a:xfrm>
            <a:custGeom>
              <a:avLst/>
              <a:gdLst/>
              <a:ahLst/>
              <a:rect l="l" t="t" r="r" b="b"/>
              <a:pathLst>
                <a:path w="441" h="245">
                  <a:moveTo>
                    <a:pt x="0" y="240"/>
                  </a:moveTo>
                  <a:lnTo>
                    <a:pt x="0" y="224"/>
                  </a:lnTo>
                  <a:lnTo>
                    <a:pt x="0" y="212"/>
                  </a:lnTo>
                  <a:lnTo>
                    <a:pt x="4" y="200"/>
                  </a:lnTo>
                  <a:lnTo>
                    <a:pt x="4" y="188"/>
                  </a:lnTo>
                  <a:lnTo>
                    <a:pt x="4" y="176"/>
                  </a:lnTo>
                  <a:lnTo>
                    <a:pt x="8" y="160"/>
                  </a:lnTo>
                  <a:lnTo>
                    <a:pt x="12" y="148"/>
                  </a:lnTo>
                  <a:lnTo>
                    <a:pt x="16" y="136"/>
                  </a:lnTo>
                  <a:lnTo>
                    <a:pt x="20" y="124"/>
                  </a:lnTo>
                  <a:lnTo>
                    <a:pt x="28" y="112"/>
                  </a:lnTo>
                  <a:lnTo>
                    <a:pt x="40" y="104"/>
                  </a:lnTo>
                  <a:lnTo>
                    <a:pt x="52" y="92"/>
                  </a:lnTo>
                  <a:lnTo>
                    <a:pt x="60" y="80"/>
                  </a:lnTo>
                  <a:lnTo>
                    <a:pt x="72" y="72"/>
                  </a:lnTo>
                  <a:lnTo>
                    <a:pt x="80" y="60"/>
                  </a:lnTo>
                  <a:lnTo>
                    <a:pt x="92" y="52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8"/>
                  </a:lnTo>
                  <a:lnTo>
                    <a:pt x="140" y="24"/>
                  </a:lnTo>
                  <a:lnTo>
                    <a:pt x="152" y="16"/>
                  </a:lnTo>
                  <a:lnTo>
                    <a:pt x="164" y="12"/>
                  </a:lnTo>
                  <a:lnTo>
                    <a:pt x="176" y="8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6" y="4"/>
                  </a:lnTo>
                  <a:lnTo>
                    <a:pt x="248" y="4"/>
                  </a:lnTo>
                  <a:lnTo>
                    <a:pt x="260" y="4"/>
                  </a:lnTo>
                  <a:lnTo>
                    <a:pt x="276" y="8"/>
                  </a:lnTo>
                  <a:lnTo>
                    <a:pt x="288" y="8"/>
                  </a:lnTo>
                  <a:lnTo>
                    <a:pt x="300" y="12"/>
                  </a:lnTo>
                  <a:lnTo>
                    <a:pt x="312" y="16"/>
                  </a:lnTo>
                  <a:lnTo>
                    <a:pt x="324" y="20"/>
                  </a:lnTo>
                  <a:lnTo>
                    <a:pt x="332" y="32"/>
                  </a:lnTo>
                  <a:lnTo>
                    <a:pt x="344" y="36"/>
                  </a:lnTo>
                  <a:lnTo>
                    <a:pt x="352" y="48"/>
                  </a:lnTo>
                  <a:lnTo>
                    <a:pt x="364" y="56"/>
                  </a:lnTo>
                  <a:lnTo>
                    <a:pt x="368" y="68"/>
                  </a:lnTo>
                  <a:lnTo>
                    <a:pt x="376" y="80"/>
                  </a:lnTo>
                  <a:lnTo>
                    <a:pt x="388" y="88"/>
                  </a:lnTo>
                  <a:lnTo>
                    <a:pt x="392" y="100"/>
                  </a:lnTo>
                  <a:lnTo>
                    <a:pt x="404" y="112"/>
                  </a:lnTo>
                  <a:lnTo>
                    <a:pt x="416" y="124"/>
                  </a:lnTo>
                  <a:lnTo>
                    <a:pt x="420" y="136"/>
                  </a:lnTo>
                  <a:lnTo>
                    <a:pt x="428" y="148"/>
                  </a:lnTo>
                  <a:lnTo>
                    <a:pt x="428" y="160"/>
                  </a:lnTo>
                  <a:lnTo>
                    <a:pt x="436" y="172"/>
                  </a:lnTo>
                  <a:lnTo>
                    <a:pt x="436" y="184"/>
                  </a:lnTo>
                  <a:lnTo>
                    <a:pt x="440" y="196"/>
                  </a:lnTo>
                  <a:lnTo>
                    <a:pt x="440" y="208"/>
                  </a:lnTo>
                  <a:lnTo>
                    <a:pt x="440" y="220"/>
                  </a:lnTo>
                  <a:lnTo>
                    <a:pt x="440" y="232"/>
                  </a:lnTo>
                  <a:lnTo>
                    <a:pt x="436" y="24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17000" y="5191200"/>
              <a:ext cx="42084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59160" y="5638680"/>
              <a:ext cx="1054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875200" y="4045320"/>
            <a:ext cx="3949560" cy="166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0000" y="3893040"/>
            <a:ext cx="4101480" cy="196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29240" y="4680000"/>
            <a:ext cx="1252440" cy="217440"/>
          </a:xfrm>
          <a:custGeom>
            <a:avLst/>
            <a:gdLst/>
            <a:ahLst/>
            <a:rect l="l" t="t" r="r" b="b"/>
            <a:pathLst>
              <a:path w="789" h="137">
                <a:moveTo>
                  <a:pt x="12" y="124"/>
                </a:moveTo>
                <a:lnTo>
                  <a:pt x="0" y="136"/>
                </a:lnTo>
                <a:lnTo>
                  <a:pt x="12" y="128"/>
                </a:lnTo>
                <a:lnTo>
                  <a:pt x="24" y="120"/>
                </a:lnTo>
                <a:lnTo>
                  <a:pt x="36" y="108"/>
                </a:lnTo>
                <a:lnTo>
                  <a:pt x="48" y="100"/>
                </a:lnTo>
                <a:lnTo>
                  <a:pt x="60" y="96"/>
                </a:lnTo>
                <a:lnTo>
                  <a:pt x="72" y="92"/>
                </a:lnTo>
                <a:lnTo>
                  <a:pt x="84" y="88"/>
                </a:lnTo>
                <a:lnTo>
                  <a:pt x="96" y="84"/>
                </a:lnTo>
                <a:lnTo>
                  <a:pt x="108" y="84"/>
                </a:lnTo>
                <a:lnTo>
                  <a:pt x="120" y="76"/>
                </a:lnTo>
                <a:lnTo>
                  <a:pt x="132" y="68"/>
                </a:lnTo>
                <a:lnTo>
                  <a:pt x="144" y="64"/>
                </a:lnTo>
                <a:lnTo>
                  <a:pt x="156" y="60"/>
                </a:lnTo>
                <a:lnTo>
                  <a:pt x="168" y="52"/>
                </a:lnTo>
                <a:lnTo>
                  <a:pt x="180" y="48"/>
                </a:lnTo>
                <a:lnTo>
                  <a:pt x="192" y="44"/>
                </a:lnTo>
                <a:lnTo>
                  <a:pt x="204" y="36"/>
                </a:lnTo>
                <a:lnTo>
                  <a:pt x="216" y="32"/>
                </a:lnTo>
                <a:lnTo>
                  <a:pt x="228" y="28"/>
                </a:lnTo>
                <a:lnTo>
                  <a:pt x="240" y="20"/>
                </a:lnTo>
                <a:lnTo>
                  <a:pt x="252" y="16"/>
                </a:lnTo>
                <a:lnTo>
                  <a:pt x="264" y="12"/>
                </a:lnTo>
                <a:lnTo>
                  <a:pt x="276" y="12"/>
                </a:lnTo>
                <a:lnTo>
                  <a:pt x="288" y="8"/>
                </a:lnTo>
                <a:lnTo>
                  <a:pt x="300" y="4"/>
                </a:lnTo>
                <a:lnTo>
                  <a:pt x="312" y="0"/>
                </a:lnTo>
                <a:lnTo>
                  <a:pt x="324" y="0"/>
                </a:lnTo>
                <a:lnTo>
                  <a:pt x="340" y="0"/>
                </a:lnTo>
                <a:lnTo>
                  <a:pt x="352" y="0"/>
                </a:lnTo>
                <a:lnTo>
                  <a:pt x="364" y="0"/>
                </a:lnTo>
                <a:lnTo>
                  <a:pt x="376" y="0"/>
                </a:lnTo>
                <a:lnTo>
                  <a:pt x="392" y="0"/>
                </a:lnTo>
                <a:lnTo>
                  <a:pt x="404" y="0"/>
                </a:lnTo>
                <a:lnTo>
                  <a:pt x="416" y="0"/>
                </a:lnTo>
                <a:lnTo>
                  <a:pt x="428" y="0"/>
                </a:lnTo>
                <a:lnTo>
                  <a:pt x="440" y="0"/>
                </a:lnTo>
                <a:lnTo>
                  <a:pt x="452" y="0"/>
                </a:lnTo>
                <a:lnTo>
                  <a:pt x="464" y="4"/>
                </a:lnTo>
                <a:lnTo>
                  <a:pt x="476" y="4"/>
                </a:lnTo>
                <a:lnTo>
                  <a:pt x="488" y="4"/>
                </a:lnTo>
                <a:lnTo>
                  <a:pt x="500" y="8"/>
                </a:lnTo>
                <a:lnTo>
                  <a:pt x="512" y="8"/>
                </a:lnTo>
                <a:lnTo>
                  <a:pt x="524" y="8"/>
                </a:lnTo>
                <a:lnTo>
                  <a:pt x="536" y="8"/>
                </a:lnTo>
                <a:lnTo>
                  <a:pt x="548" y="12"/>
                </a:lnTo>
                <a:lnTo>
                  <a:pt x="560" y="12"/>
                </a:lnTo>
                <a:lnTo>
                  <a:pt x="572" y="16"/>
                </a:lnTo>
                <a:lnTo>
                  <a:pt x="584" y="20"/>
                </a:lnTo>
                <a:lnTo>
                  <a:pt x="596" y="24"/>
                </a:lnTo>
                <a:lnTo>
                  <a:pt x="608" y="28"/>
                </a:lnTo>
                <a:lnTo>
                  <a:pt x="620" y="32"/>
                </a:lnTo>
                <a:lnTo>
                  <a:pt x="632" y="36"/>
                </a:lnTo>
                <a:lnTo>
                  <a:pt x="648" y="40"/>
                </a:lnTo>
                <a:lnTo>
                  <a:pt x="660" y="52"/>
                </a:lnTo>
                <a:lnTo>
                  <a:pt x="672" y="56"/>
                </a:lnTo>
                <a:lnTo>
                  <a:pt x="684" y="60"/>
                </a:lnTo>
                <a:lnTo>
                  <a:pt x="696" y="72"/>
                </a:lnTo>
                <a:lnTo>
                  <a:pt x="708" y="80"/>
                </a:lnTo>
                <a:lnTo>
                  <a:pt x="720" y="88"/>
                </a:lnTo>
                <a:lnTo>
                  <a:pt x="728" y="100"/>
                </a:lnTo>
                <a:lnTo>
                  <a:pt x="740" y="104"/>
                </a:lnTo>
                <a:lnTo>
                  <a:pt x="752" y="108"/>
                </a:lnTo>
                <a:lnTo>
                  <a:pt x="764" y="116"/>
                </a:lnTo>
                <a:lnTo>
                  <a:pt x="776" y="124"/>
                </a:lnTo>
                <a:lnTo>
                  <a:pt x="788" y="13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2978280"/>
            <a:ext cx="0" cy="3187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03280" y="6016680"/>
            <a:ext cx="4280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64280" y="5638680"/>
            <a:ext cx="1739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66840" y="5276880"/>
            <a:ext cx="408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52680" y="27687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91120" y="43689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9T23:48:26Z</dcterms:created>
  <dc:creator>Eduardo Contreras</dc:creator>
  <dc:description/>
  <dc:language>en-US</dc:language>
  <cp:lastModifiedBy>Eduardo Contreras</cp:lastModifiedBy>
  <cp:lastPrinted>1997-06-27T12:45:24Z</cp:lastPrinted>
  <dcterms:modified xsi:type="dcterms:W3CDTF">2006-11-13T13:28:59Z</dcterms:modified>
  <cp:revision>10</cp:revision>
  <dc:subject>Selección de portafolios</dc:subject>
  <dc:title>Gestión Financiera-Tema 6</dc:title>
</cp:coreProperties>
</file>