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AC2BD-4A62-4B2F-BA42-E796600CA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834E6-6A00-4855-A7FC-AC9F0C1A9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01CB5-D702-439F-A5C6-EC79980E0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E0426-3170-4976-8000-A748E3368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55E5A-1D1A-46F2-8AE7-A933E5C29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BC88E-671A-4CDE-BC85-DDDE791E8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57A42-571A-452B-912D-542D01359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077DA-45E5-4A89-B157-BE5F5B0A2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40991-0E85-443B-9E92-5DAAD715F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C643D-975E-4959-A075-152E68F46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014A8-F4B3-41B2-8C8B-59E5329A4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152E0-3CBC-41BE-B073-E78A266B8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B50C9-4619-4B28-AE51-86DAA4769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45F5A-800D-4B0B-BCA7-37E2C1CA5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F88C2-16D8-41EC-ABA3-F1E43D7A6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3747E-34E4-4DFC-8268-5A628CA14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8A33F-AFDF-4112-9450-9BFD79EE4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CEB66-371A-4A3B-9514-AEA5A0291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E964-20F4-4B0D-88E6-C6BA3398D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E2E54-0597-48AC-B4A6-2D7340BDB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DC22-09E6-468F-BC87-4183D3F88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1885C-CB7D-4633-9AD5-E67081DCC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45343-E359-4003-901C-48693DD57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4FDE-BF5B-4775-9D78-D8BC161E6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7263-27D1-43DB-A056-AADD448E255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B205-081F-45B3-8B76-54D3BE670BA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Valor Futuro actualizado por la tasa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1997-04-16T17:24:08Z</cp:lastPrinted>
  <dcterms:modified xsi:type="dcterms:W3CDTF">2005-03-15T15:45:40Z</dcterms:modified>
  <cp:revision>15</cp:revision>
  <dc:subject>Planificación financiera</dc:subject>
  <dc:title>PLANIFICACION FINANCIERA</dc:title>
</cp:coreProperties>
</file>