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9D909-C2BD-421E-8F64-0E395AC52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70B73-5263-4A25-AF7A-B4B6296E6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7A343-5A40-4531-BFFF-D6003DCE9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65489-3A29-4427-8BA6-BD49EE81A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21417-3395-4F30-A3E0-9FDE15F76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9FFBD-EA85-41BD-AA4E-8526392E4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A1EFE-AAC5-498E-8C25-7AD11493E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F7E71-87E8-465A-9C59-257A2FA7D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5E681-CA3F-4D52-ADAF-FBCD5CC92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AF484-A793-4261-816C-FE084CE23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8EDD1-5AA1-4445-97FC-05EB098A6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AF08B-F9ED-434F-BBF5-145F9B7EE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EC6FC-D020-4313-9EB8-80E79F7DA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42BEF-A187-4287-8B2B-5DAB1E8E1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19FDE-6C0A-4154-9B83-587F217E2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D5E11-44EC-4675-B8DC-065C26984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C6A44-A3C4-4C23-8C36-99CC4C59D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157B4-AE5A-48EF-B8E2-A89CB0FEC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A6C43-C5F0-43C4-B0D9-76A78AD2F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CC95E-8BD7-4029-8370-8C04C0D50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C520D-418B-4767-B666-B37441E91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FECB4-5EB1-4736-89F9-49D1F6C4A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47A7A-7589-493D-9444-EA5ED1CE5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D1E2-1A97-43F5-88C8-3B3755680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D499-E63A-426B-93BF-9B7FE97D5AA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CBAB-3992-4450-B3C9-D7C81131EAE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0 (1+i) = 500 (1+r)(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i) / (1+r) = 1,2 / 1,05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8000"/>
          </a:bodyPr>
          <a:p>
            <a:pPr marL="335880" indent="-3358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FD * VALOR FUTUR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1 / (1 + r) (Factor de Descuent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es menor que 1</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Tasa de rentabilidad</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rentabilidad exigida por el inversionista por un pago aplazado.</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Valor Futuro actualizado por la tasa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e rentabilidad exigida.</a:t>
            </a:r>
            <a:endParaRPr b="0" lang="en-US" sz="2600" spc="-1" strike="noStrike">
              <a:solidFill>
                <a:srgbClr val="000000"/>
              </a:solidFill>
              <a:latin typeface="Tahoma"/>
            </a:endParaRPr>
          </a:p>
          <a:p>
            <a:pPr lvl="1" marL="72792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600" spc="-1" strike="noStrike">
                <a:solidFill>
                  <a:srgbClr val="000000"/>
                </a:solidFill>
                <a:latin typeface="Tahoma"/>
              </a:rPr>
              <a:t>Tasa mínima</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Costo de oportunidad del capital</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4"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5"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4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4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5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5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Eduardo Contreras</cp:lastModifiedBy>
  <cp:lastPrinted>1997-04-16T17:24:08Z</cp:lastPrinted>
  <dcterms:modified xsi:type="dcterms:W3CDTF">2005-03-15T15:45:40Z</dcterms:modified>
  <cp:revision>15</cp:revision>
  <dc:subject>Planificación financiera</dc:subject>
  <dc:title>PLANIFICACION FINANCIERA</dc:title>
</cp:coreProperties>
</file>