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38B2-5192-468B-B44A-CA89E2934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C1C3-8393-4829-9B19-1C26782E9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26775-BD7E-4214-B0C1-AEF81948C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2577-3823-4432-BC94-CD883A3C3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CEE53-784E-4211-9EB3-AE12B604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9EBC8-8726-4438-97A7-1A004A2A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C6A41-CCC1-4832-8D4D-80F48869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47321-1EC5-4168-A9C3-E1A53D2A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836D5-646A-4C25-ADFC-5E4C6C93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DBDC0-247D-4086-AABB-297C7BBD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ADF1E-5076-4455-A018-8FD3A0BD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53F6-F15D-4F93-89D8-9FF3664DA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A8EBB-C477-42D0-908A-01B6F76C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EA7E4-5481-409F-98D9-3E7EF5EB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23076-4EF6-4646-98EA-DC370E7C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B90DE-4182-48BC-BB4A-359BC4C1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D2455-882E-4852-BE3F-A80797BA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F7FA-7616-43FB-8FAF-1212AF52B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2BB4-94AA-4014-BAEC-76B25109F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48BA-84E5-425A-B873-4989F4EC5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DED8-2F5F-46AC-BF86-F2B8F0A99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A80F-B78E-4DDD-B954-705996019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26EB-0EFC-47CF-9880-8A13FE0EA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EB5A-ADAD-4B00-B773-8164AB8A0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7380-94AD-425D-BB95-CDC37DA074F7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5280-663A-457B-9F34-5093FCD52078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imulación de Proceso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400440" y="632412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kel Awad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3244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BE - IN71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os para Simular un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47282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3813840"/>
            <a:ext cx="105408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jecutar Sim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8994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r E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1756440"/>
            <a:ext cx="106668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r 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1756440"/>
            <a:ext cx="99072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lectar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11480" y="1832760"/>
            <a:ext cx="1199880" cy="271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508760"/>
            <a:ext cx="114300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d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1508760"/>
            <a:ext cx="129528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Arti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353000" y="24764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7353000" y="43052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353000" y="33908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514600"/>
            <a:ext cx="4038840" cy="419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necesa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as de Lleg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, distribuida o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abilidades de Cami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empos medi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, espera y ejec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rs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t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idos o reutiliz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s por actividad/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trans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rio de 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s Ext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7713-B09F-44F2-B5D0-33FD5C587C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ncisco J. Ramis, Ph.D. Director Centro Avanzado de Simulación de Proceso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Universidad del Bío-Bío, Ch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mulation: The Practice of Model Development and Use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tewart Robinson. Editorial John Wiley &amp; Sons,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CBFA-1F28-478B-A409-77FD75AB88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es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 en construir un modelo artificial que imite el comportamiento del mundo real mediante el uso de apoyo comput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muchas aplicaciones en diversas á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Públicos: Salud, Educación, Recursos Naturales, Milici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Entretenimiento y Restau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tión/Reingeniería de Proceso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Financieros y Econó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2B59-F3F8-43AE-9523-63A0248A66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Trabajará el proceso como se esp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evaluación y pred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Porqué no funciona bien 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cuellos de botella y optim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los estándares para medir el desempeño d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estándares y me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 es la mejor alterna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compa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álisis de sensibi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é pasa si...?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648A-9426-4433-95C8-0A93C4CE54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r los efect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ar o reemplazar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el flujo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los tiempos de proc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roducir nuevos servicios o tipo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iminar servicios o recurso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ne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e programación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GO (Garbage In, Garbage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puesta aproximada a un “modelo re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2501-B00B-46F4-9E58-36AFC65CEE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efectivo en costo-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manejar parámetros del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terrumpe el mund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experimentar a pri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chequear su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nalizar e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quiere que el proceso exista en l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practico en casos de soluciones analíticas comple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05AA-D75F-4E2F-B261-04D70E1DC0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llegar a ser cos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demandar much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por lo general una gran cantidad de dato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 tiene garantía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ícil comprobar confiabilidad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dos están sujetos a la calidad del modelo y la información (GI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jidad del proceso puede limitar la validez de los resultados (supuestos, casos no model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cierto nivel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27FBC-7A37-4A41-B2F9-0E87BFD04F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ra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muchos tipos de software para simul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@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lex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ul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v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erprise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PSS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how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Grafx Process 2006 (BP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EA68-070C-4E6A-BBE9-AF4003B0D7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ción e Ingeniería de Nego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imulación es una herramienta que apoya el diseño/rediseño de procesos de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evaluar el desempeño de los procesos, identificar problemas y analizar posibles mejoras sin la necesidad de implementar en el mundo real mi modelo de negocio pro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1748-BB00-4EC3-A386-4F87A6AD23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4952880"/>
            <a:ext cx="7391520" cy="152424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666880"/>
            <a:ext cx="8001000" cy="1905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447920"/>
            <a:ext cx="4343400" cy="8380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 Propuesta M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782360"/>
            <a:ext cx="8384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281040"/>
            <a:ext cx="106668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Lógica de Nego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5516280"/>
            <a:ext cx="147636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ción Técnico-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07160" y="5109840"/>
            <a:ext cx="13082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Nuevas Prac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73720" y="5516280"/>
            <a:ext cx="8161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Apoyo 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897160"/>
            <a:ext cx="8445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ar el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661920"/>
            <a:ext cx="150660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r y Optimizar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88400" y="4068360"/>
            <a:ext cx="7747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773080"/>
            <a:ext cx="129528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773080"/>
            <a:ext cx="104328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ción de Mej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782360"/>
            <a:ext cx="125424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782360"/>
            <a:ext cx="12189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antamient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204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ña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3585600"/>
            <a:ext cx="1219320" cy="605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llar Modelo de Negocio Pro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3661920"/>
            <a:ext cx="121932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Propuesto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58128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133360" y="28191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739116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81652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711180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37339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151920" y="1447560"/>
            <a:ext cx="685800" cy="5105160"/>
          </a:xfrm>
          <a:prstGeom prst="upDownArrow">
            <a:avLst>
              <a:gd name="adj1" fmla="val 50000"/>
              <a:gd name="adj2" fmla="val 14819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55627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362320"/>
            <a:ext cx="1447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190476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715000" y="368316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403848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3276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495680" y="55623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00400" y="5562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648320"/>
            <a:ext cx="1447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447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26668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Pro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952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4327-22DC-43C0-9FAE-9BC6008F5D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Ángel Jiménez</cp:lastModifiedBy>
  <dcterms:modified xsi:type="dcterms:W3CDTF">2006-10-16T20:03:1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