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F01B2-E591-4270-8C82-CCCC8969985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44D77-727E-45B6-9B49-F648CE5A4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2D116-C1D8-4693-95B2-44F8D957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A65757-FFEC-4EF8-AEE1-584703D17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85A098-865C-4296-9CF3-909199A2E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B84623-ACC7-493C-A348-3F1DA6625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B63EB1-91E0-4F4A-BBAC-6ABA60E95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FB243D7-A144-490A-8A26-E459891B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708973-32B0-4F0D-992A-952249B5C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93E99E-7FCB-4307-8E8B-F34BD48B2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CAA718-258D-4677-95A5-EEB0A5123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CDF59-E353-4970-966D-BFE0282506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91E062-C4D4-4FE5-804E-7D671B64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54D17-4C82-48E9-8C56-805D82B8E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B1BAC-2CC0-4E86-A21B-9F72AEE8D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51C2E6-4565-4DFC-9896-6559B4F0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49726F6-F538-41CC-81DE-6B8B606E1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DCB1FF-E874-41A4-B121-6B7F5C256E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FB728B-2E92-4A8D-AD32-DB36402A7F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B56DD1-6AD2-472C-8006-DD2A08040E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11FCE8-4CFB-4AD2-8ED5-4CF2476519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7725CF-956B-43F2-92C3-415E7898F2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B8379-FAAC-418D-8981-94D121D455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9D2E8C-969C-4201-AB0F-57CDB0A947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90384-34E9-420A-ADC7-83A78F12AAC7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760E2-05D1-451F-9CF7-16DB95610E21}" type="slidenum">
              <a:rPr b="0" lang="es-CL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Simulación de Procesos</a:t>
            </a:r>
            <a:endParaRPr b="0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400440" y="6324120"/>
            <a:ext cx="259092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ikel Awad 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24480"/>
            <a:ext cx="18288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BE - IN71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sos para Simular un Proces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010280" y="47282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álisis de Resultad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10280" y="3813840"/>
            <a:ext cx="105408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jecutar Simul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010280" y="2899440"/>
            <a:ext cx="1067040" cy="4842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igurar Escenar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34120" y="1756440"/>
            <a:ext cx="106668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finir Parámetr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886200" y="1756440"/>
            <a:ext cx="990720" cy="4842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colectar Da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11480" y="1832760"/>
            <a:ext cx="1199880" cy="2710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ific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508760"/>
            <a:ext cx="114300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ndo Re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58000" y="1508760"/>
            <a:ext cx="1295280" cy="90828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o Artifi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053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77120" y="1828800"/>
            <a:ext cx="3045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1828800"/>
            <a:ext cx="30492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5400000">
            <a:off x="7353000" y="24764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5400000">
            <a:off x="7353000" y="43052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rot="5400000">
            <a:off x="7353000" y="3390840"/>
            <a:ext cx="304920" cy="3808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523880" y="2514600"/>
            <a:ext cx="4038840" cy="4191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formación necesari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sas de Llega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, distribuida o aleato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babilidades de Cami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empos medi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iclo, espera y ejecu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cursos por activid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ant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p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umidos o reutilizab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stos por actividad/recur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r trans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s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rio de activida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ras Ext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acacio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urn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44D9F-BBDA-4AB2-8FEC-284A1788B68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i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rancisco J. Ramis, Ph.D. Director Centro Avanzado de Simulación de Proceso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partamento de Ingeniería Industrial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Universidad del Bío-Bío, Ch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mulation: The Practice of Model Development and Use.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tewart Robinson. Editorial John Wiley &amp; Sons, L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218CB-62A6-4975-90B8-CD14445E3F9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Qué es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e en construir un modelo artificial que imite el comportamiento del mundo real mediante el uso de apoyo comput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ene muchas aplicaciones en diversas ár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Manufac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Públicos: Salud, Educación, Recursos Naturales, Milici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Transpor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Construc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Entretenimiento y Restaura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stión/Reingeniería de Procesos de Nego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Financieros y Económ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s de Reta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just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AB61A-B66A-46CB-B9C0-2F791FE04DF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Trabajará el proceso como se esper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evaluación y predic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Porqué no funciona bien 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cuellos de botella y optimizació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es son los estándares para medir el desempeño del proces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determinación de estándares y met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¿Cuál es la mejor alternativ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(comparación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álisis de sensibilidad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, qué pasa si...?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D7B0B-3185-40B7-819A-803FA19863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¿Para qué sirve la Simulación de Procesos?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valuar los efectos 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gregar o reemplazar recur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el flujo del proce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los tiempos de proces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troducir nuevos servicios o tipo de cli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liminar servicios o recursos exist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anejo de materi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mbiar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métodos de programación de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las 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tiv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Importan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GIGO (Garbage In, Garbage Ou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spuesta aproximada a un “modelo real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D5A46-9284-4F56-BD72-10FE07A7F06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efectivo en costo-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manejar parámetros del proc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interrumpe el mundo r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experimentar a pri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chequear supues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mite analizar escena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requiere que el proceso exista en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ás practico en casos de soluciones analíticas complej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29EE28-16B2-49FD-80D3-699BA7B0BF6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sventajas de la Simulación de Proces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llegar a ser costo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ede demandar mucho tiem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por lo general una gran cantidad de datos de entr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se tiene garantía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ícil comprobar confiabilidad de los resultad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ados están sujetos a la calidad del modelo y la información (GIG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jidad del proceso puede limitar la validez de los resultados (supuestos, casos no modelabl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ere cierto nivel de aprendiz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8A826-25D7-4E8C-BC39-4F3344AFD79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ftware para Simul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xisten muchos tipos de software para simul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r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@r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lexs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ul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ervice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terprise Dynam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PSS/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howFl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Sim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Arial"/>
              </a:rPr>
              <a:t>iGrafx Process 2006 (BPM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675FB2-5437-4BD0-9647-93EB927F7E1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imulación e Ingeniería de Negoci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imulación es una herramienta que apoya el diseño/rediseño de procesos de nego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te evaluar el desempeño de los procesos, identificar problemas y analizar posibles mejoras sin la necesidad de implementar en el mundo real mi modelo de negocio propues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D4818-CD09-488E-8990-C3620BE037F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4952880"/>
            <a:ext cx="7391520" cy="1524240"/>
          </a:xfrm>
          <a:prstGeom prst="rect">
            <a:avLst/>
          </a:prstGeom>
          <a:solidFill>
            <a:srgbClr val="3366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990720" y="2666880"/>
            <a:ext cx="8001000" cy="1905120"/>
          </a:xfrm>
          <a:prstGeom prst="rect">
            <a:avLst/>
          </a:prstGeom>
          <a:solidFill>
            <a:srgbClr val="ff99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90720" y="1447920"/>
            <a:ext cx="4343400" cy="83808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odología Propuesta MB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66680" y="1782360"/>
            <a:ext cx="8384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Proyec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848720" y="3281040"/>
            <a:ext cx="106668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Lógica de Negoc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676520" y="5516280"/>
            <a:ext cx="147636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ción Técnico-Económ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607160" y="5109840"/>
            <a:ext cx="13082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Nuevas Prac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273720" y="5516280"/>
            <a:ext cx="8161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lantar Apoyo 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5897160"/>
            <a:ext cx="8445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stionar el Camb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95288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tru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14600" y="3661920"/>
            <a:ext cx="150660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aluar y Optimizar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88400" y="4068360"/>
            <a:ext cx="77472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ini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90920" y="2773080"/>
            <a:ext cx="129528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Propue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773080"/>
            <a:ext cx="1043280" cy="42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dentificación de Mejo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038480" y="1782360"/>
            <a:ext cx="125424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362320" y="1782360"/>
            <a:ext cx="121896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antamiento Situación Actu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32040" y="5516280"/>
            <a:ext cx="863640" cy="423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eñar Apoyo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72200" y="3585600"/>
            <a:ext cx="1219320" cy="6055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tallar Modelo de Negocio Propues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495680" y="3661920"/>
            <a:ext cx="1219320" cy="42300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28800" bIns="28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delo Propuesto Fi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16200000">
            <a:off x="358128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16200000">
            <a:off x="2133360" y="28191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rot="16200000">
            <a:off x="739116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rot="16200000">
            <a:off x="581652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7111800" y="558792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153280" y="37339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rot="10800000">
            <a:off x="151920" y="1447560"/>
            <a:ext cx="685800" cy="5105160"/>
          </a:xfrm>
          <a:prstGeom prst="upDownArrow">
            <a:avLst>
              <a:gd name="adj1" fmla="val 50000"/>
              <a:gd name="adj2" fmla="val 148192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cumen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77320" y="5562720"/>
            <a:ext cx="457200" cy="304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90920" y="2362320"/>
            <a:ext cx="144756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rot="16200000">
            <a:off x="1904760" y="182844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5715000" y="368316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4038480" y="368280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3276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rot="16200000">
            <a:off x="4495680" y="5562360"/>
            <a:ext cx="45720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16200000">
            <a:off x="3200400" y="5562720"/>
            <a:ext cx="45720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495680" y="4648320"/>
            <a:ext cx="1447920" cy="228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90720" y="144792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26668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ituación Propu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00200" y="49528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anta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BE - IN71J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7EC45-349C-4654-93B1-FEF38F21643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Ángel Jiménez</cp:lastModifiedBy>
  <dcterms:modified xsi:type="dcterms:W3CDTF">2006-10-16T20:03:12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