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9EFA-5110-4F77-A951-12191FCB2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F354-15F7-49BF-BE48-562AD136C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E903-6E4F-4F18-8874-EB270CAD2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08609-3107-4C05-86FB-303E1926C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B0884-DD29-4AB3-AC26-59627AB8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AF49F-3E41-4CC8-8474-57C4F22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F090C-3037-4B1D-B21C-1FC5C8B0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A9265-8EFA-493E-9532-CCE62387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0726F-1EF5-46FC-B299-AAD5C6B3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F08EB-9B51-4DBF-8BD2-CD1B50FA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1E3E9-CB40-42D3-BC5C-BB7A7C71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C766-7345-4A1C-B088-42144BF50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A381B-EDD1-4C7D-A310-A94202D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42EA8-F6D0-478A-9C08-7F0E98DF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120EA-7B3C-44FA-8C42-26CECB24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7A62A-7790-4737-BC6F-3759D573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EEF7C-70C1-47C7-BE61-84830F5C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9979-F6E8-4D94-9FE2-E6526113C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CB16-82C5-4654-A906-FAB2F5705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1ACD-0556-4559-A96B-CEAF6BD8C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0E2D-5D1B-4EB6-8D7B-A796AB296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F773-9381-46A5-8864-5949490B7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0968-1150-40CC-BB32-12200FC16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74DC-1EEF-479A-9837-BD25CA63D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D12-9392-49B4-96B9-3360CB1F2BDA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2F7A-A590-422E-A5FB-57D5E24B835A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imulación de Proceso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400440" y="632412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kel Awa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3244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BE - IN71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os para Simular un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47282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3813840"/>
            <a:ext cx="105408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jecutar Sim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8994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r E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756440"/>
            <a:ext cx="106668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756440"/>
            <a:ext cx="99072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lectar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1832760"/>
            <a:ext cx="1199880" cy="271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508760"/>
            <a:ext cx="114300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1508760"/>
            <a:ext cx="129528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Arti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353000" y="24764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353000" y="43052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353000" y="33908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514600"/>
            <a:ext cx="4038840" cy="419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necesa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as de Lleg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, distribuida o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abilidades de Cami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empos medi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, espera y ejec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t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idos o reutiliz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s por actividad/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trans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rio de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s Ext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C9DB-E7BB-4887-B9AE-B1DE8617C4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ncisco J. Ramis, Ph.D. Director Centro Avanzado de Simulación de Proceso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Universidad del Bío-Bío, C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mulation: The Practice of Model Development and Use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tewart Robinson. Editorial John Wiley &amp; Sons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D591-76FF-4EB7-B0AF-F162CDFDEC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es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 en construir un modelo artificial que imite el comportamiento del mundo real mediante el uso de apoyo comput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uchas aplicaciones en diversas á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Públicos: Salud, Educación, Recursos Naturales, Milic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Entretenimiento y Restau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tión/Reingeniería de Proces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Financieros y 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7425-EB54-4EC3-87C0-6E6BFF4EE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Trabajará el proceso como se esp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evaluación y pred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Porqué no funciona bien 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cuellos de botella y optim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los estándares para medir el desempeño d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estándares y me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mejor alterna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compa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álisis de sensi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é pasa si...?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B2BD-86C9-4E4A-AE09-A0B80427DC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r los efect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ar o reemplazar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el flujo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os tiempos de proc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roducir nuevos servicios o tipo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iminar servicios o recurso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e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e programación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GO (Garbage In, Garbage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puesta aproximada a un “modelo re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17E7-4EAA-40B5-A587-1E57B89D3C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efectivo en costo-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manejar parámetros del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terrumpe el mund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experimentar a 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chequear 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nalizar e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quiere que el proceso exista en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practico en casos de soluciones analíticas comple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C54E-4592-416D-BCD9-E2202FD7AA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llegar a ser cos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demandar much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por lo general una gran cantidad de dato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 tiene garantía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ícil comprobar confiabilidad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s están sujetos a la calidad del modelo y la información (G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jidad del proceso puede limitar la validez de los resultados (supuestos, casos no model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cierto nivel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F42C-E241-42DC-9D17-9290C22CCE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ra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muchos tipos de software para simu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@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ex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ul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v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erprise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PSS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how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Grafx Process 2006 (BP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492E-1813-41EA-937F-860952595B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ción e Ingeniería de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imulación es una herramienta que apoya el diseño/rediseño de procesos de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evaluar el desempeño de los procesos, identificar problemas y analizar posibles mejoras sin la necesidad de implementar en el mundo real mi modelo de negocio pro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EE9F-426A-4BC9-AAC1-331D7E8061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4952880"/>
            <a:ext cx="7391520" cy="152424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666880"/>
            <a:ext cx="8001000" cy="1905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447920"/>
            <a:ext cx="4343400" cy="8380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 Propuesta M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782360"/>
            <a:ext cx="8384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281040"/>
            <a:ext cx="106668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Lógica de Neg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5516280"/>
            <a:ext cx="147636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ción Técnico-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07160" y="5109840"/>
            <a:ext cx="13082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Nuevas Prac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73720" y="5516280"/>
            <a:ext cx="8161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Apoyo 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897160"/>
            <a:ext cx="8445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ar el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661920"/>
            <a:ext cx="150660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r y Optimizar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88400" y="4068360"/>
            <a:ext cx="7747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773080"/>
            <a:ext cx="129528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773080"/>
            <a:ext cx="104328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ción de Mej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782360"/>
            <a:ext cx="125424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782360"/>
            <a:ext cx="12189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antamient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204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ña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585600"/>
            <a:ext cx="1219320" cy="605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llar Modelo de Negocio Pro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661920"/>
            <a:ext cx="121932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Propuesto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128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33360" y="28191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739116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81652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711180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37339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151920" y="1447560"/>
            <a:ext cx="685800" cy="5105160"/>
          </a:xfrm>
          <a:prstGeom prst="upDownArrow">
            <a:avLst>
              <a:gd name="adj1" fmla="val 50000"/>
              <a:gd name="adj2" fmla="val 1481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55627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362320"/>
            <a:ext cx="1447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190476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715000" y="368316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403848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3276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495680" y="55623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00400" y="5562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648320"/>
            <a:ext cx="1447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447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26668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Pro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952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683B-20CF-4ECA-A400-A7A1354D1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Ángel Jiménez</cp:lastModifiedBy>
  <dcterms:modified xsi:type="dcterms:W3CDTF">2006-10-16T20:03:1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