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10ABD-6EE7-48F9-B05B-225BDE7A4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17931-702E-44AA-95C8-3C9C7C35A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DFA56-44E6-400C-B131-35118D126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B7F9-9C20-4405-88FE-55667B78E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756FC-8B1B-45AF-B81E-A396C5A2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D7042-84B8-4BC6-8A22-951AE8E8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9919D-B1B6-4479-AA85-1B0C21F0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CCD4E-FE27-4DCE-8C24-3A373FB3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50E8C-1302-48B5-9AE8-8910E58C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BE9E4-218F-4296-AC9C-83856809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1688C-6D6E-4321-BCBC-7E58761A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DB72-6A81-4742-B054-350D812A3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F3446-CA19-4275-BF4F-C819E646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334EA-8C33-40E6-93A9-8B6C0AB2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7470F-0F6F-49CC-B39B-2852A79F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AA2EB-2A23-4A47-8A45-FB34A365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6E7D0-EEBC-4BF7-8DA4-D71194DE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337DA-2414-4093-99F3-2C4F676A7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8BA09-A8E5-4604-867C-B1B4556DF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87B77-7199-43AB-9C7F-D91317F07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A8CD3-CCD2-4BD4-AEC3-8D04FB7CD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EF6B-811C-480B-AD71-3FCACC0C3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C149F-6C4C-4F79-A9F3-19EAA1A58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BD85A-2936-4273-A412-8332AE8A3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E765-8114-483A-A45A-1CD052826003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AF86-0ACE-4519-AF0B-67E0ED609EC9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Simulación de Procesos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400440" y="632412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ikel Awad 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6324480"/>
            <a:ext cx="1828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BE - IN71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os para Simular un Pro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4728240"/>
            <a:ext cx="1067040" cy="484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3813840"/>
            <a:ext cx="1054080" cy="484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jecutar Simu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899440"/>
            <a:ext cx="1067040" cy="484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r Esce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1756440"/>
            <a:ext cx="1066680" cy="484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r Paráme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1756440"/>
            <a:ext cx="990720" cy="484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lectar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11480" y="1832760"/>
            <a:ext cx="1199880" cy="271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508760"/>
            <a:ext cx="1143000" cy="908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nd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1508760"/>
            <a:ext cx="1295280" cy="908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Arti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1828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18288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18288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1828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7353000" y="247644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7353000" y="430524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353000" y="339084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2514600"/>
            <a:ext cx="4038840" cy="4191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ción necesa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as de Lleg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ante, distribuida o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babilidades de Cami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empos medios por 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clo, espera y ejec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ursos por 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t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umidos o reutiliz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os por actividad/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trans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ario de a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as Ext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701A-F2A9-446E-96C9-4200436EBA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ncisco J. Ramis, Ph.D. Director Centro Avanzado de Simulación de Proceso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Universidad del Bío-Bío, Ch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mulation: The Practice of Model Development and Use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tewart Robinson. Editorial John Wiley &amp; Sons, L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05679-C64D-494F-AADC-9FDF032066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es la Simulación de Proces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 en construir un modelo artificial que imite el comportamiento del mundo real mediante el uso de apoyo comput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ne muchas aplicaciones en diversas á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Manufa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Públicos: Salud, Educación, Recursos Naturales, Milici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Entretenimiento y Restaur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tión/Reingeniería de Procesos de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Financieros y Econó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R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0B878-B591-4E7F-8511-EB8077F344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Para qué sirve la Simulación de Proces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Trabajará el proceso como se espe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evaluación y pred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Porqué no funciona bien el proces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determinación de cuellos de botella y optimiz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es son los estándares para medir el desempeño del proces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determinación de estándares y met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 es la mejor alternati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compar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nálisis de sensibi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qué pasa si...?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52517-830F-4212-921C-4D9FFE34D4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Para qué sirve la Simulación de Procesos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aluar los efecto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regar o reemplazar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el flujo d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los tiempos de proc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roducir nuevos servicios o tipo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iminar servicios o recurso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étodos 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ne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étodos de programación d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IGO (Garbage In, Garbage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puesta aproximada a un “modelo re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51E53-E7A6-49C0-BF40-C912277BB4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de la Simulación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efectivo en costo-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manejar parámetros del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terrumpe el mundo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experimentar a pri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chequear supu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analizar e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quiere que el proceso exista en la r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practico en casos de soluciones analíticas comple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AEB65-10DE-4008-B588-9FC6F3AD2B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ventajas de la Simulación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llegar a ser cost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demandar mucho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ere por lo general una gran cantidad de datos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 tiene garantía de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ícil comprobar confiabilidad de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ados están sujetos a la calidad del modelo y la información (GI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jidad del proceso puede limitar la validez de los resultados (supuestos, casos no modelab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ere cierto nivel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80DF1-4859-4019-BC2A-9E6DCC3550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ra Simu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muchos tipos de software para simul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@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lex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ul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vic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terprise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PSS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how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Grafx Process 2006 (BPM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4736F-3B79-4D5C-A817-C52EE1B526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ción e Ingeniería de Negoc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imulación es una herramienta que apoya el diseño/rediseño de procesos de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evaluar el desempeño de los procesos, identificar problemas y analizar posibles mejoras sin la necesidad de implementar en el mundo real mi modelo de negocio pro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BF57D-1207-4E8F-8AFB-8144F7DA40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4952880"/>
            <a:ext cx="7391520" cy="152424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666880"/>
            <a:ext cx="8001000" cy="19051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447920"/>
            <a:ext cx="4343400" cy="8380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odología Propuesta M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782360"/>
            <a:ext cx="8384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r 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48720" y="3281040"/>
            <a:ext cx="106668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r Lógica de Nego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5516280"/>
            <a:ext cx="1476360" cy="42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ción Técnico-Econó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07160" y="5109840"/>
            <a:ext cx="13082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antar Nuevas Prac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73720" y="5516280"/>
            <a:ext cx="81612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antar Apoyo T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897160"/>
            <a:ext cx="84456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ar el Cam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5516280"/>
            <a:ext cx="8636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ir Apoyo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3661920"/>
            <a:ext cx="1506600" cy="42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r y Optimizar Situación Propu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88400" y="4068360"/>
            <a:ext cx="77472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r Apoyo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2773080"/>
            <a:ext cx="1295280" cy="42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o Situación Propu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773080"/>
            <a:ext cx="1043280" cy="42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cación de Mej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1782360"/>
            <a:ext cx="1254240" cy="42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o Situación A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1782360"/>
            <a:ext cx="121896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antamiento Situación A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2040" y="5516280"/>
            <a:ext cx="8636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ñar Apoyo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3585600"/>
            <a:ext cx="1219320" cy="605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llar Modelo de Negocio Propu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3661920"/>
            <a:ext cx="1219320" cy="42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o Propuesto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3581280" y="182844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2133360" y="281916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7391160" y="3682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5816520" y="558792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7111800" y="558792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53280" y="3733920"/>
            <a:ext cx="45720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151920" y="1447560"/>
            <a:ext cx="685800" cy="5105160"/>
          </a:xfrm>
          <a:prstGeom prst="upDownArrow">
            <a:avLst>
              <a:gd name="adj1" fmla="val 50000"/>
              <a:gd name="adj2" fmla="val 14819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5562720"/>
            <a:ext cx="45720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2362320"/>
            <a:ext cx="1447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1904760" y="182844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5715000" y="368316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4038480" y="3682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32767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4495680" y="556236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00400" y="55627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648320"/>
            <a:ext cx="1447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447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26668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uación Propu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4952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a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8460D-740C-4891-B799-88B7705457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Ángel Jiménez</cp:lastModifiedBy>
  <dcterms:modified xsi:type="dcterms:W3CDTF">2006-10-16T20:03:1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