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D85B-53A2-4D60-8CF7-9539C4757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7A54-63CF-4F5B-BA9E-B6E2F8ED3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34CF-03A4-4FA3-8D5F-9383CB787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83E3-7C03-4CA5-9361-D30BEA912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EF809-CCD1-4D67-9625-12036165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84B16-85A7-4042-A98B-86FE9BB8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91195-FDE4-4717-8657-71E92058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5D1D9-B9D5-4FE7-AA6D-FBE5D137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EA528-6314-4979-ABC4-AC07CD18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BBEE8-7802-4247-BDE9-D1795411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E1A01-B870-4A9C-90B5-7E3C01CA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5398-EB8F-4495-8243-6AC4172F0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02E95-4AB6-4628-B824-1D87CE7E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A7AFF-73B9-4D8B-873B-39172147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B1996-669F-49AD-AE2C-E08C1BCB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73D9A-21F6-44A5-A4F8-7928B60B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D3509-5810-469D-A534-3946A368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213A-B153-46D5-802B-69576575B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F260-63D2-4733-A416-872964A7F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A4D2-7AF6-465C-946F-21F1E67E5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DAD4-A68E-479D-860C-32372523A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8B8F-526C-4D3A-ADFD-C53A379FE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3461-7709-4036-874F-0C21ED91B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A556-19D1-492E-A77E-55AD64E9B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BCC2-7B68-44F3-8C76-BCA2AC77A79A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2B01-AF48-4BC8-BFC7-7B15A8B80F72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imulación de Proceso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400440" y="632412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kel Awad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3244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BE - IN71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os para Simular un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47282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3813840"/>
            <a:ext cx="105408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jecutar Sim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8994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r E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1756440"/>
            <a:ext cx="106668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r 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1756440"/>
            <a:ext cx="99072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lectar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11480" y="1832760"/>
            <a:ext cx="1199880" cy="271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508760"/>
            <a:ext cx="114300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d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1508760"/>
            <a:ext cx="129528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Arti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353000" y="24764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7353000" y="43052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353000" y="33908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514600"/>
            <a:ext cx="4038840" cy="419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necesa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as de Lleg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, distribuida o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abilidades de Cami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empos medi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, espera y ejec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rs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t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idos o reutiliz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s por actividad/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trans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rio de 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s Ext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6945-F0DE-47A5-88DA-55C8928C77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ncisco J. Ramis, Ph.D. Director Centro Avanzado de Simulación de Proceso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Universidad del Bío-Bío, Ch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mulation: The Practice of Model Development and Use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tewart Robinson. Editorial John Wiley &amp; Sons,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3DB2-1892-45F3-9808-8AF969E8D8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es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 en construir un modelo artificial que imite el comportamiento del mundo real mediante el uso de apoyo comput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muchas aplicaciones en diversas á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Públicos: Salud, Educación, Recursos Naturales, Milici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Entretenimiento y Restau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tión/Reingeniería de Proceso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Financieros y Econó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2ECC-C0A8-422D-8ECF-4FC0B542C2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Trabajará el proceso como se esp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evaluación y pred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Porqué no funciona bien 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cuellos de botella y optim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los estándares para medir el desempeño d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estándares y me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 es la mejor alterna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compa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álisis de sensibi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é pasa si...?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A668-5D3B-4F2B-8725-C4E8E59F18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r los efect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ar o reemplazar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el flujo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los tiempos de proc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roducir nuevos servicios o tipo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iminar servicios o recurso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ne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e programación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GO (Garbage In, Garbage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puesta aproximada a un “modelo re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73F1-4099-4829-9ED8-667A19783A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efectivo en costo-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manejar parámetros del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terrumpe el mund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experimentar a pri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chequear su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nalizar e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quiere que el proceso exista en l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practico en casos de soluciones analíticas comple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66C0-A046-42AA-818D-AF80FFA840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llegar a ser cos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demandar much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por lo general una gran cantidad de dato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 tiene garantía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ícil comprobar confiabilidad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dos están sujetos a la calidad del modelo y la información (GI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jidad del proceso puede limitar la validez de los resultados (supuestos, casos no model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cierto nivel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8429-6B5E-4BE3-83E5-3AAE1C38EF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ra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muchos tipos de software para simul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@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lex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ul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v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erprise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PSS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how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Grafx Process 2006 (BP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5179-CBE3-4F0B-8D75-73030B1CE9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ción e Ingeniería de Nego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imulación es una herramienta que apoya el diseño/rediseño de procesos de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evaluar el desempeño de los procesos, identificar problemas y analizar posibles mejoras sin la necesidad de implementar en el mundo real mi modelo de negocio pro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5AB0-485B-4439-B4EA-3E6E16B9ED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4952880"/>
            <a:ext cx="7391520" cy="152424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666880"/>
            <a:ext cx="8001000" cy="1905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447920"/>
            <a:ext cx="4343400" cy="8380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 Propuesta M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782360"/>
            <a:ext cx="8384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281040"/>
            <a:ext cx="106668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Lógica de Nego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5516280"/>
            <a:ext cx="147636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ción Técnico-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07160" y="5109840"/>
            <a:ext cx="13082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Nuevas Prac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73720" y="5516280"/>
            <a:ext cx="8161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Apoyo 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897160"/>
            <a:ext cx="8445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ar el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661920"/>
            <a:ext cx="150660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r y Optimizar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88400" y="4068360"/>
            <a:ext cx="7747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773080"/>
            <a:ext cx="129528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773080"/>
            <a:ext cx="104328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ción de Mej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782360"/>
            <a:ext cx="125424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782360"/>
            <a:ext cx="12189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antamient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204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ña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3585600"/>
            <a:ext cx="1219320" cy="605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llar Modelo de Negocio Pro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3661920"/>
            <a:ext cx="121932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Propuesto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58128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133360" y="28191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739116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81652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711180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37339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151920" y="1447560"/>
            <a:ext cx="685800" cy="5105160"/>
          </a:xfrm>
          <a:prstGeom prst="upDownArrow">
            <a:avLst>
              <a:gd name="adj1" fmla="val 50000"/>
              <a:gd name="adj2" fmla="val 14819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55627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362320"/>
            <a:ext cx="1447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190476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715000" y="368316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403848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3276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495680" y="55623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00400" y="5562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648320"/>
            <a:ext cx="1447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447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26668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Pro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952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ADDB-AA57-4324-8562-7CBC7B749A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Ángel Jiménez</cp:lastModifiedBy>
  <dcterms:modified xsi:type="dcterms:W3CDTF">2006-10-16T20:03:1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