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75836-8F46-4DA0-9A63-9361FD46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E5734-83A0-49DD-BAC2-AD53319D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7913E-5080-42DD-B7C8-7B570DA1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D42FA-FE0E-4419-8F40-4E94A145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EF3BE-3FA0-441B-B49A-52D6D437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B2899-19B6-416D-BC1A-9CC99CAA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8D707-FCDE-4093-8966-8A29AA1D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67ED2-8EF9-4362-9074-D63DB408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EA635-371B-4CA0-94D4-2B92D0DD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223D1-FB96-416D-AD19-2C04091F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F3A64-CDEC-4FED-B366-E0555CF6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8B42A-DCDD-4F98-946A-3AA230C6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71J, Diseño de Modelos y Procesos de Negocios con TI                                     Primavera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96360" y="18900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8900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9CCF-C476-44F7-8530-CFEA7D3D241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780000" y="558972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558972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business.mit.edu/erik/" TargetMode="Externa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Metodología para el Diseño o Rediseño de Procesos de Negoci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11280" y="2565000"/>
            <a:ext cx="82087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fes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Ángel Jiménez Mol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íster en Ingeniería de Negocios con TI (MB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71J – Diseño de Modelos y Procesos de Negocios con T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Cómo Medir Métrica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Trabajo en terren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Observar y medir in situ (involucrarse y hacer uno mismo ciertas tarea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nsultas aislada a expertos contrastando visiones y detectando regularidad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eparación de datos (cubos desde DataWarehouses) y análisis cuantitativ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s con algunas medidas de terren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odelos simpl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odelos de optimiza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odelos de simulación (Herramientas case de apoyo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62120" y="1981080"/>
            <a:ext cx="2514600" cy="152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DEFINIR EL PROY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Objetivo Re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Ámbito del proc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Establecer si hacer estudio de la situación actu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4952880"/>
            <a:ext cx="3276720" cy="12294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ENTENDER SITUACIÓN ACT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Modelar situación ac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Validar y med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1981080"/>
            <a:ext cx="2514600" cy="2061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REDISEÑ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Dirección de camb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Selección Tecnologías habili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Modelar y evaluar Re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Detallar y pro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4648320"/>
            <a:ext cx="2514600" cy="13104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IMPLEMEN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Construcción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Implementar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Implementar 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05120" y="3733920"/>
            <a:ext cx="0" cy="121896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2743200"/>
            <a:ext cx="26668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733920" y="4038480"/>
            <a:ext cx="2209680" cy="9144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86600" y="4038480"/>
            <a:ext cx="0" cy="60984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diseñ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5472000" y="1628640"/>
            <a:ext cx="3672000" cy="266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Basado en las ideas de modelos de negocios, conceptos económicos y diseño de negoci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Patrones de procesos proveen la estructura –componentes y relaciones- y prácticas ide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Visualice brecha entre situación actual y situación ideal (ejemplos de clase mundial, benchmark, patrones con best practice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álisis de Dirección de Camb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755640" y="1676520"/>
            <a:ext cx="813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Corresponde a identificar cuál(es) será(n) la(s) </a:t>
            </a:r>
            <a:r>
              <a:rPr b="0" lang="es-ES_tradnl" sz="2300" spc="-1" strike="noStrike">
                <a:solidFill>
                  <a:srgbClr val="cc0000"/>
                </a:solidFill>
                <a:latin typeface="Verdana"/>
              </a:rPr>
              <a:t>línea(s) de cambio</a:t>
            </a: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 (puede ser la  que aporte más a los objetivos del rediseño)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Se identifica dónde se origina la necesidad de rediseño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ay quieb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ay desperdicios (ineficiencia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ay malas prácticas que cambi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ductos nuev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usiones o adquisi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Nace de Problemas, Oportunidades (como condiciones de mercado, benchmarking, tendencias) o Directrices (dueños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irección de Camb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uede implicar cambios en la estructura organizacional (Mintzberg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importante reconocer un límite a partir de las características de la organ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mbio profun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mbio por racionalización de recur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mbio gradual (CMM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...Pero siempre sostenible y apuntando a generar </a:t>
            </a:r>
            <a:r>
              <a:rPr b="0" lang="es-ES_tradnl" sz="2000" spc="-1" strike="noStrike">
                <a:solidFill>
                  <a:srgbClr val="cc0000"/>
                </a:solidFill>
                <a:latin typeface="Verdana"/>
              </a:rPr>
              <a:t>capacidad para el cambio permanente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Peter Senge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irección de Camb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uen balance de costo- beneficio ent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Costos de coordina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Costos de agenci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res ideas fuerza de cambi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cesos de negocio bien diseñ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entralización v/s descentral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tegración con clientes y proveed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Verdana"/>
              </a:rPr>
              <a:t>Variables de rediseño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(algunas implicadas por conocimiento encapsulado en los patrone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irección de Camb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Varibles a Constrastar para la Dirección de Cambio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3357720"/>
            <a:ext cx="1726920" cy="11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Anticip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81440" y="2058840"/>
            <a:ext cx="1727280" cy="115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Asignación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Responsabil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7080" y="3571920"/>
            <a:ext cx="1727280" cy="11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oordin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93080" y="4075200"/>
            <a:ext cx="1726920" cy="11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ráctica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21440" y="2203560"/>
            <a:ext cx="1727280" cy="11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Utilización de 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29080" y="4940280"/>
            <a:ext cx="1727280" cy="115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Integ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 Proce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44" idx="2"/>
            <a:endCxn id="145" idx="0"/>
          </p:cNvCxnSpPr>
          <p:nvPr/>
        </p:nvCxnSpPr>
        <p:spPr>
          <a:xfrm flipH="1">
            <a:off x="1620720" y="2635200"/>
            <a:ext cx="2161080" cy="93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4" idx="4"/>
            <a:endCxn id="143" idx="0"/>
          </p:cNvCxnSpPr>
          <p:nvPr/>
        </p:nvCxnSpPr>
        <p:spPr>
          <a:xfrm flipH="1">
            <a:off x="4282920" y="3211560"/>
            <a:ext cx="36252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4" idx="5"/>
            <a:endCxn id="148" idx="0"/>
          </p:cNvCxnSpPr>
          <p:nvPr/>
        </p:nvCxnSpPr>
        <p:spPr>
          <a:xfrm>
            <a:off x="5256000" y="3043080"/>
            <a:ext cx="37080" cy="189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4" idx="5"/>
            <a:endCxn id="146" idx="1"/>
          </p:cNvCxnSpPr>
          <p:nvPr/>
        </p:nvCxnSpPr>
        <p:spPr>
          <a:xfrm>
            <a:off x="5256000" y="3043080"/>
            <a:ext cx="2089800" cy="120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4" idx="6"/>
            <a:endCxn id="147" idx="2"/>
          </p:cNvCxnSpPr>
          <p:nvPr/>
        </p:nvCxnSpPr>
        <p:spPr>
          <a:xfrm>
            <a:off x="5508720" y="2634840"/>
            <a:ext cx="151344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3" idx="2"/>
            <a:endCxn id="145" idx="6"/>
          </p:cNvCxnSpPr>
          <p:nvPr/>
        </p:nvCxnSpPr>
        <p:spPr>
          <a:xfrm flipH="1">
            <a:off x="2484000" y="3933720"/>
            <a:ext cx="93600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3" idx="4"/>
            <a:endCxn id="148" idx="1"/>
          </p:cNvCxnSpPr>
          <p:nvPr/>
        </p:nvCxnSpPr>
        <p:spPr>
          <a:xfrm>
            <a:off x="4282560" y="4510080"/>
            <a:ext cx="399240" cy="598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3" idx="6"/>
            <a:endCxn id="146" idx="2"/>
          </p:cNvCxnSpPr>
          <p:nvPr/>
        </p:nvCxnSpPr>
        <p:spPr>
          <a:xfrm>
            <a:off x="5146200" y="3933360"/>
            <a:ext cx="194724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48" idx="6"/>
            <a:endCxn id="146" idx="3"/>
          </p:cNvCxnSpPr>
          <p:nvPr/>
        </p:nvCxnSpPr>
        <p:spPr>
          <a:xfrm flipV="1">
            <a:off x="6156000" y="5059080"/>
            <a:ext cx="1189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46" idx="0"/>
            <a:endCxn id="147" idx="4"/>
          </p:cNvCxnSpPr>
          <p:nvPr/>
        </p:nvCxnSpPr>
        <p:spPr>
          <a:xfrm flipH="1" flipV="1">
            <a:off x="7884360" y="3355560"/>
            <a:ext cx="7236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8" idx="2"/>
            <a:endCxn id="145" idx="4"/>
          </p:cNvCxnSpPr>
          <p:nvPr/>
        </p:nvCxnSpPr>
        <p:spPr>
          <a:xfrm flipH="1" flipV="1">
            <a:off x="1620000" y="4723560"/>
            <a:ext cx="2809080" cy="79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755640" y="1773360"/>
            <a:ext cx="1727280" cy="11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Manten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 Est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60" idx="4"/>
            <a:endCxn id="145" idx="0"/>
          </p:cNvCxnSpPr>
          <p:nvPr/>
        </p:nvCxnSpPr>
        <p:spPr>
          <a:xfrm>
            <a:off x="1619280" y="2925360"/>
            <a:ext cx="216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60" idx="5"/>
            <a:endCxn id="143" idx="1"/>
          </p:cNvCxnSpPr>
          <p:nvPr/>
        </p:nvCxnSpPr>
        <p:spPr>
          <a:xfrm>
            <a:off x="2230560" y="2757600"/>
            <a:ext cx="1442160" cy="76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60" idx="5"/>
            <a:endCxn id="148" idx="2"/>
          </p:cNvCxnSpPr>
          <p:nvPr/>
        </p:nvCxnSpPr>
        <p:spPr>
          <a:xfrm>
            <a:off x="2230200" y="2757600"/>
            <a:ext cx="2199240" cy="27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Líneas de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39640" y="2349360"/>
          <a:ext cx="8353440" cy="3327480"/>
        </p:xfrm>
        <a:graphic>
          <a:graphicData uri="http://schemas.openxmlformats.org/drawingml/2006/table">
            <a:tbl>
              <a:tblPr/>
              <a:tblGrid>
                <a:gridCol w="1770120"/>
                <a:gridCol w="1325520"/>
                <a:gridCol w="1112760"/>
                <a:gridCol w="941400"/>
                <a:gridCol w="827280"/>
                <a:gridCol w="1150920"/>
                <a:gridCol w="1225440"/>
              </a:tblGrid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ínea de redise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ponsabi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gr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ác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o 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ticip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ordin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ntención Consolidada de Est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u dirección es hacia la integr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Decidir el nivel de la variable </a:t>
            </a:r>
            <a:r>
              <a:rPr b="0" lang="es-ES_tradnl" sz="2400" spc="-1" strike="noStrike" u="sng">
                <a:solidFill>
                  <a:srgbClr val="003366"/>
                </a:solidFill>
                <a:uFillTx/>
                <a:latin typeface="Verdana"/>
              </a:rPr>
              <a:t>integración de datos. (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por la coordinación 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Que todas las actividades conozcan el estado de las otras activida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Implícito : el costo de la integración de datos debe ser menor que los beneficios por coordin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tegrar sistemas : middleware (superponer capa de software que unifique datos dispersos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ticip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endámoslo por ejemplos. En Macro 1 tenem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árketing y análisis de merca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lanificación y control de produ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nósticos de demanda, de material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 decir, establecen futuros requerimient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clave está en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antención consolidada de esta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lanific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laboración (mediante flujos entre actividad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1905120"/>
            <a:ext cx="2514600" cy="1523520"/>
          </a:xfrm>
          <a:prstGeom prst="rect">
            <a:avLst/>
          </a:prstGeom>
          <a:solidFill>
            <a:srgbClr val="ff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DEFINIR EL PROY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Objetivo Re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Ámbito del proc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Establecer si hacer estudio de la situación actu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4876920"/>
            <a:ext cx="3276360" cy="12294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ENTENDER SITUACIÓN ACT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Modelar situación ac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Validar y med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9920" y="1905120"/>
            <a:ext cx="2514600" cy="20610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REDISEÑ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Dirección de camb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Selección Tecnologías habili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Modelar y evaluar Re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Detallar y pro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4572000"/>
            <a:ext cx="2514600" cy="13104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IMPLEMEN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Construcción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Implementar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Implementar 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81080" y="3657600"/>
            <a:ext cx="0" cy="12193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2666880"/>
            <a:ext cx="266724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809880" y="3962520"/>
            <a:ext cx="2210040" cy="9144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3962520"/>
            <a:ext cx="0" cy="6094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todologí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341360"/>
            <a:ext cx="3671640" cy="266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ntegración de Procesos Conex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los patrones hay subprocesos interrelacionados que hay que coordina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dentifique islas de procesos (ciclos, loops, actividades que desconocen estados de otras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(“visiones equinas”) 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r lo tanto, integram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btención de recursos de los proveedores con su uso para obtener bienes y servi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tegrar la cadena logístic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dquisi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istribu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áctic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82310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a Práctica de Trabajo es la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rm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cómo se ejecuta una actividad de gest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cluye: políticas, normas, reglas o procedimientos, metodologías y recursos asociad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uede estar escrita o no en términos de formalida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Prácticas de Trabajo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857240"/>
            <a:ext cx="7848720" cy="40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responden a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ÓM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e llevan a cabo las actividades anteri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ueden asociar a metodologías y procedimient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r ejemplo, en Marketing y Ventas tenemos la actividad Pronóstico de Venta. Este pronóstico puede realizars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base al criterio del gerente de ár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series de tiempo en base a ven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istóricas, considerando varios fact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corr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4017960"/>
            <a:ext cx="2133720" cy="1219320"/>
          </a:xfrm>
          <a:prstGeom prst="leftArrow">
            <a:avLst>
              <a:gd name="adj1" fmla="val 50000"/>
              <a:gd name="adj2" fmla="val 43748"/>
            </a:avLst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Prácticas de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ejor Práctic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s la aplicación novedosa de prácticas de procesos, tecnología o personas para realizar un trabajo específico en un determinado contexto de negocio que mejora la efectividad y/o eficiencia de una organización y genera resultados significantes y medibles que podría mejorar el desempeño en el futur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ejor Práctica (MP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82310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 mejor práctica de trabajo es aquella que ha mostrado de manera sistemática que logra los mejores resultados (valor agregado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uede ser evaluada en forma objetiva o subjetiva (juicios fundados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 necesariamente se encuentra en un sector determinad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a fuertemente asociada al uso de tecnología modern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¿Dónde Observo Práctica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109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ada en el modelo de la cadena de val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763640" y="2205000"/>
            <a:ext cx="640872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0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lgunas Actividades de la Caden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83818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gística de Entrada y Sal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ministración de flota (medio, cuantos, rutas, fluj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odegas (ubicación, tamañ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lanificación de la produ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eño de equipos de trabaj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iguración de proce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rketing y Vent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nósticos de venta, Análisis de Da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eño de productos y campañ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vicio al 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6840" y="1700280"/>
            <a:ext cx="838188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rvicios de Post Ven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ención telefón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nejo de cuadrill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cursos Human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tratación y subcontrat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quisi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nejo de provee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ministración de Invent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o y/o utilización de nueva tecnolog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406080" y="228240"/>
            <a:ext cx="841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ctividades de la Cadena de Valor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5943600" y="2133720"/>
            <a:ext cx="2133720" cy="1066680"/>
          </a:xfrm>
          <a:prstGeom prst="up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Primar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43600" y="3505320"/>
            <a:ext cx="2133720" cy="1218960"/>
          </a:xfrm>
          <a:prstGeom prst="down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De Apo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Conocimi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416120" y="1333080"/>
            <a:ext cx="3916440" cy="3578400"/>
            <a:chOff x="4416120" y="1333080"/>
            <a:chExt cx="3916440" cy="3578400"/>
          </a:xfrm>
        </p:grpSpPr>
        <p:grpSp>
          <p:nvGrpSpPr>
            <p:cNvPr id="192" name=""/>
            <p:cNvGrpSpPr/>
            <p:nvPr/>
          </p:nvGrpSpPr>
          <p:grpSpPr>
            <a:xfrm>
              <a:off x="4773960" y="1333080"/>
              <a:ext cx="3558600" cy="3497400"/>
              <a:chOff x="4773960" y="1333080"/>
              <a:chExt cx="3558600" cy="3497400"/>
            </a:xfrm>
          </p:grpSpPr>
          <p:sp>
            <p:nvSpPr>
              <p:cNvPr id="193" name=""/>
              <p:cNvSpPr/>
              <p:nvPr/>
            </p:nvSpPr>
            <p:spPr>
              <a:xfrm rot="1899600">
                <a:off x="6504120" y="2019240"/>
                <a:ext cx="410040" cy="37800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899600">
                <a:off x="5934960" y="1917000"/>
                <a:ext cx="2407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Taxonomía de Iniciativ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899600">
                <a:off x="6515640" y="2859480"/>
                <a:ext cx="410040" cy="37800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899600">
                <a:off x="5687640" y="4124520"/>
                <a:ext cx="409680" cy="37800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899600">
                <a:off x="5232960" y="3844080"/>
                <a:ext cx="409680" cy="37800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1899600">
                <a:off x="5641920" y="2320920"/>
                <a:ext cx="410040" cy="37800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899600">
                <a:off x="5331600" y="3294720"/>
                <a:ext cx="410040" cy="37800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899600">
                <a:off x="4842360" y="2993040"/>
                <a:ext cx="410040" cy="37800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899600">
                <a:off x="6089760" y="4372560"/>
                <a:ext cx="410040" cy="37800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2" name=""/>
              <p:cNvCxnSpPr>
                <a:stCxn id="193" idx="3"/>
                <a:endCxn id="198" idx="0"/>
              </p:cNvCxnSpPr>
              <p:nvPr/>
            </p:nvCxnSpPr>
            <p:spPr>
              <a:xfrm flipH="1">
                <a:off x="5946120" y="2246040"/>
                <a:ext cx="569520" cy="103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3" name=""/>
              <p:cNvCxnSpPr>
                <a:stCxn id="193" idx="5"/>
                <a:endCxn id="195" idx="0"/>
              </p:cNvCxnSpPr>
              <p:nvPr/>
            </p:nvCxnSpPr>
            <p:spPr>
              <a:xfrm>
                <a:off x="6762960" y="2398680"/>
                <a:ext cx="57960" cy="48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4" name=""/>
              <p:cNvCxnSpPr>
                <a:stCxn id="198" idx="4"/>
                <a:endCxn id="200" idx="0"/>
              </p:cNvCxnSpPr>
              <p:nvPr/>
            </p:nvCxnSpPr>
            <p:spPr>
              <a:xfrm flipH="1">
                <a:off x="5146560" y="2671560"/>
                <a:ext cx="601560" cy="350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5" name=""/>
              <p:cNvCxnSpPr>
                <a:stCxn id="198" idx="4"/>
                <a:endCxn id="199" idx="0"/>
              </p:cNvCxnSpPr>
              <p:nvPr/>
            </p:nvCxnSpPr>
            <p:spPr>
              <a:xfrm flipH="1">
                <a:off x="5635800" y="2671560"/>
                <a:ext cx="112320" cy="652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6" name=""/>
              <p:cNvCxnSpPr>
                <a:stCxn id="195" idx="4"/>
                <a:endCxn id="197" idx="0"/>
              </p:cNvCxnSpPr>
              <p:nvPr/>
            </p:nvCxnSpPr>
            <p:spPr>
              <a:xfrm flipH="1">
                <a:off x="5537520" y="3209760"/>
                <a:ext cx="1084680" cy="663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7" name=""/>
              <p:cNvCxnSpPr>
                <a:stCxn id="195" idx="4"/>
                <a:endCxn id="196" idx="0"/>
              </p:cNvCxnSpPr>
              <p:nvPr/>
            </p:nvCxnSpPr>
            <p:spPr>
              <a:xfrm flipH="1">
                <a:off x="5992560" y="3209760"/>
                <a:ext cx="629640" cy="943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8" name=""/>
              <p:cNvCxnSpPr>
                <a:stCxn id="195" idx="4"/>
                <a:endCxn id="201" idx="0"/>
              </p:cNvCxnSpPr>
              <p:nvPr/>
            </p:nvCxnSpPr>
            <p:spPr>
              <a:xfrm flipH="1">
                <a:off x="6394680" y="3209760"/>
                <a:ext cx="227520" cy="119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09" name=""/>
            <p:cNvSpPr/>
            <p:nvPr/>
          </p:nvSpPr>
          <p:spPr>
            <a:xfrm>
              <a:off x="4416120" y="3736800"/>
              <a:ext cx="1904400" cy="117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 flipH="1">
            <a:off x="2217960" y="3752280"/>
            <a:ext cx="2245680" cy="2293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8848400">
            <a:off x="738360" y="345168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新細明體"/>
              </a:rPr>
              <a:t>Prác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292640"/>
            <a:ext cx="216000" cy="216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95640" y="4653000"/>
            <a:ext cx="216000" cy="216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11640" y="5589720"/>
            <a:ext cx="216000" cy="215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92360" y="5877000"/>
            <a:ext cx="216000" cy="216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32360" y="4724280"/>
            <a:ext cx="216000" cy="216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48360" y="5516640"/>
            <a:ext cx="215640" cy="216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08720" y="5084640"/>
            <a:ext cx="215640" cy="216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0360" y="5373720"/>
            <a:ext cx="216000" cy="216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35280" y="5084640"/>
            <a:ext cx="216000" cy="216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5445000"/>
            <a:ext cx="215640" cy="216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27640" y="1846080"/>
            <a:ext cx="0" cy="19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54000" y="17924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新細明體"/>
              </a:rPr>
              <a:t>Inici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 rot="18844200">
            <a:off x="1004040" y="3251520"/>
            <a:ext cx="3016080" cy="19288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372360" y="587700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entileza: Samuel Va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Otras variables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ordin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esulta de las decisiones tomadas en las variables anterior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signación de responsabilida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Quién hace qué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ocer habilidades de las person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¿Descentralizado?, ¿centralizad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trol v/s autogest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plicar teoría de agenc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dentificar y definir el o los procesos a atac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tención y vent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bastecimien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iseño de Proyec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Gestión de la Produc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ontrol de Gest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Gestión del Conocimiento,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ablecer objetivos general y específic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finir ámbito de procesos a rediseñ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Áreas funcionales involucra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Inicio, fin y ciclos del proces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ctores involucra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ablecer si hacer estudio de la situación actu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finir el Proyec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Otras variables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poyo computacio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sultado de las decisiones tomadas en las variables anteri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antención consolidada de estado determina la infraestructura de datos que se requie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ácticas de trabajo establece las rutinas que darán origen a lógicas automatizables mediante aplicacion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Qué queda? : Evaluar diversas tecnologías para hacer posible el apoyo computacion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Herramientas de Apoy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valuación cualitativa a través de la Matriz de Cambio (antecedentes y SW en </a:t>
            </a:r>
            <a:r>
              <a:rPr b="0" lang="es-CL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ebusiness.mit.edu/erik/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Visite y analice en esta página la Matriz de Cambio, como herramienta para apoyar la definición de la dirección de cambios o principales drivers del diseño o rediseñ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571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diseña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1981080"/>
            <a:ext cx="2514600" cy="152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DEFINIR EL PROY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Objetivo Re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Ámbito del proc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Establecer si hacer estudio de la situación actu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4952880"/>
            <a:ext cx="3276720" cy="12294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ENTENDER SITUACIÓN ACT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Modelar situación ac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Validar y med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43600" y="1981080"/>
            <a:ext cx="2514600" cy="2061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REDISEÑ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Dirección de camb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Selección Tecnologías habili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Modelar y evaluar Re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Detallar y pro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943600" y="4648320"/>
            <a:ext cx="2514600" cy="13104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IMPLEMEN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Construcción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Implementar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Implementar 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05120" y="3733920"/>
            <a:ext cx="0" cy="121896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2743200"/>
            <a:ext cx="26668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733920" y="4038480"/>
            <a:ext cx="2209680" cy="9144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86600" y="4038480"/>
            <a:ext cx="0" cy="60984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472000" y="1628640"/>
            <a:ext cx="3672000" cy="266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elección de Tecnologías Habilitant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uscar TI que posibilite los cambios de la fase anteri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rupwa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orkflo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atawarehou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etwork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Knowledge Ba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atamin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R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R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R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QR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ar y Evaluar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odelo formal con BPMN que de cuenta de los camb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pecifique prácticas de trabajo, procedimientos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termine actividades a automatiza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tificar cost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tificar niveles de invers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strastar con opinión de ac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mular definiendo escenarios (Uso de herramientas cas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Verdana"/>
              </a:rPr>
              <a:t>Evaluar económicamente (TIR,VAN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querimientos para 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odelos de datos a partir de diccionario de fluj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toman los atributos de los flujos de mantención de estado y se generan entida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s reglas del negocio nos entregan relaciones entre entida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Otro camino : Diseño de aplicaciones e-business mediante la selección de apoyo internet a ciertas actividades del proce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tinúe con metodologías de ingeniería de software (otros curso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Y la Implementación Organizacional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ben existir condiciones favorabl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ultura organizacional: ¿facilitador o inhibidor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Gestión del camb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Sistema de incentivos y recompensa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rucial el liderazgo de alta gerenci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finir un dueño del proces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ga alianzas internas con los actores del proceso </a:t>
            </a:r>
            <a:r>
              <a:rPr b="0" lang="es-ES_trad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200" spc="-1" strike="noStrike">
                <a:solidFill>
                  <a:srgbClr val="cc0000"/>
                </a:solidFill>
                <a:latin typeface="Verdana"/>
              </a:rPr>
              <a:t>PERMITA QUE LOS OTROS GANEN PARA PODER GAN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ducar en proces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ntrenar en habilidad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vocar cambio cultur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acto Organizazcional del Camb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2133720"/>
            <a:ext cx="2362320" cy="9471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ENFOQUE FUN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19920" y="2133720"/>
            <a:ext cx="2361960" cy="947160"/>
          </a:xfrm>
          <a:prstGeom prst="rect">
            <a:avLst/>
          </a:prstGeom>
          <a:solidFill>
            <a:srgbClr val="ffff00"/>
          </a:solidFill>
          <a:ln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ENFOQUE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51" idx="3"/>
            <a:endCxn id="252" idx="1"/>
          </p:cNvCxnSpPr>
          <p:nvPr/>
        </p:nvCxnSpPr>
        <p:spPr>
          <a:xfrm>
            <a:off x="3885840" y="2612520"/>
            <a:ext cx="2134440" cy="1080"/>
          </a:xfrm>
          <a:prstGeom prst="straightConnector1">
            <a:avLst/>
          </a:prstGeom>
          <a:ln w="10152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3809880" y="4724280"/>
            <a:ext cx="2362320" cy="94716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ESTRUCTURA HÍB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"/>
          <p:cNvCxnSpPr>
            <a:stCxn id="251" idx="2"/>
            <a:endCxn id="254" idx="1"/>
          </p:cNvCxnSpPr>
          <p:nvPr/>
        </p:nvCxnSpPr>
        <p:spPr>
          <a:xfrm flipH="1" rot="16200000">
            <a:off x="2200680" y="3595320"/>
            <a:ext cx="2112120" cy="1105560"/>
          </a:xfrm>
          <a:prstGeom prst="bentConnector2">
            <a:avLst/>
          </a:prstGeom>
          <a:ln w="10152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52" idx="2"/>
            <a:endCxn id="254" idx="3"/>
          </p:cNvCxnSpPr>
          <p:nvPr/>
        </p:nvCxnSpPr>
        <p:spPr>
          <a:xfrm rot="5400000">
            <a:off x="5630400" y="3633480"/>
            <a:ext cx="2112120" cy="1029600"/>
          </a:xfrm>
          <a:prstGeom prst="bentConnector2">
            <a:avLst/>
          </a:prstGeom>
          <a:ln w="10152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Metodología para el Diseño o Rediseño de Procesos de Negoci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11280" y="2565000"/>
            <a:ext cx="82087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fes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Ángel Jiménez Mol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íster en Ingeniería de Negocios con TI (MB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71J – Diseño de Modelos y Procesos de Negocios con T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1905120"/>
            <a:ext cx="2514600" cy="152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DEFINIR EL PROY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Objetivo Re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Ámbito del proc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Establecer si hacer estudio de la situación actu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4876920"/>
            <a:ext cx="3276720" cy="12294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ENTENDER SITUACIÓN ACT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Modelar situación ac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Validar y med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1905120"/>
            <a:ext cx="2514600" cy="20610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REDISEÑ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Dirección de camb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Selección Tecnologías habili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Modelar y evaluar Re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Detallar y pro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4572000"/>
            <a:ext cx="2514600" cy="13104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IMPLEMEN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Construcción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Implementar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Implementar 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3657600"/>
            <a:ext cx="0" cy="12193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2666880"/>
            <a:ext cx="26668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657600" y="3962520"/>
            <a:ext cx="2209680" cy="9144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3962520"/>
            <a:ext cx="0" cy="6094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Entendimiento de la Situación Actual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3933720"/>
            <a:ext cx="3671640" cy="266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grupo de rediseño debe comprender en todas sus dimensiones él o los procesos actuales seleccionados en el proyec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odelar situación actu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pecialización de patrones de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menclatura BPM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Validar con actores del proce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Verdana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Entendimiento de la Situación Actual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7560" y="506160"/>
            <a:ext cx="740412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ituación Actu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amiento formal (representación precisa) que permit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teractuar con otras person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Actores del proceso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Miembros del equipo del proyecto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Hacer análisis sistemátic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Validar su concordancia con el actual estad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dición del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azones para contar con métric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Nos permiten identificar la performance actual de los procesos clave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finen los parámetros de evaluación del rediseñ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étricas asociadas al flujo del proce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étricas asociadas al estado del proceso (importante fuente de requerimientos tecnológicos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lgunas Métr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Verdana"/>
              </a:rPr>
              <a:t>Volumen: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Cantidad de nuevos client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Verdana"/>
              </a:rPr>
              <a:t>Tiempo: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Ciclo trabajo, lead tim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antidad de personas, organizaciones, lugar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Verdana"/>
              </a:rPr>
              <a:t>Eficiencia: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P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orcentaje de desecho, porcentaje de error, winra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cc0000"/>
                </a:solidFill>
                <a:latin typeface="Verdana"/>
              </a:rPr>
              <a:t>Holguras:</a:t>
            </a:r>
            <a:r>
              <a:rPr b="0" i="1" lang="es-ES_tradnl" sz="2600" spc="-1" strike="noStrike">
                <a:solidFill>
                  <a:srgbClr val="cc0000"/>
                </a:solidFill>
                <a:latin typeface="Verdana"/>
              </a:rPr>
              <a:t> Disponibilidades de recursos no necesarios (cuellos de botella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Verdana"/>
              </a:rPr>
              <a:t>Costo: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de defectos, reelaboración, de abordar proyectos no atingent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Verdana"/>
              </a:rPr>
              <a:t>Productividad: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MX" sz="2600" spc="-1" strike="noStrike">
                <a:solidFill>
                  <a:srgbClr val="000000"/>
                </a:solidFill>
                <a:latin typeface="Verdana"/>
              </a:rPr>
              <a:t>Output/Inpu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755640" y="1673280"/>
          <a:ext cx="7561440" cy="441972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673280"/>
                    <a:ext cx="75614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Cómo Medir los Parámetro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4T01:42:41Z</dcterms:created>
  <dc:creator>DIPE</dc:creator>
  <dc:description/>
  <dc:language>en-US</dc:language>
  <cp:lastModifiedBy>Ángel Jiménez</cp:lastModifiedBy>
  <dcterms:modified xsi:type="dcterms:W3CDTF">2006-08-21T03:38:01Z</dcterms:modified>
  <cp:revision>242</cp:revision>
  <dc:subject/>
  <dc:title>Knowledge Management</dc:title>
</cp:coreProperties>
</file>