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F5BC7-C14C-4483-AE70-8096DD8B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A94B-888D-44C9-A487-C7CCF51E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91DC9-39F9-4C77-B910-56D2D913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A3268-78C7-41B9-A16F-CF473D78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BCD7C-19C0-4F1A-99DA-9485F21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F39A3-37D1-4277-996E-AF6849A7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6E001-DE93-4D63-8052-45B9A87D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097E6-7DCB-498A-87BD-C420407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A487A-CB96-43B8-B270-60EC83EC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9B427-93AD-4CFE-A9B4-2C9F8BE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1939D-9D6C-4E16-9013-0406DAE1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BAAAB-350F-4CCA-8C3E-8E407BB7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000C-1220-4DAC-B87A-A3A2987306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business.mit.edu/erik/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etodología para el Diseño o Rediseño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1280" y="2565000"/>
            <a:ext cx="8208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Modelos y Procesos de Negocios con 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servar y medir in situ (involucrarse y hacer uno mismo ciertas tarea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ultas aislada a expertos contrastando visiones y detectando regular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paración de datos (cubos desde DataWarehouses) y análisis cuantitativ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simp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de optimiz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de simulación (Herramientas case de apoy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98108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952880"/>
            <a:ext cx="327672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81080"/>
            <a:ext cx="2514600" cy="2061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64832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733920"/>
            <a:ext cx="0" cy="12189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74320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733920" y="403848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4038480"/>
            <a:ext cx="0" cy="609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472000" y="1628640"/>
            <a:ext cx="367200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Basado en las ideas de modelos de negocios, conceptos económicos y diseño de negoc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trones de procesos proveen la estructura –componentes y relaciones- y prácticas ide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Visualice brecha entre situación actual y situación ideal (ejemplos de clase mundial, benchmark, patrones con best practic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de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rresponde a identificar cuál(es) será(n) la(s) </a:t>
            </a:r>
            <a:r>
              <a:rPr b="0" lang="es-ES_tradnl" sz="2300" spc="-1" strike="noStrike">
                <a:solidFill>
                  <a:srgbClr val="cc0000"/>
                </a:solidFill>
                <a:latin typeface="Verdana"/>
              </a:rPr>
              <a:t>línea(s) de cambi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(puede ser la  que aporte más a los objetivos del rediseño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e identifica dónde se origina la necesidad de rediseñ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quieb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desperdicios (ineficienci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malas prácticas que cambi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s nue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usiones o adquis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Nace de Problemas, Oportunidades (como condiciones de mercado, benchmarking, tendencias) o Directrices (dueño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 implicar cambios en la estructura organizacional (Mintzber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importante reconocer un límite a partir de las características de la orga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or racionalización de recur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gradual (CMM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..Pero siempre sostenible y apuntando a generar </a:t>
            </a:r>
            <a:r>
              <a:rPr b="0" lang="es-ES_tradnl" sz="2000" spc="-1" strike="noStrike">
                <a:solidFill>
                  <a:srgbClr val="cc0000"/>
                </a:solidFill>
                <a:latin typeface="Verdana"/>
              </a:rPr>
              <a:t>capacidad para el cambio permanent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Peter Seng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en balance de costo- beneficio ent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stos de coordin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stos de agenci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es ideas fuerza de cambi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cesos de negocio bien diseñ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entralización v/s descentral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ción con clientes y provee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Variables de rediseñ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(algunas implicadas por conocimiento encapsulado en los patron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Varibles a Constrastar para la Dirección de Cambi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3357720"/>
            <a:ext cx="17269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nticip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1440" y="2058840"/>
            <a:ext cx="172728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sign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080" y="357192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4075200"/>
            <a:ext cx="17269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áctic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1440" y="220356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Utilización de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9080" y="4940280"/>
            <a:ext cx="172728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te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Proc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4" idx="2"/>
            <a:endCxn id="145" idx="0"/>
          </p:cNvCxnSpPr>
          <p:nvPr/>
        </p:nvCxnSpPr>
        <p:spPr>
          <a:xfrm flipH="1">
            <a:off x="1620720" y="2635200"/>
            <a:ext cx="216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4" idx="4"/>
            <a:endCxn id="143" idx="0"/>
          </p:cNvCxnSpPr>
          <p:nvPr/>
        </p:nvCxnSpPr>
        <p:spPr>
          <a:xfrm flipH="1">
            <a:off x="4282920" y="3211560"/>
            <a:ext cx="3625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5"/>
            <a:endCxn id="148" idx="0"/>
          </p:cNvCxnSpPr>
          <p:nvPr/>
        </p:nvCxnSpPr>
        <p:spPr>
          <a:xfrm>
            <a:off x="5256000" y="3043080"/>
            <a:ext cx="37080" cy="189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4" idx="5"/>
            <a:endCxn id="146" idx="1"/>
          </p:cNvCxnSpPr>
          <p:nvPr/>
        </p:nvCxnSpPr>
        <p:spPr>
          <a:xfrm>
            <a:off x="5256000" y="3043080"/>
            <a:ext cx="2089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4" idx="6"/>
            <a:endCxn id="147" idx="2"/>
          </p:cNvCxnSpPr>
          <p:nvPr/>
        </p:nvCxnSpPr>
        <p:spPr>
          <a:xfrm>
            <a:off x="5508720" y="2634840"/>
            <a:ext cx="1513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3" idx="2"/>
            <a:endCxn id="145" idx="6"/>
          </p:cNvCxnSpPr>
          <p:nvPr/>
        </p:nvCxnSpPr>
        <p:spPr>
          <a:xfrm flipH="1">
            <a:off x="2484000" y="3933720"/>
            <a:ext cx="9360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3" idx="4"/>
            <a:endCxn id="148" idx="1"/>
          </p:cNvCxnSpPr>
          <p:nvPr/>
        </p:nvCxnSpPr>
        <p:spPr>
          <a:xfrm>
            <a:off x="4282560" y="4510080"/>
            <a:ext cx="39924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3" idx="6"/>
            <a:endCxn id="146" idx="2"/>
          </p:cNvCxnSpPr>
          <p:nvPr/>
        </p:nvCxnSpPr>
        <p:spPr>
          <a:xfrm>
            <a:off x="5146200" y="3933360"/>
            <a:ext cx="194724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8" idx="6"/>
            <a:endCxn id="146" idx="3"/>
          </p:cNvCxnSpPr>
          <p:nvPr/>
        </p:nvCxnSpPr>
        <p:spPr>
          <a:xfrm flipV="1">
            <a:off x="6156000" y="5059080"/>
            <a:ext cx="1189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6" idx="0"/>
            <a:endCxn id="147" idx="4"/>
          </p:cNvCxnSpPr>
          <p:nvPr/>
        </p:nvCxnSpPr>
        <p:spPr>
          <a:xfrm flipH="1" flipV="1">
            <a:off x="7884360" y="3355560"/>
            <a:ext cx="72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8" idx="2"/>
            <a:endCxn id="145" idx="4"/>
          </p:cNvCxnSpPr>
          <p:nvPr/>
        </p:nvCxnSpPr>
        <p:spPr>
          <a:xfrm flipH="1" flipV="1">
            <a:off x="1620000" y="4723560"/>
            <a:ext cx="2809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55640" y="177336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nten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4"/>
            <a:endCxn id="145" idx="0"/>
          </p:cNvCxnSpPr>
          <p:nvPr/>
        </p:nvCxnSpPr>
        <p:spPr>
          <a:xfrm>
            <a:off x="1619280" y="2925360"/>
            <a:ext cx="216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5"/>
            <a:endCxn id="143" idx="1"/>
          </p:cNvCxnSpPr>
          <p:nvPr/>
        </p:nvCxnSpPr>
        <p:spPr>
          <a:xfrm>
            <a:off x="2230560" y="2757600"/>
            <a:ext cx="144216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5"/>
            <a:endCxn id="148" idx="2"/>
          </p:cNvCxnSpPr>
          <p:nvPr/>
        </p:nvCxnSpPr>
        <p:spPr>
          <a:xfrm>
            <a:off x="2230200" y="2757600"/>
            <a:ext cx="2199240" cy="27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Líneas de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39640" y="2349360"/>
          <a:ext cx="8353440" cy="3327480"/>
        </p:xfrm>
        <a:graphic>
          <a:graphicData uri="http://schemas.openxmlformats.org/drawingml/2006/table">
            <a:tbl>
              <a:tblPr/>
              <a:tblGrid>
                <a:gridCol w="1770120"/>
                <a:gridCol w="1325520"/>
                <a:gridCol w="1112760"/>
                <a:gridCol w="941400"/>
                <a:gridCol w="827280"/>
                <a:gridCol w="1150920"/>
                <a:gridCol w="122544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ínea de redise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ác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cip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rdi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ntención Consolidada de Est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u dirección es hacia la integ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cidir el nivel de la variable </a:t>
            </a: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Verdana"/>
              </a:rPr>
              <a:t>integración de datos. (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por la coordinación 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Que todas las actividades conozcan el estado de las otras activ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mplícito : el costo de la integración de datos debe ser menor que los beneficios por 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r sistemas : middleware (superponer capa de software que unifique datos disperso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ámoslo por ejemplos. En Macro 1 tenem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rketing y análisis de mer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lanificación y control de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nósticos de demanda, de materi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decir, establecen futuros requerimien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lave está en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ención consolidada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laboración (mediante flujos entre actividad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905120"/>
            <a:ext cx="2514600" cy="152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876920"/>
            <a:ext cx="327636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1905120"/>
            <a:ext cx="2514600" cy="2061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57200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3657600"/>
            <a:ext cx="0" cy="12193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666880"/>
            <a:ext cx="26672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09880" y="3962520"/>
            <a:ext cx="221004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3962520"/>
            <a:ext cx="0" cy="6094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341360"/>
            <a:ext cx="367164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ntegración de Procesos Conex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os patrones hay subprocesos interrelacionados que hay que coordin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que islas de procesos (ciclos, loops, actividades que desconocen estados de otra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“visiones equinas”) 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r lo tanto, integram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tención de recursos de los proveedores con su uso para obtener bienes y servi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r la cadena logístic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dquisi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istrib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áctic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310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a Práctica de Trabajo es l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r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ómo se ejecuta una actividad de gest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luye: políticas, normas, reglas o procedimientos, metodologías y recursos asoci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ede estar escrita o no en términos de forma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ácticas de Trabaj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5724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n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llevan a cabo las actividad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asociar a metodologías y procedimien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ejemplo, en Marketing y Ventas tenemos la actividad Pronóstico de Venta. Este pronóstico puede realizar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base al criterio del gerente de á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eries de tiempo en base a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óricas, considerando varios fac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corr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401796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jor Prác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 la aplicación novedosa de prácticas de procesos, tecnología o personas para realizar un trabajo específico en un determinado contexto de negocio que mejora la efectividad y/o eficiencia de una organización y genera resultados significantes y medibles que podría mejorar el desempeño en el fut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jor Práctica (MP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31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mejor práctica de trabajo es aquella que ha mostrado de manera sistemática que logra los mejores resultados (valor agregad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ede ser evaluada en forma objetiva o subjetiva (juicios fundad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necesariamente se encuentra en un sector determin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 fuertemente asociada al uso de tecnología moder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Dónde Observo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ada en el modelo de la 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408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0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lgunas Actividades de 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ística de Entrada y 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flota (medio, cuantos, rutas, fluj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degas (ubicación, tamañ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ción de l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equip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nósticos de venta, Análisi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productos y campañ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a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 de Post V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ención telef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cuadril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ación y subcontra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prov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y/o utilización de nueva 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1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ctividades de la Cadena de Valor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Conoci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16120" y="1333080"/>
            <a:ext cx="3916440" cy="3578400"/>
            <a:chOff x="4416120" y="1333080"/>
            <a:chExt cx="3916440" cy="3578400"/>
          </a:xfrm>
        </p:grpSpPr>
        <p:grpSp>
          <p:nvGrpSpPr>
            <p:cNvPr id="192" name=""/>
            <p:cNvGrpSpPr/>
            <p:nvPr/>
          </p:nvGrpSpPr>
          <p:grpSpPr>
            <a:xfrm>
              <a:off x="4773960" y="1333080"/>
              <a:ext cx="3558600" cy="3497400"/>
              <a:chOff x="4773960" y="1333080"/>
              <a:chExt cx="3558600" cy="3497400"/>
            </a:xfrm>
          </p:grpSpPr>
          <p:sp>
            <p:nvSpPr>
              <p:cNvPr id="193" name=""/>
              <p:cNvSpPr/>
              <p:nvPr/>
            </p:nvSpPr>
            <p:spPr>
              <a:xfrm rot="1899600">
                <a:off x="6504120" y="201924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899600">
                <a:off x="5934960" y="1917000"/>
                <a:ext cx="2407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Taxonomía de Iniciativ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99600">
                <a:off x="6515640" y="285948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899600">
                <a:off x="5687640" y="4124520"/>
                <a:ext cx="40968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899600">
                <a:off x="5232960" y="3844080"/>
                <a:ext cx="40968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899600">
                <a:off x="5641920" y="232092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899600">
                <a:off x="5331600" y="329472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899600">
                <a:off x="4842360" y="299304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899600">
                <a:off x="6089760" y="437256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"/>
              <p:cNvCxnSpPr>
                <a:stCxn id="193" idx="3"/>
                <a:endCxn id="198" idx="0"/>
              </p:cNvCxnSpPr>
              <p:nvPr/>
            </p:nvCxnSpPr>
            <p:spPr>
              <a:xfrm flipH="1">
                <a:off x="5946120" y="2246040"/>
                <a:ext cx="569520" cy="103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3" name=""/>
              <p:cNvCxnSpPr>
                <a:stCxn id="193" idx="5"/>
                <a:endCxn id="195" idx="0"/>
              </p:cNvCxnSpPr>
              <p:nvPr/>
            </p:nvCxnSpPr>
            <p:spPr>
              <a:xfrm>
                <a:off x="6762960" y="2398680"/>
                <a:ext cx="57960" cy="48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4" name=""/>
              <p:cNvCxnSpPr>
                <a:stCxn id="198" idx="4"/>
                <a:endCxn id="200" idx="0"/>
              </p:cNvCxnSpPr>
              <p:nvPr/>
            </p:nvCxnSpPr>
            <p:spPr>
              <a:xfrm flipH="1">
                <a:off x="5146560" y="2671560"/>
                <a:ext cx="601560" cy="35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5" name=""/>
              <p:cNvCxnSpPr>
                <a:stCxn id="198" idx="4"/>
                <a:endCxn id="199" idx="0"/>
              </p:cNvCxnSpPr>
              <p:nvPr/>
            </p:nvCxnSpPr>
            <p:spPr>
              <a:xfrm flipH="1">
                <a:off x="5635800" y="2671560"/>
                <a:ext cx="112320" cy="652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6" name=""/>
              <p:cNvCxnSpPr>
                <a:stCxn id="195" idx="4"/>
                <a:endCxn id="197" idx="0"/>
              </p:cNvCxnSpPr>
              <p:nvPr/>
            </p:nvCxnSpPr>
            <p:spPr>
              <a:xfrm flipH="1">
                <a:off x="5537520" y="3209760"/>
                <a:ext cx="1084680" cy="663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7" name=""/>
              <p:cNvCxnSpPr>
                <a:stCxn id="195" idx="4"/>
                <a:endCxn id="196" idx="0"/>
              </p:cNvCxnSpPr>
              <p:nvPr/>
            </p:nvCxnSpPr>
            <p:spPr>
              <a:xfrm flipH="1">
                <a:off x="5992560" y="3209760"/>
                <a:ext cx="629640" cy="943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8" name=""/>
              <p:cNvCxnSpPr>
                <a:stCxn id="195" idx="4"/>
                <a:endCxn id="201" idx="0"/>
              </p:cNvCxnSpPr>
              <p:nvPr/>
            </p:nvCxnSpPr>
            <p:spPr>
              <a:xfrm flipH="1">
                <a:off x="6394680" y="3209760"/>
                <a:ext cx="227520" cy="119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9" name=""/>
            <p:cNvSpPr/>
            <p:nvPr/>
          </p:nvSpPr>
          <p:spPr>
            <a:xfrm>
              <a:off x="4416120" y="3736800"/>
              <a:ext cx="190440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2217960" y="3752280"/>
            <a:ext cx="2245680" cy="2293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8848400">
            <a:off x="738360" y="34516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rác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29264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465300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5589720"/>
            <a:ext cx="216000" cy="215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587700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472428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551664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508464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537372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508464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44500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27640" y="184608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54000" y="1792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ici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 rot="18844200">
            <a:off x="1004040" y="3251520"/>
            <a:ext cx="3016080" cy="1928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372360" y="587700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tileza: Samuel Va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s variabl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sulta de las decisiones tomadas en las variables anteri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signación de responsabil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Quién hace qu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ocer habilidades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Descentralizado?, ¿centralizad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 v/s autogest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plicar teoría de ag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ntificar y definir el o los procesos a ata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tención y vent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astecimi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iseño de Proye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estión de la Produ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rol de Gest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estión del Conocimiento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ablecer objetivos general y específ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finir ámbito de procesos a rediseñ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Áreas funcionales involucr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icio, fin y ciclos del proces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tores involucr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ablecer si hacer estudio de la situación act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el Proye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s variabl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oyo comput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ultado de las decisiones tomadas en las variables anteri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antención consolidada de estado determina la infraestructura de datos que se requie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ácticas de trabajo establece las rutinas que darán origen a lógicas automatizables mediante aplicac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queda? : Evaluar diversas tecnologías para hacer posible el apoyo computaci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Herramientas de Apoy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valuación cualitativa a través de la Matriz de Cambio (antecedentes y SW en </a:t>
            </a:r>
            <a:r>
              <a:rPr b="0" lang="es-CL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ebusiness.mit.edu/erik/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isite y analice en esta página la Matriz de Cambio, como herramienta para apoyar la definición de la dirección de cambios o principales drivers del diseño o rediseñ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98108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952880"/>
            <a:ext cx="327672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1981080"/>
            <a:ext cx="2514600" cy="2061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464832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733920"/>
            <a:ext cx="0" cy="12189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74320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733920" y="403848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4038480"/>
            <a:ext cx="0" cy="609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72000" y="1628640"/>
            <a:ext cx="367200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lección de Tecnologías Habilita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scar TI que posibilite los cambios de la fase an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tawareho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twork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nowledge B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tami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R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R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ar y Evaluar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formal con BPMN que de cuenta de los camb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ecifique prácticas de trabajo, procedimiento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rmine actividades a automatiz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tificar cos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tificar niveles de inver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trastar con opinión de ac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mular definiendo escenarios (Uso de herramientas cas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Evaluar económicamente (TIR,VA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querimientos para 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datos a partir de diccionario de fluj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toman los atributos de los flujos de mantención de estado y se generan e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s reglas del negocio nos entregan relaciones entre e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tro camino : Diseño de aplicaciones e-business mediante la selección de apoyo internet a ciertas actividades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tinúe con metodologías de ingeniería de software (otros curs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Y la Implementación Organizaciona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ben existir condiciones favor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ultura organizacional: ¿facilitador o inhibidor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stión del camb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istema de incentivos y recompens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rucial el liderazgo de alta gerenc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finir un dueño del proces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ga alianzas internas con los actores del proceso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cc0000"/>
                </a:solidFill>
                <a:latin typeface="Verdana"/>
              </a:rPr>
              <a:t>PERMITA QUE LOS OTROS GANEN PARA PODER GAN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ducar en proce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ntrenar en habil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vocar cambio cultu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acto Organizazcional del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133720"/>
            <a:ext cx="2362320" cy="9471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FOQUE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9920" y="2133720"/>
            <a:ext cx="2361960" cy="9471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FOQU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1" idx="3"/>
            <a:endCxn id="252" idx="1"/>
          </p:cNvCxnSpPr>
          <p:nvPr/>
        </p:nvCxnSpPr>
        <p:spPr>
          <a:xfrm>
            <a:off x="3885840" y="2612520"/>
            <a:ext cx="2134440" cy="1080"/>
          </a:xfrm>
          <a:prstGeom prst="straightConnector1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809880" y="4724280"/>
            <a:ext cx="2362320" cy="94716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STRUCTURA 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51" idx="2"/>
            <a:endCxn id="254" idx="1"/>
          </p:cNvCxnSpPr>
          <p:nvPr/>
        </p:nvCxnSpPr>
        <p:spPr>
          <a:xfrm flipH="1" rot="16200000">
            <a:off x="2200680" y="3595320"/>
            <a:ext cx="2112120" cy="1105560"/>
          </a:xfrm>
          <a:prstGeom prst="bentConnector2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2" idx="2"/>
            <a:endCxn id="254" idx="3"/>
          </p:cNvCxnSpPr>
          <p:nvPr/>
        </p:nvCxnSpPr>
        <p:spPr>
          <a:xfrm rot="5400000">
            <a:off x="5630400" y="3633480"/>
            <a:ext cx="2112120" cy="1029600"/>
          </a:xfrm>
          <a:prstGeom prst="bentConnector2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etodología para el Diseño o Rediseño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11280" y="2565000"/>
            <a:ext cx="8208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Modelos y Procesos de Negocios con 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0512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876920"/>
            <a:ext cx="3276720" cy="1229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905120"/>
            <a:ext cx="2514600" cy="2061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57200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657600"/>
            <a:ext cx="0" cy="12193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66688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657600" y="396252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3962520"/>
            <a:ext cx="0" cy="6094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endimiento de la Situación Actu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933720"/>
            <a:ext cx="367164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grupo de rediseño debe comprender en todas sus dimensiones él o los procesos actuales seleccionados en el proyec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ar situación ac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ecialización de patrones d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menclatura BP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alidar con actores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endimiento de la Situación Actu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miento formal (representación precisa) que permi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ractuar con otras person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ctores del proces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Miembros del equipo del proyect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análisis sistemát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r su concordancia con el actual est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zones para contar con métric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os permiten identificar la performance actual de los procesos clav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finen los parámetros de evaluación del re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ricas asociadas al flujo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ricas asociadas al estado del proceso (importante fuente de requerimientos tecnológic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Volumen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Tiempo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Ciclo trabajo, lead tim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ntidad de personas, organizaciones, luga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Eficiencia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centaje de desecho, porcentaje de error, winr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2600" spc="-1" strike="noStrike">
                <a:solidFill>
                  <a:srgbClr val="cc0000"/>
                </a:solidFill>
                <a:latin typeface="Verdana"/>
              </a:rPr>
              <a:t> Disponibilidades de recursos no necesarios (cuellos de botella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Costo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de defectos, reelaboración, de abordar proyectos no atingen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Verdana"/>
              </a:rPr>
              <a:t>Productividad: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Output/Inpu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673280"/>
          <a:ext cx="7561440" cy="44197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73280"/>
                    <a:ext cx="75614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los Parámetr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1:42:41Z</dcterms:created>
  <dc:creator>DIPE</dc:creator>
  <dc:description/>
  <dc:language>en-US</dc:language>
  <cp:lastModifiedBy>Ángel Jiménez</cp:lastModifiedBy>
  <dcterms:modified xsi:type="dcterms:W3CDTF">2006-08-21T03:38:01Z</dcterms:modified>
  <cp:revision>242</cp:revision>
  <dc:subject/>
  <dc:title>Knowledge Management</dc:title>
</cp:coreProperties>
</file>