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F1EB080-909C-4F10-A81D-065B3FFEBD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37A2D8-4119-4CDE-B783-EB683C078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98E9CA-A8B9-4558-B7BE-B6632DE49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7EB418-1EF5-404F-A308-55D93DB0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C16799-3EE8-4A07-BED9-A7EC790B6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30B86D-86CB-4C66-A4D4-DA76C502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4CD5D-E643-48B3-A3E5-8E53517F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1496F3-3AD0-4AE3-885E-612FCC3C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6ED9D4-8C66-4F36-B8D2-BA6EDBD3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6501EA-A94A-49FC-9434-A00035802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6AC98F-0CA3-44D9-8379-0DE84BCE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1816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88400" y="342864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475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1816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88400" y="4264560"/>
            <a:ext cx="225720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9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1AB34-1AD7-428A-8365-5E6FD3589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990720"/>
            <a:ext cx="7772400" cy="635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9640" y="426456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4756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9640" y="3428640"/>
            <a:ext cx="342072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47560" y="4264560"/>
            <a:ext cx="7010280" cy="7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1J, Diseño de Modelos y Procesos de Negocios con TI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0C5D-5925-41DB-BD24-92059A52A972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business.mit.edu/erik/" TargetMode="External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pptx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Metodología para el Diseño o Rediseño de Procesos de Negoc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11280" y="2565000"/>
            <a:ext cx="82087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Modelos y Procesos de Negocios con 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Cómo Medir Métr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Trabajo en terre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Observar y medir in situ (involucrarse y hacer uno mismo ciertas tarea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sultas aislada a expertos contrastando visiones y detectando regularidad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eparación de datos (cubos desde DataWarehouses) y análisis cuantitativ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con algunas medidas de terre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odelos simp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odelos de optimizació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odelos de simulación (Herramientas case de apoyo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762120" y="1981080"/>
            <a:ext cx="2514600" cy="152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DEFINIR 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Objetivo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mbito del 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Establecer si hacer estudio de la situación actu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4952880"/>
            <a:ext cx="3276720" cy="1229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ENTENDER SITUACIÓN AC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situación 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Validar y me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43600" y="1981080"/>
            <a:ext cx="2514600" cy="2061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REDISEÑ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irección de camb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Selección Tecnologías habili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y evaluar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etallar y pro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4648320"/>
            <a:ext cx="2514600" cy="1310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IMPLEMEN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Construcció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3733920"/>
            <a:ext cx="0" cy="12189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76720" y="2743200"/>
            <a:ext cx="26668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3733920" y="4038480"/>
            <a:ext cx="2209680" cy="9144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86600" y="4038480"/>
            <a:ext cx="0" cy="6098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diseñ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5472000" y="1628640"/>
            <a:ext cx="3672000" cy="266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8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8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Basado en las ideas de modelos de negocios, conceptos económicos y diseño de negoci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Patrones de procesos proveen la estructura –componentes y relaciones- y prácticas ide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Verdana"/>
              </a:rPr>
              <a:t>Visualice brecha entre situación actual y situación ideal (ejemplos de clase mundial, benchmark, patrones con best practices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álisis de 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755640" y="1676520"/>
            <a:ext cx="813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Corresponde a identificar cuál(es) será(n) la(s) </a:t>
            </a:r>
            <a:r>
              <a:rPr b="0" lang="es-ES_tradnl" sz="2300" spc="-1" strike="noStrike">
                <a:solidFill>
                  <a:srgbClr val="cc0000"/>
                </a:solidFill>
                <a:latin typeface="Verdana"/>
              </a:rPr>
              <a:t>línea(s) de cambio</a:t>
            </a: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 (puede ser la  que aporte más a los objetivos del rediseño)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Se identifica dónde se origina la necesidad de rediseño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y quiebr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y desperdicios (ineficiencia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ay malas prácticas que cambi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ductos nuev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Fusiones o adquisicione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75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Nace de Problemas, Oportunidades (como condiciones de mercado, benchmarking, tendencias) o Directrices (dueños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uede implicar cambios en la estructura organizacional (Mintzberg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importante reconocer un límite a partir de las características de la organ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mbio profun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mbio por racionalización de recur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mbio gradual (CMM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...Pero siempre sostenible y apuntando a generar </a:t>
            </a:r>
            <a:r>
              <a:rPr b="0" lang="es-ES_tradnl" sz="2000" spc="-1" strike="noStrike">
                <a:solidFill>
                  <a:srgbClr val="cc0000"/>
                </a:solidFill>
                <a:latin typeface="Verdana"/>
              </a:rPr>
              <a:t>capacidad para el cambio permanente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Peter Senge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uen balance de costo- beneficio ent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ostos de coordin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000000"/>
                </a:solidFill>
                <a:latin typeface="Verdana"/>
              </a:rPr>
              <a:t>Costos de agencia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Tres ideas fuerza de cambi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ocesos de negocio bien diseña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entralización v/s descentraliz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tegración con clientes y proveed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Variables de rediseño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(algunas implicadas por conocimiento encapsulado en los patrone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400" spc="-1" strike="noStrike">
                <a:solidFill>
                  <a:srgbClr val="000000"/>
                </a:solidFill>
                <a:latin typeface="Verdana"/>
              </a:rPr>
              <a:t>Varibles a Constrastar para la Dirección de Cambio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"/>
          <p:cNvSpPr/>
          <p:nvPr/>
        </p:nvSpPr>
        <p:spPr>
          <a:xfrm>
            <a:off x="3419640" y="3357720"/>
            <a:ext cx="172692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nticip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781440" y="2058840"/>
            <a:ext cx="1727280" cy="115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signación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Responsabilida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57080" y="3571920"/>
            <a:ext cx="172728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ordin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93080" y="4075200"/>
            <a:ext cx="172692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ácticas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021440" y="2203560"/>
            <a:ext cx="172728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Utilización de 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429080" y="4940280"/>
            <a:ext cx="1727280" cy="1152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Integ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 Proces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4" idx="2"/>
            <a:endCxn id="145" idx="0"/>
          </p:cNvCxnSpPr>
          <p:nvPr/>
        </p:nvCxnSpPr>
        <p:spPr>
          <a:xfrm flipH="1">
            <a:off x="1620720" y="2635200"/>
            <a:ext cx="2161080" cy="937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44" idx="4"/>
            <a:endCxn id="143" idx="0"/>
          </p:cNvCxnSpPr>
          <p:nvPr/>
        </p:nvCxnSpPr>
        <p:spPr>
          <a:xfrm flipH="1">
            <a:off x="4282920" y="3211560"/>
            <a:ext cx="362520" cy="14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44" idx="5"/>
            <a:endCxn id="148" idx="0"/>
          </p:cNvCxnSpPr>
          <p:nvPr/>
        </p:nvCxnSpPr>
        <p:spPr>
          <a:xfrm>
            <a:off x="5256000" y="3043080"/>
            <a:ext cx="37080" cy="189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44" idx="5"/>
            <a:endCxn id="146" idx="1"/>
          </p:cNvCxnSpPr>
          <p:nvPr/>
        </p:nvCxnSpPr>
        <p:spPr>
          <a:xfrm>
            <a:off x="5256000" y="3043080"/>
            <a:ext cx="2089800" cy="1200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44" idx="6"/>
            <a:endCxn id="147" idx="2"/>
          </p:cNvCxnSpPr>
          <p:nvPr/>
        </p:nvCxnSpPr>
        <p:spPr>
          <a:xfrm>
            <a:off x="5508720" y="2634840"/>
            <a:ext cx="1513440" cy="144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4" name=""/>
          <p:cNvCxnSpPr>
            <a:stCxn id="143" idx="2"/>
            <a:endCxn id="145" idx="6"/>
          </p:cNvCxnSpPr>
          <p:nvPr/>
        </p:nvCxnSpPr>
        <p:spPr>
          <a:xfrm flipH="1">
            <a:off x="2484000" y="3933720"/>
            <a:ext cx="936000" cy="2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3" idx="4"/>
            <a:endCxn id="148" idx="1"/>
          </p:cNvCxnSpPr>
          <p:nvPr/>
        </p:nvCxnSpPr>
        <p:spPr>
          <a:xfrm>
            <a:off x="4282560" y="4510080"/>
            <a:ext cx="399240" cy="598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43" idx="6"/>
            <a:endCxn id="146" idx="2"/>
          </p:cNvCxnSpPr>
          <p:nvPr/>
        </p:nvCxnSpPr>
        <p:spPr>
          <a:xfrm>
            <a:off x="5146200" y="3933360"/>
            <a:ext cx="194724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48" idx="6"/>
            <a:endCxn id="146" idx="3"/>
          </p:cNvCxnSpPr>
          <p:nvPr/>
        </p:nvCxnSpPr>
        <p:spPr>
          <a:xfrm flipV="1">
            <a:off x="6156000" y="5059080"/>
            <a:ext cx="118980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8" name=""/>
          <p:cNvCxnSpPr>
            <a:stCxn id="146" idx="0"/>
            <a:endCxn id="147" idx="4"/>
          </p:cNvCxnSpPr>
          <p:nvPr/>
        </p:nvCxnSpPr>
        <p:spPr>
          <a:xfrm flipH="1" flipV="1">
            <a:off x="7884360" y="3355560"/>
            <a:ext cx="72360" cy="720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9" name=""/>
          <p:cNvCxnSpPr>
            <a:stCxn id="148" idx="2"/>
            <a:endCxn id="145" idx="4"/>
          </p:cNvCxnSpPr>
          <p:nvPr/>
        </p:nvCxnSpPr>
        <p:spPr>
          <a:xfrm flipH="1" flipV="1">
            <a:off x="1620000" y="4723560"/>
            <a:ext cx="2809080" cy="793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0" name=""/>
          <p:cNvSpPr/>
          <p:nvPr/>
        </p:nvSpPr>
        <p:spPr>
          <a:xfrm>
            <a:off x="755640" y="1773360"/>
            <a:ext cx="1727280" cy="1152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Mantenció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 Esta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1" name=""/>
          <p:cNvCxnSpPr>
            <a:stCxn id="160" idx="4"/>
            <a:endCxn id="145" idx="0"/>
          </p:cNvCxnSpPr>
          <p:nvPr/>
        </p:nvCxnSpPr>
        <p:spPr>
          <a:xfrm>
            <a:off x="1619280" y="2925360"/>
            <a:ext cx="2160" cy="646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" name=""/>
          <p:cNvCxnSpPr>
            <a:stCxn id="160" idx="5"/>
            <a:endCxn id="143" idx="1"/>
          </p:cNvCxnSpPr>
          <p:nvPr/>
        </p:nvCxnSpPr>
        <p:spPr>
          <a:xfrm>
            <a:off x="2230560" y="2757600"/>
            <a:ext cx="1442160" cy="76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3" name=""/>
          <p:cNvCxnSpPr>
            <a:stCxn id="160" idx="5"/>
            <a:endCxn id="148" idx="2"/>
          </p:cNvCxnSpPr>
          <p:nvPr/>
        </p:nvCxnSpPr>
        <p:spPr>
          <a:xfrm>
            <a:off x="2230200" y="2757600"/>
            <a:ext cx="2199240" cy="2759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Líneas de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539640" y="2349360"/>
          <a:ext cx="8353440" cy="3327480"/>
        </p:xfrm>
        <a:graphic>
          <a:graphicData uri="http://schemas.openxmlformats.org/drawingml/2006/table">
            <a:tbl>
              <a:tblPr/>
              <a:tblGrid>
                <a:gridCol w="1770120"/>
                <a:gridCol w="1325520"/>
                <a:gridCol w="1112760"/>
                <a:gridCol w="941400"/>
                <a:gridCol w="827280"/>
                <a:gridCol w="1150920"/>
                <a:gridCol w="1225440"/>
              </a:tblGrid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ínea de rediseñ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sponsabilidad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tegr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áctica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Uso 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ticip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oordinació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ntención Consolidada de Estad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u dirección es hacia la integr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Decidir el nivel de la variable </a:t>
            </a:r>
            <a:r>
              <a:rPr b="0" lang="es-ES_tradnl" sz="2400" spc="-1" strike="noStrike" u="sng">
                <a:solidFill>
                  <a:srgbClr val="003366"/>
                </a:solidFill>
                <a:uFillTx/>
                <a:latin typeface="Verdana"/>
              </a:rPr>
              <a:t>integración de datos. (</a:t>
            </a: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 por la coordinación 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Que todas las actividades conozcan el estado de las otras activida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Verdana"/>
              </a:rPr>
              <a:t>Implícito : el costo de la integración de datos debe ser menor que los beneficios por coordinac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tegrar sistemas : middleware (superponer capa de software que unifique datos dispersos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nticip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8000" y="184464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ntendámoslo por ejemplos. En Macro 1 tenem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árketing y análisis de merc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lanificación y control de produ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ronósticos de demanda, de materiales, etc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 decir, establecen futuros requerimien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a clave está en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antención consolidada de estad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lanific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olaboración (mediante flujos entre actividad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838080" y="1905120"/>
            <a:ext cx="2514600" cy="1523520"/>
          </a:xfrm>
          <a:prstGeom prst="rect">
            <a:avLst/>
          </a:prstGeom>
          <a:solidFill>
            <a:srgbClr val="ffcc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DEFINIR 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Objetivo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mbito del 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Establecer si hacer estudio de la situación actu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33520" y="4876920"/>
            <a:ext cx="3276360" cy="1229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ENTENDER SITUACIÓN AC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situación 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Validar y me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019920" y="1905120"/>
            <a:ext cx="2514600" cy="2061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REDISEÑ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irección de camb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Selección Tecnologías habili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y evaluar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etallar y pro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4572000"/>
            <a:ext cx="2514600" cy="1310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IMPLEMEN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Construcció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81080" y="3657600"/>
            <a:ext cx="0" cy="12193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352680" y="2666880"/>
            <a:ext cx="266724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3809880" y="3962520"/>
            <a:ext cx="2210040" cy="9144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7162920" y="3962520"/>
            <a:ext cx="0" cy="6094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341360"/>
            <a:ext cx="3671640" cy="266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8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8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8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8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ntegración de Procesos Conex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539280" y="169992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los patrones hay subprocesos interrelacionados que hay que coordin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dentifique islas de procesos (ciclos, loops, actividades que desconocen estados de otras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(“visiones equinas”) 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or lo tanto, integramo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btención de recursos de los proveedores con su uso para obtener bienes y servic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tegrar la cadena logística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dquisi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Produ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istribu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ráctic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8231040" cy="40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na Práctica de Trabajo es la 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forma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cómo se ejecuta una actividad de gestió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cluye: políticas, normas, reglas o procedimientos, metodologías y recursos asociado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uede estar escrita o no en términos de formalidad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8432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Prácticas de Trabaj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68360" y="1857240"/>
            <a:ext cx="7848720" cy="401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orresponden a </a:t>
            </a:r>
            <a:r>
              <a:rPr b="0" lang="es-ES_tradnl" sz="2400" spc="-1" strike="noStrike">
                <a:solidFill>
                  <a:srgbClr val="000099"/>
                </a:solidFill>
                <a:latin typeface="Arial"/>
              </a:rPr>
              <a:t>CÓM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se llevan a cabo las actividades anterio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 pueden asociar a metodologías y procedimient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Por ejemplo, en Marketing y Ventas tenemos la actividad Pronóstico de Venta. Este pronóstico puede realizarse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n base al criterio del gerente de áre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or series de tiempo en base a vent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históricas, considerando varios fact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corr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4017960"/>
            <a:ext cx="2133720" cy="1219320"/>
          </a:xfrm>
          <a:prstGeom prst="leftArrow">
            <a:avLst>
              <a:gd name="adj1" fmla="val 50000"/>
              <a:gd name="adj2" fmla="val 43748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99"/>
                </a:solidFill>
                <a:latin typeface="Arial"/>
              </a:rPr>
              <a:t>Prácticas de Trabaj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jor Práctic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Es la aplicación novedosa de prácticas de procesos, tecnología o personas para realizar un trabajo específico en un determinado contexto de negocio que mejora la efectividad y/o eficiencia de una organización y genera resultados significantes y medibles que podría mejorar el desempeño en el futur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Mejor Práctica (MP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82310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a mejor práctica de trabajo es aquella que ha mostrado de manera sistemática que logra los mejores resultados (valor agregado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uede ser evaluada en forma objetiva o subjetiva (juicios fundados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 necesariamente se encuentra en un sector determina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sta fuertemente asociada al uso de tecnología moderna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1094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¿Dónde Observo Práct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109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asada en el modelo de la cadena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1763640" y="2205000"/>
            <a:ext cx="640872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228240"/>
            <a:ext cx="6902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lgunas Actividades de la Cadena de Valo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773000"/>
            <a:ext cx="8381880" cy="452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ogística de Entrada y Salid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ministración de flota (medio, cuantos, rutas, fluj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Bodegas (ubicación, tamañ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Opera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lanificación de la produ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de equip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figuración de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arketing y Vent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onósticos de venta, Análisis de Dat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iseño de productos y campañ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ervicio al client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456840" y="1700280"/>
            <a:ext cx="8381880" cy="46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ervicios de Post Vent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tención telefón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ejo de cuadrill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ecursos Human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tratación y subcontra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apacit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Adquisicion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anejo de proveedor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Administración de Invent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ecnologí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sarrollo y/o utilización de nueva tecnologí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title"/>
          </p:nvPr>
        </p:nvSpPr>
        <p:spPr>
          <a:xfrm>
            <a:off x="406080" y="228240"/>
            <a:ext cx="8413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ctividades de la Cadena de Valor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5943600" y="2133720"/>
            <a:ext cx="2133720" cy="1066680"/>
          </a:xfrm>
          <a:prstGeom prst="up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Primari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943600" y="3505320"/>
            <a:ext cx="2133720" cy="1218960"/>
          </a:xfrm>
          <a:prstGeom prst="downArrow">
            <a:avLst>
              <a:gd name="adj1" fmla="val 50000"/>
              <a:gd name="adj2" fmla="val 25000"/>
            </a:avLst>
          </a:prstGeom>
          <a:noFill/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99"/>
                </a:solidFill>
                <a:latin typeface="Arial"/>
              </a:rPr>
              <a:t>De Apoy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o de Conoci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91" name=""/>
          <p:cNvGrpSpPr/>
          <p:nvPr/>
        </p:nvGrpSpPr>
        <p:grpSpPr>
          <a:xfrm>
            <a:off x="4416120" y="1333080"/>
            <a:ext cx="3916440" cy="3578400"/>
            <a:chOff x="4416120" y="1333080"/>
            <a:chExt cx="3916440" cy="3578400"/>
          </a:xfrm>
        </p:grpSpPr>
        <p:grpSp>
          <p:nvGrpSpPr>
            <p:cNvPr id="192" name=""/>
            <p:cNvGrpSpPr/>
            <p:nvPr/>
          </p:nvGrpSpPr>
          <p:grpSpPr>
            <a:xfrm>
              <a:off x="4773960" y="1333080"/>
              <a:ext cx="3558600" cy="3497400"/>
              <a:chOff x="4773960" y="1333080"/>
              <a:chExt cx="3558600" cy="3497400"/>
            </a:xfrm>
          </p:grpSpPr>
          <p:sp>
            <p:nvSpPr>
              <p:cNvPr id="193" name=""/>
              <p:cNvSpPr/>
              <p:nvPr/>
            </p:nvSpPr>
            <p:spPr>
              <a:xfrm rot="1899600">
                <a:off x="6504120" y="2019240"/>
                <a:ext cx="41004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899600">
                <a:off x="5934960" y="1917000"/>
                <a:ext cx="24076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_tradnl" sz="1800" spc="-1" strike="noStrike">
                    <a:solidFill>
                      <a:srgbClr val="000000"/>
                    </a:solidFill>
                    <a:latin typeface="Arial"/>
                    <a:ea typeface="新細明體"/>
                  </a:rPr>
                  <a:t>Taxonomía de Iniciativas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1899600">
                <a:off x="6515640" y="2859480"/>
                <a:ext cx="41004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1899600">
                <a:off x="5687640" y="4124520"/>
                <a:ext cx="40968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899600">
                <a:off x="5232960" y="3844080"/>
                <a:ext cx="40968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1899600">
                <a:off x="5641920" y="2320920"/>
                <a:ext cx="41004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1899600">
                <a:off x="5331600" y="3294720"/>
                <a:ext cx="41004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1899600">
                <a:off x="4842360" y="2993040"/>
                <a:ext cx="41004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 rot="1899600">
                <a:off x="6089760" y="4372560"/>
                <a:ext cx="410040" cy="378000"/>
              </a:xfrm>
              <a:prstGeom prst="ellipse">
                <a:avLst/>
              </a:prstGeom>
              <a:solidFill>
                <a:srgbClr val="a3b2c1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202" name=""/>
              <p:cNvCxnSpPr>
                <a:stCxn id="193" idx="3"/>
                <a:endCxn id="198" idx="0"/>
              </p:cNvCxnSpPr>
              <p:nvPr/>
            </p:nvCxnSpPr>
            <p:spPr>
              <a:xfrm flipH="1">
                <a:off x="5946120" y="2246040"/>
                <a:ext cx="569520" cy="103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3" name=""/>
              <p:cNvCxnSpPr>
                <a:stCxn id="193" idx="5"/>
                <a:endCxn id="195" idx="0"/>
              </p:cNvCxnSpPr>
              <p:nvPr/>
            </p:nvCxnSpPr>
            <p:spPr>
              <a:xfrm>
                <a:off x="6762960" y="2398680"/>
                <a:ext cx="57960" cy="489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4" name=""/>
              <p:cNvCxnSpPr>
                <a:stCxn id="198" idx="4"/>
                <a:endCxn id="200" idx="0"/>
              </p:cNvCxnSpPr>
              <p:nvPr/>
            </p:nvCxnSpPr>
            <p:spPr>
              <a:xfrm flipH="1">
                <a:off x="5146560" y="2671560"/>
                <a:ext cx="601560" cy="3506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5" name=""/>
              <p:cNvCxnSpPr>
                <a:stCxn id="198" idx="4"/>
                <a:endCxn id="199" idx="0"/>
              </p:cNvCxnSpPr>
              <p:nvPr/>
            </p:nvCxnSpPr>
            <p:spPr>
              <a:xfrm flipH="1">
                <a:off x="5635800" y="2671560"/>
                <a:ext cx="112320" cy="6523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6" name=""/>
              <p:cNvCxnSpPr>
                <a:stCxn id="195" idx="4"/>
                <a:endCxn id="197" idx="0"/>
              </p:cNvCxnSpPr>
              <p:nvPr/>
            </p:nvCxnSpPr>
            <p:spPr>
              <a:xfrm flipH="1">
                <a:off x="5537520" y="3209760"/>
                <a:ext cx="1084680" cy="6631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7" name=""/>
              <p:cNvCxnSpPr>
                <a:stCxn id="195" idx="4"/>
                <a:endCxn id="196" idx="0"/>
              </p:cNvCxnSpPr>
              <p:nvPr/>
            </p:nvCxnSpPr>
            <p:spPr>
              <a:xfrm flipH="1">
                <a:off x="5992560" y="3209760"/>
                <a:ext cx="629640" cy="943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208" name=""/>
              <p:cNvCxnSpPr>
                <a:stCxn id="195" idx="4"/>
                <a:endCxn id="201" idx="0"/>
              </p:cNvCxnSpPr>
              <p:nvPr/>
            </p:nvCxnSpPr>
            <p:spPr>
              <a:xfrm flipH="1">
                <a:off x="6394680" y="3209760"/>
                <a:ext cx="227520" cy="11919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sp>
          <p:nvSpPr>
            <p:cNvPr id="209" name=""/>
            <p:cNvSpPr/>
            <p:nvPr/>
          </p:nvSpPr>
          <p:spPr>
            <a:xfrm>
              <a:off x="4416120" y="3736800"/>
              <a:ext cx="1904400" cy="11746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 flipH="1">
            <a:off x="2217960" y="3752280"/>
            <a:ext cx="2245680" cy="2293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8848400">
            <a:off x="738360" y="3451680"/>
            <a:ext cx="111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新細明體"/>
              </a:rPr>
              <a:t>Prácti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292640"/>
            <a:ext cx="21600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995640" y="4653000"/>
            <a:ext cx="21600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211640" y="5589720"/>
            <a:ext cx="216000" cy="21564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492360" y="5877000"/>
            <a:ext cx="21600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32360" y="4724280"/>
            <a:ext cx="21600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148360" y="5516640"/>
            <a:ext cx="21564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508720" y="5084640"/>
            <a:ext cx="21564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940360" y="5373720"/>
            <a:ext cx="21600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5280" y="5084640"/>
            <a:ext cx="21600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76720" y="5445000"/>
            <a:ext cx="215640" cy="216000"/>
          </a:xfrm>
          <a:prstGeom prst="ellipse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27640" y="1846080"/>
            <a:ext cx="0" cy="19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554000" y="1792440"/>
            <a:ext cx="118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  <a:ea typeface="新細明體"/>
              </a:rPr>
              <a:t>Iniciativ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 rot="18844200">
            <a:off x="1004040" y="3251520"/>
            <a:ext cx="3016080" cy="192888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6372360" y="5877000"/>
            <a:ext cx="251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entileza: Samuel Var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s variables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ordin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sulta de las decisiones tomadas en las variables anterior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signación de responsabilidad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Quién hace qué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ocer habilidades de la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¿Descentralizado?, ¿centralizado?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trol v/s autogest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plicar teoría de age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446040" indent="-446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dentificar y definir el o los procesos a atac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tención y venta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bastecimient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Diseño de Proyect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Gestión de la Producc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ontrol de Gestió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Gestión del Conocimiento,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ablecer objetivos general y específic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finir ámbito de procesos a rediseña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Áreas funcionales involucrad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Inicio, fin y ciclos del proces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862200" indent="-414360"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Actores involucrado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46040" indent="-446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ablecer si hacer estudio de la situación actu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4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r el Proyec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tras variables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poyo computacio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sultado de las decisiones tomadas en las variables anteri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antención consolidada de estado determina la infraestructura de datos que se requie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rácticas de trabajo establece las rutinas que darán origen a lógicas automatizables mediante aplicacion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¿Qué queda? : Evaluar diversas tecnologías para hacer posible el apoyo computacion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800" spc="-1" strike="noStrike">
                <a:solidFill>
                  <a:srgbClr val="000000"/>
                </a:solidFill>
                <a:latin typeface="Verdana"/>
              </a:rPr>
              <a:t>Herramientas de Apoy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Evaluación cualitativa a través de la Matriz de Cambio (antecedentes y SW en </a:t>
            </a:r>
            <a:r>
              <a:rPr b="0" lang="es-CL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ebusiness.mit.edu/erik/</a:t>
            </a: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Verdana"/>
              </a:rPr>
              <a:t>Visite y analice en esta página la Matriz de Cambio, como herramienta para apoyar la definición de la dirección de cambios o principales drivers del diseño o rediseñ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57168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diseñar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1981080"/>
            <a:ext cx="2514600" cy="152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DEFINIR 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Objetivo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mbito del 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Establecer si hacer estudio de la situación actu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57200" y="4952880"/>
            <a:ext cx="3276720" cy="1229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ENTENDER SITUACIÓN AC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situación 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Validar y me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3600" y="1981080"/>
            <a:ext cx="2514600" cy="20610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REDISEÑ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irección de camb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Selección Tecnologías habili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y evaluar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etallar y pro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943600" y="4648320"/>
            <a:ext cx="2514600" cy="1310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IMPLEMEN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Construcció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3733920"/>
            <a:ext cx="0" cy="121896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276720" y="2743200"/>
            <a:ext cx="26668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3733920" y="4038480"/>
            <a:ext cx="2209680" cy="9144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86600" y="4038480"/>
            <a:ext cx="0" cy="60984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472000" y="1628640"/>
            <a:ext cx="3672000" cy="266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8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elección de Tecnologías Habilitant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441360" indent="-4413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uscar TI que posibilite los cambios de la fase anterio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rupwar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Workflow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atawarehou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etwork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Knowledge Bas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atamining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R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R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MR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853200" indent="-41004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QRM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delar y Evaluar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 formal con BPMN que de cuenta de los cambi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ecifique prácticas de trabajo, procedimientos, etc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Determine actividades a automatizar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tificar cost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tificar niveles de inversió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strastar con opinión de acto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mular definiendo escenarios (Uso de herramientas case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-45072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Evaluar económicamente (TIR,VAN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5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querimientos para TI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os de datos a partir de diccionario de fluj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toman los atributos de los flujos de mantención de estado y se generan entida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s reglas del negocio nos entregan relaciones entre entidad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Otro camino : Diseño de aplicaciones e-business mediante la selección de apoyo internet a ciertas actividades del proce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tinúe con metodologías de ingeniería de software (otros cursos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3" dur="indefinite" restart="never" nodeType="tmRoot">
          <p:childTnLst>
            <p:seq>
              <p:cTn id="584" dur="indefinite" nodeType="mainSeq">
                <p:childTnLst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fill="hold">
                      <p:stCondLst>
                        <p:cond delay="indefinite"/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Y la Implementación Organizacional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ben existir condiciones favorab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ultura organizacional: ¿facilitador o inhibidor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Gestión del cambi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Sistema de incentivos y recompensa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rucial el liderazgo de alta gerencia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finir un dueño del proces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ga alianzas internas con los actores del proceso </a:t>
            </a:r>
            <a:r>
              <a:rPr b="0" lang="es-ES_tradnl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200" spc="-1" strike="noStrike">
                <a:solidFill>
                  <a:srgbClr val="cc0000"/>
                </a:solidFill>
                <a:latin typeface="Verdana"/>
              </a:rPr>
              <a:t>PERMITA QUE LOS OTROS GANEN PARA PODER GANAR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ducar en proceso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ntrenar en habilidad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vocar cambio cultural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acto Organizazcional del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2133720"/>
            <a:ext cx="2362320" cy="947160"/>
          </a:xfrm>
          <a:prstGeom prst="rect">
            <a:avLst/>
          </a:prstGeom>
          <a:solidFill>
            <a:srgbClr val="ff99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ENFOQUE FUN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019920" y="2133720"/>
            <a:ext cx="2361960" cy="947160"/>
          </a:xfrm>
          <a:prstGeom prst="rect">
            <a:avLst/>
          </a:prstGeom>
          <a:solidFill>
            <a:srgbClr val="ffff00"/>
          </a:solidFill>
          <a:ln w="1260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ENFOQUE PROCES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51" idx="3"/>
            <a:endCxn id="252" idx="1"/>
          </p:cNvCxnSpPr>
          <p:nvPr/>
        </p:nvCxnSpPr>
        <p:spPr>
          <a:xfrm>
            <a:off x="3885840" y="2612520"/>
            <a:ext cx="2134440" cy="1080"/>
          </a:xfrm>
          <a:prstGeom prst="straightConnector1">
            <a:avLst/>
          </a:prstGeom>
          <a:ln w="10152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254" name=""/>
          <p:cNvSpPr/>
          <p:nvPr/>
        </p:nvSpPr>
        <p:spPr>
          <a:xfrm>
            <a:off x="3809880" y="4724280"/>
            <a:ext cx="2362320" cy="94716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Century Gothic"/>
              </a:rPr>
              <a:t>ESTRUCTURA HÍBRI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5" name=""/>
          <p:cNvCxnSpPr>
            <a:stCxn id="251" idx="2"/>
            <a:endCxn id="254" idx="1"/>
          </p:cNvCxnSpPr>
          <p:nvPr/>
        </p:nvCxnSpPr>
        <p:spPr>
          <a:xfrm flipH="1" rot="16200000">
            <a:off x="2200680" y="3595320"/>
            <a:ext cx="2112120" cy="1105560"/>
          </a:xfrm>
          <a:prstGeom prst="bentConnector2">
            <a:avLst/>
          </a:prstGeom>
          <a:ln w="10152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256" name=""/>
          <p:cNvCxnSpPr>
            <a:stCxn id="252" idx="2"/>
            <a:endCxn id="254" idx="3"/>
          </p:cNvCxnSpPr>
          <p:nvPr/>
        </p:nvCxnSpPr>
        <p:spPr>
          <a:xfrm rot="5400000">
            <a:off x="5630400" y="3633480"/>
            <a:ext cx="2112120" cy="1029600"/>
          </a:xfrm>
          <a:prstGeom prst="bentConnector2">
            <a:avLst/>
          </a:prstGeom>
          <a:ln w="10152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Verdana"/>
              </a:rPr>
              <a:t>Metodología para el Diseño o Rediseño de Procesos de Negoci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611280" y="2565000"/>
            <a:ext cx="820872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Modelos y Procesos de Negocios con TI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1905120"/>
            <a:ext cx="2514600" cy="1523520"/>
          </a:xfrm>
          <a:prstGeom prst="rect">
            <a:avLst/>
          </a:prstGeom>
          <a:solidFill>
            <a:srgbClr val="cc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DEFINIR EL PROYEC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Objetivo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Ámbito del proces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Establecer si hacer estudio de la situación actu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80880" y="4876920"/>
            <a:ext cx="3276720" cy="1229400"/>
          </a:xfrm>
          <a:prstGeom prst="rect">
            <a:avLst/>
          </a:prstGeom>
          <a:solidFill>
            <a:srgbClr val="ffcc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ENTENDER SITUACIÓN ACTU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situación actua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Validar y med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867280" y="1905120"/>
            <a:ext cx="2514600" cy="20610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REDISEÑ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irección de camb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Selección Tecnologías habilitant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Modelar y evaluar Rediseñ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Detallar y prob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867280" y="4572000"/>
            <a:ext cx="2514600" cy="1310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 u="sng">
                <a:solidFill>
                  <a:srgbClr val="000000"/>
                </a:solidFill>
                <a:uFillTx/>
                <a:latin typeface="Century Gothic"/>
              </a:rPr>
              <a:t>IMPLEMENTA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Construcción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Softw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entury Gothic"/>
              </a:rPr>
              <a:t>Implementar Proces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28800" y="3657600"/>
            <a:ext cx="0" cy="121932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00400" y="2666880"/>
            <a:ext cx="2666880" cy="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3657600" y="3962520"/>
            <a:ext cx="2209680" cy="91440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3962520"/>
            <a:ext cx="0" cy="609480"/>
          </a:xfrm>
          <a:prstGeom prst="line">
            <a:avLst/>
          </a:prstGeom>
          <a:ln w="7632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Entendimiento de la Situación Actual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"/>
          <p:cNvSpPr/>
          <p:nvPr/>
        </p:nvSpPr>
        <p:spPr>
          <a:xfrm>
            <a:off x="250920" y="3933720"/>
            <a:ext cx="3671640" cy="2664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64760" indent="-4647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grupo de rediseño debe comprender en todas sus dimensiones él o los procesos actuales seleccionados en el proyec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Modelar situación actu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pecialización de patrones d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-43164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menclatura BPM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Validar con actores del proce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-46476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cc0000"/>
                </a:solidFill>
                <a:latin typeface="Verdana"/>
              </a:rPr>
              <a:t>Med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8985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4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Entendimiento de la Situación Actual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07560" y="506160"/>
            <a:ext cx="74041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tuación Actu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amiento formal (representación precisa) que permit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Interactuar con otras person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Actores del proceso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Verdana"/>
              </a:rPr>
              <a:t>Miembros del equipo del proyecto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Hacer análisis sistemátic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Validar su concordancia con el actual estad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dición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azones para contar con métric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Nos permiten identificar la performance actual de los procesos claves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finen los parámetros de evaluación del rediseño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étricas asociadas al flujo del proces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étricas asociadas al estado del proceso (importante fuente de requerimientos tecnológicos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Algunas Métr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Verdana"/>
              </a:rPr>
              <a:t>Volumen: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Cantidad de nuevos client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Verdana"/>
              </a:rPr>
              <a:t>Tiempo: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Ciclo trabajo, lead tim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antidad de personas, organizaciones, lugar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Verdana"/>
              </a:rPr>
              <a:t>Eficiencia: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P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orcentaje de desecho, porcentaje de error, winrat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cc0000"/>
                </a:solidFill>
                <a:latin typeface="Verdana"/>
              </a:rPr>
              <a:t>Holguras:</a:t>
            </a:r>
            <a:r>
              <a:rPr b="0" i="1" lang="es-ES_tradnl" sz="2600" spc="-1" strike="noStrike">
                <a:solidFill>
                  <a:srgbClr val="cc0000"/>
                </a:solidFill>
                <a:latin typeface="Verdana"/>
              </a:rPr>
              <a:t> Disponibilidades de recursos no necesarios (cuellos de botella)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600" spc="-1" strike="noStrike">
                <a:solidFill>
                  <a:srgbClr val="000000"/>
                </a:solidFill>
                <a:latin typeface="Verdana"/>
              </a:rPr>
              <a:t>Costo: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2600" spc="-1" strike="noStrike">
                <a:solidFill>
                  <a:srgbClr val="000000"/>
                </a:solidFill>
                <a:latin typeface="Verdana"/>
              </a:rPr>
              <a:t>de defectos, reelaboración, de abordar proyectos no atingent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600" spc="-1" strike="noStrike">
                <a:solidFill>
                  <a:srgbClr val="000000"/>
                </a:solidFill>
                <a:latin typeface="Verdana"/>
              </a:rPr>
              <a:t>Productividad:</a:t>
            </a: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MX" sz="2600" spc="-1" strike="noStrike">
                <a:solidFill>
                  <a:srgbClr val="000000"/>
                </a:solidFill>
                <a:latin typeface="Verdana"/>
              </a:rPr>
              <a:t>Output/Input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755640" y="1673280"/>
          <a:ext cx="7561440" cy="4419720"/>
        </p:xfrm>
        <a:graphic>
          <a:graphicData uri="http://schemas.openxmlformats.org/presentationml/2006/ole">
            <p:oleObj progId="PowerPoint.Show.12" r:id="rId2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673280"/>
                    <a:ext cx="756144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Cómo Medir los Parámetro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4T01:42:41Z</dcterms:created>
  <dc:creator>DIPE</dc:creator>
  <dc:description/>
  <dc:language>en-US</dc:language>
  <cp:lastModifiedBy>Ángel Jiménez</cp:lastModifiedBy>
  <dcterms:modified xsi:type="dcterms:W3CDTF">2006-08-21T03:38:01Z</dcterms:modified>
  <cp:revision>242</cp:revision>
  <dc:subject/>
  <dc:title>Knowledge Management</dc:title>
</cp:coreProperties>
</file>