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66A4-9134-4E45-B6BA-159E18DC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ADDF4-2E89-44F1-BC16-883B886A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700FD-392E-48D8-9653-5AD4265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D18D0-9C07-42BC-8C29-FD7C76A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2A129-A290-429E-B701-A4789F1B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8BD1-AD71-464A-9342-F2AF11B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2E71B-3935-480A-90CF-C436DAB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8E42F-5AF0-4939-94EF-E94D1420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DD20C-C537-4E6D-9A25-F3DC1C6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8BEA8-1FC5-4B5F-B013-957676F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69169-C38C-457B-9888-FBFE8568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62BD8-EB86-4C1A-BC98-DED777E0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140-52E1-4B4C-B1CA-B3F0155E1D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iseño de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a Estructura General de Macroprocesos de la Empre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89000"/>
            <a:ext cx="8498880" cy="6360480"/>
            <a:chOff x="179280" y="189000"/>
            <a:chExt cx="8498880" cy="6360480"/>
          </a:xfrm>
        </p:grpSpPr>
        <p:sp>
          <p:nvSpPr>
            <p:cNvPr id="119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200" y="5214240"/>
              <a:ext cx="662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cesos de apoy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9920" y="5372280"/>
              <a:ext cx="48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Financieros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800" y="5525280"/>
              <a:ext cx="27036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RRH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6040" y="5628600"/>
              <a:ext cx="5662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Infraestructura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880" y="5734080"/>
              <a:ext cx="1562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etc.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7640" y="58921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659640" y="5229360"/>
            <a:ext cx="1297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Procesos de apoyo (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nancieros</a:t>
            </a: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, RRHH, Infra) (Macro 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amient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nder de las ingenierías tradicionales: obras civiles, maquinarias, procesos minero-metalúrgicos, manufactura, redes eléctrica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camos representaciones de los procesos de negocios, que entreguen una visión estática de los componentes de un diseño y sus interrel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mbién buscamos estrategias y herramientas de simulación para evaluar comportamiento y desempeño dinámic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Procesos y su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go después de especificar el modelo de negoci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Diseñe o rediseñ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s procesos para ejecutar de la mejor manera posible tal modelo de negoc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724280"/>
            <a:ext cx="5688360" cy="720720"/>
            <a:chOff x="1547640" y="4724280"/>
            <a:chExt cx="5688360" cy="720720"/>
          </a:xfrm>
        </p:grpSpPr>
        <p:sp>
          <p:nvSpPr>
            <p:cNvPr id="99" name=""/>
            <p:cNvSpPr/>
            <p:nvPr/>
          </p:nvSpPr>
          <p:spPr>
            <a:xfrm>
              <a:off x="154764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iseño o Redise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e 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3634920" y="5084280"/>
              <a:ext cx="15138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tomar las actividades de un proceso en su totalidad y someterlas a un cambio fundamen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cambio habitualmente implica el uso intensivo de 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experiencia muestra que el rediseño de procesos lleva a soluciones similares en procesos del mismo ti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xperiencia muestra que los mismos procesos se repiten en diferentes organizaciones de la más variada naturalez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anera en que esos procesos se realizan en las empresas líderes (mejores prácticas), es muy pareci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ón: En cualquier organización hay un número pequeño de tipos de procesos (entre 7 a 1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ha demostrado que en distintos dominios se tiene una arquitectura común para proces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os de crédito hipotecario en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tisfacción de pedidos en una empresa manufactur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ención de pacientes en un hospit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estructura común se denomi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atrón de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de los Patr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ternalizan las mejores prácticas desarrolladas en diferentes domin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lmacenan conocimiento normativo respecto a cómo debe realizarse la 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idea es aumentar ese stock de conocimiento mediant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distribución de ese conocimiento permite a las organizaciones mejorar sus procesos, sin tener que empezar de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Modelamiento a través de Patr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88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Un patrón de procesos de negocios es una estructura normativa y repetitiva que ocurre en diferentes empresas y contextos, los cuales comparten una estructura común y que puede ser especificada en detal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estructura es especificable en términos de actividades y relaciones, sino además en términos de las prácticas que deberían ejecutarse dentro de las actividades del proceso y los apoyos con Tecnologías de la Información necesarios para conseguir una optimización de és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 (Barro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on arquitecturas o estructuras generales de actividades y flujos de información que las ligan, las cuales se originan en conceptos normativos acerca de cómo debería ser un proceso ide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n sido fruto de la experiencia con muchos casos aplicados, de los cuales se sintetizan las mejores prácticas que han demostrado tener éxi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Estructura General de los Procesos de la Empre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xperiencia en rediseño de proces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avenport: IBM, XEROX, British Telecom, definieron entre 11 y 15 procesos cla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ersen Consult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acroprocesos: Conjunto de procesos que podemos ligar naturalmente y que, en algunas situaciones, ocurren en forma totalmente interrelacio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3-03T22:04:44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