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E65DF-0B8C-4F16-AC17-72C74775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B1A3A-13D7-41A1-8273-939A472B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FCF2D-ED12-4DCE-9F90-E148E70C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A75B3-02B4-44E0-BEB3-10C9C6C4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74218-5CDF-4D42-BF5B-07F82974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44454-A62A-49C5-B93B-A89D2EFA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60FEB-2150-48F7-94E7-A5D18F2E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4F214-0920-4780-B700-512FF8E2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83ADA-EF1E-4368-9762-A9C4104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76BD6-1C19-4FAC-8F08-DF7C0D4E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0C9AD-2BC9-4354-868F-546B0EBF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4BC5F-F75E-44C7-829F-69A17280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D4B0-FB2A-48E8-AC9B-18F269A715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iseño de Procesos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La Estructura General de Macroprocesos de la Empre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79280" y="189000"/>
            <a:ext cx="8498880" cy="6360480"/>
            <a:chOff x="179280" y="189000"/>
            <a:chExt cx="8498880" cy="6360480"/>
          </a:xfrm>
        </p:grpSpPr>
        <p:sp>
          <p:nvSpPr>
            <p:cNvPr id="119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200" y="5214240"/>
              <a:ext cx="6620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cesos de apoy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9920" y="5372280"/>
              <a:ext cx="48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Financieros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12800" y="5525280"/>
              <a:ext cx="27036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RRHH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26040" y="5628600"/>
              <a:ext cx="56628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Infraestructura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75880" y="5734080"/>
              <a:ext cx="1562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etc.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7640" y="58921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4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2440" y="189000"/>
              <a:ext cx="108360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5160" y="413280"/>
              <a:ext cx="46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lanifica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9720" y="552960"/>
              <a:ext cx="41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l nego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28240" y="84132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3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7720" y="561600"/>
              <a:ext cx="414720" cy="80280"/>
            </a:xfrm>
            <a:custGeom>
              <a:avLst/>
              <a:gdLst/>
              <a:ahLst/>
              <a:rect l="l" t="t" r="r" b="b"/>
              <a:pathLst>
                <a:path w="709" h="128">
                  <a:moveTo>
                    <a:pt x="638" y="75"/>
                  </a:move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lnTo>
                    <a:pt x="638" y="54"/>
                  </a:lnTo>
                  <a:cubicBezTo>
                    <a:pt x="644" y="54"/>
                    <a:pt x="649" y="59"/>
                    <a:pt x="649" y="64"/>
                  </a:cubicBezTo>
                  <a:cubicBezTo>
                    <a:pt x="649" y="70"/>
                    <a:pt x="644" y="75"/>
                    <a:pt x="638" y="75"/>
                  </a:cubicBezTo>
                  <a:close/>
                  <a:moveTo>
                    <a:pt x="581" y="0"/>
                  </a:moveTo>
                  <a:lnTo>
                    <a:pt x="709" y="64"/>
                  </a:lnTo>
                  <a:lnTo>
                    <a:pt x="581" y="128"/>
                  </a:lnTo>
                  <a:lnTo>
                    <a:pt x="58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4200" y="603360"/>
              <a:ext cx="2160" cy="20750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4200" y="2678400"/>
              <a:ext cx="35186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18720" y="2069280"/>
              <a:ext cx="2941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12840" y="2069280"/>
              <a:ext cx="2160" cy="6091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86040" y="603360"/>
              <a:ext cx="54698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17720" y="596520"/>
              <a:ext cx="74880" cy="4590000"/>
            </a:xfrm>
            <a:custGeom>
              <a:avLst/>
              <a:gdLst/>
              <a:ahLst/>
              <a:rect l="l" t="t" r="r" b="b"/>
              <a:pathLst>
                <a:path w="128" h="7362">
                  <a:moveTo>
                    <a:pt x="75" y="10"/>
                  </a:moveTo>
                  <a:lnTo>
                    <a:pt x="75" y="7291"/>
                  </a:lnTo>
                  <a:cubicBezTo>
                    <a:pt x="75" y="7297"/>
                    <a:pt x="70" y="7302"/>
                    <a:pt x="64" y="7302"/>
                  </a:cubicBezTo>
                  <a:cubicBezTo>
                    <a:pt x="58" y="7302"/>
                    <a:pt x="53" y="7297"/>
                    <a:pt x="53" y="7291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7234"/>
                  </a:moveTo>
                  <a:lnTo>
                    <a:pt x="64" y="7362"/>
                  </a:lnTo>
                  <a:lnTo>
                    <a:pt x="0" y="7234"/>
                  </a:lnTo>
                  <a:lnTo>
                    <a:pt x="128" y="7234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99400" y="5356080"/>
              <a:ext cx="878760" cy="79920"/>
            </a:xfrm>
            <a:custGeom>
              <a:avLst/>
              <a:gdLst/>
              <a:ahLst/>
              <a:rect l="l" t="t" r="r" b="b"/>
              <a:pathLst>
                <a:path w="1501" h="128">
                  <a:moveTo>
                    <a:pt x="11" y="54"/>
                  </a:moveTo>
                  <a:lnTo>
                    <a:pt x="1430" y="54"/>
                  </a:lnTo>
                  <a:cubicBezTo>
                    <a:pt x="1436" y="54"/>
                    <a:pt x="1441" y="59"/>
                    <a:pt x="1441" y="64"/>
                  </a:cubicBezTo>
                  <a:cubicBezTo>
                    <a:pt x="1441" y="70"/>
                    <a:pt x="1436" y="75"/>
                    <a:pt x="1430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1373" y="0"/>
                  </a:moveTo>
                  <a:lnTo>
                    <a:pt x="1501" y="64"/>
                  </a:lnTo>
                  <a:lnTo>
                    <a:pt x="1373" y="128"/>
                  </a:lnTo>
                  <a:lnTo>
                    <a:pt x="137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05880" y="5788800"/>
              <a:ext cx="32436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30240" y="5788800"/>
              <a:ext cx="1800" cy="5432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339920" y="6332040"/>
              <a:ext cx="678996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03560" y="1159560"/>
              <a:ext cx="74880" cy="5178960"/>
            </a:xfrm>
            <a:custGeom>
              <a:avLst/>
              <a:gdLst/>
              <a:ahLst/>
              <a:rect l="l" t="t" r="r" b="b"/>
              <a:pathLst>
                <a:path w="128" h="8304">
                  <a:moveTo>
                    <a:pt x="53" y="8293"/>
                  </a:moveTo>
                  <a:lnTo>
                    <a:pt x="53" y="71"/>
                  </a:lnTo>
                  <a:cubicBezTo>
                    <a:pt x="53" y="65"/>
                    <a:pt x="58" y="60"/>
                    <a:pt x="64" y="60"/>
                  </a:cubicBezTo>
                  <a:cubicBezTo>
                    <a:pt x="70" y="60"/>
                    <a:pt x="74" y="65"/>
                    <a:pt x="74" y="71"/>
                  </a:cubicBezTo>
                  <a:lnTo>
                    <a:pt x="74" y="8293"/>
                  </a:lnTo>
                  <a:cubicBezTo>
                    <a:pt x="74" y="8299"/>
                    <a:pt x="70" y="8304"/>
                    <a:pt x="64" y="8304"/>
                  </a:cubicBezTo>
                  <a:cubicBezTo>
                    <a:pt x="58" y="8304"/>
                    <a:pt x="53" y="8299"/>
                    <a:pt x="53" y="8293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94200" y="596520"/>
              <a:ext cx="73080" cy="744120"/>
            </a:xfrm>
            <a:custGeom>
              <a:avLst/>
              <a:gdLst/>
              <a:ahLst/>
              <a:rect l="l" t="t" r="r" b="b"/>
              <a:pathLst>
                <a:path w="128" h="1194">
                  <a:moveTo>
                    <a:pt x="75" y="10"/>
                  </a:moveTo>
                  <a:lnTo>
                    <a:pt x="75" y="1123"/>
                  </a:lnTo>
                  <a:cubicBezTo>
                    <a:pt x="75" y="1129"/>
                    <a:pt x="70" y="1134"/>
                    <a:pt x="64" y="1134"/>
                  </a:cubicBezTo>
                  <a:cubicBezTo>
                    <a:pt x="59" y="1134"/>
                    <a:pt x="54" y="1129"/>
                    <a:pt x="54" y="1123"/>
                  </a:cubicBezTo>
                  <a:lnTo>
                    <a:pt x="54" y="10"/>
                  </a:lnTo>
                  <a:cubicBezTo>
                    <a:pt x="54" y="5"/>
                    <a:pt x="59" y="0"/>
                    <a:pt x="64" y="0"/>
                  </a:cubicBezTo>
                  <a:cubicBezTo>
                    <a:pt x="70" y="0"/>
                    <a:pt x="75" y="5"/>
                    <a:pt x="75" y="10"/>
                  </a:cubicBezTo>
                  <a:close/>
                  <a:moveTo>
                    <a:pt x="128" y="1066"/>
                  </a:moveTo>
                  <a:lnTo>
                    <a:pt x="64" y="1194"/>
                  </a:lnTo>
                  <a:lnTo>
                    <a:pt x="0" y="1066"/>
                  </a:lnTo>
                  <a:lnTo>
                    <a:pt x="128" y="1066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18720" y="1803600"/>
              <a:ext cx="126144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4160" y="1796400"/>
              <a:ext cx="72360" cy="1598760"/>
            </a:xfrm>
            <a:custGeom>
              <a:avLst/>
              <a:gdLst/>
              <a:ahLst/>
              <a:rect l="l" t="t" r="r" b="b"/>
              <a:pathLst>
                <a:path w="128" h="2565">
                  <a:moveTo>
                    <a:pt x="74" y="11"/>
                  </a:moveTo>
                  <a:lnTo>
                    <a:pt x="74" y="2494"/>
                  </a:lnTo>
                  <a:cubicBezTo>
                    <a:pt x="74" y="2500"/>
                    <a:pt x="70" y="2505"/>
                    <a:pt x="64" y="2505"/>
                  </a:cubicBezTo>
                  <a:cubicBezTo>
                    <a:pt x="58" y="2505"/>
                    <a:pt x="53" y="2500"/>
                    <a:pt x="53" y="2494"/>
                  </a:cubicBezTo>
                  <a:lnTo>
                    <a:pt x="53" y="11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1"/>
                  </a:cubicBezTo>
                  <a:close/>
                  <a:moveTo>
                    <a:pt x="128" y="2437"/>
                  </a:moveTo>
                  <a:lnTo>
                    <a:pt x="64" y="2565"/>
                  </a:lnTo>
                  <a:lnTo>
                    <a:pt x="0" y="2437"/>
                  </a:lnTo>
                  <a:lnTo>
                    <a:pt x="128" y="243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65000" y="596520"/>
              <a:ext cx="74880" cy="2798640"/>
            </a:xfrm>
            <a:custGeom>
              <a:avLst/>
              <a:gdLst/>
              <a:ahLst/>
              <a:rect l="l" t="t" r="r" b="b"/>
              <a:pathLst>
                <a:path w="128" h="4490">
                  <a:moveTo>
                    <a:pt x="74" y="10"/>
                  </a:moveTo>
                  <a:lnTo>
                    <a:pt x="74" y="4419"/>
                  </a:lnTo>
                  <a:cubicBezTo>
                    <a:pt x="74" y="4425"/>
                    <a:pt x="70" y="4430"/>
                    <a:pt x="64" y="4430"/>
                  </a:cubicBezTo>
                  <a:cubicBezTo>
                    <a:pt x="58" y="4430"/>
                    <a:pt x="53" y="4425"/>
                    <a:pt x="53" y="4419"/>
                  </a:cubicBezTo>
                  <a:lnTo>
                    <a:pt x="53" y="10"/>
                  </a:lnTo>
                  <a:cubicBezTo>
                    <a:pt x="53" y="5"/>
                    <a:pt x="58" y="0"/>
                    <a:pt x="64" y="0"/>
                  </a:cubicBezTo>
                  <a:cubicBezTo>
                    <a:pt x="70" y="0"/>
                    <a:pt x="74" y="5"/>
                    <a:pt x="74" y="10"/>
                  </a:cubicBezTo>
                  <a:close/>
                  <a:moveTo>
                    <a:pt x="128" y="4362"/>
                  </a:moveTo>
                  <a:lnTo>
                    <a:pt x="64" y="4490"/>
                  </a:lnTo>
                  <a:lnTo>
                    <a:pt x="0" y="4362"/>
                  </a:lnTo>
                  <a:lnTo>
                    <a:pt x="128" y="4362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94400" y="1551240"/>
              <a:ext cx="2160" cy="392616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88280" y="5436000"/>
              <a:ext cx="236160" cy="80280"/>
            </a:xfrm>
            <a:custGeom>
              <a:avLst/>
              <a:gdLst/>
              <a:ahLst/>
              <a:rect l="l" t="t" r="r" b="b"/>
              <a:pathLst>
                <a:path w="406" h="128">
                  <a:moveTo>
                    <a:pt x="11" y="54"/>
                  </a:moveTo>
                  <a:lnTo>
                    <a:pt x="335" y="54"/>
                  </a:lnTo>
                  <a:cubicBezTo>
                    <a:pt x="341" y="54"/>
                    <a:pt x="345" y="59"/>
                    <a:pt x="345" y="64"/>
                  </a:cubicBezTo>
                  <a:cubicBezTo>
                    <a:pt x="345" y="70"/>
                    <a:pt x="341" y="75"/>
                    <a:pt x="335" y="75"/>
                  </a:cubicBezTo>
                  <a:lnTo>
                    <a:pt x="11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1" y="54"/>
                  </a:cubicBezTo>
                  <a:close/>
                  <a:moveTo>
                    <a:pt x="278" y="0"/>
                  </a:moveTo>
                  <a:lnTo>
                    <a:pt x="406" y="64"/>
                  </a:lnTo>
                  <a:lnTo>
                    <a:pt x="278" y="128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07000" y="3615480"/>
              <a:ext cx="2707920" cy="7776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4"/>
                    <a:pt x="4558" y="74"/>
                  </a:cubicBez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07000" y="4080240"/>
              <a:ext cx="2707920" cy="79920"/>
            </a:xfrm>
            <a:custGeom>
              <a:avLst/>
              <a:gdLst/>
              <a:ahLst/>
              <a:rect l="l" t="t" r="r" b="b"/>
              <a:pathLst>
                <a:path w="4629" h="128">
                  <a:moveTo>
                    <a:pt x="10" y="53"/>
                  </a:moveTo>
                  <a:lnTo>
                    <a:pt x="4558" y="53"/>
                  </a:lnTo>
                  <a:cubicBezTo>
                    <a:pt x="4564" y="53"/>
                    <a:pt x="4569" y="58"/>
                    <a:pt x="4569" y="64"/>
                  </a:cubicBezTo>
                  <a:cubicBezTo>
                    <a:pt x="4569" y="70"/>
                    <a:pt x="4564" y="75"/>
                    <a:pt x="4558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4501" y="0"/>
                  </a:moveTo>
                  <a:lnTo>
                    <a:pt x="4629" y="64"/>
                  </a:lnTo>
                  <a:lnTo>
                    <a:pt x="4501" y="128"/>
                  </a:lnTo>
                  <a:lnTo>
                    <a:pt x="4501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610960" y="3887640"/>
              <a:ext cx="8830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24440" y="5186880"/>
              <a:ext cx="1081080" cy="97056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0240" y="3395160"/>
              <a:ext cx="1081080" cy="97128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2680" y="3606120"/>
              <a:ext cx="3222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Gestión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17520" y="3745800"/>
              <a:ext cx="3985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34360" y="3885480"/>
              <a:ext cx="532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 provisión de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41920" y="4034520"/>
              <a:ext cx="523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bien o servici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55680" y="417420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1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37280" y="1345680"/>
              <a:ext cx="1081080" cy="968400"/>
            </a:xfrm>
            <a:prstGeom prst="rect">
              <a:avLst/>
            </a:prstGeom>
            <a:solidFill>
              <a:srgbClr val="ffffff"/>
            </a:solidFill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74160" y="1549080"/>
              <a:ext cx="5036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Desarrollo d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82360" y="1688760"/>
              <a:ext cx="64692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nuevos producto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040" y="1839960"/>
              <a:ext cx="45180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y/o servicio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60920" y="1979640"/>
              <a:ext cx="334440" cy="10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700" spc="-1" strike="noStrike">
                  <a:solidFill>
                    <a:srgbClr val="000000"/>
                  </a:solidFill>
                  <a:latin typeface="Times New Roman"/>
                </a:rPr>
                <a:t>(Macro2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97800" y="1764720"/>
              <a:ext cx="339480" cy="77760"/>
            </a:xfrm>
            <a:custGeom>
              <a:avLst/>
              <a:gdLst/>
              <a:ahLst/>
              <a:rect l="l" t="t" r="r" b="b"/>
              <a:pathLst>
                <a:path w="581" h="128">
                  <a:moveTo>
                    <a:pt x="510" y="74"/>
                  </a:moveTo>
                  <a:lnTo>
                    <a:pt x="10" y="74"/>
                  </a:lnTo>
                  <a:cubicBezTo>
                    <a:pt x="5" y="74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lnTo>
                    <a:pt x="510" y="53"/>
                  </a:lnTo>
                  <a:cubicBezTo>
                    <a:pt x="516" y="53"/>
                    <a:pt x="521" y="58"/>
                    <a:pt x="521" y="64"/>
                  </a:cubicBezTo>
                  <a:cubicBezTo>
                    <a:pt x="521" y="70"/>
                    <a:pt x="516" y="74"/>
                    <a:pt x="510" y="74"/>
                  </a:cubicBezTo>
                  <a:close/>
                  <a:moveTo>
                    <a:pt x="453" y="0"/>
                  </a:moveTo>
                  <a:lnTo>
                    <a:pt x="581" y="64"/>
                  </a:lnTo>
                  <a:lnTo>
                    <a:pt x="453" y="128"/>
                  </a:lnTo>
                  <a:lnTo>
                    <a:pt x="453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03920" y="1803600"/>
              <a:ext cx="2160" cy="2908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03920" y="4712400"/>
              <a:ext cx="3800520" cy="18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320" y="4267800"/>
              <a:ext cx="39312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04440" y="4267800"/>
              <a:ext cx="1800" cy="4446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9280" y="4080240"/>
              <a:ext cx="4350960" cy="7992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3"/>
                  </a:moveTo>
                  <a:lnTo>
                    <a:pt x="7363" y="53"/>
                  </a:lnTo>
                  <a:cubicBezTo>
                    <a:pt x="7369" y="53"/>
                    <a:pt x="7374" y="58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8"/>
                    <a:pt x="5" y="53"/>
                    <a:pt x="10" y="53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9280" y="3674520"/>
              <a:ext cx="4350960" cy="80280"/>
            </a:xfrm>
            <a:custGeom>
              <a:avLst/>
              <a:gdLst/>
              <a:ahLst/>
              <a:rect l="l" t="t" r="r" b="b"/>
              <a:pathLst>
                <a:path w="7434" h="128">
                  <a:moveTo>
                    <a:pt x="10" y="54"/>
                  </a:moveTo>
                  <a:lnTo>
                    <a:pt x="7363" y="54"/>
                  </a:lnTo>
                  <a:cubicBezTo>
                    <a:pt x="7369" y="54"/>
                    <a:pt x="7374" y="59"/>
                    <a:pt x="7374" y="64"/>
                  </a:cubicBezTo>
                  <a:cubicBezTo>
                    <a:pt x="7374" y="70"/>
                    <a:pt x="7369" y="75"/>
                    <a:pt x="736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7306" y="0"/>
                  </a:moveTo>
                  <a:lnTo>
                    <a:pt x="7434" y="64"/>
                  </a:lnTo>
                  <a:lnTo>
                    <a:pt x="7306" y="128"/>
                  </a:lnTo>
                  <a:lnTo>
                    <a:pt x="730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77800" y="4366440"/>
              <a:ext cx="75240" cy="1972080"/>
            </a:xfrm>
            <a:custGeom>
              <a:avLst/>
              <a:gdLst/>
              <a:ahLst/>
              <a:rect l="l" t="t" r="r" b="b"/>
              <a:pathLst>
                <a:path w="128" h="3160">
                  <a:moveTo>
                    <a:pt x="54" y="3149"/>
                  </a:moveTo>
                  <a:lnTo>
                    <a:pt x="54" y="71"/>
                  </a:lnTo>
                  <a:cubicBezTo>
                    <a:pt x="54" y="65"/>
                    <a:pt x="59" y="60"/>
                    <a:pt x="64" y="60"/>
                  </a:cubicBezTo>
                  <a:cubicBezTo>
                    <a:pt x="70" y="60"/>
                    <a:pt x="75" y="65"/>
                    <a:pt x="75" y="71"/>
                  </a:cubicBezTo>
                  <a:lnTo>
                    <a:pt x="75" y="3149"/>
                  </a:lnTo>
                  <a:cubicBezTo>
                    <a:pt x="75" y="3155"/>
                    <a:pt x="70" y="3160"/>
                    <a:pt x="64" y="3160"/>
                  </a:cubicBezTo>
                  <a:cubicBezTo>
                    <a:pt x="59" y="3160"/>
                    <a:pt x="54" y="3155"/>
                    <a:pt x="54" y="3149"/>
                  </a:cubicBezTo>
                  <a:close/>
                  <a:moveTo>
                    <a:pt x="0" y="128"/>
                  </a:moveTo>
                  <a:lnTo>
                    <a:pt x="64" y="0"/>
                  </a:lnTo>
                  <a:lnTo>
                    <a:pt x="128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9360" y="5759280"/>
              <a:ext cx="48996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sde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7200" y="5889600"/>
              <a:ext cx="337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e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9280" y="5664960"/>
              <a:ext cx="6545160" cy="80280"/>
            </a:xfrm>
            <a:custGeom>
              <a:avLst/>
              <a:gdLst/>
              <a:ahLst/>
              <a:rect l="l" t="t" r="r" b="b"/>
              <a:pathLst>
                <a:path w="11184" h="128">
                  <a:moveTo>
                    <a:pt x="10" y="54"/>
                  </a:moveTo>
                  <a:lnTo>
                    <a:pt x="11113" y="54"/>
                  </a:lnTo>
                  <a:cubicBezTo>
                    <a:pt x="11119" y="54"/>
                    <a:pt x="11123" y="59"/>
                    <a:pt x="11123" y="64"/>
                  </a:cubicBezTo>
                  <a:cubicBezTo>
                    <a:pt x="11123" y="70"/>
                    <a:pt x="11119" y="75"/>
                    <a:pt x="11113" y="75"/>
                  </a:cubicBezTo>
                  <a:lnTo>
                    <a:pt x="10" y="75"/>
                  </a:lnTo>
                  <a:cubicBezTo>
                    <a:pt x="5" y="75"/>
                    <a:pt x="0" y="70"/>
                    <a:pt x="0" y="64"/>
                  </a:cubicBezTo>
                  <a:cubicBezTo>
                    <a:pt x="0" y="59"/>
                    <a:pt x="5" y="54"/>
                    <a:pt x="10" y="54"/>
                  </a:cubicBezTo>
                  <a:close/>
                  <a:moveTo>
                    <a:pt x="11056" y="0"/>
                  </a:moveTo>
                  <a:lnTo>
                    <a:pt x="11184" y="64"/>
                  </a:lnTo>
                  <a:lnTo>
                    <a:pt x="11056" y="128"/>
                  </a:lnTo>
                  <a:lnTo>
                    <a:pt x="11056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3320" y="4233600"/>
              <a:ext cx="48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sumos y ot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320" y="4361760"/>
              <a:ext cx="384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de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4040" y="4492800"/>
              <a:ext cx="3726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veedor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5760" y="161784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6840" y="174852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96800" y="362880"/>
              <a:ext cx="19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la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57680" y="1599480"/>
              <a:ext cx="9000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uevos productos y servici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18720" y="1551240"/>
              <a:ext cx="2875680" cy="252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94760" y="1498680"/>
              <a:ext cx="3787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Necesidad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08960" y="4852080"/>
              <a:ext cx="2383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dea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09320" y="4980600"/>
              <a:ext cx="3085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4920" y="3294360"/>
              <a:ext cx="535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querimientos 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3840" y="3425400"/>
              <a:ext cx="39384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920" y="3555720"/>
              <a:ext cx="2628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75560" y="6457680"/>
              <a:ext cx="2779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8880" y="3375000"/>
              <a:ext cx="735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Información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11760" y="4233600"/>
              <a:ext cx="38340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Productos 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0320" y="4361760"/>
              <a:ext cx="62712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servici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2880" y="5529960"/>
              <a:ext cx="634680" cy="9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Times New Roman"/>
                </a:rPr>
                <a:t>Recursos al mercad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6659640" y="5229360"/>
            <a:ext cx="12970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Procesos de apoyo (</a:t>
            </a: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Financieros</a:t>
            </a:r>
            <a:r>
              <a:rPr b="1" lang="es-ES" sz="1100" spc="-1" strike="noStrike">
                <a:solidFill>
                  <a:srgbClr val="000000"/>
                </a:solidFill>
                <a:latin typeface="Verdana"/>
              </a:rPr>
              <a:t>, RRHH, Infra) (Macro 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amient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render de las ingenierías tradicionales: obras civiles, maquinarias, procesos minero-metalúrgicos, manufactura, redes eléctrica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scamos representaciones de los procesos de negocios, que entreguen una visión estática de los componentes de un diseño y sus interrela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mbién buscamos estrategias y herramientas de simulación para evaluar comportamiento y desempeño dinámico del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radecimi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Samuel Var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Óscar Barr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or Juan Velásquez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Procesos y su 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¿Qué hago después de especificar el modelo de negoci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Diseñe o rediseñ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us procesos para ejecutar de la mejor manera posible tal modelo de negoc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47640" y="4724280"/>
            <a:ext cx="5688360" cy="720720"/>
            <a:chOff x="1547640" y="4724280"/>
            <a:chExt cx="5688360" cy="720720"/>
          </a:xfrm>
        </p:grpSpPr>
        <p:sp>
          <p:nvSpPr>
            <p:cNvPr id="99" name=""/>
            <p:cNvSpPr/>
            <p:nvPr/>
          </p:nvSpPr>
          <p:spPr>
            <a:xfrm>
              <a:off x="154764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Nego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8360" y="4724280"/>
              <a:ext cx="2087640" cy="7207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iseño o Rediseñ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 </a:t>
              </a:r>
              <a:r>
                <a:rPr b="0" lang="es-ES_tradnl" sz="1600" spc="-1" strike="noStrike">
                  <a:solidFill>
                    <a:srgbClr val="fafd00"/>
                  </a:solidFill>
                  <a:latin typeface="Arial Black"/>
                </a:rPr>
                <a:t>de Proce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"/>
            <p:cNvCxnSpPr>
              <a:stCxn id="99" idx="3"/>
              <a:endCxn id="100" idx="1"/>
            </p:cNvCxnSpPr>
            <p:nvPr/>
          </p:nvCxnSpPr>
          <p:spPr>
            <a:xfrm>
              <a:off x="3634920" y="5084280"/>
              <a:ext cx="151380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ste en tomar las actividades de un proceso en su totalidad y someterlas a un cambio fundament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e cambio habitualmente implica el uso intensivo de T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experiencia muestra que el rediseño de procesos lleva a soluciones similares en procesos del mismo tip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experiencia muestra que los mismos procesos se repiten en diferentes organizaciones de la más variada naturalez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manera en que esos procesos se realizan en las empresas líderes (mejores prácticas), es muy pareci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lusión: En cualquier organización hay un número pequeño de tipos de procesos (entre 7 a 1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trones de Proces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ha demostrado que en distintos dominios se tiene una arquitectura común para proces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os de crédito hipotecario en un banc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tisfacción de pedidos en una empresa manufacturer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ención de pacientes en un hospit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 estructura común se denomin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atrón de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entajas de los Patr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nternalizan las mejores prácticas desarrolladas en diferentes domin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lmacenan conocimiento normativo respecto a cómo debe realizarse la gest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idea es aumentar ese stock de conocimiento mediante colabor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distribución de ese conocimiento permite a las organizaciones mejorar sus procesos, sin tener que empezar de c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Modelamiento a través de Patron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88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Un patrón de procesos de negocios es una estructura normativa y repetitiva que ocurre en diferentes empresas y contextos, los cuales comparten una estructura común y que puede ser especificada en detall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a estructura es especificable en términos de actividades y relaciones, sino además en términos de las prácticas que deberían ejecutarse dentro de las actividades del proceso y los apoyos con Tecnologías de la Información necesarios para conseguir una optimización de és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trones de Procesos (Barro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on arquitecturas o estructuras generales de actividades y flujos de información que las ligan, las cuales se originan en conceptos normativos acerca de cómo debería ser un proceso ide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n sido fruto de la experiencia con muchos casos aplicados, de los cuales se sintetizan las mejores prácticas que han demostrado tener éxit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Estructura General de los Procesos de la Empres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Experiencia en rediseño de proces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Davenport: IBM, XEROX, British Telecom, definieron entre 11 y 15 procesos cla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ersen Consultin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acroprocesos: Conjunto de procesos que podemos ligar naturalmente y que, en algunas situaciones, ocurren en forma totalmente interrelacion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Ángel Jiménez</cp:lastModifiedBy>
  <dcterms:modified xsi:type="dcterms:W3CDTF">2006-03-03T22:04:44Z</dcterms:modified>
  <cp:revision>48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