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78879-EBC4-4484-8D59-C1E34AF8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A9855-856C-4FDE-A873-2CA58832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DDF30-D769-40E9-8183-53B89827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C2670-C239-4411-B0C4-589A8A03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64829-6431-4646-B1C7-0F860326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0D271-FB17-4770-B757-97A9062D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DF419-7913-4706-ABCE-7E6B6A43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5F3CD-DD61-4DBD-A9D7-627864E2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3AA08-DC95-4EBD-9CB7-6291B394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DCAE1-6551-49E2-8141-60D04C78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E1865-0EBF-41F0-82E3-122C7431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3E0A4-B1EF-40DB-98E0-37F3B77C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1J, Diseño de Modelos y Procesos de Negocios con TI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D73B-D942-49C4-BDBB-1E3724DA791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Técnica de Modelamiento IDEF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010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Procesos de Gest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Técnicas de Model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Herramientas gráficas que permiten describir (diagramar y documentar): funciones, operaciones, toma de decisiones, etc., que se realizan en el proces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xiste un gran número de dichas herramientas, algunos s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Modelo de Análisis Estructurado (SADT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Modelo de Ciclos de Trabaj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Modelo de Regulació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ML Activity Diagra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ML EDOC Business Process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ebXML BPS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Activity-Decision Flow (ADF) Diagra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RosettaNe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LOVeM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Event-Process Chains (EPCs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cc0000"/>
                </a:solidFill>
                <a:latin typeface="Verdana"/>
              </a:rPr>
              <a:t>Modelo de Análisis de Actividades (IDEFx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cc0000"/>
                </a:solidFill>
                <a:latin typeface="Verdana"/>
              </a:rPr>
              <a:t>Modelo BPM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odelamiento Estát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cogemos representación gráfica basada en la identificación de las actividades y los flujos que las liga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cretamente adoptamos la técnica de modelamiento IDEF0, correspondiente al estándar FIPS Publication 183 del National Institute of Standard and Technology de EE.UU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odelo IDEF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procesos existen para producir salidas de valor agreg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xisten funciones inter relacionadas por entradas, controles y transformacion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DEF0, captura las actividades y sus relaciones, identifica las actividades importantes y aquellas para el rediseñ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DEF1/1X, captura como los datos e información son usados para apoyar el proceso de nego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DEF3, describe el proceso de negocio, y aquellos para su mejoramiento y simul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849636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étodos de Integración y DEFini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dquisición de conocimiento, análisis y herramientas de dis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enguaje que incluye aspectos gráficos (diagramas) y tex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cedimientos formales para construir modelos o descripciones de aspectos de una organ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é es el Método IDEF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¿Por qué Usar IDEF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familia de los métodos IDEF fue co-desarrollada por la industria y el gobierno (EE. UU.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u propósito es proveer una estructura comprensiva y flexible para describir, analizar y evaluar prácticas de negoc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No hay propiedad sobre el método y soportado por estándar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32464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1137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ara identificar, documentar y comunicar las actividades principales de un empres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1137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ómo las actividades se interrelacionan con otra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1137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ara identificar las actividades que aportan y no aportan valor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1137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ara identificar actividades que necesitan ser mejorad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¿Por qué Desarrollar un Modelo de Actividades en IDEF0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Una Caja de Actividades de IDEF0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68320" y="1752480"/>
            <a:ext cx="73976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002040" cy="41767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structura de Descomposi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40360" y="1752480"/>
            <a:ext cx="4427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de un nivel de contexto (ex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omposición nivel por nivel, manteniendo consist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so de herramientas CASE (BPWI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DIPE</cp:lastModifiedBy>
  <dcterms:modified xsi:type="dcterms:W3CDTF">2005-10-02T20:38:01Z</dcterms:modified>
  <cp:revision>48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