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0F6D6-D3F8-45B6-A42B-2241ED9E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D72E7-FEAF-409B-A902-62CB93E5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21298-632C-475A-8368-10798DEB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C5D3A-0F2B-4FDA-BD9F-F4BE1EE6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FC68C-C0C8-40F7-A804-81077D5E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89ED3-29B4-45AE-B7F6-5B532B2C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61D1D-60B8-488E-9C8B-F6CE8C5C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6E6C0-B808-4A0B-88F3-E942326C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C8D95-26C1-4FD1-ADB8-CF26B393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6F484-7F02-48B9-B607-8747E300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167D3-6E25-48D2-ADA4-7A6908F0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B221B-7FA0-4200-B4EF-FC60EB80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1941-2C3E-4E7C-AEE2-6A7E9355FD6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Técnica de Modelamiento IDEF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Técnicas de Model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Herramientas gráficas que permiten describir (diagramar y documentar): funciones, operaciones, toma de decisiones, etc., que se realizan en el proces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xiste un gran número de dichas herramientas, algunos s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Modelo de Análisis Estructurado (SAD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Modelo de Ciclos de Trabaj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Modelo de Regula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ML Activity Diagra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ML EDOC Business Process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bXML BPS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Activity-Decision Flow (ADF) Diagra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RosettaNe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OVeM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vent-Process Chains (EPC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cc0000"/>
                </a:solidFill>
                <a:latin typeface="Verdana"/>
              </a:rPr>
              <a:t>Modelo de Análisis de Actividades (IDEFx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cc0000"/>
                </a:solidFill>
                <a:latin typeface="Verdana"/>
              </a:rPr>
              <a:t>Modelo BPM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odelamiento Estát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cogemos representación gráfica basada en la identificación de las actividades y los flujos que las lig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cretamente adoptamos la técnica de modelamiento IDEF0, correspondiente al estándar FIPS Publication 183 del National Institute of Standard and Technology de EE.U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odelo IDEF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procesos existen para producir salidas de valor agreg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isten funciones inter relacionadas por entradas, controles y transformacion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F0, captura las actividades y sus relaciones, identifica las actividades importantes y aquellas para el rediseñ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F1/1X, captura como los datos e información son usados para apoyar el proceso de nego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F3, describe el proceso de negocio, y aquellos para su mejoramiento y simul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849636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étodos de Integración y DEFini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dquisición de conocimiento, análisis y herramientas de 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enguaje que incluye aspectos gráficos (diagramas) y tex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cedimientos formales para construir modelos o descripciones de aspectos de una organ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é es el Método IDEF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¿Por qué Usar IDEF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familia de los métodos IDEF fue co-desarrollada por la industria y el gobierno (EE. UU.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u propósito es proveer una estructura comprensiva y flexible para describir, analizar y evaluar prácticas de negoc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o hay propiedad sobre el método y soportado por estándar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3246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identificar, documentar y comunicar las actividades principales de un empres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ómo las actividades se interrelacionan con otra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identificar las actividades que aportan y no aportan valo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identificar actividades que necesitan ser mejorad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¿Por qué Desarrollar un Modelo de Actividades en IDEF0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Una Caja de Actividades de IDEF0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68320" y="1752480"/>
            <a:ext cx="739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002040" cy="4176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ructura de Descomposi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40360" y="1752480"/>
            <a:ext cx="4427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un nivel de contexto (ex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omposición nivel por nivel, manteniendo consist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so de herramientas CASE (BPWI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DIPE</cp:lastModifiedBy>
  <dcterms:modified xsi:type="dcterms:W3CDTF">2005-10-02T20:38:01Z</dcterms:modified>
  <cp:revision>48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