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343F3-8998-49C5-A30F-75C2F3BB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45283-0A54-4AF3-A11B-BA27FDFF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42F03-F146-4DE3-A8AC-8A1F9E16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16344-260E-4ACF-B062-7BA4AD0F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11C8D-8EBD-4764-850D-1C22FC65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76D70-9628-4D30-A6C2-8681E081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A40ED-EBEA-45C0-9D97-CF852A11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4AEE0-0133-4A3B-BD22-510554B8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9FC6B-A947-4B50-A8C9-FAE5AC09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1A42C-C64F-4856-99F0-F7DEEBB3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1EAB3-1140-42E4-9D62-8CB181B4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990A7-3182-4D16-B9E0-79CD50BD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CF92-F94C-49B3-A49F-F7DCFFDC954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Técnica de Modelamiento IDEF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Técnicas de Model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Herramientas gráficas que permiten describir (diagramar y documentar): funciones, operaciones, toma de decisiones, etc., que se realizan en el proces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xiste un gran número de dichas herramientas, algunos s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Análisis Estructurado (SAD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Ciclos de Trabaj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Regula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ML Activity Diagra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ML EDOC Business Process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bXML BP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Activity-Decision Flow (ADF) Diagra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RosettaN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OVeM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vent-Process Chains (EPC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cc0000"/>
                </a:solidFill>
                <a:latin typeface="Verdana"/>
              </a:rPr>
              <a:t>Modelo de Análisis de Actividades (IDEFx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cc0000"/>
                </a:solidFill>
                <a:latin typeface="Verdana"/>
              </a:rPr>
              <a:t>Modelo BPM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amiento Está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cogemos representación gráfica basada en la identificación de las actividades y los flujos que las lig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cretamente adoptamos la técnica de modelamiento IDEF0, correspondiente al estándar FIPS Publication 183 del National Institute of Standard and Technology de EE.U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o IDEF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procesos existen para producir salidas de valor agreg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isten funciones inter relacionadas por entradas, controles y transformacion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0, captura las actividades y sus relaciones, identifica las actividades importantes y aquellas para el rediseñ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1/1X, captura como los datos e información son usados para apoyar el proceso de nego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3, describe el proceso de negocio, y aquellos para su mejoramiento y simul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étodos de Integración y DEFini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dquisición de conocimiento, análisis y herramientas de 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enguaje que incluye aspectos gráficos (diagramas) y tex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cedimientos formales para construir modelos o descripciones de aspectos de una organ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é es el Método IDEF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¿Por qué Usar IDEF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familia de los métodos IDEF fue co-desarrollada por la industria y el gobierno (EE. UU.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u propósito es proveer una estructura comprensiva y flexible para describir, analizar y evaluar prácticas de negoc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o hay propiedad sobre el método y soportado por estándar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3246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, documentar y comunicar las actividades principales de un empre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ómo las actividades se interrelacionan con otra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 las actividades que aportan y no aportan valo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 actividades que necesitan ser mejorad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¿Por qué Desarrollar un Modelo de Actividades en IDEF0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Una Caja de Actividades de IDEF0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68320" y="1752480"/>
            <a:ext cx="739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002040" cy="4176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ructura de Descompos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40360" y="1752480"/>
            <a:ext cx="4427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un nivel de contexto (ex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omposición nivel por nivel, manteniendo consist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so de herramientas CASE (BPW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10-02T20:38:01Z</dcterms:modified>
  <cp:revision>48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