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A3CA3E-D05F-4E4F-93A7-0C96AC14D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0ED5EB-586F-470E-BCAB-35B94E25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BDBD71-A6BF-4130-B8D2-02C96E485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F61D1-FB9D-4DBE-8520-413C015A2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C81BC54-E26A-4B70-B8C2-B3E9E7F1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72DD75-E931-40BF-8205-34AF64D2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9A034F-3291-46AC-AE12-5518650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D7C656-DA69-47BD-B378-B33CA8B61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B9DB7F2-395C-472D-BD82-02EC3B7A5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792AE3-E043-465A-B04C-4E1481876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381AB4-E742-467C-8040-F4288FFA0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6708B8A-8D48-42BC-B713-0C79A6AF24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539640" y="6244920"/>
            <a:ext cx="8064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71J, Diseño de Modelos y Procesos de Negocios con TI                                     Primavera 200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" name=""/>
          <p:cNvGraphicFramePr/>
          <p:nvPr/>
        </p:nvGraphicFramePr>
        <p:xfrm>
          <a:off x="7596360" y="18900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596360" y="18900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68647-ED37-4A21-9B24-A49BFCA01761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1805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3780000" y="5589720"/>
          <a:ext cx="1368360" cy="361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5589720"/>
                    <a:ext cx="1368360" cy="36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Técnica de Modelamiento IDEF0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684000" y="2707920"/>
            <a:ext cx="701028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ofesor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Ángel Jiménez Molin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gíster en Ingeniería de Negocios con TI (MBE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71J – Diseño de Procesos de Gest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Técnicas de Modelamient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Herramientas gráficas que permiten describir (diagramar y documentar): funciones, operaciones, toma de decisiones, etc., que se realizan en el proceso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xiste un gran número de dichas herramientas, algunos son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Análisis Estructurado (SADT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Ciclos de Trabajo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Modelo de Regulación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Activity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UML EDOC Business Processes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bXML BPSS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Activity-Decision Flow (ADF) Diagram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RosettaNet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LOVeM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000000"/>
                </a:solidFill>
                <a:latin typeface="Verdana"/>
              </a:rPr>
              <a:t>Event-Process Chains (EPCs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700" spc="-1" strike="noStrike">
                <a:solidFill>
                  <a:srgbClr val="cc0000"/>
                </a:solidFill>
                <a:latin typeface="Verdana"/>
              </a:rPr>
              <a:t>Modelo de Análisis de Actividades (IDEFx)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25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cc0000"/>
                </a:solidFill>
                <a:latin typeface="Verdana"/>
              </a:rPr>
              <a:t>Modelo BPMN.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amiento Estátic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Escogemos representación gráfica basada en la identificación de las actividades y los flujos que las ligan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Concretamente adoptamos la técnica de modelamiento IDEF0, correspondiente al estándar FIPS Publication 183 del National Institute of Standard and Technology de EE.U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800" spc="-1" strike="noStrike">
                <a:solidFill>
                  <a:srgbClr val="000000"/>
                </a:solidFill>
                <a:latin typeface="Verdana"/>
              </a:rPr>
              <a:t>Modelo IDEFx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os procesos existen para producir salidas de valor agregad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xisten funciones inter relacionadas por entradas, controles y transformacion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0, captura las actividades y sus relaciones, identifica las actividades importantes y aquellas para el rediseñ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1/1X, captura como los datos e información son usados para apoyar el proceso de negoc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IDEF3, describe el proceso de negocio, y aquellos para su mejoramiento y simul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699920"/>
            <a:ext cx="8496360" cy="4608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étodos de Integración y DEFini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dquisición de conocimiento, análisis y herramientas de 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enguaje que incluye aspectos gráficos (diagramas) y text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rocedimientos formales para construir modelos o descripciones de aspectos de una organización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Qué es el Método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¿Por qué Usar IDEF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95280" y="1988640"/>
            <a:ext cx="8353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La familia de los métodos IDEF fue co-desarrollada por la industria y el gobierno (EE. UU.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Su propósito es proveer una estructura comprensiva y flexible para describir, analizar y evaluar prácticas de negoci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251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No hay propiedad sobre el método y soportado por estándares intern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68360" y="1699920"/>
            <a:ext cx="83246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, documentar y comunicar las actividades principales de un empresa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ómo las actividades se interrelacionan con otra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las actividades que aportan y no aportan valor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99960" indent="-399960">
              <a:spcBef>
                <a:spcPts val="1137"/>
              </a:spcBef>
              <a:buClr>
                <a:srgbClr val="cc0000"/>
              </a:buClr>
              <a:buSzPct val="9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Para identificar actividades que necesitan ser mejorad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¿Por qué Desarrollar un Modelo de Actividades en IDEF0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7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1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Una Caja de Actividades de IDEF0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868320" y="1752480"/>
            <a:ext cx="739764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755640" y="1773360"/>
            <a:ext cx="3002040" cy="417672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structura de Descomposi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140360" y="1752480"/>
            <a:ext cx="44272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de un nivel de contexto (externo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escomposición nivel por nivel, manteniendo consistenci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Uso de herramientas CASE (BPWI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1T19:10:11Z</dcterms:created>
  <dc:creator>Samuel</dc:creator>
  <dc:description/>
  <dc:language>en-US</dc:language>
  <cp:lastModifiedBy>DIPE</cp:lastModifiedBy>
  <dcterms:modified xsi:type="dcterms:W3CDTF">2005-10-02T20:38:01Z</dcterms:modified>
  <cp:revision>48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91608271</vt:r8>
  </property>
  <property fmtid="{D5CDD505-2E9C-101B-9397-08002B2CF9AE}" pid="3" name="_AuthorEmail">
    <vt:lpwstr>samuel.varas@uai.cl</vt:lpwstr>
  </property>
  <property fmtid="{D5CDD505-2E9C-101B-9397-08002B2CF9AE}" pid="4" name="_AuthorEmailDisplayName">
    <vt:lpwstr>Samuel Varas</vt:lpwstr>
  </property>
  <property fmtid="{D5CDD505-2E9C-101B-9397-08002B2CF9AE}" pid="5" name="_EmailSubject">
    <vt:lpwstr>Clase 3</vt:lpwstr>
  </property>
  <property fmtid="{D5CDD505-2E9C-101B-9397-08002B2CF9AE}" pid="6" name="_ReviewingToolsShownOnce">
    <vt:lpwstr/>
  </property>
</Properties>
</file>