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01EFA-44D2-4067-B3F6-3E6F9D2A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604A3-F483-4071-B768-2E7ABCC5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22A84-DA4F-45A2-94AB-8AE9F23C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BEAB3-7EEB-4E3A-8D70-6160C034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A1707-11E1-4A75-8472-77AE5040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99A92-6EE7-4AC4-936A-F3BEC1EE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B2604-5811-40CA-8675-EF09F03F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53C1E-9059-4C43-99C4-B852A471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0ED8A-D109-4647-85C8-CB99FFD7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ADBCB-6039-4A47-A1D3-98167E4D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A9960-8471-4B2F-B5D1-0235C764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D206D-B234-47FC-9284-E4565B2D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D177-376A-47C3-8CA9-251FBEEA70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barros.cl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Descripción de los Patr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0920" y="256500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proceso sigue con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con el proveedor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cual se preocupa de interactuar con proveedores para conseguir los factores constitutivos del producto o servicio, basándose en los requerimientos proyectados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 continuación,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Gestión producción y entrega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a partir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Requerimientos product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servici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(actuales y proyectados), genera un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lan e instruccione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(producción y entrega) que le indica a la función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roducción y entrega bien o servicio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qué, cómo y cuándo producir y entreg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simismo, entrega 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con proveedore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necesidades de insumos y otros factores necesarios para llevar los planes de producción a la práct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sta función informa también los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Cambios de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y se apoya en todo momento de la información qu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Mantención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genera respecto a la situación de los requerimientos, la producción y la entrega.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roducción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y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ntrega bien o servici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satisface las necesidades de los clientes, generando los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Productos y servicios al mercado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 partir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Insumos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y otros recursos proveedore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umpliendo con las instrucciones provenientes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Gestión Producción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ntrega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 y  respetando indicaciones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Nuevos productos y servi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Se apoya en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Verdana"/>
              </a:rPr>
              <a:t>Información de estado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–requerimientos, planes de producción, etc.– para desarrollar su lab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Informa de cualquier cambio de estado en la producción y entrega a </a:t>
            </a:r>
            <a:r>
              <a:rPr b="0" i="1" lang="es-CL" sz="2800" spc="-1" strike="noStrike" u="sng">
                <a:solidFill>
                  <a:srgbClr val="000000"/>
                </a:solidFill>
                <a:uFillTx/>
                <a:latin typeface="Verdana"/>
              </a:rPr>
              <a:t>Mantención est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r último, 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Mantención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registra la situación de todas las entidades que intervienen en el proces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querimientos de es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laciones con es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es de producción y entre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productivo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También recibe información de otros procesos –por ejemplo, situación de cuenta corriente de un cliente, del proceso de manejo financiero– y entrega información a ellos –por ejemplo, información para facturar un requerimiento ya satisfecho.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TALLE DE ADMINISTRACIÓN DE LA RELACIÓN CON EL 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TALLE DE ADMINISTRACIÓN DE LA RELACIÓN CON LOS PROVEE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6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El Patrón que presentaremos se basa en varias decenas de casos nacionales y algunos internacionales documentados en la literatura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Su aplicabilidad ha sido validada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Rediseño de Procesos de Negocios Mediante el Uso de Patr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obarros.c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Verdana"/>
              </a:rPr>
              <a:t>Ingeniería e-Business: Ingeniería de Negocios para la Economía Digital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TALLE DE GESTIÓN PRODUCCIÓN Y ENTREG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mar cada uno de los componentes del Macro y particularizarlo (especializació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especializar, simplificamo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iminando actividades y fluj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ringiendo la complejidad de las actividad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iminando atributos de los fluj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orporando atributos específicos de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omponiendo las actividades de acuerdo a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agregando en elementos más fin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Es recomendable especializar no directamente del MACRO, sino a partir de sub-dominios intermedi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Tomar el subdominio más cercanos al problema y a partir de ahí generar el rediseñ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ominios y Sub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712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mplo subdominio : Crédit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ay que “producir” un crédi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Nivel 0 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 actividad adm. relación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tall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cambios de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greg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antecedentes créditos aprob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nsumos y otros recursos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deas cambio productos y procesos pro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mar cada uno de los componentes del Macro y particularizarl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 especializar, simplificamos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ndo actividades y fluj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tringiendo la complejidad de las actividad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ndo atributos de los fluj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orporando atributos específicos del negoc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omponiendo las actividades de acuerdo al negoc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agregando en elementos más fin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pecialización a 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s recomendable especializar no directamente del MACRO, sino a partir de sub-dominios intermed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omar el subdominio más cercanos al problema y a partir de ahí generar el rediseñ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cargado de obtener y proveer los bienes / servicios a los clientes, dejando registro de ell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particular, las funciones existentes en él son las siguient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Administración relación con el client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Administración relación con proveedores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Gestión producción y entrega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Producción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provisión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bien o servic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Verdana"/>
              </a:rPr>
              <a:t>Mantención Est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ominios y subdomin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712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mplo subdominio : Crédit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ay que “producir” un crédi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Nivel 0 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 actividad adm. relación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etall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cambios de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Agreg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antecedentes créditos aprob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nsumos y otros recursos provee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iminamos flujo </a:t>
            </a: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Ideas cambio productos y procesos pro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 (Adelanto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682640" y="1752480"/>
            <a:ext cx="5769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71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(Adelanto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3520" y="1905120"/>
            <a:ext cx="8001000" cy="4200840"/>
            <a:chOff x="533520" y="1905120"/>
            <a:chExt cx="8001000" cy="4200840"/>
          </a:xfrm>
        </p:grpSpPr>
        <p:sp>
          <p:nvSpPr>
            <p:cNvPr id="156" name=""/>
            <p:cNvSpPr/>
            <p:nvPr/>
          </p:nvSpPr>
          <p:spPr>
            <a:xfrm>
              <a:off x="838440" y="1905120"/>
              <a:ext cx="2514600" cy="152352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DEFINIR EL PROYE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Objetivos del proyec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Ámbito del pro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Establecer si hacer estudio de la situación actu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520" y="4876560"/>
              <a:ext cx="3276720" cy="1229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ENTENDER SITUACIÓN ACT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Modelar situación act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Validar y med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9920" y="1905120"/>
              <a:ext cx="2514600" cy="2061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REDISEÑ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cc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c0000"/>
                  </a:solidFill>
                  <a:latin typeface="Century Gothic"/>
                </a:rPr>
                <a:t>Dirección de camb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Selección Tecnologías habilita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Modelar y evaluar Re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Detallar y pro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9920" y="4571640"/>
              <a:ext cx="2514600" cy="1310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Century Gothic"/>
                </a:rPr>
                <a:t>IMPLEMENT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Construcción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Implementar Softw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entury Gothic"/>
                </a:rPr>
                <a:t>Implementar 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81440" y="3657240"/>
              <a:ext cx="0" cy="1218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3040" y="2666880"/>
              <a:ext cx="26668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810240" y="3961800"/>
              <a:ext cx="2209680" cy="9140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62920" y="3962160"/>
              <a:ext cx="0" cy="6091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 (Iterando nuevamente..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casos son de distinto tip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anufac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rvicios privados y públ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ACRO 1 representa la cadena de valor de una empresa que produce un bien o servicio cualquie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una colección de procesos interrelacion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IMER NIVEL JERÁRQU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do comienza con el flujo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Verdana"/>
              </a:rPr>
              <a:t>Requerimiento e Información Mercad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que gatilla varias respuest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601"/>
              </a:spcBef>
              <a:buClr>
                <a:srgbClr val="cc0000"/>
              </a:buClr>
              <a:buSzPct val="6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i es un requerimiento específico, se traspasa tanto 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Gestión producción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 y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entrega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para establecer cómo se va a satisfacer, como 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proveedore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el caso de que haya que adquirir algún elemento necesario para la satisfac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i es una petición de información de un cliente, se genera l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Información al merc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la cual puede incluir también  información espontánea a los clientes acerca de la oferta de la empre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cualquier caso, todas las acciones realizadas en relación con un cliente quedan registradas en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Mantención 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por  medio  del  flujo 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Cambios  de  estado.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Primer nivel jerárqu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ara  generar  todas  las  respuestas anteriores,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ción relación con el cliente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cuenta con el recurs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Verdana"/>
              </a:rPr>
              <a:t>Información estad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 que le permite saber en todo momento la situación de carga de la actividad de producción, para determinar la posibilidad y fecha de satisfacción de un requerimiento, y el estado de procesamiento de un requerimien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Ángel Jiménez</cp:lastModifiedBy>
  <dcterms:modified xsi:type="dcterms:W3CDTF">2006-08-21T07:19:21Z</dcterms:modified>
  <cp:revision>48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