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media/image8.wmf" ContentType="image/x-wmf"/>
  <Override PartName="/ppt/embeddings/oleObject1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2B536A-E818-49A5-8D0A-F528CFB0A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FA8350-02A9-4688-85AC-2F37EEC3C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9A9661-9C38-4D79-A249-EC9218B72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AACDE1-AA3C-44EF-B9B0-1084D2142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C117CB-9F0C-4E24-9883-96B271C07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64B965-C80B-4CF7-93DA-BCD422120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3FDF6D-F7B6-47B7-8596-5C856C1F5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9D0F84-D76A-48D9-B6AB-1C64416BC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EC0061-AC30-46C8-9EF4-2FFCE117A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EF1001-C26B-487D-A0EB-A36A30FB1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496B49-8EFE-4BE4-A266-FE50CBC80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27FFF6-D8A9-45D8-9AB1-1C07A0C83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539640" y="6244920"/>
            <a:ext cx="806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71J, Diseño de Modelos y Procesos de Negocios con TI                                     Primavera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80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" name=""/>
          <p:cNvGraphicFramePr/>
          <p:nvPr/>
        </p:nvGraphicFramePr>
        <p:xfrm>
          <a:off x="7596360" y="189000"/>
          <a:ext cx="1368360" cy="36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96360" y="189000"/>
                    <a:ext cx="1368360" cy="36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D6D65-5DA9-4FA7-82DA-A0ACFA5BF7E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180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3780000" y="5589720"/>
          <a:ext cx="1368360" cy="36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80000" y="5589720"/>
                    <a:ext cx="1368360" cy="36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obarros.cl/" TargetMode="External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Verdana"/>
              </a:rPr>
              <a:t>Descripción de los Patrone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610920" y="2565000"/>
            <a:ext cx="7010280" cy="28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rofesor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Ángel Jiménez Molin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Universidad de Chi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gíster en Ingeniería de Negocios con TI (MB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71J – Diseño de Procesos de Gestió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MACRO 1: Primer nivel jerárquic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El proceso sigue con</a:t>
            </a:r>
            <a:r>
              <a:rPr b="0" i="1" lang="es-CL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s-CL" sz="2400" spc="-1" strike="noStrike" u="sng">
                <a:solidFill>
                  <a:srgbClr val="000000"/>
                </a:solidFill>
                <a:uFillTx/>
                <a:latin typeface="Verdana"/>
              </a:rPr>
              <a:t>Administración relación con el proveedor</a:t>
            </a:r>
            <a:r>
              <a:rPr b="0" i="1" lang="es-CL" sz="2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el cual se preocupa de interactuar con proveedores para conseguir los factores constitutivos del producto o servicio, basándose en los requerimientos proyectados.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MACRO 1: Primer..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A continuación, </a:t>
            </a:r>
            <a:r>
              <a:rPr b="0" i="1" lang="es-CL" sz="2400" spc="-1" strike="noStrike" u="sng">
                <a:solidFill>
                  <a:srgbClr val="000000"/>
                </a:solidFill>
                <a:uFillTx/>
                <a:latin typeface="Verdana"/>
              </a:rPr>
              <a:t>Gestión producción y entrega</a:t>
            </a:r>
            <a:r>
              <a:rPr b="0" lang="es-CL" sz="2400" spc="-1" strike="noStrike" u="sng">
                <a:solidFill>
                  <a:srgbClr val="000000"/>
                </a:solidFill>
                <a:uFillTx/>
                <a:latin typeface="Verdana"/>
              </a:rPr>
              <a:t>,</a:t>
            </a: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 a partir de </a:t>
            </a:r>
            <a:r>
              <a:rPr b="0" i="1" lang="es-CL" sz="2400" spc="-1" strike="noStrike" u="sng">
                <a:solidFill>
                  <a:srgbClr val="000000"/>
                </a:solidFill>
                <a:uFillTx/>
                <a:latin typeface="Verdana"/>
              </a:rPr>
              <a:t>Requerimientos productos</a:t>
            </a: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s-CL" sz="2400" spc="-1" strike="noStrike">
                <a:solidFill>
                  <a:srgbClr val="000000"/>
                </a:solidFill>
                <a:latin typeface="Verdana"/>
              </a:rPr>
              <a:t>o</a:t>
            </a: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s-CL" sz="2400" spc="-1" strike="noStrike">
                <a:solidFill>
                  <a:srgbClr val="000000"/>
                </a:solidFill>
                <a:latin typeface="Verdana"/>
              </a:rPr>
              <a:t>servicios</a:t>
            </a: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 (actuales y proyectados), genera un </a:t>
            </a:r>
            <a:r>
              <a:rPr b="0" i="1" lang="es-CL" sz="2400" spc="-1" strike="noStrike" u="sng">
                <a:solidFill>
                  <a:srgbClr val="000000"/>
                </a:solidFill>
                <a:uFillTx/>
                <a:latin typeface="Verdana"/>
              </a:rPr>
              <a:t>Plan e instrucciones</a:t>
            </a:r>
            <a:r>
              <a:rPr b="0" i="1" lang="es-CL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(producción y entrega) que le indica a la función </a:t>
            </a:r>
            <a:r>
              <a:rPr b="0" i="1" lang="es-CL" sz="2400" spc="-1" strike="noStrike" u="sng">
                <a:solidFill>
                  <a:srgbClr val="000000"/>
                </a:solidFill>
                <a:uFillTx/>
                <a:latin typeface="Verdana"/>
              </a:rPr>
              <a:t>Producción y entrega bien o servicio</a:t>
            </a:r>
            <a:r>
              <a:rPr b="0" i="1" lang="es-CL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qué, cómo y cuándo producir y entregar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MACRO 1: Primer..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Asimismo, entrega a </a:t>
            </a:r>
            <a:r>
              <a:rPr b="0" i="1" lang="es-CL" sz="2400" spc="-1" strike="noStrike" u="sng">
                <a:solidFill>
                  <a:srgbClr val="000000"/>
                </a:solidFill>
                <a:uFillTx/>
                <a:latin typeface="Verdana"/>
              </a:rPr>
              <a:t>Administración relación con proveedores</a:t>
            </a: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 necesidades de insumos y otros factores necesarios para llevar los planes de producción a la práctic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Esta función informa también los </a:t>
            </a:r>
            <a:r>
              <a:rPr b="0" i="1" lang="es-CL" sz="2400" spc="-1" strike="noStrike" u="sng">
                <a:solidFill>
                  <a:srgbClr val="000000"/>
                </a:solidFill>
                <a:uFillTx/>
                <a:latin typeface="Verdana"/>
              </a:rPr>
              <a:t>Cambios de estado</a:t>
            </a: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 y se apoya en todo momento de la información que </a:t>
            </a:r>
            <a:r>
              <a:rPr b="0" i="1" lang="es-CL" sz="2400" spc="-1" strike="noStrike" u="sng">
                <a:solidFill>
                  <a:srgbClr val="000000"/>
                </a:solidFill>
                <a:uFillTx/>
                <a:latin typeface="Verdana"/>
              </a:rPr>
              <a:t>Mantención estado</a:t>
            </a: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 genera respecto a la situación de los requerimientos, la producción y la entrega.</a:t>
            </a:r>
            <a:r>
              <a:rPr b="0" lang="es-CL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MACRO 1: Primer..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 u="sng">
                <a:solidFill>
                  <a:srgbClr val="000000"/>
                </a:solidFill>
                <a:uFillTx/>
                <a:latin typeface="Verdana"/>
              </a:rPr>
              <a:t>Producción</a:t>
            </a:r>
            <a:r>
              <a:rPr b="0" lang="es-CL" sz="2400" spc="-1" strike="noStrike" u="sng">
                <a:solidFill>
                  <a:srgbClr val="000000"/>
                </a:solidFill>
                <a:uFillTx/>
                <a:latin typeface="Verdana"/>
              </a:rPr>
              <a:t> y </a:t>
            </a:r>
            <a:r>
              <a:rPr b="0" i="1" lang="es-CL" sz="2400" spc="-1" strike="noStrike" u="sng">
                <a:solidFill>
                  <a:srgbClr val="000000"/>
                </a:solidFill>
                <a:uFillTx/>
                <a:latin typeface="Verdana"/>
              </a:rPr>
              <a:t>entrega bien o servicio</a:t>
            </a: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 satisface las necesidades de los clientes, generando los </a:t>
            </a:r>
            <a:r>
              <a:rPr b="0" i="1" lang="es-CL" sz="2400" spc="-1" strike="noStrike" u="sng">
                <a:solidFill>
                  <a:srgbClr val="000000"/>
                </a:solidFill>
                <a:uFillTx/>
                <a:latin typeface="Verdana"/>
              </a:rPr>
              <a:t>Productos y servicios al mercado</a:t>
            </a:r>
            <a:r>
              <a:rPr b="0" lang="es-CL" sz="2400" spc="-1" strike="noStrike" u="sng">
                <a:solidFill>
                  <a:srgbClr val="000000"/>
                </a:solidFill>
                <a:uFillTx/>
                <a:latin typeface="Verdana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a partir de </a:t>
            </a:r>
            <a:r>
              <a:rPr b="0" i="1" lang="es-CL" sz="2400" spc="-1" strike="noStrike" u="sng">
                <a:solidFill>
                  <a:srgbClr val="000000"/>
                </a:solidFill>
                <a:uFillTx/>
                <a:latin typeface="Verdana"/>
              </a:rPr>
              <a:t>Insumos</a:t>
            </a:r>
            <a:r>
              <a:rPr b="0" lang="es-CL" sz="2400" spc="-1" strike="noStrike" u="sng">
                <a:solidFill>
                  <a:srgbClr val="000000"/>
                </a:solidFill>
                <a:uFillTx/>
                <a:latin typeface="Verdana"/>
              </a:rPr>
              <a:t> </a:t>
            </a:r>
            <a:r>
              <a:rPr b="0" i="1" lang="es-CL" sz="2400" spc="-1" strike="noStrike" u="sng">
                <a:solidFill>
                  <a:srgbClr val="000000"/>
                </a:solidFill>
                <a:uFillTx/>
                <a:latin typeface="Verdana"/>
              </a:rPr>
              <a:t>y otros recursos proveedores</a:t>
            </a:r>
            <a:r>
              <a:rPr b="0" i="1" lang="es-CL" sz="2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cumpliendo con las instrucciones provenientes de </a:t>
            </a:r>
            <a:r>
              <a:rPr b="0" i="1" lang="es-CL" sz="2400" spc="-1" strike="noStrike" u="sng">
                <a:solidFill>
                  <a:srgbClr val="000000"/>
                </a:solidFill>
                <a:uFillTx/>
                <a:latin typeface="Verdana"/>
              </a:rPr>
              <a:t>Gestión Producción</a:t>
            </a:r>
            <a:r>
              <a:rPr b="0" lang="es-CL" sz="2400" spc="-1" strike="noStrike" u="sng">
                <a:solidFill>
                  <a:srgbClr val="000000"/>
                </a:solidFill>
                <a:uFillTx/>
                <a:latin typeface="Verdana"/>
              </a:rPr>
              <a:t> </a:t>
            </a:r>
            <a:r>
              <a:rPr b="0" i="1" lang="es-CL" sz="2400" spc="-1" strike="noStrike" u="sng">
                <a:solidFill>
                  <a:srgbClr val="000000"/>
                </a:solidFill>
                <a:uFillTx/>
                <a:latin typeface="Verdana"/>
              </a:rPr>
              <a:t>y</a:t>
            </a:r>
            <a:r>
              <a:rPr b="0" lang="es-CL" sz="2400" spc="-1" strike="noStrike" u="sng">
                <a:solidFill>
                  <a:srgbClr val="000000"/>
                </a:solidFill>
                <a:uFillTx/>
                <a:latin typeface="Verdana"/>
              </a:rPr>
              <a:t> </a:t>
            </a:r>
            <a:r>
              <a:rPr b="0" i="1" lang="es-CL" sz="2400" spc="-1" strike="noStrike" u="sng">
                <a:solidFill>
                  <a:srgbClr val="000000"/>
                </a:solidFill>
                <a:uFillTx/>
                <a:latin typeface="Verdana"/>
              </a:rPr>
              <a:t>entrega</a:t>
            </a: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,  y  respetando indicaciones de </a:t>
            </a:r>
            <a:r>
              <a:rPr b="0" i="1" lang="es-CL" sz="2400" spc="-1" strike="noStrike" u="sng">
                <a:solidFill>
                  <a:srgbClr val="000000"/>
                </a:solidFill>
                <a:uFillTx/>
                <a:latin typeface="Verdana"/>
              </a:rPr>
              <a:t>Nuevos productos y servici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MACRO 1: Primer..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Verdana"/>
              </a:rPr>
              <a:t>Se apoya en </a:t>
            </a:r>
            <a:r>
              <a:rPr b="0" i="1" lang="es-CL" sz="2800" spc="-1" strike="noStrike" u="sng">
                <a:solidFill>
                  <a:srgbClr val="000000"/>
                </a:solidFill>
                <a:uFillTx/>
                <a:latin typeface="Verdana"/>
              </a:rPr>
              <a:t>Información de estado</a:t>
            </a:r>
            <a:r>
              <a:rPr b="0" lang="es-CL" sz="2800" spc="-1" strike="noStrike">
                <a:solidFill>
                  <a:srgbClr val="000000"/>
                </a:solidFill>
                <a:latin typeface="Verdana"/>
              </a:rPr>
              <a:t> –requerimientos, planes de producción, etc.– para desarrollar su labor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s-CL" sz="2800" spc="-1" strike="noStrike">
                <a:solidFill>
                  <a:srgbClr val="000000"/>
                </a:solidFill>
                <a:latin typeface="Verdana"/>
              </a:rPr>
              <a:t>Informa de cualquier cambio de estado en la producción y entrega a </a:t>
            </a:r>
            <a:r>
              <a:rPr b="0" i="1" lang="es-CL" sz="2800" spc="-1" strike="noStrike" u="sng">
                <a:solidFill>
                  <a:srgbClr val="000000"/>
                </a:solidFill>
                <a:uFillTx/>
                <a:latin typeface="Verdana"/>
              </a:rPr>
              <a:t>Mantención estado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MACRO 1: Primer..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Por último, </a:t>
            </a:r>
            <a:r>
              <a:rPr b="0" i="1" lang="es-CL" sz="2400" spc="-1" strike="noStrike">
                <a:solidFill>
                  <a:srgbClr val="000000"/>
                </a:solidFill>
                <a:latin typeface="Verdana"/>
              </a:rPr>
              <a:t>Mantención estado</a:t>
            </a: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 registra la situación de todas las entidades que intervienen en el proceso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lient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Requerimientos de es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Proveedo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Relaciones con es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Planes de producción y entreg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Recursos productivos, etc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MACRO 1: Primer..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También recibe información de otros procesos –por ejemplo, situación de cuenta corriente de un cliente, del proceso de manejo financiero– y entrega información a ellos –por ejemplo, información para facturar un requerimiento ya satisfecho.</a:t>
            </a:r>
            <a:r>
              <a:rPr b="0" lang="es-C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Verdana"/>
              </a:rPr>
              <a:t>MACRO I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DETALLE DE ADMINISTRACIÓN DE LA RELACIÓN CON EL CLIEN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Verdana"/>
              </a:rPr>
              <a:t>MACRO I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DETALLE DE ADMINISTRACIÓN DE LA RELACIÓN CON LOS PROVEEDO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MACRO 1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95280" y="1699920"/>
            <a:ext cx="85694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7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000000"/>
                </a:solidFill>
                <a:latin typeface="Verdana"/>
              </a:rPr>
              <a:t>El Patrón que presentaremos se basa en varias decenas de casos nacionales y algunos internacionales documentados en la literatura. 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7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000000"/>
                </a:solidFill>
                <a:latin typeface="Verdana"/>
              </a:rPr>
              <a:t>Su aplicabilidad ha sido validada: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7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000000"/>
                </a:solidFill>
                <a:latin typeface="Verdana"/>
              </a:rPr>
              <a:t>Rediseño de Procesos de Negocios Mediante el Uso de Patrones.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7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 u="sng">
                <a:solidFill>
                  <a:srgbClr val="336699"/>
                </a:solidFill>
                <a:uFillTx/>
                <a:latin typeface="Verdana"/>
                <a:hlinkClick r:id="rId2"/>
              </a:rPr>
              <a:t>www.obarros.cl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7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000000"/>
                </a:solidFill>
                <a:latin typeface="Verdana"/>
              </a:rPr>
              <a:t>Ingeniería e-Business: Ingeniería de Negocios para la Economía Digital.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Verdana"/>
              </a:rPr>
              <a:t>MACRO I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DETALLE DE GESTIÓN PRODUCCIÓN Y ENTREG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Especialización a Dominio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Especialización a domini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39280" y="1773360"/>
            <a:ext cx="8001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omar cada uno de los componentes del Macro y particularizarlo (especialización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l especializar, simplificamos 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 algn="just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liminando actividades y flujo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Restringiendo la complejidad de las actividade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 algn="just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liminando atributos de los flujo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 algn="just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corporando atributos específicos del negocio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 algn="just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escomponiendo las actividades de acuerdo al negocio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 algn="just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esagregando en elementos más fino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Especialización a domini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Verdana"/>
              </a:rPr>
              <a:t>Es recomendable especializar no directamente del MACRO, sino a partir de sub-dominios intermedio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Verdana"/>
              </a:rPr>
              <a:t>Tomar el subdominio más cercanos al problema y a partir de ahí generar el rediseño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Dominios y Subdomini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250920" y="1989000"/>
            <a:ext cx="8712000" cy="40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Ejemplo subdominio : Crédito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Hay que “producir” un crédito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Nivel 0 :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Eliminamos  actividad adm. relación proveedor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Detallamos flujo </a:t>
            </a:r>
            <a:r>
              <a:rPr b="0" i="1" lang="es-MX" sz="2000" spc="-1" strike="noStrike">
                <a:solidFill>
                  <a:srgbClr val="000000"/>
                </a:solidFill>
                <a:latin typeface="Verdana"/>
              </a:rPr>
              <a:t>cambios de estad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Agregamos flujo </a:t>
            </a:r>
            <a:r>
              <a:rPr b="0" i="1" lang="es-MX" sz="2000" spc="-1" strike="noStrike">
                <a:solidFill>
                  <a:srgbClr val="000000"/>
                </a:solidFill>
                <a:latin typeface="Verdana"/>
              </a:rPr>
              <a:t>antecedentes créditos aprobado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Eliminamos flujo </a:t>
            </a:r>
            <a:r>
              <a:rPr b="0" i="1" lang="es-MX" sz="2000" spc="-1" strike="noStrike">
                <a:solidFill>
                  <a:srgbClr val="000000"/>
                </a:solidFill>
                <a:latin typeface="Verdana"/>
              </a:rPr>
              <a:t>Insumos y otros recursos proveedor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Eliminamos flujo </a:t>
            </a:r>
            <a:r>
              <a:rPr b="0" i="1" lang="es-MX" sz="2000" spc="-1" strike="noStrike">
                <a:solidFill>
                  <a:srgbClr val="000000"/>
                </a:solidFill>
                <a:latin typeface="Verdana"/>
              </a:rPr>
              <a:t>Ideas cambio productos y procesos producció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Especialización a domini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39280" y="1980720"/>
            <a:ext cx="8001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omar cada uno de los componentes del Macro y particularizarlo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Al especializar, simplificamos 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liminando actividades y flujo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stringiendo la complejidad de las actividad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liminando atributos de los flujo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corporando atributos específicos del negoci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scomponiendo las actividades de acuerdo al negoci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sagregando en elementos más fino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Especialización a domini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Es recomendable especializar no directamente del MACRO, sino a partir de sub-dominios intermedio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Tomar el subdominio más cercanos al problema y a partir de ahí generar el rediseño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Macro 1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Encargado de obtener y proveer los bienes / servicios a los clientes, dejando registro de ello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En particular, las funciones existentes en él son las siguiente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200" spc="-1" strike="noStrike">
                <a:solidFill>
                  <a:srgbClr val="000000"/>
                </a:solidFill>
                <a:latin typeface="Verdana"/>
              </a:rPr>
              <a:t>Administración relación con el cliente,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200" spc="-1" strike="noStrike">
                <a:solidFill>
                  <a:srgbClr val="000000"/>
                </a:solidFill>
                <a:latin typeface="Verdana"/>
              </a:rPr>
              <a:t>Administración relación con proveedores</a:t>
            </a:r>
            <a:r>
              <a:rPr b="0" lang="es-MX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200" spc="-1" strike="noStrike">
                <a:solidFill>
                  <a:srgbClr val="000000"/>
                </a:solidFill>
                <a:latin typeface="Verdana"/>
              </a:rPr>
              <a:t>Gestión producción y entrega</a:t>
            </a:r>
            <a:r>
              <a:rPr b="0" lang="es-MX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200" spc="-1" strike="noStrike">
                <a:solidFill>
                  <a:srgbClr val="000000"/>
                </a:solidFill>
                <a:latin typeface="Verdana"/>
              </a:rPr>
              <a:t>Producción</a:t>
            </a:r>
            <a:r>
              <a:rPr b="0" lang="es-MX" sz="2200" spc="-1" strike="noStrike">
                <a:solidFill>
                  <a:srgbClr val="000000"/>
                </a:solidFill>
                <a:latin typeface="Verdana"/>
              </a:rPr>
              <a:t> y </a:t>
            </a:r>
            <a:r>
              <a:rPr b="0" i="1" lang="es-MX" sz="2200" spc="-1" strike="noStrike">
                <a:solidFill>
                  <a:srgbClr val="000000"/>
                </a:solidFill>
                <a:latin typeface="Verdana"/>
              </a:rPr>
              <a:t>provisión</a:t>
            </a:r>
            <a:r>
              <a:rPr b="0" lang="es-MX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s-MX" sz="2200" spc="-1" strike="noStrike">
                <a:solidFill>
                  <a:srgbClr val="000000"/>
                </a:solidFill>
                <a:latin typeface="Verdana"/>
              </a:rPr>
              <a:t>bien o servici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200" spc="-1" strike="noStrike">
                <a:solidFill>
                  <a:srgbClr val="000000"/>
                </a:solidFill>
                <a:latin typeface="Verdana"/>
              </a:rPr>
              <a:t>Mantención Estad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Dominios y subdomini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50920" y="1989000"/>
            <a:ext cx="8712000" cy="40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Ejemplo subdominio : Crédito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Hay que “producir” un crédito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Nivel 0 :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Eliminamos  actividad adm. relación proveedor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Detallamos flujo </a:t>
            </a:r>
            <a:r>
              <a:rPr b="0" i="1" lang="es-MX" sz="2000" spc="-1" strike="noStrike">
                <a:solidFill>
                  <a:srgbClr val="000000"/>
                </a:solidFill>
                <a:latin typeface="Verdana"/>
              </a:rPr>
              <a:t>cambios de estad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Agregamos flujo </a:t>
            </a:r>
            <a:r>
              <a:rPr b="0" i="1" lang="es-MX" sz="2000" spc="-1" strike="noStrike">
                <a:solidFill>
                  <a:srgbClr val="000000"/>
                </a:solidFill>
                <a:latin typeface="Verdana"/>
              </a:rPr>
              <a:t>antecedentes créditos aprobado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Eliminamos flujo </a:t>
            </a:r>
            <a:r>
              <a:rPr b="0" i="1" lang="es-MX" sz="2000" spc="-1" strike="noStrike">
                <a:solidFill>
                  <a:srgbClr val="000000"/>
                </a:solidFill>
                <a:latin typeface="Verdana"/>
              </a:rPr>
              <a:t>Insumos y otros recursos proveedor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Eliminamos flujo </a:t>
            </a:r>
            <a:r>
              <a:rPr b="0" i="1" lang="es-MX" sz="2000" spc="-1" strike="noStrike">
                <a:solidFill>
                  <a:srgbClr val="000000"/>
                </a:solidFill>
                <a:latin typeface="Verdana"/>
              </a:rPr>
              <a:t>Ideas cambio productos y procesos producció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57456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Metodología de trabajo (Adelanto)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1682640" y="1752480"/>
            <a:ext cx="576900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7168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METODOLOGÍA (Adelanto)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33520" y="1905120"/>
            <a:ext cx="8001000" cy="4200840"/>
            <a:chOff x="533520" y="1905120"/>
            <a:chExt cx="8001000" cy="4200840"/>
          </a:xfrm>
        </p:grpSpPr>
        <p:sp>
          <p:nvSpPr>
            <p:cNvPr id="156" name=""/>
            <p:cNvSpPr/>
            <p:nvPr/>
          </p:nvSpPr>
          <p:spPr>
            <a:xfrm>
              <a:off x="838440" y="1905120"/>
              <a:ext cx="2514600" cy="1523520"/>
            </a:xfrm>
            <a:prstGeom prst="rect">
              <a:avLst/>
            </a:prstGeom>
            <a:solidFill>
              <a:srgbClr val="ffcc99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 u="sng">
                  <a:solidFill>
                    <a:srgbClr val="000000"/>
                  </a:solidFill>
                  <a:uFillTx/>
                  <a:latin typeface="Century Gothic"/>
                </a:rPr>
                <a:t>DEFINIR EL PROYECT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buClr>
                  <a:srgbClr val="000000"/>
                </a:buClr>
                <a:buFont typeface="Century Gothic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entury Gothic"/>
                </a:rPr>
                <a:t>Objetivos del proyecto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buClr>
                  <a:srgbClr val="000000"/>
                </a:buClr>
                <a:buFont typeface="Century Gothic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entury Gothic"/>
                </a:rPr>
                <a:t>Ámbito del proces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buClr>
                  <a:srgbClr val="000000"/>
                </a:buClr>
                <a:buFont typeface="Century Gothic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entury Gothic"/>
                </a:rPr>
                <a:t>Establecer si hacer estudio de la situación actual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33520" y="4876560"/>
              <a:ext cx="3276720" cy="122940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 u="sng">
                  <a:solidFill>
                    <a:srgbClr val="000000"/>
                  </a:solidFill>
                  <a:uFillTx/>
                  <a:latin typeface="Century Gothic"/>
                </a:rPr>
                <a:t>ENTENDER SITUACIÓN ACTU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buClr>
                  <a:srgbClr val="000000"/>
                </a:buClr>
                <a:buFont typeface="Century Gothic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entury Gothic"/>
                </a:rPr>
                <a:t>Modelar situación actu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buClr>
                  <a:srgbClr val="000000"/>
                </a:buClr>
                <a:buFont typeface="Century Gothic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entury Gothic"/>
                </a:rPr>
                <a:t>Validar y medi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019920" y="1905120"/>
              <a:ext cx="2514600" cy="206100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 u="sng">
                  <a:solidFill>
                    <a:srgbClr val="000000"/>
                  </a:solidFill>
                  <a:uFillTx/>
                  <a:latin typeface="Century Gothic"/>
                </a:rPr>
                <a:t>REDISEÑA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buClr>
                  <a:srgbClr val="cc0000"/>
                </a:buClr>
                <a:buFont typeface="Century Gothic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cc0000"/>
                  </a:solidFill>
                  <a:latin typeface="Century Gothic"/>
                </a:rPr>
                <a:t>Dirección de cambi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buClr>
                  <a:srgbClr val="000000"/>
                </a:buClr>
                <a:buFont typeface="Century Gothic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entury Gothic"/>
                </a:rPr>
                <a:t>Selección Tecnologías habilitant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buClr>
                  <a:srgbClr val="000000"/>
                </a:buClr>
                <a:buFont typeface="Century Gothic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entury Gothic"/>
                </a:rPr>
                <a:t>Modelar y evaluar Rediseñ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buClr>
                  <a:srgbClr val="000000"/>
                </a:buClr>
                <a:buFont typeface="Century Gothic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entury Gothic"/>
                </a:rPr>
                <a:t>Detallar y proba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019920" y="4571640"/>
              <a:ext cx="2514600" cy="131040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 u="sng">
                  <a:solidFill>
                    <a:srgbClr val="000000"/>
                  </a:solidFill>
                  <a:uFillTx/>
                  <a:latin typeface="Century Gothic"/>
                </a:rPr>
                <a:t>IMPLEMENTA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buClr>
                  <a:srgbClr val="000000"/>
                </a:buClr>
                <a:buFont typeface="Century Gothic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entury Gothic"/>
                </a:rPr>
                <a:t>Construcción Softwa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buClr>
                  <a:srgbClr val="000000"/>
                </a:buClr>
                <a:buFont typeface="Century Gothic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entury Gothic"/>
                </a:rPr>
                <a:t>Implementar Softwa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buClr>
                  <a:srgbClr val="000000"/>
                </a:buClr>
                <a:buFont typeface="Century Gothic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entury Gothic"/>
                </a:rPr>
                <a:t>Implementar Proces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981440" y="3657240"/>
              <a:ext cx="0" cy="121896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353040" y="2666880"/>
              <a:ext cx="2666880" cy="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3810240" y="3961800"/>
              <a:ext cx="2209680" cy="91404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162920" y="3962160"/>
              <a:ext cx="0" cy="60912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gradecimient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rofesor Samuel Varas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rofesor Óscar Barros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rofesor Juan Velásquez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MACRO 1 (Iterando nuevamente...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55400" indent="-4554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Los casos son de distinto tip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880560" indent="-4230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Manufactur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880560" indent="-4230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Distribució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880560" indent="-4230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ervicios privados y públic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MACRO 1 representa la cadena de valor de una empresa que produce un bien o servicio cualquier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s una colección de procesos interrelacionado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8805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Verdana"/>
              </a:rPr>
              <a:t>MACRO 1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PRIMER NIVEL JERÁRQUIC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MACRO 1: Primer nivel jerárquic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Todo comienza con el flujo </a:t>
            </a:r>
            <a:r>
              <a:rPr b="0" i="1" lang="es-ES_tradnl" sz="2400" spc="-1" strike="noStrike" u="sng">
                <a:solidFill>
                  <a:srgbClr val="000000"/>
                </a:solidFill>
                <a:uFillTx/>
                <a:latin typeface="Verdana"/>
              </a:rPr>
              <a:t>Requerimiento e Información Mercado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 que gatilla varias respuesta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 algn="just">
              <a:spcBef>
                <a:spcPts val="601"/>
              </a:spcBef>
              <a:buClr>
                <a:srgbClr val="cc0000"/>
              </a:buClr>
              <a:buSzPct val="6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Si es un requerimiento específico, se traspasa tanto a </a:t>
            </a:r>
            <a:r>
              <a:rPr b="0" i="1" lang="es-CL" sz="2400" spc="-1" strike="noStrike" u="sng">
                <a:solidFill>
                  <a:srgbClr val="000000"/>
                </a:solidFill>
                <a:uFillTx/>
                <a:latin typeface="Verdana"/>
              </a:rPr>
              <a:t>Gestión producción</a:t>
            </a:r>
            <a:r>
              <a:rPr b="0" lang="es-CL" sz="2400" spc="-1" strike="noStrike" u="sng">
                <a:solidFill>
                  <a:srgbClr val="000000"/>
                </a:solidFill>
                <a:uFillTx/>
                <a:latin typeface="Verdana"/>
              </a:rPr>
              <a:t> y </a:t>
            </a:r>
            <a:r>
              <a:rPr b="0" i="1" lang="es-CL" sz="2400" spc="-1" strike="noStrike" u="sng">
                <a:solidFill>
                  <a:srgbClr val="000000"/>
                </a:solidFill>
                <a:uFillTx/>
                <a:latin typeface="Verdana"/>
              </a:rPr>
              <a:t>entrega</a:t>
            </a: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, para establecer cómo se va a satisfacer, como a </a:t>
            </a:r>
            <a:r>
              <a:rPr b="0" i="1" lang="es-CL" sz="2400" spc="-1" strike="noStrike" u="sng">
                <a:solidFill>
                  <a:srgbClr val="000000"/>
                </a:solidFill>
                <a:uFillTx/>
                <a:latin typeface="Verdana"/>
              </a:rPr>
              <a:t>Administración relación proveedores</a:t>
            </a:r>
            <a:r>
              <a:rPr b="0" i="1" lang="es-CL" sz="2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en el caso de que haya que adquirir algún elemento necesario para la satisfacció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MACRO 1: Primer nivel jerárquic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305000" indent="-395280">
              <a:spcBef>
                <a:spcPts val="60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Si es una petición de información de un cliente, se genera la </a:t>
            </a:r>
            <a:r>
              <a:rPr b="0" i="1" lang="es-CL" sz="2400" spc="-1" strike="noStrike" u="sng">
                <a:solidFill>
                  <a:srgbClr val="000000"/>
                </a:solidFill>
                <a:uFillTx/>
                <a:latin typeface="Verdana"/>
              </a:rPr>
              <a:t>Información al mercado</a:t>
            </a: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, la cual puede incluir también  información espontánea a los clientes acerca de la oferta de la empres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60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En cualquier caso, todas las acciones realizadas en relación con un cliente quedan registradas en </a:t>
            </a:r>
            <a:r>
              <a:rPr b="0" i="1" lang="es-CL" sz="2400" spc="-1" strike="noStrike" u="sng">
                <a:solidFill>
                  <a:srgbClr val="000000"/>
                </a:solidFill>
                <a:uFillTx/>
                <a:latin typeface="Verdana"/>
              </a:rPr>
              <a:t>Mantención  estado</a:t>
            </a: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 por  medio  del  flujo  </a:t>
            </a:r>
            <a:r>
              <a:rPr b="0" i="1" lang="es-CL" sz="2400" spc="-1" strike="noStrike" u="sng">
                <a:solidFill>
                  <a:srgbClr val="000000"/>
                </a:solidFill>
                <a:uFillTx/>
                <a:latin typeface="Verdana"/>
              </a:rPr>
              <a:t>Cambios  de  estado.</a:t>
            </a: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MACRO 1: Primer nivel jerárquic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Para  generar  todas  las  respuestas anteriores, </a:t>
            </a:r>
            <a:r>
              <a:rPr b="0" i="1" lang="es-CL" sz="2400" spc="-1" strike="noStrike" u="sng">
                <a:solidFill>
                  <a:srgbClr val="000000"/>
                </a:solidFill>
                <a:uFillTx/>
                <a:latin typeface="Verdana"/>
              </a:rPr>
              <a:t>Administración relación con el cliente</a:t>
            </a: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 cuenta con el recurso </a:t>
            </a:r>
            <a:r>
              <a:rPr b="0" i="1" lang="es-CL" sz="2400" spc="-1" strike="noStrike" u="sng">
                <a:solidFill>
                  <a:srgbClr val="000000"/>
                </a:solidFill>
                <a:uFillTx/>
                <a:latin typeface="Verdana"/>
              </a:rPr>
              <a:t>Información estado</a:t>
            </a: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,  que le permite saber en todo momento la situación de carga de la actividad de producción, para determinar la posibilidad y fecha de satisfacción de un requerimiento, y el estado de procesamiento de un requerimiento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1T19:10:11Z</dcterms:created>
  <dc:creator>Samuel</dc:creator>
  <dc:description/>
  <dc:language>en-US</dc:language>
  <cp:lastModifiedBy>Ángel Jiménez</cp:lastModifiedBy>
  <dcterms:modified xsi:type="dcterms:W3CDTF">2006-08-21T07:19:21Z</dcterms:modified>
  <cp:revision>488</cp:revision>
  <dc:subject/>
  <dc:title>Diapositiv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391608271</vt:r8>
  </property>
  <property fmtid="{D5CDD505-2E9C-101B-9397-08002B2CF9AE}" pid="3" name="_AuthorEmail">
    <vt:lpwstr>samuel.varas@uai.cl</vt:lpwstr>
  </property>
  <property fmtid="{D5CDD505-2E9C-101B-9397-08002B2CF9AE}" pid="4" name="_AuthorEmailDisplayName">
    <vt:lpwstr>Samuel Varas</vt:lpwstr>
  </property>
  <property fmtid="{D5CDD505-2E9C-101B-9397-08002B2CF9AE}" pid="5" name="_EmailSubject">
    <vt:lpwstr>Clase 3</vt:lpwstr>
  </property>
  <property fmtid="{D5CDD505-2E9C-101B-9397-08002B2CF9AE}" pid="6" name="_ReviewingToolsShownOnce">
    <vt:lpwstr/>
  </property>
</Properties>
</file>